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D381-79DF-4E30-B1E2-9170185D84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2C85-6DE2-4D8F-872B-5DB99D57A7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4FC-9F60-4F22-A622-02E33614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485-E7F0-4021-9496-6D37E98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0F8-4F8F-4334-BBDC-3125B94E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D90-E4AB-4AB3-B882-56796C9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464-0977-4799-BBED-4F9A341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F84-917D-49D3-870B-3C6CF322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B31-320E-451E-A4D5-AEA36BE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18B-25AA-4F42-A3CF-3AA5BDE9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457-2173-453F-83B8-92A4220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3D0-8CBA-4368-A487-8219550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783-E8DA-4210-87E1-DB858BF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E97-2696-4A7E-A2D7-C853AF8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886-135A-4209-BDD0-0366133AB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494000" y="6480"/>
            <a:ext cx="8899200" cy="1315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9375840" y="1878120"/>
            <a:ext cx="2395440" cy="1481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SC02660"/>
          <p:cNvPicPr/>
          <p:nvPr/>
        </p:nvPicPr>
        <p:blipFill>
          <a:blip r:embed="rId4"/>
          <a:stretch/>
        </p:blipFill>
        <p:spPr>
          <a:xfrm>
            <a:off x="0" y="969840"/>
            <a:ext cx="8818560" cy="5859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8783640" y="4197240"/>
            <a:ext cx="34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ающ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990800" y="465120"/>
            <a:ext cx="83772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психических процес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68120" y="1163520"/>
            <a:ext cx="1202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лучшается память и появляется лог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Дети способны анализировать, систематизировать и группировать объекты по различным призна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амостоятельно проявляют интерес к знания, наблюдают, интересуются новой информац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меют базовый запас знаний об окружающем мире, на основе которого могут делать собственные вы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Могут проявлять волевые усилия, заниматься тем, что не вызывает особого интере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944800" y="258840"/>
            <a:ext cx="836280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68120" y="763560"/>
            <a:ext cx="1202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свое и родителей имя и фамилию, места работы род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свой домашний адре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название своего города, столицы Родины, план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времена года, части суток, дни недели и их последов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зывает летние, осенние, зимние меся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Хорошо ориентируется в пространств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нтересуется, как и из чего сделаны предм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собственное представление об устройстве окружающего ми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рименять новые знания в жизненных ситуациях и иг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Легко понимает принцип действия сложных игруше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28680" y="169920"/>
            <a:ext cx="810288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279360" y="1568520"/>
            <a:ext cx="120254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Четко произносит все зву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троит предложения, правильно согласовывая между собой сло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аучивает стихотворения, пересказывает литературные произведения, эмоционально окрашивая свою реч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рассказ по картин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оставляет предложения из 4-5 сл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Делит простые предложения на сло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Различает  гласные и согласные букв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Определяет мягкость и твердость звука в слов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Определяет количество букв и звуков в слов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одбирать слова на заданную букв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28680" y="271440"/>
            <a:ext cx="810288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68120" y="825480"/>
            <a:ext cx="1202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считать до 10 и в обратном порядке называет «соседей»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онимает значение математических знаков, может прибавлять и отнимать в пределах 10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 название основных геометрических фигу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Имеет представление об объемных тел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нает: «близко — далеко», «больше — меньше», «толще — тоньше»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сравнивать предметы по длине, ширине и высо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оделить предмет на две/три/четыре равные ча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меет писать графические диктанты («одна клетка вверх, две клетки влево, две клетки вниз, одна клетка вправо»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033640" y="409680"/>
            <a:ext cx="810252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зация лич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736560" y="1792440"/>
            <a:ext cx="12025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Учится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Способен понять зачем он должен что-то делать и оценить сделан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Начинает искать способы самовыра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Закладываются основы его будущего морального обл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Происходит окончательная половая идентификация, и ребенок во всем придерживается ее (выбор друзей, игрушек, ролей в игра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609480" y="277920"/>
            <a:ext cx="10881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2432160" y="1901880"/>
            <a:ext cx="7602480" cy="2517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6545160" y="227160"/>
            <a:ext cx="5226120" cy="2719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59000" y="1463760"/>
            <a:ext cx="108608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шкафчике ребёнка должно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Полный комплект сменной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Форма для физкультуры в рюкза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кроссовки или кеды на белой подош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футболка,  шорты,белые н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Расчёска для дев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В шкафчике должны быть: сменное белье, сменные носки, расчё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ШИ ДЕТИ - САМЫЕ КРАСИВЫЕ И АККУРАТНЫ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важаемые родители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те оцените доступность информации, поданной на собр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ала баллов от 1 до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 информация не яс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– всё понятно, но остались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- информация доступна, вопросов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10016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одовые задачи ЧДОУ №23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АО «РЖД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ствовать единое педагогическое пространство семьи и ДОУ по формированию здорового образа жизни и основ безопасности и жизне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тизация образовательной среды в ДОУ, как необходимое условие повышения качества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дошкольника по средствам ранней профори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езымянный"/>
          <p:cNvPicPr/>
          <p:nvPr/>
        </p:nvPicPr>
        <p:blipFill>
          <a:blip r:embed="rId2"/>
          <a:stretch/>
        </p:blipFill>
        <p:spPr>
          <a:xfrm>
            <a:off x="47772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000840" y="36972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о-образовательная работа с детьми организуется по образовательной програ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тсво» под ред. Т.И.Баба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нняя профориент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инансовая грамот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078600" y="306720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ость непосредственно-образовательной  деятельности (занятия) – 3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121080" y="4478400"/>
            <a:ext cx="29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с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бол –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-аэробика- 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84240"/>
            <a:ext cx="115887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Совместные мероприятия с родителями на 2021-2022 г.г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1120" y="871200"/>
            <a:ext cx="1194912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онкурс стихов о железной дороге «Рифма на перроне - окт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Мама, почитай мне сказк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мотр центра «Юный железнодорожник» - но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Благотворительная акция – «Щедрый вторник» - Подари тепло детям  - ноя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Творческая выставка поделок – «Сказочный мешок Деда Мороза»- дека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сультация «Формирование отношения к профессии у дошкольников в процессе социализации» –декаб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бновление справок с места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ьское собрание «Информационная безопасность дошкольника»-янва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треча с интересными людьми- январ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нлайн флэшмоб  «Папа может» февра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Как обучать ребёнка безопасному поведению» февра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Укрепление здоровья детей  посредством семейного досуга» м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Творческая выставка «Золотые руки бабушек и мам» м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курс «Весёлый светофор» Апр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очная консультация «Как воспитать в ребёнке чувство  патриотизма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осадка «Аллея выпускников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ция «Чистый дворик» м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498840" y="641520"/>
            <a:ext cx="5280120" cy="446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 rot="20236800">
            <a:off x="912600" y="3384360"/>
            <a:ext cx="303372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360440" y="3749760"/>
            <a:ext cx="2138400" cy="139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 rot="21068400">
            <a:off x="876240" y="1458720"/>
            <a:ext cx="2908440" cy="188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368360" y="1735200"/>
            <a:ext cx="21304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971440" y="317016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правления подготовки детей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58920" y="644400"/>
            <a:ext cx="39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бще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 развитии памяти, внимания и особенно интелл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288120" y="222120"/>
            <a:ext cx="574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спитани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ольно управлять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лать не только то, что тебе хочется, но и то, что надо, хотя, может быть, и не совсем хочется или даже совсем не хочет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87440" y="4402080"/>
            <a:ext cx="1206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формирование мотив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буждающих к у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оспитание действительной и глубокой мотивации, которая сможет стать побудительной причиной их стремления к приобретению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5"/>
          <p:cNvSpPr/>
          <p:nvPr/>
        </p:nvSpPr>
        <p:spPr>
          <a:xfrm rot="8213400">
            <a:off x="3392280" y="2366640"/>
            <a:ext cx="393480" cy="59040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 rot="4083600">
            <a:off x="5842080" y="2444040"/>
            <a:ext cx="506520" cy="51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 rot="13508400">
            <a:off x="4920120" y="3745440"/>
            <a:ext cx="5065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2962440" y="1487520"/>
            <a:ext cx="6095880" cy="3432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3"/>
          <a:stretch/>
        </p:blipFill>
        <p:spPr>
          <a:xfrm>
            <a:off x="22212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2"/>
          <a:stretch/>
        </p:blipFill>
        <p:spPr>
          <a:xfrm>
            <a:off x="1951200" y="523800"/>
            <a:ext cx="7710480" cy="1970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210825_090433"/>
          <p:cNvPicPr/>
          <p:nvPr/>
        </p:nvPicPr>
        <p:blipFill>
          <a:blip r:embed="rId3"/>
          <a:stretch/>
        </p:blipFill>
        <p:spPr>
          <a:xfrm>
            <a:off x="0" y="2784600"/>
            <a:ext cx="5432400" cy="407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G_20210817_115319"/>
          <p:cNvPicPr/>
          <p:nvPr/>
        </p:nvPicPr>
        <p:blipFill>
          <a:blip r:embed="rId4"/>
          <a:stretch/>
        </p:blipFill>
        <p:spPr>
          <a:xfrm>
            <a:off x="6256440" y="2668680"/>
            <a:ext cx="558468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992240" y="0"/>
            <a:ext cx="8301240" cy="550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ологическое разви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947880"/>
            <a:ext cx="712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лучшается моторика и координация движен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шается двигательная акти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величивается сила и скорость дв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звивается способность выполнять неск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движений за одно упраж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2248"/>
          <p:cNvPicPr/>
          <p:nvPr/>
        </p:nvPicPr>
        <p:blipFill>
          <a:blip r:embed="rId2"/>
          <a:stretch/>
        </p:blipFill>
        <p:spPr>
          <a:xfrm>
            <a:off x="7002360" y="1928880"/>
            <a:ext cx="51897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0T18:19:52Z</dcterms:created>
  <dc:creator>LT</dc:creator>
  <dc:description/>
  <dc:language>en-US</dc:language>
  <cp:lastModifiedBy>Лёша-Макс</cp:lastModifiedBy>
  <dcterms:modified xsi:type="dcterms:W3CDTF">2021-12-01T01:01:59Z</dcterms:modified>
  <cp:revision>67</cp:revision>
  <dc:subject/>
  <dc:title>Презентация PowerPoint</dc:title>
</cp:coreProperties>
</file>