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96EC-2FDE-44C7-824C-7E0C5A45E9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22E0-E300-465F-98B3-48D19920BC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250F-1990-4D5E-94B1-02C70543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7DF-AF6D-4FA5-810C-76FE939F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1CE-EDCC-4247-84EA-7E75AA49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8EC-41F0-4253-8D40-63ED05DA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14E-975C-435B-BDEA-815925A4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94F-FA4E-43A1-868E-C9C7ECE9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6DD-86AA-4AB9-8CB0-C701F47A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1FB-959B-4E36-B20D-D59144DD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C92C-BF51-4CB7-964B-0806FF13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FCE4-ECEC-42B7-B2DF-1CCF7F3D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1E6E-BDFA-4686-9E9B-520433BC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2617-61E5-4C83-BDB3-3C6684BB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2DCD-ACAF-4F53-ABA5-5877CAC946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1494000" y="6480"/>
            <a:ext cx="8899200" cy="13158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3"/>
          <a:stretch/>
        </p:blipFill>
        <p:spPr>
          <a:xfrm>
            <a:off x="9375840" y="1878120"/>
            <a:ext cx="2395440" cy="148104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8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DSC02660"/>
          <p:cNvPicPr/>
          <p:nvPr/>
        </p:nvPicPr>
        <p:blipFill>
          <a:blip r:embed="rId4"/>
          <a:stretch/>
        </p:blipFill>
        <p:spPr>
          <a:xfrm>
            <a:off x="0" y="969840"/>
            <a:ext cx="8818560" cy="58597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8783640" y="4197240"/>
            <a:ext cx="340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тупающ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-Логопе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алья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1990800" y="465120"/>
            <a:ext cx="8377200" cy="550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психических процес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168120" y="1163520"/>
            <a:ext cx="120240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Улучшается память и появляется лог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Дети способны анализировать, систематизировать и группировать объекты по различным призна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Самостоятельно проявляют интерес к знания, наблюдают, интересуются новой информаци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Имеют базовый запас знаний об окружающем мире, на основе которого могут делать собственные выв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Могут проявлять волевые усилия, заниматься тем, что не вызывает особого интере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944800" y="258840"/>
            <a:ext cx="8362800" cy="550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ружающий ми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168120" y="763560"/>
            <a:ext cx="1202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Называет свое и родителей имя и фамилию, места работы родител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Знает свой домашний адре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Знает название своего города, столицы Родины, планет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Называет времена года, части суток, дни недели и их последователь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Называет летние, осенние, зимние месяц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Хорошо ориентируется в пространств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Интересуется, как и из чего сделаны предмет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Составляет собственное представление об устройстве окружающего мир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Умеет применять новые знания в жизненных ситуациях и игра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Легко понимает принцип действия сложных игрушек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128680" y="169920"/>
            <a:ext cx="8102880" cy="550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ч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279360" y="1568520"/>
            <a:ext cx="1202544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Четко произносит все зву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Строит предложения, правильно согласовывая между собой сло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Заучивает стихотворения, пересказывает литературные произведения, эмоционально окрашивая свою реч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Составляет рассказ по картинк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Составляет предложения из 4-5 сл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Делит простые предложения на сло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Различает  гласные и согласные букв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Определяет мягкость и твердость звука в слова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Определяет количество букв и звуков в слов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Подбирать слова на заданную букв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128680" y="271440"/>
            <a:ext cx="8102880" cy="550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168120" y="825480"/>
            <a:ext cx="1202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Умеет считать до 10 и в обратном порядке называет «соседей» чис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Понимает значение математических знаков, может прибавлять и отнимать в пределах 10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Знает название основных геометрических фигур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Имеет представление об объемных тела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Знает: «близко — далеко», «больше — меньше», «толще — тоньше» и т.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Умеет сравнивать предметы по длине, ширине и высот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Умеет поделить предмет на две/три/четыре равные ча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Умеет писать графические диктанты («одна клетка вверх, две клетки влево, две клетки вниз, одна клетка вправо»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033640" y="409680"/>
            <a:ext cx="8102520" cy="550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изация лич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736560" y="1792440"/>
            <a:ext cx="120254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Учится дружи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Способен понять зачем он должен что-то делать и оценить сделанно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Начинает искать способы самовыраж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Закладываются основы его будущего морального обл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Происходит окончательная половая идентификация, и ребенок во всем придерживается ее (выбор друзей, игрушек, ролей в играх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2"/>
          <a:stretch/>
        </p:blipFill>
        <p:spPr>
          <a:xfrm>
            <a:off x="609480" y="277920"/>
            <a:ext cx="108810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1" descr=""/>
          <p:cNvPicPr/>
          <p:nvPr/>
        </p:nvPicPr>
        <p:blipFill>
          <a:blip r:embed="rId2"/>
          <a:stretch/>
        </p:blipFill>
        <p:spPr>
          <a:xfrm>
            <a:off x="2432160" y="1901880"/>
            <a:ext cx="7602480" cy="25178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2"/>
          <a:stretch/>
        </p:blipFill>
        <p:spPr>
          <a:xfrm>
            <a:off x="6545160" y="227160"/>
            <a:ext cx="5226120" cy="271908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459000" y="1463760"/>
            <a:ext cx="1086084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шкафчике ребёнка должно бы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55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55a11"/>
                </a:solidFill>
                <a:latin typeface="Calibri"/>
              </a:rPr>
              <a:t>Полный комплект сменной оде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55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55a11"/>
                </a:solidFill>
                <a:latin typeface="Calibri"/>
              </a:rPr>
              <a:t>Форма для физкультуры в рюкзак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55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55a11"/>
                </a:solidFill>
                <a:latin typeface="Calibri"/>
              </a:rPr>
              <a:t>кроссовки или кеды на белой подошв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55a11"/>
                </a:solidFill>
                <a:latin typeface="Calibri"/>
              </a:rPr>
              <a:t>футболка,  шорты,белые но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55a11"/>
                </a:solidFill>
                <a:latin typeface="Calibri"/>
              </a:rPr>
              <a:t>Расчёска для девоч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55a11"/>
                </a:solidFill>
                <a:latin typeface="Calibri"/>
              </a:rPr>
              <a:t>В шкафчике должны быть: сменное белье, сменные носки, расчё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55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ШИ ДЕТИ - САМЫЕ КРАСИВЫЕ И АККУРАТНЫЕ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Уважаемые родители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чате оцените доступность информации, поданной на собра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ала баллов от 1 до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 информация не яс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 – всё понятно, но остались вопрос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- информация доступна, вопросов н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1001600" cy="13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Годовые задачи ЧДОУ №233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АО «РЖД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ершенствовать единое педагогическое пространство семьи и ДОУ по формированию здорового образа жизни и основ безопасности и жизне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тизация образовательной среды в ДОУ, как необходимое условие повышения качества дошкольно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условий для успешной социализации дошкольника по средствам ранней профориен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Безымянный"/>
          <p:cNvPicPr/>
          <p:nvPr/>
        </p:nvPicPr>
        <p:blipFill>
          <a:blip r:embed="rId2"/>
          <a:stretch/>
        </p:blipFill>
        <p:spPr>
          <a:xfrm>
            <a:off x="477720" y="0"/>
            <a:ext cx="5238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6000840" y="369720"/>
            <a:ext cx="57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но-образовательная работа с детьми организуется по образовательной програм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етсво» под ред. Т.И.Бабае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анняя профориента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Финансовая грамот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078600" y="3067200"/>
            <a:ext cx="43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тельность непосредственно-образовательной  деятельности (занятия) – 30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121080" y="4478400"/>
            <a:ext cx="294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ые се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тбол – 16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-аэробика- 1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84240"/>
            <a:ext cx="1158876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Совместные мероприятия с родителями на 2021-2022 г.г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1120" y="871200"/>
            <a:ext cx="1194912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Конкурс стихов о железной дороге «Рифма на перроне - октябр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очная консультация «Мама, почитай мне сказку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Смотр центра «Юный железнодорожник» - ноябр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Благотворительная акция – «Щедрый вторник» - Подари тепло детям  - ноябр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Творческая выставка поделок – «Сказочный мешок Деда Мороза»- декабр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сультация «Формирование отношения к профессии у дошкольников в процессе социализации» –декабр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Обновление справок с места рабо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тельское собрание «Информационная безопасность дошкольника»-январ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Встреча с интересными людьми- январ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Онлайн флэшмоб  «Папа может» февра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очная консультация «Как обучать ребёнка безопасному поведению» февра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очная консультация «Укрепление здоровья детей  посредством семейного досуга» мар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Творческая выставка «Золотые руки бабушек и мам» мар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курс «Весёлый светофор» Апре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очная консультация «Как воспитать в ребёнке чувство  патриотизма» ма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Посадка «Аллея выпускников» Ма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кция «Чистый дворик» ма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498840" y="641520"/>
            <a:ext cx="5280120" cy="4468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 rot="20236800">
            <a:off x="912600" y="3384360"/>
            <a:ext cx="3033720" cy="196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1360440" y="3749760"/>
            <a:ext cx="2138400" cy="1395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5"/>
          <a:stretch/>
        </p:blipFill>
        <p:spPr>
          <a:xfrm rot="21068400">
            <a:off x="876240" y="1458720"/>
            <a:ext cx="2908440" cy="1885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1368360" y="1735200"/>
            <a:ext cx="21304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971440" y="3170160"/>
            <a:ext cx="67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правления подготовки детей к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358920" y="644400"/>
            <a:ext cx="39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общее разви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 развитии памяти, внимания и особенно интелл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6288120" y="222120"/>
            <a:ext cx="5742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оспитание 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оизвольно управлять со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елать не только то, что тебе хочется, но и то, что надо, хотя, может быть, и не совсем хочется или даже совсем не хочетс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487440" y="4402080"/>
            <a:ext cx="1206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формирование мотив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буждающих к у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оспитание действительной и глубокой мотивации, которая сможет стать побудительной причиной их стремления к приобретению зн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низ 5"/>
          <p:cNvSpPr/>
          <p:nvPr/>
        </p:nvSpPr>
        <p:spPr>
          <a:xfrm rot="8213400">
            <a:off x="3392280" y="2366640"/>
            <a:ext cx="393480" cy="590400"/>
          </a:xfrm>
          <a:prstGeom prst="downArrow">
            <a:avLst>
              <a:gd name="adj1" fmla="val 50000"/>
              <a:gd name="adj2" fmla="val 5013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 rot="4083600">
            <a:off x="5842080" y="2444040"/>
            <a:ext cx="506520" cy="517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 rot="13508400">
            <a:off x="4920120" y="3745440"/>
            <a:ext cx="5065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1" descr=""/>
          <p:cNvPicPr/>
          <p:nvPr/>
        </p:nvPicPr>
        <p:blipFill>
          <a:blip r:embed="rId2"/>
          <a:stretch/>
        </p:blipFill>
        <p:spPr>
          <a:xfrm>
            <a:off x="2962440" y="1487520"/>
            <a:ext cx="6095880" cy="34322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"/>
          <p:cNvPicPr/>
          <p:nvPr/>
        </p:nvPicPr>
        <p:blipFill>
          <a:blip r:embed="rId3"/>
          <a:stretch/>
        </p:blipFill>
        <p:spPr>
          <a:xfrm>
            <a:off x="22212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Прямоугольник 1" descr=""/>
          <p:cNvPicPr/>
          <p:nvPr/>
        </p:nvPicPr>
        <p:blipFill>
          <a:blip r:embed="rId2"/>
          <a:stretch/>
        </p:blipFill>
        <p:spPr>
          <a:xfrm>
            <a:off x="1951200" y="523800"/>
            <a:ext cx="7710480" cy="19702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4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IMG_20210825_090433"/>
          <p:cNvPicPr/>
          <p:nvPr/>
        </p:nvPicPr>
        <p:blipFill>
          <a:blip r:embed="rId3"/>
          <a:stretch/>
        </p:blipFill>
        <p:spPr>
          <a:xfrm>
            <a:off x="0" y="2784600"/>
            <a:ext cx="5432400" cy="4073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IMG_20210817_115319"/>
          <p:cNvPicPr/>
          <p:nvPr/>
        </p:nvPicPr>
        <p:blipFill>
          <a:blip r:embed="rId4"/>
          <a:stretch/>
        </p:blipFill>
        <p:spPr>
          <a:xfrm>
            <a:off x="6256440" y="2668680"/>
            <a:ext cx="5584680" cy="418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992240" y="0"/>
            <a:ext cx="8301240" cy="550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ологическое развит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0" y="947880"/>
            <a:ext cx="7126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улучшается моторика и координация движени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вышается двигательная актив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увеличивается сила и скорость движ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развивается способность выполнять неско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движений за одно упражн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DSC02248"/>
          <p:cNvPicPr/>
          <p:nvPr/>
        </p:nvPicPr>
        <p:blipFill>
          <a:blip r:embed="rId2"/>
          <a:stretch/>
        </p:blipFill>
        <p:spPr>
          <a:xfrm>
            <a:off x="7002360" y="1928880"/>
            <a:ext cx="5189760" cy="3448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0T18:19:52Z</dcterms:created>
  <dc:creator>LT</dc:creator>
  <dc:description/>
  <dc:language>en-US</dc:language>
  <cp:lastModifiedBy>Лёша-Макс</cp:lastModifiedBy>
  <dcterms:modified xsi:type="dcterms:W3CDTF">2021-12-01T01:01:59Z</dcterms:modified>
  <cp:revision>67</cp:revision>
  <dc:subject/>
  <dc:title>Презентация PowerPoint</dc:title>
</cp:coreProperties>
</file>