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E2CF-F783-467B-BC03-2F8AE364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5C2-9C49-4067-9AB7-C23A451B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6C64-2E78-4B63-8385-DC10F644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5DE8-A1B5-477B-A297-8F83CC16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424A-0184-4E18-A5B4-05188512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0E2E-8979-42C6-A4AB-478F3DAA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2803-FDDD-4C28-AE31-C660CE7B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AF70-9965-4346-9F8C-DD82BF45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88C1-233C-4B15-BB90-AFE6C1EC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DD6D-1356-4502-9ACA-BA9890BF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B99F-7B41-4A4E-B8D7-C6ACEEF6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519-D83B-477F-A17A-5AA5EDF8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6BC9-C2C6-411E-A404-43F151D7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F571-38C0-45B5-9CC5-DA7E15DD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DF9C-E95C-45C8-AC31-542F0C98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1A65-5B82-4BD8-A502-9FD08F93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D9BD-1805-42AE-BD43-500BCD80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F87D-80A3-4D96-8F81-04FE5EC7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E38-E7BF-44BB-813A-31784E11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87B3-1EA4-47BE-99E8-09F760BF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E33-2ABC-4A94-A245-857D713F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29DB-0256-4450-BC62-4244AB50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319-C695-44C5-A55A-BE5CD66D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87B-69D7-4FFD-9FCF-52846414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2E73-46EA-4D24-90E1-D96B0CE885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7643-9BF3-497D-9D15-E2B02061494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megadoski.ru/s_images/12679520699763.jpg" TargetMode="External"/><Relationship Id="rId2" Type="http://schemas.openxmlformats.org/officeDocument/2006/relationships/hyperlink" Target="http://nkozlov.ru/upload/images/0409/040924214526.jpg" TargetMode="External"/><Relationship Id="rId3" Type="http://schemas.openxmlformats.org/officeDocument/2006/relationships/hyperlink" Target="http://www.spa-resorts.cz/temp/presentation_zoom_teeth_3.jpg" TargetMode="External"/><Relationship Id="rId4" Type="http://schemas.openxmlformats.org/officeDocument/2006/relationships/hyperlink" Target="http://dic.academic.ru/pictures/wiki/files/70/Figure-skates-1.jpg" TargetMode="External"/><Relationship Id="rId5" Type="http://schemas.openxmlformats.org/officeDocument/2006/relationships/hyperlink" Target="http://www.veefore.ru/pics2/ice_8383.jpg" TargetMode="External"/><Relationship Id="rId6" Type="http://schemas.openxmlformats.org/officeDocument/2006/relationships/hyperlink" Target="http://img-samara.fotki.yandex.ru/get/3302/wladwald.b/0_293ae_2de74526_XL" TargetMode="External"/><Relationship Id="rId7" Type="http://schemas.openxmlformats.org/officeDocument/2006/relationships/hyperlink" Target="http://www.proza.ru/pics/2009/04/08/316.jpg" TargetMode="External"/><Relationship Id="rId8" Type="http://schemas.openxmlformats.org/officeDocument/2006/relationships/hyperlink" Target="http://www.char.ru/books/161890_CHudo-derevo.jpg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казки и стихи К.И. Чуковского.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7964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000080" y="2071800"/>
            <a:ext cx="2119320" cy="3238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4124160" y="2762280"/>
            <a:ext cx="895680" cy="1333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4643280" y="4643280"/>
            <a:ext cx="947880" cy="1333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4"/>
          <a:stretch/>
        </p:blipFill>
        <p:spPr>
          <a:xfrm>
            <a:off x="6500880" y="1428840"/>
            <a:ext cx="2095560" cy="32385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Работа над интонацией и выразительным чтением произведений.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Рано – рано два бар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Застучали в воро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Тра-та-та и тра-та-т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Работа над интонацией и выразительным чтением произведений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Рады зайчики и белочк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Рады мальчики и девочки,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Обнимают косолапог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Ну спасибо тебе, дедушка, за солныш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Игра «Доскажи словечко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Только вдруг из-за кусто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Из-за синего лесочк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Из далёких из по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Прилетает 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воробей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000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воробей"/>
          <p:cNvPicPr/>
          <p:nvPr/>
        </p:nvPicPr>
        <p:blipFill>
          <a:blip r:embed="rId1"/>
          <a:srcRect l="0" t="0" r="6249" b="62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А в Африке, а в Афр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На чёрном Лимпоп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Сидит и плачет в Афр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Печальный 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гипопо.wav" descr=""/>
          <p:cNvPicPr/>
          <p:nvPr/>
        </p:nvPicPr>
        <p:blipFill>
          <a:blip r:embed="rId1"/>
          <a:stretch/>
        </p:blipFill>
        <p:spPr>
          <a:xfrm>
            <a:off x="75564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650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Я – великий Умыва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Знаменитый Мойдоды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Умывальников нача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И мочалок 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командир.wav" descr=""/>
          <p:cNvPicPr/>
          <p:nvPr/>
        </p:nvPicPr>
        <p:blipFill>
          <a:blip r:embed="rId1"/>
          <a:stretch/>
        </p:blipFill>
        <p:spPr>
          <a:xfrm>
            <a:off x="75564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000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Вдруг из подворотни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Страшный велика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Рыжий и усатый 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таракан.wav" descr=""/>
          <p:cNvPicPr/>
          <p:nvPr/>
        </p:nvPicPr>
        <p:blipFill>
          <a:blip r:embed="rId1"/>
          <a:stretch/>
        </p:blipFill>
        <p:spPr>
          <a:xfrm>
            <a:off x="82692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750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В Африке разбойни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В Африке злод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В Африке ужасный 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бармалей.wav" descr=""/>
          <p:cNvPicPr/>
          <p:nvPr/>
        </p:nvPicPr>
        <p:blipFill>
          <a:blip r:embed="rId1"/>
          <a:stretch/>
        </p:blipFill>
        <p:spPr>
          <a:xfrm>
            <a:off x="11160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650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Веселится народ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Муха замуж идё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За лихого, удал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Молодого 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комар.wav" descr=""/>
          <p:cNvPicPr/>
          <p:nvPr/>
        </p:nvPicPr>
        <p:blipFill>
          <a:blip r:embed="rId1"/>
          <a:stretch/>
        </p:blipFill>
        <p:spPr>
          <a:xfrm>
            <a:off x="61128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775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«Чистота – залог здоровья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«Краденое солнц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«Тараканищ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«Мойдоды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«Бармале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Речевая разминка.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Кто хочет разговарива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Тот должен выговарив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Всё правильно и внятн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Чтоб было всем понят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"/>
          <p:cNvSpPr/>
          <p:nvPr/>
        </p:nvSpPr>
        <p:spPr>
          <a:xfrm>
            <a:off x="539640" y="1773360"/>
            <a:ext cx="81360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megadoski.ru/s_images/12679520699763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nkozlov.ru/upload/images/0409/040924214526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spa-resorts.cz/temp/presentation_zoom_teeth_3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http://dic.academic.ru/pictures/wiki/files/70/Figure-skates-1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http://www.veefore.ru/pics2/ice_8383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http://img-samara.fotki.yandex.ru/get/3302/wladwald.b/0_293ae_2de74526_X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http://www.proza.ru/pics/2009/04/08/316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http://www.char.ru/books/161890_CHudo-derevo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char.ru/char_tmp__char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bookdk.com/super/300/30/9785913151230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kmrz.ru/catimg/32/327203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babushkini-skazki.ru/uploads/posts/2009-10/1256672756_mojdodyr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demiart.ru/forum/uploads3/post-40364-1241354703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mybeby.ucoz.ru/load/razvivajushhie_multfilmy/sovetskie_multfilmy/smotret_sbornik_multfilmov_po_k_i_chukovskomu_onlajn/11-1-0-4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Литературная игр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ервый_0001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128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Фильм_0004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536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3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0706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Работа над интонацией и выразительным чтением произведений.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Муха, муха, Цокотух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Позолоченное брюх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Муха по полю пошл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Муха денежку наш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Работа над интонацией и выразительным чтением произведений.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b3d1b"/>
                </a:solidFill>
                <a:latin typeface="Arial"/>
              </a:rPr>
              <a:t>Дорогие гости, помогите,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b3d1b"/>
                </a:solidFill>
                <a:latin typeface="Arial"/>
              </a:rPr>
              <a:t>Паука – злодея зарубит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Работа над интонацией и выразительным чтением произведений.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Куда вы, куда вы пропа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Или в канаву упа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Или шальные соба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bb3d1b"/>
                </a:solidFill>
                <a:latin typeface="Arial"/>
              </a:rPr>
              <a:t>Вас разорвали во мра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8:31:53Z</dcterms:created>
  <dc:creator>Дымолазовы</dc:creator>
  <dc:description/>
  <dc:language>en-US</dc:language>
  <cp:lastModifiedBy>Лариса</cp:lastModifiedBy>
  <dcterms:modified xsi:type="dcterms:W3CDTF">2021-12-02T14:20:13Z</dcterms:modified>
  <cp:revision>14</cp:revision>
  <dc:subject/>
  <dc:title>Слайд 1</dc:title>
</cp:coreProperties>
</file>