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68F-1AA6-43C9-96E7-A872E7EB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25D-1FE6-48F6-AC12-D1E2C27A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7F3-5D5C-42A4-9E87-06A408BF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10D6-288B-4086-9761-474AAD73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78D-C2A7-4EAE-823B-C09E7904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6856-360B-421D-817C-ACE180CB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5C2C-116E-488F-8277-653C5E66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2CD-CEF1-440B-92FB-E5964FD1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87D-C694-4288-9709-A1FFC18B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137-3384-48F1-9EE8-09677D4E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0EB-9155-496E-8237-D6E40AEA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839-E7A3-416F-AD34-B39F1105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F9ED-BA0D-4AFE-8447-1FC4DAC93D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" Target="slide4.xm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image" Target="../media/image31.jpe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47920" y="152280"/>
            <a:ext cx="63244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Путешествие по </a:t>
            </a:r>
            <a:endParaRPr b="1" i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Некрасовским местам</a:t>
            </a:r>
            <a:endParaRPr b="1" i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762120" y="1600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200-летию со дня рождения поэта Николая Алексеевича Некра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2471760" cy="3733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4"/>
          <p:cNvSpPr/>
          <p:nvPr/>
        </p:nvSpPr>
        <p:spPr>
          <a:xfrm>
            <a:off x="152280" y="2057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Биография Н.А.Некра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"/>
          <p:cNvPicPr/>
          <p:nvPr/>
        </p:nvPicPr>
        <p:blipFill>
          <a:blip r:embed="rId3"/>
          <a:stretch/>
        </p:blipFill>
        <p:spPr>
          <a:xfrm>
            <a:off x="2895480" y="2057400"/>
            <a:ext cx="2743200" cy="2054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0"/>
          <p:cNvSpPr/>
          <p:nvPr/>
        </p:nvSpPr>
        <p:spPr>
          <a:xfrm>
            <a:off x="3352680" y="3657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араби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2" descr=""/>
          <p:cNvPicPr/>
          <p:nvPr/>
        </p:nvPicPr>
        <p:blipFill>
          <a:blip r:embed="rId5"/>
          <a:stretch/>
        </p:blipFill>
        <p:spPr>
          <a:xfrm>
            <a:off x="2743200" y="4191120"/>
            <a:ext cx="3429000" cy="2284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3"/>
          <p:cNvSpPr/>
          <p:nvPr/>
        </p:nvSpPr>
        <p:spPr>
          <a:xfrm>
            <a:off x="3505320" y="57150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ешн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"/>
          <p:cNvPicPr/>
          <p:nvPr/>
        </p:nvPicPr>
        <p:blipFill>
          <a:blip r:embed="rId6"/>
          <a:stretch/>
        </p:blipFill>
        <p:spPr>
          <a:xfrm>
            <a:off x="6400800" y="1981080"/>
            <a:ext cx="2514600" cy="20462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5"/>
          <p:cNvSpPr/>
          <p:nvPr/>
        </p:nvSpPr>
        <p:spPr>
          <a:xfrm>
            <a:off x="6781680" y="34290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бакумц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7" descr="Nekracov"/>
          <p:cNvPicPr/>
          <p:nvPr/>
        </p:nvPicPr>
        <p:blipFill>
          <a:blip r:embed="rId7"/>
          <a:stretch/>
        </p:blipFill>
        <p:spPr>
          <a:xfrm>
            <a:off x="6889680" y="4191120"/>
            <a:ext cx="156384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8"/>
          <p:cNvSpPr/>
          <p:nvPr/>
        </p:nvSpPr>
        <p:spPr>
          <a:xfrm>
            <a:off x="6934320" y="4343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685800" y="152280"/>
            <a:ext cx="7781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зия Николая Алексеевича Некрасова</a:t>
            </a:r>
            <a:endParaRPr b="0" i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7" name="Picture 6" descr="nekrasov"/>
          <p:cNvPicPr/>
          <p:nvPr/>
        </p:nvPicPr>
        <p:blipFill>
          <a:blip r:embed="rId1"/>
          <a:stretch/>
        </p:blipFill>
        <p:spPr>
          <a:xfrm>
            <a:off x="2590920" y="762120"/>
            <a:ext cx="3686040" cy="4495680"/>
          </a:xfrm>
          <a:prstGeom prst="rect">
            <a:avLst/>
          </a:prstGeom>
          <a:ln w="0">
            <a:noFill/>
          </a:ln>
        </p:spPr>
      </p:pic>
      <p:pic>
        <p:nvPicPr>
          <p:cNvPr id="128" name="Саша.mp3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685800" y="1752480"/>
            <a:ext cx="10666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аш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азмышления у парадного подъезда.mp3" descr=""/>
          <p:cNvPicPr/>
          <p:nvPr/>
        </p:nvPicPr>
        <p:blipFill>
          <a:blip r:embed="rId3"/>
          <a:stretch/>
        </p:blipFill>
        <p:spPr>
          <a:xfrm>
            <a:off x="7772400" y="8380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2"/>
          <p:cNvSpPr/>
          <p:nvPr/>
        </p:nvSpPr>
        <p:spPr>
          <a:xfrm>
            <a:off x="6781680" y="1600200"/>
            <a:ext cx="2210040" cy="91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азмышления у парадного подъе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Мороз,красный нос.mp3" descr=""/>
          <p:cNvPicPr/>
          <p:nvPr/>
        </p:nvPicPr>
        <p:blipFill>
          <a:blip r:embed="rId4"/>
          <a:stretch/>
        </p:blipFill>
        <p:spPr>
          <a:xfrm>
            <a:off x="4114800" y="52578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4"/>
          <p:cNvSpPr/>
          <p:nvPr/>
        </p:nvSpPr>
        <p:spPr>
          <a:xfrm>
            <a:off x="2362320" y="5803920"/>
            <a:ext cx="3962160" cy="1059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роз, Красный но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свящаю моей сестре Анне Алексеевн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>
            <a:hlinkClick r:id="" action="ppaction://hlinkshowjump?jump=firs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7301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5456" y="3804"/>
                </a:lnTo>
                <a:lnTo>
                  <a:pt x="5456" y="17817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0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668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1625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67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6" dur="51385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67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1" dur="1696624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182880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Электронные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3520" y="9144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museum.ru/M5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722520" y="1600200"/>
            <a:ext cx="51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vsekratko.ru/biography/nekrasov_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736200" y="2286000"/>
            <a:ext cx="50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citaty.su/kratkaya-biografiya-nekrasov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5"/>
          <p:cNvSpPr txBox="1"/>
          <p:nvPr/>
        </p:nvSpPr>
        <p:spPr>
          <a:xfrm>
            <a:off x="304920" y="152280"/>
            <a:ext cx="86104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красов Николай Алексеевич (1821-1877/1878)</a:t>
            </a:r>
            <a:endParaRPr b="0" i="1" lang="en-US" sz="3200" spc="1" strike="noStrike">
              <a:ln w="6480">
                <a:solidFill>
                  <a:srgbClr val="0000ff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3673440"/>
            <a:ext cx="9144000" cy="283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Bodoni MT"/>
              </a:rPr>
              <a:t>Николай Алексеевич Некрасов родился 28 ноября (10 декабря по н. ст.)1821г.в местечке Немирове Подольской губернии. Он был третьим ребенком в семье. Мать — Елена Андреевна, урожденная Закревская, малороссийская дворянка. Отец — Алексей Сергеевич Некрасов, небогатый помещик, армейский офицер. Через три года после рождения сына он, выйдя в отставку майором, навсегда переселился в свое родовое поместье в Ярославском имении Грешневе, которое находилось недалеко от Вол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Bodoni MT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Bodoni MT"/>
              </a:rPr>
              <a:t>Грешнево находилось на равнине, среди бесконечных лугов и полей. Здесь, в деревне, поэт провел свое дет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2fa5da6551b5e0df6967717e71d"/>
          <p:cNvPicPr/>
          <p:nvPr/>
        </p:nvPicPr>
        <p:blipFill>
          <a:blip r:embed="rId1"/>
          <a:stretch/>
        </p:blipFill>
        <p:spPr>
          <a:xfrm>
            <a:off x="3200400" y="685800"/>
            <a:ext cx="213192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226548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447-nekrasov-n-a"/>
          <p:cNvPicPr/>
          <p:nvPr/>
        </p:nvPicPr>
        <p:blipFill>
          <a:blip r:embed="rId3"/>
          <a:stretch/>
        </p:blipFill>
        <p:spPr>
          <a:xfrm>
            <a:off x="4876920" y="685800"/>
            <a:ext cx="2447640" cy="3048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3"/>
          <p:cNvSpPr/>
          <p:nvPr/>
        </p:nvSpPr>
        <p:spPr>
          <a:xfrm>
            <a:off x="0" y="4060800"/>
            <a:ext cx="9144000" cy="2014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жется, не было другого поэта, который так часто, с такой благоговейной любовью воскрешал бы в своих стихах образ матери. По словам Некрасова, именно под влиянием воспоминаний о матери им написано столько произведений, протестующих против угнетения женщины ("Тройка", "Мороз, Красный нос", "В полном разгаре страда деревенская..." и др.). Именно из Грешнева Некрасов-поэт вынес исключительную чуткость к чужому страда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0" y="3882240"/>
            <a:ext cx="9144000" cy="283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Bodoni MT"/>
              </a:rPr>
              <a:t>Когда Некрасову исполнилось 10 лет, его отдали в Ярославскую гимназию, из которой он ушел после пятого класса, так как отец отказался вносить плату за его обучение. В эти годы Некрасов полюбил книги и читал очень много. В 17 лет он поехал в столицу, в Петербург, но там ему жилось очень трудно. Отец хотел для сына военной карьеры, а тот решил поступить в университет. За самоволие отец лишил его всякой материальной поддержки, и юноша остался без средств к существованию.</a:t>
            </a:r>
            <a:br>
              <a:rPr sz="1800"/>
            </a:br>
            <a:r>
              <a:rPr b="0" i="1" lang="ru-RU" sz="1800" spc="-1" strike="noStrike">
                <a:solidFill>
                  <a:srgbClr val="ff3300"/>
                </a:solidFill>
                <a:latin typeface="Bodoni MT"/>
              </a:rPr>
              <a:t>Чтобы не умереть с голоду, талантливый юноша стал сочинять стихи и рассказы по заказу столичных книготорговцев. Некрасов писал день и ночь, но получал за это грош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0" y="3962520"/>
            <a:ext cx="9144000" cy="1739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76 году после перерыва Некрасов снова вернулся к поэме, но у него уже не было сил закончить ее, потому что в начале 1875 года он тяжело заболел. Ни знаменитый хирург, ни операция не могли приостановить смертельной раковой болезни. Пришло время подводить итоги, и поэт создает "Последние песни". Некрасов понимает, что своим творчеством он прокладывает новые пути в поэтическом искусст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4267080" y="1199880"/>
            <a:ext cx="4038840" cy="39344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Bodoni MT"/>
              </a:rPr>
              <a:t>В общих чертах Николай Алексеевич был ознакомлен со своей болезнью и понял, что речь идет о серьезном заболевании. Настроение его ухудшилось. Врачи стали увеличивать дозу опия, но Н.А.Некрасов относился к этому очень негативно, так как боялся что это повлияет на его умственные способности, а он использовал малейшую возможность для литературной работы - продолжал писать стихотво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606760" y="5508360"/>
            <a:ext cx="3609720" cy="1191240"/>
          </a:xfrm>
          <a:prstGeom prst="rect">
            <a:avLst/>
          </a:prstGeom>
          <a:solidFill>
            <a:srgbClr val="f9de99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urier New"/>
              </a:rPr>
              <a:t>О Муза! наша песня спет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ourier New"/>
              </a:rPr>
              <a:t>Приди, закрой глаза поэта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ourier New"/>
              </a:rPr>
              <a:t>На вечный сон небытия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ourier New"/>
              </a:rPr>
              <a:t>Сестра народа - и мо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s640x480"/>
          <p:cNvPicPr/>
          <p:nvPr/>
        </p:nvPicPr>
        <p:blipFill>
          <a:blip r:embed="rId1"/>
          <a:stretch/>
        </p:blipFill>
        <p:spPr>
          <a:xfrm>
            <a:off x="304920" y="228600"/>
            <a:ext cx="3657600" cy="457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003c8a55"/>
          <p:cNvPicPr/>
          <p:nvPr/>
        </p:nvPicPr>
        <p:blipFill>
          <a:blip r:embed="rId2"/>
          <a:stretch/>
        </p:blipFill>
        <p:spPr>
          <a:xfrm>
            <a:off x="838080" y="228600"/>
            <a:ext cx="7239240" cy="51516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0">
            <a:hlinkClick r:id="" action="ppaction://hlinkshowjump?jump=firs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9451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7606" y="3794"/>
                </a:lnTo>
                <a:lnTo>
                  <a:pt x="7606" y="17806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7"/>
          <p:cNvSpPr txBox="1"/>
          <p:nvPr/>
        </p:nvSpPr>
        <p:spPr>
          <a:xfrm>
            <a:off x="1447920" y="228600"/>
            <a:ext cx="5800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красов и усадьба Карабиха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152280" y="914400"/>
            <a:ext cx="3657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ателями и первыми владельцами усадьбы Карабиха были князья Голицыны. В начале XIX века Михаил Николаевич Голицын начинает реконструкцию имения, в результате которой усадебный ансамбль принимает облик парадной резиденции, соответствующий статусу владельца. Практически в этом виде усадебный комплекс сохранился до наших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Карабиха"/>
          <p:cNvPicPr/>
          <p:nvPr/>
        </p:nvPicPr>
        <p:blipFill>
          <a:blip r:embed="rId1"/>
          <a:stretch/>
        </p:blipFill>
        <p:spPr>
          <a:xfrm>
            <a:off x="3809880" y="914400"/>
            <a:ext cx="4934160" cy="3908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2514600" y="5068080"/>
            <a:ext cx="4267080" cy="1739880"/>
          </a:xfrm>
          <a:prstGeom prst="rect">
            <a:avLst/>
          </a:prstGeom>
          <a:solidFill>
            <a:srgbClr val="ffff99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Imprint MT Shadow"/>
              </a:rPr>
              <a:t>Опять она, родная сторона</a:t>
            </a:r>
            <a:br>
              <a:rPr sz="1800"/>
            </a:br>
            <a:r>
              <a:rPr b="0" i="1" lang="ru-RU" sz="1800" spc="-1" strike="noStrike">
                <a:solidFill>
                  <a:srgbClr val="ff3300"/>
                </a:solidFill>
                <a:latin typeface="Imprint MT Shadow"/>
              </a:rPr>
              <a:t>С ее зеленым благодатным летом,</a:t>
            </a:r>
            <a:br>
              <a:rPr sz="1800"/>
            </a:br>
            <a:r>
              <a:rPr b="0" i="1" lang="ru-RU" sz="1800" spc="-1" strike="noStrike">
                <a:solidFill>
                  <a:srgbClr val="ff3300"/>
                </a:solidFill>
                <a:latin typeface="Imprint MT Shadow"/>
              </a:rPr>
              <a:t>И вновь душа поэзией полна…</a:t>
            </a:r>
            <a:br>
              <a:rPr sz="1800"/>
            </a:br>
            <a:r>
              <a:rPr b="0" i="1" lang="ru-RU" sz="1800" spc="-1" strike="noStrike">
                <a:solidFill>
                  <a:srgbClr val="ff3300"/>
                </a:solidFill>
                <a:latin typeface="Imprint MT Shadow"/>
              </a:rPr>
              <a:t>Да, только здесь могу я быть поэтом!</a:t>
            </a:r>
            <a:br>
              <a:rPr sz="1800"/>
            </a:br>
            <a:r>
              <a:rPr b="0" i="1" lang="ru-RU" sz="1800" spc="-1" strike="noStrike">
                <a:solidFill>
                  <a:srgbClr val="ff3300"/>
                </a:solidFill>
                <a:latin typeface="Imprint MT Shadow"/>
              </a:rPr>
              <a:t>        Н. А. Некрасов. 1864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4648320" y="762120"/>
            <a:ext cx="4495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сле смерти М. Н. Голицына в 1827 году, усадьба остаётся бесхозной, приходит в упадок и ветшает. Владельцем усадьбы становится сын Михаила Николаевича – Валериан Михайлович. Однако он был арестован как участник движения декабристов и сослан в Сибирь а затем рядовым на Кавказ. Был амнистирован в 1856 году с возвращением княжеского титула. После приезда из ссылки предпочитал Карабихе другие усадьбы. Валериан Михайлович умирает в 1859 году и его вдова Дарья Андреевна продает усадь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Карабиха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31813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8"/>
          <p:cNvSpPr/>
          <p:nvPr/>
        </p:nvSpPr>
        <p:spPr>
          <a:xfrm>
            <a:off x="3962520" y="722160"/>
            <a:ext cx="518148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66"/>
                </a:solidFill>
                <a:latin typeface="Arial"/>
              </a:rPr>
              <a:t>В 1861 году усадьбу приобретает Николай Алексеевич Некрасов. Усадьба приобретается им для летнего отдыха. Все хозяйственные заботы берет на себя брат поэта – Федор Некрасов, поселившийся вместе с Николаем Алексеевич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66"/>
                </a:solidFill>
                <a:latin typeface="Arial"/>
              </a:rPr>
              <a:t>С 1861 года по 1875 год Николай Алексеевич Некрасов проводит в усадьбе десять летних сезонов. Здесь он создает поэмы «Мороз, Красный нос», «Русские женщины». Здесь же работает над поэмой «Кому на Руси жить хорошо». В усадьбе Карабиха были написаны стихотворения «Орина, мать солдатская», «Каллистрат» и дру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66"/>
                </a:solidFill>
                <a:latin typeface="Arial"/>
              </a:rPr>
              <a:t>Последний раз Некрасов был в своей усадьбе в 1875 году. В тот приезд он навестил могилу матери, в селе Абакумцево, осмотрел созданную им сельскую школу, побывал в Грешнево – родовой усадьбе дворян Некрасовых. После этого поэт в усадьбу уже не приезж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0" descr="267951_original"/>
          <p:cNvPicPr/>
          <p:nvPr/>
        </p:nvPicPr>
        <p:blipFill>
          <a:blip r:embed="rId3"/>
          <a:stretch/>
        </p:blipFill>
        <p:spPr>
          <a:xfrm>
            <a:off x="152280" y="1295280"/>
            <a:ext cx="38102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2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523880" y="228600"/>
            <a:ext cx="6153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рабиха — новейшая история</a:t>
            </a:r>
            <a:endParaRPr b="0" i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сле революции, в 1918 году усадьба была национализирована и отнесена к памятникам истории. Однако, как тогда часто бывало, исторический памятник служил новой власти вполне прагматично -- после Гражданской войны здесь размещался совхоз «Бурла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0" y="2133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1946 году, в связи со 125-летием Николая Алексеевича Некрасова, Совет Министров СССР принимает постановление «О мероприятиях по увековечиванию памяти Н. А. Некрасова в связи со 125-летием со дня рождения» Одним из результатов этого постановления было проведение реконструкции усадьбы и организация в Карабихе мемориального музея Николая Алексеевича Некрасова. Первое время этот музей был филиалом краеведческого музея, а с 1 января 1988 года, музей усадьба Н.А. Некрасова была преобразована в литературно-мемориальный музей-заповедник Н.А. Некрасова «Карабиха» с филиалами в Аббакумцево и Грешн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0" y="4952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пустя 14 лет, 6 июля 2002 года, в день XXXV Всероссийского Некрасовского праздника поэзии, был открыт после десятилетней реставрации Большой дом усадь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9"/>
          <p:cNvSpPr/>
          <p:nvPr/>
        </p:nvSpPr>
        <p:spPr>
          <a:xfrm>
            <a:off x="2178000" y="20674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1" descr="1143-P101bcd1"/>
          <p:cNvPicPr/>
          <p:nvPr/>
        </p:nvPicPr>
        <p:blipFill>
          <a:blip r:embed="rId1"/>
          <a:stretch/>
        </p:blipFill>
        <p:spPr>
          <a:xfrm>
            <a:off x="457200" y="18288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3" descr="6f82-P1015210"/>
          <p:cNvPicPr/>
          <p:nvPr/>
        </p:nvPicPr>
        <p:blipFill>
          <a:blip r:embed="rId2"/>
          <a:stretch/>
        </p:blipFill>
        <p:spPr>
          <a:xfrm>
            <a:off x="4267080" y="228600"/>
            <a:ext cx="4515120" cy="6019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5" descr="566c-P1015f4f"/>
          <p:cNvPicPr/>
          <p:nvPr/>
        </p:nvPicPr>
        <p:blipFill>
          <a:blip r:embed="rId3"/>
          <a:stretch/>
        </p:blipFill>
        <p:spPr>
          <a:xfrm>
            <a:off x="152280" y="2286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7" descr="37e6-P10163d1"/>
          <p:cNvPicPr/>
          <p:nvPr/>
        </p:nvPicPr>
        <p:blipFill>
          <a:blip r:embed="rId4"/>
          <a:stretch/>
        </p:blipFill>
        <p:spPr>
          <a:xfrm>
            <a:off x="152280" y="327672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9" descr="3e1a-P10193e9"/>
          <p:cNvPicPr/>
          <p:nvPr/>
        </p:nvPicPr>
        <p:blipFill>
          <a:blip r:embed="rId5"/>
          <a:stretch/>
        </p:blipFill>
        <p:spPr>
          <a:xfrm>
            <a:off x="4267080" y="2286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1" descr="8e2b-P1013000"/>
          <p:cNvPicPr/>
          <p:nvPr/>
        </p:nvPicPr>
        <p:blipFill>
          <a:blip r:embed="rId6"/>
          <a:stretch/>
        </p:blipFill>
        <p:spPr>
          <a:xfrm>
            <a:off x="4267080" y="33526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3" descr="6bed-P10109ca"/>
          <p:cNvPicPr/>
          <p:nvPr/>
        </p:nvPicPr>
        <p:blipFill>
          <a:blip r:embed="rId7"/>
          <a:stretch/>
        </p:blipFill>
        <p:spPr>
          <a:xfrm>
            <a:off x="2590920" y="2286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7" descr="b0b9-P101402e"/>
          <p:cNvPicPr/>
          <p:nvPr/>
        </p:nvPicPr>
        <p:blipFill>
          <a:blip r:embed="rId8"/>
          <a:stretch/>
        </p:blipFill>
        <p:spPr>
          <a:xfrm>
            <a:off x="4572000" y="32004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9" descr="373e-P10110af"/>
          <p:cNvPicPr/>
          <p:nvPr/>
        </p:nvPicPr>
        <p:blipFill>
          <a:blip r:embed="rId9"/>
          <a:stretch/>
        </p:blipFill>
        <p:spPr>
          <a:xfrm>
            <a:off x="152280" y="32004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1" descr="3507-P101e389"/>
          <p:cNvPicPr/>
          <p:nvPr/>
        </p:nvPicPr>
        <p:blipFill>
          <a:blip r:embed="rId10"/>
          <a:stretch/>
        </p:blipFill>
        <p:spPr>
          <a:xfrm>
            <a:off x="152280" y="1522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3" descr="cfe9-P101769b"/>
          <p:cNvPicPr/>
          <p:nvPr/>
        </p:nvPicPr>
        <p:blipFill>
          <a:blip r:embed="rId11"/>
          <a:stretch/>
        </p:blipFill>
        <p:spPr>
          <a:xfrm>
            <a:off x="4267080" y="228600"/>
            <a:ext cx="4457880" cy="5943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5" descr="8701-P10196b0"/>
          <p:cNvPicPr/>
          <p:nvPr/>
        </p:nvPicPr>
        <p:blipFill>
          <a:blip r:embed="rId12"/>
          <a:stretch/>
        </p:blipFill>
        <p:spPr>
          <a:xfrm>
            <a:off x="838080" y="3200400"/>
            <a:ext cx="3124440" cy="3352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9" descr="7df3-P1010a14"/>
          <p:cNvPicPr/>
          <p:nvPr/>
        </p:nvPicPr>
        <p:blipFill>
          <a:blip r:embed="rId13"/>
          <a:stretch/>
        </p:blipFill>
        <p:spPr>
          <a:xfrm>
            <a:off x="304920" y="152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1" descr="5586-P101890f"/>
          <p:cNvPicPr/>
          <p:nvPr/>
        </p:nvPicPr>
        <p:blipFill>
          <a:blip r:embed="rId14"/>
          <a:stretch/>
        </p:blipFill>
        <p:spPr>
          <a:xfrm>
            <a:off x="4724280" y="1522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3" descr="1424-P101dd96"/>
          <p:cNvPicPr/>
          <p:nvPr/>
        </p:nvPicPr>
        <p:blipFill>
          <a:blip r:embed="rId15"/>
          <a:stretch/>
        </p:blipFill>
        <p:spPr>
          <a:xfrm>
            <a:off x="304920" y="3581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5" descr="4f2d-P1015dc3"/>
          <p:cNvPicPr/>
          <p:nvPr/>
        </p:nvPicPr>
        <p:blipFill>
          <a:blip r:embed="rId16"/>
          <a:stretch/>
        </p:blipFill>
        <p:spPr>
          <a:xfrm>
            <a:off x="4724280" y="35053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7" descr="137a-P101ef2b"/>
          <p:cNvPicPr/>
          <p:nvPr/>
        </p:nvPicPr>
        <p:blipFill>
          <a:blip r:embed="rId17"/>
          <a:stretch/>
        </p:blipFill>
        <p:spPr>
          <a:xfrm>
            <a:off x="1752480" y="16002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68"/>
          <p:cNvSpPr txBox="1"/>
          <p:nvPr/>
        </p:nvSpPr>
        <p:spPr>
          <a:xfrm>
            <a:off x="1295280" y="152280"/>
            <a:ext cx="5867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Музей-заповедник Карабих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  <p:sp>
        <p:nvSpPr>
          <p:cNvPr id="97" name="AutoShape 69">
            <a:hlinkClick r:id="" action="ppaction://hlinkshowjump?jump=firstslide"/>
          </p:cNvPr>
          <p:cNvSpPr/>
          <p:nvPr/>
        </p:nvSpPr>
        <p:spPr>
          <a:xfrm>
            <a:off x="8610480" y="65530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3352680" y="0"/>
            <a:ext cx="25718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бакумцево</a:t>
            </a:r>
            <a:endParaRPr b="0" i="1" lang="en-US" sz="4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447840"/>
            <a:ext cx="601992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ерстах в 3-4 от Грешнева, в стороне от шоссе, идущего от Ярославля, на возвышенности раскинулось село Абакумцево. За ним – Теряевская гора. С ее вершины открывается великолепный вид на окрестности. Как на ладони и «сто деревенек крестьянских», упомянутых в поэме «Дедушка», и Грешнево, и Васильково, и Кощевка… Бесконечные поля спускаются к Волге, в ясную погоду видны Ярославль и Костро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а краю Абакумцева, на берегу небольшого пруда, стоит церковь Петра и Павла. Среди ее прихожан была и семья Некрасовых. В церковной ограде, напротив алтарной стены, на могиле матери поэта Елены Андреевны Некрасовой стоит белый мраморный памятник, увенчанный медным крестом. Налево у самой ограды находится сложенный из красного кирпича семейный склеп Некрасовых. В нем похоронены отец и другие родственники Николая Алексеевич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этическое описание абакумцевского пруда дано Некрасовым в начале второй главы поэмы „Кому на Руси жить хорошо"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928120" y="3068640"/>
            <a:ext cx="3358440" cy="1739880"/>
          </a:xfrm>
          <a:prstGeom prst="rect">
            <a:avLst/>
          </a:prstGeom>
          <a:solidFill>
            <a:srgbClr val="ffcc99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День жаркий. Под березками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Крестьяне пробираются,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Гуторят меж собой…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Прошли село, увидели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В зеленой раме зеркало: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С краями полный пру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572000" y="533520"/>
            <a:ext cx="457200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б Абакумцеве Некрасов говорт и в «Рыцаре на час», одном из самых замечательных стихотворений, посвященных женщине-мате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Елена Андреевна оказала огромное влияние на сына, который вспоминал о ней в своих стихах до последних дней жизни.Самое святое, что было в жизни Некрасова – это, конечно, мать. Недаром в его произведениях слова «Родина», «мать», «муза» зачастую однознач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екрасов расстался с матерью шестнадцатилетним юношей. Он уехал в Петербург и побывал в родительском доме только через 4 года. В Грешнево Николай Алексеевич вернулся в начале августа 1841 года, но не застал мать в живых. Елена Андреевна умерла внезапн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-32400" y="2819160"/>
            <a:ext cx="4495320" cy="1191240"/>
          </a:xfrm>
          <a:prstGeom prst="rect">
            <a:avLst/>
          </a:prstGeom>
          <a:solidFill>
            <a:srgbClr val="ffcc99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radley Hand ITC"/>
              </a:rPr>
              <a:t>У той плиты, где ты лежишь, родная,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radley Hand ITC"/>
              </a:rPr>
              <a:t>Припомнил я, волнуясь и мечтая,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radley Hand ITC"/>
              </a:rPr>
              <a:t>Что мог еше увидеться с тобой,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radley Hand ITC"/>
              </a:rPr>
              <a:t>И опоздал!.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4343400" y="609480"/>
            <a:ext cx="4572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 матери поэта известно очень немногое. Не сохранилось ни ее портрета, ни ее писем, ни личных вещей. Даже дата рождения ее неизвест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стихотворении «Рыцарь на час» Некрасов очень тепло, с глубоким чувством говорит о Елене Андрее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5181480" y="388620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споминания о матери были для Некрасова и тягостными и в то же время дорогими, мучительно-сладкими. Он не мог, да и не хотел уходить от них. Никогда не забывал он, чем была для него мать, и всю жизнь был ей глубоко благодар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0" y="838080"/>
            <a:ext cx="4267080" cy="4540680"/>
          </a:xfrm>
          <a:prstGeom prst="rect">
            <a:avLst/>
          </a:prstGeom>
          <a:solidFill>
            <a:srgbClr val="ffcc99"/>
          </a:solidFill>
          <a:ln w="54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И если я легко стряхнул с год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С души моей тлетворные сле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Поправшей все разумное ног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Гордившейся невежеством сре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И если я наполнил жизнь борьб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За идеал добра и красо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И носит песнь, слагаемая мно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Живой любви глубокие чер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О мать моя, подвигнут я тобою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Во мне спасла живую душу ты!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л Некрасов незадолго до смер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5" descr="Картинка 2 из 38"/>
          <p:cNvPicPr/>
          <p:nvPr/>
        </p:nvPicPr>
        <p:blipFill>
          <a:blip r:embed="rId1"/>
          <a:stretch/>
        </p:blipFill>
        <p:spPr>
          <a:xfrm>
            <a:off x="6477120" y="228600"/>
            <a:ext cx="2171520" cy="266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7" descr="Картинка 1 из 3"/>
          <p:cNvPicPr/>
          <p:nvPr/>
        </p:nvPicPr>
        <p:blipFill>
          <a:blip r:embed="rId2"/>
          <a:stretch/>
        </p:blipFill>
        <p:spPr>
          <a:xfrm>
            <a:off x="6477120" y="49528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838080" y="0"/>
            <a:ext cx="7772400" cy="49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еподалеку от церкви стоит друхэтажное деревянное обшитое тесом здание. Это школа, построенная Некрасовым для крестьянских детей сто с небольшим лет наза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 строительстве школы и в проведении занятий Некрасову помогал местный священник И. Г. Зыков. Иван Григорьевич, человек образованный, считал, что крестьяне должны быть грамот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Сперва школа размещалась в доме абакумцевского дьячка, но местная помещица, ярая крепостница Набокова, нравом напоминающая Салтычиху, не желала, чтобы ее крестьяне училис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 начале 1861 года Некрасов обратился к директору Ярославского Демидовского лицея с просьбой о разрешении на открытие школы. После долгих хлопот и проволочек разрешение было получено, и школу откры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Отсутствие специального помещения затрудняло регулярные занятия, и Некрасов решил построить школу. Поэт внес деньги на строительство, помогли и его петербургские друзья. В 1871 году здание было готово, и на следующий год начались занятия. Зыков учил детей сам, потом ему стала помогать дочь Александра, а когда она вышла замуж и уехала, ее заменил брат Михаи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">
            <a:hlinkClick r:id="" action="ppaction://hlinkshowjump?jump=firs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965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5"/>
          <p:cNvSpPr txBox="1"/>
          <p:nvPr/>
        </p:nvSpPr>
        <p:spPr>
          <a:xfrm>
            <a:off x="3124080" y="0"/>
            <a:ext cx="21621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ешнево</a:t>
            </a:r>
            <a:endParaRPr b="0" i="1" lang="en-US" sz="4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152280" y="533520"/>
            <a:ext cx="457200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йдя в отставку, Алексей Сергеевич Некрасов вместе с семьей поселился в родовом имении Грешне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Если переехать в Ярославле Волгу и пройти прямо через Тверицы, то очутимся на столбовом почтовом тракте, - писал Некрасов в автобиографии. - Проехав 19 верст по песчаному грунту, где справа и слева лесок, песок, мелкий кустарник и вереск . . . увидишь деревню, начинающуюся столбом с надписью: „Сельцо Грешнево, душ столько-то господ Некрасовых". Проехав длинную бревенчатую деревню, увидишь садовый деревянный забор, начинающийся от последней деревенской избы и из-за которого выглядывают высокие деревья: это барский сад. Тотчас за садом большой серый неуклюжий дом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1" descr="Картинка 3 из 191"/>
          <p:cNvPicPr/>
          <p:nvPr/>
        </p:nvPicPr>
        <p:blipFill>
          <a:blip r:embed="rId1"/>
          <a:stretch/>
        </p:blipFill>
        <p:spPr>
          <a:xfrm>
            <a:off x="4724280" y="609480"/>
            <a:ext cx="4267440" cy="3197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Картинка 5 из 191"/>
          <p:cNvPicPr/>
          <p:nvPr/>
        </p:nvPicPr>
        <p:blipFill>
          <a:blip r:embed="rId2"/>
          <a:stretch/>
        </p:blipFill>
        <p:spPr>
          <a:xfrm>
            <a:off x="5257800" y="3962520"/>
            <a:ext cx="3105000" cy="2600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5"/>
          <p:cNvSpPr/>
          <p:nvPr/>
        </p:nvSpPr>
        <p:spPr>
          <a:xfrm>
            <a:off x="4572000" y="533520"/>
            <a:ext cx="4572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етские и юношеские годы поэта прошли в этом доме. За ним, в глубине сада, располагались хозяйственные постройки, в самом конце стоял небольшой двухэтажный флигелек - так называемая музыкантская. Здесь жили музыканты Алексея Сергеевича. За усадьбой, на опушке Качалова леска, была псар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репостничество во всех его проявлениях - деспотизм и произвол господ, нищета и бесправие крестьян, скудость духовных интересов окружающих - все это оставило глубокий след в душе поэ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7" descr="Картинка 15 из 191"/>
          <p:cNvPicPr/>
          <p:nvPr/>
        </p:nvPicPr>
        <p:blipFill>
          <a:blip r:embed="rId3"/>
          <a:stretch/>
        </p:blipFill>
        <p:spPr>
          <a:xfrm>
            <a:off x="1371600" y="23623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Картинка 18 из 191"/>
          <p:cNvPicPr/>
          <p:nvPr/>
        </p:nvPicPr>
        <p:blipFill>
          <a:blip r:embed="rId4"/>
          <a:stretch/>
        </p:blipFill>
        <p:spPr>
          <a:xfrm>
            <a:off x="1066680" y="4343400"/>
            <a:ext cx="2819520" cy="23065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1"/>
          <p:cNvSpPr/>
          <p:nvPr/>
        </p:nvSpPr>
        <p:spPr>
          <a:xfrm>
            <a:off x="4572000" y="1066680"/>
            <a:ext cx="4572000" cy="5209200"/>
          </a:xfrm>
          <a:prstGeom prst="rect">
            <a:avLst/>
          </a:prstGeom>
          <a:solidFill>
            <a:srgbClr val="ffcc99"/>
          </a:solidFill>
          <a:ln w="54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И вот они опять, знакомые ме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Где жизнь отцов моих, бесплодна и пу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Текла среди пиров, бессмысленного чван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Разврата грязного и мелкого тиран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Где рой подавленных и трепетных раб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Завидовал житью последних барских п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Где было суждено мне божий свет увиде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Где научился я терпеть и ненавидеть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228600" y="838080"/>
            <a:ext cx="4572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В остальном грешневская усадьба не отличалась от обыкновенных тогдашних помещичьих усаде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Под густыми, старинными вязами Некрасов играл с деревенскими ребятишками, слушал рассказы прохожих ,,. . . про Киев, про турку, про чудных зверей", делал вместе с ребятами „грибные набеги", ходил купаться на Волгу. Много проникновенных строк посвятил он великой реке. Никогда не забывал поэт о том впечатлении, которое произвели на него бурлаки. В стихотворении „На Волге" он писа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5"/>
          <p:cNvSpPr/>
          <p:nvPr/>
        </p:nvSpPr>
        <p:spPr>
          <a:xfrm>
            <a:off x="4876920" y="1600200"/>
            <a:ext cx="4572000" cy="2037240"/>
          </a:xfrm>
          <a:prstGeom prst="rect">
            <a:avLst/>
          </a:prstGeom>
          <a:solidFill>
            <a:srgbClr val="ffcc99"/>
          </a:solidFill>
          <a:ln w="54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Унылый, сумрачный бурлак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Каким тебя я в детстве зна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Таким и ныне увида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Все ту же песню ты поеш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ell MT"/>
              </a:rPr>
              <a:t>Все ту же лямку ты несешь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бурлаки"/>
          <p:cNvPicPr/>
          <p:nvPr/>
        </p:nvPicPr>
        <p:blipFill>
          <a:blip r:embed="rId5"/>
          <a:stretch/>
        </p:blipFill>
        <p:spPr>
          <a:xfrm>
            <a:off x="609480" y="457200"/>
            <a:ext cx="7993080" cy="4032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9"/>
          <p:cNvSpPr/>
          <p:nvPr/>
        </p:nvSpPr>
        <p:spPr>
          <a:xfrm>
            <a:off x="4572000" y="4495680"/>
            <a:ext cx="4572000" cy="2037240"/>
          </a:xfrm>
          <a:prstGeom prst="rect">
            <a:avLst/>
          </a:prstGeom>
          <a:solidFill>
            <a:srgbClr val="ffcc99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О, горько, горько я рыд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Когда в то утро я стоя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На берегу родной ре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И в первый раз ее назв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Рекою рабства и тоски!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>
            <a:off x="0" y="4495680"/>
            <a:ext cx="4572000" cy="2037240"/>
          </a:xfrm>
          <a:prstGeom prst="rect">
            <a:avLst/>
          </a:prstGeom>
          <a:solidFill>
            <a:srgbClr val="ffcc99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Унылый, сумрачный бурлак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Каким тебя я в детстве зна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Таким и ныне увида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Все ту же песню ты поеш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doni MT"/>
              </a:rPr>
              <a:t>Все ту же лямку ты несешь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2">
            <a:hlinkClick r:id="" action="ppaction://hlinkshowjump?jump=firstslide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6" descr="Картинка 9 из 112"/>
          <p:cNvPicPr/>
          <p:nvPr/>
        </p:nvPicPr>
        <p:blipFill>
          <a:blip r:embed="rId6"/>
          <a:stretch/>
        </p:blipFill>
        <p:spPr>
          <a:xfrm>
            <a:off x="1295280" y="685800"/>
            <a:ext cx="25909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6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12-06T09:51:0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110000000000010243100207f6000400038000</vt:lpwstr>
  </property>
  <property fmtid="{D5CDD505-2E9C-101B-9397-08002B2CF9AE}" pid="3" name="Version">
    <vt:r8>1</vt:r8>
  </property>
</Properties>
</file>