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27B-46AD-474C-A082-77687494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835-8238-42C4-BADD-3F3BD40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D19-5CA4-4280-9DFA-EBF790B8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442-147B-47A1-9AA2-0279BB55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BD7-5367-4666-9996-44D0762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300-8E8E-4483-BFB1-9399F6B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922-8031-4461-BEA1-1621ABC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BFF-A50F-4F05-AFFB-F51E768D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FA2-3492-442F-B65B-A45DBF18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D6E-58A3-4858-95FE-59DE096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8C9-2F12-473E-962D-6461718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383-F8D2-46CD-8B7A-69D2B33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8C1-8B34-4C2D-8C9C-40FFE8823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152280"/>
            <a:ext cx="63244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Путешествие по 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красовским местам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62120" y="1600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200-летию со дня рождения поэта Николая Алексеевича 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247176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152280" y="2057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иография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2743200" cy="205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3526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раб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429000" cy="2284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3"/>
          <p:cNvSpPr/>
          <p:nvPr/>
        </p:nvSpPr>
        <p:spPr>
          <a:xfrm>
            <a:off x="3505320" y="57150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шн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400800" y="1981080"/>
            <a:ext cx="2514600" cy="2046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5"/>
          <p:cNvSpPr/>
          <p:nvPr/>
        </p:nvSpPr>
        <p:spPr>
          <a:xfrm>
            <a:off x="6781680" y="3429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бакумц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Nekracov"/>
          <p:cNvPicPr/>
          <p:nvPr/>
        </p:nvPicPr>
        <p:blipFill>
          <a:blip r:embed="rId7"/>
          <a:stretch/>
        </p:blipFill>
        <p:spPr>
          <a:xfrm>
            <a:off x="6889680" y="4191120"/>
            <a:ext cx="156384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8"/>
          <p:cNvSpPr/>
          <p:nvPr/>
        </p:nvSpPr>
        <p:spPr>
          <a:xfrm>
            <a:off x="6934320" y="43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685800" y="152280"/>
            <a:ext cx="77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зия Николая Алексеевича Некрасова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Picture 6" descr="nekrasov"/>
          <p:cNvPicPr/>
          <p:nvPr/>
        </p:nvPicPr>
        <p:blipFill>
          <a:blip r:embed="rId1"/>
          <a:stretch/>
        </p:blipFill>
        <p:spPr>
          <a:xfrm>
            <a:off x="2590920" y="762120"/>
            <a:ext cx="368604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Саша.mp3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685800" y="1752480"/>
            <a:ext cx="1066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а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азмышления у парадного подъезда.mp3" descr=""/>
          <p:cNvPicPr/>
          <p:nvPr/>
        </p:nvPicPr>
        <p:blipFill>
          <a:blip r:embed="rId3"/>
          <a:stretch/>
        </p:blipFill>
        <p:spPr>
          <a:xfrm>
            <a:off x="777240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2"/>
          <p:cNvSpPr/>
          <p:nvPr/>
        </p:nvSpPr>
        <p:spPr>
          <a:xfrm>
            <a:off x="6781680" y="1600200"/>
            <a:ext cx="22100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мышления у парадного подъ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Мороз,красный нос.mp3" descr=""/>
          <p:cNvPicPr/>
          <p:nvPr/>
        </p:nvPicPr>
        <p:blipFill>
          <a:blip r:embed="rId4"/>
          <a:stretch/>
        </p:blipFill>
        <p:spPr>
          <a:xfrm>
            <a:off x="4114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2362320" y="5803920"/>
            <a:ext cx="3962160" cy="105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роз, Красный н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вящаю моей сестре Анне Алексеевн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>
            <a:hlinkClick r:id="" action="ppaction://hlinkshowjump?jump=firs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1625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51385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69662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82880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Электронн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useum.ru/M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722520" y="1600200"/>
            <a:ext cx="51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vsekratko.ru/biography/nekrasov_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36200" y="228600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itaty.su/kratkaya-biografiya-nekrasov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304920" y="152280"/>
            <a:ext cx="8610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красов Николай Алексеевич (1821-1877/1878)</a:t>
            </a:r>
            <a:endParaRPr b="0" i="1" lang="en-US" sz="3200" spc="1" strike="noStrike">
              <a:ln w="648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3673440"/>
            <a:ext cx="9144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Николай Алексеевич Некрасов родился 28 ноября (10 декабря по н. ст.)1821г.в местечке Немирове Подольской губернии. Он был третьим ребенком в семье. Мать — Елена Андреевна, урожденная Закревская, малороссийская дворянка. Отец — Алексей Сергеевич Некрасов, небогатый помещик, армейский офицер. Через три года после рождения сына он, выйдя в отставку майором, навсегда переселился в свое родовое поместье в Ярославском имении Грешневе, которое находилось недалеко от Вол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Грешнево находилось на равнине, среди бесконечных лугов и полей. Здесь, в деревне, поэт провел свое де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2fa5da6551b5e0df6967717e71d"/>
          <p:cNvPicPr/>
          <p:nvPr/>
        </p:nvPicPr>
        <p:blipFill>
          <a:blip r:embed="rId1"/>
          <a:stretch/>
        </p:blipFill>
        <p:spPr>
          <a:xfrm>
            <a:off x="3200400" y="685800"/>
            <a:ext cx="21319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22654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447-nekrasov-n-a"/>
          <p:cNvPicPr/>
          <p:nvPr/>
        </p:nvPicPr>
        <p:blipFill>
          <a:blip r:embed="rId3"/>
          <a:stretch/>
        </p:blipFill>
        <p:spPr>
          <a:xfrm>
            <a:off x="4876920" y="685800"/>
            <a:ext cx="24476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0" y="4060800"/>
            <a:ext cx="9144000" cy="201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ется, не было другого поэта, который так часто, с такой благоговейной любовью воскрешал бы в своих стихах образ матери. По словам Некрасова, именно под влиянием воспоминаний о матери им написано столько произведений, протестующих против угнетения женщины ("Тройка", "Мороз, Красный нос", "В полном разгаре страда деревенская..." и др.). Именно из Грешнева Некрасов-поэт вынес исключительную чуткость к чужому страд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3882240"/>
            <a:ext cx="9144000" cy="283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Когда Некрасову исполнилось 10 лет, его отдали в Ярославскую гимназию, из которой он ушел после пятого класса, так как отец отказался вносить плату за его обучение. В эти годы Некрасов полюбил книги и читал очень много. В 17 лет он поехал в столицу, в Петербург, но там ему жилось очень трудно. Отец хотел для сына военной карьеры, а тот решил поступить в университет. За самоволие отец лишил его всякой материальной поддержки, и юноша остался без средств к существованию.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Чтобы не умереть с голоду, талантливый юноша стал сочинять стихи и рассказы по заказу столичных книготорговцев. Некрасов писал день и ночь, но получал за это гро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3962520"/>
            <a:ext cx="914400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76 году после перерыва Некрасов снова вернулся к поэме, но у него уже не было сил закончить ее, потому что в начале 1875 года он тяжело заболел. Ни знаменитый хирург, ни операция не могли приостановить смертельной раковой болезни. Пришло время подводить итоги, и поэт создает "Последние песни". Некрасов понимает, что своим творчеством он прокладывает новые пути в поэтическом искус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267080" y="1199880"/>
            <a:ext cx="4038840" cy="39344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doni MT"/>
              </a:rPr>
              <a:t>В общих чертах Николай Алексеевич был ознакомлен со своей болезнью и понял, что речь идет о серьезном заболевании. Настроение его ухудшилось. Врачи стали увеличивать дозу опия, но Н.А.Некрасов относился к этому очень негативно, так как боялся что это повлияет на его умственные способности, а он использовал малейшую возможность для литературной работы - продолжал писать стихотв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606760" y="5508360"/>
            <a:ext cx="3609720" cy="1191240"/>
          </a:xfrm>
          <a:prstGeom prst="rect">
            <a:avLst/>
          </a:prstGeom>
          <a:solidFill>
            <a:srgbClr val="f9de99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О Муза! наша песня спет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Приди, закрой глаза поэт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На вечный сон небыти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Сестра народа - и мо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40x480"/>
          <p:cNvPicPr/>
          <p:nvPr/>
        </p:nvPicPr>
        <p:blipFill>
          <a:blip r:embed="rId1"/>
          <a:stretch/>
        </p:blipFill>
        <p:spPr>
          <a:xfrm>
            <a:off x="304920" y="22860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03c8a55"/>
          <p:cNvPicPr/>
          <p:nvPr/>
        </p:nvPicPr>
        <p:blipFill>
          <a:blip r:embed="rId2"/>
          <a:stretch/>
        </p:blipFill>
        <p:spPr>
          <a:xfrm>
            <a:off x="838080" y="228600"/>
            <a:ext cx="7239240" cy="51516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9451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7606" y="3794"/>
                </a:lnTo>
                <a:lnTo>
                  <a:pt x="7606" y="17806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7"/>
          <p:cNvSpPr txBox="1"/>
          <p:nvPr/>
        </p:nvSpPr>
        <p:spPr>
          <a:xfrm>
            <a:off x="1447920" y="228600"/>
            <a:ext cx="58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расов и усадьба Карабих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52280" y="914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телями и первыми владельцами усадьбы Карабиха были князья Голицыны. В начале XIX века Михаил Николаевич Голицын начинает реконструкцию имения, в результате которой усадебный ансамбль принимает облик парадной резиденции, соответствующий статусу владельца. Практически в этом виде усадебный комплекс сохранился до наш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Карабиха"/>
          <p:cNvPicPr/>
          <p:nvPr/>
        </p:nvPicPr>
        <p:blipFill>
          <a:blip r:embed="rId1"/>
          <a:stretch/>
        </p:blipFill>
        <p:spPr>
          <a:xfrm>
            <a:off x="3809880" y="914400"/>
            <a:ext cx="4934160" cy="3908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2514600" y="5068080"/>
            <a:ext cx="4267080" cy="1739880"/>
          </a:xfrm>
          <a:prstGeom prst="rect">
            <a:avLst/>
          </a:prstGeom>
          <a:solidFill>
            <a:srgbClr val="ffff99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Опять она, родная сторона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С ее зеленым благодатным летом,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И вновь душа поэзией полна…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Да, только здесь могу я быть поэтом!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        Н. А. Некрасов.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648320" y="76212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смерти М. Н. Голицына в 1827 году, усадьба остаётся бесхозной, приходит в упадок и ветшает. Владельцем усадьбы становится сын Михаила Николаевича – Валериан Михайлович. Однако он был арестован как участник движения декабристов и сослан в Сибирь а затем рядовым на Кавказ. Был амнистирован в 1856 году с возвращением княжеского титула. После приезда из ссылки предпочитал Карабихе другие усадьбы. Валериан Михайлович умирает в 1859 году и его вдова Дарья Андреевна продает усадь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Карабиха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3181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3962520" y="722160"/>
            <a:ext cx="51814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В 1861 году усадьбу приобретает Николай Алексеевич Некрасов. Усадьба приобретается им для летнего отдыха. Все хозяйственные заботы берет на себя брат поэта – Федор Некрасов, поселившийся вместе с Николаем Алексе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С 1861 года по 1875 год Николай Алексеевич Некрасов проводит в усадьбе десять летних сезонов. Здесь он создает поэмы «Мороз, Красный нос», «Русские женщины». Здесь же работает над поэмой «Кому на Руси жить хорошо». В усадьбе Карабиха были написаны стихотворения «Орина, мать солдатская», «Каллистрат»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Последний раз Некрасов был в своей усадьбе в 1875 году. В тот приезд он навестил могилу матери, в селе Абакумцево, осмотрел созданную им сельскую школу, побывал в Грешнево – родовой усадьбе дворян Некрасовых. После этого поэт в усадьбу уже не приез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67951_original"/>
          <p:cNvPicPr/>
          <p:nvPr/>
        </p:nvPicPr>
        <p:blipFill>
          <a:blip r:embed="rId3"/>
          <a:stretch/>
        </p:blipFill>
        <p:spPr>
          <a:xfrm>
            <a:off x="152280" y="129528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523880" y="228600"/>
            <a:ext cx="61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абиха — новейшая история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революции, в 1918 году усадьба была национализирована и отнесена к памятникам истории. Однако, как тогда часто бывало, исторический памятник служил новой власти вполне прагматично -- после Гражданской войны здесь размещался совхоз «Бурла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2133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1946 году, в связи со 125-летием Николая Алексеевича Некрасова, Совет Министров СССР принимает постановление «О мероприятиях по увековечиванию памяти Н. А. Некрасова в связи со 125-летием со дня рождения» Одним из результатов этого постановления было проведение реконструкции усадьбы и организация в Карабихе мемориального музея Николая Алексеевича Некрасова. Первое время этот музей был филиалом краеведческого музея, а с 1 января 1988 года, музей усадьба Н.А. Некрасова была преобразована в литературно-мемориальный музей-заповедник Н.А. Некрасова «Карабиха» с филиалами в Аббакумцево и Грешн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4952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пустя 14 лет, 6 июля 2002 года, в день XXXV Всероссийского Некрасовского праздника поэзии, был открыт после десятилетней реставрации Большой дом усад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9"/>
          <p:cNvSpPr/>
          <p:nvPr/>
        </p:nvSpPr>
        <p:spPr>
          <a:xfrm>
            <a:off x="2178000" y="2067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1143-P101bcd1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6f82-P1015210"/>
          <p:cNvPicPr/>
          <p:nvPr/>
        </p:nvPicPr>
        <p:blipFill>
          <a:blip r:embed="rId2"/>
          <a:stretch/>
        </p:blipFill>
        <p:spPr>
          <a:xfrm>
            <a:off x="4267080" y="228600"/>
            <a:ext cx="4515120" cy="601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566c-P1015f4f"/>
          <p:cNvPicPr/>
          <p:nvPr/>
        </p:nvPicPr>
        <p:blipFill>
          <a:blip r:embed="rId3"/>
          <a:stretch/>
        </p:blipFill>
        <p:spPr>
          <a:xfrm>
            <a:off x="152280" y="2286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7" descr="37e6-P10163d1"/>
          <p:cNvPicPr/>
          <p:nvPr/>
        </p:nvPicPr>
        <p:blipFill>
          <a:blip r:embed="rId4"/>
          <a:stretch/>
        </p:blipFill>
        <p:spPr>
          <a:xfrm>
            <a:off x="152280" y="3276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3e1a-P10193e9"/>
          <p:cNvPicPr/>
          <p:nvPr/>
        </p:nvPicPr>
        <p:blipFill>
          <a:blip r:embed="rId5"/>
          <a:stretch/>
        </p:blipFill>
        <p:spPr>
          <a:xfrm>
            <a:off x="4267080" y="228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8e2b-P1013000"/>
          <p:cNvPicPr/>
          <p:nvPr/>
        </p:nvPicPr>
        <p:blipFill>
          <a:blip r:embed="rId6"/>
          <a:stretch/>
        </p:blipFill>
        <p:spPr>
          <a:xfrm>
            <a:off x="4267080" y="3352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6bed-P10109ca"/>
          <p:cNvPicPr/>
          <p:nvPr/>
        </p:nvPicPr>
        <p:blipFill>
          <a:blip r:embed="rId7"/>
          <a:stretch/>
        </p:blipFill>
        <p:spPr>
          <a:xfrm>
            <a:off x="2590920" y="228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7" descr="b0b9-P101402e"/>
          <p:cNvPicPr/>
          <p:nvPr/>
        </p:nvPicPr>
        <p:blipFill>
          <a:blip r:embed="rId8"/>
          <a:stretch/>
        </p:blipFill>
        <p:spPr>
          <a:xfrm>
            <a:off x="457200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373e-P10110af"/>
          <p:cNvPicPr/>
          <p:nvPr/>
        </p:nvPicPr>
        <p:blipFill>
          <a:blip r:embed="rId9"/>
          <a:stretch/>
        </p:blipFill>
        <p:spPr>
          <a:xfrm>
            <a:off x="1522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1" descr="3507-P101e389"/>
          <p:cNvPicPr/>
          <p:nvPr/>
        </p:nvPicPr>
        <p:blipFill>
          <a:blip r:embed="rId10"/>
          <a:stretch/>
        </p:blipFill>
        <p:spPr>
          <a:xfrm>
            <a:off x="152280" y="152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3" descr="cfe9-P101769b"/>
          <p:cNvPicPr/>
          <p:nvPr/>
        </p:nvPicPr>
        <p:blipFill>
          <a:blip r:embed="rId11"/>
          <a:stretch/>
        </p:blipFill>
        <p:spPr>
          <a:xfrm>
            <a:off x="4267080" y="22860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5" descr="8701-P10196b0"/>
          <p:cNvPicPr/>
          <p:nvPr/>
        </p:nvPicPr>
        <p:blipFill>
          <a:blip r:embed="rId12"/>
          <a:stretch/>
        </p:blipFill>
        <p:spPr>
          <a:xfrm>
            <a:off x="838080" y="3200400"/>
            <a:ext cx="3124440" cy="335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7df3-P1010a14"/>
          <p:cNvPicPr/>
          <p:nvPr/>
        </p:nvPicPr>
        <p:blipFill>
          <a:blip r:embed="rId13"/>
          <a:stretch/>
        </p:blipFill>
        <p:spPr>
          <a:xfrm>
            <a:off x="304920" y="152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1" descr="5586-P101890f"/>
          <p:cNvPicPr/>
          <p:nvPr/>
        </p:nvPicPr>
        <p:blipFill>
          <a:blip r:embed="rId14"/>
          <a:stretch/>
        </p:blipFill>
        <p:spPr>
          <a:xfrm>
            <a:off x="4724280" y="152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1424-P101dd96"/>
          <p:cNvPicPr/>
          <p:nvPr/>
        </p:nvPicPr>
        <p:blipFill>
          <a:blip r:embed="rId15"/>
          <a:stretch/>
        </p:blipFill>
        <p:spPr>
          <a:xfrm>
            <a:off x="304920" y="3581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5" descr="4f2d-P1015dc3"/>
          <p:cNvPicPr/>
          <p:nvPr/>
        </p:nvPicPr>
        <p:blipFill>
          <a:blip r:embed="rId16"/>
          <a:stretch/>
        </p:blipFill>
        <p:spPr>
          <a:xfrm>
            <a:off x="47242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137a-P101ef2b"/>
          <p:cNvPicPr/>
          <p:nvPr/>
        </p:nvPicPr>
        <p:blipFill>
          <a:blip r:embed="rId17"/>
          <a:stretch/>
        </p:blipFill>
        <p:spPr>
          <a:xfrm>
            <a:off x="175248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8"/>
          <p:cNvSpPr txBox="1"/>
          <p:nvPr/>
        </p:nvSpPr>
        <p:spPr>
          <a:xfrm>
            <a:off x="1295280" y="152280"/>
            <a:ext cx="586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узей-заповедник Караби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97" name="AutoShape 69">
            <a:hlinkClick r:id="" action="ppaction://hlinkshowjump?jump=firstslide"/>
          </p:cNvPr>
          <p:cNvSpPr/>
          <p:nvPr/>
        </p:nvSpPr>
        <p:spPr>
          <a:xfrm>
            <a:off x="86104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352680" y="0"/>
            <a:ext cx="2571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акумц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447840"/>
            <a:ext cx="601992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стах в 3-4 от Грешнева, в стороне от шоссе, идущего от Ярославля, на возвышенности раскинулось село Абакумцево. За ним – Теряевская гора. С ее вершины открывается великолепный вид на окрестности. Как на ладони и «сто деревенек крестьянских», упомянутых в поэме «Дедушка», и Грешнево, и Васильково, и Кощевка… Бесконечные поля спускаются к Волге, в ясную погоду видны Ярославль и Костр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краю Абакумцева, на берегу небольшого пруда, стоит церковь Петра и Павла. Среди ее прихожан была и семья Некрасовых. В церковной ограде, напротив алтарной стены, на могиле матери поэта Елены Андреевны Некрасовой стоит белый мраморный памятник, увенчанный медным крестом. Налево у самой ограды находится сложенный из красного кирпича семейный склеп Некрасовых. В нем похоронены отец и другие родственники Николая Алексееви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этическое описание абакумцевского пруда дано Некрасовым в начале второй главы поэмы „Кому на Руси жить хорошо"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928120" y="3068640"/>
            <a:ext cx="3358440" cy="1739880"/>
          </a:xfrm>
          <a:prstGeom prst="rect">
            <a:avLst/>
          </a:prstGeom>
          <a:solidFill>
            <a:srgbClr val="ffcc99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День жаркий. Под березкам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Крестьяне пробираютс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Гуторят меж собой…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Прошли село, увидел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В зеленой раме зеркало: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С краями полный пру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72000" y="533520"/>
            <a:ext cx="4572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 Абакумцеве Некрасов говорт и в «Рыцаре на час», одном из самых замечательных стихотворений, посвященных женщине-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лена Андреевна оказала огромное влияние на сына, который вспоминал о ней в своих стихах до последних дней жизни.Самое святое, что было в жизни Некрасова – это, конечно, мать. Недаром в его произведениях слова «Родина», «мать», «муза» зачастую однознач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красов расстался с матерью шестнадцатилетним юношей. Он уехал в Петербург и побывал в родительском доме только через 4 года. В Грешнево Николай Алексеевич вернулся в начале августа 1841 года, но не застал мать в живых. Елена Андреевна умерла внезап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-32400" y="2819160"/>
            <a:ext cx="4495320" cy="1191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У той плиты, где ты лежишь, родн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Припомнил я, волнуясь и мечт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Что мог еше увидеться с тобой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И опоздал!.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343400" y="60948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матери поэта известно очень немногое. Не сохранилось ни ее портрета, ни ее писем, ни личных вещей. Даже дата рождения ее неизвест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ихотворении «Рыцарь на час» Некрасов очень тепло, с глубоким чувством говорит о Елене Андре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5181480" y="38862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оминания о матери были для Некрасова и тягостными и в то же время дорогими, мучительно-сладкими. Он не мог, да и не хотел уходить от них. Никогда не забывал он, чем была для него мать, и всю жизнь был ей глубоко благода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0" y="838080"/>
            <a:ext cx="4267080" cy="454068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легко стряхнул с г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С души моей тлетворные сл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Поправшей все разумное ног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Гордившейся невежеством сре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наполнил жизнь борь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За идеал добра и крас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носит песнь, слагаемая мно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Живой любви глубокие чер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 мать моя, подвигнут я тобо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о мне спасла живую душу ты!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 Некрасов незадолго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Картинка 2 из 38"/>
          <p:cNvPicPr/>
          <p:nvPr/>
        </p:nvPicPr>
        <p:blipFill>
          <a:blip r:embed="rId1"/>
          <a:stretch/>
        </p:blipFill>
        <p:spPr>
          <a:xfrm>
            <a:off x="6477120" y="228600"/>
            <a:ext cx="2171520" cy="26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Картинка 1 из 3"/>
          <p:cNvPicPr/>
          <p:nvPr/>
        </p:nvPicPr>
        <p:blipFill>
          <a:blip r:embed="rId2"/>
          <a:stretch/>
        </p:blipFill>
        <p:spPr>
          <a:xfrm>
            <a:off x="6477120" y="49528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838080" y="0"/>
            <a:ext cx="777240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подалеку от церкви стоит друхэтажное деревянное обшитое тесом здание. Это школа, построенная Некрасовым для крестьянских детей сто с небольшим лет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строительстве школы и в проведении занятий Некрасову помогал местный священник И. Г. Зыков. Иван Григорьевич, человек образованный, считал, что крестьяне должны быть грамо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перва школа размещалась в доме абакумцевского дьячка, но местная помещица, ярая крепостница Набокова, нравом напоминающая Салтычиху, не желала, чтобы ее крестьяне учи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начале 1861 года Некрасов обратился к директору Ярославского Демидовского лицея с просьбой о разрешении на открытие школы. После долгих хлопот и проволочек разрешение было получено, и школу откр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тсутствие специального помещения затрудняло регулярные занятия, и Некрасов решил построить школу. Поэт внес деньги на строительство, помогли и его петербургские друзья. В 1871 году здание было готово, и на следующий год начались занятия. Зыков учил детей сам, потом ему стала помогать дочь Александра, а когда она вышла замуж и уехала, ее заменил брат Миха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>
            <a:hlinkClick r:id="" action="ppaction://hlinkshowjump?jump=firs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24080" y="0"/>
            <a:ext cx="2162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ешн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2280" y="53352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йдя в отставку, Алексей Сергеевич Некрасов вместе с семьей поселился в родовом имении Грешне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Если переехать в Ярославле Волгу и пройти прямо через Тверицы, то очутимся на столбовом почтовом тракте, - писал Некрасов в автобиографии. - Проехав 19 верст по песчаному грунту, где справа и слева лесок, песок, мелкий кустарник и вереск . . . увидишь деревню, начинающуюся столбом с надписью: „Сельцо Грешнево, душ столько-то господ Некрасовых". Проехав длинную бревенчатую деревню, увидишь садовый деревянный забор, начинающийся от последней деревенской избы и из-за которого выглядывают высокие деревья: это барский сад. Тотчас за садом большой серый неуклюжий д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Картинка 3 из 191"/>
          <p:cNvPicPr/>
          <p:nvPr/>
        </p:nvPicPr>
        <p:blipFill>
          <a:blip r:embed="rId1"/>
          <a:stretch/>
        </p:blipFill>
        <p:spPr>
          <a:xfrm>
            <a:off x="4724280" y="609480"/>
            <a:ext cx="4267440" cy="3197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 из 191"/>
          <p:cNvPicPr/>
          <p:nvPr/>
        </p:nvPicPr>
        <p:blipFill>
          <a:blip r:embed="rId2"/>
          <a:stretch/>
        </p:blipFill>
        <p:spPr>
          <a:xfrm>
            <a:off x="5257800" y="3962520"/>
            <a:ext cx="3105000" cy="2600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4572000" y="53352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тские и юношеские годы поэта прошли в этом доме. За ним, в глубине сада, располагались хозяйственные постройки, в самом конце стоял небольшой двухэтажный флигелек - так называемая музыкантская. Здесь жили музыканты Алексея Сергеевича. За усадьбой, на опушке Качалова леска, была псар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епостничество во всех его проявлениях - деспотизм и произвол господ, нищета и бесправие крестьян, скудость духовных интересов окружающих - все это оставило глубокий след в душе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Картинка 15 из 191"/>
          <p:cNvPicPr/>
          <p:nvPr/>
        </p:nvPicPr>
        <p:blipFill>
          <a:blip r:embed="rId3"/>
          <a:stretch/>
        </p:blipFill>
        <p:spPr>
          <a:xfrm>
            <a:off x="1371600" y="2362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Картинка 18 из 191"/>
          <p:cNvPicPr/>
          <p:nvPr/>
        </p:nvPicPr>
        <p:blipFill>
          <a:blip r:embed="rId4"/>
          <a:stretch/>
        </p:blipFill>
        <p:spPr>
          <a:xfrm>
            <a:off x="1066680" y="4343400"/>
            <a:ext cx="28195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572000" y="1066680"/>
            <a:ext cx="4572000" cy="520920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И вот они опять, знаком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жизнь отцов моих, бесплодна и пу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екла среди пиров, бессмысленного чва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Разврата грязного и мелкого тиран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рой подавленных и трепетных раб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Завидовал житью последних барских п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было суждено мне божий свет увид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научился я терпеть и ненавидет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228600" y="83808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 остальном грешневская усадьба не отличалась от обыкновенных тогдашних помещичьих усаде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од густыми, старинными вязами Некрасов играл с деревенскими ребятишками, слушал рассказы прохожих ,,. . . про Киев, про турку, про чудных зверей", делал вместе с ребятами „грибные набеги", ходил купаться на Волгу. Много проникновенных строк посвятил он великой реке. Никогда не забывал поэт о том впечатлении, которое произвели на него бурлаки. В стихотворении „На Волге" он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4876920" y="1600200"/>
            <a:ext cx="4572000" cy="203724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лямку ты несешь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бурлаки"/>
          <p:cNvPicPr/>
          <p:nvPr/>
        </p:nvPicPr>
        <p:blipFill>
          <a:blip r:embed="rId5"/>
          <a:stretch/>
        </p:blipFill>
        <p:spPr>
          <a:xfrm>
            <a:off x="609480" y="45720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9"/>
          <p:cNvSpPr/>
          <p:nvPr/>
        </p:nvSpPr>
        <p:spPr>
          <a:xfrm>
            <a:off x="457200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, горько, горько я рыд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огда в то утро я сто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На берегу родной ре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в первый раз ее наз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Рекою рабства и тоски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лямку ты несеш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>
            <a:hlinkClick r:id="" action="ppaction://hlinkshowjump?jump=firstslide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6" descr="Картинка 9 из 112"/>
          <p:cNvPicPr/>
          <p:nvPr/>
        </p:nvPicPr>
        <p:blipFill>
          <a:blip r:embed="rId6"/>
          <a:stretch/>
        </p:blipFill>
        <p:spPr>
          <a:xfrm>
            <a:off x="1295280" y="685800"/>
            <a:ext cx="25909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12-06T09:51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10000000000010243100207f6000400038000</vt:lpwstr>
  </property>
  <property fmtid="{D5CDD505-2E9C-101B-9397-08002B2CF9AE}" pid="3" name="Version">
    <vt:r8>1</vt:r8>
  </property>
</Properties>
</file>