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AC9-4FF4-4CBD-9C1A-059354E0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8BD-5E09-471A-94A0-8FC276EC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59B-5E4D-4D74-896D-1642D3FB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0B0-304E-4595-BAD1-5D47F384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A01E-9BFE-482A-8A10-FCE0C0DB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B767-6DF5-44DF-B927-8C4AA69B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857C-F61B-4F49-862E-F29B5583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A139-008E-4349-9B11-2447611D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6B3E-A2ED-4BB1-A164-E2726263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5F2-E175-4958-8C83-4CFF2F53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962F-64BA-4D42-8E1C-4178668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50B-7C04-4D2B-B142-8C9D117F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5B4C-6FEF-494A-A5EC-125425E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FACE-E3A4-4C42-B3B2-FDBAD214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A7EE-116E-4116-85E6-70C2DA8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3F1E-6018-42B2-B70B-B4F0C579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FB3-9E99-4010-A637-79654609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9D2E-06C0-4BBA-9756-FD820892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381B-74E2-4BE5-9956-40E08F85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4BC5-C5C3-4121-A446-B00D8678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84FF-73E6-4AF1-804C-EA91871F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2A91-89C3-49EC-9B09-87920004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F90-4377-4BED-A3B1-97BB1438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701A-9BE3-48CE-83FC-F7C4FC7A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04942-F4B1-434F-9761-E5132385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8788-7B5D-42CE-809D-16EF211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5D0D-B98D-4BC7-AF12-0A54E1E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3C8B-2D46-4053-BEE9-DDD8434C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FF05-6127-4069-BB25-0BBEFE63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E9A7-E14F-4C61-A825-F870EC98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EC4F-4DC5-4459-B337-AC843BEF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F2AEE-6AB5-4F10-BE7F-BDB7C58D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BBC8-DFDF-43D9-BCC3-35B59DD3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CA7-5FF8-4D0B-8DB6-736CA2A5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B273-F046-4776-A35B-886F6881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8735-2178-442A-A128-E3C62765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3A44-F087-4165-9302-D6071605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5921-6B2C-40A1-B852-F4F813C3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8C94-AF27-4C99-86E5-52E14CCA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08F7-AC0D-478F-A68D-5FBED7D3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86FE-0369-43A4-A613-77EA69AB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7835-C7CB-42B4-8321-E563F684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F984-B9D8-42D1-B785-07905DE4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028FD-6F3A-46E0-B66D-D80E4D5D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A7B-B8E2-4CB2-A194-F34C3E30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6AA7-01D4-4EF3-B829-214E520F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63E4F-65EC-4CEA-A0E8-7771D883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07DEC-9853-4411-AEC7-5E57E4D0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1D5A9-C60A-4848-9F12-17D1C7FC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5B229-5A47-405C-B607-F2B81EAB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2B6D3-6478-4C3F-91DB-29B84CFC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5F1D-1C19-494C-8395-53371C5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F265B-FB2F-4369-A267-E4D1C5CA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9F07-2225-463B-A55D-2F577122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32C5A-B149-47B8-9D65-2FB7B175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817-960B-4825-B3AF-96D82209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EFFEE-9B08-497A-812A-DE5DF7DF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E04C-6F2A-4154-AD1D-0D4D4D93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6628-F637-4CF0-959F-B5953F3E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E034-7AEC-46D8-B234-D8217BF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4CD76-F1C9-4C98-A320-C8242254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DE6D1-6E3A-419F-9C96-5D553DC4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5A0CD-5494-449B-BAA0-D4601A77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9A74F-C9F1-4D40-BFB7-7ACD440B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7CCE0-BBA5-439C-94CA-EE308816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CDA2C-A41F-4DCF-B6D1-136B706A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510-6E5C-490E-BDCC-170A6829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C7240-555D-4D2C-8FFE-4426E2F5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3F478-B3E7-48DD-8498-538B548D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6CB0-3C05-4026-ACC8-BEE03A4E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CDA-60CE-4085-9F69-02CF3FC2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033-1703-4B65-A3A3-A7AFBA46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8EAF-6E4A-4A4D-B972-9D04BBBC5AC4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695D-9032-4A17-91DC-6F5F2DB1B9C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6F5-845D-4594-8975-013F339913C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DDB-88FA-420B-8808-D4F0BD814978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F96E-8DBA-44A5-90EE-F6D55836AFB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2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D2FC-DF6F-4B6A-A22F-78D56CC0A894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63640" y="2943360"/>
            <a:ext cx="513072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олезные и вредные привычки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575080" y="1375920"/>
            <a:ext cx="248256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ассный ча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Picture 4" descr="спорт4"/>
          <p:cNvPicPr/>
          <p:nvPr/>
        </p:nvPicPr>
        <p:blipFill>
          <a:blip r:embed="rId1"/>
          <a:stretch/>
        </p:blipFill>
        <p:spPr>
          <a:xfrm>
            <a:off x="1577880" y="1117440"/>
            <a:ext cx="1524240" cy="2030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никотин убивает"/>
          <p:cNvPicPr/>
          <p:nvPr/>
        </p:nvPicPr>
        <p:blipFill>
          <a:blip r:embed="rId2"/>
          <a:stretch/>
        </p:blipFill>
        <p:spPr>
          <a:xfrm>
            <a:off x="5408640" y="4024440"/>
            <a:ext cx="2592360" cy="2355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фрукты и овощи"/>
          <p:cNvPicPr/>
          <p:nvPr/>
        </p:nvPicPr>
        <p:blipFill>
          <a:blip r:embed="rId3"/>
          <a:stretch/>
        </p:blipFill>
        <p:spPr>
          <a:xfrm>
            <a:off x="5292720" y="733320"/>
            <a:ext cx="3092400" cy="2043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Zubik"/>
          <p:cNvPicPr/>
          <p:nvPr/>
        </p:nvPicPr>
        <p:blipFill>
          <a:blip r:embed="rId4"/>
          <a:stretch/>
        </p:blipFill>
        <p:spPr>
          <a:xfrm>
            <a:off x="2584440" y="3699000"/>
            <a:ext cx="20923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97080" y="1753920"/>
            <a:ext cx="400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500" spc="-1" strike="noStrike">
                <a:solidFill>
                  <a:srgbClr val="009900"/>
                </a:solidFill>
                <a:latin typeface="Corbel"/>
              </a:rPr>
              <a:t>Режим дня</a:t>
            </a:r>
            <a:endParaRPr b="0" lang="en-US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565080" y="3914640"/>
            <a:ext cx="4435560" cy="19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будешь ты стремить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спорядок выполнять –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удешь лучше ты учитьс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учше будешь отдых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4" descr="режим4"/>
          <p:cNvPicPr/>
          <p:nvPr/>
        </p:nvPicPr>
        <p:blipFill>
          <a:blip r:embed="rId1"/>
          <a:stretch/>
        </p:blipFill>
        <p:spPr>
          <a:xfrm>
            <a:off x="1143000" y="857160"/>
            <a:ext cx="342108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режим дня"/>
          <p:cNvPicPr/>
          <p:nvPr/>
        </p:nvPicPr>
        <p:blipFill>
          <a:blip r:embed="rId1"/>
          <a:stretch/>
        </p:blipFill>
        <p:spPr>
          <a:xfrm>
            <a:off x="1143000" y="3321000"/>
            <a:ext cx="2046240" cy="267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режим часы"/>
          <p:cNvPicPr/>
          <p:nvPr/>
        </p:nvPicPr>
        <p:blipFill>
          <a:blip r:embed="rId2"/>
          <a:stretch/>
        </p:blipFill>
        <p:spPr>
          <a:xfrm>
            <a:off x="6084720" y="857160"/>
            <a:ext cx="1916280" cy="1978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режим3"/>
          <p:cNvPicPr/>
          <p:nvPr/>
        </p:nvPicPr>
        <p:blipFill>
          <a:blip r:embed="rId3"/>
          <a:stretch/>
        </p:blipFill>
        <p:spPr>
          <a:xfrm>
            <a:off x="6094440" y="3840120"/>
            <a:ext cx="1906560" cy="21607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2640" y="1701360"/>
            <a:ext cx="6172200" cy="16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равильное выполнение режима,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5840" indent="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чередование физических нагрузок и отдыха необходимы. Они улучшают работо-способность, дисциплинируют человека, укрепляют его здоровье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900" spc="-1" strike="noStrike">
                <a:solidFill>
                  <a:srgbClr val="009900"/>
                </a:solidFill>
                <a:latin typeface="Corbel"/>
              </a:rPr>
              <a:t>Здоровое питание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се мы с вами сладкоежк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юбим торты и орешк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денцы и шоколад –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то всё едим подря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 позвольте возразит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елать так -  себе вред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4" descr="торты и пирожные"/>
          <p:cNvPicPr/>
          <p:nvPr/>
        </p:nvPicPr>
        <p:blipFill>
          <a:blip r:embed="rId1"/>
          <a:stretch/>
        </p:blipFill>
        <p:spPr>
          <a:xfrm>
            <a:off x="5437080" y="2727360"/>
            <a:ext cx="2605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молоко1"/>
          <p:cNvPicPr/>
          <p:nvPr/>
        </p:nvPicPr>
        <p:blipFill>
          <a:blip r:embed="rId1"/>
          <a:stretch/>
        </p:blipFill>
        <p:spPr>
          <a:xfrm>
            <a:off x="1143000" y="857160"/>
            <a:ext cx="5238720" cy="4329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молоко"/>
          <p:cNvPicPr/>
          <p:nvPr/>
        </p:nvPicPr>
        <p:blipFill>
          <a:blip r:embed="rId2"/>
          <a:stretch/>
        </p:blipFill>
        <p:spPr>
          <a:xfrm>
            <a:off x="3573360" y="1627200"/>
            <a:ext cx="4427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вощи и фрукты – это лучшие продукт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5" descr="это лучшие продукты"/>
          <p:cNvPicPr/>
          <p:nvPr/>
        </p:nvPicPr>
        <p:blipFill>
          <a:blip r:embed="rId1"/>
          <a:stretch/>
        </p:blipFill>
        <p:spPr>
          <a:xfrm>
            <a:off x="1476360" y="2133720"/>
            <a:ext cx="637236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КОМПОНЕНТЫ ЗДОРОВЬ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41" name="Diagram 8"/>
          <p:cNvGrpSpPr/>
          <p:nvPr/>
        </p:nvGrpSpPr>
        <p:grpSpPr>
          <a:xfrm>
            <a:off x="2566080" y="2019960"/>
            <a:ext cx="3906360" cy="3904920"/>
            <a:chOff x="2566080" y="2019960"/>
            <a:chExt cx="3906360" cy="3904920"/>
          </a:xfrm>
        </p:grpSpPr>
        <p:sp>
          <p:nvSpPr>
            <p:cNvPr id="342" name="_s1028"/>
            <p:cNvSpPr/>
            <p:nvPr/>
          </p:nvSpPr>
          <p:spPr>
            <a:xfrm flipH="1" flipV="1">
              <a:off x="3825360" y="3279960"/>
              <a:ext cx="34632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29"/>
            <p:cNvSpPr/>
            <p:nvPr/>
          </p:nvSpPr>
          <p:spPr>
            <a:xfrm>
              <a:off x="2994840" y="2449800"/>
              <a:ext cx="975240" cy="97524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жим д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030"/>
            <p:cNvSpPr/>
            <p:nvPr/>
          </p:nvSpPr>
          <p:spPr>
            <a:xfrm flipH="1">
              <a:off x="3538080" y="3971880"/>
              <a:ext cx="4914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031"/>
            <p:cNvSpPr/>
            <p:nvPr/>
          </p:nvSpPr>
          <p:spPr>
            <a:xfrm>
              <a:off x="2566080" y="348516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032"/>
            <p:cNvSpPr/>
            <p:nvPr/>
          </p:nvSpPr>
          <p:spPr>
            <a:xfrm flipH="1">
              <a:off x="3825360" y="4317120"/>
              <a:ext cx="347760" cy="34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033"/>
            <p:cNvSpPr/>
            <p:nvPr/>
          </p:nvSpPr>
          <p:spPr>
            <a:xfrm>
              <a:off x="2994840" y="452052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одеж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034"/>
            <p:cNvSpPr/>
            <p:nvPr/>
          </p:nvSpPr>
          <p:spPr>
            <a:xfrm>
              <a:off x="4517280" y="4458600"/>
              <a:ext cx="108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035"/>
            <p:cNvSpPr/>
            <p:nvPr/>
          </p:nvSpPr>
          <p:spPr>
            <a:xfrm>
              <a:off x="4030200" y="495000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ите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мо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036"/>
            <p:cNvSpPr/>
            <p:nvPr/>
          </p:nvSpPr>
          <p:spPr>
            <a:xfrm>
              <a:off x="4862160" y="4315680"/>
              <a:ext cx="34632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037"/>
            <p:cNvSpPr/>
            <p:nvPr/>
          </p:nvSpPr>
          <p:spPr>
            <a:xfrm>
              <a:off x="5067360" y="452160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каз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 вред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ивыче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038"/>
            <p:cNvSpPr/>
            <p:nvPr/>
          </p:nvSpPr>
          <p:spPr>
            <a:xfrm>
              <a:off x="5004360" y="3971880"/>
              <a:ext cx="49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039"/>
            <p:cNvSpPr/>
            <p:nvPr/>
          </p:nvSpPr>
          <p:spPr>
            <a:xfrm>
              <a:off x="5497200" y="348516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циональ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ит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040"/>
            <p:cNvSpPr/>
            <p:nvPr/>
          </p:nvSpPr>
          <p:spPr>
            <a:xfrm flipV="1">
              <a:off x="4861080" y="3279960"/>
              <a:ext cx="34776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041"/>
            <p:cNvSpPr/>
            <p:nvPr/>
          </p:nvSpPr>
          <p:spPr>
            <a:xfrm>
              <a:off x="5067360" y="244836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каливание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здоров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42"/>
            <p:cNvSpPr/>
            <p:nvPr/>
          </p:nvSpPr>
          <p:spPr>
            <a:xfrm flipV="1">
              <a:off x="4517280" y="2993760"/>
              <a:ext cx="0" cy="49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043"/>
            <p:cNvSpPr/>
            <p:nvPr/>
          </p:nvSpPr>
          <p:spPr>
            <a:xfrm>
              <a:off x="4030200" y="201996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Чистота тела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жилищ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дукт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044"/>
            <p:cNvSpPr/>
            <p:nvPr/>
          </p:nvSpPr>
          <p:spPr>
            <a:xfrm>
              <a:off x="4030200" y="348660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ДОРОВ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82800" y="6858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009900"/>
                </a:solidFill>
                <a:latin typeface="Corbel"/>
              </a:rPr>
              <a:t>Здоровье береги как ценный клад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78000" y="2057400"/>
            <a:ext cx="3402000" cy="33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УЖНО: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очаще есть рыбу, овощи, фрукт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ить воду, молоко, соки, ча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Заниматься спортом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ак можно больше ходит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Дышать свежим воздухом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пать достаточно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оявлять доброжелательност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аще улыбаться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Любить жизн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29240" y="2057400"/>
            <a:ext cx="3371760" cy="33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ЕЛЬЗЯ: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Переедать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Много есть жирной, сладкой и солёной пищи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Употреблять алкоголь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Смотреть часами телевизор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Играть на компьютере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Сидеть дома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Курить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Поздно ложиться и вставать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Быть раздражительным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Терять чувство юмора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Унывать, сердиться, обижаться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Я здоровье берегу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ам себе я помогу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9" descr="я здоровье берегу"/>
          <p:cNvPicPr/>
          <p:nvPr/>
        </p:nvPicPr>
        <p:blipFill>
          <a:blip r:embed="rId1"/>
          <a:srcRect l="0" t="0" r="0" b="-9354"/>
          <a:stretch/>
        </p:blipFill>
        <p:spPr>
          <a:xfrm>
            <a:off x="1655640" y="1949400"/>
            <a:ext cx="56167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744480" y="488880"/>
            <a:ext cx="82915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704988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1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72360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1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729144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1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7053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1258920" y="1314360"/>
            <a:ext cx="7548480" cy="471672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255600"/>
            <a:ext cx="74376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7360" y="380520"/>
            <a:ext cx="8756640" cy="226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marL="239760" indent="-239760">
              <a:spcBef>
                <a:spcPts val="15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Жизнь прекрасна!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39760"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Не потрать ее напрасно!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4" descr="kostro2b"/>
          <p:cNvPicPr/>
          <p:nvPr/>
        </p:nvPicPr>
        <p:blipFill>
          <a:blip r:embed="rId1"/>
          <a:stretch/>
        </p:blipFill>
        <p:spPr>
          <a:xfrm>
            <a:off x="1447920" y="2438280"/>
            <a:ext cx="6400800" cy="424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155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1155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1155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1155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155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1155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1155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1155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1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64738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63280" y="2781000"/>
            <a:ext cx="58294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ривычка – </a:t>
            </a:r>
            <a:br>
              <a:rPr sz="3300"/>
            </a:br>
            <a:r>
              <a:rPr b="0" lang="ru-RU" sz="3300" spc="-1" strike="noStrike">
                <a:solidFill>
                  <a:srgbClr val="ff0066"/>
                </a:solidFill>
                <a:latin typeface="Corbel"/>
              </a:rPr>
              <a:t>Лень и неряшливость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3" name="Picture 5" descr="нехочуха"/>
          <p:cNvPicPr/>
          <p:nvPr/>
        </p:nvPicPr>
        <p:blipFill>
          <a:blip r:embed="rId1"/>
          <a:stretch/>
        </p:blipFill>
        <p:spPr>
          <a:xfrm>
            <a:off x="1332000" y="1052640"/>
            <a:ext cx="2147760" cy="16128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nehochuha2"/>
          <p:cNvPicPr/>
          <p:nvPr/>
        </p:nvPicPr>
        <p:blipFill>
          <a:blip r:embed="rId2"/>
          <a:stretch/>
        </p:blipFill>
        <p:spPr>
          <a:xfrm>
            <a:off x="5292720" y="857160"/>
            <a:ext cx="2708280" cy="203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02_nehochuha_nevsedoma"/>
          <p:cNvPicPr/>
          <p:nvPr/>
        </p:nvPicPr>
        <p:blipFill>
          <a:blip r:embed="rId3"/>
          <a:stretch/>
        </p:blipFill>
        <p:spPr>
          <a:xfrm>
            <a:off x="1494000" y="4022640"/>
            <a:ext cx="2323800" cy="178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nehochuha"/>
          <p:cNvPicPr/>
          <p:nvPr/>
        </p:nvPicPr>
        <p:blipFill>
          <a:blip r:embed="rId4"/>
          <a:stretch/>
        </p:blipFill>
        <p:spPr>
          <a:xfrm>
            <a:off x="5095800" y="3822840"/>
            <a:ext cx="29052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7880" y="380520"/>
            <a:ext cx="6867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993300"/>
                </a:solidFill>
                <a:latin typeface="Corbel"/>
              </a:rPr>
              <a:t>НЕРЯХА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4" descr="1151760644_828834315"/>
          <p:cNvPicPr/>
          <p:nvPr/>
        </p:nvPicPr>
        <p:blipFill>
          <a:blip r:embed="rId1"/>
          <a:stretch/>
        </p:blipFill>
        <p:spPr>
          <a:xfrm>
            <a:off x="2286000" y="1981080"/>
            <a:ext cx="5105520" cy="4686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0_8c17_3ce6e5eb_L"/>
          <p:cNvPicPr/>
          <p:nvPr/>
        </p:nvPicPr>
        <p:blipFill>
          <a:blip r:embed="rId1"/>
          <a:stretch/>
        </p:blipFill>
        <p:spPr>
          <a:xfrm>
            <a:off x="304920" y="304920"/>
            <a:ext cx="3695760" cy="4927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0000039960-preview"/>
          <p:cNvPicPr/>
          <p:nvPr/>
        </p:nvPicPr>
        <p:blipFill>
          <a:blip r:embed="rId2"/>
          <a:srcRect l="0" t="0" r="0" b="11799"/>
          <a:stretch/>
        </p:blipFill>
        <p:spPr>
          <a:xfrm>
            <a:off x="4114800" y="304920"/>
            <a:ext cx="4724280" cy="3112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2571-l1"/>
          <p:cNvPicPr/>
          <p:nvPr/>
        </p:nvPicPr>
        <p:blipFill>
          <a:blip r:embed="rId3"/>
          <a:srcRect l="0" t="15041" r="0" b="16524"/>
          <a:stretch/>
        </p:blipFill>
        <p:spPr>
          <a:xfrm>
            <a:off x="2895480" y="3505320"/>
            <a:ext cx="2759040" cy="3200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2"/>
          <p:cNvPicPr/>
          <p:nvPr/>
        </p:nvPicPr>
        <p:blipFill>
          <a:blip r:embed="rId4"/>
          <a:stretch/>
        </p:blipFill>
        <p:spPr>
          <a:xfrm>
            <a:off x="5943600" y="327672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304920"/>
            <a:ext cx="8375760" cy="57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59920"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rbel"/>
              </a:rPr>
              <a:t>  </a:t>
            </a:r>
            <a:r>
              <a:rPr b="1" lang="ru-RU" sz="6000" spc="-1" strike="noStrike">
                <a:solidFill>
                  <a:srgbClr val="ff0066"/>
                </a:solidFill>
                <a:latin typeface="Corbel"/>
              </a:rPr>
              <a:t>Это полезно помнить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9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orbel"/>
              </a:rPr>
              <a:t>1. Для ухода за носом существует носовой платок, его надо всегда носить с соб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9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orbel"/>
              </a:rPr>
              <a:t>2. Ногти необходимо один раз в неделю постригать ножницам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rbel"/>
              </a:rPr>
              <a:t>3. Остатки пищи между зубами удаляют зубочисткой</a:t>
            </a: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82800" y="6858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вычка - </a:t>
            </a:r>
            <a:r>
              <a:rPr b="0" lang="ru-RU" sz="4000" spc="-1" strike="noStrike">
                <a:solidFill>
                  <a:srgbClr val="ff0066"/>
                </a:solidFill>
                <a:latin typeface="Corbel"/>
              </a:rPr>
              <a:t>Курение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82440" y="2666880"/>
            <a:ext cx="3740040" cy="33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52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Никотин – один из самых опасных ядов растительного происхождения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6" descr="1226384980_neky"/>
          <p:cNvPicPr/>
          <p:nvPr/>
        </p:nvPicPr>
        <p:blipFill>
          <a:blip r:embed="rId1"/>
          <a:stretch/>
        </p:blipFill>
        <p:spPr>
          <a:xfrm>
            <a:off x="4410000" y="1808280"/>
            <a:ext cx="3029040" cy="2162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1227444458_woman-stop-smoke"/>
          <p:cNvPicPr/>
          <p:nvPr/>
        </p:nvPicPr>
        <p:blipFill>
          <a:blip r:embed="rId2"/>
          <a:stretch/>
        </p:blipFill>
        <p:spPr>
          <a:xfrm>
            <a:off x="1332000" y="3483000"/>
            <a:ext cx="3838320" cy="23032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9"/>
          <p:cNvSpPr/>
          <p:nvPr/>
        </p:nvSpPr>
        <p:spPr>
          <a:xfrm rot="985200">
            <a:off x="5154480" y="4376880"/>
            <a:ext cx="2670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думаете, что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и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знак не курить"/>
          <p:cNvPicPr/>
          <p:nvPr/>
        </p:nvPicPr>
        <p:blipFill>
          <a:blip r:embed="rId3"/>
          <a:stretch/>
        </p:blipFill>
        <p:spPr>
          <a:xfrm>
            <a:off x="1143000" y="857160"/>
            <a:ext cx="127008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1223122193_bulet"/>
          <p:cNvPicPr/>
          <p:nvPr/>
        </p:nvPicPr>
        <p:blipFill>
          <a:blip r:embed="rId1"/>
          <a:stretch/>
        </p:blipFill>
        <p:spPr>
          <a:xfrm rot="3855000">
            <a:off x="0" y="2630520"/>
            <a:ext cx="3294000" cy="25099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14720" y="1314360"/>
            <a:ext cx="42289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сигару поджигает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ь на годы сокраща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ружающим, себ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быть, тебе и мн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0:35:00Z</dcterms:created>
  <dc:creator>FuckYouBill</dc:creator>
  <dc:description/>
  <dc:language>en-US</dc:language>
  <cp:lastModifiedBy>Наталия Вл. Тимофеева</cp:lastModifiedBy>
  <dcterms:modified xsi:type="dcterms:W3CDTF">2021-12-08T08:14:35Z</dcterms:modified>
  <cp:revision>7</cp:revision>
  <dc:subject/>
  <dc:title>Полезные и вредные привычки</dc:title>
</cp:coreProperties>
</file>