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1F30-EC32-4788-86AE-78BF5B0A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143A-1699-4130-8CA8-67A2AD7E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8DF5-ACAA-424F-A070-5C4CBA54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A6BE-5ADF-4F16-B44A-2EFCD8609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A4F2-3A29-408A-9848-F6CD6A01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AA15-FF52-4CE9-887D-5FCE182B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0E08-1B28-4AC7-90F7-E97C8002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5170-0323-430E-B602-9214F007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0809-E5F2-4E96-A847-A4E423E3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E0F6-0C3D-4A17-84CD-F08C9DC1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E6B6-02F4-4659-B371-F3E7DCD9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D52B-6E30-476A-B283-B5F6A53C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8F91-F99B-4DBC-A5C2-7A8227CC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F866-9778-40C1-9320-FC25EE74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EEE7-AB02-4F18-9C2B-CE99D5BB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8B51-AE5E-4F4C-8F34-7588CAB8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D977-E649-4C0D-AB4D-65CB8FCD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101AA-3607-4343-B5D1-9D405F91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0FDB6-A167-4CFF-B911-BF10FFFF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0074F-5C6E-40A2-9F61-92EB6D59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A2959-60BA-4DEC-B339-D064D467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E2B4E-A3BD-411F-AA40-A228F079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7FC4-FF77-4B23-8A53-BFD2B058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41A6A-0D88-43D9-91A6-4CD37214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CA58C-044B-40BE-B971-FC9AF04E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B5068-4F85-4AD3-AA0D-0578B24E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8B301-9A85-4C38-8826-F36BFD9D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31D53-56CB-48F1-8509-FE013928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D1DF3-7102-477D-AA9E-563A2A199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373FA-6312-4570-B61B-4B4BF5DC7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142E2-C281-4B37-845A-905EFC29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AF17F-5CF5-4767-A224-27C8BAF0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F6709-0571-440B-B2BF-D394536C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8FEB-E5D4-4062-AC9D-54AFF027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F1E0E-833A-4DB0-BBC6-BCDF1B05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CF541-41E7-4670-B376-8B4E3375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8F34D-6296-4002-A03C-E37A883F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579F3-B7C1-4CCE-B003-EB5DC342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1C4A2-FD8D-461F-B06A-C662EFDE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182EC-470F-40F0-ACAE-EC966F7B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7E974-E492-466F-85ED-CC8D8F9E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CA174-D022-4599-BB5D-17F2791AE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0C2FD-C786-4782-A892-14ABB8612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1B5A7-62CD-431D-B8C5-E75671A1A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3D41-5518-46D5-B350-3D5B2BAC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2BF9E-6E30-4DA2-B1AF-804B78D5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87D59-2B2F-4FA6-8DEA-BE71A060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268E4-2E68-47F5-9ACA-15D8B4B6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91B2F-4210-4698-86A4-3ED19208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F2899-20BA-40B7-A09B-980781E7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ECC26-37B0-47DA-926A-1B623968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44024-26FA-42D0-B0D9-C2F89203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5D1E0-C1DA-47BA-8AB8-3ADCBC1B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25097-79AA-4DEB-91A7-6A630040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56E2E-EF21-4F7E-AC87-923FFABDA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2B35-84B6-4D44-9C26-F3303030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01B02-862D-46CF-95B6-AA9EF9EBF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03255-DC3D-497E-888F-B56A27BE1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49FAA-5300-4E59-9D95-47CF4A65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66A38-BE2F-47F6-9566-4DE674B7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AF45B-2440-4D39-AE8A-30A5C572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FBA82-518E-416D-8BB5-3DE0D15D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46B5E-BEAC-4EF1-9C0C-A77EF564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FF2A2-1145-447A-A080-69B4F547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41CF2-41E3-42BD-9C6D-FC782FF1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D9DCB-BC83-4636-B8EA-2B514CE8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6B4F-0B0E-488D-BAC3-A29F8FD6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3F703-1E6C-4C9A-BC27-4BF7A93D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8478D-A60A-4C15-9B1B-4D02392C0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D6693-4DB3-4F43-A865-7D6E9845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09BE-4F53-455B-9D93-28B5CCC6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4BD1-274D-4FA5-972E-C29DA36D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B567-E73F-4128-9061-CACB03284C49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4"/>
          <p:cNvGrpSpPr/>
          <p:nvPr/>
        </p:nvGrpSpPr>
        <p:grpSpPr>
          <a:xfrm>
            <a:off x="203040" y="0"/>
            <a:ext cx="3778560" cy="6858000"/>
            <a:chOff x="203040" y="0"/>
            <a:chExt cx="3778560" cy="6858000"/>
          </a:xfrm>
        </p:grpSpPr>
        <p:sp>
          <p:nvSpPr>
            <p:cNvPr id="49" name="Freeform 6"/>
            <p:cNvSpPr/>
            <p:nvPr/>
          </p:nvSpPr>
          <p:spPr>
            <a:xfrm>
              <a:off x="641160" y="0"/>
              <a:ext cx="1365480" cy="3971880"/>
            </a:xfrm>
            <a:custGeom>
              <a:avLst/>
              <a:gdLst/>
              <a:ahLst/>
              <a:rect l="l" t="t" r="r" b="b"/>
              <a:pathLst>
                <a:path w="860" h="2502">
                  <a:moveTo>
                    <a:pt x="0" y="2445"/>
                  </a:moveTo>
                  <a:lnTo>
                    <a:pt x="228" y="2502"/>
                  </a:lnTo>
                  <a:lnTo>
                    <a:pt x="860" y="0"/>
                  </a:lnTo>
                  <a:lnTo>
                    <a:pt x="620" y="0"/>
                  </a:lnTo>
                  <a:lnTo>
                    <a:pt x="0" y="2445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203040" y="0"/>
              <a:ext cx="1336680" cy="3862440"/>
            </a:xfrm>
            <a:custGeom>
              <a:avLst/>
              <a:gdLst/>
              <a:ahLst/>
              <a:rect l="l" t="t" r="r" b="b"/>
              <a:pathLst>
                <a:path w="842" h="2433">
                  <a:moveTo>
                    <a:pt x="842" y="0"/>
                  </a:moveTo>
                  <a:lnTo>
                    <a:pt x="602" y="0"/>
                  </a:lnTo>
                  <a:lnTo>
                    <a:pt x="0" y="2376"/>
                  </a:lnTo>
                  <a:lnTo>
                    <a:pt x="228" y="2433"/>
                  </a:lnTo>
                  <a:lnTo>
                    <a:pt x="842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207720" y="3776760"/>
              <a:ext cx="1936800" cy="3081240"/>
            </a:xfrm>
            <a:custGeom>
              <a:avLst/>
              <a:gdLst/>
              <a:ahLst/>
              <a:rect l="l" t="t" r="r" b="b"/>
              <a:pathLst>
                <a:path w="1220" h="1941">
                  <a:moveTo>
                    <a:pt x="0" y="0"/>
                  </a:moveTo>
                  <a:lnTo>
                    <a:pt x="1166" y="1941"/>
                  </a:lnTo>
                  <a:lnTo>
                    <a:pt x="1220" y="19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645840" y="3886200"/>
              <a:ext cx="2373480" cy="2971800"/>
            </a:xfrm>
            <a:custGeom>
              <a:avLst/>
              <a:gdLst/>
              <a:ahLst/>
              <a:rect l="l" t="t" r="r" b="b"/>
              <a:pathLst>
                <a:path w="1495" h="1872">
                  <a:moveTo>
                    <a:pt x="1495" y="1872"/>
                  </a:moveTo>
                  <a:lnTo>
                    <a:pt x="0" y="0"/>
                  </a:lnTo>
                  <a:lnTo>
                    <a:pt x="1442" y="1872"/>
                  </a:lnTo>
                  <a:lnTo>
                    <a:pt x="1495" y="1872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641160" y="3881520"/>
              <a:ext cx="3340440" cy="2976480"/>
            </a:xfrm>
            <a:custGeom>
              <a:avLst/>
              <a:gdLst/>
              <a:ahLst/>
              <a:rect l="l" t="t" r="r" b="b"/>
              <a:pathLst>
                <a:path w="2104" h="1875">
                  <a:moveTo>
                    <a:pt x="0" y="0"/>
                  </a:moveTo>
                  <a:lnTo>
                    <a:pt x="3" y="3"/>
                  </a:lnTo>
                  <a:lnTo>
                    <a:pt x="1498" y="1875"/>
                  </a:lnTo>
                  <a:lnTo>
                    <a:pt x="2104" y="1875"/>
                  </a:lnTo>
                  <a:lnTo>
                    <a:pt x="228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>
              <a:off x="203040" y="3772080"/>
              <a:ext cx="2661120" cy="3085920"/>
            </a:xfrm>
            <a:custGeom>
              <a:avLst/>
              <a:gdLst/>
              <a:ahLst/>
              <a:rect l="l" t="t" r="r" b="b"/>
              <a:pathLst>
                <a:path w="1676" h="1944">
                  <a:moveTo>
                    <a:pt x="1676" y="1944"/>
                  </a:moveTo>
                  <a:lnTo>
                    <a:pt x="264" y="111"/>
                  </a:lnTo>
                  <a:lnTo>
                    <a:pt x="225" y="60"/>
                  </a:lnTo>
                  <a:lnTo>
                    <a:pt x="228" y="60"/>
                  </a:lnTo>
                  <a:lnTo>
                    <a:pt x="264" y="111"/>
                  </a:lnTo>
                  <a:lnTo>
                    <a:pt x="234" y="69"/>
                  </a:lnTo>
                  <a:lnTo>
                    <a:pt x="228" y="57"/>
                  </a:lnTo>
                  <a:lnTo>
                    <a:pt x="222" y="54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23" y="1944"/>
                  </a:lnTo>
                  <a:lnTo>
                    <a:pt x="1676" y="194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Freeform 12"/>
          <p:cNvSpPr/>
          <p:nvPr/>
        </p:nvSpPr>
        <p:spPr>
          <a:xfrm>
            <a:off x="203040" y="3772080"/>
            <a:ext cx="362160" cy="90360"/>
          </a:xfrm>
          <a:custGeom>
            <a:avLst/>
            <a:gdLst/>
            <a:ahLst/>
            <a:rect l="l" t="t" r="r" b="b"/>
            <a:pathLst>
              <a:path w="228" h="57">
                <a:moveTo>
                  <a:pt x="228" y="57"/>
                </a:moveTo>
                <a:lnTo>
                  <a:pt x="0" y="0"/>
                </a:lnTo>
                <a:lnTo>
                  <a:pt x="222" y="54"/>
                </a:lnTo>
                <a:lnTo>
                  <a:pt x="228" y="57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3"/>
          <p:cNvSpPr/>
          <p:nvPr/>
        </p:nvSpPr>
        <p:spPr>
          <a:xfrm>
            <a:off x="560520" y="3867120"/>
            <a:ext cx="61920" cy="81000"/>
          </a:xfrm>
          <a:custGeom>
            <a:avLst/>
            <a:gdLst/>
            <a:ahLst/>
            <a:rect l="l" t="t" r="r" b="b"/>
            <a:pathLst>
              <a:path w="39" h="51">
                <a:moveTo>
                  <a:pt x="0" y="0"/>
                </a:moveTo>
                <a:lnTo>
                  <a:pt x="39" y="51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7326000" y="6116760"/>
            <a:ext cx="85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24120" y="6116760"/>
            <a:ext cx="360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275680" y="6116760"/>
            <a:ext cx="41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A3E8-747F-4068-B632-959A27FDB27D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99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7343640" y="6108840"/>
            <a:ext cx="857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1973160" y="6108840"/>
            <a:ext cx="531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25768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9E6E-4806-4E57-B79A-31CB6A3E7339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4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Box 13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F8D7-9D62-4CEB-8A9C-448AAA4CBA33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9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Box 13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4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07CF-8894-4EE7-9DAD-F1BA6A609F02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24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7AB5-6503-4549-8FB2-FFE65200032E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63640" y="2943360"/>
            <a:ext cx="5130720" cy="110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3300" spc="-1" strike="noStrike">
                <a:solidFill>
                  <a:srgbClr val="000000"/>
                </a:solidFill>
                <a:latin typeface="Corbel"/>
              </a:rPr>
              <a:t>Полезные и вредные привычки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2575080" y="1375920"/>
            <a:ext cx="248256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лассный час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6" name="Picture 4" descr="спорт4"/>
          <p:cNvPicPr/>
          <p:nvPr/>
        </p:nvPicPr>
        <p:blipFill>
          <a:blip r:embed="rId1"/>
          <a:stretch/>
        </p:blipFill>
        <p:spPr>
          <a:xfrm>
            <a:off x="1577880" y="1117440"/>
            <a:ext cx="1524240" cy="20304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" descr="никотин убивает"/>
          <p:cNvPicPr/>
          <p:nvPr/>
        </p:nvPicPr>
        <p:blipFill>
          <a:blip r:embed="rId2"/>
          <a:stretch/>
        </p:blipFill>
        <p:spPr>
          <a:xfrm>
            <a:off x="5408640" y="4024440"/>
            <a:ext cx="2592360" cy="23558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фрукты и овощи"/>
          <p:cNvPicPr/>
          <p:nvPr/>
        </p:nvPicPr>
        <p:blipFill>
          <a:blip r:embed="rId3"/>
          <a:stretch/>
        </p:blipFill>
        <p:spPr>
          <a:xfrm>
            <a:off x="5292720" y="733320"/>
            <a:ext cx="3092400" cy="20433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Zubik"/>
          <p:cNvPicPr/>
          <p:nvPr/>
        </p:nvPicPr>
        <p:blipFill>
          <a:blip r:embed="rId4"/>
          <a:stretch/>
        </p:blipFill>
        <p:spPr>
          <a:xfrm>
            <a:off x="2584440" y="3699000"/>
            <a:ext cx="209232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997080" y="1753920"/>
            <a:ext cx="40035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500" spc="-1" strike="noStrike">
                <a:solidFill>
                  <a:srgbClr val="009900"/>
                </a:solidFill>
                <a:latin typeface="Corbel"/>
              </a:rPr>
              <a:t>Режим дня</a:t>
            </a:r>
            <a:endParaRPr b="0" lang="en-US" sz="4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565080" y="3914640"/>
            <a:ext cx="4435560" cy="19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Если будешь ты стремитьс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аспорядок выполнять –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удешь лучше ты учиться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Лучше будешь отдыха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8" name="Picture 4" descr="режим4"/>
          <p:cNvPicPr/>
          <p:nvPr/>
        </p:nvPicPr>
        <p:blipFill>
          <a:blip r:embed="rId1"/>
          <a:stretch/>
        </p:blipFill>
        <p:spPr>
          <a:xfrm>
            <a:off x="1143000" y="857160"/>
            <a:ext cx="342108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4" descr="режим дня"/>
          <p:cNvPicPr/>
          <p:nvPr/>
        </p:nvPicPr>
        <p:blipFill>
          <a:blip r:embed="rId1"/>
          <a:stretch/>
        </p:blipFill>
        <p:spPr>
          <a:xfrm>
            <a:off x="1143000" y="3321000"/>
            <a:ext cx="2046240" cy="26798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режим часы"/>
          <p:cNvPicPr/>
          <p:nvPr/>
        </p:nvPicPr>
        <p:blipFill>
          <a:blip r:embed="rId2"/>
          <a:stretch/>
        </p:blipFill>
        <p:spPr>
          <a:xfrm>
            <a:off x="6084720" y="857160"/>
            <a:ext cx="1916280" cy="19782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режим3"/>
          <p:cNvPicPr/>
          <p:nvPr/>
        </p:nvPicPr>
        <p:blipFill>
          <a:blip r:embed="rId3"/>
          <a:stretch/>
        </p:blipFill>
        <p:spPr>
          <a:xfrm>
            <a:off x="6094440" y="3840120"/>
            <a:ext cx="1906560" cy="216072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142640" y="1701360"/>
            <a:ext cx="6172200" cy="16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Правильное выполнение режима,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285840" indent="0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чередование физических нагрузок и отдыха необходимы. Они улучшают работо-способность, дисциплинируют человека, укрепляют его здоровье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8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900" spc="-1" strike="noStrike">
                <a:solidFill>
                  <a:srgbClr val="009900"/>
                </a:solidFill>
                <a:latin typeface="Corbel"/>
              </a:rPr>
              <a:t>Здоровое питание</a:t>
            </a:r>
            <a:endParaRPr b="0" lang="en-US" sz="4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се мы с вами сладкоежки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Любим торты и орешки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Леденцы и шоколад –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Это всё едим подряд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о позвольте возразить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елать так -  себе вреди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Picture 4" descr="торты и пирожные"/>
          <p:cNvPicPr/>
          <p:nvPr/>
        </p:nvPicPr>
        <p:blipFill>
          <a:blip r:embed="rId1"/>
          <a:stretch/>
        </p:blipFill>
        <p:spPr>
          <a:xfrm>
            <a:off x="5437080" y="2727360"/>
            <a:ext cx="260532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8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молоко1"/>
          <p:cNvPicPr/>
          <p:nvPr/>
        </p:nvPicPr>
        <p:blipFill>
          <a:blip r:embed="rId1"/>
          <a:stretch/>
        </p:blipFill>
        <p:spPr>
          <a:xfrm>
            <a:off x="1143000" y="857160"/>
            <a:ext cx="5238720" cy="43293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молоко"/>
          <p:cNvPicPr/>
          <p:nvPr/>
        </p:nvPicPr>
        <p:blipFill>
          <a:blip r:embed="rId2"/>
          <a:stretch/>
        </p:blipFill>
        <p:spPr>
          <a:xfrm>
            <a:off x="3573360" y="1627200"/>
            <a:ext cx="442764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Овощи и фрукты – это лучшие продукты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5" descr="это лучшие продукты"/>
          <p:cNvPicPr/>
          <p:nvPr/>
        </p:nvPicPr>
        <p:blipFill>
          <a:blip r:embed="rId1"/>
          <a:stretch/>
        </p:blipFill>
        <p:spPr>
          <a:xfrm>
            <a:off x="1476360" y="2133720"/>
            <a:ext cx="637236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КОМПОНЕНТЫ ЗДОРОВЬЯ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41" name="Diagram 8"/>
          <p:cNvGrpSpPr/>
          <p:nvPr/>
        </p:nvGrpSpPr>
        <p:grpSpPr>
          <a:xfrm>
            <a:off x="2566080" y="2019960"/>
            <a:ext cx="3906360" cy="3904920"/>
            <a:chOff x="2566080" y="2019960"/>
            <a:chExt cx="3906360" cy="3904920"/>
          </a:xfrm>
        </p:grpSpPr>
        <p:sp>
          <p:nvSpPr>
            <p:cNvPr id="342" name="_s1028"/>
            <p:cNvSpPr/>
            <p:nvPr/>
          </p:nvSpPr>
          <p:spPr>
            <a:xfrm flipH="1" flipV="1">
              <a:off x="3825360" y="3279960"/>
              <a:ext cx="346320" cy="34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029"/>
            <p:cNvSpPr/>
            <p:nvPr/>
          </p:nvSpPr>
          <p:spPr>
            <a:xfrm>
              <a:off x="2994840" y="2449800"/>
              <a:ext cx="975240" cy="975240"/>
            </a:xfrm>
            <a:prstGeom prst="ellipse">
              <a:avLst/>
            </a:prstGeom>
            <a:solidFill>
              <a:srgbClr val="30ac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ежим дн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030"/>
            <p:cNvSpPr/>
            <p:nvPr/>
          </p:nvSpPr>
          <p:spPr>
            <a:xfrm flipH="1">
              <a:off x="3538080" y="3971880"/>
              <a:ext cx="4914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031"/>
            <p:cNvSpPr/>
            <p:nvPr/>
          </p:nvSpPr>
          <p:spPr>
            <a:xfrm>
              <a:off x="2566080" y="3485160"/>
              <a:ext cx="975240" cy="974880"/>
            </a:xfrm>
            <a:prstGeom prst="ellipse">
              <a:avLst/>
            </a:prstGeom>
            <a:solidFill>
              <a:srgbClr val="30ac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Движен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032"/>
            <p:cNvSpPr/>
            <p:nvPr/>
          </p:nvSpPr>
          <p:spPr>
            <a:xfrm flipH="1">
              <a:off x="3825360" y="4317120"/>
              <a:ext cx="347760" cy="34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033"/>
            <p:cNvSpPr/>
            <p:nvPr/>
          </p:nvSpPr>
          <p:spPr>
            <a:xfrm>
              <a:off x="2994840" y="4520520"/>
              <a:ext cx="975240" cy="974880"/>
            </a:xfrm>
            <a:prstGeom prst="ellipse">
              <a:avLst/>
            </a:prstGeom>
            <a:solidFill>
              <a:srgbClr val="30ac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ыбор одеж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034"/>
            <p:cNvSpPr/>
            <p:nvPr/>
          </p:nvSpPr>
          <p:spPr>
            <a:xfrm>
              <a:off x="4517280" y="4458600"/>
              <a:ext cx="1080" cy="49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035"/>
            <p:cNvSpPr/>
            <p:nvPr/>
          </p:nvSpPr>
          <p:spPr>
            <a:xfrm>
              <a:off x="4030200" y="4950000"/>
              <a:ext cx="975240" cy="974880"/>
            </a:xfrm>
            <a:prstGeom prst="ellipse">
              <a:avLst/>
            </a:prstGeom>
            <a:solidFill>
              <a:srgbClr val="30ac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ложите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эмо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036"/>
            <p:cNvSpPr/>
            <p:nvPr/>
          </p:nvSpPr>
          <p:spPr>
            <a:xfrm>
              <a:off x="4862160" y="4315680"/>
              <a:ext cx="346320" cy="34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037"/>
            <p:cNvSpPr/>
            <p:nvPr/>
          </p:nvSpPr>
          <p:spPr>
            <a:xfrm>
              <a:off x="5067360" y="4521600"/>
              <a:ext cx="975240" cy="974880"/>
            </a:xfrm>
            <a:prstGeom prst="ellipse">
              <a:avLst/>
            </a:prstGeom>
            <a:solidFill>
              <a:srgbClr val="30ac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тказ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т вредных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ивыче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038"/>
            <p:cNvSpPr/>
            <p:nvPr/>
          </p:nvSpPr>
          <p:spPr>
            <a:xfrm>
              <a:off x="5004360" y="3971880"/>
              <a:ext cx="491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039"/>
            <p:cNvSpPr/>
            <p:nvPr/>
          </p:nvSpPr>
          <p:spPr>
            <a:xfrm>
              <a:off x="5497200" y="3485160"/>
              <a:ext cx="975240" cy="974880"/>
            </a:xfrm>
            <a:prstGeom prst="ellipse">
              <a:avLst/>
            </a:prstGeom>
            <a:solidFill>
              <a:srgbClr val="30ac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ационально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ит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040"/>
            <p:cNvSpPr/>
            <p:nvPr/>
          </p:nvSpPr>
          <p:spPr>
            <a:xfrm flipV="1">
              <a:off x="4861080" y="3279960"/>
              <a:ext cx="347760" cy="34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041"/>
            <p:cNvSpPr/>
            <p:nvPr/>
          </p:nvSpPr>
          <p:spPr>
            <a:xfrm>
              <a:off x="5067360" y="2448360"/>
              <a:ext cx="975240" cy="974880"/>
            </a:xfrm>
            <a:prstGeom prst="ellipse">
              <a:avLst/>
            </a:prstGeom>
            <a:solidFill>
              <a:srgbClr val="30ac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Закаливание 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здоровл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042"/>
            <p:cNvSpPr/>
            <p:nvPr/>
          </p:nvSpPr>
          <p:spPr>
            <a:xfrm flipV="1">
              <a:off x="4517280" y="2993760"/>
              <a:ext cx="0" cy="49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043"/>
            <p:cNvSpPr/>
            <p:nvPr/>
          </p:nvSpPr>
          <p:spPr>
            <a:xfrm>
              <a:off x="4030200" y="2019960"/>
              <a:ext cx="975240" cy="974880"/>
            </a:xfrm>
            <a:prstGeom prst="ellipse">
              <a:avLst/>
            </a:prstGeom>
            <a:solidFill>
              <a:srgbClr val="30ac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Чистота тела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жилища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дуктов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ит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044"/>
            <p:cNvSpPr/>
            <p:nvPr/>
          </p:nvSpPr>
          <p:spPr>
            <a:xfrm>
              <a:off x="4030200" y="3486600"/>
              <a:ext cx="975240" cy="974880"/>
            </a:xfrm>
            <a:prstGeom prst="ellipse">
              <a:avLst/>
            </a:prstGeom>
            <a:solidFill>
              <a:srgbClr val="30ac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ДОРОВЬ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82800" y="68580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000" spc="-1" strike="noStrike">
                <a:solidFill>
                  <a:srgbClr val="009900"/>
                </a:solidFill>
                <a:latin typeface="Corbel"/>
              </a:rPr>
              <a:t>Здоровье береги как ценный клад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278000" y="2057400"/>
            <a:ext cx="3402000" cy="339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НУЖНО: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Почаще есть рыбу, овощи, фрукты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Пить воду, молоко, соки, чай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Заниматься спортом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Как можно больше ходить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Дышать свежим воздухом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Спать достаточно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Проявлять доброжелательность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Чаще улыбаться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Любить жизнь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29240" y="2057400"/>
            <a:ext cx="3371760" cy="339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НЕЛЬЗЯ: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27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Переедать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27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Много есть жирной, сладкой и солёной пищи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27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Употреблять алкоголь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27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Смотреть часами телевизор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27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Играть на компьютере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27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Сидеть дома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27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Курить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27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Поздно ложиться и вставать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27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Быть раздражительным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27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Терять чувство юмора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27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Унывать, сердиться, обижаться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27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Я здоровье берегу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Сам себе я помогу!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3" name="Picture 9" descr="я здоровье берегу"/>
          <p:cNvPicPr/>
          <p:nvPr/>
        </p:nvPicPr>
        <p:blipFill>
          <a:blip r:embed="rId1"/>
          <a:srcRect l="0" t="0" r="0" b="-9354"/>
          <a:stretch/>
        </p:blipFill>
        <p:spPr>
          <a:xfrm>
            <a:off x="1655640" y="1949400"/>
            <a:ext cx="561672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Рисунок 1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Рисунок 1" descr=""/>
          <p:cNvPicPr/>
          <p:nvPr/>
        </p:nvPicPr>
        <p:blipFill>
          <a:blip r:embed="rId1"/>
          <a:stretch/>
        </p:blipFill>
        <p:spPr>
          <a:xfrm>
            <a:off x="744480" y="488880"/>
            <a:ext cx="829152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Рисунок 1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704988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Рисунок 1" descr=""/>
          <p:cNvPicPr/>
          <p:nvPr/>
        </p:nvPicPr>
        <p:blipFill>
          <a:blip r:embed="rId1"/>
          <a:stretch/>
        </p:blipFill>
        <p:spPr>
          <a:xfrm>
            <a:off x="1403280" y="549360"/>
            <a:ext cx="723600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Рисунок 1" descr=""/>
          <p:cNvPicPr/>
          <p:nvPr/>
        </p:nvPicPr>
        <p:blipFill>
          <a:blip r:embed="rId1"/>
          <a:stretch/>
        </p:blipFill>
        <p:spPr>
          <a:xfrm>
            <a:off x="1403280" y="476280"/>
            <a:ext cx="70088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Рисунок 1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7291440" cy="59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Рисунок 1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670536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Рисунок 1" descr=""/>
          <p:cNvPicPr/>
          <p:nvPr/>
        </p:nvPicPr>
        <p:blipFill>
          <a:blip r:embed="rId1"/>
          <a:stretch/>
        </p:blipFill>
        <p:spPr>
          <a:xfrm>
            <a:off x="1258920" y="1314360"/>
            <a:ext cx="7548480" cy="471672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оугольник 2" descr=""/>
          <p:cNvPicPr/>
          <p:nvPr/>
        </p:nvPicPr>
        <p:blipFill>
          <a:blip r:embed="rId2"/>
          <a:stretch/>
        </p:blipFill>
        <p:spPr>
          <a:xfrm>
            <a:off x="1395360" y="255600"/>
            <a:ext cx="743760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87360" y="380520"/>
            <a:ext cx="8756640" cy="226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4000"/>
          </a:bodyPr>
          <a:p>
            <a:pPr marL="239760" indent="-239760">
              <a:spcBef>
                <a:spcPts val="15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ru-RU" sz="6000" spc="-1" strike="noStrike">
                <a:solidFill>
                  <a:srgbClr val="ff0000"/>
                </a:solidFill>
                <a:latin typeface="Corbel"/>
              </a:rPr>
              <a:t>Жизнь прекрасна! 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39760" indent="0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rbel"/>
              </a:rPr>
              <a:t>Не потрать ее напрасно!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4" name="Picture 4" descr="kostro2b"/>
          <p:cNvPicPr/>
          <p:nvPr/>
        </p:nvPicPr>
        <p:blipFill>
          <a:blip r:embed="rId1"/>
          <a:stretch/>
        </p:blipFill>
        <p:spPr>
          <a:xfrm>
            <a:off x="1447920" y="2438280"/>
            <a:ext cx="6400800" cy="4241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155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1155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9" dur="1155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1" dur="1155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155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6" dur="1155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8" dur="1155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0" dur="1155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77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770" fill="hold"/>
                                        <p:tgtEl>
                                          <p:spTgt spid="3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9" dur="77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1" dur="77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Рисунок 1" descr=""/>
          <p:cNvPicPr/>
          <p:nvPr/>
        </p:nvPicPr>
        <p:blipFill>
          <a:blip r:embed="rId1"/>
          <a:stretch/>
        </p:blipFill>
        <p:spPr>
          <a:xfrm>
            <a:off x="1547640" y="692280"/>
            <a:ext cx="647388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763280" y="2781000"/>
            <a:ext cx="582948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rbel"/>
              </a:rPr>
              <a:t>Привычка – </a:t>
            </a:r>
            <a:br>
              <a:rPr sz="3300"/>
            </a:br>
            <a:r>
              <a:rPr b="0" lang="ru-RU" sz="3300" spc="-1" strike="noStrike">
                <a:solidFill>
                  <a:srgbClr val="ff0066"/>
                </a:solidFill>
                <a:latin typeface="Corbel"/>
              </a:rPr>
              <a:t>Лень и неряшливость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3" name="Picture 5" descr="нехочуха"/>
          <p:cNvPicPr/>
          <p:nvPr/>
        </p:nvPicPr>
        <p:blipFill>
          <a:blip r:embed="rId1"/>
          <a:stretch/>
        </p:blipFill>
        <p:spPr>
          <a:xfrm>
            <a:off x="1332000" y="1052640"/>
            <a:ext cx="2147760" cy="16128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nehochuha2"/>
          <p:cNvPicPr/>
          <p:nvPr/>
        </p:nvPicPr>
        <p:blipFill>
          <a:blip r:embed="rId2"/>
          <a:stretch/>
        </p:blipFill>
        <p:spPr>
          <a:xfrm>
            <a:off x="5292720" y="857160"/>
            <a:ext cx="2708280" cy="20322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7" descr="02_nehochuha_nevsedoma"/>
          <p:cNvPicPr/>
          <p:nvPr/>
        </p:nvPicPr>
        <p:blipFill>
          <a:blip r:embed="rId3"/>
          <a:stretch/>
        </p:blipFill>
        <p:spPr>
          <a:xfrm>
            <a:off x="1494000" y="4022640"/>
            <a:ext cx="2323800" cy="17827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nehochuha"/>
          <p:cNvPicPr/>
          <p:nvPr/>
        </p:nvPicPr>
        <p:blipFill>
          <a:blip r:embed="rId4"/>
          <a:stretch/>
        </p:blipFill>
        <p:spPr>
          <a:xfrm>
            <a:off x="5095800" y="3822840"/>
            <a:ext cx="290520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17880" y="380520"/>
            <a:ext cx="68673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7200" spc="-1" strike="noStrike">
                <a:solidFill>
                  <a:srgbClr val="993300"/>
                </a:solidFill>
                <a:latin typeface="Corbel"/>
              </a:rPr>
              <a:t>НЕРЯХА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4" descr="1151760644_828834315"/>
          <p:cNvPicPr/>
          <p:nvPr/>
        </p:nvPicPr>
        <p:blipFill>
          <a:blip r:embed="rId1"/>
          <a:stretch/>
        </p:blipFill>
        <p:spPr>
          <a:xfrm>
            <a:off x="2286000" y="1981080"/>
            <a:ext cx="5105520" cy="46864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Picture 4" descr="0_8c17_3ce6e5eb_L"/>
          <p:cNvPicPr/>
          <p:nvPr/>
        </p:nvPicPr>
        <p:blipFill>
          <a:blip r:embed="rId1"/>
          <a:stretch/>
        </p:blipFill>
        <p:spPr>
          <a:xfrm>
            <a:off x="304920" y="304920"/>
            <a:ext cx="3695760" cy="4927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0000039960-preview"/>
          <p:cNvPicPr/>
          <p:nvPr/>
        </p:nvPicPr>
        <p:blipFill>
          <a:blip r:embed="rId2"/>
          <a:srcRect l="0" t="0" r="0" b="11799"/>
          <a:stretch/>
        </p:blipFill>
        <p:spPr>
          <a:xfrm>
            <a:off x="4114800" y="304920"/>
            <a:ext cx="4724280" cy="31129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2571-l1"/>
          <p:cNvPicPr/>
          <p:nvPr/>
        </p:nvPicPr>
        <p:blipFill>
          <a:blip r:embed="rId3"/>
          <a:srcRect l="0" t="15041" r="0" b="16524"/>
          <a:stretch/>
        </p:blipFill>
        <p:spPr>
          <a:xfrm>
            <a:off x="2895480" y="3505320"/>
            <a:ext cx="2759040" cy="32004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2"/>
          <p:cNvPicPr/>
          <p:nvPr/>
        </p:nvPicPr>
        <p:blipFill>
          <a:blip r:embed="rId4"/>
          <a:stretch/>
        </p:blipFill>
        <p:spPr>
          <a:xfrm>
            <a:off x="5943600" y="3276720"/>
            <a:ext cx="3048120" cy="31240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304920"/>
            <a:ext cx="8375760" cy="577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marL="259920" indent="0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Corbel"/>
              </a:rPr>
              <a:t>  </a:t>
            </a:r>
            <a:r>
              <a:rPr b="1" lang="ru-RU" sz="6000" spc="-1" strike="noStrike">
                <a:solidFill>
                  <a:srgbClr val="ff0066"/>
                </a:solidFill>
                <a:latin typeface="Corbel"/>
              </a:rPr>
              <a:t>Это полезно помнить.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spcBef>
                <a:spcPts val="9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Corbel"/>
              </a:rPr>
              <a:t>1. Для ухода за носом существует носовой платок, его надо всегда носить с собой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spcBef>
                <a:spcPts val="9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Corbel"/>
              </a:rPr>
              <a:t>2. Ногти необходимо один раз в неделю постригать ножницами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Corbel"/>
              </a:rPr>
              <a:t>3. Остатки пищи между зубами удаляют зубочисткой</a:t>
            </a:r>
            <a:r>
              <a:rPr b="1" lang="ru-RU" sz="2400" spc="-1" strike="noStrike">
                <a:solidFill>
                  <a:srgbClr val="ff33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l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82800" y="68580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Привычка - </a:t>
            </a:r>
            <a:r>
              <a:rPr b="0" lang="ru-RU" sz="4000" spc="-1" strike="noStrike">
                <a:solidFill>
                  <a:srgbClr val="ff0066"/>
                </a:solidFill>
                <a:latin typeface="Corbel"/>
              </a:rPr>
              <a:t>Курение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982440" y="2666880"/>
            <a:ext cx="3740040" cy="336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524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Никотин – один из самых опасных ядов растительного происхождения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6" descr="1226384980_neky"/>
          <p:cNvPicPr/>
          <p:nvPr/>
        </p:nvPicPr>
        <p:blipFill>
          <a:blip r:embed="rId1"/>
          <a:stretch/>
        </p:blipFill>
        <p:spPr>
          <a:xfrm>
            <a:off x="4410000" y="1808280"/>
            <a:ext cx="3029040" cy="2162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7" descr="1227444458_woman-stop-smoke"/>
          <p:cNvPicPr/>
          <p:nvPr/>
        </p:nvPicPr>
        <p:blipFill>
          <a:blip r:embed="rId2"/>
          <a:stretch/>
        </p:blipFill>
        <p:spPr>
          <a:xfrm>
            <a:off x="1332000" y="3483000"/>
            <a:ext cx="3838320" cy="230328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9"/>
          <p:cNvSpPr/>
          <p:nvPr/>
        </p:nvSpPr>
        <p:spPr>
          <a:xfrm rot="985200">
            <a:off x="5154480" y="4376880"/>
            <a:ext cx="2670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 думаете, что э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ив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0" descr="знак не курить"/>
          <p:cNvPicPr/>
          <p:nvPr/>
        </p:nvPicPr>
        <p:blipFill>
          <a:blip r:embed="rId3"/>
          <a:stretch/>
        </p:blipFill>
        <p:spPr>
          <a:xfrm>
            <a:off x="1143000" y="857160"/>
            <a:ext cx="127008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0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7" descr="1223122193_bulet"/>
          <p:cNvPicPr/>
          <p:nvPr/>
        </p:nvPicPr>
        <p:blipFill>
          <a:blip r:embed="rId1"/>
          <a:stretch/>
        </p:blipFill>
        <p:spPr>
          <a:xfrm rot="3855000">
            <a:off x="0" y="2630520"/>
            <a:ext cx="3294000" cy="250992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914720" y="1314360"/>
            <a:ext cx="42289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то сигару поджигает 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знь на годы сокращает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кружающим, себ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жет быть, тебе и мн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7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10:35:00Z</dcterms:created>
  <dc:creator>FuckYouBill</dc:creator>
  <dc:description/>
  <dc:language>en-US</dc:language>
  <cp:lastModifiedBy>Наталия Вл. Тимофеева</cp:lastModifiedBy>
  <dcterms:modified xsi:type="dcterms:W3CDTF">2021-12-08T08:14:35Z</dcterms:modified>
  <cp:revision>7</cp:revision>
  <dc:subject/>
  <dc:title>Полезные и вредные привычки</dc:title>
</cp:coreProperties>
</file>