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36063" cy="68500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8D9-7727-4AEC-9907-348E5BCA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82227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678480"/>
            <a:ext cx="82227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4EE-A1C8-4180-A334-A256DB58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28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72B-149C-4741-B148-A034B9DC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120" y="16030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400" y="16030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6784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120" y="36784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400" y="36784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D34-C770-4453-B637-4C567168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FAFE-B9A9-4E0D-AE06-E1BD5F92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603080"/>
            <a:ext cx="82227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BB39-B215-4C21-804C-42105E4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82227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CB86-065E-47F1-8975-A5507D51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D536-B2F0-4258-A5C2-3ADF1298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BA55-41AC-4161-9132-3B5E2B59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5400" y="1029960"/>
            <a:ext cx="8227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700E-D410-4FBB-A83A-67406B76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73C2-BD3D-45C0-9291-1B6CCA16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603080"/>
            <a:ext cx="82227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D98-4CCD-45A5-B7E4-4E3D2E69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028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7051-DB8D-4273-AAF0-C64AC883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678480"/>
            <a:ext cx="82227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28B2-1ABC-47E9-948E-4130BEF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82227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678480"/>
            <a:ext cx="82227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5C93-ABFE-4AF9-ADF2-0D7EB8C5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028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DB8B-A20B-4B1B-9839-41E1EC76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7120" y="16030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7400" y="16030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6784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7120" y="36784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7400" y="3678480"/>
            <a:ext cx="2647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195F-D6AC-4848-B091-CA4DADB6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82227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D94-6C43-4B85-8D4C-4C193CE4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DF4-D5FF-4A19-A2DD-532BDDCF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E9C-3D82-4E2E-AC7D-F4EAD0A3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5400" y="1029960"/>
            <a:ext cx="82278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E49-5DB3-4F14-9F3E-411A1991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FBC-6EB1-4455-A379-5E1AC428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280" y="36784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46F-8374-4BB2-88ED-FA080356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3080"/>
            <a:ext cx="40125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78480"/>
            <a:ext cx="82227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43A-3E92-4211-822D-93FDB5C8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6480"/>
            <a:ext cx="9158400" cy="1038240"/>
          </a:xfrm>
          <a:custGeom>
            <a:avLst/>
            <a:gdLst/>
            <a:ahLst/>
            <a:rect l="l" t="t" r="r" b="b"/>
            <a:pathLst>
              <a:path w="5769" h="654">
                <a:moveTo>
                  <a:pt x="5" y="2"/>
                </a:moveTo>
                <a:lnTo>
                  <a:pt x="2540" y="0"/>
                </a:lnTo>
                <a:cubicBezTo>
                  <a:pt x="2744" y="100"/>
                  <a:pt x="3825" y="365"/>
                  <a:pt x="4371" y="365"/>
                </a:cubicBezTo>
                <a:cubicBezTo>
                  <a:pt x="4917" y="365"/>
                  <a:pt x="5523" y="150"/>
                  <a:pt x="5763" y="54"/>
                </a:cubicBezTo>
                <a:lnTo>
                  <a:pt x="5769" y="211"/>
                </a:lnTo>
                <a:cubicBezTo>
                  <a:pt x="5667" y="255"/>
                  <a:pt x="5013" y="439"/>
                  <a:pt x="4299" y="437"/>
                </a:cubicBezTo>
                <a:cubicBezTo>
                  <a:pt x="3585" y="435"/>
                  <a:pt x="2203" y="163"/>
                  <a:pt x="1486" y="199"/>
                </a:cubicBezTo>
                <a:cubicBezTo>
                  <a:pt x="748" y="207"/>
                  <a:pt x="268" y="480"/>
                  <a:pt x="0" y="654"/>
                </a:cubicBezTo>
                <a:lnTo>
                  <a:pt x="5" y="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79760" y="-6480"/>
            <a:ext cx="4761000" cy="635040"/>
          </a:xfrm>
          <a:custGeom>
            <a:avLst/>
            <a:gdLst/>
            <a:ahLst/>
            <a:rect l="l" t="t" r="r" b="b"/>
            <a:pathLst>
              <a:path w="2999" h="400">
                <a:moveTo>
                  <a:pt x="0" y="0"/>
                </a:moveTo>
                <a:cubicBezTo>
                  <a:pt x="174" y="67"/>
                  <a:pt x="1167" y="359"/>
                  <a:pt x="1667" y="379"/>
                </a:cubicBezTo>
                <a:cubicBezTo>
                  <a:pt x="2167" y="400"/>
                  <a:pt x="2777" y="187"/>
                  <a:pt x="2999" y="124"/>
                </a:cubicBezTo>
                <a:lnTo>
                  <a:pt x="2999" y="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27000" y="-20520"/>
            <a:ext cx="9172440" cy="1041120"/>
            <a:chOff x="-27000" y="-20520"/>
            <a:chExt cx="9172440" cy="1041120"/>
          </a:xfrm>
        </p:grpSpPr>
        <p:grpSp>
          <p:nvGrpSpPr>
            <p:cNvPr id="3" name=""/>
            <p:cNvGrpSpPr/>
            <p:nvPr/>
          </p:nvGrpSpPr>
          <p:grpSpPr>
            <a:xfrm>
              <a:off x="-27000" y="-20520"/>
              <a:ext cx="9155160" cy="1041120"/>
              <a:chOff x="-27000" y="-20520"/>
              <a:chExt cx="9155160" cy="1041120"/>
            </a:xfrm>
          </p:grpSpPr>
          <p:pic>
            <p:nvPicPr>
              <p:cNvPr id="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-4680" y="-20520"/>
                <a:ext cx="9132840" cy="104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20000">
                <a:off x="-26640" y="418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-19080" y="49320"/>
              <a:ext cx="9164520" cy="911160"/>
              <a:chOff x="-19080" y="49320"/>
              <a:chExt cx="9164520" cy="911160"/>
            </a:xfrm>
          </p:grpSpPr>
          <p:pic>
            <p:nvPicPr>
              <p:cNvPr id="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-4680" y="49320"/>
                <a:ext cx="9150120" cy="9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20000">
                <a:off x="-18720" y="493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1029960"/>
            <a:ext cx="8227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455760" y="63532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2665080" y="6353280"/>
            <a:ext cx="3351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921800" y="635328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526D150-F14B-4DF3-80FD-1FB4F8A8000C}" type="slidenum">
              <a:rPr b="0" lang="en-US" sz="1200" spc="-1" strike="noStrike">
                <a:solidFill>
                  <a:srgbClr val="045c75"/>
                </a:solidFill>
                <a:latin typeface="Arial"/>
                <a:ea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480" y="-4680"/>
            <a:ext cx="9153720" cy="1035000"/>
          </a:xfrm>
          <a:custGeom>
            <a:avLst/>
            <a:gdLst/>
            <a:ahLst/>
            <a:rect l="l" t="t" r="r" b="b"/>
            <a:pathLst>
              <a:path w="5766" h="652">
                <a:moveTo>
                  <a:pt x="4" y="2"/>
                </a:moveTo>
                <a:lnTo>
                  <a:pt x="2538" y="0"/>
                </a:lnTo>
                <a:cubicBezTo>
                  <a:pt x="2742" y="99"/>
                  <a:pt x="3822" y="363"/>
                  <a:pt x="4368" y="363"/>
                </a:cubicBezTo>
                <a:cubicBezTo>
                  <a:pt x="4914" y="363"/>
                  <a:pt x="5520" y="148"/>
                  <a:pt x="5760" y="53"/>
                </a:cubicBezTo>
                <a:lnTo>
                  <a:pt x="5766" y="209"/>
                </a:lnTo>
                <a:cubicBezTo>
                  <a:pt x="5664" y="253"/>
                  <a:pt x="5010" y="437"/>
                  <a:pt x="4296" y="435"/>
                </a:cubicBezTo>
                <a:cubicBezTo>
                  <a:pt x="3582" y="433"/>
                  <a:pt x="2201" y="161"/>
                  <a:pt x="1484" y="197"/>
                </a:cubicBezTo>
                <a:cubicBezTo>
                  <a:pt x="746" y="205"/>
                  <a:pt x="266" y="478"/>
                  <a:pt x="0" y="652"/>
                </a:cubicBezTo>
                <a:lnTo>
                  <a:pt x="4" y="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78320" y="-4680"/>
            <a:ext cx="4759200" cy="631800"/>
          </a:xfrm>
          <a:custGeom>
            <a:avLst/>
            <a:gdLst/>
            <a:ahLst/>
            <a:rect l="l" t="t" r="r" b="b"/>
            <a:pathLst>
              <a:path w="2998" h="398">
                <a:moveTo>
                  <a:pt x="0" y="0"/>
                </a:moveTo>
                <a:cubicBezTo>
                  <a:pt x="174" y="66"/>
                  <a:pt x="1166" y="357"/>
                  <a:pt x="1666" y="377"/>
                </a:cubicBezTo>
                <a:cubicBezTo>
                  <a:pt x="2166" y="398"/>
                  <a:pt x="2776" y="185"/>
                  <a:pt x="2998" y="122"/>
                </a:cubicBezTo>
                <a:lnTo>
                  <a:pt x="2998" y="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25560" y="-19080"/>
            <a:ext cx="9168120" cy="1038240"/>
            <a:chOff x="-25560" y="-19080"/>
            <a:chExt cx="9168120" cy="1038240"/>
          </a:xfrm>
        </p:grpSpPr>
        <p:grpSp>
          <p:nvGrpSpPr>
            <p:cNvPr id="52" name=""/>
            <p:cNvGrpSpPr/>
            <p:nvPr/>
          </p:nvGrpSpPr>
          <p:grpSpPr>
            <a:xfrm>
              <a:off x="-25560" y="-19080"/>
              <a:ext cx="9150480" cy="1038240"/>
              <a:chOff x="-25560" y="-19080"/>
              <a:chExt cx="9150480" cy="1038240"/>
            </a:xfrm>
          </p:grpSpPr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-19080"/>
                <a:ext cx="9128160" cy="10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20000">
                <a:off x="-25200" y="417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-17640" y="49320"/>
              <a:ext cx="9160200" cy="909360"/>
              <a:chOff x="-17640" y="49320"/>
              <a:chExt cx="9160200" cy="90936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-3240" y="49320"/>
                <a:ext cx="9145800" cy="90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20000">
                <a:off x="-17280" y="491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3600" y="1049040"/>
            <a:ext cx="82263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360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2664000" y="6350040"/>
            <a:ext cx="33494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918560" y="63500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36EF-2B6B-448A-AEA4-CBE36C52E2F3}" type="slidenum">
              <a:rPr b="0" lang="en-US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9720" y="1744200"/>
            <a:ext cx="741672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Групповая технология  на уроках физической культуры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27000" y="1569960"/>
            <a:ext cx="74995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619200" indent="-61920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640000"/>
                </a:solidFill>
                <a:latin typeface="Arial"/>
                <a:ea typeface="Constantia"/>
              </a:rPr>
              <a:t>Главные особенности организации групповых   технологий</a:t>
            </a:r>
            <a:r>
              <a:rPr b="1" lang="ru-RU" sz="2800" spc="-1" strike="noStrike">
                <a:solidFill>
                  <a:srgbClr val="640000"/>
                </a:solidFill>
                <a:latin typeface="Arial"/>
                <a:ea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1. деление на группы для решения конкрет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2.Каждая группа получает определенное задание(одинаковое, дифенцированное) и выполняет его сообща под руководством лидера группы или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3. Возможность учесть и оценить в клад каждого члена групп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640000"/>
                </a:solidFill>
                <a:latin typeface="Arial"/>
                <a:ea typeface="Constantia"/>
              </a:rPr>
              <a:t> </a:t>
            </a: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Состав группы непостоянный и подбирается с учетом возможности максимально эффективной реализации способностей каждого участника в зависимости от содержания и характе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40000"/>
                </a:solidFill>
                <a:latin typeface="Times New Roman"/>
              </a:rPr>
              <a:t>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98800" y="1278000"/>
            <a:ext cx="3798720" cy="107784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Результат группов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760" y="1362240"/>
            <a:ext cx="1962000" cy="1546200"/>
          </a:xfrm>
          <a:custGeom>
            <a:avLst/>
            <a:gdLst/>
            <a:ahLst/>
            <a:rect l="l" t="t" r="r" b="b"/>
            <a:pathLst>
              <a:path w="1236" h="974">
                <a:moveTo>
                  <a:pt x="610" y="974"/>
                </a:moveTo>
                <a:lnTo>
                  <a:pt x="292" y="974"/>
                </a:lnTo>
                <a:lnTo>
                  <a:pt x="0" y="787"/>
                </a:lnTo>
                <a:lnTo>
                  <a:pt x="0" y="487"/>
                </a:lnTo>
                <a:lnTo>
                  <a:pt x="0" y="0"/>
                </a:lnTo>
                <a:lnTo>
                  <a:pt x="610" y="0"/>
                </a:lnTo>
                <a:lnTo>
                  <a:pt x="1236" y="0"/>
                </a:lnTo>
                <a:lnTo>
                  <a:pt x="1236" y="478"/>
                </a:lnTo>
                <a:lnTo>
                  <a:pt x="1236" y="974"/>
                </a:lnTo>
                <a:lnTo>
                  <a:pt x="610" y="974"/>
                </a:lnTo>
                <a:close/>
                <a:moveTo>
                  <a:pt x="0" y="787"/>
                </a:moveTo>
                <a:lnTo>
                  <a:pt x="292" y="787"/>
                </a:lnTo>
                <a:lnTo>
                  <a:pt x="292" y="974"/>
                </a:lnTo>
                <a:lnTo>
                  <a:pt x="0" y="787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8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Добиваюсь 100% присутствия детей на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520" y="3287880"/>
            <a:ext cx="2157480" cy="3116160"/>
          </a:xfrm>
          <a:custGeom>
            <a:avLst/>
            <a:gdLst/>
            <a:ahLst/>
            <a:rect l="l" t="t" r="r" b="b"/>
            <a:pathLst>
              <a:path w="1359" h="1963">
                <a:moveTo>
                  <a:pt x="671" y="1963"/>
                </a:moveTo>
                <a:lnTo>
                  <a:pt x="321" y="1963"/>
                </a:lnTo>
                <a:lnTo>
                  <a:pt x="0" y="1587"/>
                </a:lnTo>
                <a:lnTo>
                  <a:pt x="0" y="981"/>
                </a:lnTo>
                <a:lnTo>
                  <a:pt x="0" y="0"/>
                </a:lnTo>
                <a:lnTo>
                  <a:pt x="671" y="0"/>
                </a:lnTo>
                <a:lnTo>
                  <a:pt x="1359" y="0"/>
                </a:lnTo>
                <a:lnTo>
                  <a:pt x="1359" y="963"/>
                </a:lnTo>
                <a:lnTo>
                  <a:pt x="1359" y="1963"/>
                </a:lnTo>
                <a:lnTo>
                  <a:pt x="671" y="1963"/>
                </a:lnTo>
                <a:close/>
                <a:moveTo>
                  <a:pt x="0" y="1587"/>
                </a:moveTo>
                <a:lnTo>
                  <a:pt x="321" y="1587"/>
                </a:lnTo>
                <a:lnTo>
                  <a:pt x="321" y="1963"/>
                </a:lnTo>
                <a:lnTo>
                  <a:pt x="0" y="1587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8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Дети, пришедшие после болезни или освобожденные, участвуют на уроке в роли судей, ассистентов, а также готовят рефераты [сообщения]</a:t>
            </a:r>
            <a:r>
              <a:rPr b="0" lang="ru-RU" sz="1600" spc="-1" strike="noStrike">
                <a:solidFill>
                  <a:srgbClr val="640000"/>
                </a:solidFill>
                <a:latin typeface="Arial"/>
                <a:ea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94000" y="2870280"/>
            <a:ext cx="2517840" cy="3571920"/>
          </a:xfrm>
          <a:custGeom>
            <a:avLst/>
            <a:gdLst/>
            <a:ahLst/>
            <a:rect l="l" t="t" r="r" b="b"/>
            <a:pathLst>
              <a:path w="1586" h="2250">
                <a:moveTo>
                  <a:pt x="783" y="2250"/>
                </a:moveTo>
                <a:lnTo>
                  <a:pt x="375" y="2250"/>
                </a:lnTo>
                <a:lnTo>
                  <a:pt x="0" y="1820"/>
                </a:lnTo>
                <a:lnTo>
                  <a:pt x="0" y="1124"/>
                </a:lnTo>
                <a:lnTo>
                  <a:pt x="0" y="0"/>
                </a:lnTo>
                <a:lnTo>
                  <a:pt x="783" y="0"/>
                </a:lnTo>
                <a:lnTo>
                  <a:pt x="1586" y="0"/>
                </a:lnTo>
                <a:lnTo>
                  <a:pt x="1586" y="1104"/>
                </a:lnTo>
                <a:lnTo>
                  <a:pt x="1586" y="2250"/>
                </a:lnTo>
                <a:lnTo>
                  <a:pt x="783" y="2250"/>
                </a:lnTo>
                <a:close/>
                <a:moveTo>
                  <a:pt x="0" y="1820"/>
                </a:moveTo>
                <a:lnTo>
                  <a:pt x="375" y="1820"/>
                </a:lnTo>
                <a:lnTo>
                  <a:pt x="375" y="2250"/>
                </a:lnTo>
                <a:lnTo>
                  <a:pt x="0" y="182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Анализ тестирования позволяет мне “выравнивать” недостатки физической подготовленности школьников, подводя их к показателям зоны “высокого уровня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8160" y="1077840"/>
            <a:ext cx="2112840" cy="1916280"/>
          </a:xfrm>
          <a:custGeom>
            <a:avLst/>
            <a:gdLst/>
            <a:ahLst/>
            <a:rect l="l" t="t" r="r" b="b"/>
            <a:pathLst>
              <a:path w="1331" h="1207">
                <a:moveTo>
                  <a:pt x="657" y="1207"/>
                </a:moveTo>
                <a:lnTo>
                  <a:pt x="314" y="1207"/>
                </a:lnTo>
                <a:lnTo>
                  <a:pt x="0" y="976"/>
                </a:lnTo>
                <a:lnTo>
                  <a:pt x="0" y="603"/>
                </a:lnTo>
                <a:lnTo>
                  <a:pt x="0" y="0"/>
                </a:lnTo>
                <a:lnTo>
                  <a:pt x="657" y="0"/>
                </a:lnTo>
                <a:lnTo>
                  <a:pt x="1331" y="0"/>
                </a:lnTo>
                <a:lnTo>
                  <a:pt x="1331" y="592"/>
                </a:lnTo>
                <a:lnTo>
                  <a:pt x="1331" y="1207"/>
                </a:lnTo>
                <a:lnTo>
                  <a:pt x="657" y="1207"/>
                </a:lnTo>
                <a:close/>
                <a:moveTo>
                  <a:pt x="0" y="976"/>
                </a:moveTo>
                <a:lnTo>
                  <a:pt x="314" y="976"/>
                </a:lnTo>
                <a:lnTo>
                  <a:pt x="314" y="1207"/>
                </a:lnTo>
                <a:lnTo>
                  <a:pt x="0" y="976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Адаптир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 </a:t>
            </a: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групповое  обучение к специфическим обстоятельствам, требованиям и учащим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64480" y="3286080"/>
            <a:ext cx="2058840" cy="2736720"/>
          </a:xfrm>
          <a:custGeom>
            <a:avLst/>
            <a:gdLst/>
            <a:ahLst/>
            <a:rect l="l" t="t" r="r" b="b"/>
            <a:pathLst>
              <a:path w="1297" h="1724">
                <a:moveTo>
                  <a:pt x="640" y="1724"/>
                </a:moveTo>
                <a:lnTo>
                  <a:pt x="306" y="1724"/>
                </a:lnTo>
                <a:lnTo>
                  <a:pt x="0" y="1394"/>
                </a:lnTo>
                <a:lnTo>
                  <a:pt x="0" y="861"/>
                </a:lnTo>
                <a:lnTo>
                  <a:pt x="0" y="0"/>
                </a:lnTo>
                <a:lnTo>
                  <a:pt x="640" y="0"/>
                </a:lnTo>
                <a:lnTo>
                  <a:pt x="1297" y="0"/>
                </a:lnTo>
                <a:lnTo>
                  <a:pt x="1297" y="845"/>
                </a:lnTo>
                <a:lnTo>
                  <a:pt x="1297" y="1724"/>
                </a:lnTo>
                <a:lnTo>
                  <a:pt x="640" y="1724"/>
                </a:lnTo>
                <a:close/>
                <a:moveTo>
                  <a:pt x="0" y="1394"/>
                </a:moveTo>
                <a:lnTo>
                  <a:pt x="306" y="1394"/>
                </a:lnTo>
                <a:lnTo>
                  <a:pt x="306" y="1724"/>
                </a:lnTo>
                <a:lnTo>
                  <a:pt x="0" y="139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Постоянно совершенствую навыки коман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 </a:t>
            </a: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  </a:t>
            </a:r>
            <a:r>
              <a:rPr b="0" lang="ru-RU" sz="1800" spc="-1" strike="noStrike">
                <a:solidFill>
                  <a:srgbClr val="640000"/>
                </a:solidFill>
                <a:latin typeface="Times New Roman"/>
                <a:ea typeface="Constantia"/>
              </a:rPr>
              <a:t>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5400" y="2212920"/>
            <a:ext cx="8227800" cy="210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612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пасибо за внимание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27000" y="1641600"/>
            <a:ext cx="778536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ль групповой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общение учащихся к урокам физической культур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 здоровому образу жизни, а также подготовка к жизни и к выполнению социальных функц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27000" y="1641600"/>
            <a:ext cx="7642440" cy="36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упповой метод используется при изучении нового материала и повторении его, совершенствовании двигательных навыков, развитии физических качест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упповой метод может сочетаться с поточными, игровыми, соревновательными метод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4040" y="1448640"/>
            <a:ext cx="864252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знаки группов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класс на данном уроке делится на группы для решения конкретных    учебных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каждая группа получает определенное задание (либо одинаковое, либо дифференцированное) и выполняет его сообща под непосредственным руководством лидера группы или учител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задания в группе выполняются таким способом, который позволяет учитывать и оценивать индивидуальный вклад каждого члена групп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став группы непостоянный, он подбирается с учетом того, чтобы с максимальной эффективностью для коллектива могли реализоваться учебные возможности каждого члена группы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41520" y="2013480"/>
            <a:ext cx="828504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ципы комплектования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личина групп различна. Она колеблется в пределах 3-6 человек. Состав группы не постоянный. Он меняется в зависимости от содержания и характера предстоящей работы. При этом не менее половины его должны составлять ученики, способные успешно заниматься самостоятельной работ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и групп и сам их состав могут быть разными на разных учебных предметах и подбираются они по принципу объединения школьников разного уровня обученности, внеурочной информированности по данному предмету, совместимости учащихся, что позволяет им взаимно дополнять и компенсировать достоинства и недостатки друг друга. В группе не должно быть негативно настроенных друг к другу учащих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родная групповая работа предполагает выполнение небольшими группами учащихся одинакового для всех задания, а дифференцированная выполнение различных заданий разными группами. В ходе работы членам группы разрешается совместное обсуждение хода и результатов работы, обращение за советом друг к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6960" y="1498320"/>
            <a:ext cx="849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групповой форме работы учащихся на уроке в значительной степени возрастает и индивидуальная помощь каждому нуждающемуся в ней ученику как со стороны учителя, так и учащихся-консульт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х групповой работы учащихся зависит прежде всего от мастерства учителя, от умения его распределять свое внимание таким образом, чтобы каждая группа и каждый ее участник в отдельности ощущали заботу учителя, его заинтересованность в их успехе, в нормальных плодотворных межличностных отношениях. Всем своим поведением учитель обязан выражать заинтересованность в успехе как сильных, так и слабых учащихся, вселять уверенность им в своих успехах, проявлять уважительное отношение к слабым ученикам.</a:t>
            </a: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flipV="1" rot="10800000">
            <a:off x="719280" y="1588320"/>
            <a:ext cx="7570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стоинства группов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оинства групповой организации учебной работы учащихся на уроке очевидны. Результаты совместной работы учащихся весьма ощутимы как в приучении их к коллективным методам работы, так и в формировании положительных нравственных качеств личности. Но это не говорит о том, что эта форма организации учебной работы идеальна. Ее нельзя универсализировать и противопоставлять другим формам. Каждая из рассмотренных форм организации обучения решает свои специфические учебно-воспитательные задачи. Они взаимно дополняют 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1120" y="1427040"/>
            <a:ext cx="88567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упповые технологии как коллективная деятельность предполагают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ное обогащение учащихся в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рганизацию совместных действий, ведущую к активации учебно-познавательных проце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спределение начальных действий и операций(задается системой заданий, обуславливающихся  особенностями изучаемого объект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ммуникацию, общение, без которых невозможны распределение, обмен и взаимопонимание и благодаря которым планируются адекватные учебной задаче условия деятельности и выбор соответствующих способов 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бмен способами действия – задается необходимостью построения различных способов для получения совокупного продукта деятельности – решения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Взаимопонимание – диктуется характером включения учащихся в совместн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ефлексию, через которую устанавливается отношение участника к собственному действию и обеспечивается адекватная коррекция этого 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84080" y="1855800"/>
            <a:ext cx="75708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nstantia"/>
              </a:rPr>
              <a:t>Групповая форма обучения решает три основны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ретно-познавательную, которая связана с непосредственной учебной ситу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о–развивающую, в процессе которой вырабатываются основные навыки общения внутри группы и за её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о-ориентационную, воспитывающую гражданские качества, необходимые для адекватной социализации индивида в сообществ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9:26Z</dcterms:created>
  <dc:creator>????</dc:creator>
  <dc:description/>
  <dc:language>en-US</dc:language>
  <cp:lastModifiedBy>acer</cp:lastModifiedBy>
  <dcterms:modified xsi:type="dcterms:W3CDTF">2021-12-14T20:25:51Z</dcterms:modified>
  <cp:revision>0</cp:revision>
  <dc:subject/>
  <dc:title/>
</cp:coreProperties>
</file>