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36063" cy="6850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408-11C8-4DE6-8732-0421C9BE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6784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1A4-F539-4D20-9C73-0DF27717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28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6EE-526C-40DA-9A6E-6C62F4B4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12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40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12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40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86F-023C-4A7B-8D14-3657878F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F53-A73A-4922-8448-1D3C543B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3080"/>
            <a:ext cx="82227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D058-377A-4B31-A9BB-A425C426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82227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1848-A521-472F-9760-7F1CCD4D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B72F-A671-4042-9D34-3806EA91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0432-5533-4BFC-BBFF-ECACACDF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5400" y="1029960"/>
            <a:ext cx="8227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B90E-F19A-4260-86A7-0DF0DAD9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6C6B-3A99-4837-B843-4768154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603080"/>
            <a:ext cx="82227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6AB-3303-47E5-A3AF-5D84330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028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19CB-8B4F-4D26-BE22-C86BE2C4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D3E3-DDCE-472A-AD5B-5A0597D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6784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95D1-D7CD-4EED-85BB-25803867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028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A1F-D9DE-4A6E-A563-9B3F7DF9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712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740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712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740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C401-6280-4A80-A3F2-29941355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82227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B6A-BD75-4808-972B-E7E7ABAA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A1F-EF2F-4152-81AB-76A8CC3A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DE5-50D7-4F24-BB7C-14F46EC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5400" y="1029960"/>
            <a:ext cx="8227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69D-1800-43C1-987D-863F487C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777-689B-4F2A-8DE3-FE739BE4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28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BDC-B918-4D0C-86B8-6EE1DA4C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BC9-A846-41C9-85F3-A8B77A8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6480"/>
            <a:ext cx="9158400" cy="1038240"/>
          </a:xfrm>
          <a:custGeom>
            <a:avLst/>
            <a:gdLst/>
            <a:ahLst/>
            <a:rect l="l" t="t" r="r" b="b"/>
            <a:pathLst>
              <a:path w="5769" h="654">
                <a:moveTo>
                  <a:pt x="5" y="2"/>
                </a:moveTo>
                <a:lnTo>
                  <a:pt x="2540" y="0"/>
                </a:lnTo>
                <a:cubicBezTo>
                  <a:pt x="2744" y="100"/>
                  <a:pt x="3825" y="365"/>
                  <a:pt x="4371" y="365"/>
                </a:cubicBezTo>
                <a:cubicBezTo>
                  <a:pt x="4917" y="365"/>
                  <a:pt x="5523" y="150"/>
                  <a:pt x="5763" y="54"/>
                </a:cubicBezTo>
                <a:lnTo>
                  <a:pt x="5769" y="211"/>
                </a:lnTo>
                <a:cubicBezTo>
                  <a:pt x="5667" y="255"/>
                  <a:pt x="5013" y="439"/>
                  <a:pt x="4299" y="437"/>
                </a:cubicBezTo>
                <a:cubicBezTo>
                  <a:pt x="3585" y="435"/>
                  <a:pt x="2203" y="163"/>
                  <a:pt x="1486" y="199"/>
                </a:cubicBezTo>
                <a:cubicBezTo>
                  <a:pt x="748" y="207"/>
                  <a:pt x="268" y="480"/>
                  <a:pt x="0" y="654"/>
                </a:cubicBezTo>
                <a:lnTo>
                  <a:pt x="5" y="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79760" y="-6480"/>
            <a:ext cx="4761000" cy="635040"/>
          </a:xfrm>
          <a:custGeom>
            <a:avLst/>
            <a:gdLst/>
            <a:ahLst/>
            <a:rect l="l" t="t" r="r" b="b"/>
            <a:pathLst>
              <a:path w="2999" h="400">
                <a:moveTo>
                  <a:pt x="0" y="0"/>
                </a:moveTo>
                <a:cubicBezTo>
                  <a:pt x="174" y="67"/>
                  <a:pt x="1167" y="359"/>
                  <a:pt x="1667" y="379"/>
                </a:cubicBezTo>
                <a:cubicBezTo>
                  <a:pt x="2167" y="400"/>
                  <a:pt x="2777" y="187"/>
                  <a:pt x="2999" y="124"/>
                </a:cubicBezTo>
                <a:lnTo>
                  <a:pt x="2999" y="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27000" y="-20520"/>
            <a:ext cx="9172440" cy="1041120"/>
            <a:chOff x="-27000" y="-20520"/>
            <a:chExt cx="9172440" cy="1041120"/>
          </a:xfrm>
        </p:grpSpPr>
        <p:grpSp>
          <p:nvGrpSpPr>
            <p:cNvPr id="3" name=""/>
            <p:cNvGrpSpPr/>
            <p:nvPr/>
          </p:nvGrpSpPr>
          <p:grpSpPr>
            <a:xfrm>
              <a:off x="-27000" y="-20520"/>
              <a:ext cx="9155160" cy="1041120"/>
              <a:chOff x="-27000" y="-20520"/>
              <a:chExt cx="9155160" cy="1041120"/>
            </a:xfrm>
          </p:grpSpPr>
          <p:pic>
            <p:nvPicPr>
              <p:cNvPr id="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-4680" y="-20520"/>
                <a:ext cx="9132840" cy="104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20000">
                <a:off x="-26640" y="418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-19080" y="49320"/>
              <a:ext cx="9164520" cy="911160"/>
              <a:chOff x="-19080" y="49320"/>
              <a:chExt cx="9164520" cy="911160"/>
            </a:xfrm>
          </p:grpSpPr>
          <p:pic>
            <p:nvPicPr>
              <p:cNvPr id="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-4680" y="49320"/>
                <a:ext cx="915012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20000">
                <a:off x="-18720" y="493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5760" y="63532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2665080" y="6353280"/>
            <a:ext cx="3351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921800" y="635328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249F6C8-2973-46B4-8BDF-7CEB50A3444C}" type="slidenum">
              <a:rPr b="0" lang="en-US" sz="1200" spc="-1" strike="noStrike">
                <a:solidFill>
                  <a:srgbClr val="045c75"/>
                </a:solidFill>
                <a:latin typeface="Arial"/>
                <a:ea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480" y="-4680"/>
            <a:ext cx="9153720" cy="1035000"/>
          </a:xfrm>
          <a:custGeom>
            <a:avLst/>
            <a:gdLst/>
            <a:ahLst/>
            <a:rect l="l" t="t" r="r" b="b"/>
            <a:pathLst>
              <a:path w="5766" h="652">
                <a:moveTo>
                  <a:pt x="4" y="2"/>
                </a:moveTo>
                <a:lnTo>
                  <a:pt x="2538" y="0"/>
                </a:lnTo>
                <a:cubicBezTo>
                  <a:pt x="2742" y="99"/>
                  <a:pt x="3822" y="363"/>
                  <a:pt x="4368" y="363"/>
                </a:cubicBezTo>
                <a:cubicBezTo>
                  <a:pt x="4914" y="363"/>
                  <a:pt x="5520" y="148"/>
                  <a:pt x="5760" y="53"/>
                </a:cubicBezTo>
                <a:lnTo>
                  <a:pt x="5766" y="209"/>
                </a:lnTo>
                <a:cubicBezTo>
                  <a:pt x="5664" y="253"/>
                  <a:pt x="5010" y="437"/>
                  <a:pt x="4296" y="435"/>
                </a:cubicBezTo>
                <a:cubicBezTo>
                  <a:pt x="3582" y="433"/>
                  <a:pt x="2201" y="161"/>
                  <a:pt x="1484" y="197"/>
                </a:cubicBezTo>
                <a:cubicBezTo>
                  <a:pt x="746" y="205"/>
                  <a:pt x="266" y="478"/>
                  <a:pt x="0" y="652"/>
                </a:cubicBezTo>
                <a:lnTo>
                  <a:pt x="4" y="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78320" y="-4680"/>
            <a:ext cx="4759200" cy="631800"/>
          </a:xfrm>
          <a:custGeom>
            <a:avLst/>
            <a:gdLst/>
            <a:ahLst/>
            <a:rect l="l" t="t" r="r" b="b"/>
            <a:pathLst>
              <a:path w="2998" h="398">
                <a:moveTo>
                  <a:pt x="0" y="0"/>
                </a:moveTo>
                <a:cubicBezTo>
                  <a:pt x="174" y="66"/>
                  <a:pt x="1166" y="357"/>
                  <a:pt x="1666" y="377"/>
                </a:cubicBezTo>
                <a:cubicBezTo>
                  <a:pt x="2166" y="398"/>
                  <a:pt x="2776" y="185"/>
                  <a:pt x="2998" y="122"/>
                </a:cubicBezTo>
                <a:lnTo>
                  <a:pt x="2998" y="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25560" y="-19080"/>
            <a:ext cx="9168120" cy="1038240"/>
            <a:chOff x="-25560" y="-19080"/>
            <a:chExt cx="9168120" cy="1038240"/>
          </a:xfrm>
        </p:grpSpPr>
        <p:grpSp>
          <p:nvGrpSpPr>
            <p:cNvPr id="52" name=""/>
            <p:cNvGrpSpPr/>
            <p:nvPr/>
          </p:nvGrpSpPr>
          <p:grpSpPr>
            <a:xfrm>
              <a:off x="-25560" y="-19080"/>
              <a:ext cx="9150480" cy="1038240"/>
              <a:chOff x="-25560" y="-19080"/>
              <a:chExt cx="9150480" cy="1038240"/>
            </a:xfrm>
          </p:grpSpPr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-19080"/>
                <a:ext cx="9128160" cy="10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20000">
                <a:off x="-25200" y="417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-17640" y="49320"/>
              <a:ext cx="9160200" cy="909360"/>
              <a:chOff x="-17640" y="49320"/>
              <a:chExt cx="9160200" cy="90936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-3240" y="49320"/>
                <a:ext cx="9145800" cy="90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20000">
                <a:off x="-17280" y="491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3600" y="1049040"/>
            <a:ext cx="82263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360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2664000" y="6350040"/>
            <a:ext cx="33494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918560" y="63500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1AA-8E37-495B-9A69-679DC0CA4658}" type="slidenum"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9720" y="1744200"/>
            <a:ext cx="741672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рупповая технология  на уроках физической культуры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27000" y="1569960"/>
            <a:ext cx="74995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619200" indent="-61920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640000"/>
                </a:solidFill>
                <a:latin typeface="Arial"/>
                <a:ea typeface="Constantia"/>
              </a:rPr>
              <a:t>Главные особенности организации групповых   технологий</a:t>
            </a:r>
            <a:r>
              <a:rPr b="1" lang="ru-RU" sz="2800" spc="-1" strike="noStrike">
                <a:solidFill>
                  <a:srgbClr val="640000"/>
                </a:solidFill>
                <a:latin typeface="Arial"/>
                <a:ea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1. деление на группы для решения конкрет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2.Каждая группа получает определенное задание(одинаковое, дифенцированное) и выполняет его сообща под руководством лидера группы или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3. Возможность учесть и оценить в клад каждого члена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640000"/>
                </a:solidFill>
                <a:latin typeface="Arial"/>
                <a:ea typeface="Constantia"/>
              </a:rPr>
              <a:t> </a:t>
            </a: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Состав группы непостоянный и подбирается с учетом возможности максимально эффективной реализации способностей каждого участника в зависимости от содержания и характ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8800" y="1278000"/>
            <a:ext cx="3798720" cy="107784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Результат группов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760" y="1362240"/>
            <a:ext cx="1962000" cy="1546200"/>
          </a:xfrm>
          <a:custGeom>
            <a:avLst/>
            <a:gdLst/>
            <a:ahLst/>
            <a:rect l="l" t="t" r="r" b="b"/>
            <a:pathLst>
              <a:path w="1236" h="974">
                <a:moveTo>
                  <a:pt x="610" y="974"/>
                </a:moveTo>
                <a:lnTo>
                  <a:pt x="292" y="974"/>
                </a:lnTo>
                <a:lnTo>
                  <a:pt x="0" y="787"/>
                </a:lnTo>
                <a:lnTo>
                  <a:pt x="0" y="487"/>
                </a:lnTo>
                <a:lnTo>
                  <a:pt x="0" y="0"/>
                </a:lnTo>
                <a:lnTo>
                  <a:pt x="610" y="0"/>
                </a:lnTo>
                <a:lnTo>
                  <a:pt x="1236" y="0"/>
                </a:lnTo>
                <a:lnTo>
                  <a:pt x="1236" y="478"/>
                </a:lnTo>
                <a:lnTo>
                  <a:pt x="1236" y="974"/>
                </a:lnTo>
                <a:lnTo>
                  <a:pt x="610" y="974"/>
                </a:lnTo>
                <a:close/>
                <a:moveTo>
                  <a:pt x="0" y="787"/>
                </a:moveTo>
                <a:lnTo>
                  <a:pt x="292" y="787"/>
                </a:lnTo>
                <a:lnTo>
                  <a:pt x="292" y="974"/>
                </a:lnTo>
                <a:lnTo>
                  <a:pt x="0" y="787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Добиваюсь 100% присутствия детей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520" y="3287880"/>
            <a:ext cx="2157480" cy="3116160"/>
          </a:xfrm>
          <a:custGeom>
            <a:avLst/>
            <a:gdLst/>
            <a:ahLst/>
            <a:rect l="l" t="t" r="r" b="b"/>
            <a:pathLst>
              <a:path w="1359" h="1963">
                <a:moveTo>
                  <a:pt x="671" y="1963"/>
                </a:moveTo>
                <a:lnTo>
                  <a:pt x="321" y="1963"/>
                </a:lnTo>
                <a:lnTo>
                  <a:pt x="0" y="1587"/>
                </a:lnTo>
                <a:lnTo>
                  <a:pt x="0" y="981"/>
                </a:lnTo>
                <a:lnTo>
                  <a:pt x="0" y="0"/>
                </a:lnTo>
                <a:lnTo>
                  <a:pt x="671" y="0"/>
                </a:lnTo>
                <a:lnTo>
                  <a:pt x="1359" y="0"/>
                </a:lnTo>
                <a:lnTo>
                  <a:pt x="1359" y="963"/>
                </a:lnTo>
                <a:lnTo>
                  <a:pt x="1359" y="1963"/>
                </a:lnTo>
                <a:lnTo>
                  <a:pt x="671" y="1963"/>
                </a:lnTo>
                <a:close/>
                <a:moveTo>
                  <a:pt x="0" y="1587"/>
                </a:moveTo>
                <a:lnTo>
                  <a:pt x="321" y="1587"/>
                </a:lnTo>
                <a:lnTo>
                  <a:pt x="321" y="1963"/>
                </a:lnTo>
                <a:lnTo>
                  <a:pt x="0" y="1587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Дети, пришедшие после болезни или освобожденные, участвуют на уроке в роли судей, ассистентов, а также готовят рефераты [сообщения]</a:t>
            </a:r>
            <a:r>
              <a:rPr b="0" lang="ru-RU" sz="1600" spc="-1" strike="noStrike">
                <a:solidFill>
                  <a:srgbClr val="640000"/>
                </a:solidFill>
                <a:latin typeface="Arial"/>
                <a:ea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94000" y="2870280"/>
            <a:ext cx="2517840" cy="3571920"/>
          </a:xfrm>
          <a:custGeom>
            <a:avLst/>
            <a:gdLst/>
            <a:ahLst/>
            <a:rect l="l" t="t" r="r" b="b"/>
            <a:pathLst>
              <a:path w="1586" h="2250">
                <a:moveTo>
                  <a:pt x="783" y="2250"/>
                </a:moveTo>
                <a:lnTo>
                  <a:pt x="375" y="2250"/>
                </a:lnTo>
                <a:lnTo>
                  <a:pt x="0" y="1820"/>
                </a:lnTo>
                <a:lnTo>
                  <a:pt x="0" y="1124"/>
                </a:lnTo>
                <a:lnTo>
                  <a:pt x="0" y="0"/>
                </a:lnTo>
                <a:lnTo>
                  <a:pt x="783" y="0"/>
                </a:lnTo>
                <a:lnTo>
                  <a:pt x="1586" y="0"/>
                </a:lnTo>
                <a:lnTo>
                  <a:pt x="1586" y="1104"/>
                </a:lnTo>
                <a:lnTo>
                  <a:pt x="1586" y="2250"/>
                </a:lnTo>
                <a:lnTo>
                  <a:pt x="783" y="2250"/>
                </a:lnTo>
                <a:close/>
                <a:moveTo>
                  <a:pt x="0" y="1820"/>
                </a:moveTo>
                <a:lnTo>
                  <a:pt x="375" y="1820"/>
                </a:lnTo>
                <a:lnTo>
                  <a:pt x="375" y="2250"/>
                </a:lnTo>
                <a:lnTo>
                  <a:pt x="0" y="182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Анализ тестирования позволяет мне “выравнивать” недостатки физической подготовленности школьников, подводя их к показателям зоны “высокого уровн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8160" y="1077840"/>
            <a:ext cx="2112840" cy="1916280"/>
          </a:xfrm>
          <a:custGeom>
            <a:avLst/>
            <a:gdLst/>
            <a:ahLst/>
            <a:rect l="l" t="t" r="r" b="b"/>
            <a:pathLst>
              <a:path w="1331" h="1207">
                <a:moveTo>
                  <a:pt x="657" y="1207"/>
                </a:moveTo>
                <a:lnTo>
                  <a:pt x="314" y="1207"/>
                </a:lnTo>
                <a:lnTo>
                  <a:pt x="0" y="976"/>
                </a:lnTo>
                <a:lnTo>
                  <a:pt x="0" y="603"/>
                </a:lnTo>
                <a:lnTo>
                  <a:pt x="0" y="0"/>
                </a:lnTo>
                <a:lnTo>
                  <a:pt x="657" y="0"/>
                </a:lnTo>
                <a:lnTo>
                  <a:pt x="1331" y="0"/>
                </a:lnTo>
                <a:lnTo>
                  <a:pt x="1331" y="592"/>
                </a:lnTo>
                <a:lnTo>
                  <a:pt x="1331" y="1207"/>
                </a:lnTo>
                <a:lnTo>
                  <a:pt x="657" y="1207"/>
                </a:lnTo>
                <a:close/>
                <a:moveTo>
                  <a:pt x="0" y="976"/>
                </a:moveTo>
                <a:lnTo>
                  <a:pt x="314" y="976"/>
                </a:lnTo>
                <a:lnTo>
                  <a:pt x="314" y="1207"/>
                </a:lnTo>
                <a:lnTo>
                  <a:pt x="0" y="976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Адаптир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 </a:t>
            </a: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групповое  обучение к специфическим обстоятельствам, требованиям и учащим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64480" y="3286080"/>
            <a:ext cx="2058840" cy="2736720"/>
          </a:xfrm>
          <a:custGeom>
            <a:avLst/>
            <a:gdLst/>
            <a:ahLst/>
            <a:rect l="l" t="t" r="r" b="b"/>
            <a:pathLst>
              <a:path w="1297" h="1724">
                <a:moveTo>
                  <a:pt x="640" y="1724"/>
                </a:moveTo>
                <a:lnTo>
                  <a:pt x="306" y="1724"/>
                </a:lnTo>
                <a:lnTo>
                  <a:pt x="0" y="1394"/>
                </a:lnTo>
                <a:lnTo>
                  <a:pt x="0" y="861"/>
                </a:lnTo>
                <a:lnTo>
                  <a:pt x="0" y="0"/>
                </a:lnTo>
                <a:lnTo>
                  <a:pt x="640" y="0"/>
                </a:lnTo>
                <a:lnTo>
                  <a:pt x="1297" y="0"/>
                </a:lnTo>
                <a:lnTo>
                  <a:pt x="1297" y="845"/>
                </a:lnTo>
                <a:lnTo>
                  <a:pt x="1297" y="1724"/>
                </a:lnTo>
                <a:lnTo>
                  <a:pt x="640" y="1724"/>
                </a:lnTo>
                <a:close/>
                <a:moveTo>
                  <a:pt x="0" y="1394"/>
                </a:moveTo>
                <a:lnTo>
                  <a:pt x="306" y="1394"/>
                </a:lnTo>
                <a:lnTo>
                  <a:pt x="306" y="1724"/>
                </a:lnTo>
                <a:lnTo>
                  <a:pt x="0" y="139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Постоянно совершенствую навыки коман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 </a:t>
            </a: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  </a:t>
            </a: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5400" y="2212920"/>
            <a:ext cx="8227800" cy="210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612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27000" y="1641600"/>
            <a:ext cx="77853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ль групповой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общение учащихся к урокам физической культур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 здоровому образу жизни, а также подготовка к жизни и к выполнению социальных функц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27000" y="1641600"/>
            <a:ext cx="7642440" cy="36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овой метод используется при изучении нового материала и повторении его, совершенствовании двигательных навыков, развитии физических каче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овой метод может сочетаться с поточными, игровыми, соревновательными метод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4040" y="1448640"/>
            <a:ext cx="864252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знаки группов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класс на данном уроке делится на группы для решения конкретных    учеб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каждая группа получает определенное задание (либо одинаковое, либо дифференцированное) и выполняет его сообща под непосредственным руководством лидера группы или учител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адания в группе выполняются таким способом, который позволяет учитывать и оценивать индивидуальный вклад каждого члена групп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став группы непостоянный, он подбирается с учетом того, чтобы с максимальной эффективностью для коллектива могли реализоваться учебные возможности каждого члена группы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1520" y="2013480"/>
            <a:ext cx="828504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комплектования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ичина групп различна. Она колеблется в пределах 3-6 человек. Состав группы не постоянный. Он меняется в зависимости от содержания и характера предстоящей работы. При этом не менее половины его должны составлять ученики, способные успешно заниматься самостоятельной работ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и групп и сам их состав могут быть разными на разных учебных предметах и подбираются они по принципу объединения школьников разного уровня обученности, внеурочной информированности по данному предмету, совместимости учащихся, что позволяет им взаимно дополнять и компенсировать достоинства и недостатки друг друга. В группе не должно быть негативно настроенных друг к другу учащих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родная групповая работа предполагает выполнение небольшими группами учащихся одинакового для всех задания, а дифференцированная выполнение различных заданий разными группами. В ходе работы членам группы разрешается совместное обсуждение хода и результатов работы, обращение за советом друг к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6960" y="1498320"/>
            <a:ext cx="849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рупповой форме работы учащихся на уроке в значительной степени возрастает и индивидуальная помощь каждому нуждающемуся в ней ученику как со стороны учителя, так и учащихся-консульт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х групповой работы учащихся зависит прежде всего от мастерства учителя, от умения его распределять свое внимание таким образом, чтобы каждая группа и каждый ее участник в отдельности ощущали заботу учителя, его заинтересованность в их успехе, в нормальных плодотворных межличностных отношениях. Всем своим поведением учитель обязан выражать заинтересованность в успехе как сильных, так и слабых учащихся, вселять уверенность им в своих успехах, проявлять уважительное отношение к слабым ученикам.</a:t>
            </a: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flipV="1" rot="10800000">
            <a:off x="719280" y="1588320"/>
            <a:ext cx="7570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стоинства группов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оинства групповой организации учебной работы учащихся на уроке очевидны. Результаты совместной работы учащихся весьма ощутимы как в приучении их к коллективным методам работы, так и в формировании положительных нравственных качеств личности. Но это не говорит о том, что эта форма организации учебной работы идеальна. Ее нельзя универсализировать и противопоставлять другим формам. Каждая из рассмотренных форм организации обучения решает свои специфические учебно-воспитательные задачи. Они взаимно дополняют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1120" y="1427040"/>
            <a:ext cx="8856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пповые технологии как коллективная деятельность предполагаю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ное обогащение учащихся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ю совместных действий, ведущую к активации учебно-познавательны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спределение начальных действий и операций(задается системой заданий, обуславливающихся  особенностями изучаемого объект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ммуникацию, общение, без которых невозможны распределение, обмен и взаимопонимание и благодаря которым планируются адекватные учебной задаче условия деятельности и выбор соответствующих способов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бмен способами действия – задается необходимостью построения различных способов для получения совокупного продукта деятельности – решения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заимопонимание – диктуется характером включения учащихся в совместн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ефлексию, через которую устанавливается отношение участника к собственному действию и обеспечивается адекватная коррекция этого 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84080" y="1855800"/>
            <a:ext cx="75708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nstantia"/>
              </a:rPr>
              <a:t>Групповая форма обучения решает три основ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ретно-познавательную, которая связана с непосредственной учебной ситу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о–развивающую, в процессе которой вырабатываются основные навыки общения внутри группы 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о-ориентационную, воспитывающую гражданские качества, необходимые для адекватной социализации индивида в сообществ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9:26Z</dcterms:created>
  <dc:creator>????</dc:creator>
  <dc:description/>
  <dc:language>en-US</dc:language>
  <cp:lastModifiedBy>acer</cp:lastModifiedBy>
  <dcterms:modified xsi:type="dcterms:W3CDTF">2021-12-14T20:25:51Z</dcterms:modified>
  <cp:revision>0</cp:revision>
  <dc:subject/>
  <dc:title/>
</cp:coreProperties>
</file>