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97FB-CAE1-4F5F-87E7-8F7035ED6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56B-60B1-4142-BEF2-530D16021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BB5-DBF0-4617-A529-BC9166F2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76E-2669-4EDC-957D-75E3AEC1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991B9-F7B2-4171-ADF3-7E89E89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433D-C723-4AB7-8B3E-8303042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0445A-58FA-4C19-832A-A6E3CA89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AB125-4992-4935-9CD3-B6F19BD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D5925-10C1-46F2-8BE3-A24B339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EFA1-DBDB-4B44-AE59-D91B51B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05EF-2449-4E03-B829-06B17EF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E5C82-8167-4D2C-89DB-EFE8E1D5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707B4-C917-4F09-AE40-A4211E48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B445-8029-4E4C-B8AD-D2F555EB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01A-C4A6-42ED-A5E4-C079A813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7C148-9646-4690-B8EC-154A77B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13077-BBB1-43EB-B45B-AFE46DBF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8687-AF5B-41AB-88B2-04B8675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2DF3-BB32-473F-849E-C7FCDDD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F6B9-F342-452C-8E25-AA249BA1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D428E-7221-4611-9DD9-51DC97A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9C466-37BD-4587-8275-479CE49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3DB1E-3236-4F76-8F91-13790E3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30282-3B5F-49F4-AB4E-74020E05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A0944-23FD-4AB9-962A-78A2E49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729-DF29-456A-B0E4-74A31F68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A367B-EC31-4A61-80F7-1D351A4E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0E4A-6DF8-4CC7-851B-233ADB46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3AFD3-DDCC-4D94-8659-2F6259A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04AA-63F0-4FB7-B39A-8245130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6B28E-0DC1-4721-8FDD-F9482B5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8CF01-8DE5-4C1C-865D-AB157C90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FE629-9965-4C3D-BF3B-62297C68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020FF-FDBD-4E52-AE93-84E541B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B65C-9852-4779-814C-85BDE2D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495C2-4A32-45C1-8CB5-82CFD18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450-8D5B-4F4F-A82D-39B85ABB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526D6-44AB-49FA-A769-C6BE2C6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9EE01-C491-4F1F-B365-CB178628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1A41-B6CA-4C7D-9B1A-C15FA3E7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2FBA3-6853-4235-8287-B2B94E0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14B3F-F207-4563-9709-E84654C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D1F2-F86C-4092-ABA2-B398C3B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A95CB-574D-4995-A986-7E1A52D4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81F85-F686-4A91-AC39-2E3D340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09D4-213A-47EF-9D1C-511A294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2F919-4264-49B7-89D1-E1FE9EC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5D2-7D86-4BD9-9443-DB01B7D4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6B725-7865-4794-B883-CE8C2E0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97229-49BA-4604-B38F-FC0830C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A307A-6C64-4929-A6F9-074F529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36EC-0B1C-4AB5-8025-A32C06FD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76518-332E-4711-BA2D-91517614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20FC1-3411-4202-968A-609A91E3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729E3-38B4-4430-A783-105CEEB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8D7A6-BCA1-4711-BB5D-FE35C4DE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211E-65B7-4294-95F0-EF7ACBD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F5865-6A5E-4710-86EA-9FA8473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C5E-3D47-4915-9D9B-291F30CC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F46A3-E2A7-442F-9F45-D6322CF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E6519-D2ED-4AFE-AD84-004F63D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E7427-66EA-412D-ADB5-5491100D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58760-D5B6-4B16-BF75-32CA4AB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74AC3-5581-4D7E-8099-8CE06382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C557B-8D58-4DD9-A201-D3C8405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E5CD1-6B41-476F-B5B5-3735D4D8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AF2F1-3176-46F1-9CD9-4822AABC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B2240-CF94-464E-A0D4-7E6FBC5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1C6FD-93F7-4521-97AC-DB806C7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A7F4-9832-4916-8D82-F6A1200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8FFD9-3141-4E84-8122-B21B437D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C5FD6-8CDC-4D91-AEFC-CE63A4E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0D84B-0F1E-4E4C-B1A2-238172D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A7CDA-B757-4281-BC16-B4699C1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1CBB0-E8CD-4500-9C8F-89A4129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C387C-C5C2-49F3-91CA-E9A2913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64098-C705-4285-B067-9227FEC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7C89A-7C29-4E60-924C-9258A391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CA35C-9C4D-41D3-AA41-CBB3685E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BB8D3-E226-4C3E-95AB-E71AD639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35B-A168-42CD-BAA3-80B4AE2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15163-90F3-4B4B-8651-F29EF84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5DEB9-5E40-4170-92A0-D6C204F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B93D6-E29D-4C68-9559-6DA7860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5EE39-16F8-46B3-834B-FD2DC21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C1BCC-7449-4320-B93B-38E71B74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57C66-0DE0-4D5F-9683-1970F9B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80418-C75B-4185-8F0D-D4540AD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23C54-F106-4F60-8984-DE32163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61B7A-1381-481C-80BD-C3AB90C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CA265-34CF-4C57-8A1C-6D1AF1C2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75E-2E14-4734-A326-010BD56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23D58-8FE4-4E08-839B-27AEC1F0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ACF26-05DC-4CBC-BB47-0511BD0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E29FA-CCC2-49D4-AB72-FDDBBB4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3DC3D-4DB8-4DA3-810D-0C13BD8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E2EFB-02CE-4DD5-92D8-DCA944E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9D51C-0BD0-49D8-B69E-54779BA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F7393-48A7-43CF-90F0-2A09E68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247A7-5CA8-4C36-BF7D-AE7520F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AC275-D59E-40A1-B5A2-0C0D69B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D2C9A-24BF-44F6-BAAA-23788AF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7B9A-BE92-4A30-A1AE-36E9EC8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93B36-D3ED-4897-9F4D-82BF838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20C87-3B2D-4303-A91D-FD5CF71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7EC8B-65C2-418E-ABB9-7E51DE74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C20B7-00BC-407E-A7C1-24AB2A77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5E0B5-07C4-4F3C-97EE-0984AA67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1621E-661B-4E02-8F5D-95D26D0C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097ED-94CD-433B-B743-AE2F8B0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EDB09-CDE7-4355-A743-98939C3D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681AD-7751-4E5E-8BA0-10BCEEE6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09420-6985-4253-9790-E6D9C13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66A-F019-4D91-AFC7-06B97FD3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3510-03E9-430D-8F19-6FE99D6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DCF86-2DD2-4D32-B8D7-A78A435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EDCCB-7572-4371-997D-3B24D1C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C05C5-DFFF-498E-9C45-D404DA0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16B76-E609-4754-81B1-40B5BB79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3E11F-9176-4EC1-A911-28C15C8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D54D-0B00-41C1-9ADA-09B58A2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F38-A18B-4B0A-840F-381D705F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482D-D2F4-40D5-911B-51AA9B1A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561E-0408-4200-A778-29A31E88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1304-5E6C-4A86-9100-81D0B7E0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9D72-5786-493D-9A64-2A33404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A2DB-C26B-4298-9B32-5E1CDCEF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053E-E2A0-45DA-92B2-BFD963B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05A3-F692-4567-892A-BF5D693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391-3B8A-48E7-B912-9B9B224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F500-CF8D-4FD1-9B96-4DB8508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9041-7551-4B43-846E-03503F9F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074A-0C62-4791-9C5F-4ED87A9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73D4-A715-4146-A600-767278C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DCFD-DDD7-4BF1-ABCE-6C0D394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7B5F-CF71-49D7-A458-08DEFD55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03E8-1013-4D34-B729-A9EE9681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AD12-8D91-41BB-BA04-7DBD9DEF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1D42-1AB0-49C9-859B-94DD31C6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D19C-EE2B-4F60-A359-7AFF772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065-69CD-43C6-A23C-E6109B4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D99D-AFBB-48A1-AE48-E2AB2A73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66F4-3F54-4A04-A958-D8ED97AA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093C-9503-4C4A-82A1-D6623204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C7AB-66D1-45F0-8C42-B7B1497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100A-452E-48E2-8E5A-B99B089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3438-5EE8-48E2-8F86-872F81E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FA2B-D639-4236-996B-F06F70AE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695B-10E5-4444-9FCB-5E81025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A0E4-34A3-43C2-B576-37D37D6F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0C63-56DD-4A67-B825-42ED45C2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E47-47FC-46DB-92CE-3A48EAB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E08F-7C2A-422A-BD38-72211833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D280-319E-4D02-A099-55D5BC0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370AC-E4EE-46BD-A1D9-2DA552E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C6F9-206D-4D3D-A22D-A661C1D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ED0A-A92A-4EAD-BBAA-A3C2CD4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3186-C2A3-42A2-BAFC-2610C14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2AF7-7D53-4C79-B1D8-5DF5E1D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0EC8-D7A7-45F9-9B9A-4D7AE1E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848C-DC7C-4961-A842-9D0AD5F0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E938-A44D-4EFD-9649-D813BD41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710-6BE0-4294-BCE7-2A44339E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1B61-D8E6-44F4-9055-F1A3745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F717-BDE7-4C55-A721-A9BC63F1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A268-D5FA-4A8F-96AD-7D29348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2610-0F65-423F-A243-272EB81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4E9E-34ED-4F92-BE1E-70A9394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41ED3-1FB4-4466-9981-B1061F7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27BF-98D6-425C-9389-B8727EE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F4C9-C5FA-4C7A-BE42-ADFA818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6826F-14B8-48EA-9CCA-606F6E3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C3EE5-75C8-44FB-8430-2EE8B95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3AE-D9B2-4E84-9EF2-3DF5492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683D-DDCA-497F-A750-AE22B9F9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AF74-772C-427A-9F88-299F6A18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86C5-D5EA-4190-967F-77276EE5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5B51-7570-46D1-BB2E-7916B66C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BF6C-6592-439C-B1AD-E339EF2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DD421-BED8-4E2D-8CA7-FFD4541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E1EE-BC18-4296-87C7-FB5CC16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3B017-3369-4C6E-88B8-9B01641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4027-648F-430D-A527-CAA6D4D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CB7D-D7A6-4B45-86EE-2A18407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6AA-F72D-4CF5-B807-72CE888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957A-C8CF-4A24-BE78-8174758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D11D0-5A0D-4E03-830A-875F377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4E60-12DD-4BCA-A4F8-E69364D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C5A0-0645-4277-A967-6EB2F0A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C137F-8C5B-4763-8810-AFDAD04E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2644-877D-4989-A5C5-76883EF1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C0B35-EC3D-4262-A1E8-D9C1056E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DC2A-DAAB-40AF-953A-B824729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6B7F6-2764-4402-B0AB-45F99D1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B725-C12B-41FE-A2BE-283F70A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2D9-5FA9-4544-9269-40C164F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4124-367E-490F-86A8-C0E4B313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0C82A-E555-4B33-B7CB-4C447C9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D98D-72F2-4BD5-93DA-19747F02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C641-15BB-4079-A429-F3C290E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0BBB-F07B-4AF6-892B-93F73FF0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0525-4A0F-4C35-8C71-9DA34BCC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F279-3647-4907-90A2-BEA8A73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6D0A-FF84-4AA7-A66E-F92D28BA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EC1A-2122-438B-9A74-C56A42B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95B5A-2E0D-4D9A-AE4A-FA268B75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3F0-CB9C-47B4-8901-0CEFB274FB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F36-8A1F-4131-AD3C-D4A749CBD3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5C6-A30D-4E3A-B947-FC2F5B4E1B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49E-5F9B-40C4-8A18-1E126B1FFB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14C-981D-4FB8-B430-6A3247C6FD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DF0-DCCE-42A2-A73F-93D6E10969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B7E6-4282-468A-81ED-5D2F684AE0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3E1-2EE3-4890-B8D6-8FB5179774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5A8D-53B7-4FD1-84C8-AEA8DEC9D8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D7A-6F6E-4FDF-8368-AD9C51D5A9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B0D-2A60-4109-837A-EC08CDB119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B154-063E-4DE8-97C5-23FE233CA7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E554-0F15-4083-842F-B3768543F1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474-D13D-4F85-903B-542912E395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67C-DEBC-46D3-A821-EFF7A61986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318C-CC29-4E40-B5CC-30E8ADC015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58E-8031-4960-B3F6-7384F12D17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ые роли преподавателя при дистанционном обучении. Трудности дистанционного обучения и как с этим справляться?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люсы и минусы дистанционного обучения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610920" y="980640"/>
            <a:ext cx="7923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ЮС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озможность работать с каждым учеником индивидуальн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. Автоматизация рутинных процес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Шанс освоить новые технологи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4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Игровые задания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5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Более размеренный темп работы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6. Возможность работать в комфортной обстановк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7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Актуальность зна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8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Доступность учебных материалов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УСЫ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971640" y="1413000"/>
            <a:ext cx="770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1. Необходимость разбираться в цифровых технология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. Недостаток личного общ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3. Необходимость работать с мотивацией ученик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4. Отсутствие границы между рабочим и свободным временем.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ности дистанционного обучения и как с ними справляться?</a:t>
            </a:r>
            <a:br>
              <a:rPr sz="28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24000" y="1988640"/>
            <a:ext cx="8712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2292f"/>
                </a:solidFill>
                <a:latin typeface="Times New Roman"/>
                <a:ea typeface="Calibri"/>
              </a:rPr>
              <a:t>проверка домашних заданий у обучающихся (60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2292f"/>
                </a:solidFill>
                <a:latin typeface="Times New Roman"/>
                <a:ea typeface="Calibri"/>
              </a:rPr>
              <a:t>невозможность контролировать процесс восприятия обучающимися материала (56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2292f"/>
                </a:solidFill>
                <a:latin typeface="Times New Roman"/>
                <a:ea typeface="Calibri"/>
              </a:rPr>
              <a:t>о пониженном уровне ответственности обучающихся на онлайн-уроках (52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2292f"/>
                </a:solidFill>
                <a:latin typeface="Times New Roman"/>
                <a:ea typeface="Calibri"/>
              </a:rPr>
              <a:t>проблема с получением выполненных домашних заданий (43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2292f"/>
                </a:solidFill>
                <a:latin typeface="Times New Roman"/>
                <a:ea typeface="Calibri"/>
              </a:rPr>
              <a:t>трудности с наглядной демонстрацией материалов урока (40%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75610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справляться с трудностями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танционного обучения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24000" y="1196640"/>
            <a:ext cx="88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c240c"/>
                </a:solidFill>
                <a:latin typeface="Times New Roman"/>
                <a:ea typeface="Times New Roman"/>
              </a:rPr>
              <a:t>1. ПОСТОЯННАЯ ОБНОВЛЯЕМОСТЬ ТЕХНОЛОГИЧЕСКИХ РЕШЕН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ая задач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для преподавателей заключается в том, чтобы привить в себе устойчивое восприятие новых инструментов и методов обучения и помочь ученикам и студентам сделать то же сам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c240c"/>
                </a:solidFill>
                <a:latin typeface="Times New Roman"/>
                <a:ea typeface="Times New Roman"/>
              </a:rPr>
              <a:t>2. КАК БОРОТЬСЯ С ЧУВСТВОМ ИЗОЛЯ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тернет связывает нас вместе так же надёжно, как и изолируе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это не только процесс обучения, но 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ение человеческих отношений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 РАЦИОНАЛЬНОЕ УПРАВЛЕНИЕ ВРЕМЕНЕ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шение проблемы управления временем также требует от учителей полного охвата цифровых платформ, которые они использую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058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РТУАЛЬНОЕ ОБУЧЕНИЕ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УЙТЕ ПОЗИТИВ!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inherit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9930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ности дистанционного обуч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68000" y="2492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СПРАВИМСЯ!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331640" y="2349360"/>
            <a:ext cx="7202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594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826920" y="1125360"/>
            <a:ext cx="8066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танционное образование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комплекс образовательных услуг, предоставляемый широким слоям населения с помощью специализированной образовательной среды, основанной на использовании новейших информационных технологий, обеспечивающих обмен учебной информацией на расстоянии (спутниковое телевидение, компьютерная связь и т.д.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танционное обучение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-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цесс получения знаний, умений и навыков в системе дистанционного образовани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ные черты дистанционного образования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331640" y="1196640"/>
            <a:ext cx="7202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вая роль преподавателя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: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него возлагаются такие функции, как координирование познавательного процесса, корректировка преподаваемого предмета, консультирование, руководство учебными проектами и др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ализированный контроль качества образования: в качестве форм контроля в дистанционном обучении используются дистанционно организованные экзамены, собеседования, практические, проектные работы,  компьютерные интеллектуальные тестирующие системы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ние специализированных технологий и средств обучения: технология дистанционного обучения - это совокупность методов, форм и средств взаимодействия с учени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активное взаимодействие в процессе обучения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258920" y="1557360"/>
            <a:ext cx="72756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йся  и ресурс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йся и преподавател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Прямоугольник 3"/>
          <p:cNvSpPr/>
          <p:nvPr/>
        </p:nvSpPr>
        <p:spPr>
          <a:xfrm>
            <a:off x="1476360" y="2276640"/>
            <a:ext cx="2664000" cy="1873080"/>
          </a:xfrm>
          <a:prstGeom prst="rect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.Навигация в рамках рес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.Выполнение онлайн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5"/>
          <p:cNvSpPr/>
          <p:nvPr/>
        </p:nvSpPr>
        <p:spPr>
          <a:xfrm>
            <a:off x="5148360" y="2276640"/>
            <a:ext cx="2736720" cy="1873080"/>
          </a:xfrm>
          <a:prstGeom prst="rect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.  Личные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.  Проверка домашних заданий  и заданий с открытым отв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3. Видеоконфе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4.Фору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86920" y="28440"/>
            <a:ext cx="73472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entury Gothic"/>
              </a:rPr>
              <a:t>Основная роль преподавателя</a:t>
            </a: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77623d"/>
                </a:solidFill>
                <a:latin typeface="Times New Roman"/>
                <a:ea typeface="Times New Roman"/>
              </a:rPr>
              <a:t>В традиционной системе образовательного процесса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610920" y="1387440"/>
            <a:ext cx="8281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Овал 4"/>
          <p:cNvSpPr/>
          <p:nvPr/>
        </p:nvSpPr>
        <p:spPr>
          <a:xfrm>
            <a:off x="1547640" y="1484280"/>
            <a:ext cx="2224440" cy="515880"/>
          </a:xfrm>
          <a:prstGeom prst="ellipse">
            <a:avLst/>
          </a:prstGeom>
          <a:solidFill>
            <a:srgbClr val="f5cba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Овал 5"/>
          <p:cNvSpPr/>
          <p:nvPr/>
        </p:nvSpPr>
        <p:spPr>
          <a:xfrm>
            <a:off x="6227640" y="1566720"/>
            <a:ext cx="2160720" cy="443160"/>
          </a:xfrm>
          <a:prstGeom prst="ellipse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трелка вниз 14"/>
          <p:cNvSpPr/>
          <p:nvPr/>
        </p:nvSpPr>
        <p:spPr>
          <a:xfrm>
            <a:off x="2973240" y="855720"/>
            <a:ext cx="374760" cy="5205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трелка вниз 15"/>
          <p:cNvSpPr/>
          <p:nvPr/>
        </p:nvSpPr>
        <p:spPr>
          <a:xfrm>
            <a:off x="6964200" y="866880"/>
            <a:ext cx="360360" cy="5205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6"/>
          <p:cNvSpPr/>
          <p:nvPr/>
        </p:nvSpPr>
        <p:spPr>
          <a:xfrm>
            <a:off x="900000" y="2120760"/>
            <a:ext cx="2016360" cy="897120"/>
          </a:xfrm>
          <a:prstGeom prst="rect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ает готовую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7"/>
          <p:cNvSpPr/>
          <p:nvPr/>
        </p:nvSpPr>
        <p:spPr>
          <a:xfrm>
            <a:off x="6227640" y="2301840"/>
            <a:ext cx="2306880" cy="716040"/>
          </a:xfrm>
          <a:prstGeom prst="rect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Транслирует готов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8"/>
          <p:cNvSpPr/>
          <p:nvPr/>
        </p:nvSpPr>
        <p:spPr>
          <a:xfrm>
            <a:off x="1908000" y="3139920"/>
            <a:ext cx="5416560" cy="398520"/>
          </a:xfrm>
          <a:prstGeom prst="rect">
            <a:avLst/>
          </a:prstGeom>
          <a:solidFill>
            <a:srgbClr val="e1eee9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623d"/>
                </a:solidFill>
                <a:latin typeface="Century Gothic"/>
              </a:rPr>
              <a:t>Дистанцион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Овал 2"/>
          <p:cNvSpPr/>
          <p:nvPr/>
        </p:nvSpPr>
        <p:spPr>
          <a:xfrm>
            <a:off x="755640" y="5013360"/>
            <a:ext cx="3016440" cy="1522440"/>
          </a:xfrm>
          <a:prstGeom prst="ellipse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Осуществляет поиск, выбор, анализ, систематизацию и презентацию информ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Овал 3"/>
          <p:cNvSpPr/>
          <p:nvPr/>
        </p:nvSpPr>
        <p:spPr>
          <a:xfrm>
            <a:off x="1332000" y="4194000"/>
            <a:ext cx="1641240" cy="613080"/>
          </a:xfrm>
          <a:prstGeom prst="ellipse">
            <a:avLst/>
          </a:prstGeom>
          <a:solidFill>
            <a:srgbClr val="fae5c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Стрелка вниз 6"/>
          <p:cNvSpPr/>
          <p:nvPr/>
        </p:nvSpPr>
        <p:spPr>
          <a:xfrm>
            <a:off x="2062080" y="3535200"/>
            <a:ext cx="484200" cy="648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Стрелка вниз 7"/>
          <p:cNvSpPr/>
          <p:nvPr/>
        </p:nvSpPr>
        <p:spPr>
          <a:xfrm>
            <a:off x="6372360" y="3549600"/>
            <a:ext cx="484200" cy="6444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Овал 8"/>
          <p:cNvSpPr/>
          <p:nvPr/>
        </p:nvSpPr>
        <p:spPr>
          <a:xfrm>
            <a:off x="6107040" y="4241880"/>
            <a:ext cx="1633680" cy="530280"/>
          </a:xfrm>
          <a:prstGeom prst="ellipse">
            <a:avLst/>
          </a:prstGeom>
          <a:solidFill>
            <a:srgbClr val="f5cba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Овал 9"/>
          <p:cNvSpPr/>
          <p:nvPr/>
        </p:nvSpPr>
        <p:spPr>
          <a:xfrm>
            <a:off x="5724360" y="5013360"/>
            <a:ext cx="2810160" cy="1511280"/>
          </a:xfrm>
          <a:prstGeom prst="ellipse">
            <a:avLst/>
          </a:prstGeom>
          <a:solidFill>
            <a:srgbClr val="f5cba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Организует деятельность ученика в инновационной образовательной с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ая роль педагога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2920" y="1773360"/>
            <a:ext cx="7131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танционный тьютор (педагог-наставни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дератор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ратор дистанционного обуч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тель информационной образовательной сред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игатор в современном информационном океан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тевой предметный методис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преподавателю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95280" y="148392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ность быстро овладевать  и работать с сетевыми образовательными и коммуникативными технологиями, средствами разработки сетевых курсов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логическая устойчивость и умение работать с виртуальными учениками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к активному обмену информацией с учениками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тимулировать и поощрять работу учеников посредством сетевых технологий и т.д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преподавателя в дистанционном образовании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туальный преподаватель выполняет роль менеджера, обеспечивающего процесс обучения  не как педагог, а как провайдер обучающих информационнальных  носителей. Преподаватель в этом случае больше помогает найти нужный источник информации и предлагает метод его изучения, чем преподает ег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льнейшие развитие систем дистанционного обучения предполагают обеспечение максимальной интерактивности.  Обучение только тогда становится полноценным, когда достигается имитация реального общения с преподавателем, - вот к этому и следует стремитьс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бходимо использовать сочетание различных типов электронных коммуникаций, что позволяет компенсировать недостаток личного контакта за счет виртуального общения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491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 основных причин, вызывающих затруднения у преподава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условиях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танционного образования</a:t>
            </a:r>
            <a:br>
              <a:rPr sz="16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755640" y="1483920"/>
            <a:ext cx="777888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ий уровень информационной культуры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мение организовать эффективное взаимодействие с учащими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мение перестроиться с традиционных форм обучения на новые формы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мение использовать активные методы обуч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ерватизм, отсутствие гибкости у преподавател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75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иятие новых педагогических технологий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Лафазан ЕВ</cp:lastModifiedBy>
  <dcterms:modified xsi:type="dcterms:W3CDTF">2021-01-15T05:55:31Z</dcterms:modified>
  <cp:revision>149</cp:revision>
  <dc:subject/>
  <dc:title>Дистанционное обучение</dc:title>
</cp:coreProperties>
</file>