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77FA-C572-43E4-BA28-87C82DF262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DAA4-8767-48BA-944D-BA16A721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796B-6FC4-409D-8DAE-CFABE7C7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12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84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40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12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84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17100-7982-42E1-98AD-0437112021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3D77F-4B15-42DF-8726-06E881CA26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4B342-6787-4A2A-BCF0-6A1C3A9D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BD49B-787C-4EC8-9F01-2ABBBCF6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E584B-8016-49F3-8411-5E2296BF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C1352-93BB-4CBD-9535-5297F2D5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688C0-DCE0-4175-9C66-CA01136F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C3D5A-1685-4B7B-B997-65F81E06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EF03C-E99C-4379-BF81-8BA0BA10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AEAED-E71F-461A-9E5B-267535B3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99758-4C39-4D70-BD4D-FD189284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C8E8F-BE28-4D53-B4FC-2CA4AAA4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FC93D-4633-44BD-A46A-25A3C91B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912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684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912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684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7BB5B-DC72-44F8-8DB4-27810F5386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E8CEA-C775-4ECA-A3C6-B2EF9148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0912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684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7140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0912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684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9A29-0E4A-48DC-8A11-735B3A53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54F3F-ABE1-4F50-AAB6-221542BC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AFDC3-B6FC-4B5B-9C77-C9B0CDA7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91B55-D1A7-4867-92E0-DB65843E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D5449-7411-4562-A932-20995D73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FFE73-0D4B-4539-845A-8CAD821E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12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A2A7B-94BA-4E49-AFDF-E0977469F12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58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31.12.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58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14C0972-F509-4D4E-A6BE-FAC99E6B5DE4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131760"/>
            <a:ext cx="3781440" cy="2928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319640" y="0"/>
            <a:ext cx="4680000" cy="3060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79280" y="3419640"/>
            <a:ext cx="4141800" cy="3238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176720" y="3419640"/>
            <a:ext cx="4643280" cy="30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19640" cy="360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00720" y="146160"/>
            <a:ext cx="4349520" cy="3633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517840" y="3780000"/>
            <a:ext cx="34210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79640" y="360360"/>
            <a:ext cx="504036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79280"/>
            <a:ext cx="4680000" cy="3959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600360" y="3600360"/>
            <a:ext cx="5399280" cy="33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7380360" cy="550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1-12-03T10:51:56Z</dcterms:modified>
  <cp:revision>27</cp:revision>
  <dc:subject/>
  <dc:title/>
</cp:coreProperties>
</file>