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B315E-9C58-4518-A827-C942FA7D084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780120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1400" y="4158720"/>
            <a:ext cx="780120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D75C3-C4FC-49CF-93AC-9DFADFCD0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380664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840" y="1906200"/>
            <a:ext cx="380664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1400" y="4158720"/>
            <a:ext cx="380664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840" y="4158720"/>
            <a:ext cx="380664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32306-699C-43B0-9752-1A015F29A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251172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9120" y="1906200"/>
            <a:ext cx="251172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6840" y="1906200"/>
            <a:ext cx="251172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1400" y="4158720"/>
            <a:ext cx="251172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9120" y="4158720"/>
            <a:ext cx="251172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6840" y="4158720"/>
            <a:ext cx="251172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87E3A-D775-429E-AEB2-7B74ED95C57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E1C74A-1025-4D12-A867-0210E366BA3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71400" y="1906200"/>
            <a:ext cx="7801200" cy="43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77F4DE-6D44-45DB-B5C8-10994EE34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7801200" cy="431172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C321C3-A41E-496B-BA65-76BF3B5FA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3806640" cy="431172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840" y="1906200"/>
            <a:ext cx="3806640" cy="431172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55EB33-F5E4-41C1-A968-455D076EA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F2A8C9-593D-4448-AAE6-A8674A101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8012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21A6D7-A4A1-47CB-897F-F8BB74FCC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380664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840" y="1906200"/>
            <a:ext cx="3806640" cy="431172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71400" y="4158720"/>
            <a:ext cx="380664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2868D0-1BB6-4A89-A63B-50030FF55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1400" y="1906200"/>
            <a:ext cx="7801200" cy="43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2EB14-8BB5-45CA-ADDF-CB55CD6A2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3806640" cy="431172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840" y="1906200"/>
            <a:ext cx="380664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840" y="4158720"/>
            <a:ext cx="380664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C5A502-6991-4F0E-AFD8-55D85F850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380664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840" y="1906200"/>
            <a:ext cx="380664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71400" y="4158720"/>
            <a:ext cx="780120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2CB8C2-E297-4EF0-B96C-F3A14FA77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780120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71400" y="4158720"/>
            <a:ext cx="780120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C2448A-5943-44B0-A995-7C47F6966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380664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840" y="1906200"/>
            <a:ext cx="380664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71400" y="4158720"/>
            <a:ext cx="380664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840" y="4158720"/>
            <a:ext cx="380664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8FEF88-0EE0-4BFA-88F7-4876F5852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251172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09120" y="1906200"/>
            <a:ext cx="251172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6840" y="1906200"/>
            <a:ext cx="251172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71400" y="4158720"/>
            <a:ext cx="251172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09120" y="4158720"/>
            <a:ext cx="251172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6840" y="4158720"/>
            <a:ext cx="251172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F4F25D-C404-49E7-8CFF-E75207757EE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71400" y="1906200"/>
            <a:ext cx="7801200" cy="43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7801200" cy="431172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3806640" cy="431172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840" y="1906200"/>
            <a:ext cx="3806640" cy="431172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7801200" cy="431172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6F8C1-B29A-4236-8524-ADE4373ED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8012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380664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840" y="1906200"/>
            <a:ext cx="3806640" cy="431172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71400" y="4158720"/>
            <a:ext cx="380664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3806640" cy="431172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840" y="1906200"/>
            <a:ext cx="380664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68840" y="4158720"/>
            <a:ext cx="380664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380664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840" y="1906200"/>
            <a:ext cx="380664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71400" y="4158720"/>
            <a:ext cx="780120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780120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71400" y="4158720"/>
            <a:ext cx="780120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380664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840" y="1906200"/>
            <a:ext cx="380664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71400" y="4158720"/>
            <a:ext cx="380664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68840" y="4158720"/>
            <a:ext cx="380664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251172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309120" y="1906200"/>
            <a:ext cx="251172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46840" y="1906200"/>
            <a:ext cx="251172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71400" y="4158720"/>
            <a:ext cx="251172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309120" y="4158720"/>
            <a:ext cx="251172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46840" y="4158720"/>
            <a:ext cx="251172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3806640" cy="431172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840" y="1906200"/>
            <a:ext cx="3806640" cy="431172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7A127-E131-4BEB-B8D9-6932E2BF4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1AE76-04AC-4D3A-9FD7-4DFB77D66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8012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4C480-097D-4D3C-BF5D-3045FADA7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380664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840" y="1906200"/>
            <a:ext cx="3806640" cy="431172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1400" y="4158720"/>
            <a:ext cx="380664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1F963-6735-436C-B51A-19FCFA890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3806640" cy="431172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840" y="1906200"/>
            <a:ext cx="380664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840" y="4158720"/>
            <a:ext cx="380664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17202-46F5-4CF3-B9FE-8FF6429FA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380664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840" y="1906200"/>
            <a:ext cx="380664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1400" y="4158720"/>
            <a:ext cx="780120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D5AF2-B0E1-46BB-BC61-2F267E508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6000"/>
          </a:bodyPr>
          <a:p>
            <a:pPr marL="32904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258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1.12.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258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813E53-0236-41EC-9295-F843DF9B6C4D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3"/>
          </p:nvPr>
        </p:nvSpPr>
        <p:spPr>
          <a:xfrm>
            <a:off x="456840" y="6356160"/>
            <a:ext cx="212580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31.12.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4"/>
          </p:nvPr>
        </p:nvSpPr>
        <p:spPr>
          <a:xfrm>
            <a:off x="6552720" y="6356160"/>
            <a:ext cx="21258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FFCA4BD-CBD9-4F05-B7B8-CD59328E0508}" type="slidenum"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71400" y="1906200"/>
            <a:ext cx="7801200" cy="431172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2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79280" y="131760"/>
            <a:ext cx="3781440" cy="2928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319640" y="0"/>
            <a:ext cx="4680000" cy="30607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179280" y="3419640"/>
            <a:ext cx="4141800" cy="32382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4176720" y="3419640"/>
            <a:ext cx="4643280" cy="306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319640" cy="3600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500720" y="146160"/>
            <a:ext cx="4349520" cy="3633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2517840" y="3780000"/>
            <a:ext cx="3421080" cy="28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979640" y="360360"/>
            <a:ext cx="5040360" cy="61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79280"/>
            <a:ext cx="4680000" cy="39592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600360" y="3600360"/>
            <a:ext cx="5399280" cy="334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720720"/>
            <a:ext cx="7380360" cy="5505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21-12-03T10:51:56Z</dcterms:modified>
  <cp:revision>27</cp:revision>
  <dc:subject/>
  <dc:title/>
</cp:coreProperties>
</file>