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1BD35-DCF7-422A-A168-D6C6855FD7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39E0A-5379-446A-B1A7-E85CAFFB5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7A564-C27C-4AC3-851F-044E4C50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8DC0-2372-4441-BE92-3D2CD17F8D8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128C7-669F-4A48-87CE-258D914338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E78049-3BF4-4425-B3D6-309E9630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09EA2C-55E2-4C45-8041-89784DD3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23A45-5734-4DE6-A683-86E8096C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14662-094E-4640-93C5-49C35108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CAA30-A00B-4860-A592-E2FDF9A54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B24899-1CA3-4CE4-B69B-DC12AA11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BC16E-67A5-4465-B259-D561C032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437646-B940-46CF-818A-DC3DDE1A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944F0D-305C-4F8F-8653-9BE684472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E5635-7163-4841-B9B5-97AF46C82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44798-9267-482C-92EA-A4FE72F5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399CD-6214-40D2-BB93-D5E09A4F7AA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A7B6-EE55-48B4-B333-54E29855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0912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46840" y="190620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7140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0912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46840" y="4158720"/>
            <a:ext cx="251172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9C36D-DC46-4A84-8B8E-C4AD73629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CD7CA-0887-4FEF-9F24-46F058B78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71400" y="569520"/>
            <a:ext cx="780120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AD465-6A1D-4710-B122-A1DD3C170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899A3-B4E4-4545-8165-87EF5A5D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840" y="415872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EF577-0C7F-4EED-8FDF-2F1868D2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840" y="1906200"/>
            <a:ext cx="380664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71400" y="4158720"/>
            <a:ext cx="7801200" cy="205668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3104D-3236-4F54-AE13-2A85A78C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6000"/>
          </a:bodyPr>
          <a:p>
            <a:pPr marL="32904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29040" indent="-32904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1.12.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2EA6C1-42FB-44AE-952B-883807FE206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58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31.12.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258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D77A9C7-74F3-4457-8D27-BDC40A51BAE1}" type="slidenum"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569520"/>
            <a:ext cx="7801200" cy="11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1400" y="1906200"/>
            <a:ext cx="7801200" cy="4311720"/>
          </a:xfrm>
          <a:prstGeom prst="rect">
            <a:avLst/>
          </a:prstGeom>
          <a:noFill/>
          <a:ln w="0">
            <a:noFill/>
          </a:ln>
        </p:spPr>
        <p:txBody>
          <a:bodyPr lIns="0" rIns="0" tIns="1836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2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lnSpc>
                <a:spcPct val="95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71040" y="569520"/>
            <a:ext cx="7807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131760"/>
            <a:ext cx="3781440" cy="2928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319640" y="0"/>
            <a:ext cx="4680000" cy="3060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79280" y="3419640"/>
            <a:ext cx="4141800" cy="3238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4176720" y="3419640"/>
            <a:ext cx="4643280" cy="30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19640" cy="36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00720" y="146160"/>
            <a:ext cx="4349520" cy="36338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17840" y="3780000"/>
            <a:ext cx="342108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979640" y="360360"/>
            <a:ext cx="5040360" cy="61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79280"/>
            <a:ext cx="4680000" cy="3959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600360" y="3600360"/>
            <a:ext cx="539928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720720"/>
            <a:ext cx="7380360" cy="5505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21-12-03T10:51:56Z</dcterms:modified>
  <cp:revision>27</cp:revision>
  <dc:subject/>
  <dc:title/>
</cp:coreProperties>
</file>