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84FB-977A-4694-B1F9-C1E2E827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81F9-DAD2-4915-8FF1-DE00E688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064D-DD9D-47BD-B65D-957C542C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BB1-EE85-4F0B-9C04-02795457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186E-88E1-4887-A6AA-F5513310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3C2A-1F97-4EE1-88F5-64DCA2CE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889C-0B5D-4145-9DC9-FB2B5170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8867-D08D-4294-86F0-E56E15DB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74A9-DEDF-44D6-8C7B-EE0052F0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7736-CD94-48B7-98DA-15A70066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1AFC-8000-4077-9547-5AF79384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FAA0-23D4-496D-9674-8766AFB6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7425-F6C8-4ED4-B52E-6C7719BC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AB6D-547A-4CFB-9918-55D7E5D8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4B26-4FF2-47D2-A779-2A70DF83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F7D1-B935-4707-B6F4-92F1F4C9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5042-7C83-4A13-845B-ACD8A002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AA1D-6C7B-4C28-86E3-A9EF3F90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006-849A-4C38-B9AB-FCA08CC8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02D8-2E1B-4950-8921-7E08A82C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900D-7DEE-4AF0-B9BA-8D3A21F0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04AC-E946-41D6-BB0E-B9B4263D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1292-1BA1-4B60-AAAC-ABA5CEE4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13A5-7032-4C0C-A32C-FA58D847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4A36-51BA-49F8-88CD-4B2A0706CD4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28954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8E43-9286-4B36-B3F8-F8869495984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32130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i="1" lang="ru-RU" sz="6000" spc="-1" strike="noStrike">
                <a:solidFill>
                  <a:srgbClr val="ffffff"/>
                </a:solidFill>
                <a:latin typeface="Tahoma"/>
              </a:rPr>
              <a:t>МЕЙОЗ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16000" y="83664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Исходная клетка имеет диплоидный набор хромосом, которые затем удваиваются. Но, если при митозе в каждой хромосоме хроматиды просто расходятся, то при мейозе хромосома (состоящая из двух хроматид) тесно 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переплетается своими частями с другой, гомологичной ей хромосомой (также состоящей из двух хроматид), и происходи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россингове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8893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32000" y="1557360"/>
            <a:ext cx="691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Затем уже новые хромосо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с перемешанными «мамиными» и «папиными» генами расходя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и образуются клетки с диплоидным набором хромосом, но состав этих хромосом уже отличается от исходного, в них произошла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рекомбинация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219320" y="907920"/>
          <a:ext cx="7391160" cy="5492880"/>
        </p:xfrm>
        <a:graphic>
          <a:graphicData uri="http://schemas.openxmlformats.org/drawingml/2006/table">
            <a:tbl>
              <a:tblPr/>
              <a:tblGrid>
                <a:gridCol w="2776320"/>
                <a:gridCol w="4614840"/>
              </a:tblGrid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Фаз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роцес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рофаза 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зникшие в телофазе </a:t>
                      </a: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дочерние клетки проходят митотическое деление. Центромеры делятся, хроматиды хромосом обеих дочерних клеток расходятся к их полюсам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Метафаза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Анафаза 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Телофаза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бразование четырех гаплоидных ядер или клеток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693800" y="115920"/>
            <a:ext cx="47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Второе деление мейоз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58920" y="76500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Второе деление мейоза происходит без синтеза ДНК, поэтому при этом делении количество ДНК уменьшается вдвое. Из исходных клеток с диплоидным набором хромосом  возникают гаметы с гаплоидным набор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В результате мейоза из одной диплоидной клетки образуются четыре гаплоидных клетки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16200" y="1068480"/>
            <a:ext cx="593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Гаметогенез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 – это процесс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разования мужских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или женских гамет (половых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клеток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раткий обзор этапов гаметогенеза   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ahoma"/>
              </a:rPr>
              <a:t>Гаметогенез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одразделяется на </a:t>
            </a:r>
            <a:r>
              <a:rPr b="1" i="1" lang="ru-RU" sz="2400" spc="-1" strike="noStrike">
                <a:solidFill>
                  <a:srgbClr val="000066"/>
                </a:solidFill>
                <a:latin typeface="Tahoma"/>
              </a:rPr>
              <a:t>сперматогенез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(процесс образования сперматозоидов у самцов) и </a:t>
            </a:r>
            <a:r>
              <a:rPr b="1" i="1" lang="ru-RU" sz="2400" spc="-1" strike="noStrike">
                <a:solidFill>
                  <a:srgbClr val="000066"/>
                </a:solidFill>
                <a:latin typeface="Tahoma"/>
              </a:rPr>
              <a:t>оогенез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(процесс образования яйцеклетки). По тому, что происходит с ДНК, эти процессы практически не отличаются: одна исходная диплоидная клетка дает четыре гаплоидные. Однако, по тому, что происходит с цитоплазмой, эти процессы кардинально различаютс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9640" y="979560"/>
            <a:ext cx="835344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20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Исходная клетка, из которой в последствии образуется зрелая яйцеклетка, называется ооцитом первого порядка. После деления из него образуется ооцит второго порядка и первое полярное тельце. Затем происходит второе деление мейоза, в результате образуется гаплоидный оотид и второе полярное тельце. Первое полярное тельце за это время тоже успевает поделиться, таким образом всего получается три гаплоидных полярных тельца. В оотиде происходят некоторые процессы созревания и он превращается в яйцеклетку. Она содержащая почти всю цитоплазму исходного ооцита, но гаплоидный набор хромосом. Эти хромосомы уже прошли рекомбинацию, т.е. если исходно клетки содержат одну хромосому от мамы, одну от папы, то в зрелой яйцеклетке в каждой хромосоме чередуются куски, полученные от одного и второго родител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404640"/>
            <a:ext cx="177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Овогене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11280" y="1484280"/>
            <a:ext cx="793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и сперматогенезе цитоплазма исходног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перматоцита первого порядка делится (перво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деление мейоза) поровну между клетками, дава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перматоциты второго порядка. Второе делен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мейоза приводит к образованию гаплоид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перматоцитов второго порядка. Зате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оисходит созревание без деления клетк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большая часть цитоплазмы отбрасывается, 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олучаются сперматозоиды, содержащ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гаплоидный набор хромосом очень мал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цитоплазм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07120" y="39852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Сперматогене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22320" y="1959120"/>
            <a:ext cx="5532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езентацию выполнила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читель биологии МОУ СОШ №1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ычева Людмила Владимиров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43120" y="203040"/>
            <a:ext cx="643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Биологическое значение мейоз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1341360"/>
            <a:ext cx="7307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1. Обеспечивается постоянный для каждого вида полный диплоидный набор хромосом и постоянное количество ДН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2. Возникает большое количество качественно различных половых клеток, что способствует наследственной изменчив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3. Нарушение процесса мейоза приводит к тяжелым нарушениям в развитии организма или к его гибе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8480" y="1844640"/>
            <a:ext cx="89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Каждую секунду на Земле гибнет о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старости, болезней и хищ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астрономическое количество живы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существ, и только благодаря размножению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этому универсальному свойству организмов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жизнь на Земле не прекращается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9640" y="1268280"/>
            <a:ext cx="87663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В основе размножения и индивидуального  развития организм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лежит процесс деления клеток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собый вид деления клеток, в результате которого образуются половые клетки, называют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мейоз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0920" y="1916280"/>
            <a:ext cx="778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В отличие от митоза, при которо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сохраняется число хромосом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олучаемых дочерними клетками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ри мейозе число хромосом в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дочерних клетках уменьшается вдво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5280" y="476280"/>
            <a:ext cx="484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собенности мейоз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0400" y="1125360"/>
            <a:ext cx="8741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Процесс мейоза состоит из дву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последовательных клеточных делений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мейоза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(первое деление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мейоза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I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(второе деление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Удвоение ДНК и хромосом происходит тольк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перед мейозом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В результате первого деления мейоз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называемого 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редукционным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, образуются клетк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с уменьшенным вдвое числом хромос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Второе деление мейоза заканчиваетс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образованием половых клет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rcRect l="42809" t="0" r="3329" b="0"/>
          <a:stretch/>
        </p:blipFill>
        <p:spPr>
          <a:xfrm>
            <a:off x="2017800" y="0"/>
            <a:ext cx="55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219320" y="907920"/>
          <a:ext cx="7391160" cy="5794560"/>
        </p:xfrm>
        <a:graphic>
          <a:graphicData uri="http://schemas.openxmlformats.org/drawingml/2006/table">
            <a:tbl>
              <a:tblPr/>
              <a:tblGrid>
                <a:gridCol w="2344680"/>
                <a:gridCol w="5046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Фаз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роцес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рофаза 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Спаривание гомологичных хромосом (одна из них материнская, другая - отцовская) Образование веретена деле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Метафаза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асположение гомологичных хромосом по экватор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Анафаза 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азделение пар хромосом (состоящих из двух хроматид) и перемещение их к полюсам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Телофаза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бразование дочерних клеток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2412360" y="138240"/>
            <a:ext cx="47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ервое деление мейоз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67564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5:12:31Z</dcterms:created>
  <dc:creator>Юленька</dc:creator>
  <dc:description/>
  <cp:keywords/>
  <dc:language>en-US</dc:language>
  <cp:lastModifiedBy>Ираида</cp:lastModifiedBy>
  <dcterms:modified xsi:type="dcterms:W3CDTF">2008-04-27T15:01:15Z</dcterms:modified>
  <cp:revision>18</cp:revision>
  <dc:subject/>
  <dc:title>              МЕЙО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71049</vt:lpwstr>
  </property>
</Properties>
</file>