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8D7-72E8-41A0-8B3E-54D86725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383-F017-4075-9171-F8D5740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4B1-CE85-4458-826F-EC1F1C30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7E3-FF8C-4A33-AAB5-270E25DD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EDC-DC79-4932-9CE2-C0BBB8E4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6A3D-E136-406A-9187-7EA83AA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E86-1DAF-4A9B-9942-D22CC400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4A7-DCF6-43C3-B5A7-9582152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B6D7-BDCC-469E-9615-34DA944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D56E-FC3D-48AB-A664-60897C35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BF6-4D38-4491-986C-D1571B7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443-95A8-4F59-9C91-3800526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5917-AC2E-4D01-9159-2EB11B7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D0FA-E598-48F3-9618-4DBFDF4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C11-A20B-4D23-A32E-52B8F68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705-03D9-4B01-AEF7-B5B609F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A674-4817-459B-AD1E-5B4C7077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C31-90C3-4F1F-9728-D0168574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9EC-2007-4903-9EC1-044CDFE5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8C8-7051-4A8A-B85C-9668656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3C4-02F5-4472-9AAF-74BE587A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962-ED5F-4B65-A01B-F70F6AF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446-AA26-4011-A4FA-F132729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C27-30E0-41A4-A556-1F121486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F29A-5849-4305-BC52-01FC295A91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8F23-933B-4C2B-8DFC-DA84E607B5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2130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МЕЙОЗ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6000" y="83664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сходная клетка имеет диплоидный набор хромосом, которые затем удваиваются. Но, если при митозе в каждой хромосоме хроматиды просто расходятся, то при мейозе хромосома (состоящая из двух хроматид) тесно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ереплетается своими частями с другой, гомологичной ей хромосомой (также состоящей из двух хроматид), и происходи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россингов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893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557360"/>
            <a:ext cx="691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Затем уже новые хромосо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 перемешанными «мамиными» и «папиными» генами расходя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 образуются клетки с диплоидным набором хромосом, но состав этих хромосом уже отличается от исходного, в них произошл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рекомбинаци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07920"/>
          <a:ext cx="7391160" cy="5492880"/>
        </p:xfrm>
        <a:graphic>
          <a:graphicData uri="http://schemas.openxmlformats.org/drawingml/2006/table">
            <a:tbl>
              <a:tblPr/>
              <a:tblGrid>
                <a:gridCol w="2776320"/>
                <a:gridCol w="461484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Ф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це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зникшие в телофазе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дочерние клетки проходят митотическое деление. Центромеры делятся, хроматиды хромосом обеих дочерних клеток расходятся к их полюсам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ета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на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ло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разование четырех гаплоидных ядер или клето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693800" y="11592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торое дел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920" y="76500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торое деление мейоза происходит без синтеза ДНК, поэтому при этом делении количество ДНК уменьшается вдвое. Из исходных клеток с диплоидным набором хромосом  возникают гаметы с гаплоидным набор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 результате мейоза из одной диплоидной клетки образуются четыре гаплоидных клетки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16200" y="1068480"/>
            <a:ext cx="593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Гаметогенез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– это процес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разования мужски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или женских гамет (половы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клеток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аткий обзор этапов гаметогенеза  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Гаметогенез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дразделяется на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сперматогенез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(процесс образования сперматозоидов у самцов) и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оогенез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(процесс образования яйцеклетки). По тому, что происходит с ДНК, эти процессы практически не отличаются: одна исходная диплоидная клетка дает четыре гаплоидные. Однако, по тому, что происходит с цитоплазмой, эти процессы кардинально различаютс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979560"/>
            <a:ext cx="83534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сходная клетка, из которой в последствии образуется зрелая яйцеклетка, называется ооцитом первого порядка. После деления из него образуется ооцит второго порядка и первое полярное тельце. Затем происходит второе деление мейоза, в результате образуется гаплоидный оотид и второе полярное тельце. Первое полярное тельце за это время тоже успевает поделиться, таким образом всего получается три гаплоидных полярных тельца. В оотиде происходят некоторые процессы созревания и он превращается в яйцеклетку. Она содержащая почти всю цитоплазму исходного ооцита, но гаплоидный набор хромосом. Эти хромосомы уже прошли рекомбинацию, т.е. если исходно клетки содержат одну хромосому от мамы, одну от папы, то в зрелой яйцеклетке в каждой хромосоме чередуются куски, полученные от одного и второго роди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0464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воген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484280"/>
            <a:ext cx="79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сперматогенезе цитоплазма исходно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а первого порядка делится (перв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еление мейоза) поровну между клетками, дав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ы второго порядка. Второе дел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мейоза приводит к образованию гаплоид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ов второго порядка. Зат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оисходит созревание без деления клет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большая часть цитоплазмы отбрасывается,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лучаются сперматозоиды, содержащ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аплоидный набор хромосом очень мал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цитоплазм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07120" y="398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перматоген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2320" y="1959120"/>
            <a:ext cx="553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зентацию выполнила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читель биологии МОУ СОШ №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ычева Людмила Владимиров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120" y="20304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Биологическое знач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341360"/>
            <a:ext cx="73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Обеспечивается постоянный для каждого вида полный диплоидный набор хромосом и постоянное количество ДН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Возникает большое количество качественно различных половых клеток, что способствует наследственной изменчив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 Нарушение процесса мейоза приводит к тяжелым нарушениям в развитии организма или к его гиб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8480" y="1844640"/>
            <a:ext cx="89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Каждую секунду на Земле гибнет о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тарости, болезней и хищ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астрономическое количество жив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уществ, и только благодаря размножению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тому универсальному свойству организмов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жизнь на Земле не прекращается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268280"/>
            <a:ext cx="8766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 основе размножения и индивидуального  развития организм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лежит процесс деления кле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собый вид деления клеток, в результате которого образуются половые клетки, называют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мейоз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0920" y="1916280"/>
            <a:ext cx="778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 отличие от митоза, при котор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охраняется число хромосом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олучаемых дочерними клетками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и мейозе число хромосом 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дочерних клетках уменьшается вдв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476280"/>
            <a:ext cx="48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обенности мейоз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0400" y="1125360"/>
            <a:ext cx="8741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роцесс мейоза состоит из дву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оследовательных клеточных делений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мейоза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(первое деление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мейоза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(второе делен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Удвоение ДНК и хромосом происходит толь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еред мейозом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 результате первого деления мейоз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зываемого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редукционным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, образуются клет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 уменьшенным вдвое числом хромос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торое деление мейоза заканчивает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бразованием половых кл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42809" t="0" r="3329" b="0"/>
          <a:stretch/>
        </p:blipFill>
        <p:spPr>
          <a:xfrm>
            <a:off x="20178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907920"/>
          <a:ext cx="7391160" cy="5794560"/>
        </p:xfrm>
        <a:graphic>
          <a:graphicData uri="http://schemas.openxmlformats.org/drawingml/2006/table">
            <a:tbl>
              <a:tblPr/>
              <a:tblGrid>
                <a:gridCol w="2344680"/>
                <a:gridCol w="5046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Ф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це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паривание гомологичных хромосом (одна из них материнская, другая - отцовская) Образование веретена дел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ета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сположение гомологичных хромосом по экватор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на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зделение пар хромосом (состоящих из двух хроматид) и перемещение их к полюса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ло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разование дочерних клето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412360" y="13824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ервое дел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75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5:12:31Z</dcterms:created>
  <dc:creator>Юленька</dc:creator>
  <dc:description/>
  <cp:keywords/>
  <dc:language>en-US</dc:language>
  <cp:lastModifiedBy>Ираида</cp:lastModifiedBy>
  <dcterms:modified xsi:type="dcterms:W3CDTF">2008-04-27T15:01:15Z</dcterms:modified>
  <cp:revision>18</cp:revision>
  <dc:subject/>
  <dc:title>              МЕЙО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</Properties>
</file>