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5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4.png" ContentType="image/png"/>
  <Override PartName="/ppt/media/image46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2E8-3A32-4BAF-86AD-5BA31416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AF5-CEDF-4698-B592-68649901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87E-59DC-4A80-A41F-ED31E8E7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359-8F33-4DAB-9530-29F1A570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2AC38-FC2E-4DD3-B12E-0B54905B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48EE3-9511-4687-804D-CB3DBBE4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81C9F-3C8C-48BD-9A2C-9DDFC6E0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A263D-F0D1-4926-9C94-D5D79032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E15F7-8B60-42ED-AC3E-934DFDE5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36E88-BF7C-4ED8-B749-340B007E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4AF44-3080-4B7C-89A6-0940BE9C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00A-F689-4683-880D-B067D234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5B63F-8DA8-4D49-A833-69B43198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A288F-C754-43F3-A526-931524F3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DFBC3-8854-4C1D-82B2-E4A24892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545F6-6E20-410B-BC5D-B3D363A1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0C95D-AA76-400D-A3BB-D4CC7786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B36-F6E3-4EE0-8D7E-903D4508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E32-45AC-4FED-AD18-F7EB1B91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B2F-A59E-4807-A105-C62D6123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8A1-27B7-4BCC-AD6C-D86F55A5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C1F-0422-49D1-A2C6-6A4AB44B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1E6-BE0A-476F-8463-0919BF2D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700-281C-45F4-A79B-E22A2A55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ac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e58b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CDC7-F100-4A0F-8A95-C8165B13E9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ac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e58b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CF25-4C1A-4D9E-B8B8-F609038061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8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36872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3a447"/>
            </a:solidFill>
            <a:miter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«Основные направления эволюционного прогресса. Биологический прогресс и биологический регресс»</a:t>
            </a:r>
            <a:endParaRPr b="0" lang="en-US" sz="28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85960" y="4436640"/>
            <a:ext cx="48657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3366"/>
              </a:solidFill>
              <a:latin typeface="Tahoma"/>
              <a:ea typeface="Arial"/>
            </a:endParaRPr>
          </a:p>
        </p:txBody>
      </p:sp>
      <p:pic>
        <p:nvPicPr>
          <p:cNvPr id="85" name="Picture 6" descr="IMG_5901"/>
          <p:cNvPicPr/>
          <p:nvPr/>
        </p:nvPicPr>
        <p:blipFill>
          <a:blip r:embed="rId3"/>
          <a:stretch/>
        </p:blipFill>
        <p:spPr>
          <a:xfrm>
            <a:off x="611280" y="26028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muxolovka"/>
          <p:cNvPicPr/>
          <p:nvPr/>
        </p:nvPicPr>
        <p:blipFill>
          <a:blip r:embed="rId4"/>
          <a:stretch/>
        </p:blipFill>
        <p:spPr>
          <a:xfrm>
            <a:off x="6643800" y="4429080"/>
            <a:ext cx="2143080" cy="1952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1"/>
          <p:cNvSpPr/>
          <p:nvPr/>
        </p:nvSpPr>
        <p:spPr>
          <a:xfrm>
            <a:off x="2286000" y="571680"/>
            <a:ext cx="66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2943720" y="571680"/>
            <a:ext cx="591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ГАПОУ СО «Калининский техникум агробизнес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ароморфоз!"/>
          <p:cNvPicPr/>
          <p:nvPr/>
        </p:nvPicPr>
        <p:blipFill>
          <a:blip r:embed="rId1"/>
          <a:stretch/>
        </p:blipFill>
        <p:spPr>
          <a:xfrm>
            <a:off x="1692360" y="981000"/>
            <a:ext cx="5400720" cy="561816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44" name="Picture 13" descr="counter"/>
          <p:cNvPicPr/>
          <p:nvPr/>
        </p:nvPicPr>
        <p:blipFill>
          <a:blip r:embed="rId2"/>
          <a:stretch/>
        </p:blipFill>
        <p:spPr>
          <a:xfrm>
            <a:off x="2556000" y="1393920"/>
            <a:ext cx="2025360" cy="20257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"/>
          <p:cNvSpPr/>
          <p:nvPr/>
        </p:nvSpPr>
        <p:spPr>
          <a:xfrm>
            <a:off x="1710000" y="189000"/>
            <a:ext cx="540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упные Ароморфо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диоадаптация</a:t>
            </a: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292360" y="1628280"/>
            <a:ext cx="3382920" cy="403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931970"/>
                </a:solidFill>
                <a:latin typeface="Arial"/>
                <a:ea typeface="Arial"/>
              </a:rPr>
              <a:t>Это приспособления живого мира к окружающей среде, открывающие перед организмами возможность прогрессивного развития без принципиальной перестройки их биологической организ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11" descr="bio01-068"/>
          <p:cNvPicPr/>
          <p:nvPr/>
        </p:nvPicPr>
        <p:blipFill>
          <a:blip r:embed="rId1"/>
          <a:stretch/>
        </p:blipFill>
        <p:spPr>
          <a:xfrm>
            <a:off x="0" y="1989000"/>
            <a:ext cx="5219640" cy="3313080"/>
          </a:xfrm>
          <a:prstGeom prst="rect">
            <a:avLst/>
          </a:prstGeom>
          <a:ln w="25560">
            <a:solidFill>
              <a:srgbClr val="f3a447"/>
            </a:solidFill>
            <a:miter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разнообразие форм у насекомоядных млекопитающих"/>
          <p:cNvPicPr/>
          <p:nvPr/>
        </p:nvPicPr>
        <p:blipFill>
          <a:blip r:embed="rId1"/>
          <a:stretch/>
        </p:blipFill>
        <p:spPr>
          <a:xfrm>
            <a:off x="500040" y="1401840"/>
            <a:ext cx="8215200" cy="50274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5"/>
          <p:cNvSpPr txBox="1"/>
          <p:nvPr/>
        </p:nvSpPr>
        <p:spPr>
          <a:xfrm>
            <a:off x="7143840" y="333360"/>
            <a:ext cx="3571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1067400" y="189000"/>
            <a:ext cx="71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нообразие фор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диоадаптации у насекомояд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193840"/>
            <a:ext cx="411624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785840" y="1928880"/>
            <a:ext cx="3969000" cy="428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Существуют некоторые общие причины, которые во всех группах животного царства способны вызывать дегенерацию. Такое действие оказывает, например, паразитический образ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9" descr="104609"/>
          <p:cNvPicPr/>
          <p:nvPr/>
        </p:nvPicPr>
        <p:blipFill>
          <a:blip r:embed="rId1"/>
          <a:stretch/>
        </p:blipFill>
        <p:spPr>
          <a:xfrm>
            <a:off x="468360" y="1990800"/>
            <a:ext cx="4033800" cy="41749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303840" y="333360"/>
            <a:ext cx="85442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генер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кое упрощение организации, связанное с исчезнов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ых систем органов и фун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708000" y="1412640"/>
            <a:ext cx="504036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Саккулина – корнеголовый рак (паразит краба). Имеет вид мешка, набитого половыми продуктами, и обладающая как бы корневой системой, пронизывающей тело хозяи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а) – саккулина, прикреплённая к нижней стороне краб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б) – её корневидные отростки внутри тела краб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638_1"/>
          <p:cNvPicPr/>
          <p:nvPr/>
        </p:nvPicPr>
        <p:blipFill>
          <a:blip r:embed="rId1"/>
          <a:stretch/>
        </p:blipFill>
        <p:spPr>
          <a:xfrm>
            <a:off x="324000" y="3716280"/>
            <a:ext cx="3095640" cy="281484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58" name="Picture 9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200400" cy="221940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sp>
        <p:nvSpPr>
          <p:cNvPr id="159" name="TextBox 6"/>
          <p:cNvSpPr/>
          <p:nvPr/>
        </p:nvSpPr>
        <p:spPr>
          <a:xfrm>
            <a:off x="2089440" y="260280"/>
            <a:ext cx="476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дегенер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932360" y="1483920"/>
            <a:ext cx="3743280" cy="446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ahoma"/>
                <a:ea typeface="Times New Roman"/>
              </a:rPr>
              <a:t>С особенною силою дегенерация наблюдается у паразитов внутренностных, живущих в глубине органов или тканей другого животного и устраненных от всякого непосредственного влияния внешней сре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ahoma"/>
                <a:ea typeface="Times New Roman"/>
              </a:rPr>
              <a:t>В некоторых случаях дегенерация строения доходит до потери пищеварительного канала (ленточные глис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11" descr="ascarida"/>
          <p:cNvPicPr/>
          <p:nvPr/>
        </p:nvPicPr>
        <p:blipFill>
          <a:blip r:embed="rId1"/>
          <a:stretch/>
        </p:blipFill>
        <p:spPr>
          <a:xfrm>
            <a:off x="642960" y="1484280"/>
            <a:ext cx="3857760" cy="4392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826920" y="587700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33cc"/>
                </a:solidFill>
                <a:latin typeface="Tahoma"/>
                <a:ea typeface="Arial"/>
              </a:rPr>
              <a:t>Аскари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5"/>
          <p:cNvSpPr/>
          <p:nvPr/>
        </p:nvSpPr>
        <p:spPr>
          <a:xfrm>
            <a:off x="611280" y="33336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 дегенерации  парази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787640" y="1989000"/>
            <a:ext cx="3678120" cy="350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931970"/>
                </a:solidFill>
                <a:latin typeface="Arial"/>
                <a:ea typeface="Arial"/>
              </a:rPr>
              <a:t>Другое распространенное явление, влекущее за собой дегенеративные изменения организма, — это сидячий, прикреплённый образ жизн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1" descr="ракообразные паразиты - изоподы Антарктики"/>
          <p:cNvPicPr/>
          <p:nvPr/>
        </p:nvPicPr>
        <p:blipFill>
          <a:blip r:embed="rId1"/>
          <a:stretch/>
        </p:blipFill>
        <p:spPr>
          <a:xfrm>
            <a:off x="324000" y="476280"/>
            <a:ext cx="3743280" cy="2376360"/>
          </a:xfrm>
          <a:prstGeom prst="rect">
            <a:avLst/>
          </a:prstGeom>
          <a:ln w="25560">
            <a:solidFill>
              <a:srgbClr val="f3a447"/>
            </a:solidFill>
            <a:miter/>
          </a:ln>
        </p:spPr>
      </p:pic>
      <p:pic>
        <p:nvPicPr>
          <p:cNvPr id="166" name="Picture 12" descr="ракообразные, паразиты рыб"/>
          <p:cNvPicPr/>
          <p:nvPr/>
        </p:nvPicPr>
        <p:blipFill>
          <a:blip r:embed="rId2"/>
          <a:srcRect l="0" t="0" r="0" b="13229"/>
          <a:stretch/>
        </p:blipFill>
        <p:spPr>
          <a:xfrm>
            <a:off x="324000" y="3789360"/>
            <a:ext cx="3743280" cy="216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3"/>
          <p:cNvSpPr/>
          <p:nvPr/>
        </p:nvSpPr>
        <p:spPr>
          <a:xfrm>
            <a:off x="395280" y="292428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Tahoma"/>
                <a:ea typeface="Arial"/>
              </a:rPr>
              <a:t>Ракообразные-паразиты изоподы Антаркт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468360" y="623736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ahoma"/>
                <a:ea typeface="Arial"/>
              </a:rPr>
              <a:t>Ракообразные паразиты ры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4218840" y="404640"/>
            <a:ext cx="491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генеративны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я организм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716360" y="1988640"/>
            <a:ext cx="3743280" cy="32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3197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Нередко дегенерации подвергаются лишь отдельные органы. Жизнь в постоянной темноте сопровождается дегенерацией глаз у самых различных животных: подземные животные (крот), пещерные (протей), глубоководны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10" descr="крот"/>
          <p:cNvPicPr/>
          <p:nvPr/>
        </p:nvPicPr>
        <p:blipFill>
          <a:blip r:embed="rId1"/>
          <a:stretch/>
        </p:blipFill>
        <p:spPr>
          <a:xfrm>
            <a:off x="539640" y="1268280"/>
            <a:ext cx="3571920" cy="2232000"/>
          </a:xfrm>
          <a:prstGeom prst="rect">
            <a:avLst/>
          </a:prstGeom>
          <a:ln w="25560">
            <a:solidFill>
              <a:srgbClr val="f3a447"/>
            </a:solidFill>
            <a:miter/>
          </a:ln>
        </p:spPr>
      </p:pic>
      <p:sp>
        <p:nvSpPr>
          <p:cNvPr id="172" name="Text Box 13"/>
          <p:cNvSpPr/>
          <p:nvPr/>
        </p:nvSpPr>
        <p:spPr>
          <a:xfrm>
            <a:off x="468360" y="623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ahoma"/>
                <a:ea typeface="Arial"/>
              </a:rPr>
              <a:t>      </a:t>
            </a:r>
            <a:r>
              <a:rPr b="0" lang="ru-RU" sz="1800" spc="-1" strike="noStrike">
                <a:solidFill>
                  <a:srgbClr val="0033cc"/>
                </a:solidFill>
                <a:latin typeface="Tahoma"/>
                <a:ea typeface="Arial"/>
              </a:rPr>
              <a:t>Протей европей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900000" y="350028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ahoma"/>
                <a:ea typeface="Arial"/>
              </a:rPr>
              <a:t>К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2"/>
          <a:stretch/>
        </p:blipFill>
        <p:spPr>
          <a:xfrm>
            <a:off x="611280" y="4005360"/>
            <a:ext cx="3384360" cy="22795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7"/>
          <p:cNvSpPr/>
          <p:nvPr/>
        </p:nvSpPr>
        <p:spPr>
          <a:xfrm>
            <a:off x="2148840" y="333360"/>
            <a:ext cx="53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ы дегенер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2006640" cy="2376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50920" y="350028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  <a:ea typeface="Arial"/>
              </a:rPr>
              <a:t>Трубчатые черв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2843280" y="2708280"/>
            <a:ext cx="2260440" cy="23050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2991600" y="5300640"/>
            <a:ext cx="201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  <a:ea typeface="Arial"/>
              </a:rPr>
              <a:t>Волосатик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  <a:ea typeface="Arial"/>
              </a:rPr>
              <a:t>паразит насеком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3"/>
          <a:stretch/>
        </p:blipFill>
        <p:spPr>
          <a:xfrm>
            <a:off x="5786280" y="3429000"/>
            <a:ext cx="2611440" cy="2266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9"/>
          <p:cNvSpPr/>
          <p:nvPr/>
        </p:nvSpPr>
        <p:spPr>
          <a:xfrm>
            <a:off x="6160320" y="602136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  <a:ea typeface="Arial"/>
              </a:rPr>
              <a:t>Мшанка ползуч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203184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2721240" y="476280"/>
            <a:ext cx="476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дегенер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15" descr="bio01-065"/>
          <p:cNvPicPr/>
          <p:nvPr/>
        </p:nvPicPr>
        <p:blipFill>
          <a:blip r:embed="rId1"/>
          <a:srcRect l="850" t="1179" r="841" b="1165"/>
          <a:stretch/>
        </p:blipFill>
        <p:spPr>
          <a:xfrm>
            <a:off x="395280" y="476280"/>
            <a:ext cx="8353440" cy="5925960"/>
          </a:xfrm>
          <a:prstGeom prst="rect">
            <a:avLst/>
          </a:prstGeom>
          <a:ln w="9360">
            <a:solidFill>
              <a:srgbClr val="dd7e0e"/>
            </a:solidFill>
            <a:miter/>
          </a:ln>
        </p:spPr>
      </p:pic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Понятие вид и история его становления в биоло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Дать характеристику морфологическому и генетическому критериям в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Дать характеристику физиолого – биохимическому и этологическому критериям в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Дать характеристику экологическому и географичекому критериям в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771640" y="1268280"/>
            <a:ext cx="39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d26"/>
                </a:solidFill>
                <a:latin typeface="Arial"/>
                <a:ea typeface="Arial"/>
              </a:rPr>
              <a:t>( вопросы для повторе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201320" y="549360"/>
            <a:ext cx="648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«Вид.Критерии вид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28760" y="1213920"/>
            <a:ext cx="8400960" cy="535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ff"/>
                </a:solidFill>
                <a:latin typeface="Tahoma"/>
              </a:rPr>
              <a:t>Эволюция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идет по двум направлениям: </a:t>
            </a:r>
            <a:r>
              <a:rPr b="0" i="1" lang="ru-RU" sz="2000" spc="-1" strike="noStrike">
                <a:solidFill>
                  <a:srgbClr val="dd7e0e"/>
                </a:solidFill>
                <a:latin typeface="Tahoma"/>
              </a:rPr>
              <a:t>биологический регресс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(ведет к вымиранию вида) и </a:t>
            </a:r>
            <a:r>
              <a:rPr b="0" i="1" lang="ru-RU" sz="2000" spc="-1" strike="noStrike">
                <a:solidFill>
                  <a:srgbClr val="dd7e0e"/>
                </a:solidFill>
                <a:latin typeface="Tahoma"/>
              </a:rPr>
              <a:t>биологический прогресс</a:t>
            </a:r>
            <a:r>
              <a:rPr b="0" lang="ru-RU" sz="2000" spc="-1" strike="noStrike">
                <a:solidFill>
                  <a:srgbClr val="dd7e0e"/>
                </a:solidFill>
                <a:latin typeface="Tahoma"/>
              </a:rPr>
              <a:t>. 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Биологический прогресс протекает  тремя путям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dd7e0e"/>
                </a:solidFill>
                <a:uFillTx/>
                <a:latin typeface="Tahoma"/>
              </a:rPr>
              <a:t>Ароморфоз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- возникновение в ходе эволюции признаков, которые существенно повышают уровень организации живых организм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мер: Выход организмов из воды на сушу, живорождение, поддержание  постоянства температуры тела у млекопитающи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dd7e0e"/>
                </a:solidFill>
                <a:uFillTx/>
                <a:latin typeface="Tahoma"/>
              </a:rPr>
              <a:t>Идиоадаптация</a:t>
            </a:r>
            <a:r>
              <a:rPr b="0" lang="ru-RU" sz="2000" spc="-1" strike="noStrike">
                <a:solidFill>
                  <a:srgbClr val="9eb16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- это приспособления живого мира к окружающей сре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мер: Покровительственная окраска у животных 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8e58b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dd7e0e"/>
                </a:solidFill>
                <a:uFillTx/>
                <a:latin typeface="Tahoma"/>
              </a:rPr>
              <a:t>Дегенерация</a:t>
            </a:r>
            <a:r>
              <a:rPr b="0" lang="ru-RU" sz="2000" spc="-1" strike="noStrike">
                <a:solidFill>
                  <a:srgbClr val="dd7e0e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– это резкое упрощение организации, связанное с исчезновением целых систем органов и функ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eb16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мер: подземные животные (крот), пещерные (протей), глубоководные организм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Прямоугольник 3" descr=""/>
          <p:cNvPicPr/>
          <p:nvPr/>
        </p:nvPicPr>
        <p:blipFill>
          <a:blip r:embed="rId1"/>
          <a:stretch/>
        </p:blipFill>
        <p:spPr>
          <a:xfrm>
            <a:off x="469800" y="0"/>
            <a:ext cx="814392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биосфера будущего"/>
          <p:cNvPicPr/>
          <p:nvPr/>
        </p:nvPicPr>
        <p:blipFill>
          <a:blip r:embed="rId1"/>
          <a:srcRect l="9362" t="1415" r="3222" b="5704"/>
          <a:stretch/>
        </p:blipFill>
        <p:spPr>
          <a:xfrm>
            <a:off x="611280" y="1341360"/>
            <a:ext cx="3641760" cy="4897440"/>
          </a:xfrm>
          <a:prstGeom prst="rect">
            <a:avLst/>
          </a:prstGeom>
          <a:ln w="25560">
            <a:solidFill>
              <a:srgbClr val="f3a447"/>
            </a:solidFill>
            <a:miter/>
          </a:ln>
        </p:spPr>
      </p:pic>
      <p:pic>
        <p:nvPicPr>
          <p:cNvPr id="189" name="Picture 5" descr="влияние человека на биосферу"/>
          <p:cNvPicPr/>
          <p:nvPr/>
        </p:nvPicPr>
        <p:blipFill>
          <a:blip r:embed="rId2"/>
          <a:srcRect l="16497" t="1561" r="4365" b="-1515"/>
          <a:stretch/>
        </p:blipFill>
        <p:spPr>
          <a:xfrm>
            <a:off x="5076720" y="1336680"/>
            <a:ext cx="3456000" cy="49006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844200" y="333360"/>
            <a:ext cx="71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действие человека на природ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57f07"/>
          <p:cNvPicPr/>
          <p:nvPr/>
        </p:nvPicPr>
        <p:blipFill>
          <a:blip r:embed="rId1"/>
          <a:srcRect l="2511" t="2766" r="2528" b="2787"/>
          <a:stretch/>
        </p:blipFill>
        <p:spPr>
          <a:xfrm>
            <a:off x="3203640" y="4013280"/>
            <a:ext cx="2808360" cy="251136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92" name="Picture 5" descr="490d4"/>
          <p:cNvPicPr/>
          <p:nvPr/>
        </p:nvPicPr>
        <p:blipFill>
          <a:blip r:embed="rId2"/>
          <a:stretch/>
        </p:blipFill>
        <p:spPr>
          <a:xfrm>
            <a:off x="250920" y="3429000"/>
            <a:ext cx="2736720" cy="252108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93" name="Picture 6" descr="716fb"/>
          <p:cNvPicPr/>
          <p:nvPr/>
        </p:nvPicPr>
        <p:blipFill>
          <a:blip r:embed="rId3"/>
          <a:stretch/>
        </p:blipFill>
        <p:spPr>
          <a:xfrm>
            <a:off x="6084720" y="404640"/>
            <a:ext cx="2808360" cy="253548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94" name="Picture 7" descr="805c9"/>
          <p:cNvPicPr/>
          <p:nvPr/>
        </p:nvPicPr>
        <p:blipFill>
          <a:blip r:embed="rId4"/>
          <a:stretch/>
        </p:blipFill>
        <p:spPr>
          <a:xfrm>
            <a:off x="324000" y="333360"/>
            <a:ext cx="2663640" cy="259416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95" name="Picture 8" descr="a1264"/>
          <p:cNvPicPr/>
          <p:nvPr/>
        </p:nvPicPr>
        <p:blipFill>
          <a:blip r:embed="rId5"/>
          <a:stretch/>
        </p:blipFill>
        <p:spPr>
          <a:xfrm>
            <a:off x="6227640" y="3500280"/>
            <a:ext cx="2629080" cy="273528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sp>
        <p:nvSpPr>
          <p:cNvPr id="196" name="Oval 9"/>
          <p:cNvSpPr/>
          <p:nvPr/>
        </p:nvSpPr>
        <p:spPr>
          <a:xfrm>
            <a:off x="3132000" y="1125360"/>
            <a:ext cx="2880000" cy="273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Влия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антропоге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фак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755640" y="1557360"/>
            <a:ext cx="756144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Климатические изме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арушение озонового сло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Загрязнение атмосферы и гидросф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Уничтожение ле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Изменение состояния поч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ыни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теря биоразнообразия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549360" y="476280"/>
            <a:ext cx="81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обальные экологические пробл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332000" y="1699920"/>
            <a:ext cx="6408720" cy="33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  <a:ea typeface="Arial"/>
              </a:rPr>
              <a:t>Биологический прогресс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  <a:ea typeface="Arial"/>
              </a:rPr>
              <a:t>Биологический регресс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  <a:ea typeface="Arial"/>
              </a:rPr>
              <a:t>Ароморфоз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  <a:ea typeface="Arial"/>
              </a:rPr>
              <a:t>Идиоадаптац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  <a:ea typeface="Arial"/>
              </a:rPr>
              <a:t>Дегенерац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1922760" y="549360"/>
            <a:ext cx="537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ясните терми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10153"/>
          <p:cNvPicPr/>
          <p:nvPr/>
        </p:nvPicPr>
        <p:blipFill>
          <a:blip r:embed="rId1"/>
          <a:stretch/>
        </p:blipFill>
        <p:spPr>
          <a:xfrm>
            <a:off x="179280" y="1916280"/>
            <a:ext cx="1944720" cy="208908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202" name="Picture 9" descr="крот"/>
          <p:cNvPicPr/>
          <p:nvPr/>
        </p:nvPicPr>
        <p:blipFill>
          <a:blip r:embed="rId2"/>
          <a:stretch/>
        </p:blipFill>
        <p:spPr>
          <a:xfrm>
            <a:off x="3059280" y="4797360"/>
            <a:ext cx="2592360" cy="187164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203" name="Picture 10" descr="pesec"/>
          <p:cNvPicPr/>
          <p:nvPr/>
        </p:nvPicPr>
        <p:blipFill>
          <a:blip r:embed="rId3"/>
          <a:stretch/>
        </p:blipFill>
        <p:spPr>
          <a:xfrm>
            <a:off x="6227640" y="4508640"/>
            <a:ext cx="2297160" cy="177156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204" name="Picture 11" descr="3ping"/>
          <p:cNvPicPr/>
          <p:nvPr/>
        </p:nvPicPr>
        <p:blipFill>
          <a:blip r:embed="rId4"/>
          <a:stretch/>
        </p:blipFill>
        <p:spPr>
          <a:xfrm>
            <a:off x="250920" y="4581360"/>
            <a:ext cx="2217600" cy="197496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205" name="Picture 12" descr="morzh"/>
          <p:cNvPicPr/>
          <p:nvPr/>
        </p:nvPicPr>
        <p:blipFill>
          <a:blip r:embed="rId5"/>
          <a:stretch/>
        </p:blipFill>
        <p:spPr>
          <a:xfrm>
            <a:off x="6084720" y="2133720"/>
            <a:ext cx="2519640" cy="185724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sp>
        <p:nvSpPr>
          <p:cNvPr id="206" name="WordArt 18"/>
          <p:cNvSpPr txBox="1"/>
          <p:nvPr/>
        </p:nvSpPr>
        <p:spPr>
          <a:xfrm>
            <a:off x="971640" y="1125360"/>
            <a:ext cx="72007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роморфоз, идиоадаптация, дегенерация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2124000" y="342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255600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416560" y="357336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5651640" y="587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8593200" y="3516480"/>
            <a:ext cx="4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8524080" y="581976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  <a:ea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1" descr="ideo"/>
          <p:cNvPicPr/>
          <p:nvPr/>
        </p:nvPicPr>
        <p:blipFill>
          <a:blip r:embed="rId6"/>
          <a:stretch/>
        </p:blipFill>
        <p:spPr>
          <a:xfrm>
            <a:off x="3348000" y="1844640"/>
            <a:ext cx="1873440" cy="280836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sp>
        <p:nvSpPr>
          <p:cNvPr id="214" name="TextBox 15"/>
          <p:cNvSpPr/>
          <p:nvPr/>
        </p:nvSpPr>
        <p:spPr>
          <a:xfrm>
            <a:off x="32040" y="333360"/>
            <a:ext cx="91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дите соотношения понятий и рисун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6"/>
          <p:cNvSpPr/>
          <p:nvPr/>
        </p:nvSpPr>
        <p:spPr>
          <a:xfrm>
            <a:off x="395280" y="112536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Group 80" descr=""/>
          <p:cNvPicPr/>
          <p:nvPr/>
        </p:nvPicPr>
        <p:blipFill>
          <a:blip r:embed="rId1"/>
          <a:stretch/>
        </p:blipFill>
        <p:spPr>
          <a:xfrm>
            <a:off x="328680" y="1384200"/>
            <a:ext cx="8120160" cy="50896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434880" y="404640"/>
            <a:ext cx="744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истика биологического прогресса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ологического регре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708360" y="2492280"/>
            <a:ext cx="1800360" cy="1203480"/>
          </a:xfrm>
          <a:prstGeom prst="rect">
            <a:avLst/>
          </a:prstGeom>
          <a:solidFill>
            <a:srgbClr val="f1d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Критер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39640" y="907920"/>
            <a:ext cx="2808360" cy="1081080"/>
          </a:xfrm>
          <a:prstGeom prst="rect">
            <a:avLst/>
          </a:prstGeom>
          <a:solidFill>
            <a:srgbClr val="f1d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(сходство процессов, протекающ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в организмах одного вид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не скрещиваемость разных видов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68360" y="2708280"/>
            <a:ext cx="2303280" cy="1152360"/>
          </a:xfrm>
          <a:prstGeom prst="rect">
            <a:avLst/>
          </a:prstGeom>
          <a:solidFill>
            <a:srgbClr val="f1d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Морфол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( сходство признак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внешнего строения 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особей одного вид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468360" y="4724280"/>
            <a:ext cx="2519280" cy="1152720"/>
          </a:xfrm>
          <a:prstGeom prst="rect">
            <a:avLst/>
          </a:prstGeom>
          <a:solidFill>
            <a:srgbClr val="f1d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Экол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(обитание особей од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вида в определённых, сходн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экологических условиях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564000" y="4724280"/>
            <a:ext cx="2303280" cy="1131840"/>
          </a:xfrm>
          <a:prstGeom prst="rect">
            <a:avLst/>
          </a:prstGeom>
          <a:solidFill>
            <a:srgbClr val="f1d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Генет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( определённый набо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хромосом у особ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одного вид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300720" y="4724280"/>
            <a:ext cx="2232000" cy="1152720"/>
          </a:xfrm>
          <a:prstGeom prst="rect">
            <a:avLst/>
          </a:prstGeom>
          <a:solidFill>
            <a:srgbClr val="f1d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Этолог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(присущие только данном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виду живот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особенности поведен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6300720" y="2637000"/>
            <a:ext cx="2303640" cy="1223640"/>
          </a:xfrm>
          <a:prstGeom prst="rect">
            <a:avLst/>
          </a:prstGeom>
          <a:solidFill>
            <a:srgbClr val="f1d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Географ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(обитание особей од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вида в предела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общего ареал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5651640" y="836640"/>
            <a:ext cx="2952720" cy="1152360"/>
          </a:xfrm>
          <a:prstGeom prst="rect">
            <a:avLst/>
          </a:prstGeom>
          <a:solidFill>
            <a:srgbClr val="f1d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Биохим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44d26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сходный хим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состав внутриклеточ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44d26"/>
                </a:solidFill>
                <a:latin typeface="Arial"/>
              </a:rPr>
              <a:t>среды у особей одного вид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 flipV="1">
            <a:off x="4572000" y="1413000"/>
            <a:ext cx="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4500720" y="14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H="1">
            <a:off x="3348000" y="1413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8"/>
          <p:cNvSpPr/>
          <p:nvPr/>
        </p:nvSpPr>
        <p:spPr>
          <a:xfrm flipH="1">
            <a:off x="2771640" y="3213000"/>
            <a:ext cx="93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5508720" y="3213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4"/>
          <p:cNvSpPr/>
          <p:nvPr/>
        </p:nvSpPr>
        <p:spPr>
          <a:xfrm>
            <a:off x="4643280" y="3645000"/>
            <a:ext cx="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25"/>
          <p:cNvSpPr/>
          <p:nvPr/>
        </p:nvSpPr>
        <p:spPr>
          <a:xfrm>
            <a:off x="4643280" y="429264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26"/>
          <p:cNvSpPr/>
          <p:nvPr/>
        </p:nvSpPr>
        <p:spPr>
          <a:xfrm flipH="1">
            <a:off x="1692000" y="4292640"/>
            <a:ext cx="295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27"/>
          <p:cNvSpPr/>
          <p:nvPr/>
        </p:nvSpPr>
        <p:spPr>
          <a:xfrm>
            <a:off x="169236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8"/>
          <p:cNvSpPr/>
          <p:nvPr/>
        </p:nvSpPr>
        <p:spPr>
          <a:xfrm>
            <a:off x="745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2788920" y="18900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ви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7280" y="1773000"/>
            <a:ext cx="7956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ahoma"/>
              </a:rPr>
              <a:t>Эволюция – процесс исторического развития живой природы на основе изменчивости, наследственности и естественного отб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2340000" y="404640"/>
            <a:ext cx="66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Либо виды без эволюции, либо эволюция без видов".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22" descr="Северцов Алексей Николаевич"/>
          <p:cNvPicPr/>
          <p:nvPr/>
        </p:nvPicPr>
        <p:blipFill>
          <a:blip r:embed="rId1"/>
          <a:stretch/>
        </p:blipFill>
        <p:spPr>
          <a:xfrm>
            <a:off x="3492360" y="3213000"/>
            <a:ext cx="1905120" cy="238932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14" name="Picture 23" descr="Шмальгаузен иван Иванович"/>
          <p:cNvPicPr/>
          <p:nvPr/>
        </p:nvPicPr>
        <p:blipFill>
          <a:blip r:embed="rId2"/>
          <a:stretch/>
        </p:blipFill>
        <p:spPr>
          <a:xfrm>
            <a:off x="6516720" y="3213000"/>
            <a:ext cx="1878120" cy="237672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sp>
        <p:nvSpPr>
          <p:cNvPr id="115" name="Text Box 24"/>
          <p:cNvSpPr/>
          <p:nvPr/>
        </p:nvSpPr>
        <p:spPr>
          <a:xfrm flipV="1">
            <a:off x="3564000" y="5650200"/>
            <a:ext cx="25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  <a:ea typeface="Arial"/>
              </a:rPr>
              <a:t>Северц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  <a:ea typeface="Arial"/>
              </a:rPr>
              <a:t>Алексей Николаеви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  <a:ea typeface="Arial"/>
              </a:rPr>
              <a:t>(1866 – 193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6372360" y="55897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  <a:ea typeface="Arial"/>
              </a:rPr>
              <a:t>Шмальгауз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  <a:ea typeface="Arial"/>
              </a:rPr>
              <a:t>Иван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  <a:ea typeface="Arial"/>
              </a:rPr>
              <a:t>(1884 – 196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7" descr="images"/>
          <p:cNvPicPr/>
          <p:nvPr/>
        </p:nvPicPr>
        <p:blipFill>
          <a:blip r:embed="rId3"/>
          <a:stretch/>
        </p:blipFill>
        <p:spPr>
          <a:xfrm>
            <a:off x="179280" y="333360"/>
            <a:ext cx="2089080" cy="171936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18" name="Picture 28" descr="лента времени"/>
          <p:cNvPicPr/>
          <p:nvPr/>
        </p:nvPicPr>
        <p:blipFill>
          <a:blip r:embed="rId4"/>
          <a:stretch/>
        </p:blipFill>
        <p:spPr>
          <a:xfrm>
            <a:off x="179280" y="2421000"/>
            <a:ext cx="2592360" cy="367200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10fb0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правления эволюции</a:t>
            </a:r>
            <a:endParaRPr b="0" lang="en-US" sz="40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0280" cy="41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buClr>
                <a:srgbClr val="8e58b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Биологический прогр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  <a:ea typeface="Arial"/>
              </a:rPr>
              <a:t>-    Возрастание приспособленности организмов к окружающей сре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  <a:ea typeface="Arial"/>
              </a:rPr>
              <a:t>Увеличение численности в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  <a:ea typeface="Arial"/>
              </a:rPr>
              <a:t>Расширение ареа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e58b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Биологический регр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  <a:ea typeface="Arial"/>
              </a:rPr>
              <a:t>Снижение уровня приспособленности к условиям об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  <a:ea typeface="Arial"/>
              </a:rPr>
              <a:t>Уменьшение численности в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58b6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  <a:ea typeface="Arial"/>
              </a:rPr>
              <a:t>Сокращение ареа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87948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3" name="Прямая со стрелкой 6"/>
          <p:cNvCxnSpPr/>
          <p:nvPr/>
        </p:nvCxnSpPr>
        <p:spPr>
          <a:xfrm flipH="1">
            <a:off x="2428200" y="1284840"/>
            <a:ext cx="1215000" cy="500760"/>
          </a:xfrm>
          <a:prstGeom prst="straightConnector1">
            <a:avLst/>
          </a:prstGeom>
          <a:ln w="38160">
            <a:solidFill>
              <a:srgbClr val="dd7e0e"/>
            </a:solidFill>
            <a:miter/>
            <a:tailEnd len="med" type="arrow" w="med"/>
          </a:ln>
        </p:spPr>
      </p:cxnSp>
      <p:cxnSp>
        <p:nvCxnSpPr>
          <p:cNvPr id="124" name="Прямая со стрелкой 8"/>
          <p:cNvCxnSpPr/>
          <p:nvPr/>
        </p:nvCxnSpPr>
        <p:spPr>
          <a:xfrm>
            <a:off x="5143680" y="1285560"/>
            <a:ext cx="1357920" cy="500760"/>
          </a:xfrm>
          <a:prstGeom prst="straightConnector1">
            <a:avLst/>
          </a:prstGeom>
          <a:ln w="38160">
            <a:solidFill>
              <a:srgbClr val="dd7e0e"/>
            </a:solidFill>
            <a:miter/>
            <a:tailEnd len="med" type="arrow" w="med"/>
          </a:ln>
        </p:spPr>
      </p:cxn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6" descr="bio01-067"/>
          <p:cNvPicPr/>
          <p:nvPr/>
        </p:nvPicPr>
        <p:blipFill>
          <a:blip r:embed="rId1"/>
          <a:stretch/>
        </p:blipFill>
        <p:spPr>
          <a:xfrm>
            <a:off x="3276720" y="4221000"/>
            <a:ext cx="2590560" cy="244800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pic>
        <p:nvPicPr>
          <p:cNvPr id="126" name="Picture 20" descr="выход рыб на сушу"/>
          <p:cNvPicPr/>
          <p:nvPr/>
        </p:nvPicPr>
        <p:blipFill>
          <a:blip r:embed="rId2"/>
          <a:stretch/>
        </p:blipFill>
        <p:spPr>
          <a:xfrm>
            <a:off x="250920" y="4255920"/>
            <a:ext cx="2808360" cy="241308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grpSp>
        <p:nvGrpSpPr>
          <p:cNvPr id="127" name="Organization Chart 7"/>
          <p:cNvGrpSpPr/>
          <p:nvPr/>
        </p:nvGrpSpPr>
        <p:grpSpPr>
          <a:xfrm>
            <a:off x="324000" y="260280"/>
            <a:ext cx="8319240" cy="3841920"/>
            <a:chOff x="324000" y="260280"/>
            <a:chExt cx="8319240" cy="3841920"/>
          </a:xfrm>
        </p:grpSpPr>
        <p:cxnSp>
          <p:nvCxnSpPr>
            <p:cNvPr id="128" name="_s1028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556240" y="725400"/>
              <a:ext cx="765000" cy="2910240"/>
            </a:xfrm>
            <a:prstGeom prst="bentConnector3">
              <a:avLst>
                <a:gd name="adj1" fmla="val 149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029"/>
            <p:cNvCxnSpPr>
              <a:stCxn id="132" idx="0"/>
              <a:endCxn id="130" idx="2"/>
            </p:cNvCxnSpPr>
            <p:nvPr/>
          </p:nvCxnSpPr>
          <p:spPr>
            <a:xfrm flipV="1">
              <a:off x="4483800" y="1798200"/>
              <a:ext cx="3240" cy="76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030"/>
            <p:cNvCxnSpPr>
              <a:stCxn id="134" idx="0"/>
              <a:endCxn id="130" idx="2"/>
            </p:cNvCxnSpPr>
            <p:nvPr/>
          </p:nvCxnSpPr>
          <p:spPr>
            <a:xfrm flipH="1" flipV="1" rot="5400000">
              <a:off x="2646360" y="725400"/>
              <a:ext cx="765000" cy="2910960"/>
            </a:xfrm>
            <a:prstGeom prst="bentConnector3">
              <a:avLst>
                <a:gd name="adj1" fmla="val 149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0" name="_s1031"/>
            <p:cNvSpPr/>
            <p:nvPr/>
          </p:nvSpPr>
          <p:spPr>
            <a:xfrm>
              <a:off x="3234240" y="260280"/>
              <a:ext cx="2499120" cy="1538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Биологически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прогрес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032"/>
            <p:cNvSpPr/>
            <p:nvPr/>
          </p:nvSpPr>
          <p:spPr>
            <a:xfrm>
              <a:off x="324000" y="2563560"/>
              <a:ext cx="2499120" cy="15386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Ароморфо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033"/>
            <p:cNvSpPr/>
            <p:nvPr/>
          </p:nvSpPr>
          <p:spPr>
            <a:xfrm>
              <a:off x="3234240" y="2563560"/>
              <a:ext cx="2499120" cy="15386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Идиоадаптац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034"/>
            <p:cNvSpPr/>
            <p:nvPr/>
          </p:nvSpPr>
          <p:spPr>
            <a:xfrm>
              <a:off x="6144120" y="2563560"/>
              <a:ext cx="2499120" cy="15386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Дегенерац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" name="Picture 23" descr="teniar"/>
          <p:cNvPicPr/>
          <p:nvPr/>
        </p:nvPicPr>
        <p:blipFill>
          <a:blip r:embed="rId7"/>
          <a:stretch/>
        </p:blipFill>
        <p:spPr>
          <a:xfrm>
            <a:off x="6227640" y="4203720"/>
            <a:ext cx="2487600" cy="245124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биологический пргресс"/>
          <p:cNvPicPr/>
          <p:nvPr/>
        </p:nvPicPr>
        <p:blipFill>
          <a:blip r:embed="rId1"/>
          <a:srcRect l="0" t="10383" r="197" b="5383"/>
          <a:stretch/>
        </p:blipFill>
        <p:spPr>
          <a:xfrm>
            <a:off x="1476360" y="836640"/>
            <a:ext cx="6191280" cy="5688000"/>
          </a:xfrm>
          <a:prstGeom prst="rect">
            <a:avLst/>
          </a:prstGeom>
          <a:ln w="9360">
            <a:solidFill>
              <a:srgbClr val="f3a447"/>
            </a:solidFill>
            <a:miter/>
          </a:ln>
        </p:spPr>
      </p:pic>
      <p:sp>
        <p:nvSpPr>
          <p:cNvPr id="137" name="Text Box 6"/>
          <p:cNvSpPr/>
          <p:nvPr/>
        </p:nvSpPr>
        <p:spPr>
          <a:xfrm>
            <a:off x="1547640" y="260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  <a:ea typeface="Arial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ути биологического прогре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Tahoma"/>
              </a:rPr>
              <a:t>         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оморфоз</a:t>
            </a: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03640" y="1773360"/>
            <a:ext cx="3679920" cy="41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3a44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(по А.Н.Северцову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931970"/>
                </a:solidFill>
                <a:latin typeface="Arial"/>
                <a:ea typeface="Arial"/>
              </a:rPr>
              <a:t>Возникновение в ходе эволюции признаков, которые существенно повышают уровень организации живых организ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9" descr="bio01-066"/>
          <p:cNvPicPr/>
          <p:nvPr/>
        </p:nvPicPr>
        <p:blipFill>
          <a:blip r:embed="rId1"/>
          <a:stretch/>
        </p:blipFill>
        <p:spPr>
          <a:xfrm>
            <a:off x="250920" y="1628640"/>
            <a:ext cx="468144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оморфозы Архейской эры</a:t>
            </a:r>
            <a:endParaRPr b="0" lang="en-US" sz="4400" spc="-1" strike="noStrike">
              <a:solidFill>
                <a:srgbClr val="fefac9"/>
              </a:solidFill>
              <a:latin typeface="Tahoma"/>
            </a:endParaRPr>
          </a:p>
        </p:txBody>
      </p:sp>
      <p:pic>
        <p:nvPicPr>
          <p:cNvPr id="142" name="Picture 4" descr="ароморфозы архея"/>
          <p:cNvPicPr/>
          <p:nvPr/>
        </p:nvPicPr>
        <p:blipFill>
          <a:blip r:embed="rId1"/>
          <a:stretch/>
        </p:blipFill>
        <p:spPr>
          <a:xfrm>
            <a:off x="870120" y="1609560"/>
            <a:ext cx="7373880" cy="405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4:53:38Z</dcterms:created>
  <dc:creator>Дмитрий</dc:creator>
  <dc:description/>
  <dc:language>en-US</dc:language>
  <cp:lastModifiedBy>Nonna</cp:lastModifiedBy>
  <dcterms:modified xsi:type="dcterms:W3CDTF">2022-01-03T18:46:20Z</dcterms:modified>
  <cp:revision>239</cp:revision>
  <dc:subject/>
  <dc:title>Основные направления эволюции органического мира.</dc:title>
</cp:coreProperties>
</file>