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352-C437-49BB-BED8-0FB8BADF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CF8-17EB-496D-BF84-DB797FF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707-A969-4D6F-9C76-93C3557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30E-2EFA-4800-AA14-F0A240DF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E684-8414-48CA-8D4D-99870534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F9D67-574B-4F0A-B746-F77C44E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FFD15-5D45-4FAC-A402-548F75C0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F5071-647C-4684-A8D0-9CC892A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10A6-F6EC-4188-B034-C87EFB2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4F5EF-465C-497F-9A5B-FC2C4684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4C3B2-D328-4ADA-A7D5-DB4D28C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2BC-3295-407B-BF17-81029551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AD2B4-00E1-4954-A024-EB0E16B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1407-6319-4D6C-9390-4A15CB1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8109-F1A4-47C5-BEE7-8AAEFEF9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B2799-60AF-4760-AD6B-AF45BF4C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E838D-2B52-4415-BEE3-88305D6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2FC-4C54-4D76-9736-5AB9F6C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71B-6A6B-478E-88CF-407165A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144-7C4C-4263-A50B-0D2CD99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CEE-3E48-4A24-B211-ACE0635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F12-0E34-4AB3-855B-D1F7264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A8B-DCDE-49B1-8211-447AAC81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176-4E33-4439-88F7-C2B1DA2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e58b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1982-48C5-482F-AABF-E32FC806A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e58b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207-1729-48AC-A109-1F59D20523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36872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3a447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«Основные направления эволюционного прогресса. Биологический прогресс и биологический регресс»</a:t>
            </a:r>
            <a:endParaRPr b="0" lang="en-US" sz="28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85960" y="4436640"/>
            <a:ext cx="48657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3366"/>
              </a:solidFill>
              <a:latin typeface="Tahoma"/>
              <a:ea typeface="Arial"/>
            </a:endParaRPr>
          </a:p>
        </p:txBody>
      </p:sp>
      <p:pic>
        <p:nvPicPr>
          <p:cNvPr id="85" name="Picture 6" descr="IMG_5901"/>
          <p:cNvPicPr/>
          <p:nvPr/>
        </p:nvPicPr>
        <p:blipFill>
          <a:blip r:embed="rId3"/>
          <a:stretch/>
        </p:blipFill>
        <p:spPr>
          <a:xfrm>
            <a:off x="611280" y="26028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uxolovka"/>
          <p:cNvPicPr/>
          <p:nvPr/>
        </p:nvPicPr>
        <p:blipFill>
          <a:blip r:embed="rId4"/>
          <a:stretch/>
        </p:blipFill>
        <p:spPr>
          <a:xfrm>
            <a:off x="6643800" y="4429080"/>
            <a:ext cx="214308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2286000" y="571680"/>
            <a:ext cx="66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943720" y="57168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АПОУ СО «Калининский техникум агробизне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ароморфоз!"/>
          <p:cNvPicPr/>
          <p:nvPr/>
        </p:nvPicPr>
        <p:blipFill>
          <a:blip r:embed="rId1"/>
          <a:stretch/>
        </p:blipFill>
        <p:spPr>
          <a:xfrm>
            <a:off x="1692360" y="981000"/>
            <a:ext cx="5400720" cy="56181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44" name="Picture 13" descr="counter"/>
          <p:cNvPicPr/>
          <p:nvPr/>
        </p:nvPicPr>
        <p:blipFill>
          <a:blip r:embed="rId2"/>
          <a:stretch/>
        </p:blipFill>
        <p:spPr>
          <a:xfrm>
            <a:off x="2556000" y="1393920"/>
            <a:ext cx="202536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1710000" y="189000"/>
            <a:ext cx="54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пные Ароморфо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диоадаптация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33829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931970"/>
                </a:solidFill>
                <a:latin typeface="Arial"/>
                <a:ea typeface="Arial"/>
              </a:rPr>
              <a:t>Это приспособления живого мира к окружающей среде, открывающие перед организмами возможность прогрессивного развития без принципиальной перестройки их биологической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1" descr="bio01-068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331308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разнообразие форм у насекомоядных млекопитающих"/>
          <p:cNvPicPr/>
          <p:nvPr/>
        </p:nvPicPr>
        <p:blipFill>
          <a:blip r:embed="rId1"/>
          <a:stretch/>
        </p:blipFill>
        <p:spPr>
          <a:xfrm>
            <a:off x="500040" y="1401840"/>
            <a:ext cx="8215200" cy="50274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7143840" y="333360"/>
            <a:ext cx="3571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067400" y="189000"/>
            <a:ext cx="71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образие фор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диоадаптации у насекомояд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193840"/>
            <a:ext cx="411624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85840" y="1928880"/>
            <a:ext cx="396900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Существуют некоторые общие причины, которые во всех группах животного царства способны вызывать дегенерацию. Такое действие оказывает, например, паразитически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9" descr="104609"/>
          <p:cNvPicPr/>
          <p:nvPr/>
        </p:nvPicPr>
        <p:blipFill>
          <a:blip r:embed="rId1"/>
          <a:stretch/>
        </p:blipFill>
        <p:spPr>
          <a:xfrm>
            <a:off x="468360" y="1990800"/>
            <a:ext cx="4033800" cy="417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303840" y="333360"/>
            <a:ext cx="8544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генер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кое упрощение организации, связанное с исчезнов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ых систем органов и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708000" y="1412640"/>
            <a:ext cx="5040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Саккулина – корнеголовый рак (паразит краба). Имеет вид мешка, набитого половыми продуктами, и обладающая как бы корневой системой, пронизывающей тело хозя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а) – саккулина, прикреплённая к нижней стороне краб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б) – её корневидные отростки внутри тела краб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638_1"/>
          <p:cNvPicPr/>
          <p:nvPr/>
        </p:nvPicPr>
        <p:blipFill>
          <a:blip r:embed="rId1"/>
          <a:stretch/>
        </p:blipFill>
        <p:spPr>
          <a:xfrm>
            <a:off x="324000" y="3716280"/>
            <a:ext cx="3095640" cy="28148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200400" cy="22194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59" name="TextBox 6"/>
          <p:cNvSpPr/>
          <p:nvPr/>
        </p:nvSpPr>
        <p:spPr>
          <a:xfrm>
            <a:off x="2089440" y="260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дегенер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932360" y="1483920"/>
            <a:ext cx="3743280" cy="446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ahoma"/>
                <a:ea typeface="Times New Roman"/>
              </a:rPr>
              <a:t>С особенною силою дегенерация наблюдается у паразитов внутренностных, живущих в глубине органов или тканей другого животного и устраненных от всякого непосредственного влияния внешне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ahoma"/>
                <a:ea typeface="Times New Roman"/>
              </a:rPr>
              <a:t>В некоторых случаях дегенерация строения доходит до потери пищеварительного канала (ленточные глис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1" descr="ascarida"/>
          <p:cNvPicPr/>
          <p:nvPr/>
        </p:nvPicPr>
        <p:blipFill>
          <a:blip r:embed="rId1"/>
          <a:stretch/>
        </p:blipFill>
        <p:spPr>
          <a:xfrm>
            <a:off x="642960" y="1484280"/>
            <a:ext cx="3857760" cy="439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826920" y="587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Аскари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611280" y="3333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дегенерации  парази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787640" y="1989000"/>
            <a:ext cx="3678120" cy="350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931970"/>
                </a:solidFill>
                <a:latin typeface="Arial"/>
                <a:ea typeface="Arial"/>
              </a:rPr>
              <a:t>Другое распространенное явление, влекущее за собой дегенеративные изменения организма, — это сидячий, прикреплённый образ жи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1" descr="ракообразные паразиты - изоподы Антарктики"/>
          <p:cNvPicPr/>
          <p:nvPr/>
        </p:nvPicPr>
        <p:blipFill>
          <a:blip r:embed="rId1"/>
          <a:stretch/>
        </p:blipFill>
        <p:spPr>
          <a:xfrm>
            <a:off x="324000" y="476280"/>
            <a:ext cx="3743280" cy="237636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pic>
        <p:nvPicPr>
          <p:cNvPr id="166" name="Picture 12" descr="ракообразные, паразиты рыб"/>
          <p:cNvPicPr/>
          <p:nvPr/>
        </p:nvPicPr>
        <p:blipFill>
          <a:blip r:embed="rId2"/>
          <a:srcRect l="0" t="0" r="0" b="13229"/>
          <a:stretch/>
        </p:blipFill>
        <p:spPr>
          <a:xfrm>
            <a:off x="324000" y="3789360"/>
            <a:ext cx="374328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3"/>
          <p:cNvSpPr/>
          <p:nvPr/>
        </p:nvSpPr>
        <p:spPr>
          <a:xfrm>
            <a:off x="395280" y="292428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ahoma"/>
                <a:ea typeface="Arial"/>
              </a:rPr>
              <a:t>Ракообразные-паразиты изоподы Антарк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68360" y="62373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Ракообразные паразиты ры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218840" y="404640"/>
            <a:ext cx="49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генератив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организм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716360" y="1988640"/>
            <a:ext cx="3743280" cy="32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197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Нередко дегенерации подвергаются лишь отдельные органы. Жизнь в постоянной темноте сопровождается дегенерацией глаз у самых различных животных: подземные животные (крот), пещерные (протей), глубоководн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0" descr="крот"/>
          <p:cNvPicPr/>
          <p:nvPr/>
        </p:nvPicPr>
        <p:blipFill>
          <a:blip r:embed="rId1"/>
          <a:stretch/>
        </p:blipFill>
        <p:spPr>
          <a:xfrm>
            <a:off x="539640" y="1268280"/>
            <a:ext cx="3571920" cy="223200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sp>
        <p:nvSpPr>
          <p:cNvPr id="172" name="Text Box 13"/>
          <p:cNvSpPr/>
          <p:nvPr/>
        </p:nvSpPr>
        <p:spPr>
          <a:xfrm>
            <a:off x="4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Протей европе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900000" y="350028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К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384360" cy="2279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2148840" y="333360"/>
            <a:ext cx="53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дегенер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2006640" cy="23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50920" y="3500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Трубчатые чер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226044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2991600" y="5300640"/>
            <a:ext cx="201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Волосатик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паразит насеком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3"/>
          <a:stretch/>
        </p:blipFill>
        <p:spPr>
          <a:xfrm>
            <a:off x="5786280" y="3429000"/>
            <a:ext cx="2611440" cy="2266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6160320" y="6021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Мшанка ползуч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031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721240" y="476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дегенер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15" descr="bio01-065"/>
          <p:cNvPicPr/>
          <p:nvPr/>
        </p:nvPicPr>
        <p:blipFill>
          <a:blip r:embed="rId1"/>
          <a:srcRect l="850" t="1179" r="841" b="1165"/>
          <a:stretch/>
        </p:blipFill>
        <p:spPr>
          <a:xfrm>
            <a:off x="395280" y="476280"/>
            <a:ext cx="8353440" cy="5925960"/>
          </a:xfrm>
          <a:prstGeom prst="rect">
            <a:avLst/>
          </a:prstGeom>
          <a:ln w="9360">
            <a:solidFill>
              <a:srgbClr val="dd7e0e"/>
            </a:solidFill>
            <a:miter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Понятие вид и история его становления в би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морфологическому и генетичес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физиолого – биохимическому и этологичес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экологическому и географиче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771640" y="1268280"/>
            <a:ext cx="39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Arial"/>
                <a:ea typeface="Arial"/>
              </a:rPr>
              <a:t>( вопросы для повтор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201320" y="549360"/>
            <a:ext cx="648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«Вид.Критерии вид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28760" y="1213920"/>
            <a:ext cx="8400960" cy="535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ff"/>
                </a:solidFill>
                <a:latin typeface="Tahoma"/>
              </a:rPr>
              <a:t>Эволюция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идет по двум направлениям: </a:t>
            </a:r>
            <a:r>
              <a:rPr b="0" i="1" lang="ru-RU" sz="2000" spc="-1" strike="noStrike">
                <a:solidFill>
                  <a:srgbClr val="dd7e0e"/>
                </a:solidFill>
                <a:latin typeface="Tahoma"/>
              </a:rPr>
              <a:t>биологический регресс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ведет к вымиранию вида) и </a:t>
            </a:r>
            <a:r>
              <a:rPr b="0" i="1" lang="ru-RU" sz="2000" spc="-1" strike="noStrike">
                <a:solidFill>
                  <a:srgbClr val="dd7e0e"/>
                </a:solidFill>
                <a:latin typeface="Tahoma"/>
              </a:rPr>
              <a:t>биологический прогресс</a:t>
            </a:r>
            <a:r>
              <a:rPr b="0" lang="ru-RU" sz="2000" spc="-1" strike="noStrike">
                <a:solidFill>
                  <a:srgbClr val="dd7e0e"/>
                </a:solidFill>
                <a:latin typeface="Tahoma"/>
              </a:rPr>
              <a:t>.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Биологический прогресс протекает  тремя пут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Ароморфоз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- возникновение в ходе эволюции признаков, которые существенно повышают уровень организации живых организм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Выход организмов из воды на сушу, живорождение, поддержание  постоянства температуры тела у млекопитающ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Идиоадаптация</a:t>
            </a:r>
            <a:r>
              <a:rPr b="0" lang="ru-RU" sz="2000" spc="-1" strike="noStrike">
                <a:solidFill>
                  <a:srgbClr val="9eb16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- это приспособления живого мира к окружающе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Покровительственная окраска у животных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Дегенерация</a:t>
            </a:r>
            <a:r>
              <a:rPr b="0" lang="ru-RU" sz="2000" spc="-1" strike="noStrike">
                <a:solidFill>
                  <a:srgbClr val="dd7e0e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– это резкое упрощение организации, связанное с исчезновением целых систем органов и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b16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подземные животные (крот), пещерные (протей), глубоководные организ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0"/>
            <a:ext cx="814392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биосфера будущего"/>
          <p:cNvPicPr/>
          <p:nvPr/>
        </p:nvPicPr>
        <p:blipFill>
          <a:blip r:embed="rId1"/>
          <a:srcRect l="9362" t="1415" r="3222" b="5704"/>
          <a:stretch/>
        </p:blipFill>
        <p:spPr>
          <a:xfrm>
            <a:off x="611280" y="1341360"/>
            <a:ext cx="3641760" cy="489744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pic>
        <p:nvPicPr>
          <p:cNvPr id="189" name="Picture 5" descr="влияние человека на биосферу"/>
          <p:cNvPicPr/>
          <p:nvPr/>
        </p:nvPicPr>
        <p:blipFill>
          <a:blip r:embed="rId2"/>
          <a:srcRect l="16497" t="1561" r="4365" b="-1515"/>
          <a:stretch/>
        </p:blipFill>
        <p:spPr>
          <a:xfrm>
            <a:off x="5076720" y="1336680"/>
            <a:ext cx="3456000" cy="4900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844200" y="33336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действие человека на прир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57f07"/>
          <p:cNvPicPr/>
          <p:nvPr/>
        </p:nvPicPr>
        <p:blipFill>
          <a:blip r:embed="rId1"/>
          <a:srcRect l="2511" t="2766" r="2528" b="2787"/>
          <a:stretch/>
        </p:blipFill>
        <p:spPr>
          <a:xfrm>
            <a:off x="3203640" y="4013280"/>
            <a:ext cx="2808360" cy="2511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2" name="Picture 5" descr="490d4"/>
          <p:cNvPicPr/>
          <p:nvPr/>
        </p:nvPicPr>
        <p:blipFill>
          <a:blip r:embed="rId2"/>
          <a:stretch/>
        </p:blipFill>
        <p:spPr>
          <a:xfrm>
            <a:off x="250920" y="3429000"/>
            <a:ext cx="2736720" cy="2521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3" name="Picture 6" descr="716fb"/>
          <p:cNvPicPr/>
          <p:nvPr/>
        </p:nvPicPr>
        <p:blipFill>
          <a:blip r:embed="rId3"/>
          <a:stretch/>
        </p:blipFill>
        <p:spPr>
          <a:xfrm>
            <a:off x="6084720" y="404640"/>
            <a:ext cx="2808360" cy="25354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4" name="Picture 7" descr="805c9"/>
          <p:cNvPicPr/>
          <p:nvPr/>
        </p:nvPicPr>
        <p:blipFill>
          <a:blip r:embed="rId4"/>
          <a:stretch/>
        </p:blipFill>
        <p:spPr>
          <a:xfrm>
            <a:off x="324000" y="333360"/>
            <a:ext cx="2663640" cy="25941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5" name="Picture 8" descr="a1264"/>
          <p:cNvPicPr/>
          <p:nvPr/>
        </p:nvPicPr>
        <p:blipFill>
          <a:blip r:embed="rId5"/>
          <a:stretch/>
        </p:blipFill>
        <p:spPr>
          <a:xfrm>
            <a:off x="6227640" y="3500280"/>
            <a:ext cx="2629080" cy="27352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96" name="Oval 9"/>
          <p:cNvSpPr/>
          <p:nvPr/>
        </p:nvSpPr>
        <p:spPr>
          <a:xfrm>
            <a:off x="3132000" y="1125360"/>
            <a:ext cx="2880000" cy="273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Влия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антропог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755640" y="1557360"/>
            <a:ext cx="756144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лиматические изме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арушение озонового сло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агрязнение атмосферы и гидр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Уничтожение ле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Изменение состояния поч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ыни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теря биоразнообразия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49360" y="47628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обальные 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640872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прогресс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регрес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Ароморфоз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Идиоадапта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1922760" y="549360"/>
            <a:ext cx="537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те терм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10153"/>
          <p:cNvPicPr/>
          <p:nvPr/>
        </p:nvPicPr>
        <p:blipFill>
          <a:blip r:embed="rId1"/>
          <a:stretch/>
        </p:blipFill>
        <p:spPr>
          <a:xfrm>
            <a:off x="179280" y="1916280"/>
            <a:ext cx="1944720" cy="2089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2" name="Picture 9" descr="крот"/>
          <p:cNvPicPr/>
          <p:nvPr/>
        </p:nvPicPr>
        <p:blipFill>
          <a:blip r:embed="rId2"/>
          <a:stretch/>
        </p:blipFill>
        <p:spPr>
          <a:xfrm>
            <a:off x="3059280" y="4797360"/>
            <a:ext cx="2592360" cy="18716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3" name="Picture 10" descr="pesec"/>
          <p:cNvPicPr/>
          <p:nvPr/>
        </p:nvPicPr>
        <p:blipFill>
          <a:blip r:embed="rId3"/>
          <a:stretch/>
        </p:blipFill>
        <p:spPr>
          <a:xfrm>
            <a:off x="6227640" y="4508640"/>
            <a:ext cx="2297160" cy="17715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4" name="Picture 11" descr="3ping"/>
          <p:cNvPicPr/>
          <p:nvPr/>
        </p:nvPicPr>
        <p:blipFill>
          <a:blip r:embed="rId4"/>
          <a:stretch/>
        </p:blipFill>
        <p:spPr>
          <a:xfrm>
            <a:off x="250920" y="4581360"/>
            <a:ext cx="2217600" cy="19749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5" name="Picture 12" descr="morzh"/>
          <p:cNvPicPr/>
          <p:nvPr/>
        </p:nvPicPr>
        <p:blipFill>
          <a:blip r:embed="rId5"/>
          <a:stretch/>
        </p:blipFill>
        <p:spPr>
          <a:xfrm>
            <a:off x="6084720" y="2133720"/>
            <a:ext cx="2519640" cy="18572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206" name="WordArt 18"/>
          <p:cNvSpPr txBox="1"/>
          <p:nvPr/>
        </p:nvSpPr>
        <p:spPr>
          <a:xfrm>
            <a:off x="971640" y="1125360"/>
            <a:ext cx="72007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оморфоз, идиоадаптация, дегенераци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2124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416560" y="357336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5651640" y="587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8593200" y="351648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8524080" y="5819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1" descr="ideo"/>
          <p:cNvPicPr/>
          <p:nvPr/>
        </p:nvPicPr>
        <p:blipFill>
          <a:blip r:embed="rId6"/>
          <a:stretch/>
        </p:blipFill>
        <p:spPr>
          <a:xfrm>
            <a:off x="3348000" y="1844640"/>
            <a:ext cx="1873440" cy="2808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214" name="TextBox 15"/>
          <p:cNvSpPr/>
          <p:nvPr/>
        </p:nvSpPr>
        <p:spPr>
          <a:xfrm>
            <a:off x="32040" y="333360"/>
            <a:ext cx="91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те соотношения понятий и рисун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6"/>
          <p:cNvSpPr/>
          <p:nvPr/>
        </p:nvSpPr>
        <p:spPr>
          <a:xfrm>
            <a:off x="395280" y="1125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Group 80" descr=""/>
          <p:cNvPicPr/>
          <p:nvPr/>
        </p:nvPicPr>
        <p:blipFill>
          <a:blip r:embed="rId1"/>
          <a:stretch/>
        </p:blipFill>
        <p:spPr>
          <a:xfrm>
            <a:off x="328680" y="1384200"/>
            <a:ext cx="8120160" cy="50896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434880" y="404640"/>
            <a:ext cx="74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биологического прогресс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логического регр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708360" y="2492280"/>
            <a:ext cx="1800360" cy="120348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рит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907920"/>
            <a:ext cx="2808360" cy="108108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сходство процессов, протекающ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 организмах одного вид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не скрещиваемость разных видов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68360" y="2708280"/>
            <a:ext cx="2303280" cy="115236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 сходство признак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нешнего строения 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собей 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68360" y="4724280"/>
            <a:ext cx="2519280" cy="115272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обитание особей од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а в определённых, сход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экологических условия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564000" y="4724280"/>
            <a:ext cx="2303280" cy="113184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 определённый набо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хромосом у особ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300720" y="4724280"/>
            <a:ext cx="2232000" cy="115272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Этоло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присущие только дан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у живот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собенности повед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300720" y="2637000"/>
            <a:ext cx="2303640" cy="122364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обитание особей од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а в предел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бщего ареал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651640" y="836640"/>
            <a:ext cx="2952720" cy="115236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Биохим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44d26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ходный хим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остав внутриклеточ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реды у особей 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4572000" y="1413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4500720" y="14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3348000" y="1413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2771640" y="321300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5508720" y="3213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4643280" y="3645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4643280" y="4292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>
            <a:off x="1692000" y="4292640"/>
            <a:ext cx="29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169236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745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788920" y="18900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956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Эволюция – процесс исторического развития живой природы на основе изменчивости, наследственности и естественного от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2340000" y="40464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бо виды без эволюции, либо эволюция без видов"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22" descr="Северцов Алексей Николаевич"/>
          <p:cNvPicPr/>
          <p:nvPr/>
        </p:nvPicPr>
        <p:blipFill>
          <a:blip r:embed="rId1"/>
          <a:stretch/>
        </p:blipFill>
        <p:spPr>
          <a:xfrm>
            <a:off x="3492360" y="3213000"/>
            <a:ext cx="1905120" cy="238932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14" name="Picture 23" descr="Шмальгаузен иван Иванович"/>
          <p:cNvPicPr/>
          <p:nvPr/>
        </p:nvPicPr>
        <p:blipFill>
          <a:blip r:embed="rId2"/>
          <a:stretch/>
        </p:blipFill>
        <p:spPr>
          <a:xfrm>
            <a:off x="6516720" y="3213000"/>
            <a:ext cx="1878120" cy="237672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15" name="Text Box 24"/>
          <p:cNvSpPr/>
          <p:nvPr/>
        </p:nvSpPr>
        <p:spPr>
          <a:xfrm flipV="1">
            <a:off x="3564000" y="5650200"/>
            <a:ext cx="25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Северц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Алексей Никола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(1866 – 19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372360" y="558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Шмальгауз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(1884 – 196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7" descr="images"/>
          <p:cNvPicPr/>
          <p:nvPr/>
        </p:nvPicPr>
        <p:blipFill>
          <a:blip r:embed="rId3"/>
          <a:stretch/>
        </p:blipFill>
        <p:spPr>
          <a:xfrm>
            <a:off x="179280" y="333360"/>
            <a:ext cx="2089080" cy="1719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18" name="Picture 28" descr="лента времени"/>
          <p:cNvPicPr/>
          <p:nvPr/>
        </p:nvPicPr>
        <p:blipFill>
          <a:blip r:embed="rId4"/>
          <a:stretch/>
        </p:blipFill>
        <p:spPr>
          <a:xfrm>
            <a:off x="179280" y="2421000"/>
            <a:ext cx="2592360" cy="3672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10fb0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я эволюции</a:t>
            </a:r>
            <a:endParaRPr b="0" lang="en-US" sz="40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прог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-    Возрастание приспособленности организмов к окружающе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Увеличение численности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Расширение аре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рег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Снижение уровня приспособленности к условиям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Уменьшение численности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Сокращение аре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87948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Прямая со стрелкой 6"/>
          <p:cNvCxnSpPr/>
          <p:nvPr/>
        </p:nvCxnSpPr>
        <p:spPr>
          <a:xfrm flipH="1">
            <a:off x="2428200" y="1284840"/>
            <a:ext cx="1215000" cy="500760"/>
          </a:xfrm>
          <a:prstGeom prst="straightConnector1">
            <a:avLst/>
          </a:prstGeom>
          <a:ln w="38160">
            <a:solidFill>
              <a:srgbClr val="dd7e0e"/>
            </a:solidFill>
            <a:miter/>
            <a:tailEnd len="med" type="arrow" w="med"/>
          </a:ln>
        </p:spPr>
      </p:cxnSp>
      <p:cxnSp>
        <p:nvCxnSpPr>
          <p:cNvPr id="124" name="Прямая со стрелкой 8"/>
          <p:cNvCxnSpPr/>
          <p:nvPr/>
        </p:nvCxnSpPr>
        <p:spPr>
          <a:xfrm>
            <a:off x="5143680" y="1285560"/>
            <a:ext cx="1357920" cy="500760"/>
          </a:xfrm>
          <a:prstGeom prst="straightConnector1">
            <a:avLst/>
          </a:prstGeom>
          <a:ln w="38160">
            <a:solidFill>
              <a:srgbClr val="dd7e0e"/>
            </a:solidFill>
            <a:miter/>
            <a:tailEnd len="med" type="arrow" w="med"/>
          </a:ln>
        </p:spPr>
      </p:cxn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bio01-067"/>
          <p:cNvPicPr/>
          <p:nvPr/>
        </p:nvPicPr>
        <p:blipFill>
          <a:blip r:embed="rId1"/>
          <a:stretch/>
        </p:blipFill>
        <p:spPr>
          <a:xfrm>
            <a:off x="3276720" y="4221000"/>
            <a:ext cx="2590560" cy="2448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26" name="Picture 20" descr="выход рыб на сушу"/>
          <p:cNvPicPr/>
          <p:nvPr/>
        </p:nvPicPr>
        <p:blipFill>
          <a:blip r:embed="rId2"/>
          <a:stretch/>
        </p:blipFill>
        <p:spPr>
          <a:xfrm>
            <a:off x="250920" y="4255920"/>
            <a:ext cx="2808360" cy="2413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grpSp>
        <p:nvGrpSpPr>
          <p:cNvPr id="127" name="Organization Chart 7"/>
          <p:cNvGrpSpPr/>
          <p:nvPr/>
        </p:nvGrpSpPr>
        <p:grpSpPr>
          <a:xfrm>
            <a:off x="324000" y="260280"/>
            <a:ext cx="8319240" cy="3841920"/>
            <a:chOff x="324000" y="260280"/>
            <a:chExt cx="8319240" cy="384192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556240" y="725400"/>
              <a:ext cx="765000" cy="2910240"/>
            </a:xfrm>
            <a:prstGeom prst="bentConnector3">
              <a:avLst>
                <a:gd name="adj1" fmla="val 14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483800" y="1798200"/>
              <a:ext cx="3240" cy="76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646360" y="725400"/>
              <a:ext cx="765000" cy="2910960"/>
            </a:xfrm>
            <a:prstGeom prst="bentConnector3">
              <a:avLst>
                <a:gd name="adj1" fmla="val 14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234240" y="26028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Биолог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прогре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32400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Ароморфо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23424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диоадапт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4412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егенер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3" descr="teniar"/>
          <p:cNvPicPr/>
          <p:nvPr/>
        </p:nvPicPr>
        <p:blipFill>
          <a:blip r:embed="rId7"/>
          <a:stretch/>
        </p:blipFill>
        <p:spPr>
          <a:xfrm>
            <a:off x="6227640" y="4203720"/>
            <a:ext cx="2487600" cy="24512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биологический пргресс"/>
          <p:cNvPicPr/>
          <p:nvPr/>
        </p:nvPicPr>
        <p:blipFill>
          <a:blip r:embed="rId1"/>
          <a:srcRect l="0" t="10383" r="197" b="5383"/>
          <a:stretch/>
        </p:blipFill>
        <p:spPr>
          <a:xfrm>
            <a:off x="1476360" y="836640"/>
            <a:ext cx="6191280" cy="5688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37" name="Text Box 6"/>
          <p:cNvSpPr/>
          <p:nvPr/>
        </p:nvSpPr>
        <p:spPr>
          <a:xfrm>
            <a:off x="1547640" y="260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ути биологического прогр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оморфоз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67992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(по А.Н.Северцов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Возникновение в ходе эволюции признаков, которые существенно повышают уровень организации живых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9" descr="bio01-066"/>
          <p:cNvPicPr/>
          <p:nvPr/>
        </p:nvPicPr>
        <p:blipFill>
          <a:blip r:embed="rId1"/>
          <a:stretch/>
        </p:blipFill>
        <p:spPr>
          <a:xfrm>
            <a:off x="250920" y="1628640"/>
            <a:ext cx="46814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оморфозы Архейской эры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pic>
        <p:nvPicPr>
          <p:cNvPr id="142" name="Picture 4" descr="ароморфозы архея"/>
          <p:cNvPicPr/>
          <p:nvPr/>
        </p:nvPicPr>
        <p:blipFill>
          <a:blip r:embed="rId1"/>
          <a:stretch/>
        </p:blipFill>
        <p:spPr>
          <a:xfrm>
            <a:off x="870120" y="1609560"/>
            <a:ext cx="7373880" cy="40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53:38Z</dcterms:created>
  <dc:creator>Дмитрий</dc:creator>
  <dc:description/>
  <dc:language>en-US</dc:language>
  <cp:lastModifiedBy>Nonna</cp:lastModifiedBy>
  <dcterms:modified xsi:type="dcterms:W3CDTF">2022-01-03T18:46:20Z</dcterms:modified>
  <cp:revision>239</cp:revision>
  <dc:subject/>
  <dc:title>Основные направления эволюции органического мира.</dc:title>
</cp:coreProperties>
</file>