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3.gif" ContentType="image/gif"/>
  <Override PartName="/ppt/media/image9.jpeg" ContentType="image/jpeg"/>
  <Override PartName="/ppt/media/image24.wmf" ContentType="image/x-wmf"/>
  <Override PartName="/ppt/media/image17.jpeg" ContentType="image/jpeg"/>
  <Override PartName="/ppt/media/image25.wmf" ContentType="image/x-wmf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0ED-6979-4ECA-8A3C-0A51BDCE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1E0-D0AA-4E70-BB10-A183F4F4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CBC-0304-4080-95A8-9109BC28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E63-9A21-4A66-AE45-774BF5B7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3246-765B-4CBB-B10A-F03A0399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01F7-76ED-4955-BF48-2C895D4C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8440-0EE4-4334-824E-15DB6443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7201-9FF5-46A2-AEA2-449D984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0DD3-F2CF-4BD8-BE04-B2D8ADC8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C467-89EF-4127-8227-63B7AE90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E3CC-91D3-4303-ADD5-404C37E2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A67-4231-4803-99F0-D3CCF736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661A-411D-4AAD-99B9-1A31B5E7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2B24-CB7E-4A7B-952E-983C02FA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0E8B-A34E-48A1-97DD-E9C5C24D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4BCA-C846-4115-9D37-4132C727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0F11-660A-49C0-85B5-12520EAF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08F8-FC32-42B5-9CF4-DEB3E23C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F283-242A-4666-83C8-5EF5C96E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7957-A779-4E54-BCE5-E2EAF576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8F0A-A9B3-45C2-BD30-14B32274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B5917-08CB-4D5B-B237-7CF59B33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C89-F03A-4716-BFFA-095D3EB9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81A4-83CC-4096-92EE-4DAB4049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EB6A9-FC30-4E79-89B9-B116F894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9BCD4-012A-490A-884C-2A6AD6B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5C3F-398F-42EB-9C19-230DA414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B749-08CE-4718-B9A1-E96C927B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9423-218D-4362-8B51-D4274011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63D8-8658-40F7-8130-612A8E9D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F59-FE0E-40E7-948E-61B3848A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A0B-F68A-4268-BB87-2DA5596B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498-6E78-4951-8F03-0BE3C0D0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EBD-5544-41A4-8985-A57AE30A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273-C5A7-410C-9FC1-978EFE0A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511-34DC-44C6-8CD2-2FAEDCD0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53A6-28CE-476E-BEAA-1789EE68FB6F}" type="slidenum">
              <a:rPr b="0" i="1" lang="ru-RU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C423-74C0-4CB7-8A13-DCDC5EB0464E}" type="slidenum">
              <a:rPr b="0" i="1" lang="ru-RU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B74E-BB5F-481A-B076-A45B592BF6D0}" type="slidenum">
              <a:rPr b="0" i="1" lang="ru-RU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7" descr=""/>
          <p:cNvPicPr/>
          <p:nvPr/>
        </p:nvPicPr>
        <p:blipFill>
          <a:blip r:embed="rId2"/>
          <a:stretch/>
        </p:blipFill>
        <p:spPr>
          <a:xfrm>
            <a:off x="2712960" y="2968560"/>
            <a:ext cx="42181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особы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Содержимое 5" descr="16.jpg"/>
          <p:cNvPicPr/>
          <p:nvPr/>
        </p:nvPicPr>
        <p:blipFill>
          <a:blip r:embed="rId1"/>
          <a:stretch/>
        </p:blipFill>
        <p:spPr>
          <a:xfrm>
            <a:off x="928800" y="1214280"/>
            <a:ext cx="1962000" cy="2357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371448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бальный  (с помощью слов, реч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вербальный ( мимика, жесты, поза, организация пространства  и времени общения, качество голо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6" descr="15.jpg"/>
          <p:cNvPicPr/>
          <p:nvPr/>
        </p:nvPicPr>
        <p:blipFill>
          <a:blip r:embed="rId2"/>
          <a:stretch/>
        </p:blipFill>
        <p:spPr>
          <a:xfrm>
            <a:off x="857160" y="4143240"/>
            <a:ext cx="22147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4292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онимн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лев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формальн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Documents and Settings\Елена.PSYCHLOGY\Local Settings\Temporary Internet Files\Content.IE5\LBLRRLRB\MP900442427[1].jpg"/>
          <p:cNvPicPr/>
          <p:nvPr/>
        </p:nvPicPr>
        <p:blipFill>
          <a:blip r:embed="rId1"/>
          <a:stretch/>
        </p:blipFill>
        <p:spPr>
          <a:xfrm>
            <a:off x="5643720" y="4214880"/>
            <a:ext cx="2638440" cy="1834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Documents and Settings\Елена.PSYCHLOGY\Local Settings\Temporary Internet Files\Content.IE5\2QTPLIGW\MP900385352[1].jpg"/>
          <p:cNvPicPr/>
          <p:nvPr/>
        </p:nvPicPr>
        <p:blipFill>
          <a:blip r:embed="rId2"/>
          <a:stretch/>
        </p:blipFill>
        <p:spPr>
          <a:xfrm>
            <a:off x="6500880" y="1928880"/>
            <a:ext cx="1928880" cy="185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Елена.PSYCHLOGY\Local Settings\Temporary Internet Files\Content.IE5\M3UO5KTE\MC900237108[1].wmf"/>
          <p:cNvPicPr/>
          <p:nvPr/>
        </p:nvPicPr>
        <p:blipFill>
          <a:blip r:embed="rId3"/>
          <a:stretch/>
        </p:blipFill>
        <p:spPr>
          <a:xfrm>
            <a:off x="1857240" y="2500200"/>
            <a:ext cx="32864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ведения бесед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920" y="785880"/>
            <a:ext cx="88581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жите свое дружеское расположение к собеседник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йте выслушать мнение другого, не перебивайте говорящег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отвлекайтесь, когда говорят друг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избегайте взгляда собеседника, смотрите в глаза говорящего или слушающего ва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бойтесь высказаться; будьте вежливы и тактич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тко и кратко излагайте свою мысль, избегайте многословия и отклонения от т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являйте уважение к мнению другого, признавайте его право иметь свою точку зрения, возможно, и отличную от ваш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Какие чувства возникали у Вас при выполнении данного упражнения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Что помогало, а что мешало справиться с задани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Было ли данное взаимодействие общением между в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Какие виды общения вы использовал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4" descr="C:\Documents and Settings\Елена.PSYCHLOGY\Local Settings\Temporary Internet Files\Content.IE5\2QTPLIGW\MC900434411[1].wmf"/>
          <p:cNvPicPr/>
          <p:nvPr/>
        </p:nvPicPr>
        <p:blipFill>
          <a:blip r:embed="rId1"/>
          <a:stretch/>
        </p:blipFill>
        <p:spPr>
          <a:xfrm>
            <a:off x="7143840" y="428760"/>
            <a:ext cx="16254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1427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щение – сложный  процесс установления и развития контактов между людь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Program Files\Microsoft Office\MEDIA\CAGCAT10\j0300520.gif"/>
          <p:cNvPicPr/>
          <p:nvPr/>
        </p:nvPicPr>
        <p:blipFill>
          <a:blip r:embed="rId1"/>
          <a:stretch/>
        </p:blipFill>
        <p:spPr>
          <a:xfrm>
            <a:off x="7000920" y="4857840"/>
            <a:ext cx="1700280" cy="1461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Program Files\Microsoft Office\MEDIA\CAGCAT10\j0332268.wmf"/>
          <p:cNvPicPr/>
          <p:nvPr/>
        </p:nvPicPr>
        <p:blipFill>
          <a:blip r:embed="rId2"/>
          <a:stretch/>
        </p:blipFill>
        <p:spPr>
          <a:xfrm>
            <a:off x="6643800" y="357120"/>
            <a:ext cx="1928880" cy="2179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14.jpg"/>
          <p:cNvPicPr/>
          <p:nvPr/>
        </p:nvPicPr>
        <p:blipFill>
          <a:blip r:embed="rId3"/>
          <a:stretch/>
        </p:blipFill>
        <p:spPr>
          <a:xfrm>
            <a:off x="357120" y="3571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ZI9CADSCJ9BCAU6N55CCAX7P8JMCARROHTMCAZVHC8BCA0WH9SWCAMGFBVECAXPHZSBCA50Q07YCAM3NK6NCAXWPW87CAHNAZHGCAKIC699CAH5EN9VCA43CDYUCAI92NQ4CA0V0PKBCA3B8ERL.jpg"/>
          <p:cNvPicPr/>
          <p:nvPr/>
        </p:nvPicPr>
        <p:blipFill>
          <a:blip r:embed="rId4"/>
          <a:stretch/>
        </p:blipFill>
        <p:spPr>
          <a:xfrm>
            <a:off x="500040" y="471492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3840" y="213840"/>
            <a:ext cx="53578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мен  информаци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1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сприятие и по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1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юдьми друг 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104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1" name="Прямая со стрелкой 8"/>
          <p:cNvCxnSpPr/>
          <p:nvPr/>
        </p:nvCxnSpPr>
        <p:spPr>
          <a:xfrm flipV="1">
            <a:off x="2711880" y="571680"/>
            <a:ext cx="2520" cy="207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>
            <a:off x="3929040" y="5500800"/>
            <a:ext cx="2000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Прямая со стрелкой 13"/>
          <p:cNvCxnSpPr/>
          <p:nvPr/>
        </p:nvCxnSpPr>
        <p:spPr>
          <a:xfrm flipH="1">
            <a:off x="6571440" y="2285640"/>
            <a:ext cx="1044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34" name="Содержимое 11" descr="12.jpg"/>
          <p:cNvPicPr/>
          <p:nvPr/>
        </p:nvPicPr>
        <p:blipFill>
          <a:blip r:embed="rId1"/>
          <a:stretch/>
        </p:blipFill>
        <p:spPr>
          <a:xfrm>
            <a:off x="714240" y="1928880"/>
            <a:ext cx="2571840" cy="1977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2" descr="7VGCABOF8LFCAU9CGX9CA08N77ICAGCBOCDCA36J5HZCAPMUSRGCA31R5KVCAV5LZPMCAR58K1XCAAKIJU4CA9WERY3CAQJCXL1CATHEAKWCA0FM7IOCAPJN6XDCANERTU6CAKQDSB2CA4NWJNB.jpg"/>
          <p:cNvPicPr/>
          <p:nvPr/>
        </p:nvPicPr>
        <p:blipFill>
          <a:blip r:embed="rId2"/>
          <a:stretch/>
        </p:blipFill>
        <p:spPr>
          <a:xfrm>
            <a:off x="5410080" y="500040"/>
            <a:ext cx="259740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Содержимое 15" descr="ZZ7CAQAUNRNCAUJH2HJCA981MCRCAJRC0OACA8S43ORCAIUUAW3CAM0N2MRCASND9E4CA3XUGUGCAFGO0XCCAI3KJ4OCAPNDMO9CAVDYQQUCAKTFD43CA8YGD71CA197GPGCALBHJAQCACJSY0W.jpg"/>
          <p:cNvPicPr/>
          <p:nvPr/>
        </p:nvPicPr>
        <p:blipFill>
          <a:blip r:embed="rId3"/>
          <a:stretch/>
        </p:blipFill>
        <p:spPr>
          <a:xfrm>
            <a:off x="5929200" y="4071960"/>
            <a:ext cx="2386080" cy="1781280"/>
          </a:xfrm>
          <a:prstGeom prst="rect">
            <a:avLst/>
          </a:prstGeom>
          <a:ln w="0">
            <a:noFill/>
          </a:ln>
        </p:spPr>
      </p:pic>
      <p:cxnSp>
        <p:nvCxnSpPr>
          <p:cNvPr id="137" name="Прямая со стрелкой 21"/>
          <p:cNvCxnSpPr>
            <a:stCxn id="129" idx="2"/>
            <a:endCxn id="129" idx="2"/>
          </p:cNvCxnSpPr>
          <p:nvPr/>
        </p:nvCxnSpPr>
        <p:spPr>
          <a:xfrm flipH="1">
            <a:off x="6629040" y="3357720"/>
            <a:ext cx="2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вый этап – Встреч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3920"/>
            <a:ext cx="777384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0" name="Прямоугольник 6" descr=""/>
          <p:cNvPicPr/>
          <p:nvPr/>
        </p:nvPicPr>
        <p:blipFill>
          <a:blip r:embed="rId1"/>
          <a:stretch/>
        </p:blipFill>
        <p:spPr>
          <a:xfrm>
            <a:off x="285840" y="1573200"/>
            <a:ext cx="8218440" cy="40291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7" descr=""/>
          <p:cNvPicPr/>
          <p:nvPr/>
        </p:nvPicPr>
        <p:blipFill>
          <a:blip r:embed="rId2"/>
          <a:stretch/>
        </p:blipFill>
        <p:spPr>
          <a:xfrm>
            <a:off x="426960" y="1139760"/>
            <a:ext cx="8504280" cy="95724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11" descr="Image40352-Goods.jpg"/>
          <p:cNvPicPr/>
          <p:nvPr/>
        </p:nvPicPr>
        <p:blipFill>
          <a:blip r:embed="rId3"/>
          <a:stretch/>
        </p:blipFill>
        <p:spPr>
          <a:xfrm>
            <a:off x="5124600" y="18288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86040" y="274680"/>
            <a:ext cx="428616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2IECA0YTM73CA7387BYCAEM0DTXCAS09YI8CAEY694OCAXCQYC3CAY6TBJKCA8TEN8MCA9YQE35CA3YWK3NCAMV5YYKCA7LSU5ICAVTQX6SCA7YV3HZCAG6RDFOCAXV6NWOCAL2CZ5OCABCRWUQ.jpg"/>
          <p:cNvPicPr/>
          <p:nvPr/>
        </p:nvPicPr>
        <p:blipFill>
          <a:blip r:embed="rId1"/>
          <a:stretch/>
        </p:blipFill>
        <p:spPr>
          <a:xfrm>
            <a:off x="571680" y="214200"/>
            <a:ext cx="2171520" cy="1785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FIFCAGD6MK1CA0NORT1CAWHILYQCA1LK1KQCAWCO3UJCASSKBP5CA4FJO42CASS8WKRCAUBHLW8CA3W3LD6CAWQEHO2CA47WFDKCAIW7Z7YCALXHN8TCA3M5Y99CAH2JHB0CAXTSM6PCAOATNX0.jpg"/>
          <p:cNvPicPr/>
          <p:nvPr/>
        </p:nvPicPr>
        <p:blipFill>
          <a:blip r:embed="rId2"/>
          <a:stretch/>
        </p:blipFill>
        <p:spPr>
          <a:xfrm>
            <a:off x="7000920" y="214200"/>
            <a:ext cx="1785960" cy="30718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1S0CA22G3PJCAPN1ATOCA6AL573CAQ6NW4FCAQE9588CANQFV97CAT88PIQCADU6TIVCAV83OX9CAGB0L7CCAQLKDIZCA0PYF50CA90ZVTWCA84VX3SCADJQ238CAPIHAXVCAI5DA8ICAL5C4Q4.jpg"/>
          <p:cNvPicPr/>
          <p:nvPr/>
        </p:nvPicPr>
        <p:blipFill>
          <a:blip r:embed="rId3"/>
          <a:stretch/>
        </p:blipFill>
        <p:spPr>
          <a:xfrm>
            <a:off x="642960" y="4714920"/>
            <a:ext cx="2133720" cy="19288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LM6CAIEYYU0CAPG4234CA0KLG8RCAMP5VYLCAFFG4MYCAUHWE1LCAWT1B30CAFDHRQXCAEJJ6M2CA58W3Y1CA57SKG3CAM6OA7VCA04LKGXCAFTCD6FCA0RLDC3CA5BH590CA2P1IG2CAA1I52F.jpg"/>
          <p:cNvPicPr/>
          <p:nvPr/>
        </p:nvPicPr>
        <p:blipFill>
          <a:blip r:embed="rId4"/>
          <a:stretch/>
        </p:blipFill>
        <p:spPr>
          <a:xfrm>
            <a:off x="7358040" y="3714840"/>
            <a:ext cx="1643040" cy="26496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7" descr="RIAN_00993590_LR_ru.jpg"/>
          <p:cNvPicPr/>
          <p:nvPr/>
        </p:nvPicPr>
        <p:blipFill>
          <a:blip r:embed="rId5"/>
          <a:stretch/>
        </p:blipFill>
        <p:spPr>
          <a:xfrm>
            <a:off x="3143160" y="2071800"/>
            <a:ext cx="37623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3000240"/>
            <a:ext cx="748656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Прямоугольник 5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2836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7126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торой этап – Знаком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учшим собеседником считается не тот, кто много , красиво и интересно говорит, а тот кто умеет СЛУША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857160" y="928800"/>
            <a:ext cx="2271960" cy="228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Равнобедренный треугольник 5"/>
          <p:cNvSpPr/>
          <p:nvPr/>
        </p:nvSpPr>
        <p:spPr>
          <a:xfrm>
            <a:off x="5715000" y="1071720"/>
            <a:ext cx="2643120" cy="26431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оугольник 6"/>
          <p:cNvSpPr/>
          <p:nvPr/>
        </p:nvSpPr>
        <p:spPr>
          <a:xfrm>
            <a:off x="2857680" y="3714840"/>
            <a:ext cx="2414520" cy="228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тий этап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заимодействие или выстраивание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6" descr="QC3CA6C5GI3CAH5OSN4CA5SABZ6CAVFBUYVCAAB63ZXCAZXZF1CCAO66BGACAUNJ9ZBCASNA54ECA550FPZCAX5QL3XCA861IT9CA4B7UIVCALNPFIECAQZ0WRWCAYCKWIMCA85VF7OCA6M9Q8Y.jpg"/>
          <p:cNvPicPr/>
          <p:nvPr/>
        </p:nvPicPr>
        <p:blipFill>
          <a:blip r:embed="rId1"/>
          <a:stretch/>
        </p:blipFill>
        <p:spPr>
          <a:xfrm>
            <a:off x="1857240" y="1928880"/>
            <a:ext cx="4873680" cy="36399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1071720" y="4714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емья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6572160" y="40719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учителя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1143000" y="357192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рузья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6643800" y="26431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оседи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21420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одноклассники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12"/>
          <p:cNvSpPr/>
          <p:nvPr/>
        </p:nvSpPr>
        <p:spPr>
          <a:xfrm>
            <a:off x="3929040" y="1857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одственники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21-11-10T10:03:42Z</dcterms:modified>
  <cp:revision>78</cp:revision>
  <dc:subject/>
  <dc:title>PowerPoint Presentation</dc:title>
</cp:coreProperties>
</file>