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1DF5-11F7-4671-B1DC-7264A464E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BCEA-58FB-4766-AB3A-9AB9526D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D189-3941-4A11-A952-027F90C4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9FEB-C48D-4097-A075-7791021D3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148130-8080-4B3C-8D66-AE91986C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5CEC32-5F45-4ED6-B5F9-55D0D8D3D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5984A-2059-4F77-993F-E4C15AD5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E1C649-5B69-4D93-9ADB-58F7675C7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59EB6-0053-4EA2-B1C9-8BD4B2877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DD949C-3D8A-42A9-9387-7F8CFB2B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2A176-58F0-4D2C-87AC-4B1E88C8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7753-977F-4F8C-8A30-0BF36FB5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6D9F15-FDC6-4E49-A317-63BBDCAB0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8DBCDF-8F65-4B0E-9AB8-FD6FF95A1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F7F88-C58C-477E-982D-CB4CD6994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5C89FB-88C2-4533-86DE-3572CCF5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ADAD26-E1B7-4720-A657-775A578C1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336A-FA0D-441F-B76B-E99275B9E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4687-F9A9-41B5-8DE0-55F8B319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EAB-677D-428D-85A6-2C1B7FC9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593A-D308-4205-978D-B2AC20FB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9AE7-5407-4A72-948E-150E0533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DC4A-29EE-4CCA-AB5A-562F1EDD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FD1-779C-48FB-BEDC-9782DF03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DED5C-6DD1-409A-92BC-14AB7FE40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E4AE4-A975-47A9-A107-3D3DEC1967B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Муниципальное дошкольное образовательное учреждение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центр развития ребёнка – детский сад №460 «Родничок» Сормовского райо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409720" y="2895120"/>
            <a:ext cx="3581640" cy="323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Выполнила: Нефедова Ольга Леонидовна инструктор по физической культуре МДОУ центр развития ребёнка –  детский сад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 №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460 «Родничок»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Сормовского район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cc00"/>
              </a:buClr>
              <a:buSzPct val="12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г.Нижний Новгород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Февраль 2020г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i="1" lang="ru-RU" sz="2800" spc="-1" strike="noStrike">
                <a:solidFill>
                  <a:srgbClr val="ffff00"/>
                </a:solidFill>
                <a:latin typeface="Tahoma"/>
              </a:rPr>
              <a:t>«Здоровьесберегающие технологии в басейне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6" descr="M:\Ольга с MSI\фото бассейн 19год\бассейн 19 год\Н г 7 гр\DSC03781.JPG"/>
          <p:cNvPicPr/>
          <p:nvPr/>
        </p:nvPicPr>
        <p:blipFill>
          <a:blip r:embed="rId1"/>
          <a:stretch/>
        </p:blipFill>
        <p:spPr>
          <a:xfrm>
            <a:off x="609480" y="2743200"/>
            <a:ext cx="4267440" cy="3352680"/>
          </a:xfrm>
          <a:prstGeom prst="rect">
            <a:avLst/>
          </a:prstGeom>
          <a:ln w="76320">
            <a:solidFill>
              <a:srgbClr val="010199">
                <a:alpha val="0"/>
              </a:srgbClr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83059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Взаимодействие с родителям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бота шла по следующим направлениям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Консультации «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Участие в Родительском Университете Здоровья (2019, 2020 г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91600"/>
            <a:ext cx="830592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Работа шла по следующим направлениям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Дети меньше боле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Занятия разнообразней, интерес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Интерес к занятиям повысилс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Чередования упражнения на суше и в вод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4"/>
          <p:cNvSpPr txBox="1"/>
          <p:nvPr/>
        </p:nvSpPr>
        <p:spPr>
          <a:xfrm>
            <a:off x="457200" y="2387520"/>
            <a:ext cx="8229600" cy="159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solidFill>
                  <a:srgbClr val="00c6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внимание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solidFill>
                <a:srgbClr val="00c6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Схема 1" descr=""/>
          <p:cNvPicPr/>
          <p:nvPr/>
        </p:nvPicPr>
        <p:blipFill>
          <a:blip r:embed="rId1"/>
          <a:stretch/>
        </p:blipFill>
        <p:spPr>
          <a:xfrm>
            <a:off x="384120" y="457200"/>
            <a:ext cx="81504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99"/>
                </a:solidFill>
                <a:uFillTx/>
                <a:latin typeface="Times New Roman"/>
              </a:rPr>
              <a:t>Цель:</a:t>
            </a:r>
            <a:br>
              <a:rPr sz="2000"/>
            </a:br>
            <a:r>
              <a:rPr b="1" lang="ru-RU" sz="2000" spc="-1" strike="noStrike">
                <a:solidFill>
                  <a:srgbClr val="ff99ff"/>
                </a:solidFill>
                <a:latin typeface="Tahoma"/>
              </a:rPr>
              <a:t>Охранять  и укреплять здоровье детей, содействовать их всестороннему развитию, обучать детей плаванию</a:t>
            </a:r>
            <a:br>
              <a:rPr sz="4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здоровите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Создать условия для снижения заболеваемости детей, активизировать психофизиологические возможности детского организм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ормировать необходимые знания, умения, и навыки здорового образа жизн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Осуществлять профилактику и коррекцию нарушений осанки (по показаниям врача ортопеда)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ормировать у детей культурно-гигиенические навы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лучшение показателей физического развития, повышение уровня физической подготовленности ребён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Образовательн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Формировать у детей осознанного отношения к выполнению двигательных действий, потребность в физическом совершенствован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учить детей жизненно-необходимым навыкам плавания, умению держаться на воде, спортивным способам плава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ff"/>
                </a:solidFill>
                <a:latin typeface="Arial"/>
              </a:rPr>
              <a:t>Развивающи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звивать физические качества дете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Развивать самостоятельность, творчество, активность в двигательной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использование контрастных температурных воздействий (воздушные ванн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звуковые и дыхательные упражн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элементы массажа и самомассаж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учение детей элементам психогимнастики, приемам мышечного расслабления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пражнения на коррекцию плоскостопия и осан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Tahoma"/>
              </a:rPr>
              <a:t>Оздоровительные мероприят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15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Воздушные ванн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31"/>
          <p:cNvSpPr/>
          <p:nvPr/>
        </p:nvSpPr>
        <p:spPr>
          <a:xfrm>
            <a:off x="457200" y="3962520"/>
            <a:ext cx="36576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пользование разницы температур в раздевалке и бассейн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48320" y="1904760"/>
            <a:ext cx="40384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л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тивизировать деятельность всех систем организма, стимулировать работу внутренних органов, органов чув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35" descr="DSC02727"/>
          <p:cNvPicPr/>
          <p:nvPr/>
        </p:nvPicPr>
        <p:blipFill>
          <a:blip r:embed="rId1"/>
          <a:stretch/>
        </p:blipFill>
        <p:spPr>
          <a:xfrm>
            <a:off x="4800600" y="3962520"/>
            <a:ext cx="3886200" cy="2543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7" descr="M:\Ольга с MSI\Новая флешка\KINGSTON 8G\фотографии под игры\IMG_1431.JPG"/>
          <p:cNvPicPr/>
          <p:nvPr/>
        </p:nvPicPr>
        <p:blipFill>
          <a:blip r:embed="rId2"/>
          <a:stretch/>
        </p:blipFill>
        <p:spPr>
          <a:xfrm>
            <a:off x="304920" y="1676520"/>
            <a:ext cx="3886200" cy="26668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99ff"/>
                </a:solidFill>
                <a:latin typeface="Arial"/>
              </a:rPr>
              <a:t>Обливание водо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3886200"/>
            <a:ext cx="403848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вышение устойчивости организма к  колебаниям температуры, переохлаждению, сопротивляемости к инфекционным заболеваниям, усиление обмена вещест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6" descr="H:\DCIM\100MSDCF\DSC04788.JPG"/>
          <p:cNvPicPr/>
          <p:nvPr/>
        </p:nvPicPr>
        <p:blipFill>
          <a:blip r:embed="rId1"/>
          <a:stretch/>
        </p:blipFill>
        <p:spPr>
          <a:xfrm>
            <a:off x="4648320" y="3429000"/>
            <a:ext cx="4165560" cy="2649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H:\DCIM\100MSDCF\DSC04812.JPG"/>
          <p:cNvPicPr/>
          <p:nvPr/>
        </p:nvPicPr>
        <p:blipFill>
          <a:blip r:embed="rId2"/>
          <a:stretch/>
        </p:blipFill>
        <p:spPr>
          <a:xfrm>
            <a:off x="609480" y="1676520"/>
            <a:ext cx="3953160" cy="22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Дыхательные упражнения на суш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876920" y="1371240"/>
            <a:ext cx="4114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ль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Повышение общего жизненного тонуса, сопротивляемости и устойчивости организма к простудным заболеваниям, развитие дыхательной мускулатуры, увеличение подвижности грудной клетки и диафрагмы, улучшение лимфо- и кровообращение в лёгки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Комплекс дыхательных упражнений, направлен на улучшение функции системы «сердце — легкие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18" descr="DSC02652"/>
          <p:cNvPicPr/>
          <p:nvPr/>
        </p:nvPicPr>
        <p:blipFill>
          <a:blip r:embed="rId1"/>
          <a:stretch/>
        </p:blipFill>
        <p:spPr>
          <a:xfrm>
            <a:off x="228600" y="1143000"/>
            <a:ext cx="4343400" cy="2666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1" descr="открытие группы 2, бассейн 035"/>
          <p:cNvPicPr/>
          <p:nvPr/>
        </p:nvPicPr>
        <p:blipFill>
          <a:blip r:embed="rId2"/>
          <a:stretch/>
        </p:blipFill>
        <p:spPr>
          <a:xfrm>
            <a:off x="228600" y="3962520"/>
            <a:ext cx="43434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99ff"/>
                </a:solidFill>
                <a:latin typeface="Arial"/>
              </a:rPr>
              <a:t>Дыхательные упражнения в воде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26" descr="DSC02527"/>
          <p:cNvPicPr/>
          <p:nvPr/>
        </p:nvPicPr>
        <p:blipFill>
          <a:blip r:embed="rId1"/>
          <a:stretch/>
        </p:blipFill>
        <p:spPr>
          <a:xfrm>
            <a:off x="4800600" y="1523880"/>
            <a:ext cx="3962520" cy="236232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7"/>
          <p:cNvSpPr/>
          <p:nvPr/>
        </p:nvSpPr>
        <p:spPr>
          <a:xfrm>
            <a:off x="5105520" y="4343400"/>
            <a:ext cx="32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28"/>
          <p:cNvSpPr/>
          <p:nvPr/>
        </p:nvSpPr>
        <p:spPr>
          <a:xfrm flipH="1">
            <a:off x="5104800" y="4191120"/>
            <a:ext cx="3733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пражнения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оплавок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Ветер по морю гуляет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«Пузыри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4038480"/>
            <a:ext cx="40384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8" descr="H:\DCIM\100MSDCF\DSC04824.JPG"/>
          <p:cNvPicPr/>
          <p:nvPr/>
        </p:nvPicPr>
        <p:blipFill>
          <a:blip r:embed="rId2"/>
          <a:stretch/>
        </p:blipFill>
        <p:spPr>
          <a:xfrm>
            <a:off x="152280" y="4038480"/>
            <a:ext cx="4496040" cy="244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H:\DCIM\100MSDCF\DSC04810.JPG"/>
          <p:cNvPicPr/>
          <p:nvPr/>
        </p:nvPicPr>
        <p:blipFill>
          <a:blip r:embed="rId3"/>
          <a:stretch/>
        </p:blipFill>
        <p:spPr>
          <a:xfrm>
            <a:off x="152280" y="1447920"/>
            <a:ext cx="449604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ffff"/>
                </a:solidFill>
                <a:latin typeface="Tahoma"/>
              </a:rPr>
              <a:t>Элементы массажа и   самомассажа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9" descr="DSC02558"/>
          <p:cNvPicPr/>
          <p:nvPr/>
        </p:nvPicPr>
        <p:blipFill>
          <a:blip r:embed="rId1"/>
          <a:stretch/>
        </p:blipFill>
        <p:spPr>
          <a:xfrm>
            <a:off x="380880" y="4114800"/>
            <a:ext cx="4343400" cy="24955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533520" y="1371240"/>
            <a:ext cx="40384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Цель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Активизация биологически активных точек, повышение функциональной деятельности головного мозга, защитных свойств организма, расслаблению мышц и снятию нервно-эмоционального напряжения.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5029200" y="45720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Picture 15" descr="DSC02722"/>
          <p:cNvPicPr/>
          <p:nvPr/>
        </p:nvPicPr>
        <p:blipFill>
          <a:blip r:embed="rId2"/>
          <a:stretch/>
        </p:blipFill>
        <p:spPr>
          <a:xfrm>
            <a:off x="4876920" y="4114800"/>
            <a:ext cx="3962160" cy="2495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648320" y="1904760"/>
            <a:ext cx="40384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8" descr="H:\DCIM\100MSDCF\DSC04753.JPG"/>
          <p:cNvPicPr/>
          <p:nvPr/>
        </p:nvPicPr>
        <p:blipFill>
          <a:blip r:embed="rId3"/>
          <a:stretch/>
        </p:blipFill>
        <p:spPr>
          <a:xfrm>
            <a:off x="4514760" y="1600200"/>
            <a:ext cx="433224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SI</dc:creator>
  <dc:description/>
  <dc:language>en-US</dc:language>
  <cp:lastModifiedBy>Светлана</cp:lastModifiedBy>
  <dcterms:modified xsi:type="dcterms:W3CDTF">2020-12-15T08:00:06Z</dcterms:modified>
  <cp:revision>9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