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8EFC-53D9-4751-9573-DFF9ED692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BE59-9C16-4931-AA7B-2EC2C858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B39-2465-4A13-97A4-FA66EA08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4A85-4D94-4831-9604-35469A5E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F382F-102E-49E9-AEED-BD350FF4D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112C9-D388-4E93-8F29-0813AEED1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5DE33-433F-4D46-AC2E-6B3DA0359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EAD74-334C-41EE-B575-F668C3D2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9CC05-C5D1-4F52-978C-72D6CDCA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0B797-51D9-4FB8-B07D-FB790EDB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765B4-2758-4D62-A61D-9901788D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DDFB-B2C7-4CE6-AB3E-E1C8F836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5F6A4-425B-44C2-A819-369F3E33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E0E60B-3541-4ED6-B201-AA53ED4BC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8110B4-244B-4B2B-ACF5-5CE69BEA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20DC8-6E85-42F1-AD36-27558B9C2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B75F8-7487-4229-AAFF-06547584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9AF-9C07-46A2-86D9-484084D6A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5EA-0F00-4189-ABCB-56712595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377-167B-441E-B26A-E704ABF3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A847-2C5A-449B-9D7F-BE38BCA8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DF5F-9C04-4519-AFB5-599692A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7277-246B-451C-B1AF-CF9C534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EFE9-4C82-45C9-BE90-B4E63226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90DA5-3EB6-47EE-BA8E-53FFF0C97FC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21101-F781-4604-A6B5-E846C9788C4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центр развития ребёнка – детский сад №460 «Родничок» Сормовского рай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09720" y="2895120"/>
            <a:ext cx="358164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ыполнила: Нефедова Ольга Леонидовна инструктор по физической культуре МДОУ центр развития ребёнка –  детский сад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№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60 «Родничок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рм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.Нижний Новг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евраль 2020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«Здоровьесберегающие технологии в басейн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M:\Ольга с MSI\фото бассейн 19год\бассейн 19 год\Н г 7 гр\DSC03781.JPG"/>
          <p:cNvPicPr/>
          <p:nvPr/>
        </p:nvPicPr>
        <p:blipFill>
          <a:blip r:embed="rId1"/>
          <a:stretch/>
        </p:blipFill>
        <p:spPr>
          <a:xfrm>
            <a:off x="609480" y="2743200"/>
            <a:ext cx="4267440" cy="3352680"/>
          </a:xfrm>
          <a:prstGeom prst="rect">
            <a:avLst/>
          </a:prstGeom>
          <a:ln w="76320">
            <a:solidFill>
              <a:srgbClr val="010199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Взаимодействие с родителя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бота шла по следующим направлениям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онсультации «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астие в Родительском Университете Здоровья (2019, 2020 г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бота шла по следующим направлениям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ти меньше боле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нятия разнообразней, интер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терес к занятиям повыси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Чередования упражнения на суше и в 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457200" y="2387520"/>
            <a:ext cx="82296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c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c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Схема 1" descr=""/>
          <p:cNvPicPr/>
          <p:nvPr/>
        </p:nvPicPr>
        <p:blipFill>
          <a:blip r:embed="rId1"/>
          <a:stretch/>
        </p:blipFill>
        <p:spPr>
          <a:xfrm>
            <a:off x="384120" y="457200"/>
            <a:ext cx="8150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Цель:</a:t>
            </a:r>
            <a:br>
              <a:rPr sz="2000"/>
            </a:br>
            <a:r>
              <a:rPr b="1" lang="ru-RU" sz="2000" spc="-1" strike="noStrike">
                <a:solidFill>
                  <a:srgbClr val="ff99ff"/>
                </a:solidFill>
                <a:latin typeface="Tahoma"/>
              </a:rPr>
              <a:t>Охранять  и укреплять здоровье детей, содействовать их всестороннему развитию, обучать детей плаванию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здорови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здать условия для снижения заболеваемости детей, активизировать психофизиологические возможности детского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необходимые знания, умения, и навыки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уществлять профилактику и коррекцию нарушений осанки (по показаниям врача ортопед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у детей культурно-гигиенически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лучшение показателей физического развития, повышение уровня физической подготовленности ребё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у детей осознанного отношения к выполнению двигательных действий, потребность в физическом совершенствован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ь детей жизненно-необходимым навыкам плавания, умению держаться на воде, спортивным способам пла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звиваю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звивать физические качества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звивать самостоятельность, творчество, активность в двигательн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контрастных температурных воздействий (воздушные ван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вуковые и дыхательные упраж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лементы массажа и самомасс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учение детей элементам психогимнастики, приемам мышечного расслабл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жнения на коррекцию плоскостопия и оса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Оздоровительные 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Воздушные ван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457200" y="3962520"/>
            <a:ext cx="3657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разницы температур в раздевалке и бассейн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476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изировать деятельность всех систем организма, стимулировать работу внутренних органов, органов чув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5" descr="DSC02727"/>
          <p:cNvPicPr/>
          <p:nvPr/>
        </p:nvPicPr>
        <p:blipFill>
          <a:blip r:embed="rId1"/>
          <a:stretch/>
        </p:blipFill>
        <p:spPr>
          <a:xfrm>
            <a:off x="4800600" y="3962520"/>
            <a:ext cx="3886200" cy="25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:\Ольга с MSI\Новая флешка\KINGSTON 8G\фотографии под игры\IMG_1431.JPG"/>
          <p:cNvPicPr/>
          <p:nvPr/>
        </p:nvPicPr>
        <p:blipFill>
          <a:blip r:embed="rId2"/>
          <a:stretch/>
        </p:blipFill>
        <p:spPr>
          <a:xfrm>
            <a:off x="304920" y="1676520"/>
            <a:ext cx="388620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Обливание вод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ышение устойчивости организма к  колебаниям температуры, переохлаждению, сопротивляемости к инфекционным заболеваниям, усиление обмена веще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H:\DCIM\100MSDCF\DSC04788.JPG"/>
          <p:cNvPicPr/>
          <p:nvPr/>
        </p:nvPicPr>
        <p:blipFill>
          <a:blip r:embed="rId1"/>
          <a:stretch/>
        </p:blipFill>
        <p:spPr>
          <a:xfrm>
            <a:off x="4648320" y="3429000"/>
            <a:ext cx="4165560" cy="264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H:\DCIM\100MSDCF\DSC04812.JPG"/>
          <p:cNvPicPr/>
          <p:nvPr/>
        </p:nvPicPr>
        <p:blipFill>
          <a:blip r:embed="rId2"/>
          <a:stretch/>
        </p:blipFill>
        <p:spPr>
          <a:xfrm>
            <a:off x="609480" y="1676520"/>
            <a:ext cx="39531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Дыхательные упражнения на суш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876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ышение общего жизненного тонуса, сопротивляемости и устойчивости организма к простудным заболеваниям, развитие дыхательной мускулатуры, увеличение подвижности грудной клетки и диафрагмы, улучшение лимфо- и кровообращение в лё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плекс дыхательных упражнений, направлен на улучшение функции системы «сердце — легки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8" descr="DSC02652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открытие группы 2, бассейн 035"/>
          <p:cNvPicPr/>
          <p:nvPr/>
        </p:nvPicPr>
        <p:blipFill>
          <a:blip r:embed="rId2"/>
          <a:stretch/>
        </p:blipFill>
        <p:spPr>
          <a:xfrm>
            <a:off x="228600" y="3962520"/>
            <a:ext cx="4343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Дыхательные упражнения в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6" descr="DSC02527"/>
          <p:cNvPicPr/>
          <p:nvPr/>
        </p:nvPicPr>
        <p:blipFill>
          <a:blip r:embed="rId1"/>
          <a:stretch/>
        </p:blipFill>
        <p:spPr>
          <a:xfrm>
            <a:off x="4800600" y="1523880"/>
            <a:ext cx="396252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5105520" y="43434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8"/>
          <p:cNvSpPr/>
          <p:nvPr/>
        </p:nvSpPr>
        <p:spPr>
          <a:xfrm flipH="1">
            <a:off x="5104800" y="4191120"/>
            <a:ext cx="373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ж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оплав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етер по морю гуля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узыр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H:\DCIM\100MSDCF\DSC04824.JPG"/>
          <p:cNvPicPr/>
          <p:nvPr/>
        </p:nvPicPr>
        <p:blipFill>
          <a:blip r:embed="rId2"/>
          <a:stretch/>
        </p:blipFill>
        <p:spPr>
          <a:xfrm>
            <a:off x="152280" y="4038480"/>
            <a:ext cx="4496040" cy="24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:\DCIM\100MSDCF\DSC04810.JPG"/>
          <p:cNvPicPr/>
          <p:nvPr/>
        </p:nvPicPr>
        <p:blipFill>
          <a:blip r:embed="rId3"/>
          <a:stretch/>
        </p:blipFill>
        <p:spPr>
          <a:xfrm>
            <a:off x="152280" y="1447920"/>
            <a:ext cx="44960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Элементы массажа и   самомасса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DSC02558"/>
          <p:cNvPicPr/>
          <p:nvPr/>
        </p:nvPicPr>
        <p:blipFill>
          <a:blip r:embed="rId1"/>
          <a:stretch/>
        </p:blipFill>
        <p:spPr>
          <a:xfrm>
            <a:off x="380880" y="4114800"/>
            <a:ext cx="4343400" cy="2495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3520" y="137124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изация биологически активных точек, повышение функциональной деятельности головного мозга, защитных свойств организма, расслаблению мышц и снятию нервно-эмоционального напряжения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029200" y="4572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5" descr="DSC02722"/>
          <p:cNvPicPr/>
          <p:nvPr/>
        </p:nvPicPr>
        <p:blipFill>
          <a:blip r:embed="rId2"/>
          <a:stretch/>
        </p:blipFill>
        <p:spPr>
          <a:xfrm>
            <a:off x="4876920" y="4114800"/>
            <a:ext cx="3962160" cy="2495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H:\DCIM\100MSDCF\DSC04753.JPG"/>
          <p:cNvPicPr/>
          <p:nvPr/>
        </p:nvPicPr>
        <p:blipFill>
          <a:blip r:embed="rId3"/>
          <a:stretch/>
        </p:blipFill>
        <p:spPr>
          <a:xfrm>
            <a:off x="4514760" y="1600200"/>
            <a:ext cx="4332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Светлана</cp:lastModifiedBy>
  <dcterms:modified xsi:type="dcterms:W3CDTF">2020-12-15T08:0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