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4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1D3-BD89-4554-A045-A91BA126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5F7-9C37-4BE4-8C52-A6AB592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73931-93CB-45FF-90D1-0BC44F3E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9A9E7-5666-46ED-A1F5-ADC0989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DAD0A-3883-48D5-B85C-A2EEA03C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455E7-4024-46A8-A657-D65DF9BF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CEEF0-E5AE-4426-865F-DDBF0EBF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7CC93-72A2-45E9-B833-AA3E73B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4D625-19D8-467E-B443-4AE5C29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E7F1-673A-4F25-A95B-60CFBC64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85D6C-B04F-477B-8CB3-06CA315C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963-71B2-42BD-B441-0ABF758F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DE6-C784-4DA3-BE5B-0F649C6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3CD-0062-49B7-8546-C0683DCE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54E3-337E-4FA0-ADD3-6769C99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787-81D4-4E55-804D-CF45B298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F429-E8AA-41EF-B870-E24F0D6D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A375-0393-4BFA-B8AE-7118823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D5B5-7F35-45D0-99B0-BA0E35B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6DD7-024A-4DF3-9AF3-AF7813D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7BD-A107-47E4-A7C9-4BE8C08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131D-6E9E-4269-A8B0-6C7AF0E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236-75FD-4CC5-A836-A114F6C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394C-E515-4E09-B34F-4A98DF1A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3416-00BE-46BA-9461-15F5E0E2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3B61-736E-4E09-85FB-D1BBA4A6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5F2A-A06F-4BB2-8DE1-3332E341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98DF-1518-48A2-8E59-18CC3EF6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18C3-AB01-4AD7-ADF9-570BB6D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5F1D-1699-49ED-9781-F3DD480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A9E3-4510-4392-9740-5976D027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897-60CE-4A77-B90E-D9CDAE34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1E6D-9EF2-4B1A-B1FB-88B55B9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D388-E78C-40B4-ABF4-31D3746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623A-A05D-4F1E-9CE5-A009352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2B49-6372-4BAD-B6DE-79E97FE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B6EB-6CF7-4072-A0DA-4CC4D485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D1E9-1B37-4EB7-BC31-0CA69285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E073-DCA0-4806-AFAF-495A482E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64EF-AC98-454A-B39F-623FFF35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1871-350B-4722-91F1-A7DD5474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C92A-6D7D-4958-8846-1085012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48E-0CBD-421A-AA09-FB01FC0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7021-DD9C-4547-B14C-1E2EB74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1C1F-D40B-495C-8264-7BE8FE17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0F4D-0DCE-465C-99F3-CFDC308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D484-9D2D-44B0-A666-8338B69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EEC9-A329-4C4A-A01D-2CC68DC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7D3F-5CA3-4798-93C0-95D40F0E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E9C9-1374-4DCD-BFB3-350652C6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27F0-62D7-440F-B051-1E7728F2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E435-C8F3-4F6F-90F5-3F9A4BD2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A523-55C5-41B1-9D20-02C2D1AA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786-C87F-44DD-A2E7-B08500C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FD23-8E86-4C27-A52E-14C085A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1CE0-CC56-44D0-BAE4-5ADE702C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3AC6-ADBB-4F5A-9371-1238D357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62B6-232A-4D62-B2DE-5F84824B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DF1E-3ED8-4A02-829E-27A6F2A1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E025-B530-4610-92C5-CA25A80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FE48-C343-49CB-93D6-9B9FFBA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CFD4-123B-4A68-9A70-F514C2C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10C8-10C7-4B06-9D95-1A04427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5BF28-8B07-4CBC-8C1D-7ABC2BA0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ACA-5D9D-4FF4-9765-4D483D96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20112-585E-4FF9-9ECE-D07414D7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9E178-217F-41B2-B0CE-58E0954F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7E232-073F-43FE-936F-89B563C1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489B3-3108-419D-8D21-B50F73E0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4F15-2CBA-475F-9BA8-A0A691CE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B6A3F-0201-4B56-85FB-D58FE01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CA59-09CC-46BB-AA52-BED63B9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F5052-A88F-483F-8A4C-753BD55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CC96-F6C2-4B2B-8762-5BEC3B8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71313-1378-44E9-83A8-61F4BD27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D6B-682E-4A05-8F00-A947999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73FFF-9806-4854-8A28-FD15FD2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1493A-3490-4BA5-A4B8-EE46C9EA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FF89-3381-48AA-9326-8BD56A27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9FB7-8125-43A8-BBD2-447E5D3E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79E4-79D0-45E0-AF95-473E37C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DE55-1D03-4F36-ABE5-8ADAB59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89138-4BDE-4EFC-84A3-BDB09060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1442-96F3-4147-8E42-260628C0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31E2-225D-490E-93ED-2E5FDEB3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A898-C5CF-4892-8C8A-1BD5DDE5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51E-6BBB-4CFD-9F22-861A71C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CE9B4-6134-4AF2-B1E1-AE3ED52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45F82-6495-430C-A414-CB96932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8DB7-0787-4005-BF5B-8D81E478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84453-F5E0-47B7-A9C0-0C8DFBD2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9DBFC-7BD3-4523-BD23-C421F5AB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A2AEB-BC4B-49B7-B876-4A8E5311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FFB86-1F09-4707-AED7-1FA20C3D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A457-8BA4-4423-8170-55D193BC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42962-ADD2-43EE-85EB-0899EF1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9E20A-30B4-4E09-8EE9-37CC9D6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21F-CEF7-4807-8E1E-4A354FD4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F0F6-05C4-4C06-9274-D262068B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8056-39AB-4234-8F88-ECC6799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C8D14-B380-4FBF-A5E6-A44AA972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3FCE4-DE8F-417B-84D7-583E017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52057-DBE8-4195-8E3E-DF366581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FFFA-D496-4BF0-B382-CAF19EBC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42C6-7C22-49F8-8E62-D7564BF2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FAF1A-DCBD-46B7-B323-E70ED9E6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2FB1B-E607-4FF5-9460-26B997C7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71E4E-916A-48C8-89F6-6CE8C24D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AEF-2A73-47C4-B036-1C65B91725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D132-D3B7-4A8C-8908-CA3B7F77B3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1A55-5934-4B36-8852-E6148FFDE4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7C9-F22B-4F2D-BA61-50BD00BE09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58BB-49EF-4ACB-8F60-5E56860C1E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B88F-D6EF-40CE-B16A-03477C5D2E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0229-4E09-4F24-B792-BD15251FEF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7A3D-55C4-45BB-AE84-27341DA8B6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978A-3E7D-4197-A8F0-D3B1D72B03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208080"/>
            <a:ext cx="8699400" cy="1103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Franklin Gothic Book"/>
              </a:rPr>
              <a:t>Духовно – нравственное воспитание школьников на уроках ОБЖ как средство реализации ФГОС 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Franklin Gothic Book"/>
              </a:rPr>
              <a:t>с. Разъезжее, 2015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Учебные занятия по основам безопасности жизнедеятель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Учебно-полевые сборы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Соревнования, олимпиады, конкурсы, викторины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Школа выживания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Школа безопас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Экшн - тренинг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Безопасное колесо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Уроки мужеств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Вахта памя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76"/>
                </a:solidFill>
                <a:latin typeface="Franklin Gothic Book"/>
              </a:rPr>
              <a:t>Физкультурно-спортивный клуб «Добрыня Никитич»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201600" y="450720"/>
            <a:ext cx="9199440" cy="1152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F:\Зарница 14\DSC00066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F:\Зарница 14\DSC00099.JPG"/>
          <p:cNvPicPr/>
          <p:nvPr/>
        </p:nvPicPr>
        <p:blipFill>
          <a:blip r:embed="rId3"/>
          <a:stretch/>
        </p:blipFill>
        <p:spPr>
          <a:xfrm>
            <a:off x="4357800" y="3357720"/>
            <a:ext cx="4919400" cy="3500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F:\Зарница 14\DSC00108.JPG"/>
          <p:cNvPicPr/>
          <p:nvPr/>
        </p:nvPicPr>
        <p:blipFill>
          <a:blip r:embed="rId4"/>
          <a:stretch/>
        </p:blipFill>
        <p:spPr>
          <a:xfrm>
            <a:off x="0" y="11430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5"/>
          <p:cNvSpPr/>
          <p:nvPr/>
        </p:nvSpPr>
        <p:spPr>
          <a:xfrm>
            <a:off x="642960" y="4857840"/>
            <a:ext cx="2428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оревновани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п. Ойский ,Вороних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55600" y="255600"/>
            <a:ext cx="8437680" cy="11397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F:\Зарница 14\DSCN4563.JPG"/>
          <p:cNvPicPr/>
          <p:nvPr/>
        </p:nvPicPr>
        <p:blipFill>
          <a:blip r:embed="rId2"/>
          <a:stretch/>
        </p:blipFill>
        <p:spPr>
          <a:xfrm>
            <a:off x="4122720" y="0"/>
            <a:ext cx="5021280" cy="3506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F:\Зарница 14\DSCN7796.JPG"/>
          <p:cNvPicPr/>
          <p:nvPr/>
        </p:nvPicPr>
        <p:blipFill>
          <a:blip r:embed="rId3"/>
          <a:stretch/>
        </p:blipFill>
        <p:spPr>
          <a:xfrm>
            <a:off x="0" y="928800"/>
            <a:ext cx="4214880" cy="3162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F:\Зарница 14\DSCN7878.JPG"/>
          <p:cNvPicPr/>
          <p:nvPr/>
        </p:nvPicPr>
        <p:blipFill>
          <a:blip r:embed="rId4"/>
          <a:stretch/>
        </p:blipFill>
        <p:spPr>
          <a:xfrm>
            <a:off x="3835440" y="2874960"/>
            <a:ext cx="5308560" cy="3983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F:\Зарница 14\DSCN7898.JPG"/>
          <p:cNvPicPr/>
          <p:nvPr/>
        </p:nvPicPr>
        <p:blipFill>
          <a:blip r:embed="rId5"/>
          <a:stretch/>
        </p:blipFill>
        <p:spPr>
          <a:xfrm>
            <a:off x="0" y="3718080"/>
            <a:ext cx="4143240" cy="3143160"/>
          </a:xfrm>
          <a:prstGeom prst="rect">
            <a:avLst/>
          </a:prstGeom>
          <a:ln w="0">
            <a:noFill/>
          </a:ln>
        </p:spPr>
      </p:pic>
      <p:sp>
        <p:nvSpPr>
          <p:cNvPr id="432" name="TextBox 6"/>
          <p:cNvSpPr/>
          <p:nvPr/>
        </p:nvSpPr>
        <p:spPr>
          <a:xfrm>
            <a:off x="3000240" y="6429240"/>
            <a:ext cx="30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. Разъезжее, г.Караульна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F:\Зарница 14\DSCN7909.JPG"/>
          <p:cNvPicPr/>
          <p:nvPr/>
        </p:nvPicPr>
        <p:blipFill>
          <a:blip r:embed="rId1"/>
          <a:stretch/>
        </p:blipFill>
        <p:spPr>
          <a:xfrm>
            <a:off x="0" y="3352680"/>
            <a:ext cx="4643280" cy="3505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5" name="Picture 9" descr="F:\Зарница 14\DSCN7932.JPG"/>
          <p:cNvPicPr/>
          <p:nvPr/>
        </p:nvPicPr>
        <p:blipFill>
          <a:blip r:embed="rId2"/>
          <a:stretch/>
        </p:blipFill>
        <p:spPr>
          <a:xfrm>
            <a:off x="457200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F:\Зарница 14\DSCN7845.JPG"/>
          <p:cNvPicPr/>
          <p:nvPr/>
        </p:nvPicPr>
        <p:blipFill>
          <a:blip r:embed="rId3"/>
          <a:stretch/>
        </p:blipFill>
        <p:spPr>
          <a:xfrm>
            <a:off x="-71280" y="0"/>
            <a:ext cx="4786200" cy="3591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F:\Зарница 14\DSCN7971.JPG"/>
          <p:cNvPicPr/>
          <p:nvPr/>
        </p:nvPicPr>
        <p:blipFill>
          <a:blip r:embed="rId4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7"/>
          <p:cNvSpPr/>
          <p:nvPr/>
        </p:nvSpPr>
        <p:spPr>
          <a:xfrm>
            <a:off x="3357720" y="6357960"/>
            <a:ext cx="25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г.Караульная, Зарниц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F:\Зарница 14\DSCN7723.JPG"/>
          <p:cNvPicPr/>
          <p:nvPr/>
        </p:nvPicPr>
        <p:blipFill>
          <a:blip r:embed="rId1"/>
          <a:stretch/>
        </p:blipFill>
        <p:spPr>
          <a:xfrm>
            <a:off x="0" y="107172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F:\Зарница 14\DSCN7728.JPG"/>
          <p:cNvPicPr/>
          <p:nvPr/>
        </p:nvPicPr>
        <p:blipFill>
          <a:blip r:embed="rId2"/>
          <a:stretch/>
        </p:blipFill>
        <p:spPr>
          <a:xfrm>
            <a:off x="5715000" y="1000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F:\Зарница 14\DSCN7758.JPG"/>
          <p:cNvPicPr/>
          <p:nvPr/>
        </p:nvPicPr>
        <p:blipFill>
          <a:blip r:embed="rId3"/>
          <a:stretch/>
        </p:blipFill>
        <p:spPr>
          <a:xfrm>
            <a:off x="6192720" y="464328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1" descr=""/>
          <p:cNvPicPr/>
          <p:nvPr/>
        </p:nvPicPr>
        <p:blipFill>
          <a:blip r:embed="rId4"/>
          <a:stretch/>
        </p:blipFill>
        <p:spPr>
          <a:xfrm>
            <a:off x="255600" y="255600"/>
            <a:ext cx="8437680" cy="1139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F:\Зарница 14\DSCN7742.JPG"/>
          <p:cNvPicPr/>
          <p:nvPr/>
        </p:nvPicPr>
        <p:blipFill>
          <a:blip r:embed="rId5"/>
          <a:stretch/>
        </p:blipFill>
        <p:spPr>
          <a:xfrm>
            <a:off x="0" y="4500720"/>
            <a:ext cx="3141720" cy="2357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F:\Зарница 14\DSCN7737.JPG"/>
          <p:cNvPicPr/>
          <p:nvPr/>
        </p:nvPicPr>
        <p:blipFill>
          <a:blip r:embed="rId6"/>
          <a:stretch/>
        </p:blipFill>
        <p:spPr>
          <a:xfrm>
            <a:off x="2786040" y="2928960"/>
            <a:ext cx="3998880" cy="30002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7"/>
          <p:cNvSpPr/>
          <p:nvPr/>
        </p:nvSpPr>
        <p:spPr>
          <a:xfrm>
            <a:off x="3143160" y="6143760"/>
            <a:ext cx="32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БОУ «Разъезженская СОШ», спортивный за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F:\Зарница 14\DSCN7457.jpg"/>
          <p:cNvPicPr/>
          <p:nvPr/>
        </p:nvPicPr>
        <p:blipFill>
          <a:blip r:embed="rId1"/>
          <a:stretch/>
        </p:blipFill>
        <p:spPr>
          <a:xfrm>
            <a:off x="4071960" y="0"/>
            <a:ext cx="4308480" cy="323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F:\Зарница 14\DSCN7676.jpg"/>
          <p:cNvPicPr/>
          <p:nvPr/>
        </p:nvPicPr>
        <p:blipFill>
          <a:blip r:embed="rId2"/>
          <a:stretch/>
        </p:blipFill>
        <p:spPr>
          <a:xfrm>
            <a:off x="644400" y="3143160"/>
            <a:ext cx="4951440" cy="3714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F:\Зарница 14\DSCN7521.jpg"/>
          <p:cNvPicPr/>
          <p:nvPr/>
        </p:nvPicPr>
        <p:blipFill>
          <a:blip r:embed="rId3"/>
          <a:stretch/>
        </p:blipFill>
        <p:spPr>
          <a:xfrm>
            <a:off x="5430960" y="3571920"/>
            <a:ext cx="3713040" cy="2786040"/>
          </a:xfrm>
          <a:prstGeom prst="rect">
            <a:avLst/>
          </a:prstGeom>
          <a:ln w="0">
            <a:noFill/>
          </a:ln>
        </p:spPr>
      </p:pic>
      <p:pic>
        <p:nvPicPr>
          <p:cNvPr id="449" name="Заголовок 1" descr=""/>
          <p:cNvPicPr/>
          <p:nvPr/>
        </p:nvPicPr>
        <p:blipFill>
          <a:blip r:embed="rId4"/>
          <a:stretch/>
        </p:blipFill>
        <p:spPr>
          <a:xfrm>
            <a:off x="255600" y="-23760"/>
            <a:ext cx="8437680" cy="11462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F:\Зарница 14\DSCN7372.jpg"/>
          <p:cNvPicPr/>
          <p:nvPr/>
        </p:nvPicPr>
        <p:blipFill>
          <a:blip r:embed="rId5"/>
          <a:stretch/>
        </p:blipFill>
        <p:spPr>
          <a:xfrm>
            <a:off x="0" y="822240"/>
            <a:ext cx="3571920" cy="26780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7"/>
          <p:cNvSpPr/>
          <p:nvPr/>
        </p:nvSpPr>
        <p:spPr>
          <a:xfrm>
            <a:off x="2571840" y="6211800"/>
            <a:ext cx="3786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БОУ «Разъезженская СОШ»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портивный за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487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E:\Зарница 14\IMAG0051.JPG"/>
          <p:cNvPicPr/>
          <p:nvPr/>
        </p:nvPicPr>
        <p:blipFill>
          <a:blip r:embed="rId2"/>
          <a:stretch/>
        </p:blipFill>
        <p:spPr>
          <a:xfrm>
            <a:off x="0" y="9288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E:\Зарница 14\IMAG0061.JPG"/>
          <p:cNvPicPr/>
          <p:nvPr/>
        </p:nvPicPr>
        <p:blipFill>
          <a:blip r:embed="rId3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4"/>
          <p:cNvSpPr/>
          <p:nvPr/>
        </p:nvSpPr>
        <p:spPr>
          <a:xfrm>
            <a:off x="5429160" y="6211800"/>
            <a:ext cx="3714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БОУ «Разъезженская СОШ»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етский сад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6" name="Picture 2" descr="C:\Documents and Settings\8 класс\Рабочий стол\Photo0281.jpg"/>
          <p:cNvPicPr/>
          <p:nvPr/>
        </p:nvPicPr>
        <p:blipFill>
          <a:blip r:embed="rId4"/>
          <a:stretch/>
        </p:blipFill>
        <p:spPr>
          <a:xfrm>
            <a:off x="4714920" y="1357200"/>
            <a:ext cx="4429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33200" y="291960"/>
            <a:ext cx="8864640" cy="10004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785880"/>
            <a:ext cx="86868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В 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XXI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 веке человечество вступило в новую ноосферную эпоху своего развития. Главной проблемой бедующего становится обеспечение безопасности жизнедеятельности чело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Изменение условий будущей жизни требует изменения направленности общего образования молодёжи. Эта цель определила разработку настоящей концепции, предполагающей развитие школьного курса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«Основы безопасности жизнедеятельности»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в новую образовательную область ФГО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33200" y="365040"/>
            <a:ext cx="886464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285840" y="856800"/>
            <a:ext cx="86868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Формирование российской, гражданской индентичности школьников, к личной безопасности и безопасности окружающих, приобретение навыков сохранять жизнь и здоровье в повседневной жизни в неблагоприятных  и опасных условиях, умений оказывать само – и взаимопомощь. Сознательного отношения к военной службе к выполнению каждым гражданином Российской Федерации конституционного долга и обязанностей по защите Отече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ru-RU" sz="3300" spc="-1" strike="noStrike">
                <a:solidFill>
                  <a:srgbClr val="0000ff"/>
                </a:solidFill>
                <a:latin typeface="Franklin Gothic Book"/>
              </a:rPr>
              <a:t>Всестороннее рассмотрение вопросов безопасности личности, общества, государства, затрагивающие все направления человеческой жизнедеятельности от принципов здорового образа жизни и стимулов деятельности до философии бытия, может быть охвачено только новой широкой образовательной областью, имеющей перекрёстные связи практически со всеми предметами образовательной программы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3"/>
          <p:cNvSpPr/>
          <p:nvPr/>
        </p:nvSpPr>
        <p:spPr>
          <a:xfrm>
            <a:off x="357120" y="1643040"/>
            <a:ext cx="2857680" cy="328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уровен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Защита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опасных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чрезвычайных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итуация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3357720" y="2286000"/>
            <a:ext cx="2714400" cy="328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II 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уровень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Основы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здорового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образа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6215040" y="3143160"/>
            <a:ext cx="2714760" cy="30006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III</a:t>
            </a: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уровень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Основы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оенной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лужб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Включает в себя передачу знаний, умений, навыков о способах поведения личности, позволяющих максимально снизить вероятность подвергнуться нежелательным воздействиям в повседневной жизни в различных опасных и чрезвычайных ситуациях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Призван сформировать знания, умения, навыки, связанные с охраной труда в процессе производственных отношений. На этом уровне раскрывается основы профессиональной безопасности в определённой сфере деятельност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080876"/>
                </a:solidFill>
                <a:latin typeface="Franklin Gothic Book"/>
              </a:rPr>
              <a:t>Определяет последовательность действий по безопасности человека и общества в целом в случаях чрезвычайных ситуаций мирного и военного времен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представляет собой образовательную область, раскрывающую общее содержание понятий по обеспечению безопасности личности, общества и государства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85480" y="428760"/>
            <a:ext cx="870588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        </a:t>
            </a: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Учебная дисциплина (курс)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«Основы безопасности жизнедеятельности» </a:t>
            </a:r>
            <a:r>
              <a:rPr b="0" lang="ru-RU" sz="4000" spc="-1" strike="noStrike">
                <a:solidFill>
                  <a:srgbClr val="080876"/>
                </a:solidFill>
                <a:latin typeface="Franklin Gothic Book"/>
              </a:rPr>
              <a:t>как начальная стадия формирования общих представлений и понятий в области безопасности жизнедеятельности представляет собой неотъемлемую часть образовательной области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«Безопасность жизнедеятельности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1:41:17Z</dcterms:created>
  <dc:creator>user</dc:creator>
  <dc:description/>
  <dc:language>en-US</dc:language>
  <cp:lastModifiedBy>User</cp:lastModifiedBy>
  <dcterms:modified xsi:type="dcterms:W3CDTF">2019-11-20T13:01:08Z</dcterms:modified>
  <cp:revision>39</cp:revision>
  <dc:subject/>
  <dc:title>Муниципальное бюджетное общеобразовательное учреждение  «Разъезженская средняя общеобразовательная школа»</dc:title>
</cp:coreProperties>
</file>