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41.jpeg" ContentType="image/jpeg"/>
  <Override PartName="/ppt/media/image33.jpeg" ContentType="image/jpeg"/>
  <Override PartName="/ppt/media/image27.jpeg" ContentType="image/jpeg"/>
  <Override PartName="/ppt/media/image40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9E50-D1EE-499A-9560-C87616B0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DE0-1E09-45F4-8747-9225B1C4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B5A07-4A0F-4312-BB85-8F4885DF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8A3B8-8E04-4309-8B27-6149A55F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8B9EA-1C24-4CD6-B198-7EF81EE2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51C35-A1E2-4985-A239-43863A1D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45BD8-03DC-47D8-A921-F1088F86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40EC4-8464-4E7E-B355-75BF4EA4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2301F-ADF6-4D5B-8D31-A60C0043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97A1C-B214-418B-90B9-784F9CFA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D43A7-7EC5-4645-8A2C-AFEC8549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7D7C-885E-42AE-816D-9FC56B32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7CA1-1D10-4EF5-BE65-9B4E01DE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B897-AD07-444A-9D78-076B29D1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76A7-0618-4DB8-9D81-F96305BD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A94E-A939-463C-8F04-1AA59624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0971-B1D6-4A2B-927F-F4CC4FB7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3E4A-E044-418A-B509-BAA6EA8B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9BED-8CEC-4BAD-842A-5CD771BD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3FF6-97B3-4297-832B-73B4B20A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6C5-ADFA-4D15-BBEA-1E6722C1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CEDA-7491-4314-A707-E0F64855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1100-B0BD-46A6-8489-BFFFFE14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FC0D-5782-44F7-B25F-E639E90A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25DA-2817-4495-801A-BC049BE6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4F30-94EA-4B08-8903-5928EF1E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D78DF-276B-46D1-8A65-40D48CAD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0EC8E-8589-4F29-8E84-60C3DBE3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B7F90-BEEA-4C46-8EAC-EFDEE7AB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6A8B9-CBC0-4624-9B9E-E600E1B4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F0108-6BC3-47B5-A36D-AD6E0955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E6A1-B8D7-4739-8AFF-36975A5B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D0D9D-045A-4B22-B43B-1F2DE1EA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C0131-4FF1-4779-B3C8-94D1CA50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3A7D9-9E38-4386-B9A0-A31131DB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75799-500D-40F4-BACB-A51F0929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21F29-B855-4DD6-9705-BA6E5012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9D024-EC96-40C3-8A9B-BBEEE8A1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68F2A-BC7C-4012-9EB0-6A96E11C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1E184-5B70-4707-89DF-C172AE85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0617D-4302-4CCB-91AB-E6A66C1F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2D2E2-7B81-412F-982C-A6A4C55C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728A-A29A-4DFE-8F3B-4411880F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019CA-6CB8-440A-964F-BE2C609A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83D8F-69A0-489C-B1C3-D5B564E5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6966E-C630-4797-A03A-C737986B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BC5D2-8D14-4FC0-9A45-0766AC62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26DD0-044C-4707-B7B3-890633A8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AD6B3-191C-423B-9DB1-A6860B09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806CB-DCFB-4F25-9E94-21F23051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B466D-7AE0-4A86-82B9-51CD5A5C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3EB44-EA7C-412B-9CD2-76B8A690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1F007-B2C5-4D8B-98BE-C71C7502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7689-0CF3-4513-A040-FEE5278D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C1066-C962-4356-83E5-5857DE64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8FB6A-5A4E-4804-A768-DCBD68DE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C6410-1EFE-4130-9E68-11D8B4D4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2F5CA-E723-4BD7-AEF7-B91622CA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6C0C2-0298-4F74-8FC6-AD6C425E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1F84B-6B48-4D79-A364-66DB9913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0E146-62FC-4DE0-95D7-ECB2DEC8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D4981-2438-4980-B227-8D7F15BE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06CAB-8584-48E9-8CF0-77319FD9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52393-8D7A-465A-83D7-01E5F994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DC5D-6D3B-430C-90E4-BA0DFDFE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2463A-501E-4F58-B2BA-6F071DA6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60A2E-C77C-40D3-97E1-8F22AD9A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F0F8C-4CA1-45A1-B265-EA96F98B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A64A9-4221-46AF-B363-019F39AE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FE357-7222-4C4E-B158-7C82CF6E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88540-4B4A-4A8D-98D1-28778F7D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3AEE7-2C81-4176-906D-1C0FEF88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BDE2E-0231-4661-9EC6-9676CCC7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7743D-D743-43F4-8BF2-39232B0E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DB751-598C-4004-9032-F0BB27F4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D05-CD51-4FFE-8638-B4FEFD9F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E4261-4EA9-4E60-8A45-CF6D39D4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96D52-502E-4A76-9C7D-E2240F3C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B4878-48BE-486C-A25B-32F70615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78F39-DEB0-41A5-922C-FBEC6997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01BD3-49C3-421A-A47F-A05E7DBB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EC9AE-525D-4D61-A9A7-CB848FBD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6289B-02CE-42EE-B04C-9AA9873B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25235-B2A1-436E-A919-A5711CD7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C53D7-F29E-46B4-B4D9-4FEB40DE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B5423-195A-41E2-8AE1-9C5785AD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1324-1AA6-4624-BEEA-23A58696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B610D-0598-444D-92BD-EA420B29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7A9CC-A3CF-492E-9595-5AE2FC17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F5A3A-3EC8-4072-BAD6-4664AEA0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9B66D-CEBF-4DC6-994C-BAC57D4C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5B3E8-955D-49D6-BB35-5EE103A1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7232E-7B0E-4A13-B0B5-FC5C7D4E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D141C-54BE-4B22-B9A6-2B6BA8CD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2F665-DD8E-479C-89E7-15AE5E27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143B6-534D-41AE-9CD4-F67469E4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9F20F-34CF-4837-8F57-772965FF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047A-A9B1-42E3-910F-D2455E0B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12090-72CB-4FCA-9B73-00F2EE9F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65D94-F700-4125-8D26-4A4383E5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CD7C8-E4B5-49D7-AE20-49EDCE66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D79D2-6D83-4D1E-BD6A-C4F98875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1995C-34DE-4851-908C-C4F51B3C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4E894-5BE4-4486-AE1D-3F79689E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07F0B-C03A-40E8-9C81-3671A7F0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C2388-423C-49BB-BF1F-55DFBE98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01E8C-86F9-41F1-95F0-5E43412B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F0A68-6CF7-492D-B524-E36294B8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C75F-16EA-4480-95D9-340B3C8FCE5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0C52-C039-4710-97A1-B7CF886EB9B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EDC6-045E-4F25-8573-F6D47783DBD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2D46-5BDC-4CE1-952D-F467CEEC9C2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E2CF-7CB3-4B20-8C07-EB125C47ED8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10D5-9B11-4EF5-916A-74A230CDB2A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CAED-1C50-4812-A4EF-75BF4F10724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CB3F-CC9D-41C8-8FF8-A396B395AD5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1CCF-EC8F-4000-9404-8C98FEAB882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98440" y="208080"/>
            <a:ext cx="8699400" cy="11030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ff"/>
                </a:solidFill>
                <a:latin typeface="Franklin Gothic Book"/>
              </a:rPr>
              <a:t>Духовно – нравственное воспитание школьников на уроках ОБЖ как средство реализации ФГОС 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Franklin Gothic Book"/>
              </a:rPr>
              <a:t>с. Разъезжее, 2015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876"/>
                </a:solidFill>
                <a:latin typeface="Franklin Gothic Book"/>
              </a:rPr>
              <a:t>Учебные занятия по основам безопасности жизнедеятельности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876"/>
                </a:solidFill>
                <a:latin typeface="Franklin Gothic Book"/>
              </a:rPr>
              <a:t>Учебно-полевые сборы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876"/>
                </a:solidFill>
                <a:latin typeface="Franklin Gothic Book"/>
              </a:rPr>
              <a:t>Соревнования, олимпиады, конкурсы, викторины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876"/>
                </a:solidFill>
                <a:latin typeface="Franklin Gothic Book"/>
              </a:rPr>
              <a:t>Школа выживания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876"/>
                </a:solidFill>
                <a:latin typeface="Franklin Gothic Book"/>
              </a:rPr>
              <a:t>Школа безопасности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876"/>
                </a:solidFill>
                <a:latin typeface="Franklin Gothic Book"/>
              </a:rPr>
              <a:t>Экшн - тренинги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876"/>
                </a:solidFill>
                <a:latin typeface="Franklin Gothic Book"/>
              </a:rPr>
              <a:t>Безопасное колесо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876"/>
                </a:solidFill>
                <a:latin typeface="Franklin Gothic Book"/>
              </a:rPr>
              <a:t>Уроки мужества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876"/>
                </a:solidFill>
                <a:latin typeface="Franklin Gothic Book"/>
              </a:rPr>
              <a:t>Вахта памяти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876"/>
                </a:solidFill>
                <a:latin typeface="Franklin Gothic Book"/>
              </a:rPr>
              <a:t>Физкультурно-спортивный клуб «Добрыня Никитич»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-201600" y="450720"/>
            <a:ext cx="9199440" cy="1152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F:\Зарница 14\DSC00066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F:\Зарница 14\DSC00099.JPG"/>
          <p:cNvPicPr/>
          <p:nvPr/>
        </p:nvPicPr>
        <p:blipFill>
          <a:blip r:embed="rId3"/>
          <a:stretch/>
        </p:blipFill>
        <p:spPr>
          <a:xfrm>
            <a:off x="4357800" y="3357720"/>
            <a:ext cx="4919400" cy="3500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F:\Зарница 14\DSC00108.JPG"/>
          <p:cNvPicPr/>
          <p:nvPr/>
        </p:nvPicPr>
        <p:blipFill>
          <a:blip r:embed="rId4"/>
          <a:stretch/>
        </p:blipFill>
        <p:spPr>
          <a:xfrm>
            <a:off x="0" y="114300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5"/>
          <p:cNvSpPr/>
          <p:nvPr/>
        </p:nvSpPr>
        <p:spPr>
          <a:xfrm>
            <a:off x="642960" y="4857840"/>
            <a:ext cx="2428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Соревнования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п. Ойский ,Ворониха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255600" y="255600"/>
            <a:ext cx="8437680" cy="11397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F:\Зарница 14\DSCN4563.JPG"/>
          <p:cNvPicPr/>
          <p:nvPr/>
        </p:nvPicPr>
        <p:blipFill>
          <a:blip r:embed="rId2"/>
          <a:stretch/>
        </p:blipFill>
        <p:spPr>
          <a:xfrm>
            <a:off x="4122720" y="0"/>
            <a:ext cx="5021280" cy="35067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F:\Зарница 14\DSCN7796.JPG"/>
          <p:cNvPicPr/>
          <p:nvPr/>
        </p:nvPicPr>
        <p:blipFill>
          <a:blip r:embed="rId3"/>
          <a:stretch/>
        </p:blipFill>
        <p:spPr>
          <a:xfrm>
            <a:off x="0" y="928800"/>
            <a:ext cx="4214880" cy="31622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F:\Зарница 14\DSCN7878.JPG"/>
          <p:cNvPicPr/>
          <p:nvPr/>
        </p:nvPicPr>
        <p:blipFill>
          <a:blip r:embed="rId4"/>
          <a:stretch/>
        </p:blipFill>
        <p:spPr>
          <a:xfrm>
            <a:off x="3835440" y="2874960"/>
            <a:ext cx="5308560" cy="39830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F:\Зарница 14\DSCN7898.JPG"/>
          <p:cNvPicPr/>
          <p:nvPr/>
        </p:nvPicPr>
        <p:blipFill>
          <a:blip r:embed="rId5"/>
          <a:stretch/>
        </p:blipFill>
        <p:spPr>
          <a:xfrm>
            <a:off x="0" y="3718080"/>
            <a:ext cx="4143240" cy="3143160"/>
          </a:xfrm>
          <a:prstGeom prst="rect">
            <a:avLst/>
          </a:prstGeom>
          <a:ln w="0">
            <a:noFill/>
          </a:ln>
        </p:spPr>
      </p:pic>
      <p:sp>
        <p:nvSpPr>
          <p:cNvPr id="432" name="TextBox 6"/>
          <p:cNvSpPr/>
          <p:nvPr/>
        </p:nvSpPr>
        <p:spPr>
          <a:xfrm>
            <a:off x="3000240" y="6429240"/>
            <a:ext cx="3000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с. Разъезжее, г.Караульная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F:\Зарница 14\DSCN7909.JPG"/>
          <p:cNvPicPr/>
          <p:nvPr/>
        </p:nvPicPr>
        <p:blipFill>
          <a:blip r:embed="rId1"/>
          <a:stretch/>
        </p:blipFill>
        <p:spPr>
          <a:xfrm>
            <a:off x="0" y="3352680"/>
            <a:ext cx="4643280" cy="35053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5" name="Picture 9" descr="F:\Зарница 14\DSCN7932.JPG"/>
          <p:cNvPicPr/>
          <p:nvPr/>
        </p:nvPicPr>
        <p:blipFill>
          <a:blip r:embed="rId2"/>
          <a:stretch/>
        </p:blipFill>
        <p:spPr>
          <a:xfrm>
            <a:off x="4572000" y="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F:\Зарница 14\DSCN7845.JPG"/>
          <p:cNvPicPr/>
          <p:nvPr/>
        </p:nvPicPr>
        <p:blipFill>
          <a:blip r:embed="rId3"/>
          <a:stretch/>
        </p:blipFill>
        <p:spPr>
          <a:xfrm>
            <a:off x="-71280" y="0"/>
            <a:ext cx="4786200" cy="3591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F:\Зарница 14\DSCN7971.JPG"/>
          <p:cNvPicPr/>
          <p:nvPr/>
        </p:nvPicPr>
        <p:blipFill>
          <a:blip r:embed="rId4"/>
          <a:stretch/>
        </p:blipFill>
        <p:spPr>
          <a:xfrm>
            <a:off x="4572000" y="342756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438" name="TextBox 7"/>
          <p:cNvSpPr/>
          <p:nvPr/>
        </p:nvSpPr>
        <p:spPr>
          <a:xfrm>
            <a:off x="3357720" y="6357960"/>
            <a:ext cx="25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г.Караульная, Зарниц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F:\Зарница 14\DSCN7723.JPG"/>
          <p:cNvPicPr/>
          <p:nvPr/>
        </p:nvPicPr>
        <p:blipFill>
          <a:blip r:embed="rId1"/>
          <a:stretch/>
        </p:blipFill>
        <p:spPr>
          <a:xfrm>
            <a:off x="0" y="1071720"/>
            <a:ext cx="3238560" cy="24285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F:\Зарница 14\DSCN7728.JPG"/>
          <p:cNvPicPr/>
          <p:nvPr/>
        </p:nvPicPr>
        <p:blipFill>
          <a:blip r:embed="rId2"/>
          <a:stretch/>
        </p:blipFill>
        <p:spPr>
          <a:xfrm>
            <a:off x="5715000" y="10000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F:\Зарница 14\DSCN7758.JPG"/>
          <p:cNvPicPr/>
          <p:nvPr/>
        </p:nvPicPr>
        <p:blipFill>
          <a:blip r:embed="rId3"/>
          <a:stretch/>
        </p:blipFill>
        <p:spPr>
          <a:xfrm>
            <a:off x="6192720" y="464328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442" name="Заголовок 1" descr=""/>
          <p:cNvPicPr/>
          <p:nvPr/>
        </p:nvPicPr>
        <p:blipFill>
          <a:blip r:embed="rId4"/>
          <a:stretch/>
        </p:blipFill>
        <p:spPr>
          <a:xfrm>
            <a:off x="255600" y="255600"/>
            <a:ext cx="8437680" cy="11397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F:\Зарница 14\DSCN7742.JPG"/>
          <p:cNvPicPr/>
          <p:nvPr/>
        </p:nvPicPr>
        <p:blipFill>
          <a:blip r:embed="rId5"/>
          <a:stretch/>
        </p:blipFill>
        <p:spPr>
          <a:xfrm>
            <a:off x="0" y="4500720"/>
            <a:ext cx="3141720" cy="23572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F:\Зарница 14\DSCN7737.JPG"/>
          <p:cNvPicPr/>
          <p:nvPr/>
        </p:nvPicPr>
        <p:blipFill>
          <a:blip r:embed="rId6"/>
          <a:stretch/>
        </p:blipFill>
        <p:spPr>
          <a:xfrm>
            <a:off x="2786040" y="2928960"/>
            <a:ext cx="3998880" cy="30002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7"/>
          <p:cNvSpPr/>
          <p:nvPr/>
        </p:nvSpPr>
        <p:spPr>
          <a:xfrm>
            <a:off x="3143160" y="6143760"/>
            <a:ext cx="32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МБОУ «Разъезженская СОШ», спортивный за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3" descr="F:\Зарница 14\DSCN7457.jpg"/>
          <p:cNvPicPr/>
          <p:nvPr/>
        </p:nvPicPr>
        <p:blipFill>
          <a:blip r:embed="rId1"/>
          <a:stretch/>
        </p:blipFill>
        <p:spPr>
          <a:xfrm>
            <a:off x="4071960" y="0"/>
            <a:ext cx="4308480" cy="32320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F:\Зарница 14\DSCN7676.jpg"/>
          <p:cNvPicPr/>
          <p:nvPr/>
        </p:nvPicPr>
        <p:blipFill>
          <a:blip r:embed="rId2"/>
          <a:stretch/>
        </p:blipFill>
        <p:spPr>
          <a:xfrm>
            <a:off x="644400" y="3143160"/>
            <a:ext cx="4951440" cy="37148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F:\Зарница 14\DSCN7521.jpg"/>
          <p:cNvPicPr/>
          <p:nvPr/>
        </p:nvPicPr>
        <p:blipFill>
          <a:blip r:embed="rId3"/>
          <a:stretch/>
        </p:blipFill>
        <p:spPr>
          <a:xfrm>
            <a:off x="5430960" y="3571920"/>
            <a:ext cx="3713040" cy="2786040"/>
          </a:xfrm>
          <a:prstGeom prst="rect">
            <a:avLst/>
          </a:prstGeom>
          <a:ln w="0">
            <a:noFill/>
          </a:ln>
        </p:spPr>
      </p:pic>
      <p:pic>
        <p:nvPicPr>
          <p:cNvPr id="449" name="Заголовок 1" descr=""/>
          <p:cNvPicPr/>
          <p:nvPr/>
        </p:nvPicPr>
        <p:blipFill>
          <a:blip r:embed="rId4"/>
          <a:stretch/>
        </p:blipFill>
        <p:spPr>
          <a:xfrm>
            <a:off x="255600" y="-23760"/>
            <a:ext cx="8437680" cy="11462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F:\Зарница 14\DSCN7372.jpg"/>
          <p:cNvPicPr/>
          <p:nvPr/>
        </p:nvPicPr>
        <p:blipFill>
          <a:blip r:embed="rId5"/>
          <a:stretch/>
        </p:blipFill>
        <p:spPr>
          <a:xfrm>
            <a:off x="0" y="822240"/>
            <a:ext cx="3571920" cy="267804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7"/>
          <p:cNvSpPr/>
          <p:nvPr/>
        </p:nvSpPr>
        <p:spPr>
          <a:xfrm>
            <a:off x="2571840" y="6211800"/>
            <a:ext cx="3786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МБОУ «Разъезженская СОШ»,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спортивный за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1" descr=""/>
          <p:cNvPicPr/>
          <p:nvPr/>
        </p:nvPicPr>
        <p:blipFill>
          <a:blip r:embed="rId1"/>
          <a:stretch/>
        </p:blipFill>
        <p:spPr>
          <a:xfrm>
            <a:off x="450720" y="-182520"/>
            <a:ext cx="8242560" cy="14875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" descr="E:\Зарница 14\IMAG0051.JPG"/>
          <p:cNvPicPr/>
          <p:nvPr/>
        </p:nvPicPr>
        <p:blipFill>
          <a:blip r:embed="rId2"/>
          <a:stretch/>
        </p:blipFill>
        <p:spPr>
          <a:xfrm>
            <a:off x="0" y="92880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" descr="E:\Зарница 14\IMAG0061.JPG"/>
          <p:cNvPicPr/>
          <p:nvPr/>
        </p:nvPicPr>
        <p:blipFill>
          <a:blip r:embed="rId3"/>
          <a:stretch/>
        </p:blipFill>
        <p:spPr>
          <a:xfrm>
            <a:off x="0" y="3214800"/>
            <a:ext cx="4857840" cy="364320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4"/>
          <p:cNvSpPr/>
          <p:nvPr/>
        </p:nvSpPr>
        <p:spPr>
          <a:xfrm>
            <a:off x="5429160" y="6211800"/>
            <a:ext cx="37148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МБОУ «Разъезженская СОШ»,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Детский сад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6" name="Picture 2" descr="C:\Documents and Settings\8 класс\Рабочий стол\Photo0281.jpg"/>
          <p:cNvPicPr/>
          <p:nvPr/>
        </p:nvPicPr>
        <p:blipFill>
          <a:blip r:embed="rId4"/>
          <a:stretch/>
        </p:blipFill>
        <p:spPr>
          <a:xfrm>
            <a:off x="4714920" y="1357200"/>
            <a:ext cx="44290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133200" y="291960"/>
            <a:ext cx="8864640" cy="10004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304920" y="785880"/>
            <a:ext cx="86868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Franklin Gothic Book"/>
              </a:rPr>
              <a:t>В </a:t>
            </a:r>
            <a:r>
              <a:rPr b="0" lang="en-US" sz="3200" spc="-1" strike="noStrike">
                <a:solidFill>
                  <a:srgbClr val="0000ff"/>
                </a:solidFill>
                <a:latin typeface="Franklin Gothic Book"/>
              </a:rPr>
              <a:t>XXI</a:t>
            </a:r>
            <a:r>
              <a:rPr b="0" lang="ru-RU" sz="3200" spc="-1" strike="noStrike">
                <a:solidFill>
                  <a:srgbClr val="0000ff"/>
                </a:solidFill>
                <a:latin typeface="Franklin Gothic Book"/>
              </a:rPr>
              <a:t> веке человечество вступило в новую ноосферную эпоху своего развития. Главной проблемой бедующего становится обеспечение безопасности жизнедеятельности человек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 algn="just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Franklin Gothic Book"/>
              </a:rPr>
              <a:t>Изменение условий будущей жизни требует изменения направленности общего образования молодёжи. Эта цель определила разработку настоящей концепции, предполагающей развитие школьного курса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«Основы безопасности жизнедеятельности» </a:t>
            </a:r>
            <a:r>
              <a:rPr b="0" lang="ru-RU" sz="3200" spc="-1" strike="noStrike">
                <a:solidFill>
                  <a:srgbClr val="0000ff"/>
                </a:solidFill>
                <a:latin typeface="Franklin Gothic Book"/>
              </a:rPr>
              <a:t>в новую образовательную область ФГОС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33200" y="365040"/>
            <a:ext cx="8864640" cy="10000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285840" y="856800"/>
            <a:ext cx="86868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Franklin Gothic Book"/>
              </a:rPr>
              <a:t>         </a:t>
            </a:r>
            <a:r>
              <a:rPr b="0" lang="ru-RU" sz="3200" spc="-1" strike="noStrike">
                <a:solidFill>
                  <a:srgbClr val="0000ff"/>
                </a:solidFill>
                <a:latin typeface="Franklin Gothic Book"/>
              </a:rPr>
              <a:t>Формирование российской, гражданской индентичности школьников, к личной безопасности и безопасности окружающих, приобретение навыков сохранять жизнь и здоровье в повседневной жизни в неблагоприятных  и опасных условиях, умений оказывать само – и взаимопомощь. Сознательного отношения к военной службе к выполнению каждым гражданином Российской Федерации конституционного долга и обязанностей по защите Отечеств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ff"/>
                </a:solidFill>
                <a:latin typeface="Franklin Gothic Book"/>
              </a:rPr>
              <a:t>       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ff"/>
                </a:solidFill>
                <a:latin typeface="Franklin Gothic Book"/>
              </a:rPr>
              <a:t>   </a:t>
            </a:r>
            <a:r>
              <a:rPr b="0" lang="ru-RU" sz="3300" spc="-1" strike="noStrike">
                <a:solidFill>
                  <a:srgbClr val="0000ff"/>
                </a:solidFill>
                <a:latin typeface="Franklin Gothic Book"/>
              </a:rPr>
              <a:t>Всестороннее рассмотрение вопросов безопасности личности, общества, государства, затрагивающие все направления человеческой жизнедеятельности от принципов здорового образа жизни и стимулов деятельности до философии бытия, может быть охвачено только новой широкой образовательной областью, имеющей перекрёстные связи практически со всеми предметами образовательной программы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3"/>
          <p:cNvSpPr/>
          <p:nvPr/>
        </p:nvSpPr>
        <p:spPr>
          <a:xfrm>
            <a:off x="357120" y="1643040"/>
            <a:ext cx="2857680" cy="328608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I</a:t>
            </a:r>
            <a:r>
              <a:rPr b="1" lang="ru-RU" sz="3200" spc="-1" strike="noStrike">
                <a:solidFill>
                  <a:srgbClr val="0000ff"/>
                </a:solidFill>
                <a:latin typeface="Franklin Gothic Book"/>
              </a:rPr>
              <a:t> уровень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Защита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человека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в опасных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чрезвычайных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ситуациях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Прямоугольник 4"/>
          <p:cNvSpPr/>
          <p:nvPr/>
        </p:nvSpPr>
        <p:spPr>
          <a:xfrm>
            <a:off x="3357720" y="2286000"/>
            <a:ext cx="2714400" cy="328608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II </a:t>
            </a:r>
            <a:r>
              <a:rPr b="1" lang="ru-RU" sz="3200" spc="-1" strike="noStrike">
                <a:solidFill>
                  <a:srgbClr val="0000ff"/>
                </a:solidFill>
                <a:latin typeface="Franklin Gothic Book"/>
              </a:rPr>
              <a:t>уровень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Основы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здорового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образа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жизни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Прямоугольник 5"/>
          <p:cNvSpPr/>
          <p:nvPr/>
        </p:nvSpPr>
        <p:spPr>
          <a:xfrm>
            <a:off x="6215040" y="3143160"/>
            <a:ext cx="2714760" cy="300060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III</a:t>
            </a:r>
            <a:r>
              <a:rPr b="1" lang="ru-RU" sz="3200" spc="-1" strike="noStrike">
                <a:solidFill>
                  <a:srgbClr val="0000ff"/>
                </a:solidFill>
                <a:latin typeface="Franklin Gothic Book"/>
              </a:rPr>
              <a:t> уровень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Основы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военной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службы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76"/>
                </a:solidFill>
                <a:latin typeface="Franklin Gothic Book"/>
              </a:rPr>
              <a:t>   </a:t>
            </a:r>
            <a:r>
              <a:rPr b="0" lang="ru-RU" sz="3600" spc="-1" strike="noStrike">
                <a:solidFill>
                  <a:srgbClr val="080876"/>
                </a:solidFill>
                <a:latin typeface="Franklin Gothic Book"/>
              </a:rPr>
              <a:t>Включает в себя передачу знаний, умений, навыков о способах поведения личности, позволяющих максимально снизить вероятность подвергнуться нежелательным воздействиям в повседневной жизни в различных опасных и чрезвычайных ситуациях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98440" y="23760"/>
            <a:ext cx="8699400" cy="14875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76"/>
                </a:solidFill>
                <a:latin typeface="Franklin Gothic Book"/>
              </a:rPr>
              <a:t>   </a:t>
            </a:r>
            <a:r>
              <a:rPr b="0" lang="ru-RU" sz="3600" spc="-1" strike="noStrike">
                <a:solidFill>
                  <a:srgbClr val="080876"/>
                </a:solidFill>
                <a:latin typeface="Franklin Gothic Book"/>
              </a:rPr>
              <a:t>Призван сформировать знания, умения, навыки, связанные с охраной труда в процессе производственных отношений. На этом уровне раскрывается основы профессиональной безопасности в определённой сфере деятельности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76"/>
                </a:solidFill>
                <a:latin typeface="Franklin Gothic Book"/>
              </a:rPr>
              <a:t>   </a:t>
            </a:r>
            <a:r>
              <a:rPr b="0" lang="ru-RU" sz="3600" spc="-1" strike="noStrike">
                <a:solidFill>
                  <a:srgbClr val="080876"/>
                </a:solidFill>
                <a:latin typeface="Franklin Gothic Book"/>
              </a:rPr>
              <a:t>Определяет последовательность действий по безопасности человека и общества в целом в случаях чрезвычайных ситуаций мирного и военного времени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ru-RU" sz="4000" spc="-1" strike="noStrike">
                <a:solidFill>
                  <a:srgbClr val="080876"/>
                </a:solidFill>
                <a:latin typeface="Franklin Gothic Book"/>
              </a:rPr>
              <a:t>представляет собой образовательную область, раскрывающую общее содержание понятий по обеспечению безопасности личности, общества и государства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285480" y="428760"/>
            <a:ext cx="8705880" cy="60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0876"/>
                </a:solidFill>
                <a:latin typeface="Franklin Gothic Book"/>
              </a:rPr>
              <a:t>        </a:t>
            </a:r>
            <a:r>
              <a:rPr b="0" lang="ru-RU" sz="4000" spc="-1" strike="noStrike">
                <a:solidFill>
                  <a:srgbClr val="080876"/>
                </a:solidFill>
                <a:latin typeface="Franklin Gothic Book"/>
              </a:rPr>
              <a:t>Учебная дисциплина (курс) </a:t>
            </a:r>
            <a:r>
              <a:rPr b="0" lang="ru-RU" sz="4000" spc="-1" strike="noStrike">
                <a:solidFill>
                  <a:srgbClr val="ff0000"/>
                </a:solidFill>
                <a:latin typeface="Franklin Gothic Book"/>
              </a:rPr>
              <a:t>«Основы безопасности жизнедеятельности» </a:t>
            </a:r>
            <a:r>
              <a:rPr b="0" lang="ru-RU" sz="4000" spc="-1" strike="noStrike">
                <a:solidFill>
                  <a:srgbClr val="080876"/>
                </a:solidFill>
                <a:latin typeface="Franklin Gothic Book"/>
              </a:rPr>
              <a:t>как начальная стадия формирования общих представлений и понятий в области безопасности жизнедеятельности представляет собой неотъемлемую часть образовательной области </a:t>
            </a:r>
            <a:r>
              <a:rPr b="0" lang="ru-RU" sz="4000" spc="-1" strike="noStrike">
                <a:solidFill>
                  <a:srgbClr val="ff0000"/>
                </a:solidFill>
                <a:latin typeface="Franklin Gothic Book"/>
              </a:rPr>
              <a:t>«Безопасность жизнедеятельности»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1:41:17Z</dcterms:created>
  <dc:creator>user</dc:creator>
  <dc:description/>
  <dc:language>en-US</dc:language>
  <cp:lastModifiedBy>User</cp:lastModifiedBy>
  <dcterms:modified xsi:type="dcterms:W3CDTF">2019-11-20T13:01:08Z</dcterms:modified>
  <cp:revision>39</cp:revision>
  <dc:subject/>
  <dc:title>Муниципальное бюджетное общеобразовательное учреждение  «Разъезженская средняя общеобразовательная школа»</dc:title>
</cp:coreProperties>
</file>