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70B-6532-4292-A500-4F046BF3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6BD-17F2-4736-BC0D-84F044F8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3D9-CAC3-403B-9EC8-04CEE30E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A22-55E2-4AF7-A32C-5C83975B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5FD-AB70-46B9-88BD-6FF02A5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B37-4633-46C5-AC70-1EDA7AA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13B-E631-46D5-BFD6-3C4B6A7B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661-63D9-4DC6-8C98-A48E1A73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A20-0FE1-4C1B-AF6B-DA3E08B0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CF0-EEB5-4855-A48F-CD2540BE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6CF-555D-414F-90D3-3DFE4C1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157-B3B3-4590-9EF1-871141C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39B-581C-4074-9ACA-A855CA294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униципальное  бюджетное общеобразовательное учреждение                                   «Разъезженская средняя школа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Ермаковского района  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ело Разъезжее, улица Саянская 43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39640" y="1633680"/>
            <a:ext cx="8209080" cy="460368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25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ипендиат Главы Ермаковского района номинац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Спортивная деятельность» - 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Открыть изображение"/>
          <p:cNvPicPr/>
          <p:nvPr/>
        </p:nvPicPr>
        <p:blipFill>
          <a:blip r:embed="rId1"/>
          <a:stretch/>
        </p:blipFill>
        <p:spPr>
          <a:xfrm>
            <a:off x="1928880" y="1428840"/>
            <a:ext cx="5000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является универсальным средством профилактики заболевания, укрепления и сохра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ь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7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Много есть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с красивой внешностью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торым однак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чем похвастать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. Куп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d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7"/>
                </a:solidFill>
                <a:latin typeface="Arial"/>
              </a:rPr>
              <a:t>МОЙ ДЕВ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1652760"/>
            <a:ext cx="9041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Количество соревнований </a:t>
            </a:r>
            <a:br>
              <a:rPr sz="2000"/>
            </a:br>
            <a:r>
              <a:rPr b="1" lang="ru-RU" sz="2000" spc="-1" strike="noStrike">
                <a:solidFill>
                  <a:srgbClr val="fffff7"/>
                </a:solidFill>
                <a:latin typeface="Arial"/>
              </a:rPr>
              <a:t>районного, зонального, краевого,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5" descr=""/>
          <p:cNvPicPr/>
          <p:nvPr/>
        </p:nvPicPr>
        <p:blipFill>
          <a:blip r:embed="rId1"/>
          <a:stretch/>
        </p:blipFill>
        <p:spPr>
          <a:xfrm>
            <a:off x="328680" y="1285920"/>
            <a:ext cx="89233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14200" y="2571840"/>
            <a:ext cx="3929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СКЕТБОЛ г. Красноярск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, 201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429080" y="5929200"/>
            <a:ext cx="4357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 гиревому спорту-1 место, 202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2920" y="5857920"/>
            <a:ext cx="4143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йонные соревнования «Юный олимпиец-2 место, 2018г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214880" y="2714760"/>
            <a:ext cx="4572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инал краевых соревнований по баскетболу «Юный олимпиец-2018-2019гг» -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User\Desktop\zvyozdy_krasnoyarya_0.jpg"/>
          <p:cNvPicPr/>
          <p:nvPr/>
        </p:nvPicPr>
        <p:blipFill>
          <a:blip r:embed="rId1"/>
          <a:stretch/>
        </p:blipFill>
        <p:spPr>
          <a:xfrm>
            <a:off x="357120" y="357120"/>
            <a:ext cx="368136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User\Desktop\yunyy_olimpiets_kraevye_sorevnovaniya-2019.jpg"/>
          <p:cNvPicPr/>
          <p:nvPr/>
        </p:nvPicPr>
        <p:blipFill>
          <a:blip r:embed="rId2"/>
          <a:stretch/>
        </p:blipFill>
        <p:spPr>
          <a:xfrm>
            <a:off x="535788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Users\User\Desktop\basketbold.jpg"/>
          <p:cNvPicPr/>
          <p:nvPr/>
        </p:nvPicPr>
        <p:blipFill>
          <a:blip r:embed="rId3"/>
          <a:stretch/>
        </p:blipFill>
        <p:spPr>
          <a:xfrm>
            <a:off x="285840" y="3214800"/>
            <a:ext cx="4227480" cy="25430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16" descr="Открыть изображение"/>
          <p:cNvPicPr/>
          <p:nvPr/>
        </p:nvPicPr>
        <p:blipFill>
          <a:blip r:embed="rId4"/>
          <a:stretch/>
        </p:blipFill>
        <p:spPr>
          <a:xfrm>
            <a:off x="5000760" y="3286080"/>
            <a:ext cx="2928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лавный критерий - ПУ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) от 220 отнимите возраст в год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) от полученной цифры отнимите количество ударов своего пульса в пок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) умножьте полученную сумму на 0,6, прибавьте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запись выглядит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20 – 16= 204-72=132х0,6+72=15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51,2 – Индивидуальный тренировочный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дивидуальный тренировочный пульс </a:t>
            </a:r>
            <a:br>
              <a:rPr sz="20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ботиной 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907920"/>
          <a:ext cx="8229600" cy="52736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126"/>
          <p:cNvSpPr/>
          <p:nvPr/>
        </p:nvSpPr>
        <p:spPr>
          <a:xfrm flipV="1">
            <a:off x="1547640" y="429264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7"/>
          <p:cNvSpPr/>
          <p:nvPr/>
        </p:nvSpPr>
        <p:spPr>
          <a:xfrm flipV="1">
            <a:off x="2124000" y="371592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8"/>
          <p:cNvSpPr/>
          <p:nvPr/>
        </p:nvSpPr>
        <p:spPr>
          <a:xfrm flipV="1">
            <a:off x="2556000" y="3357720"/>
            <a:ext cx="576000" cy="35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0"/>
          <p:cNvSpPr/>
          <p:nvPr/>
        </p:nvSpPr>
        <p:spPr>
          <a:xfrm flipV="1">
            <a:off x="3132000" y="2708280"/>
            <a:ext cx="21600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1"/>
          <p:cNvSpPr/>
          <p:nvPr/>
        </p:nvSpPr>
        <p:spPr>
          <a:xfrm flipV="1">
            <a:off x="3348000" y="2205000"/>
            <a:ext cx="64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2"/>
          <p:cNvSpPr/>
          <p:nvPr/>
        </p:nvSpPr>
        <p:spPr>
          <a:xfrm flipV="1">
            <a:off x="3995640" y="1557000"/>
            <a:ext cx="505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3"/>
          <p:cNvSpPr/>
          <p:nvPr/>
        </p:nvSpPr>
        <p:spPr>
          <a:xfrm flipV="1">
            <a:off x="4500720" y="1341360"/>
            <a:ext cx="142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5"/>
          <p:cNvSpPr/>
          <p:nvPr/>
        </p:nvSpPr>
        <p:spPr>
          <a:xfrm>
            <a:off x="4643280" y="134136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6"/>
          <p:cNvSpPr/>
          <p:nvPr/>
        </p:nvSpPr>
        <p:spPr>
          <a:xfrm>
            <a:off x="4859280" y="1557360"/>
            <a:ext cx="6494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7"/>
          <p:cNvSpPr/>
          <p:nvPr/>
        </p:nvSpPr>
        <p:spPr>
          <a:xfrm>
            <a:off x="5508720" y="1989000"/>
            <a:ext cx="287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8"/>
          <p:cNvSpPr/>
          <p:nvPr/>
        </p:nvSpPr>
        <p:spPr>
          <a:xfrm flipV="1">
            <a:off x="5796000" y="1557000"/>
            <a:ext cx="431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9"/>
          <p:cNvSpPr/>
          <p:nvPr/>
        </p:nvSpPr>
        <p:spPr>
          <a:xfrm>
            <a:off x="6227640" y="1557360"/>
            <a:ext cx="720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0"/>
          <p:cNvSpPr/>
          <p:nvPr/>
        </p:nvSpPr>
        <p:spPr>
          <a:xfrm>
            <a:off x="6948360" y="2205000"/>
            <a:ext cx="576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1"/>
          <p:cNvSpPr/>
          <p:nvPr/>
        </p:nvSpPr>
        <p:spPr>
          <a:xfrm>
            <a:off x="7524720" y="3500280"/>
            <a:ext cx="93492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дивидуальная диагностическая карта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071720"/>
          <a:ext cx="8713800" cy="5526000"/>
        </p:xfrm>
        <a:graphic>
          <a:graphicData uri="http://schemas.openxmlformats.org/drawingml/2006/table">
            <a:tbl>
              <a:tblPr/>
              <a:tblGrid>
                <a:gridCol w="792360"/>
                <a:gridCol w="793800"/>
                <a:gridCol w="790560"/>
                <a:gridCol w="792000"/>
                <a:gridCol w="792360"/>
                <a:gridCol w="792000"/>
                <a:gridCol w="792000"/>
                <a:gridCol w="792360"/>
                <a:gridCol w="790560"/>
                <a:gridCol w="793800"/>
                <a:gridCol w="792000"/>
              </a:tblGrid>
              <a:tr h="121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т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с (к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ыжки в выс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500040"/>
          <a:ext cx="8750520" cy="6357960"/>
        </p:xfrm>
        <a:graphic>
          <a:graphicData uri="http://schemas.openxmlformats.org/drawingml/2006/table">
            <a:tbl>
              <a:tblPr/>
              <a:tblGrid>
                <a:gridCol w="4964400"/>
                <a:gridCol w="1928520"/>
                <a:gridCol w="714600"/>
                <a:gridCol w="114300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02d1f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енство Ермаковского района по баскетболу среди девушек 2004-2005 г.р. в рамках программы «Звёзды Краснояр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енство Ермаковского района по лёгкоатлетическому четырёх-борью «Шиповка Юных» в рамках программы «Школьная спортивная лиг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военно-патриотическая игра «Зарница-2018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 соревнования по баскетболу среди команд девушек 2003-2005г.р. муниципальных районов Красноярского края детские спортивные игры «Юный Олимпиец» 2018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военно-патриотическая игра «Зарница-2019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 соревнования по баскетболу среди команд девушек 2004-2006г.р. муниципальных районов Красноярского края детские спортивные игры «Юный Олимпиец» 201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конкурс «Лучший юнармеец Ермаковского района-202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75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й смотр  конкурс по строевой подготовке среди юнармейцев Ермаковского района для отбора парадного расчёта и прохождение торжественным маршем в ознаменовании 76-летия победы в ВОВ в г. Краснояр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смотр конкурс почётных караулов среди образовательных учреждений  Ермаков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 по гиревому спорту в рамках «Президентские спортивные иг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Муницип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02d1f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06"/>
          <p:cNvSpPr/>
          <p:nvPr/>
        </p:nvSpPr>
        <p:spPr>
          <a:xfrm>
            <a:off x="1571760" y="0"/>
            <a:ext cx="678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СУББОТИНОЙ АН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0:26:27Z</dcterms:created>
  <dc:creator>дом</dc:creator>
  <dc:description/>
  <dc:language>en-US</dc:language>
  <cp:lastModifiedBy>User</cp:lastModifiedBy>
  <dcterms:modified xsi:type="dcterms:W3CDTF">2022-01-24T08:12:32Z</dcterms:modified>
  <cp:revision>79</cp:revision>
  <dc:subject/>
  <dc:title>ЗДОРОВЫЙ ОБРАЗ ЖИЗНИ</dc:title>
</cp:coreProperties>
</file>