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9.gif" ContentType="image/gif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12B-FA3D-4CE7-9289-EC85B004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0B9-4092-4E07-B786-CBE7315E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D8E-0F02-4CC5-BFD3-096C8AC6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39B-248B-47ED-96FB-BBC28C9C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44D6-02E2-4014-B83A-193E9D13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B899-649F-420E-91AE-B7F5C4C7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4E94-7386-451C-8429-35704CE7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764D-2679-40E5-943B-3653BFED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99C9-8C8B-436E-98D5-895842F1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2612-1388-4DC0-BE0B-A203DFCE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69DA-CB8E-4D9A-AE23-3835D73C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D19-0356-4624-9059-D204066B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ADEC-8162-4ACE-B3E8-138EC638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BF66-B0CB-4F77-9FBE-9B66C58E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BEA7-EBB0-482A-B6D5-22FB61BE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3DC8-6ACF-4624-95E0-378CB6B6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09D7-D4D7-4197-B9FF-7DB00534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946-7EF9-4E46-8D7B-68E0C902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251-BC6C-43C7-9872-EC74AC74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76E3-E2DC-47FA-A759-4DAC78F1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184-1FA5-4E43-9279-5A56FE65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7B7-D16A-46A1-9940-9EA7EF53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B80-0294-4CD6-B5F3-B3439305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CC13-F836-40A7-88FE-61F7FC91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6143-3AD9-47EB-A3C7-573F7E3390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1E3F-EC84-4D8B-A3F5-55F2D2C7BC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miles.33b.ru/smile.137764.html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miles.33b.ru/smile.137700.html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836280"/>
            <a:ext cx="7772400" cy="23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Bookman Old Style"/>
              </a:rPr>
              <a:t>Как помочь ребенку адаптироваться к школе?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11280" y="5157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в школу"/>
          <p:cNvPicPr/>
          <p:nvPr/>
        </p:nvPicPr>
        <p:blipFill>
          <a:blip r:embed="rId1"/>
          <a:stretch/>
        </p:blipFill>
        <p:spPr>
          <a:xfrm>
            <a:off x="468360" y="2781360"/>
            <a:ext cx="243036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a26d18"/>
                </a:solidFill>
                <a:uFillTx/>
                <a:latin typeface="Bookman Old Style"/>
              </a:rPr>
              <a:t>Признаки успешной адаптации:</a:t>
            </a: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man Old Style"/>
              </a:rPr>
              <a:t>Ребенку в школе нравится, он идет туда с удовольствием, охотно рассказывает о своих успехах и неудачах. И понимает, что главная цель его пребывания в школе – учение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man Old Style"/>
              </a:rPr>
              <a:t>Не слишком устает: он активен, жизнерадостен, любопытен, редко простужается, хорошо спит, почти никогда не жалуется на боль в животе, голове, горле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man Old Style"/>
              </a:rPr>
              <a:t>Достаточно самостоятелен: без проблем переодевается на физкультуру (легко завязывает шнурки, застегивает пуговицы), уверенно ориентируется в школьном здании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man Old Style"/>
              </a:rPr>
              <a:t>У него появились друзья-одноклассники, и вы знаете их имена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man Old Style"/>
              </a:rPr>
              <a:t>Ему нравится его учительница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Bookman Old Style"/>
              </a:rPr>
              <a:t>На вопрос: "А может быть, лучше вернуться в детский сад?" он решительно отвечает: "Нет!"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a26d18"/>
                </a:solidFill>
                <a:uFillTx/>
                <a:latin typeface="Bookman Old Style"/>
              </a:rPr>
              <a:t>Признаки дезадаптации: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ниженное настроен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ассивность, плаксивост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еадекватное беспокойство, тревоги, страх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изкая успеваемост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драки со сверстниками и конфликты с учителя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лохой сон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частые простуды, обострение хронических заболев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26d18"/>
                </a:solidFill>
                <a:latin typeface="Bookman Old Style"/>
              </a:rPr>
              <a:t>Настораживающими в плане дальнейших проблем в обучении являются следующие особенности поведения младших школьников:</a:t>
            </a:r>
            <a:br>
              <a:rPr sz="2400"/>
            </a:b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600200"/>
            <a:ext cx="7139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изкая познавательная активность ребен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моторная расторможенность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агрессивность и жестокость, особенно по отношению к родны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емотивированные колебания настроения, а также конфликтность, взрывчатость и драчливость по мелким повода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тремление обратить на себя внимание отрицательными формами повед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ребенок не слышит слов родителей, но бурно реагирует, когда его не слышат  взрослы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C:\Documents and Settings\Zentr 4\Мои документы\Школа\алгебра.gif"/>
          <p:cNvPicPr/>
          <p:nvPr/>
        </p:nvPicPr>
        <p:blipFill>
          <a:blip r:embed="rId1"/>
          <a:stretch/>
        </p:blipFill>
        <p:spPr>
          <a:xfrm>
            <a:off x="7093080" y="1484280"/>
            <a:ext cx="1726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a26d18"/>
                </a:solidFill>
                <a:uFillTx/>
                <a:latin typeface="Bookman Old Style"/>
              </a:rPr>
              <a:t>Продолжительность основных режимных моментов </a:t>
            </a:r>
            <a:br>
              <a:rPr sz="3200"/>
            </a:br>
            <a:r>
              <a:rPr b="1" i="1" lang="ru-RU" sz="3200" spc="-1" strike="noStrike" u="sng">
                <a:solidFill>
                  <a:srgbClr val="a26d18"/>
                </a:solidFill>
                <a:uFillTx/>
                <a:latin typeface="Bookman Old Style"/>
              </a:rPr>
              <a:t>для детей 6-10 лет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55640" y="1844640"/>
          <a:ext cx="6264360" cy="4632480"/>
        </p:xfrm>
        <a:graphic>
          <a:graphicData uri="http://schemas.openxmlformats.org/drawingml/2006/table">
            <a:tbl>
              <a:tblPr/>
              <a:tblGrid>
                <a:gridCol w="1697040"/>
                <a:gridCol w="1434960"/>
                <a:gridCol w="1567080"/>
                <a:gridCol w="1565280"/>
              </a:tblGrid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звание режимного мо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6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С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2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1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0,5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Выпол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домашн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зад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 ч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,5 ч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 ч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Прогул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на свеж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воздух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,5 ч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,5 ч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,5 ч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38" descr="26b9363554f7b904acb1a0de8b45b33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724280"/>
            <a:ext cx="168264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a26d18"/>
                </a:solidFill>
                <a:uFillTx/>
                <a:latin typeface="Bookman Old Style"/>
              </a:rPr>
              <a:t>Правила подготовки ко сну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икаких громких звуков за 2-3 часа до с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икаких возбуждающих напитков (коф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газированная вода и т.д.), копченых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острых блюд на ужин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ребенка перед сном ничего не долж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беспокоить (насморк, гельминты, ссора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родителями, невыученные уро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рассказанные страшные истори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если ребенок боится спать один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усть    спит с игрушко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можно в соседней комна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оставить   горящий св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6" descr="i?id=128690712&amp;tov=4"/>
          <p:cNvPicPr/>
          <p:nvPr/>
        </p:nvPicPr>
        <p:blipFill>
          <a:blip r:embed="rId1"/>
          <a:stretch/>
        </p:blipFill>
        <p:spPr>
          <a:xfrm>
            <a:off x="7020000" y="4292640"/>
            <a:ext cx="17780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a26d18"/>
                </a:solidFill>
                <a:uFillTx/>
                <a:latin typeface="Bookman Old Style"/>
              </a:rPr>
              <a:t>Правила совместного выполнения домашних заданий: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олняйте домашние задания вместе с ребенком, а не вместо нег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олняйте с ребенком только то, что задано в школ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ажно, чтобы ребенок поверил, что вы его продолжаете любить независимо от оценок, полученных в школ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Ограничьте время на приготовление уроков в целом и время совместной вашей рабо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сключите из своей речи негативные оценочные высказыв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Если ребенок сделал ошибку, то взрослый должен помочь ему найти ее и исправи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олняя домашние задания с ребенком, придерживайтесь удобного для него темп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2b01be087fb99e407e3ef542e13e5f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2520" y="4941720"/>
            <a:ext cx="15508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a26d18"/>
                </a:solidFill>
                <a:uFillTx/>
                <a:latin typeface="Bookman Old Style"/>
              </a:rPr>
              <a:t>Если ваш ребенок не слишком удачно начал свой первый учебный год</a:t>
            </a:r>
            <a:endParaRPr b="1" lang="en-US" sz="3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льзя начинать нервничать при первых же неудач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льзя сравнивать ребенка с другими деть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льзя ругать, а тем более наказывать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льзя в семейном кругу иронично или пренебрежительно отзываться об учительниц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льзя жить жизнью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льзя отстранять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т его проб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ш3"/>
          <p:cNvPicPr/>
          <p:nvPr/>
        </p:nvPicPr>
        <p:blipFill>
          <a:blip r:embed="rId1"/>
          <a:stretch/>
        </p:blipFill>
        <p:spPr>
          <a:xfrm>
            <a:off x="6804000" y="4437000"/>
            <a:ext cx="1674720" cy="209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 rot="20825400">
            <a:off x="2685960" y="1797120"/>
            <a:ext cx="5921640" cy="39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0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4" name="Picture 7" descr="ш1"/>
          <p:cNvPicPr/>
          <p:nvPr/>
        </p:nvPicPr>
        <p:blipFill>
          <a:blip r:embed="rId6"/>
          <a:stretch/>
        </p:blipFill>
        <p:spPr>
          <a:xfrm>
            <a:off x="324000" y="333360"/>
            <a:ext cx="2797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a26d18"/>
                </a:solidFill>
                <a:uFillTx/>
                <a:latin typeface="Bookman Old Style"/>
              </a:rPr>
              <a:t>Основные вопросы родительского собрания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Понятие «Готовность к школ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Понятие «Адаптаци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Воспитание в младшем школьном возра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Режим дня первокласс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Окружающая сре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первокласс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обьяв"/>
          <p:cNvPicPr/>
          <p:nvPr/>
        </p:nvPicPr>
        <p:blipFill>
          <a:blip r:embed="rId1"/>
          <a:stretch/>
        </p:blipFill>
        <p:spPr>
          <a:xfrm>
            <a:off x="6227640" y="3860640"/>
            <a:ext cx="2697120" cy="26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26d18"/>
                </a:solidFill>
                <a:latin typeface="Bookman Old Style"/>
              </a:rPr>
              <a:t>Психологическая готовность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это необходимый и достаточный уровень психического развития ребенка для обучения в школе в коллективе сверстников под руководством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взрослых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C:\Documents and Settings\Zentr 4\Мои документы\Школа\я и мир1.gif"/>
          <p:cNvPicPr/>
          <p:nvPr/>
        </p:nvPicPr>
        <p:blipFill>
          <a:blip r:embed="rId1"/>
          <a:stretch/>
        </p:blipFill>
        <p:spPr>
          <a:xfrm>
            <a:off x="6588000" y="4508640"/>
            <a:ext cx="21924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a26d18"/>
                </a:solidFill>
                <a:uFillTx/>
                <a:latin typeface="Bookman Old Style"/>
              </a:rPr>
              <a:t>Адаптация </a:t>
            </a:r>
            <a:r>
              <a:rPr b="1" i="1" lang="ru-RU" sz="4400" spc="-1" strike="noStrike">
                <a:solidFill>
                  <a:srgbClr val="a26d18"/>
                </a:solidFill>
                <a:latin typeface="Bookman Old Style"/>
              </a:rPr>
              <a:t>– это </a:t>
            </a:r>
            <a:br>
              <a:rPr sz="4400"/>
            </a:br>
            <a:r>
              <a:rPr b="1" i="1" lang="ru-RU" sz="4400" spc="-1" strike="noStrike">
                <a:solidFill>
                  <a:srgbClr val="a26d18"/>
                </a:solidFill>
                <a:latin typeface="Bookman Old Style"/>
              </a:rPr>
              <a:t>процесс </a:t>
            </a:r>
            <a:br>
              <a:rPr sz="4400"/>
            </a:br>
            <a:r>
              <a:rPr b="1" i="1" lang="ru-RU" sz="4400" spc="-1" strike="noStrike">
                <a:solidFill>
                  <a:srgbClr val="a26d18"/>
                </a:solidFill>
                <a:latin typeface="Bookman Old Style"/>
              </a:rPr>
              <a:t>привыкания </a:t>
            </a:r>
            <a:br>
              <a:rPr sz="4400"/>
            </a:br>
            <a:r>
              <a:rPr b="1" i="1" lang="ru-RU" sz="4400" spc="-1" strike="noStrike">
                <a:solidFill>
                  <a:srgbClr val="a26d18"/>
                </a:solidFill>
                <a:latin typeface="Bookman Old Style"/>
              </a:rPr>
              <a:t>к новым </a:t>
            </a:r>
            <a:br>
              <a:rPr sz="4400"/>
            </a:br>
            <a:r>
              <a:rPr b="1" i="1" lang="ru-RU" sz="4400" spc="-1" strike="noStrike">
                <a:solidFill>
                  <a:srgbClr val="a26d18"/>
                </a:solidFill>
                <a:latin typeface="Bookman Old Style"/>
              </a:rPr>
              <a:t>школьным </a:t>
            </a:r>
            <a:br>
              <a:rPr sz="4400"/>
            </a:br>
            <a:r>
              <a:rPr b="1" i="1" lang="ru-RU" sz="4400" spc="-1" strike="noStrike">
                <a:solidFill>
                  <a:srgbClr val="a26d18"/>
                </a:solidFill>
                <a:latin typeface="Bookman Old Style"/>
              </a:rPr>
              <a:t>условиям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0" name="Picture 5" descr="первая учителька"/>
          <p:cNvPicPr/>
          <p:nvPr/>
        </p:nvPicPr>
        <p:blipFill>
          <a:blip r:embed="rId1"/>
          <a:stretch/>
        </p:blipFill>
        <p:spPr>
          <a:xfrm>
            <a:off x="4932360" y="2997360"/>
            <a:ext cx="3809880" cy="34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26d18"/>
                </a:solidFill>
                <a:latin typeface="Bookman Old Style"/>
              </a:rPr>
              <a:t>Проблемы, связанные с адаптацией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строгий режим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выполнение уроков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ответственность за успехи и неудачи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психологический момент оценочности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большая нагрузка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учитель не уделяет много внимания одному, как это было в семье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одноклассники все с разными характерами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утомление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апатия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снижение работоспособности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Bookman Old Style"/>
              </a:rPr>
              <a:t>снижение эмоционального тонуса и т.д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gallery_2_392_39234"/>
          <p:cNvPicPr/>
          <p:nvPr/>
        </p:nvPicPr>
        <p:blipFill>
          <a:blip r:embed="rId1"/>
          <a:stretch/>
        </p:blipFill>
        <p:spPr>
          <a:xfrm>
            <a:off x="7164360" y="1052640"/>
            <a:ext cx="13572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26d18"/>
                </a:solidFill>
                <a:latin typeface="Bookman Old Style"/>
              </a:rPr>
              <a:t>Возможные послед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нежелание учиться, посещать школ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низкая успеваем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проблемы в общении со сверстник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закрепленная высокая тревожность в сочетании с неадекватной самооценко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может развиться невроз, который необходимо лечить с помощью психолога, психиатр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00000" y="342900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Задача родителей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на данном этапе предельно проста: понять особенности развития и во время поддержать ребенка, создавая тем самым благоприятные условия для его личностного  подъема, как по лесенк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554774"/>
          <p:cNvPicPr/>
          <p:nvPr/>
        </p:nvPicPr>
        <p:blipFill>
          <a:blip r:embed="rId1"/>
          <a:stretch/>
        </p:blipFill>
        <p:spPr>
          <a:xfrm>
            <a:off x="2627280" y="476280"/>
            <a:ext cx="396072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Bookman Old Style"/>
              </a:rPr>
              <a:t>Советы родителям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6193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Главный совет – </a:t>
            </a:r>
            <a:r>
              <a:rPr b="1" i="1" lang="ru-RU" sz="2400" spc="-1" strike="noStrike">
                <a:solidFill>
                  <a:srgbClr val="ff0000"/>
                </a:solidFill>
                <a:latin typeface="Bookman Old Style"/>
              </a:rPr>
              <a:t>будьте внимательны к ребенку,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любите его, но не «привязывайте» к себе, пусть у него будут друзья, свой круг об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Будьте готовы поддержать ребенка, выслушать и ободрить ег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Залог успеха – доброжелательные и открытые отношения в семье. Справиться с проблемой легче, когда она только возникла и не привела еще к негативным последств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cemya"/>
          <p:cNvPicPr/>
          <p:nvPr/>
        </p:nvPicPr>
        <p:blipFill>
          <a:blip r:embed="rId1"/>
          <a:stretch/>
        </p:blipFill>
        <p:spPr>
          <a:xfrm>
            <a:off x="6516720" y="2492280"/>
            <a:ext cx="23763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a26d18"/>
                </a:solidFill>
                <a:uFillTx/>
                <a:latin typeface="Bookman Old Style"/>
              </a:rPr>
              <a:t>Советы для родителей, </a:t>
            </a:r>
            <a:br>
              <a:rPr sz="2400"/>
            </a:br>
            <a:r>
              <a:rPr b="1" i="1" lang="ru-RU" sz="2400" spc="-1" strike="noStrike" u="sng">
                <a:solidFill>
                  <a:srgbClr val="a26d18"/>
                </a:solidFill>
                <a:uFillTx/>
                <a:latin typeface="Bookman Old Style"/>
              </a:rPr>
              <a:t>которые помогут ребёнку легче и быстрее адаптироваться в школе:</a:t>
            </a: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риучите ребёнка содержать в порядке свои вещ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е пугайте ребёнка трудностями и неудачами в школ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е старайтесь быть для ребёнка учителе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учите ребёнка правильно реагировать на неудач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в обыденной жиз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риучайте ребё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к самостоятель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учите ребё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амостоятель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ринимать ре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я и мир1"/>
          <p:cNvPicPr/>
          <p:nvPr/>
        </p:nvPicPr>
        <p:blipFill>
          <a:blip r:embed="rId1"/>
          <a:stretch/>
        </p:blipFill>
        <p:spPr>
          <a:xfrm>
            <a:off x="5651640" y="4005360"/>
            <a:ext cx="262548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6:55:40Z</dcterms:created>
  <dc:creator>Zentr4</dc:creator>
  <dc:description/>
  <dc:language>en-US</dc:language>
  <cp:lastModifiedBy>Пилипенко</cp:lastModifiedBy>
  <dcterms:modified xsi:type="dcterms:W3CDTF">2016-03-22T17:38:01Z</dcterms:modified>
  <cp:revision>32</cp:revision>
  <dc:subject/>
  <dc:title>Как помочь ребенку адаптироваться к школе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