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3C85-FBE2-4FC4-97C7-5FAEEEF6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A1FD-26AA-4723-89E3-BB423F86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561-AA32-4E5C-A4EC-FC338E35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430-6281-4D55-9ED9-9247549C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C8A-B635-4B61-A337-7A9E168C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3191-5C16-4C53-9626-92810805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F4A3-A600-4CBE-A878-920218BE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0BB-0F2A-4168-B12B-209CA553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BA16-2493-4F3E-A5FF-365D2CEB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1E2-E2BE-4EFC-AD7D-17AF5B3F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C17D-CEFB-4AC8-B948-954E5410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BD3E-E216-47A8-A4C5-D73EC340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0DB2-7553-4FE8-95E7-920D4C72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CFE5-4956-49DA-A763-17092796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B98F-563A-4627-B31A-978AD923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4CEF-6364-49CE-B597-F4F3F5AE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C89-3455-4795-A24D-2768208F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E0EA-E1C7-4857-B990-F0CF17CD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B024-FAC0-47B8-AB0D-C512B8F4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5FA7-9670-400A-AE36-29C99201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31BE-ADC9-4F4F-9DAF-AFB34BA0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3BA2-7478-4F0F-BCF0-3A720A5C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2BF1-E665-4C6A-AC76-5DCF55DE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458A-770A-4E87-B4DB-FC18FB76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6CF7-9477-4F2B-9651-4D46CABC8F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65CA-42AD-4E0E-A9E9-3AD7CAB9D0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14440" y="571320"/>
            <a:ext cx="542916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Bookman Old Style"/>
              </a:rPr>
              <a:t>Скоро в школу</a:t>
            </a:r>
            <a:endParaRPr b="0" lang="en-US" sz="4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3285720" y="3643200"/>
            <a:ext cx="54291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Советы и рекомендации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родителям будущих первоклассников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572320" cy="642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ажен не объем знаний ребенка, 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а качество знаний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ажно учить </a:t>
            </a: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не читать, а развивать реч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 Не учить писать, а создавать условия для </a:t>
            </a: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развития мелкой моторики рук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полноценного развития дошкольнику необходимо общаться со сверстниками, взрослыми, играть в развивающие игры </a:t>
            </a: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слушать чтение книг, рисовать, лепить, фантазироват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м больше ребенок будет причастен к подготовке к школе, обсуждению будущего, чем больше он будет знать о школе, о новой жизни, тем легче ему будет личностно в нее включиться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72320" cy="550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ажен не объем знаний ребенка, а качество знани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же сейчас постарайтесь очень постепенно </a:t>
            </a: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режим дня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ашего малыша соотнести с режимом дня школьника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ребёнок умел слышать учителя, обращайте внимание, </a:t>
            </a: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как он понимает ваши словесные инструкции и требовани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 которые должны быть чёткими, доброжелательными, немногословными, спокойны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угайте ребёнка будущими трудностями в школе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д школой и во время учёбы проверяйте зрение и слух ребёнка.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одготовка к письму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учку ребёнок должен брать правильно и разогретыми пальцам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скраски замените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ведением по трафарету и штриховкой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ния должна быть направлена сверху вниз, справа налево, а если она кривая, то против часовой стрелки. Расстояние между линиями 0,5 см - это основной принцип нашего письменного алфавит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апомните, дети также устают от этих занятий, как и от чте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66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одготовка к математике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спешность в этом предмете зависит от освоения и умения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двигаться в трёхмерном пространстве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этому помогите ребёнку свободно владеть такими понятиями: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000" spc="-1" strike="noStrike">
                <a:solidFill>
                  <a:srgbClr val="0070c0"/>
                </a:solidFill>
                <a:latin typeface="Bookman Old Style"/>
              </a:rPr>
              <a:t>"вверх-вниз", "вправо-влево", "прямо, по кругу, наискосок", "больше - меньше", "старше - моложе", "горизонтально-вертикально" и т.д.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объединять предметы в группы по одному признаку, сравнивать, владеть счётом в пределах 20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810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Segoe Script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Диагностика готовности детей к школ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Bookman Old Style"/>
              </a:rPr>
              <a:t>- </a:t>
            </a:r>
            <a:r>
              <a:rPr b="0" lang="ru-RU" sz="2400" spc="-1" strike="noStrike">
                <a:solidFill>
                  <a:srgbClr val="00b050"/>
                </a:solidFill>
                <a:latin typeface="Bookman Old Style"/>
              </a:rPr>
              <a:t>Графический тест </a:t>
            </a: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(Определение развития тонкой моторики руки, координации зрения и движений руки)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Bookman Old Style"/>
              </a:rPr>
              <a:t>«Рисование фигуры человека»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Bookman Old Style"/>
              </a:rPr>
              <a:t>«Срисовывание письменных букв»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Bookman Old Style"/>
              </a:rPr>
              <a:t>«Срисовывание группы точек»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Bookman Old Style"/>
              </a:rPr>
              <a:t>- </a:t>
            </a:r>
            <a:r>
              <a:rPr b="0" lang="ru-RU" sz="2400" spc="-1" strike="noStrike">
                <a:solidFill>
                  <a:srgbClr val="00b050"/>
                </a:solidFill>
                <a:latin typeface="Bookman Old Style"/>
              </a:rPr>
              <a:t>Графический тест Эльконина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8920" y="1844640"/>
            <a:ext cx="8643960" cy="337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Segoe Script"/>
              </a:rPr>
              <a:t>Поступая в </a:t>
            </a:r>
            <a:r>
              <a:rPr b="1" lang="ru-RU" sz="2800" spc="-1" strike="noStrike">
                <a:solidFill>
                  <a:srgbClr val="7030a0"/>
                </a:solidFill>
                <a:latin typeface="Segoe Script"/>
              </a:rPr>
              <a:t>1 класс ребёнок должен знать: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Segoe Script"/>
              </a:rPr>
              <a:t>1.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Знать свое имя и фамилию, адрес, имена членов семь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2. </a:t>
            </a: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Знать времена года, названия месяцев, дней недели, уметь различать цвета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3.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Уметь пересчитывать группы предметов в пределах 20. 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4. </a:t>
            </a: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Уметь увеличивать или уменьшать группу предметов на заданное количество (решение задач с группами предметов),уравнивать множество предметов. 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5.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Уметь сравнивать группы предметов -   больше, меньше или равно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6. </a:t>
            </a: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Уметь объединять предметы в группы: мебель, транспорт, одежда, обувь, растения, животные и т. 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23640" y="4868640"/>
            <a:ext cx="864396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Segoe Script"/>
              </a:rPr>
              <a:t>Поступая в </a:t>
            </a:r>
            <a:r>
              <a:rPr b="1" lang="ru-RU" sz="2800" spc="-1" strike="noStrike">
                <a:solidFill>
                  <a:srgbClr val="7030a0"/>
                </a:solidFill>
                <a:latin typeface="Segoe Script"/>
              </a:rPr>
              <a:t>1 класс ребёнок должен знать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7.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Уметь находить в группе предметов лишний 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(из группы «Одежда» убрать цветок).</a:t>
            </a:r>
            <a:r>
              <a:rPr b="1" i="1" lang="ru-RU" sz="2000" spc="-1" strike="noStrike">
                <a:solidFill>
                  <a:srgbClr val="00b050"/>
                </a:solidFill>
                <a:latin typeface="Bookman Old Style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8. </a:t>
            </a: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Уметь высказывать свое мнение, построив законченное предложение. 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9.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Иметь элементарные представления об окружающем мире:</a:t>
            </a:r>
            <a:r>
              <a:rPr b="1" lang="en-US" sz="2000" spc="-1" strike="noStrike">
                <a:solidFill>
                  <a:srgbClr val="00b05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о профессиях, о предметах живой и неживой природы, о правилах поведения в общественных места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10. </a:t>
            </a: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Иметь пространственные представления: право-лево,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вверх-вниз, под, над, из-за, из-под чего-либо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11.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Уметь культурно общаться с другими детьм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12. </a:t>
            </a: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Слушать старших и выполнять их распоряжени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785760" y="214200"/>
            <a:ext cx="490068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Segoe Script"/>
              </a:rPr>
              <a:t>Счастливого путешествия в стране знаний!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3357720" y="1673280"/>
            <a:ext cx="57862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14440" y="571320"/>
            <a:ext cx="5429160" cy="29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Bookman Old Style"/>
              </a:rPr>
              <a:t>Спасибо</a:t>
            </a:r>
            <a:r>
              <a:rPr b="1" lang="en-US" sz="4200" spc="-1" strike="noStrike">
                <a:solidFill>
                  <a:srgbClr val="632523"/>
                </a:solidFill>
                <a:latin typeface="Bookman Old Style"/>
              </a:rPr>
              <a:t> </a:t>
            </a:r>
            <a:r>
              <a:rPr b="1" lang="ru-RU" sz="4200" spc="-1" strike="noStrike">
                <a:solidFill>
                  <a:srgbClr val="632523"/>
                </a:solidFill>
                <a:latin typeface="Bookman Old Style"/>
              </a:rPr>
              <a:t>за внимание!</a:t>
            </a:r>
            <a:endParaRPr b="0" lang="en-US" sz="42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643120" y="5076360"/>
            <a:ext cx="485784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7" name="Прямоугольник 4"/>
          <p:cNvSpPr/>
          <p:nvPr/>
        </p:nvSpPr>
        <p:spPr>
          <a:xfrm>
            <a:off x="714240" y="428760"/>
            <a:ext cx="80010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53735"/>
                </a:solidFill>
                <a:latin typeface="Bookman Old Style"/>
              </a:rPr>
              <a:t>Критерии готовности к школе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физичес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нравствен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психологическ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мыслитель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Физическая готовнос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гласно санитарно-эпидемиологическим правилам СанПин 2.42.1178-02 «Гигиенические требования к условиям обучения в общеобразовательных  учреждениях»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В первые классы школ принимаются дети седьмого или восьмого года жизн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 усмотрению родителей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а основании заключения психолого-медико-педагогической комиссии о готовности ребенка к обучению.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язательным условием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для приема в школу детей седьмого года жизни является достижение ими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к 1 сентября возраста  не менее шести с половиной лет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Обучение детей, не достигших шести с половиной лет к началу учебного года, проводится в  условиях детского сад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8143920" cy="528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Нравственная готовность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мение </a:t>
            </a: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строить отношения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с учителем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 умение </a:t>
            </a: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общаться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со сверстниками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вежливость, сдержанность, послушание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отношение к себе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(отсутствие заниженной самооценки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Нельзя</a:t>
            </a:r>
            <a:r>
              <a:rPr b="0" lang="ru-RU" sz="2400" spc="-1" strike="noStrike">
                <a:solidFill>
                  <a:srgbClr val="cc3300"/>
                </a:solidFill>
                <a:latin typeface="Bookman Old Style"/>
              </a:rPr>
              <a:t> сравнивать достижения своего ребенка с достижениями других детей. </a:t>
            </a:r>
            <a:br>
              <a:rPr sz="2400"/>
            </a:br>
            <a:r>
              <a:rPr b="0" lang="ru-RU" sz="2400" spc="-1" strike="noStrike">
                <a:solidFill>
                  <a:srgbClr val="cc3300"/>
                </a:solidFill>
                <a:latin typeface="Bookman Old Style"/>
              </a:rPr>
              <a:t>- </a:t>
            </a: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Нельзя</a:t>
            </a:r>
            <a:r>
              <a:rPr b="0" lang="ru-RU" sz="2400" spc="-1" strike="noStrike">
                <a:solidFill>
                  <a:srgbClr val="cc3300"/>
                </a:solidFill>
                <a:latin typeface="Bookman Old Style"/>
              </a:rPr>
              <a:t> принуждать ребенка работать на «оценку». </a:t>
            </a:r>
            <a:br>
              <a:rPr sz="2400"/>
            </a:br>
            <a:r>
              <a:rPr b="0" lang="ru-RU" sz="2400" spc="-1" strike="noStrike">
                <a:solidFill>
                  <a:srgbClr val="cc3300"/>
                </a:solidFill>
                <a:latin typeface="Bookman Old Style"/>
              </a:rPr>
              <a:t>- </a:t>
            </a: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Надо</a:t>
            </a:r>
            <a:r>
              <a:rPr b="0" lang="ru-RU" sz="2400" spc="-1" strike="noStrike">
                <a:solidFill>
                  <a:srgbClr val="cc3300"/>
                </a:solidFill>
                <a:latin typeface="Bookman Old Style"/>
              </a:rPr>
              <a:t> чаще хвалить своих детей, даже за малейшие успехи. 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8143920" cy="62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сихологическая готовнос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твердое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желание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учиться, получать зна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понимание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важности и необходимости уче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проявление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выраженного интереса к получению новых знани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 это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умение слушат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учителя и выполнять его задания (отнюдь не всегда интересные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умение общаться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 сверстниками и взрослы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ебенок легко вступает в контакт, не агрессивен, умеет находить выход из проблемных ситуаций общения, признает авторитет взрослых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 это определенный уровень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развития мышления, 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памяти, внимания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14240" y="1267920"/>
            <a:ext cx="8143920" cy="558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Развитие школьно-значимых                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сихологических функций: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c00000"/>
                </a:solidFill>
                <a:latin typeface="Bookman Old Style"/>
              </a:rPr>
              <a:t>- </a:t>
            </a: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Развитие мелких мышц руки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(рука развита хорошо, ребенок уверенно владеет карандашом, ножницами)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Пространственная организация, координация движений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 (умение правильно определять выше - ниже, вперед - назад, слева - справа)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Координация в системе глаз - рука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(ребенок может правильно перенести в тетрадь простейший графический образ - узор, фигуру - зрительно воспринимаемый на расстоянии (например, из книг);</a:t>
            </a:r>
            <a:br>
              <a:rPr sz="2200"/>
            </a:br>
            <a:br>
              <a:rPr sz="22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5840" y="128556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Развитие школьно-значимых                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сихологических функций:</a:t>
            </a:r>
            <a:br>
              <a:rPr sz="2800"/>
            </a:b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Развитие логического мышления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способность находить сходства и различия разных предметов при сравнении, умение правильно объединять предметы в группы по общим существенным признакам);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Развитие произвольного внимания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способность удерживать внимание на выполняемой работе в течение 15-20 минут);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Развитие произвольной памят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способность к опосредованному запоминанию: связывать запоминаемый материал с конкретным символом /слово - картинка либо слово - ситуация/)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85840" y="907560"/>
            <a:ext cx="8572320" cy="468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Мыслительная готовность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Наиболее важные показатели — это </a:t>
            </a: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развитие мышления и реч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Очень полезно учить ребенка строить несложные рассуждения, выводы, используя слова</a:t>
            </a:r>
            <a:r>
              <a:rPr b="1" lang="ru-RU" sz="2800" spc="-1" strike="noStrike">
                <a:solidFill>
                  <a:srgbClr val="00b050"/>
                </a:solidFill>
                <a:latin typeface="Bookman Old Style"/>
              </a:rPr>
              <a:t>:«потому, что»; «если, то»; «поэтому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Учите ребят задавать вопросы. Мышление всегда начинается с вопроса. Нельзя заставить мысль работать, если просто сказать «подумай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85840" y="128556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Мыслительная готовность:</a:t>
            </a:r>
            <a:br>
              <a:rPr sz="28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Речь является основой, на которой строится учебный процесс. Особенно важно владение </a:t>
            </a: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монологической речью.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ля ребенка это </a:t>
            </a: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пересказ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ru-RU" sz="2400" spc="-1" strike="noStrike">
                <a:solidFill>
                  <a:srgbClr val="00b05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сле чтения задайте ребенку несколько вопросов по содержанию, попросите пересказать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 Особое внимание обратите на </a:t>
            </a: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ориентировку в пространстве.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равильно ли ваш ребенок понимает и употребляет в речи предлоги и понятия: </a:t>
            </a: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выше, ниже, на, над, под, снизу, сверху, между, перед., за, спереди от…, сзади от…, ближе, дальше, лево, право, левее, правее, ближе всего к…, дальше всего    от… и т.д. </a:t>
            </a:r>
            <a:endParaRPr b="0" lang="en-US" sz="24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9:19:14Z</dcterms:created>
  <dc:creator>сергей</dc:creator>
  <dc:description>Корпорация Майкрософт</dc:description>
  <cp:keywords>Фотоальбом</cp:keywords>
  <dc:language>en-US</dc:language>
  <cp:lastModifiedBy>Пилипенко</cp:lastModifiedBy>
  <dcterms:modified xsi:type="dcterms:W3CDTF">2016-03-22T17:40:13Z</dcterms:modified>
  <cp:revision>33</cp:revision>
  <dc:subject>Фотоальбом</dc:subject>
  <dc:title>Ваш ребёнок идёт в школ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