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AF2-87AE-4860-B60B-17DDBEBC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23B-8100-4171-947F-D0305A00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7C4-CA5C-4E12-A097-7273091A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840-B33D-4FBB-B8B8-F147912D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96E8-901E-40AD-A418-9A608B44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CB6C-9C85-471D-AB2A-4688B4AD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C0C3-DE16-47C0-B2F2-DB34F61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05FA-08C9-4011-8F55-1073EA58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BEE6-CA24-47E0-9DF6-FEF6E589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6E2B-0B0A-4D38-89B6-6E2A532E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5DA7-AC81-4FC9-935C-A9D470A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9D5-6828-493C-9843-D4A6DABB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D52E-19BE-46A0-B3F4-C3935D0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D13-CB62-4FA5-BBCF-EE0BE0E7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A44E-C43C-4FDB-AE05-235EEBD8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DF6A-B0BE-4866-9100-312C409E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4741-0844-492A-BDA3-B54D0A6B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C19-7EDA-4C4E-AE84-1678215E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DB5-F81C-43C2-B77B-70B8A9A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9B1-DB1F-47F1-9207-F173CC5D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9DA-3F0E-4D96-A65C-033DF5DD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CD9-5CF0-4091-891E-B55ED6E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3C8-BBF4-4231-8934-89865B4B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541-EBE5-4D27-94F2-A9342EF6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6F70-F197-4CED-904C-A5DA535CA7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4E22-C9BC-4C30-B0F6-1EB8DCE246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528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ajestic"/>
              </a:rPr>
              <a:t>Возрастные особенности обучающихся 3 класса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376360" y="5105520"/>
            <a:ext cx="6299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.Л. Пилип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70578130"/>
          <p:cNvPicPr/>
          <p:nvPr/>
        </p:nvPicPr>
        <p:blipFill>
          <a:blip r:embed="rId1"/>
          <a:stretch/>
        </p:blipFill>
        <p:spPr>
          <a:xfrm>
            <a:off x="2362320" y="12600"/>
            <a:ext cx="761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Рекомендации родителям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прашивайте Вашего ребенка о его школьных де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Регулярно беседуйте с учителями вашего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вязывайте оценки за успеваемость ребенка со своей системой наказаний и поощр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могайте ребенку выполнять домашние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те ребенку почувствовать интер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тому, что преподают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Особенные усилия прилагайте для т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бы поддерживать спокойную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табильную атмосферу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c00000"/>
                </a:solidFill>
                <a:latin typeface="Majestic"/>
              </a:rPr>
              <a:t>Спасибо</a:t>
            </a:r>
            <a:br>
              <a:rPr sz="7400"/>
            </a:br>
            <a:r>
              <a:rPr b="1" lang="ru-RU" sz="7400" spc="-1" strike="noStrike">
                <a:solidFill>
                  <a:srgbClr val="c00000"/>
                </a:solidFill>
                <a:latin typeface="Majestic"/>
              </a:rPr>
              <a:t>за </a:t>
            </a:r>
            <a:br>
              <a:rPr sz="7400"/>
            </a:br>
            <a:r>
              <a:rPr b="1" lang="ru-RU" sz="7400" spc="-1" strike="noStrike">
                <a:solidFill>
                  <a:srgbClr val="c00000"/>
                </a:solidFill>
                <a:latin typeface="Majestic"/>
              </a:rPr>
              <a:t>внимание</a:t>
            </a:r>
            <a:endParaRPr b="0" lang="en-US" sz="74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Физически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072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енок этого возраста очень активен. Любит приключения, физические упражнения,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Может пренебрегать своим внешним ви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лаг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ть прогулки, поездки, лагеря для преподавания духовных ист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Обучать ребенка личной гигие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уходу за своей одеждой, комна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риучать к пункту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Интеллектуальны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107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055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равится исследовать все, что незнако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имает законы последовательности и последствия. Имеет хорошее историческое и хронологическое чувство времени, пространства, рас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Хорошо мыслит и его понимание абстрактного ра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ится делать коллекции. Собирает все, что угодно. Для него главное не качество, а кол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«Золотой возраст памя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через исследование. Задавайте сво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чему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ставить вопросы, ответы на которые 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может найти самостоя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Эмоциональны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ко выражает свои чувства. Сначала говорит, а потом дум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2055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вободно выражает свои эмоции. Эмоционально быстро включается в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 развиваться чувство юмора. Желает рассказывать смешные ис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2055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крытые страхи. Ему хотелось бы выглядеть бесстраш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ь самоконтролю: когда быть серьезным и спокойным, а когда быть вес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2055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чить терпимости и самоконтролю. Рассматривать все факты до принятия решения. Учить уважать права и чувства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3290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 смеяться над собой. Не произносить тех шуток, которые будут оскорблять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Социальны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055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Ребенок начинает быть самостоятель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спосабливается к обществу вне семей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Ищет группу ровесников того же пола, т.к. для девочек мальчики «слишком шумны и буйны», а для мальчиков девочки «слишком глупы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ь дружелюбию. Поощрять ребёнка не заним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ции «я свят для тебя» не изолировать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верс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Духовны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енок ищет героев, выбирая тех людей, которых он видит, о которых читает, восхищается теми, кто делает то, что он хотел бы сдел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Желает понравиться выбранным им авторит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ятся захватывающие расс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знакомить с детством изве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казывать захватывающие истории о сверст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Социально-психологические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потребности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699920"/>
            <a:ext cx="851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требность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расширении кругозора, удовлетворении любопыт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требность сопричастности к группе сверст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коллективной деятельности и игр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требность в дружеском об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Как общаться с ребенком 8-9, 10 лет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амое главное для ребёнка - это чувствовать себя любимым близкими людьми, прежде всего родителям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27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позволяет ему ощущать себя достойным, уверенным, способным на мно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Именно эти чувства обеспечивают психологическую безопасность и благополучие, дают силы добиваться поставленных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27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очень важно говорить каждый день своему ребёнку слова, выражения, фраз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ые позволяют выразить свою любовь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язанность, поддержку, веру в его сил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Способы сказать ребёнку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«Я тебя люблю»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57360"/>
            <a:ext cx="8515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Это трогает меня до глубины д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ё лучше, чем преж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Для меня важно всё, что тебя волнует, тревожит и рад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каждым разом у тебя получается всё луч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ы сегодня много сдел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еня нет никого лучше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аучи меня делать так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как раз то, что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ы мне нужен именно такой, какой ты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то не может заменить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Я горжусь т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5:28:02Z</dcterms:created>
  <dc:creator>Оля</dc:creator>
  <dc:description/>
  <dc:language>en-US</dc:language>
  <cp:lastModifiedBy>Пилипенко</cp:lastModifiedBy>
  <dcterms:modified xsi:type="dcterms:W3CDTF">2016-03-22T17:35:04Z</dcterms:modified>
  <cp:revision>24</cp:revision>
  <dc:subject/>
  <dc:title>Слайд 1</dc:title>
</cp:coreProperties>
</file>