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4D9F-F8E7-45CE-957C-4177B8DD6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65A9-DCE4-4F4A-8ED8-B8B56F33B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666C-8B76-4632-83A9-2849BE12E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034F-0372-4A02-B735-7A2173048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78AA1-1C86-4D11-9C85-18A265BDB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773F8-97C8-4472-B5A8-4EE368C8D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CC429-B61A-4291-BF3F-CA659C22A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0A675-2A94-4AA3-8C3A-62ADBABAC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68940-D5D2-4DAB-BF0F-5FFD5DB4A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6777E-A0F5-4748-8F5D-53C479FCC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70568-D20A-4561-9564-42FF38C4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2D81-97A1-405B-8A73-4D48B3EC9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3228A-E63A-4681-8CBC-6B3F4E7C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891A4-8859-4ACE-BC15-C09F7C8F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574D2-4B6B-42EC-8711-8873B5D20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4B549-B80B-43EB-B08C-D3EBC2E8E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11562-5803-4B52-891B-1E0AF56B6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D013-5BE7-4BD5-B419-76AF822D0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CA88-0A48-4B20-9028-AB9955E52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3ABC-66D5-4526-8DD1-2B330A6F9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2C61-0B1F-4CE9-B701-FE6C0D60E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4BF1-27FF-4B13-9545-12533117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5BD8-B63A-4AC4-B46F-C3DC56B3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6E81-2186-43B1-B7B6-69D903B5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Majestic"/>
              </a:rPr>
              <a:t>Click to edit the title text format</a:t>
            </a: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2057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C3E9D-9044-4C95-9A4D-7B22873991E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Majestic"/>
              </a:rPr>
              <a:t>Click to edit the title text format</a:t>
            </a: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2057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8000E-BCB4-4989-A191-5B4ED00E907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1773360"/>
            <a:ext cx="7775280" cy="20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Majestic"/>
              </a:rPr>
              <a:t>Возрастные особенности обучающихся 3 класса</a:t>
            </a:r>
            <a:endParaRPr b="0" lang="en-US" sz="6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376360" y="5105520"/>
            <a:ext cx="62992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дагог-психол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Ю.Л. Пилипен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0" y="6858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дительское собр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70578130"/>
          <p:cNvPicPr/>
          <p:nvPr/>
        </p:nvPicPr>
        <p:blipFill>
          <a:blip r:embed="rId1"/>
          <a:stretch/>
        </p:blipFill>
        <p:spPr>
          <a:xfrm>
            <a:off x="2362320" y="12600"/>
            <a:ext cx="761760" cy="6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Majestic"/>
              </a:rPr>
              <a:t>Рекомендации родителям</a:t>
            </a:r>
            <a:endParaRPr b="0" lang="en-US" sz="48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267920"/>
            <a:ext cx="8515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27424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спрашивайте Вашего ребенка о его школьных дел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2056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Регулярно беседуйте с учителями вашего ребен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27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связывайте оценки за успеваемость ребенка со своей системой наказаний и поощр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2056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Помогайте ребенку выполнять домашние зад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27424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могите ребенку почувствовать интере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 тому, что преподают в шк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2056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Особенные усилия прилагайте для тог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чтобы поддерживать спокойную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стабильную атмосферу в до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87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400" spc="-1" strike="noStrike">
                <a:solidFill>
                  <a:srgbClr val="c00000"/>
                </a:solidFill>
                <a:latin typeface="Majestic"/>
              </a:rPr>
              <a:t>Спасибо</a:t>
            </a:r>
            <a:br>
              <a:rPr sz="7400"/>
            </a:br>
            <a:r>
              <a:rPr b="1" lang="ru-RU" sz="7400" spc="-1" strike="noStrike">
                <a:solidFill>
                  <a:srgbClr val="c00000"/>
                </a:solidFill>
                <a:latin typeface="Majestic"/>
              </a:rPr>
              <a:t>за </a:t>
            </a:r>
            <a:br>
              <a:rPr sz="7400"/>
            </a:br>
            <a:r>
              <a:rPr b="1" lang="ru-RU" sz="7400" spc="-1" strike="noStrike">
                <a:solidFill>
                  <a:srgbClr val="c00000"/>
                </a:solidFill>
                <a:latin typeface="Majestic"/>
              </a:rPr>
              <a:t>внимание</a:t>
            </a:r>
            <a:endParaRPr b="0" lang="en-US" sz="7400" spc="-1" strike="noStrike">
              <a:solidFill>
                <a:srgbClr val="000000"/>
              </a:solidFill>
              <a:latin typeface="Majest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Majestic"/>
              </a:rPr>
              <a:t>Физические</a:t>
            </a: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10720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27424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бенок этого возраста очень активен. Любит приключения, физические упражнения, игр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2056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Может пренебрегать своим внешним вид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Предлагае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27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ользовать прогулки, поездки, лагеря для преподавания духовных ист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2056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Обучать ребенка личной гигиен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уходу за своей одеждой, комнато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приучать к пунктуа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Majestic"/>
              </a:rPr>
              <a:t>Интеллектуальные</a:t>
            </a: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81072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20558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Нравится исследовать все, что незнаком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32901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нимает законы последовательности и последствия. Имеет хорошее историческое и хронологическое чувство времени, пространства, расстоя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20558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Хорошо мыслит и его понимание абстрактного раст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32901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равится делать коллекции. Собирает все, что угодно. Для него главное не качество, а колич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20558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«Золотой возраст памят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Arial"/>
              </a:rPr>
              <a:t>Предлагае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32901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учение через исследование. Задавайте сво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почему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20558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Поставить вопросы, ответы на которые ребено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сможет найти самостоятель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Majestic"/>
              </a:rPr>
              <a:t>Эмоциональные</a:t>
            </a: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67920"/>
            <a:ext cx="8515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SzPct val="32901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зко выражает свои чувства. Сначала говорит, а потом дума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SzPct val="20558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Свободно выражает свои эмоции. Эмоционально быстро включается в спо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SzPct val="32901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чинает развиваться чувство юмора. Желает рассказывать смешные исто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SzPct val="20558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Скрытые страхи. Ему хотелось бы выглядеть бесстрашны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Arial"/>
              </a:rPr>
              <a:t>Предлагае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SzPct val="32901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ить самоконтролю: когда быть серьезным и спокойным, а когда быть весел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SzPct val="20558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Учить терпимости и самоконтролю. Рассматривать все факты до принятия решения. Учить уважать права и чувства других люд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SzPct val="32901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учить смеяться над собой. Не произносить тех шуток, которые будут оскорблять других люд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Majestic"/>
              </a:rPr>
              <a:t>Социальные</a:t>
            </a: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1267920"/>
            <a:ext cx="8515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20558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Ребенок начинает быть самостоятельны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32901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спосабливается к обществу вне семейного круг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20558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Ищет группу ровесников того же пола, т.к. для девочек мальчики «слишком шумны и буйны», а для мальчиков девочки «слишком глупы»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Arial"/>
              </a:rPr>
              <a:t>Предлагае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32901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ить дружелюбию. Поощрять ребёнка не заним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зиции «я свят для тебя» не изолировать себ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 сверстни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Majestic"/>
              </a:rPr>
              <a:t>Духовные</a:t>
            </a: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267920"/>
            <a:ext cx="8515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32901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бенок ищет героев, выбирая тех людей, которых он видит, о которых читает, восхищается теми, кто делает то, что он хотел бы сдела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20558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Желает понравиться выбранным им авторитет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32901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равятся захватывающие рассказ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Предлагае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20558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Познакомить с детством известных люд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32901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сказывать захватывающие истории о сверстни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Majestic"/>
              </a:rPr>
              <a:t>Социально-психологические </a:t>
            </a:r>
            <a:br>
              <a:rPr sz="4800"/>
            </a:br>
            <a:r>
              <a:rPr b="1" lang="ru-RU" sz="4800" spc="-1" strike="noStrike">
                <a:solidFill>
                  <a:srgbClr val="c00000"/>
                </a:solidFill>
                <a:latin typeface="Majestic"/>
              </a:rPr>
              <a:t>потребности</a:t>
            </a:r>
            <a:endParaRPr b="0" lang="en-US" sz="48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560" y="1699920"/>
            <a:ext cx="8515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2056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Потребность обучен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2742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требность в расширении кругозора, удовлетворении любопытств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2056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Потребность сопричастности к группе сверстнико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27424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требность в коллективной деятельности и играх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2056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Потребность в дружеском обще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Majestic"/>
              </a:rPr>
              <a:t>Как общаться с ребенком 8-9, 10 лет</a:t>
            </a:r>
            <a:endParaRPr b="0" lang="en-US" sz="48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267920"/>
            <a:ext cx="8515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SzPct val="2056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Самое главное для ребёнка - это чувствовать себя любимым близкими людьми, прежде всего родителями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2742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позволяет ему ощущать себя достойным, уверенным, способным на много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2056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Именно эти чувства обеспечивают психологическую безопасность и благополучие, дают силы добиваться поставленных ц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27424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этому очень важно говорить каждый день своему ребёнку слова, выражения, фраз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торые позволяют выразить свою любовь,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вязанность, поддержку, веру в его силы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особ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Majestic"/>
              </a:rPr>
              <a:t>Способы сказать ребёнку </a:t>
            </a:r>
            <a:br>
              <a:rPr sz="4800"/>
            </a:br>
            <a:r>
              <a:rPr b="1" lang="ru-RU" sz="4800" spc="-1" strike="noStrike">
                <a:solidFill>
                  <a:srgbClr val="c00000"/>
                </a:solidFill>
                <a:latin typeface="Majestic"/>
              </a:rPr>
              <a:t>«Я тебя люблю»</a:t>
            </a:r>
            <a:endParaRPr b="0" lang="en-US" sz="48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560" y="1557360"/>
            <a:ext cx="85150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SzPct val="2056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Это трогает меня до глубины душ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2742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щё лучше, чем преж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2056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Для меня важно всё, что тебя волнует, тревожит и раду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27424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каждым разом у тебя получается всё лучш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2056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Ты сегодня много сдела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27424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меня нет никого лучше теб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2056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Научи меня делать так ж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27424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как раз то, что нуж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2056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Ты мне нужен именно такой, какой ты е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27424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икто не может заменить теб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2056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Я горжусь тоб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4T05:28:02Z</dcterms:created>
  <dc:creator>Оля</dc:creator>
  <dc:description/>
  <dc:language>en-US</dc:language>
  <cp:lastModifiedBy>Пилипенко</cp:lastModifiedBy>
  <dcterms:modified xsi:type="dcterms:W3CDTF">2016-03-22T17:35:04Z</dcterms:modified>
  <cp:revision>24</cp:revision>
  <dc:subject/>
  <dc:title>Слайд 1</dc:title>
</cp:coreProperties>
</file>