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D3587-3C02-467C-B75C-94A7D528A9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4FF89-44A6-474B-9543-AB3096E867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3DA-9A08-4635-89CA-F3034CF5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E29-5492-4B26-99C9-FCCC6296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B5F-30DD-4E04-8207-39AF7B4F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2520" y="201276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37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2520" y="4518000"/>
            <a:ext cx="2799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05E-7835-4AEF-9546-C3C22116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A0E-883B-4DE3-9B2D-63DCAC19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6E1-0EB9-4ECE-AD32-97CC71DD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D06-597D-44D8-8C79-810E4D65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AE4-9C63-4E9F-A9C5-70FE4C96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3720" y="402840"/>
            <a:ext cx="86932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CD7-250F-499C-8195-DD72AABE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2EE-9B9E-4BE3-86CA-E59ED53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1800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BCE-DC42-469F-AE53-3CC5780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372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012760"/>
            <a:ext cx="4242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3720" y="4518000"/>
            <a:ext cx="8693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7D5-E1A7-4820-888A-B472184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CCCD4D-9576-4C10-B0CA-3E6543F2067E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3600360" y="1332000"/>
            <a:ext cx="3456000" cy="18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Propisi"/>
              </a:rPr>
              <a:t>Глас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Propisi"/>
              </a:rPr>
              <a:t>буквы и зв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353880"/>
            <a:ext cx="3200400" cy="932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1324800" y="1092240"/>
            <a:ext cx="74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гласных букв в русском я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s://ds05.infourok.ru/uploads/ex/119c/0009d59b-ba8fdbe0/hello_html_f45814a.jpg"/>
          <p:cNvPicPr/>
          <p:nvPr/>
        </p:nvPicPr>
        <p:blipFill>
          <a:blip r:embed="rId3"/>
          <a:srcRect l="465" t="4507" r="76254" b="4776"/>
          <a:stretch/>
        </p:blipFill>
        <p:spPr>
          <a:xfrm>
            <a:off x="2773440" y="2844720"/>
            <a:ext cx="4533840" cy="2376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1281600" y="1076400"/>
            <a:ext cx="75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звуки обозначают гласные бук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769120" y="199872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769120" y="51436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3691440" y="199872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3691440" y="514368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4615200" y="199872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615200" y="51436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5408280" y="199872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ы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5484600" y="5143680"/>
            <a:ext cx="9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6394680" y="199224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6411600" y="514368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353880"/>
            <a:ext cx="3200400" cy="932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ds05.infourok.ru/uploads/ex/119c/0009d59b-ba8fdbe0/hello_html_f45814a.jpg"/>
          <p:cNvPicPr/>
          <p:nvPr/>
        </p:nvPicPr>
        <p:blipFill>
          <a:blip r:embed="rId3"/>
          <a:srcRect l="465" t="4507" r="76254" b="4776"/>
          <a:stretch/>
        </p:blipFill>
        <p:spPr>
          <a:xfrm>
            <a:off x="2773440" y="2844720"/>
            <a:ext cx="4533840" cy="2376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769120" y="199872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2769120" y="51436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3691440" y="199872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3691440" y="514368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4615200" y="199872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4615200" y="51436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5408280" y="1998720"/>
            <a:ext cx="110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ы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5484600" y="5143680"/>
            <a:ext cx="9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6394680" y="199224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6411600" y="514368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3373200" y="62434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букв и 6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9"/>
          <p:cNvSpPr/>
          <p:nvPr/>
        </p:nvSpPr>
        <p:spPr>
          <a:xfrm>
            <a:off x="1281600" y="1076400"/>
            <a:ext cx="75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звуки обозначают гласные букв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353880"/>
            <a:ext cx="3200400" cy="93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s://ds05.infourok.ru/uploads/ex/119c/0009d59b-ba8fdbe0/hello_html_f45814a.jpg"/>
          <p:cNvPicPr/>
          <p:nvPr/>
        </p:nvPicPr>
        <p:blipFill>
          <a:blip r:embed="rId3"/>
          <a:srcRect l="465" t="4507" r="76254" b="4776"/>
          <a:stretch/>
        </p:blipFill>
        <p:spPr>
          <a:xfrm>
            <a:off x="2773440" y="2844720"/>
            <a:ext cx="4533840" cy="23767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8"/>
          <p:cNvSpPr/>
          <p:nvPr/>
        </p:nvSpPr>
        <p:spPr>
          <a:xfrm>
            <a:off x="1503360" y="1076400"/>
            <a:ext cx="70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усском языке ест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ИТРЫЕ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s://ds05.infourok.ru/uploads/ex/119c/0009d59b-ba8fdbe0/hello_html_f45814a.jpg"/>
          <p:cNvPicPr/>
          <p:nvPr/>
        </p:nvPicPr>
        <p:blipFill>
          <a:blip r:embed="rId4"/>
          <a:srcRect l="465" t="50865" r="85305" b="4776"/>
          <a:stretch/>
        </p:blipFill>
        <p:spPr>
          <a:xfrm>
            <a:off x="3168720" y="4059360"/>
            <a:ext cx="2770200" cy="116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s://ds05.infourok.ru/uploads/ex/119c/0009d59b-ba8fdbe0/hello_html_f45814a.jpg"/>
          <p:cNvPicPr/>
          <p:nvPr/>
        </p:nvPicPr>
        <p:blipFill>
          <a:blip r:embed="rId5"/>
          <a:srcRect l="19502" t="50865" r="76254" b="4776"/>
          <a:stretch/>
        </p:blipFill>
        <p:spPr>
          <a:xfrm>
            <a:off x="5938920" y="4060800"/>
            <a:ext cx="826920" cy="1162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1"/>
          <p:cNvSpPr/>
          <p:nvPr/>
        </p:nvSpPr>
        <p:spPr>
          <a:xfrm>
            <a:off x="3188160" y="58672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2"/>
          <p:cNvSpPr/>
          <p:nvPr/>
        </p:nvSpPr>
        <p:spPr>
          <a:xfrm>
            <a:off x="4108680" y="586728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3"/>
          <p:cNvSpPr/>
          <p:nvPr/>
        </p:nvSpPr>
        <p:spPr>
          <a:xfrm>
            <a:off x="5032800" y="58672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4"/>
          <p:cNvSpPr/>
          <p:nvPr/>
        </p:nvSpPr>
        <p:spPr>
          <a:xfrm>
            <a:off x="5922360" y="586728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авая фигурная скобка 1"/>
          <p:cNvSpPr/>
          <p:nvPr/>
        </p:nvSpPr>
        <p:spPr>
          <a:xfrm rot="5400000">
            <a:off x="4789440" y="3595680"/>
            <a:ext cx="360360" cy="36115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3611520"/>
              <a:gd name="textAreaBottom" fmla="*/ 3602160 h 361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3387240" y="552780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согла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353880"/>
            <a:ext cx="3200400" cy="93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s://ds05.infourok.ru/uploads/ex/119c/0009d59b-ba8fdbe0/hello_html_f45814a.jpg"/>
          <p:cNvPicPr/>
          <p:nvPr/>
        </p:nvPicPr>
        <p:blipFill>
          <a:blip r:embed="rId3"/>
          <a:srcRect l="465" t="50865" r="85305" b="4776"/>
          <a:stretch/>
        </p:blipFill>
        <p:spPr>
          <a:xfrm>
            <a:off x="3168720" y="4059360"/>
            <a:ext cx="2770200" cy="116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s://ds05.infourok.ru/uploads/ex/119c/0009d59b-ba8fdbe0/hello_html_f45814a.jpg"/>
          <p:cNvPicPr/>
          <p:nvPr/>
        </p:nvPicPr>
        <p:blipFill>
          <a:blip r:embed="rId4"/>
          <a:srcRect l="19502" t="50865" r="76254" b="4776"/>
          <a:stretch/>
        </p:blipFill>
        <p:spPr>
          <a:xfrm>
            <a:off x="5938920" y="4060800"/>
            <a:ext cx="826920" cy="1162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1"/>
          <p:cNvSpPr/>
          <p:nvPr/>
        </p:nvSpPr>
        <p:spPr>
          <a:xfrm>
            <a:off x="3188160" y="58672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2"/>
          <p:cNvSpPr/>
          <p:nvPr/>
        </p:nvSpPr>
        <p:spPr>
          <a:xfrm>
            <a:off x="4108680" y="5867280"/>
            <a:ext cx="9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3"/>
          <p:cNvSpPr/>
          <p:nvPr/>
        </p:nvSpPr>
        <p:spPr>
          <a:xfrm>
            <a:off x="5032800" y="5867280"/>
            <a:ext cx="9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4"/>
          <p:cNvSpPr/>
          <p:nvPr/>
        </p:nvSpPr>
        <p:spPr>
          <a:xfrm>
            <a:off x="5922360" y="5867280"/>
            <a:ext cx="9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авая фигурная скобка 1"/>
          <p:cNvSpPr/>
          <p:nvPr/>
        </p:nvSpPr>
        <p:spPr>
          <a:xfrm rot="5400000">
            <a:off x="4789440" y="3595680"/>
            <a:ext cx="360360" cy="36115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3611520"/>
              <a:gd name="textAreaBottom" fmla="*/ 3602160 h 361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3387240" y="552780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согла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авая фигурная скобка 13"/>
          <p:cNvSpPr/>
          <p:nvPr/>
        </p:nvSpPr>
        <p:spPr>
          <a:xfrm rot="16200000">
            <a:off x="4785480" y="2045160"/>
            <a:ext cx="360360" cy="360972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3609720"/>
              <a:gd name="textAreaBottom" fmla="*/ 3600360 h 36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6"/>
          <p:cNvSpPr/>
          <p:nvPr/>
        </p:nvSpPr>
        <p:spPr>
          <a:xfrm>
            <a:off x="7018920" y="3240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ь, 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2141280" y="2103480"/>
            <a:ext cx="146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5"/>
          <p:cNvSpPr/>
          <p:nvPr/>
        </p:nvSpPr>
        <p:spPr>
          <a:xfrm>
            <a:off x="3557520" y="2103480"/>
            <a:ext cx="15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6"/>
          <p:cNvSpPr/>
          <p:nvPr/>
        </p:nvSpPr>
        <p:spPr>
          <a:xfrm>
            <a:off x="5006880" y="2103480"/>
            <a:ext cx="146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7"/>
          <p:cNvSpPr/>
          <p:nvPr/>
        </p:nvSpPr>
        <p:spPr>
          <a:xfrm>
            <a:off x="6447600" y="2103480"/>
            <a:ext cx="14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[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й</a:t>
            </a: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’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"/>
          <p:cNvSpPr/>
          <p:nvPr/>
        </p:nvSpPr>
        <p:spPr>
          <a:xfrm>
            <a:off x="2840040" y="2949480"/>
            <a:ext cx="809640" cy="109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7"/>
          <p:cNvSpPr/>
          <p:nvPr/>
        </p:nvSpPr>
        <p:spPr>
          <a:xfrm flipH="1">
            <a:off x="6353280" y="2973240"/>
            <a:ext cx="814320" cy="1057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9"/>
          <p:cNvSpPr/>
          <p:nvPr/>
        </p:nvSpPr>
        <p:spPr>
          <a:xfrm>
            <a:off x="4281480" y="2948040"/>
            <a:ext cx="271440" cy="109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1"/>
          <p:cNvSpPr/>
          <p:nvPr/>
        </p:nvSpPr>
        <p:spPr>
          <a:xfrm flipH="1">
            <a:off x="5495760" y="2944800"/>
            <a:ext cx="255600" cy="10857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719280" y="3763800"/>
            <a:ext cx="2376360" cy="10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Ь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А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24"/>
          <p:cNvSpPr/>
          <p:nvPr/>
        </p:nvSpPr>
        <p:spPr>
          <a:xfrm>
            <a:off x="3848040" y="1009800"/>
            <a:ext cx="2374920" cy="109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, П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, 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Р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28"/>
          <p:cNvSpPr/>
          <p:nvPr/>
        </p:nvSpPr>
        <p:spPr>
          <a:xfrm>
            <a:off x="6851520" y="3763800"/>
            <a:ext cx="2509920" cy="10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З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Ь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, ОБ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Ъ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, СОЛ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Ь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ОБ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Ъ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4"/>
          <p:cNvSpPr/>
          <p:nvPr/>
        </p:nvSpPr>
        <p:spPr>
          <a:xfrm>
            <a:off x="581400" y="324000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чал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3750120" y="324000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гла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2" descr=""/>
          <p:cNvPicPr/>
          <p:nvPr/>
        </p:nvPicPr>
        <p:blipFill>
          <a:blip r:embed="rId2"/>
          <a:stretch/>
        </p:blipFill>
        <p:spPr>
          <a:xfrm>
            <a:off x="360360" y="384120"/>
            <a:ext cx="2230560" cy="9320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1"/>
          <p:cNvSpPr/>
          <p:nvPr/>
        </p:nvSpPr>
        <p:spPr>
          <a:xfrm>
            <a:off x="866520" y="2089080"/>
            <a:ext cx="694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вет, маяк, ведро, ряб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4"/>
          <p:cNvSpPr/>
          <p:nvPr/>
        </p:nvSpPr>
        <p:spPr>
          <a:xfrm>
            <a:off x="558720" y="1082520"/>
            <a:ext cx="90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слово, в котором гласная дает два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893880" y="2911320"/>
            <a:ext cx="76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мён, ёлка, вьюга, тюльп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866520" y="2089080"/>
            <a:ext cx="694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вет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 ведро, ряб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898560" y="2911320"/>
            <a:ext cx="76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мён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ка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 тюльп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.aljanh.net/data/archive/img/3339595273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2" descr=""/>
          <p:cNvPicPr/>
          <p:nvPr/>
        </p:nvPicPr>
        <p:blipFill>
          <a:blip r:embed="rId2"/>
          <a:stretch/>
        </p:blipFill>
        <p:spPr>
          <a:xfrm>
            <a:off x="573120" y="353880"/>
            <a:ext cx="2828880" cy="9320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1"/>
          <p:cNvSpPr/>
          <p:nvPr/>
        </p:nvSpPr>
        <p:spPr>
          <a:xfrm>
            <a:off x="795960" y="1922400"/>
            <a:ext cx="850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ечта, пони, юбка, набор, якор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енот, веник, весна, друг, ёжи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мь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657720" y="1077840"/>
            <a:ext cx="876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пишите слова, в котором гласная дает два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http://new.landingi.com/uploads/ffd17dd0a0dc4804d988/pictures/9371d46159030c0a0221f69df669e420.jpg"/>
          <p:cNvPicPr/>
          <p:nvPr/>
        </p:nvPicPr>
        <p:blipFill>
          <a:blip r:embed="rId1"/>
          <a:stretch/>
        </p:blipFill>
        <p:spPr>
          <a:xfrm>
            <a:off x="7272360" y="0"/>
            <a:ext cx="2808360" cy="42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3" descr="http://tausmeta.ru/cmsPages/dock.png"/>
          <p:cNvPicPr/>
          <p:nvPr/>
        </p:nvPicPr>
        <p:blipFill>
          <a:blip r:embed="rId2"/>
          <a:stretch/>
        </p:blipFill>
        <p:spPr>
          <a:xfrm>
            <a:off x="7777080" y="5651640"/>
            <a:ext cx="176544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4" descr="http://nachalo4ka.ru/wp-content/uploads/2014/08/uchitelnitsa-u-doski.png"/>
          <p:cNvPicPr/>
          <p:nvPr/>
        </p:nvPicPr>
        <p:blipFill>
          <a:blip r:embed="rId3"/>
          <a:stretch/>
        </p:blipFill>
        <p:spPr>
          <a:xfrm>
            <a:off x="0" y="0"/>
            <a:ext cx="6283440" cy="75596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" descr=""/>
          <p:cNvPicPr/>
          <p:nvPr/>
        </p:nvPicPr>
        <p:blipFill>
          <a:blip r:embed="rId4"/>
          <a:stretch/>
        </p:blipFill>
        <p:spPr>
          <a:xfrm>
            <a:off x="2620800" y="969840"/>
            <a:ext cx="31766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>Юлия Пилипенко</dc:creator>
  <dc:description/>
  <dc:language>en-US</dc:language>
  <cp:lastModifiedBy>Никита</cp:lastModifiedBy>
  <dcterms:modified xsi:type="dcterms:W3CDTF">2022-01-30T18:29:27Z</dcterms:modified>
  <cp:revision>140</cp:revision>
  <dc:subject/>
  <dc:title>Презентация PowerPoint</dc:title>
</cp:coreProperties>
</file>