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69CC47-748E-45D5-A455-D25370C443D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B8BF4-413D-436A-8641-402552BA09E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19E7-9A1D-4081-A9EE-B3DA81B36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0B38-69B7-4F6D-9035-3D66C5FE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6C49-A993-4FC8-8D62-70344644A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30E5-0282-4A82-9554-048AB69F6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278C-ED48-4710-8A5A-84446AC7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7194-4297-461B-8AAE-842439B4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FD80-6B57-4E5C-A1C3-04675800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3FB4-58E9-4D91-A488-F0209258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AED0-BF0E-4ECB-AC60-46388031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DDE1-33BC-4C7B-86E8-0B62B19E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1A9D-F21F-4D88-B9A3-602D40C4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8C19-DF74-44C7-928F-A004A265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3360" y="7007040"/>
            <a:ext cx="226692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19720" y="7007040"/>
            <a:ext cx="226692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8A913A4-93AA-47B3-BAC6-A34822F8405E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Скругленный прямоугольник 3"/>
          <p:cNvSpPr/>
          <p:nvPr/>
        </p:nvSpPr>
        <p:spPr>
          <a:xfrm>
            <a:off x="3600360" y="1332000"/>
            <a:ext cx="3456000" cy="180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Propisi"/>
              </a:rPr>
              <a:t>Гласны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Propisi"/>
              </a:rPr>
              <a:t>буквы и зву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www.aljanh.net/data/archive/img/3339595273.pn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2" descr=""/>
          <p:cNvPicPr/>
          <p:nvPr/>
        </p:nvPicPr>
        <p:blipFill>
          <a:blip r:embed="rId2"/>
          <a:stretch/>
        </p:blipFill>
        <p:spPr>
          <a:xfrm>
            <a:off x="390600" y="353880"/>
            <a:ext cx="3200400" cy="93204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3"/>
          <p:cNvSpPr/>
          <p:nvPr/>
        </p:nvSpPr>
        <p:spPr>
          <a:xfrm>
            <a:off x="1324800" y="1092240"/>
            <a:ext cx="74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олько гласных букв в русском язы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https://ds05.infourok.ru/uploads/ex/119c/0009d59b-ba8fdbe0/hello_html_f45814a.jpg"/>
          <p:cNvPicPr/>
          <p:nvPr/>
        </p:nvPicPr>
        <p:blipFill>
          <a:blip r:embed="rId3"/>
          <a:srcRect l="465" t="4507" r="76254" b="4776"/>
          <a:stretch/>
        </p:blipFill>
        <p:spPr>
          <a:xfrm>
            <a:off x="2773440" y="2844720"/>
            <a:ext cx="4533840" cy="23767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7"/>
          <p:cNvSpPr/>
          <p:nvPr/>
        </p:nvSpPr>
        <p:spPr>
          <a:xfrm>
            <a:off x="1281600" y="1076400"/>
            <a:ext cx="751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звуки обозначают гласные букв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4"/>
          <p:cNvSpPr/>
          <p:nvPr/>
        </p:nvSpPr>
        <p:spPr>
          <a:xfrm>
            <a:off x="2769120" y="1998720"/>
            <a:ext cx="9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а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9"/>
          <p:cNvSpPr/>
          <p:nvPr/>
        </p:nvSpPr>
        <p:spPr>
          <a:xfrm>
            <a:off x="2769120" y="5143680"/>
            <a:ext cx="9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а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0"/>
          <p:cNvSpPr/>
          <p:nvPr/>
        </p:nvSpPr>
        <p:spPr>
          <a:xfrm>
            <a:off x="3691440" y="1998720"/>
            <a:ext cx="95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о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1"/>
          <p:cNvSpPr/>
          <p:nvPr/>
        </p:nvSpPr>
        <p:spPr>
          <a:xfrm>
            <a:off x="3691440" y="5143680"/>
            <a:ext cx="95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о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2"/>
          <p:cNvSpPr/>
          <p:nvPr/>
        </p:nvSpPr>
        <p:spPr>
          <a:xfrm>
            <a:off x="4615200" y="1998720"/>
            <a:ext cx="9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у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3"/>
          <p:cNvSpPr/>
          <p:nvPr/>
        </p:nvSpPr>
        <p:spPr>
          <a:xfrm>
            <a:off x="4615200" y="5143680"/>
            <a:ext cx="9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у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4"/>
          <p:cNvSpPr/>
          <p:nvPr/>
        </p:nvSpPr>
        <p:spPr>
          <a:xfrm>
            <a:off x="5408280" y="1998720"/>
            <a:ext cx="1107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ы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5"/>
          <p:cNvSpPr/>
          <p:nvPr/>
        </p:nvSpPr>
        <p:spPr>
          <a:xfrm>
            <a:off x="5484600" y="5143680"/>
            <a:ext cx="96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и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6"/>
          <p:cNvSpPr/>
          <p:nvPr/>
        </p:nvSpPr>
        <p:spPr>
          <a:xfrm>
            <a:off x="6394680" y="1992240"/>
            <a:ext cx="92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э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7"/>
          <p:cNvSpPr/>
          <p:nvPr/>
        </p:nvSpPr>
        <p:spPr>
          <a:xfrm>
            <a:off x="6411600" y="5143680"/>
            <a:ext cx="92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э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www.aljanh.net/data/archive/img/3339595273.pn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2" descr=""/>
          <p:cNvPicPr/>
          <p:nvPr/>
        </p:nvPicPr>
        <p:blipFill>
          <a:blip r:embed="rId2"/>
          <a:stretch/>
        </p:blipFill>
        <p:spPr>
          <a:xfrm>
            <a:off x="390600" y="353880"/>
            <a:ext cx="3200400" cy="932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s://ds05.infourok.ru/uploads/ex/119c/0009d59b-ba8fdbe0/hello_html_f45814a.jpg"/>
          <p:cNvPicPr/>
          <p:nvPr/>
        </p:nvPicPr>
        <p:blipFill>
          <a:blip r:embed="rId3"/>
          <a:srcRect l="465" t="4507" r="76254" b="4776"/>
          <a:stretch/>
        </p:blipFill>
        <p:spPr>
          <a:xfrm>
            <a:off x="2773440" y="2844720"/>
            <a:ext cx="4533840" cy="237672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4"/>
          <p:cNvSpPr/>
          <p:nvPr/>
        </p:nvSpPr>
        <p:spPr>
          <a:xfrm>
            <a:off x="2769120" y="1998720"/>
            <a:ext cx="9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а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9"/>
          <p:cNvSpPr/>
          <p:nvPr/>
        </p:nvSpPr>
        <p:spPr>
          <a:xfrm>
            <a:off x="2769120" y="5143680"/>
            <a:ext cx="9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а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0"/>
          <p:cNvSpPr/>
          <p:nvPr/>
        </p:nvSpPr>
        <p:spPr>
          <a:xfrm>
            <a:off x="3691440" y="1998720"/>
            <a:ext cx="95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о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1"/>
          <p:cNvSpPr/>
          <p:nvPr/>
        </p:nvSpPr>
        <p:spPr>
          <a:xfrm>
            <a:off x="3691440" y="5143680"/>
            <a:ext cx="95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о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2"/>
          <p:cNvSpPr/>
          <p:nvPr/>
        </p:nvSpPr>
        <p:spPr>
          <a:xfrm>
            <a:off x="4615200" y="1998720"/>
            <a:ext cx="9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у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3"/>
          <p:cNvSpPr/>
          <p:nvPr/>
        </p:nvSpPr>
        <p:spPr>
          <a:xfrm>
            <a:off x="4615200" y="5143680"/>
            <a:ext cx="9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у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4"/>
          <p:cNvSpPr/>
          <p:nvPr/>
        </p:nvSpPr>
        <p:spPr>
          <a:xfrm>
            <a:off x="5408280" y="1998720"/>
            <a:ext cx="1107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ы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5"/>
          <p:cNvSpPr/>
          <p:nvPr/>
        </p:nvSpPr>
        <p:spPr>
          <a:xfrm>
            <a:off x="5484600" y="5143680"/>
            <a:ext cx="96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и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6"/>
          <p:cNvSpPr/>
          <p:nvPr/>
        </p:nvSpPr>
        <p:spPr>
          <a:xfrm>
            <a:off x="6394680" y="1992240"/>
            <a:ext cx="92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э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7"/>
          <p:cNvSpPr/>
          <p:nvPr/>
        </p:nvSpPr>
        <p:spPr>
          <a:xfrm>
            <a:off x="6411600" y="5143680"/>
            <a:ext cx="92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э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8"/>
          <p:cNvSpPr/>
          <p:nvPr/>
        </p:nvSpPr>
        <p:spPr>
          <a:xfrm>
            <a:off x="3373200" y="6243480"/>
            <a:ext cx="340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 букв и 6 зву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9"/>
          <p:cNvSpPr/>
          <p:nvPr/>
        </p:nvSpPr>
        <p:spPr>
          <a:xfrm>
            <a:off x="1281600" y="1076400"/>
            <a:ext cx="751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звуки обозначают гласные букв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0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www.aljanh.net/data/archive/img/3339595273.pn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2" descr=""/>
          <p:cNvPicPr/>
          <p:nvPr/>
        </p:nvPicPr>
        <p:blipFill>
          <a:blip r:embed="rId2"/>
          <a:stretch/>
        </p:blipFill>
        <p:spPr>
          <a:xfrm>
            <a:off x="390600" y="353880"/>
            <a:ext cx="3200400" cy="932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s://ds05.infourok.ru/uploads/ex/119c/0009d59b-ba8fdbe0/hello_html_f45814a.jpg"/>
          <p:cNvPicPr/>
          <p:nvPr/>
        </p:nvPicPr>
        <p:blipFill>
          <a:blip r:embed="rId3"/>
          <a:srcRect l="465" t="4507" r="76254" b="4776"/>
          <a:stretch/>
        </p:blipFill>
        <p:spPr>
          <a:xfrm>
            <a:off x="2773440" y="2844720"/>
            <a:ext cx="4533840" cy="237672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18"/>
          <p:cNvSpPr/>
          <p:nvPr/>
        </p:nvSpPr>
        <p:spPr>
          <a:xfrm>
            <a:off x="1503360" y="1076400"/>
            <a:ext cx="707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русском языке есть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ХИТРЫЕ БУК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https://ds05.infourok.ru/uploads/ex/119c/0009d59b-ba8fdbe0/hello_html_f45814a.jpg"/>
          <p:cNvPicPr/>
          <p:nvPr/>
        </p:nvPicPr>
        <p:blipFill>
          <a:blip r:embed="rId4"/>
          <a:srcRect l="465" t="50865" r="85305" b="4776"/>
          <a:stretch/>
        </p:blipFill>
        <p:spPr>
          <a:xfrm>
            <a:off x="3168720" y="4059360"/>
            <a:ext cx="2770200" cy="1162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ttps://ds05.infourok.ru/uploads/ex/119c/0009d59b-ba8fdbe0/hello_html_f45814a.jpg"/>
          <p:cNvPicPr/>
          <p:nvPr/>
        </p:nvPicPr>
        <p:blipFill>
          <a:blip r:embed="rId5"/>
          <a:srcRect l="19502" t="50865" r="76254" b="4776"/>
          <a:stretch/>
        </p:blipFill>
        <p:spPr>
          <a:xfrm>
            <a:off x="5938920" y="4060800"/>
            <a:ext cx="826920" cy="116208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21"/>
          <p:cNvSpPr/>
          <p:nvPr/>
        </p:nvSpPr>
        <p:spPr>
          <a:xfrm>
            <a:off x="3188160" y="5867280"/>
            <a:ext cx="9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а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2"/>
          <p:cNvSpPr/>
          <p:nvPr/>
        </p:nvSpPr>
        <p:spPr>
          <a:xfrm>
            <a:off x="4108680" y="5867280"/>
            <a:ext cx="95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о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3"/>
          <p:cNvSpPr/>
          <p:nvPr/>
        </p:nvSpPr>
        <p:spPr>
          <a:xfrm>
            <a:off x="5032800" y="5867280"/>
            <a:ext cx="9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у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4"/>
          <p:cNvSpPr/>
          <p:nvPr/>
        </p:nvSpPr>
        <p:spPr>
          <a:xfrm>
            <a:off x="5922360" y="5867280"/>
            <a:ext cx="92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э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авая фигурная скобка 1"/>
          <p:cNvSpPr/>
          <p:nvPr/>
        </p:nvSpPr>
        <p:spPr>
          <a:xfrm rot="5400000">
            <a:off x="4789440" y="3595680"/>
            <a:ext cx="360360" cy="361152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3611520"/>
              <a:gd name="textAreaBottom" fmla="*/ 3602160 h 361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"/>
                  <a:pt x="10800" y="180"/>
                </a:cubicBezTo>
                <a:lnTo>
                  <a:pt x="10800" y="10620"/>
                </a:lnTo>
                <a:cubicBezTo>
                  <a:pt x="10800" y="10710"/>
                  <a:pt x="16200" y="10800"/>
                  <a:pt x="21600" y="10800"/>
                </a:cubicBezTo>
                <a:cubicBezTo>
                  <a:pt x="16200" y="10800"/>
                  <a:pt x="10800" y="10890"/>
                  <a:pt x="10800" y="10980"/>
                </a:cubicBezTo>
                <a:lnTo>
                  <a:pt x="10800" y="21420"/>
                </a:lnTo>
                <a:cubicBezTo>
                  <a:pt x="10800" y="2151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3387240" y="5527800"/>
            <a:ext cx="316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ле соглас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://www.aljanh.net/data/archive/img/3339595273.pn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2" descr=""/>
          <p:cNvPicPr/>
          <p:nvPr/>
        </p:nvPicPr>
        <p:blipFill>
          <a:blip r:embed="rId2"/>
          <a:stretch/>
        </p:blipFill>
        <p:spPr>
          <a:xfrm>
            <a:off x="390600" y="353880"/>
            <a:ext cx="3200400" cy="932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https://ds05.infourok.ru/uploads/ex/119c/0009d59b-ba8fdbe0/hello_html_f45814a.jpg"/>
          <p:cNvPicPr/>
          <p:nvPr/>
        </p:nvPicPr>
        <p:blipFill>
          <a:blip r:embed="rId3"/>
          <a:srcRect l="465" t="50865" r="85305" b="4776"/>
          <a:stretch/>
        </p:blipFill>
        <p:spPr>
          <a:xfrm>
            <a:off x="3168720" y="4059360"/>
            <a:ext cx="2770200" cy="1162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https://ds05.infourok.ru/uploads/ex/119c/0009d59b-ba8fdbe0/hello_html_f45814a.jpg"/>
          <p:cNvPicPr/>
          <p:nvPr/>
        </p:nvPicPr>
        <p:blipFill>
          <a:blip r:embed="rId4"/>
          <a:srcRect l="19502" t="50865" r="76254" b="4776"/>
          <a:stretch/>
        </p:blipFill>
        <p:spPr>
          <a:xfrm>
            <a:off x="5938920" y="4060800"/>
            <a:ext cx="826920" cy="116208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21"/>
          <p:cNvSpPr/>
          <p:nvPr/>
        </p:nvSpPr>
        <p:spPr>
          <a:xfrm>
            <a:off x="3188160" y="5867280"/>
            <a:ext cx="9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а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2"/>
          <p:cNvSpPr/>
          <p:nvPr/>
        </p:nvSpPr>
        <p:spPr>
          <a:xfrm>
            <a:off x="4108680" y="5867280"/>
            <a:ext cx="95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о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3"/>
          <p:cNvSpPr/>
          <p:nvPr/>
        </p:nvSpPr>
        <p:spPr>
          <a:xfrm>
            <a:off x="5032800" y="5867280"/>
            <a:ext cx="9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у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4"/>
          <p:cNvSpPr/>
          <p:nvPr/>
        </p:nvSpPr>
        <p:spPr>
          <a:xfrm>
            <a:off x="5922360" y="5867280"/>
            <a:ext cx="92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э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авая фигурная скобка 1"/>
          <p:cNvSpPr/>
          <p:nvPr/>
        </p:nvSpPr>
        <p:spPr>
          <a:xfrm rot="5400000">
            <a:off x="4789440" y="3595680"/>
            <a:ext cx="360360" cy="361152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3611520"/>
              <a:gd name="textAreaBottom" fmla="*/ 3602160 h 361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"/>
                  <a:pt x="10800" y="180"/>
                </a:cubicBezTo>
                <a:lnTo>
                  <a:pt x="10800" y="10620"/>
                </a:lnTo>
                <a:cubicBezTo>
                  <a:pt x="10800" y="10710"/>
                  <a:pt x="16200" y="10800"/>
                  <a:pt x="21600" y="10800"/>
                </a:cubicBezTo>
                <a:cubicBezTo>
                  <a:pt x="16200" y="10800"/>
                  <a:pt x="10800" y="10890"/>
                  <a:pt x="10800" y="10980"/>
                </a:cubicBezTo>
                <a:lnTo>
                  <a:pt x="10800" y="21420"/>
                </a:lnTo>
                <a:cubicBezTo>
                  <a:pt x="10800" y="2151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3387240" y="5527800"/>
            <a:ext cx="316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ле соглас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авая фигурная скобка 13"/>
          <p:cNvSpPr/>
          <p:nvPr/>
        </p:nvSpPr>
        <p:spPr>
          <a:xfrm rot="16200000">
            <a:off x="4785480" y="2045160"/>
            <a:ext cx="360360" cy="360972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3609720"/>
              <a:gd name="textAreaBottom" fmla="*/ 3600360 h 360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"/>
                  <a:pt x="10800" y="180"/>
                </a:cubicBezTo>
                <a:lnTo>
                  <a:pt x="10800" y="10620"/>
                </a:lnTo>
                <a:cubicBezTo>
                  <a:pt x="10800" y="10710"/>
                  <a:pt x="16200" y="10800"/>
                  <a:pt x="21600" y="10800"/>
                </a:cubicBezTo>
                <a:cubicBezTo>
                  <a:pt x="16200" y="10800"/>
                  <a:pt x="10800" y="10890"/>
                  <a:pt x="10800" y="10980"/>
                </a:cubicBezTo>
                <a:lnTo>
                  <a:pt x="10800" y="21420"/>
                </a:lnTo>
                <a:cubicBezTo>
                  <a:pt x="10800" y="2151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6"/>
          <p:cNvSpPr/>
          <p:nvPr/>
        </p:nvSpPr>
        <p:spPr>
          <a:xfrm>
            <a:off x="7018920" y="3240000"/>
            <a:ext cx="20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ле ь, 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7"/>
          <p:cNvSpPr/>
          <p:nvPr/>
        </p:nvSpPr>
        <p:spPr>
          <a:xfrm>
            <a:off x="2141280" y="2103480"/>
            <a:ext cx="146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00b050"/>
                </a:solidFill>
                <a:latin typeface="Arial"/>
              </a:rPr>
              <a:t>й</a:t>
            </a:r>
            <a:r>
              <a:rPr b="1" lang="en-US" sz="4800" spc="-1" strike="noStrike">
                <a:solidFill>
                  <a:srgbClr val="00b050"/>
                </a:solidFill>
                <a:latin typeface="Arial"/>
              </a:rPr>
              <a:t>’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а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25"/>
          <p:cNvSpPr/>
          <p:nvPr/>
        </p:nvSpPr>
        <p:spPr>
          <a:xfrm>
            <a:off x="3557520" y="2103480"/>
            <a:ext cx="150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00b050"/>
                </a:solidFill>
                <a:latin typeface="Arial"/>
              </a:rPr>
              <a:t>й</a:t>
            </a:r>
            <a:r>
              <a:rPr b="1" lang="en-US" sz="4800" spc="-1" strike="noStrike">
                <a:solidFill>
                  <a:srgbClr val="00b050"/>
                </a:solidFill>
                <a:latin typeface="Arial"/>
              </a:rPr>
              <a:t>’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о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26"/>
          <p:cNvSpPr/>
          <p:nvPr/>
        </p:nvSpPr>
        <p:spPr>
          <a:xfrm>
            <a:off x="5006880" y="2103480"/>
            <a:ext cx="146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00b050"/>
                </a:solidFill>
                <a:latin typeface="Arial"/>
              </a:rPr>
              <a:t>й</a:t>
            </a:r>
            <a:r>
              <a:rPr b="1" lang="en-US" sz="4800" spc="-1" strike="noStrike">
                <a:solidFill>
                  <a:srgbClr val="00b050"/>
                </a:solidFill>
                <a:latin typeface="Arial"/>
              </a:rPr>
              <a:t>’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у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27"/>
          <p:cNvSpPr/>
          <p:nvPr/>
        </p:nvSpPr>
        <p:spPr>
          <a:xfrm>
            <a:off x="6447600" y="2103480"/>
            <a:ext cx="146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00b050"/>
                </a:solidFill>
                <a:latin typeface="Arial"/>
              </a:rPr>
              <a:t>й</a:t>
            </a:r>
            <a:r>
              <a:rPr b="1" lang="en-US" sz="4800" spc="-1" strike="noStrike">
                <a:solidFill>
                  <a:srgbClr val="00b050"/>
                </a:solidFill>
                <a:latin typeface="Arial"/>
              </a:rPr>
              <a:t>’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э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5"/>
          <p:cNvSpPr/>
          <p:nvPr/>
        </p:nvSpPr>
        <p:spPr>
          <a:xfrm>
            <a:off x="2840040" y="2949480"/>
            <a:ext cx="809640" cy="1096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7"/>
          <p:cNvSpPr/>
          <p:nvPr/>
        </p:nvSpPr>
        <p:spPr>
          <a:xfrm flipH="1">
            <a:off x="6353280" y="2973240"/>
            <a:ext cx="814320" cy="10573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9"/>
          <p:cNvSpPr/>
          <p:nvPr/>
        </p:nvSpPr>
        <p:spPr>
          <a:xfrm>
            <a:off x="4281480" y="2948040"/>
            <a:ext cx="271440" cy="1096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11"/>
          <p:cNvSpPr/>
          <p:nvPr/>
        </p:nvSpPr>
        <p:spPr>
          <a:xfrm flipH="1">
            <a:off x="5495760" y="2944800"/>
            <a:ext cx="255600" cy="10857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"/>
          <p:cNvSpPr/>
          <p:nvPr/>
        </p:nvSpPr>
        <p:spPr>
          <a:xfrm>
            <a:off x="719280" y="3763800"/>
            <a:ext cx="2376360" cy="109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РЬ,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Ё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ЖИ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Ю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А,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24"/>
          <p:cNvSpPr/>
          <p:nvPr/>
        </p:nvSpPr>
        <p:spPr>
          <a:xfrm>
            <a:off x="3848040" y="1009800"/>
            <a:ext cx="2374920" cy="1095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А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, П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О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Ё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, Т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А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Ю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Р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О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28"/>
          <p:cNvSpPr/>
          <p:nvPr/>
        </p:nvSpPr>
        <p:spPr>
          <a:xfrm>
            <a:off x="6851520" y="3763800"/>
            <a:ext cx="2509920" cy="109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ЕЗ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Ь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, ОБ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Ъ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Ё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, СОЛ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Ь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Ю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ОБ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Ъ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4"/>
          <p:cNvSpPr/>
          <p:nvPr/>
        </p:nvSpPr>
        <p:spPr>
          <a:xfrm>
            <a:off x="581400" y="3240000"/>
            <a:ext cx="289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начале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5"/>
          <p:cNvSpPr/>
          <p:nvPr/>
        </p:nvSpPr>
        <p:spPr>
          <a:xfrm>
            <a:off x="3750120" y="3240000"/>
            <a:ext cx="27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ле глас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http://www.aljanh.net/data/archive/img/3339595273.pn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117" name="Прямоугольник 2" descr=""/>
          <p:cNvPicPr/>
          <p:nvPr/>
        </p:nvPicPr>
        <p:blipFill>
          <a:blip r:embed="rId2"/>
          <a:stretch/>
        </p:blipFill>
        <p:spPr>
          <a:xfrm>
            <a:off x="360360" y="384120"/>
            <a:ext cx="2230560" cy="93204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21"/>
          <p:cNvSpPr/>
          <p:nvPr/>
        </p:nvSpPr>
        <p:spPr>
          <a:xfrm>
            <a:off x="866520" y="2089080"/>
            <a:ext cx="694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вет, маяк, ведро, ряби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4"/>
          <p:cNvSpPr/>
          <p:nvPr/>
        </p:nvSpPr>
        <p:spPr>
          <a:xfrm>
            <a:off x="558720" y="1082520"/>
            <a:ext cx="90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дите слово, в котором гласная дает два зв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8"/>
          <p:cNvSpPr/>
          <p:nvPr/>
        </p:nvSpPr>
        <p:spPr>
          <a:xfrm>
            <a:off x="893880" y="2911320"/>
            <a:ext cx="768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емён, ёлка, вьюга, тюльпа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6"/>
          <p:cNvSpPr/>
          <p:nvPr/>
        </p:nvSpPr>
        <p:spPr>
          <a:xfrm>
            <a:off x="866520" y="2089080"/>
            <a:ext cx="694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вет,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, ведро, ряби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7"/>
          <p:cNvSpPr/>
          <p:nvPr/>
        </p:nvSpPr>
        <p:spPr>
          <a:xfrm>
            <a:off x="898560" y="2911320"/>
            <a:ext cx="768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емён,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ё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ка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ь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ю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а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, тюльпа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http://www.aljanh.net/data/archive/img/3339595273.pn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124" name="Прямоугольник 2" descr=""/>
          <p:cNvPicPr/>
          <p:nvPr/>
        </p:nvPicPr>
        <p:blipFill>
          <a:blip r:embed="rId2"/>
          <a:stretch/>
        </p:blipFill>
        <p:spPr>
          <a:xfrm>
            <a:off x="573120" y="353880"/>
            <a:ext cx="2828880" cy="93204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21"/>
          <p:cNvSpPr/>
          <p:nvPr/>
        </p:nvSpPr>
        <p:spPr>
          <a:xfrm>
            <a:off x="795960" y="1922400"/>
            <a:ext cx="8504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Мечта, пони, юбка, набор, якор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енот, веник, весна, друг, ёжик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емь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4"/>
          <p:cNvSpPr/>
          <p:nvPr/>
        </p:nvSpPr>
        <p:spPr>
          <a:xfrm>
            <a:off x="657720" y="1077840"/>
            <a:ext cx="876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ыпишите слова, в котором гласная дает два зву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" descr="http://new.landingi.com/uploads/ffd17dd0a0dc4804d988/pictures/9371d46159030c0a0221f69df669e420.jpg"/>
          <p:cNvPicPr/>
          <p:nvPr/>
        </p:nvPicPr>
        <p:blipFill>
          <a:blip r:embed="rId1"/>
          <a:stretch/>
        </p:blipFill>
        <p:spPr>
          <a:xfrm>
            <a:off x="7272360" y="0"/>
            <a:ext cx="2808360" cy="4284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8" name="Picture 3" descr="http://tausmeta.ru/cmsPages/dock.png"/>
          <p:cNvPicPr/>
          <p:nvPr/>
        </p:nvPicPr>
        <p:blipFill>
          <a:blip r:embed="rId2"/>
          <a:stretch/>
        </p:blipFill>
        <p:spPr>
          <a:xfrm>
            <a:off x="7777080" y="5651640"/>
            <a:ext cx="1765440" cy="180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9" name="Picture 4" descr="http://nachalo4ka.ru/wp-content/uploads/2014/08/uchitelnitsa-u-doski.png"/>
          <p:cNvPicPr/>
          <p:nvPr/>
        </p:nvPicPr>
        <p:blipFill>
          <a:blip r:embed="rId3"/>
          <a:stretch/>
        </p:blipFill>
        <p:spPr>
          <a:xfrm>
            <a:off x="0" y="0"/>
            <a:ext cx="6283440" cy="7559640"/>
          </a:xfrm>
          <a:prstGeom prst="rect">
            <a:avLst/>
          </a:prstGeom>
          <a:ln w="0">
            <a:noFill/>
          </a:ln>
        </p:spPr>
      </p:pic>
      <p:pic>
        <p:nvPicPr>
          <p:cNvPr id="130" name="Прямоугольник 2" descr=""/>
          <p:cNvPicPr/>
          <p:nvPr/>
        </p:nvPicPr>
        <p:blipFill>
          <a:blip r:embed="rId4"/>
          <a:stretch/>
        </p:blipFill>
        <p:spPr>
          <a:xfrm>
            <a:off x="2620800" y="969840"/>
            <a:ext cx="317664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5:18:47Z</dcterms:created>
  <dc:creator>Юлия Пилипенко</dc:creator>
  <dc:description/>
  <dc:language>en-US</dc:language>
  <cp:lastModifiedBy>Никита</cp:lastModifiedBy>
  <dcterms:modified xsi:type="dcterms:W3CDTF">2022-01-30T18:29:27Z</dcterms:modified>
  <cp:revision>140</cp:revision>
  <dc:subject/>
  <dc:title>Презентация PowerPoint</dc:title>
</cp:coreProperties>
</file>