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46.png" ContentType="image/png"/>
  <Override PartName="/ppt/media/image45.jpeg" ContentType="image/jpeg"/>
  <Override PartName="/ppt/media/image48.png" ContentType="image/png"/>
  <Override PartName="/ppt/media/image43.jpeg" ContentType="image/jpeg"/>
  <Override PartName="/ppt/media/image35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1.jpeg" ContentType="image/jpeg"/>
  <Override PartName="/ppt/media/image47.png" ContentType="image/png"/>
  <Override PartName="/ppt/media/image22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39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77.png" ContentType="image/png"/>
  <Override PartName="/ppt/media/image4.jpeg" ContentType="image/jpeg"/>
  <Override PartName="/ppt/media/image2.jpeg" ContentType="image/jpeg"/>
  <Override PartName="/ppt/media/image3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76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5.jpeg" ContentType="image/jpeg"/>
  <Override PartName="/ppt/media/image49.png" ContentType="image/png"/>
  <Override PartName="/ppt/media/image8.png" ContentType="image/png"/>
  <Override PartName="/ppt/media/image23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7.jpeg" ContentType="image/jpeg"/>
  <Override PartName="/ppt/media/image69.png" ContentType="image/png"/>
  <Override PartName="/ppt/media/image25.jpeg" ContentType="image/jpeg"/>
  <Override PartName="/ppt/media/image62.jpeg" ContentType="image/jpeg"/>
  <Override PartName="/ppt/media/image5.jpeg" ContentType="image/jpeg"/>
  <Override PartName="/ppt/media/image24.jpeg" ContentType="image/jpeg"/>
  <Override PartName="/ppt/media/image2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51.jpeg" ContentType="image/jpeg"/>
  <Override PartName="/ppt/media/image12.jpeg" ContentType="image/jpeg"/>
  <Override PartName="/ppt/media/image28.jpeg" ContentType="image/jpeg"/>
  <Override PartName="/ppt/media/image11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75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119-AB88-4E40-AD39-28C8C417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ACC-B9D0-45EE-862D-92C08AAE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D8C-42A9-4A81-9788-2ABD6C8E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76E-6F38-4D2E-AC50-6D3096A8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E99-6D45-40AA-AF3B-C2C12528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0A1-953A-4A7E-871B-EF169B18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74D-83E0-44E2-88C1-2A2409D4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DB6-070E-45EF-A67F-EC6F8A55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FC3-FC79-4358-A586-160AAA89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387-4FF0-4E68-A9BF-8F235577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C47-95C9-47B2-8554-D55FA5FD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4CD-9D94-49C4-B692-FCA5807A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DA48-3BD5-4452-B1C0-AC845E0F4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image" Target="../media/image59.jpeg"/><Relationship Id="rId11" Type="http://schemas.openxmlformats.org/officeDocument/2006/relationships/image" Target="../media/image60.jpeg"/><Relationship Id="rId12" Type="http://schemas.openxmlformats.org/officeDocument/2006/relationships/image" Target="../media/image61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469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c0066"/>
                </a:solidFill>
                <a:latin typeface="Arial"/>
                <a:ea typeface="Arial"/>
              </a:rPr>
              <a:t>Дифференциация звуков [р]-[л] в словах и предложения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http://childpictures.ru/dlya-sadika/dlya-oformleniya/na-shkafchik/image.raw?view=image&amp;type=img&amp;id=3849"/>
          <p:cNvPicPr/>
          <p:nvPr/>
        </p:nvPicPr>
        <p:blipFill>
          <a:blip r:embed="rId1"/>
          <a:stretch/>
        </p:blipFill>
        <p:spPr>
          <a:xfrm>
            <a:off x="395280" y="4005360"/>
            <a:ext cx="3960720" cy="27367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http://childpictures.ru/dlya-sadika/dlya-oformleniya/na-shkafchik/image.raw?view=image&amp;type=img&amp;id=3854"/>
          <p:cNvPicPr/>
          <p:nvPr/>
        </p:nvPicPr>
        <p:blipFill>
          <a:blip r:embed="rId2"/>
          <a:stretch/>
        </p:blipFill>
        <p:spPr>
          <a:xfrm>
            <a:off x="4500720" y="189000"/>
            <a:ext cx="3887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77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ится …ч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олнечных …ч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или нам ю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м с ней иг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ает …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ать с поля …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ую мет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или кенгу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мой про…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т го…б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706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836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злика …ж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Мишки …ж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мина стоит т…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го сел с…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роны пе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ром унес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л большой п…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л им к…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ле стоит п…ш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всего лишь к…ш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560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ают больно кома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и очень ма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иг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ивали мы го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т лес боб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одясь без пи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стольной иг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нужны сто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ятся …б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я у…б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обери ягодный урожа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cc0066"/>
                </a:solidFill>
                <a:latin typeface="Calibri"/>
              </a:rPr>
              <a:t>Р-Рь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cc0066"/>
                </a:solidFill>
                <a:latin typeface="Calibri"/>
              </a:rPr>
              <a:t>Л-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жовник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родина                  Клуб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ник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шка                      Ря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ква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8" descr="http://shop.chaiknet.ru/imagess/products/1548/1548126/product.jpg?1372160972"/>
          <p:cNvPicPr/>
          <p:nvPr/>
        </p:nvPicPr>
        <p:blipFill>
          <a:blip r:embed="rId1"/>
          <a:stretch/>
        </p:blipFill>
        <p:spPr>
          <a:xfrm>
            <a:off x="826920" y="115920"/>
            <a:ext cx="1229040" cy="13683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http://shop.chaiknet.ru/imagess/products/1548/1548126/product.jpg?1372160972"/>
          <p:cNvPicPr/>
          <p:nvPr/>
        </p:nvPicPr>
        <p:blipFill>
          <a:blip r:embed="rId2"/>
          <a:stretch/>
        </p:blipFill>
        <p:spPr>
          <a:xfrm>
            <a:off x="6875640" y="115920"/>
            <a:ext cx="1228680" cy="1324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0" descr="http://www.purespadirect.com/v/vspfiles/assets/images/bilberry.jpg"/>
          <p:cNvPicPr/>
          <p:nvPr/>
        </p:nvPicPr>
        <p:blipFill>
          <a:blip r:embed="rId3"/>
          <a:stretch/>
        </p:blipFill>
        <p:spPr>
          <a:xfrm>
            <a:off x="5580000" y="1268280"/>
            <a:ext cx="941400" cy="1008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1" descr="http://www.tumentoday.ru/wp-content/uploads/2011/06/110_20-3.jpg"/>
          <p:cNvPicPr/>
          <p:nvPr/>
        </p:nvPicPr>
        <p:blipFill>
          <a:blip r:embed="rId4"/>
          <a:stretch/>
        </p:blipFill>
        <p:spPr>
          <a:xfrm>
            <a:off x="3132000" y="1268280"/>
            <a:ext cx="989280" cy="1008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2" descr="http://www.stihi.ru/pics/2013/07/12/5489.jpg"/>
          <p:cNvPicPr/>
          <p:nvPr/>
        </p:nvPicPr>
        <p:blipFill>
          <a:blip r:embed="rId5"/>
          <a:stretch/>
        </p:blipFill>
        <p:spPr>
          <a:xfrm>
            <a:off x="1908000" y="2421000"/>
            <a:ext cx="1224000" cy="1068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3" descr="http://discussiya.com/wp-content/uploads/2009/07/black-currant.jpg"/>
          <p:cNvPicPr/>
          <p:nvPr/>
        </p:nvPicPr>
        <p:blipFill>
          <a:blip r:embed="rId6"/>
          <a:stretch/>
        </p:blipFill>
        <p:spPr>
          <a:xfrm>
            <a:off x="4716360" y="2565360"/>
            <a:ext cx="115596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4" descr="http://thebester.ru/uploads/images/00/60/57/2011/10/07/459a328bff.jpg"/>
          <p:cNvPicPr/>
          <p:nvPr/>
        </p:nvPicPr>
        <p:blipFill>
          <a:blip r:embed="rId7"/>
          <a:stretch/>
        </p:blipFill>
        <p:spPr>
          <a:xfrm>
            <a:off x="7380360" y="2349360"/>
            <a:ext cx="1406520" cy="10810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5" descr="http://img.velvet.by/files/userfiles/7/zemlyanika-thumb.jpg"/>
          <p:cNvPicPr/>
          <p:nvPr/>
        </p:nvPicPr>
        <p:blipFill>
          <a:blip r:embed="rId8"/>
          <a:stretch/>
        </p:blipFill>
        <p:spPr>
          <a:xfrm>
            <a:off x="395280" y="3500280"/>
            <a:ext cx="1152360" cy="12970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6" descr="http://www.samara-photo.ru/images/49626ee976bc8.jpg"/>
          <p:cNvPicPr/>
          <p:nvPr/>
        </p:nvPicPr>
        <p:blipFill>
          <a:blip r:embed="rId9"/>
          <a:stretch/>
        </p:blipFill>
        <p:spPr>
          <a:xfrm>
            <a:off x="3203640" y="4149720"/>
            <a:ext cx="1584360" cy="11826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7" descr="http://vitaminkka.ru/Frukti/produkt_icon/rjabina_obyknovennaja.jpg"/>
          <p:cNvPicPr/>
          <p:nvPr/>
        </p:nvPicPr>
        <p:blipFill>
          <a:blip r:embed="rId10"/>
          <a:stretch/>
        </p:blipFill>
        <p:spPr>
          <a:xfrm>
            <a:off x="6084720" y="3860640"/>
            <a:ext cx="1595520" cy="1008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8" descr="http://www.mkotovskaya.ru/UPLOAD/2013/06/02/benzoat-natriya_0_0.jpg"/>
          <p:cNvPicPr/>
          <p:nvPr/>
        </p:nvPicPr>
        <p:blipFill>
          <a:blip r:embed="rId11"/>
          <a:stretch/>
        </p:blipFill>
        <p:spPr>
          <a:xfrm>
            <a:off x="1476360" y="530064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9" descr="http://www.edelgarden.ru/filestore/uploaded/hannas%20choise_279_110_267_full.jpg"/>
          <p:cNvPicPr/>
          <p:nvPr/>
        </p:nvPicPr>
        <p:blipFill>
          <a:blip r:embed="rId12"/>
          <a:stretch/>
        </p:blipFill>
        <p:spPr>
          <a:xfrm>
            <a:off x="6012000" y="5445000"/>
            <a:ext cx="1224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авильно прочитай фразы, вставляя буквы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907920"/>
            <a:ext cx="903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.асивое об…ак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…ские во…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…абый вете…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…ый па…ус.         …озовое п…ат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…убой ка…анда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3" descr="http://a2.tcdn.ru/assets/att/fb/e3/3998527_82966_5802380_25_loshad-obl.jpg"/>
          <p:cNvPicPr/>
          <p:nvPr/>
        </p:nvPicPr>
        <p:blipFill>
          <a:blip r:embed="rId1"/>
          <a:stretch/>
        </p:blipFill>
        <p:spPr>
          <a:xfrm>
            <a:off x="3348000" y="83664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http://stat18.privet.ru/lr/0a280a04baef21ed80e555f4c35ff916"/>
          <p:cNvPicPr/>
          <p:nvPr/>
        </p:nvPicPr>
        <p:blipFill>
          <a:blip r:embed="rId2"/>
          <a:stretch/>
        </p:blipFill>
        <p:spPr>
          <a:xfrm>
            <a:off x="6084720" y="907920"/>
            <a:ext cx="2238480" cy="1297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http://img-fotki.yandex.ru/get/6106/158320095.32/0_73c6d_527f6876_XL"/>
          <p:cNvPicPr/>
          <p:nvPr/>
        </p:nvPicPr>
        <p:blipFill>
          <a:blip r:embed="rId3"/>
          <a:stretch/>
        </p:blipFill>
        <p:spPr>
          <a:xfrm>
            <a:off x="3348000" y="2349360"/>
            <a:ext cx="1812960" cy="1656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http://www.superyachttimes.com/articles/Image/Companies/Dahm-International/2011-02-Two-Yachts-Sold/Fidel-big.jpg"/>
          <p:cNvPicPr/>
          <p:nvPr/>
        </p:nvPicPr>
        <p:blipFill>
          <a:blip r:embed="rId4"/>
          <a:stretch/>
        </p:blipFill>
        <p:spPr>
          <a:xfrm>
            <a:off x="250920" y="3645000"/>
            <a:ext cx="2233440" cy="1655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http://www.adensya.ru/ui/dasha-korneeva/image/588073.jpg"/>
          <p:cNvPicPr/>
          <p:nvPr/>
        </p:nvPicPr>
        <p:blipFill>
          <a:blip r:embed="rId5"/>
          <a:stretch/>
        </p:blipFill>
        <p:spPr>
          <a:xfrm>
            <a:off x="6659640" y="2637000"/>
            <a:ext cx="1014480" cy="1944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http://torgdecor.com/files/uploads/2013/02/110_032.jpg"/>
          <p:cNvPicPr/>
          <p:nvPr/>
        </p:nvPicPr>
        <p:blipFill>
          <a:blip r:embed="rId6"/>
          <a:stretch/>
        </p:blipFill>
        <p:spPr>
          <a:xfrm>
            <a:off x="4716360" y="5373720"/>
            <a:ext cx="3456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равильно прочитай скороговор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Метил в ворон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А попал в воробь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Метил в воробь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А попал в журав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Егор поймал большого ра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И вышла из-за рака дра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Это Фёдор- забия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Снова в воду бросил ра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Шёл спозаран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Назар на баз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Купил там ко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И корзинку Наз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http://sovetskiymultik.at.ua/_ph/215/633836606.jpg"/>
          <p:cNvPicPr/>
          <p:nvPr/>
        </p:nvPicPr>
        <p:blipFill>
          <a:blip r:embed="rId1"/>
          <a:stretch/>
        </p:blipFill>
        <p:spPr>
          <a:xfrm>
            <a:off x="4427640" y="907920"/>
            <a:ext cx="1985760" cy="20894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http://sajatutad.hu/wp-content/uploads/2009/01/rak.gif"/>
          <p:cNvPicPr/>
          <p:nvPr/>
        </p:nvPicPr>
        <p:blipFill>
          <a:blip r:embed="rId2"/>
          <a:stretch/>
        </p:blipFill>
        <p:spPr>
          <a:xfrm>
            <a:off x="1332000" y="292428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www.pedlib.ru/books1/5/0236/image094.jpg"/>
          <p:cNvPicPr/>
          <p:nvPr/>
        </p:nvPicPr>
        <p:blipFill>
          <a:blip r:embed="rId3"/>
          <a:stretch/>
        </p:blipFill>
        <p:spPr>
          <a:xfrm>
            <a:off x="3643200" y="5000760"/>
            <a:ext cx="38577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ставь пропущенные буквы 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-Л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в слова и прочитай стихотво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болов, _ыбол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асскажи п_о свой у_ов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_п ушёл и вся п_о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о _одки п_оплы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_ась с крючка сорва_с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у_ова я оста_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зато попалась г_ел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_ь, стре_а, _улон, та_ел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ме_ад, жу_на_, кры_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айти такой ул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?.. В Во_шебном ми_е слов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3" descr="http://mediasubs.ru/group/uploads/fo/formula-schastya/image2/IyMDUzMTI.jpg"/>
          <p:cNvPicPr/>
          <p:nvPr/>
        </p:nvPicPr>
        <p:blipFill>
          <a:blip r:embed="rId1"/>
          <a:stretch/>
        </p:blipFill>
        <p:spPr>
          <a:xfrm>
            <a:off x="5435640" y="1700280"/>
            <a:ext cx="316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Нарисуй красочную иллюстрацию к прочитанному стихотвор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6" descr="http://floksmix.ucoz.ru/85332655068486.jpg"/>
          <p:cNvPicPr/>
          <p:nvPr/>
        </p:nvPicPr>
        <p:blipFill>
          <a:blip r:embed="rId1"/>
          <a:stretch/>
        </p:blipFill>
        <p:spPr>
          <a:xfrm>
            <a:off x="539640" y="1268280"/>
            <a:ext cx="2664000" cy="23529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http://im7-tub-ru.yandex.net/i?id=60195754-50-72&amp;n=21"/>
          <p:cNvPicPr/>
          <p:nvPr/>
        </p:nvPicPr>
        <p:blipFill>
          <a:blip r:embed="rId2"/>
          <a:stretch/>
        </p:blipFill>
        <p:spPr>
          <a:xfrm>
            <a:off x="6012000" y="1484280"/>
            <a:ext cx="2501640" cy="1800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http://content.schools.by/novsad2/library/2356_html_5d831735.jpg"/>
          <p:cNvPicPr/>
          <p:nvPr/>
        </p:nvPicPr>
        <p:blipFill>
          <a:blip r:embed="rId3"/>
          <a:stretch/>
        </p:blipFill>
        <p:spPr>
          <a:xfrm>
            <a:off x="395280" y="4005360"/>
            <a:ext cx="288144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http://stat20.privet.ru/lr/0c067565fe31abcfb07f7d51b597842d"/>
          <p:cNvPicPr/>
          <p:nvPr/>
        </p:nvPicPr>
        <p:blipFill>
          <a:blip r:embed="rId4"/>
          <a:stretch/>
        </p:blipFill>
        <p:spPr>
          <a:xfrm>
            <a:off x="3564000" y="2349360"/>
            <a:ext cx="1998720" cy="29512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http://www.ozedu.ru/files/u1077/fileZqxF39_3.jpg"/>
          <p:cNvPicPr/>
          <p:nvPr/>
        </p:nvPicPr>
        <p:blipFill>
          <a:blip r:embed="rId5"/>
          <a:stretch/>
        </p:blipFill>
        <p:spPr>
          <a:xfrm>
            <a:off x="5724360" y="4076640"/>
            <a:ext cx="3213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Молодцы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6" descr="http://stat18.privet.ru/lr/0a2d48492dfc3cdc859ba1676d6e8da3"/>
          <p:cNvPicPr/>
          <p:nvPr/>
        </p:nvPicPr>
        <p:blipFill>
          <a:blip r:embed="rId1"/>
          <a:stretch/>
        </p:blipFill>
        <p:spPr>
          <a:xfrm>
            <a:off x="1547640" y="1125360"/>
            <a:ext cx="4608720" cy="45975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7740720" y="5589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Артикуляционная гимнастика со звуками </a:t>
            </a:r>
            <a:r>
              <a:rPr b="0" lang="ru-RU" sz="2400" spc="-1" strike="noStrike">
                <a:solidFill>
                  <a:srgbClr val="dd7e0e"/>
                </a:solidFill>
                <a:latin typeface="Calibri"/>
              </a:rPr>
              <a:t>[р]-[л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475920"/>
            <a:ext cx="8785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Ленивый язычок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аемся нешироко , показываем широкий кончик языка и не напрягая языка слегка покусываем кончик, чтобы не ленил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 Облизываем варенье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открываем рот и широким языком облизываем верхнюю и нижнюю губ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 Лошадка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аемся , широко открыт рот и цокаем, как лошадка, кончиком языка по бугоркам за верхними зуб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Болтушка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широко улыбаемся, рот приоткрыт, быстрое движение вперед-назад широким кончиком языка между губами со звуком Б-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Грибочек»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открываем рот, крепко прижимаем широкий язык к нёбу так, чтобы была видна напряжённая уздечка- ножка грибочка, а язык стал похож на его шляпк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Заведем мотор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носиком глубокий вдох и на выдохе длительно произносим  Р-Р-Р-Р-Р-Р-Р-Р-Р-Р, (можно использовать различные звуковые дорожки , например едет машинка или мотоцикл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Погудим, как пароход»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аемся нешироко, закусываем широкий кончик языка и сердито низко гудим  Ы-Ы-Ы-Ы-Ы. ( Слышится звук Л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http://open.az/uploads/posts/2010-09/1284689275_guinness_world_records_01.jpg"/>
          <p:cNvPicPr/>
          <p:nvPr/>
        </p:nvPicPr>
        <p:blipFill>
          <a:blip r:embed="rId1"/>
          <a:stretch/>
        </p:blipFill>
        <p:spPr>
          <a:xfrm>
            <a:off x="3780000" y="765000"/>
            <a:ext cx="93636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http://cs11501.vk.me/v11501504/c7a/lgZJai7knB8.jpg"/>
          <p:cNvPicPr/>
          <p:nvPr/>
        </p:nvPicPr>
        <p:blipFill>
          <a:blip r:embed="rId2"/>
          <a:stretch/>
        </p:blipFill>
        <p:spPr>
          <a:xfrm>
            <a:off x="2916360" y="1773360"/>
            <a:ext cx="1062000" cy="792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http://im3-tub-ru.yandex.net/i?id=388366222-04-72&amp;n=21"/>
          <p:cNvPicPr/>
          <p:nvPr/>
        </p:nvPicPr>
        <p:blipFill>
          <a:blip r:embed="rId3"/>
          <a:stretch/>
        </p:blipFill>
        <p:spPr>
          <a:xfrm>
            <a:off x="5364000" y="1773360"/>
            <a:ext cx="911520" cy="718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http://1324a09.ucoz.ru/Otkrytki/loshadka1.jpg"/>
          <p:cNvPicPr/>
          <p:nvPr/>
        </p:nvPicPr>
        <p:blipFill>
          <a:blip r:embed="rId4"/>
          <a:stretch/>
        </p:blipFill>
        <p:spPr>
          <a:xfrm>
            <a:off x="2050920" y="2781360"/>
            <a:ext cx="1008360" cy="934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http://gynea.ru/forum/uploads/attachment/2013-06/mini_1372518794_ranjmxm0b48.jpg"/>
          <p:cNvPicPr/>
          <p:nvPr/>
        </p:nvPicPr>
        <p:blipFill>
          <a:blip r:embed="rId5"/>
          <a:stretch/>
        </p:blipFill>
        <p:spPr>
          <a:xfrm>
            <a:off x="5003640" y="2708280"/>
            <a:ext cx="1327320" cy="100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http://img-fotki.yandex.ru/get/6509/36014149.e7/0_75cd9_b1bf7c9e_XL"/>
          <p:cNvPicPr/>
          <p:nvPr/>
        </p:nvPicPr>
        <p:blipFill>
          <a:blip r:embed="rId6"/>
          <a:stretch/>
        </p:blipFill>
        <p:spPr>
          <a:xfrm>
            <a:off x="6084720" y="4292640"/>
            <a:ext cx="1151280" cy="100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http://www.my-speech.ru/pics/artikulacionnaa_gimnastika_1000011e.jpg"/>
          <p:cNvPicPr/>
          <p:nvPr/>
        </p:nvPicPr>
        <p:blipFill>
          <a:blip r:embed="rId7"/>
          <a:stretch/>
        </p:blipFill>
        <p:spPr>
          <a:xfrm>
            <a:off x="7451640" y="4437000"/>
            <a:ext cx="1292400" cy="750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http://lib.convdocs.org/pars_docs/refs/79/78039/78039_html_m4716e6cf.jpg"/>
          <p:cNvPicPr/>
          <p:nvPr/>
        </p:nvPicPr>
        <p:blipFill>
          <a:blip r:embed="rId8"/>
          <a:stretch/>
        </p:blipFill>
        <p:spPr>
          <a:xfrm>
            <a:off x="468360" y="4653000"/>
            <a:ext cx="129528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2" descr="http://neposedu.ru/wp-content/uploads/2013/01/paroxodik.jpg"/>
          <p:cNvPicPr/>
          <p:nvPr/>
        </p:nvPicPr>
        <p:blipFill>
          <a:blip r:embed="rId9"/>
          <a:stretch/>
        </p:blipFill>
        <p:spPr>
          <a:xfrm>
            <a:off x="3348000" y="5877000"/>
            <a:ext cx="1336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75a3"/>
                </a:solidFill>
                <a:latin typeface="Times New Roman"/>
                <a:ea typeface="Times New Roman"/>
              </a:rPr>
              <a:t>Игра «Запомни и повтор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268280"/>
            <a:ext cx="4537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-ра         ра-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-ро         ро-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у-ру          ру-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ы-ры        ры-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-ла-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-ро-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у-ру-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ы-лы-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579640" y="1268280"/>
            <a:ext cx="331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-ар          ар-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л-ор          ор-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-ур           ур-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-ир          ир-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-ар-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-ол-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-ур-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-ил-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iki.uspi.ru/images/8/85/%27%3Bph%2767676gh.jpeg"/>
          <p:cNvPicPr/>
          <p:nvPr/>
        </p:nvPicPr>
        <p:blipFill>
          <a:blip r:embed="rId1"/>
          <a:stretch/>
        </p:blipFill>
        <p:spPr>
          <a:xfrm>
            <a:off x="2987640" y="3213000"/>
            <a:ext cx="2521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Игра «Наоборот»-допиши слова, заменив Р на Л и наоб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к-                      …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м -                    …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ма-                    …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жки-                   …ож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http://school.xvatit.com/images/thumb/e/e6/1110%3Blkl22.jpg/800px-1110%3Blkl22.jpg"/>
          <p:cNvPicPr/>
          <p:nvPr/>
        </p:nvPicPr>
        <p:blipFill>
          <a:blip r:embed="rId1"/>
          <a:stretch/>
        </p:blipFill>
        <p:spPr>
          <a:xfrm>
            <a:off x="1042920" y="907920"/>
            <a:ext cx="187344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http://women.itop.net/content/files/images/2012/9/2012-9-25-11-27-57-652-14101.jpg"/>
          <p:cNvPicPr/>
          <p:nvPr/>
        </p:nvPicPr>
        <p:blipFill>
          <a:blip r:embed="rId2"/>
          <a:stretch/>
        </p:blipFill>
        <p:spPr>
          <a:xfrm>
            <a:off x="4140360" y="981000"/>
            <a:ext cx="172692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http://www.pop-a-harrys.com/images/categories/Butter%20Rum.jpg"/>
          <p:cNvPicPr/>
          <p:nvPr/>
        </p:nvPicPr>
        <p:blipFill>
          <a:blip r:embed="rId3"/>
          <a:stretch/>
        </p:blipFill>
        <p:spPr>
          <a:xfrm>
            <a:off x="1258920" y="2205000"/>
            <a:ext cx="1685880" cy="1314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http://www.shuruping.ru/shuruping/products/9f/34238/img.jpg"/>
          <p:cNvPicPr/>
          <p:nvPr/>
        </p:nvPicPr>
        <p:blipFill>
          <a:blip r:embed="rId4"/>
          <a:stretch/>
        </p:blipFill>
        <p:spPr>
          <a:xfrm>
            <a:off x="4284720" y="242100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http://upload.wikimedia.org/wikipedia/commons/8/88/Young_lama.jpg"/>
          <p:cNvPicPr/>
          <p:nvPr/>
        </p:nvPicPr>
        <p:blipFill>
          <a:blip r:embed="rId5"/>
          <a:stretch/>
        </p:blipFill>
        <p:spPr>
          <a:xfrm>
            <a:off x="1403280" y="3645000"/>
            <a:ext cx="1246320" cy="1296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http://prtara.ru/gallery/45.jpg"/>
          <p:cNvPicPr/>
          <p:nvPr/>
        </p:nvPicPr>
        <p:blipFill>
          <a:blip r:embed="rId6"/>
          <a:stretch/>
        </p:blipFill>
        <p:spPr>
          <a:xfrm>
            <a:off x="4427640" y="3716280"/>
            <a:ext cx="1296720" cy="1149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http://dynasound.ru/imgbase/tovmain/dnt999004986.jpg"/>
          <p:cNvPicPr/>
          <p:nvPr/>
        </p:nvPicPr>
        <p:blipFill>
          <a:blip r:embed="rId7"/>
          <a:stretch/>
        </p:blipFill>
        <p:spPr>
          <a:xfrm>
            <a:off x="1258920" y="5084640"/>
            <a:ext cx="146664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http://www.petsovet.ru/upload/iblock/2d9/kzhgf.jpg"/>
          <p:cNvPicPr/>
          <p:nvPr/>
        </p:nvPicPr>
        <p:blipFill>
          <a:blip r:embed="rId8"/>
          <a:stretch/>
        </p:blipFill>
        <p:spPr>
          <a:xfrm>
            <a:off x="4356000" y="5084640"/>
            <a:ext cx="14414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Игра «Наоборот»-допиши слова, заменив Р на Л и наоб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д-                      к…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зы-                      …о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л-                        ж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-                          б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http://kafa-info.com.ua/news_thumbs/knfa9241d37f34ae65501aa275c3fd41c07_800.jpg"/>
          <p:cNvPicPr/>
          <p:nvPr/>
        </p:nvPicPr>
        <p:blipFill>
          <a:blip r:embed="rId1"/>
          <a:stretch/>
        </p:blipFill>
        <p:spPr>
          <a:xfrm>
            <a:off x="826920" y="76500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2" descr="http://www.gamer.ru/system/attached_images/images/000/434/919/original/fotolia_24661847_s.jpg"/>
          <p:cNvPicPr/>
          <p:nvPr/>
        </p:nvPicPr>
        <p:blipFill>
          <a:blip r:embed="rId2"/>
          <a:stretch/>
        </p:blipFill>
        <p:spPr>
          <a:xfrm>
            <a:off x="3708360" y="765000"/>
            <a:ext cx="169884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3" descr="http://sortov.net/images/picall/10-3.jpg"/>
          <p:cNvPicPr/>
          <p:nvPr/>
        </p:nvPicPr>
        <p:blipFill>
          <a:blip r:embed="rId3"/>
          <a:stretch/>
        </p:blipFill>
        <p:spPr>
          <a:xfrm>
            <a:off x="971640" y="2060640"/>
            <a:ext cx="1368360" cy="1297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4" descr="http://shop.anflo.ru/image/cache/data/rose/639-500x500.jpg"/>
          <p:cNvPicPr/>
          <p:nvPr/>
        </p:nvPicPr>
        <p:blipFill>
          <a:blip r:embed="rId4"/>
          <a:stretch/>
        </p:blipFill>
        <p:spPr>
          <a:xfrm>
            <a:off x="3851280" y="2276640"/>
            <a:ext cx="1441440" cy="1223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5" descr="http://www.supercook.ru/images-skazki-vypusk/sk-kot-i-lisa-10.jpg"/>
          <p:cNvPicPr/>
          <p:nvPr/>
        </p:nvPicPr>
        <p:blipFill>
          <a:blip r:embed="rId5"/>
          <a:stretch/>
        </p:blipFill>
        <p:spPr>
          <a:xfrm>
            <a:off x="971640" y="3429000"/>
            <a:ext cx="1358640" cy="14796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6" descr="http://www.hint4.me/uploads/posts/2013-04/1365803358_rybiy-zhir.jpg"/>
          <p:cNvPicPr/>
          <p:nvPr/>
        </p:nvPicPr>
        <p:blipFill>
          <a:blip r:embed="rId6"/>
          <a:stretch/>
        </p:blipFill>
        <p:spPr>
          <a:xfrm>
            <a:off x="3564000" y="3645000"/>
            <a:ext cx="1888920" cy="100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7" descr="http://www.rcc-travel.ru/upload/iblock/922/7ba0aa8aa02c.jpg"/>
          <p:cNvPicPr/>
          <p:nvPr/>
        </p:nvPicPr>
        <p:blipFill>
          <a:blip r:embed="rId7"/>
          <a:stretch/>
        </p:blipFill>
        <p:spPr>
          <a:xfrm>
            <a:off x="755640" y="508464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8" descr="http://legion1812.narod.ru/copirka/1320140559_dvoryanskoe_sobranie.jpg"/>
          <p:cNvPicPr/>
          <p:nvPr/>
        </p:nvPicPr>
        <p:blipFill>
          <a:blip r:embed="rId8"/>
          <a:stretch/>
        </p:blipFill>
        <p:spPr>
          <a:xfrm>
            <a:off x="3564000" y="5013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Игра «Наоборот»-допиши слова, заменив Р на Л и наоб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ка-                         по…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ут –   п…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лод-                    го…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обок-                    ко…о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http://www.infobarrel.com/media/image/44341.gif"/>
          <p:cNvPicPr/>
          <p:nvPr/>
        </p:nvPicPr>
        <p:blipFill>
          <a:blip r:embed="rId1"/>
          <a:stretch/>
        </p:blipFill>
        <p:spPr>
          <a:xfrm>
            <a:off x="900000" y="765000"/>
            <a:ext cx="1295640" cy="1224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http://ef.net.ua/published/publicdata/EF/attachments/SC/products_pictures/snad_enl.jpg"/>
          <p:cNvPicPr/>
          <p:nvPr/>
        </p:nvPicPr>
        <p:blipFill>
          <a:blip r:embed="rId2"/>
          <a:stretch/>
        </p:blipFill>
        <p:spPr>
          <a:xfrm>
            <a:off x="3780000" y="765000"/>
            <a:ext cx="1724040" cy="1074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http://samlib.ru/img/a/a_o_j/wolshebnyjprutik/ppicture1.jpg"/>
          <p:cNvPicPr/>
          <p:nvPr/>
        </p:nvPicPr>
        <p:blipFill>
          <a:blip r:embed="rId3"/>
          <a:srcRect l="0" t="0" r="0" b="28924"/>
          <a:stretch/>
        </p:blipFill>
        <p:spPr>
          <a:xfrm>
            <a:off x="826920" y="2565360"/>
            <a:ext cx="2322720" cy="488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http://www.motivators.ru/sites/default/files/imagecache/main-motivator/motivator-15676.jpg"/>
          <p:cNvPicPr/>
          <p:nvPr/>
        </p:nvPicPr>
        <p:blipFill>
          <a:blip r:embed="rId4"/>
          <a:stretch/>
        </p:blipFill>
        <p:spPr>
          <a:xfrm>
            <a:off x="5651640" y="1413000"/>
            <a:ext cx="1081080" cy="1655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http://umvd56-oren.ru/userfiles/news/519_golod_zastavil_poyti_na_pre.jpeg"/>
          <p:cNvPicPr/>
          <p:nvPr/>
        </p:nvPicPr>
        <p:blipFill>
          <a:blip r:embed="rId5"/>
          <a:stretch/>
        </p:blipFill>
        <p:spPr>
          <a:xfrm>
            <a:off x="1042920" y="3357720"/>
            <a:ext cx="1801800" cy="1223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http://ic.pics.livejournal.com/vanilla1673/33408950/1483/1483_640.jpg"/>
          <p:cNvPicPr/>
          <p:nvPr/>
        </p:nvPicPr>
        <p:blipFill>
          <a:blip r:embed="rId6"/>
          <a:stretch/>
        </p:blipFill>
        <p:spPr>
          <a:xfrm>
            <a:off x="4140360" y="3357720"/>
            <a:ext cx="1747800" cy="11509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http://img3.proshkolu.ru/content/media/pic/std/2000000/1577000/1576305-1535ba0af27b6de5.png"/>
          <p:cNvPicPr/>
          <p:nvPr/>
        </p:nvPicPr>
        <p:blipFill>
          <a:blip r:embed="rId7"/>
          <a:stretch/>
        </p:blipFill>
        <p:spPr>
          <a:xfrm>
            <a:off x="1187280" y="5013360"/>
            <a:ext cx="131292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http://souz-pak.ru/images/1.jpg.jpeg"/>
          <p:cNvPicPr/>
          <p:nvPr/>
        </p:nvPicPr>
        <p:blipFill>
          <a:blip r:embed="rId8"/>
          <a:stretch/>
        </p:blipFill>
        <p:spPr>
          <a:xfrm>
            <a:off x="4427640" y="508464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Игра «Наоборот»-допиши слова, заменив Р на Л и наоб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т-                        бо…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ла-                         иг…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арка-                     сва…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рко-                       жа…к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http://www.kuklyspb.ru/Cshop/published/publicdata/KUKLYSPBSHOP/attachments/SC/products_pictures/bolt2jl.jpg"/>
          <p:cNvPicPr/>
          <p:nvPr/>
        </p:nvPicPr>
        <p:blipFill>
          <a:blip r:embed="rId1"/>
          <a:stretch/>
        </p:blipFill>
        <p:spPr>
          <a:xfrm>
            <a:off x="826920" y="76500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http://lib.rus.ec/i/68/289568/pic_26.jpg"/>
          <p:cNvPicPr/>
          <p:nvPr/>
        </p:nvPicPr>
        <p:blipFill>
          <a:blip r:embed="rId2"/>
          <a:stretch/>
        </p:blipFill>
        <p:spPr>
          <a:xfrm>
            <a:off x="3564000" y="765000"/>
            <a:ext cx="1944720" cy="1224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http://4.bp.blogspot.com/_jF-HFaRT6Qk/TTcmxa25ukI/AAAAAAAAAhk/PKe33MPsTus/s1600/ThreadedNeedle.jpg"/>
          <p:cNvPicPr/>
          <p:nvPr/>
        </p:nvPicPr>
        <p:blipFill>
          <a:blip r:embed="rId3"/>
          <a:stretch/>
        </p:blipFill>
        <p:spPr>
          <a:xfrm>
            <a:off x="826920" y="2133720"/>
            <a:ext cx="1766880" cy="1197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http://www.bodybuild.ru/img/kosti-igralnye-404.jpg"/>
          <p:cNvPicPr/>
          <p:nvPr/>
        </p:nvPicPr>
        <p:blipFill>
          <a:blip r:embed="rId4"/>
          <a:stretch/>
        </p:blipFill>
        <p:spPr>
          <a:xfrm>
            <a:off x="3851280" y="2349360"/>
            <a:ext cx="1657440" cy="1175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http://www.prodaem.in.ua/images/47513/0b950ffc11bd2401a9e654ec3f2752ec1.jpg"/>
          <p:cNvPicPr/>
          <p:nvPr/>
        </p:nvPicPr>
        <p:blipFill>
          <a:blip r:embed="rId5"/>
          <a:stretch/>
        </p:blipFill>
        <p:spPr>
          <a:xfrm>
            <a:off x="826920" y="3500280"/>
            <a:ext cx="1719360" cy="1441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http://www.vsluh.ru/system/post_images/large/250/250110/%D1%81%D0%B2%D0%B0%D0%BB%D0%BA%D0%B0%20vasha-zemlja.livejournal.com?1340598317"/>
          <p:cNvPicPr/>
          <p:nvPr/>
        </p:nvPicPr>
        <p:blipFill>
          <a:blip r:embed="rId6"/>
          <a:stretch/>
        </p:blipFill>
        <p:spPr>
          <a:xfrm>
            <a:off x="4067280" y="3645000"/>
            <a:ext cx="1724040" cy="1296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http://www.begin-online.ru/images/446339.jpg"/>
          <p:cNvPicPr/>
          <p:nvPr/>
        </p:nvPicPr>
        <p:blipFill>
          <a:blip r:embed="rId7"/>
          <a:stretch/>
        </p:blipFill>
        <p:spPr>
          <a:xfrm>
            <a:off x="826920" y="5084640"/>
            <a:ext cx="1657440" cy="1440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http://images.vfl.ru/ii/1346683082/ee652856/888601_m.gif"/>
          <p:cNvPicPr/>
          <p:nvPr/>
        </p:nvPicPr>
        <p:blipFill>
          <a:blip r:embed="rId8"/>
          <a:stretch/>
        </p:blipFill>
        <p:spPr>
          <a:xfrm>
            <a:off x="4211640" y="5157720"/>
            <a:ext cx="1584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минутка. Проговори чистоговорку и повтори движ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28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-РО-ЛО, у орла огромное пе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в стороны, имитация поле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Ы-ЛЫ- ЛЫ, шары всегда кругл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соединяем над головой, показываем большой круг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-АР-АЛ, папа прочитал журна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сгибаем в локтях перед собой, смотрим в ладошки и делаем легкие повороты головы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-АР-АЛ, завтра праздник карнава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вытягиваем вверх подпрыгивая, показываем радость, кричим ура!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http://forum.na-svyazi.ru/uploads/201312/post-148096-1386838823.jpg"/>
          <p:cNvPicPr/>
          <p:nvPr/>
        </p:nvPicPr>
        <p:blipFill>
          <a:blip r:embed="rId1"/>
          <a:stretch/>
        </p:blipFill>
        <p:spPr>
          <a:xfrm>
            <a:off x="3203640" y="765000"/>
            <a:ext cx="2130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73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907560"/>
            <a:ext cx="8578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еселого кост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сь теплая зо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я ма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й спать по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и сильный ку…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йдусь без д…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дя водо…з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одой был много …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е фея жи...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была доб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09:29:44Z</dcterms:created>
  <dc:creator>SerdyukovaEV</dc:creator>
  <dc:description/>
  <dc:language>en-US</dc:language>
  <cp:lastModifiedBy>Ирина</cp:lastModifiedBy>
  <dcterms:modified xsi:type="dcterms:W3CDTF">2022-01-07T03:52:46Z</dcterms:modified>
  <cp:revision>80</cp:revision>
  <dc:subject/>
  <dc:title>Логопедическое занятие по теме   «Дифференциация звуков &lt;</dc:title>
</cp:coreProperties>
</file>