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2.jpeg" ContentType="image/jpeg"/>
  <Override PartName="/ppt/media/image46.png" ContentType="image/png"/>
  <Override PartName="/ppt/media/image45.jpeg" ContentType="image/jpeg"/>
  <Override PartName="/ppt/media/image48.png" ContentType="image/png"/>
  <Override PartName="/ppt/media/image43.jpeg" ContentType="image/jpeg"/>
  <Override PartName="/ppt/media/image35.png" ContentType="image/png"/>
  <Override PartName="/ppt/media/image34.jpeg" ContentType="image/jpeg"/>
  <Override PartName="/ppt/media/image33.jpeg" ContentType="image/jpeg"/>
  <Override PartName="/ppt/media/image32.jpeg" ContentType="image/jpeg"/>
  <Override PartName="/ppt/media/image1.jpeg" ContentType="image/jpeg"/>
  <Override PartName="/ppt/media/image47.png" ContentType="image/png"/>
  <Override PartName="/ppt/media/image22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39.jpeg" ContentType="image/jpeg"/>
  <Override PartName="/ppt/media/image19.jpeg" ContentType="image/jpeg"/>
  <Override PartName="/ppt/media/image29.png" ContentType="image/png"/>
  <Override PartName="/ppt/media/image63.jpeg" ContentType="image/jpeg"/>
  <Override PartName="/ppt/media/image6.jpeg" ContentType="image/jpeg"/>
  <Override PartName="/ppt/media/image16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17.jpeg" ContentType="image/jpeg"/>
  <Override PartName="/ppt/media/image61.jpeg" ContentType="image/jpeg"/>
  <Override PartName="/ppt/media/image77.png" ContentType="image/png"/>
  <Override PartName="/ppt/media/image4.jpeg" ContentType="image/jpeg"/>
  <Override PartName="/ppt/media/image2.jpeg" ContentType="image/jpeg"/>
  <Override PartName="/ppt/media/image36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76.jpeg" ContentType="image/jpeg"/>
  <Override PartName="/ppt/media/image74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5.jpeg" ContentType="image/jpeg"/>
  <Override PartName="/ppt/media/image49.png" ContentType="image/png"/>
  <Override PartName="/ppt/media/image8.png" ContentType="image/png"/>
  <Override PartName="/ppt/media/image23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69.png" ContentType="image/png"/>
  <Override PartName="/ppt/media/image25.jpeg" ContentType="image/jpeg"/>
  <Override PartName="/ppt/media/image62.jpeg" ContentType="image/jpeg"/>
  <Override PartName="/ppt/media/image5.jpeg" ContentType="image/jpeg"/>
  <Override PartName="/ppt/media/image24.jpeg" ContentType="image/jpeg"/>
  <Override PartName="/ppt/media/image26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4.jpeg" ContentType="image/jpeg"/>
  <Override PartName="/ppt/media/image41.jpeg" ContentType="image/jpeg"/>
  <Override PartName="/ppt/media/image51.jpeg" ContentType="image/jpeg"/>
  <Override PartName="/ppt/media/image12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30.jpeg" ContentType="image/jpeg"/>
  <Override PartName="/ppt/media/image3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7BB6-B4B8-4148-BF15-907B660C2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415-6C24-45BC-9FEC-096D6622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04C-3BD5-4F51-BFD1-BB070949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E4E3-4C82-4D0E-B23B-5CC75E8B9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58D-A279-4272-A0A3-844F2098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5883-BD96-42FE-A307-800B30E26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D6B-0F55-46EF-A78D-9082AEB5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64A3-58A6-456F-8868-DB2B0B9C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E2A-EAF1-42B0-B774-A30009AF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ED8F-C78E-467B-9471-0C3F4609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7E6E-92F8-4EA8-8D4F-18DC4970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F4E-CDE6-41BE-8CB7-470FA92D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a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C42F-9646-4F3C-BFB1-F61ADFFDFA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image" Target="../media/image57.jpeg"/><Relationship Id="rId9" Type="http://schemas.openxmlformats.org/officeDocument/2006/relationships/image" Target="../media/image58.jpeg"/><Relationship Id="rId10" Type="http://schemas.openxmlformats.org/officeDocument/2006/relationships/image" Target="../media/image59.jpeg"/><Relationship Id="rId11" Type="http://schemas.openxmlformats.org/officeDocument/2006/relationships/image" Target="../media/image60.jpeg"/><Relationship Id="rId12" Type="http://schemas.openxmlformats.org/officeDocument/2006/relationships/image" Target="../media/image61.jpe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image" Target="../media/image69.png"/><Relationship Id="rId3" Type="http://schemas.openxmlformats.org/officeDocument/2006/relationships/image" Target="../media/image7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jpe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image" Target="../media/image28.jpe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pn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jpe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cc0066"/>
                </a:solidFill>
                <a:latin typeface="Arial"/>
                <a:ea typeface="Arial"/>
              </a:rPr>
              <a:t>Дифференциация звуков [р]-[л] в словах и предложени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Рисунок 5" descr="http://childpictures.ru/dlya-sadika/dlya-oformleniya/na-shkafchik/image.raw?view=image&amp;type=img&amp;id=3849"/>
          <p:cNvPicPr/>
          <p:nvPr/>
        </p:nvPicPr>
        <p:blipFill>
          <a:blip r:embed="rId1"/>
          <a:stretch/>
        </p:blipFill>
        <p:spPr>
          <a:xfrm>
            <a:off x="395280" y="4005360"/>
            <a:ext cx="3960720" cy="27367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5" descr="http://childpictures.ru/dlya-sadika/dlya-oformleniya/na-shkafchik/image.raw?view=image&amp;type=img&amp;id=3854"/>
          <p:cNvPicPr/>
          <p:nvPr/>
        </p:nvPicPr>
        <p:blipFill>
          <a:blip r:embed="rId2"/>
          <a:stretch/>
        </p:blipFill>
        <p:spPr>
          <a:xfrm>
            <a:off x="4500720" y="189000"/>
            <a:ext cx="3887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774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рится …ч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солнечных …ч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нам ю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м с ней иг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хватает …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рать с поля 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ую мет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кенгу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амой про…б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дят го…б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469800" y="18900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лика …ж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у Мишки …ж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мина стоит т…н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го сел с…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вороны пе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ром унес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л большой п…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л им к…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оле стоит п…ш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й всего лишь к…ш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69800" y="262080"/>
            <a:ext cx="8229600" cy="560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сают больно кома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очень ма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иг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ивали мы г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ят лес боб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одясь без пи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настольной иг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м нужны ст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елятся …бк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я у…б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Собери ягодный урожа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560" y="134100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Р-Рь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н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ни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cc0066"/>
                </a:solidFill>
                <a:latin typeface="Calibri"/>
              </a:rPr>
              <a:t>Л-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ыжовник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ородина                  Клубн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мляника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шка                      Ряби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юква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уби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Рисунок 8" descr="http://shop.chaiknet.ru/imagess/products/1548/1548126/product.jpg?1372160972"/>
          <p:cNvPicPr/>
          <p:nvPr/>
        </p:nvPicPr>
        <p:blipFill>
          <a:blip r:embed="rId1"/>
          <a:stretch/>
        </p:blipFill>
        <p:spPr>
          <a:xfrm>
            <a:off x="826920" y="115920"/>
            <a:ext cx="1229040" cy="13683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http://shop.chaiknet.ru/imagess/products/1548/1548126/product.jpg?1372160972"/>
          <p:cNvPicPr/>
          <p:nvPr/>
        </p:nvPicPr>
        <p:blipFill>
          <a:blip r:embed="rId2"/>
          <a:stretch/>
        </p:blipFill>
        <p:spPr>
          <a:xfrm>
            <a:off x="6875640" y="115920"/>
            <a:ext cx="1228680" cy="132408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10" descr="http://www.purespadirect.com/v/vspfiles/assets/images/bilberry.jpg"/>
          <p:cNvPicPr/>
          <p:nvPr/>
        </p:nvPicPr>
        <p:blipFill>
          <a:blip r:embed="rId3"/>
          <a:stretch/>
        </p:blipFill>
        <p:spPr>
          <a:xfrm>
            <a:off x="5580000" y="1268280"/>
            <a:ext cx="941400" cy="100836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1" descr="http://www.tumentoday.ru/wp-content/uploads/2011/06/110_20-3.jpg"/>
          <p:cNvPicPr/>
          <p:nvPr/>
        </p:nvPicPr>
        <p:blipFill>
          <a:blip r:embed="rId4"/>
          <a:stretch/>
        </p:blipFill>
        <p:spPr>
          <a:xfrm>
            <a:off x="3132000" y="1268280"/>
            <a:ext cx="989280" cy="10083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12" descr="http://www.stihi.ru/pics/2013/07/12/5489.jpg"/>
          <p:cNvPicPr/>
          <p:nvPr/>
        </p:nvPicPr>
        <p:blipFill>
          <a:blip r:embed="rId5"/>
          <a:stretch/>
        </p:blipFill>
        <p:spPr>
          <a:xfrm>
            <a:off x="1908000" y="2421000"/>
            <a:ext cx="1224000" cy="10684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13" descr="http://discussiya.com/wp-content/uploads/2009/07/black-currant.jpg"/>
          <p:cNvPicPr/>
          <p:nvPr/>
        </p:nvPicPr>
        <p:blipFill>
          <a:blip r:embed="rId6"/>
          <a:stretch/>
        </p:blipFill>
        <p:spPr>
          <a:xfrm>
            <a:off x="4716360" y="2565360"/>
            <a:ext cx="1155960" cy="11509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14" descr="http://thebester.ru/uploads/images/00/60/57/2011/10/07/459a328bff.jpg"/>
          <p:cNvPicPr/>
          <p:nvPr/>
        </p:nvPicPr>
        <p:blipFill>
          <a:blip r:embed="rId7"/>
          <a:stretch/>
        </p:blipFill>
        <p:spPr>
          <a:xfrm>
            <a:off x="7380360" y="2349360"/>
            <a:ext cx="1406520" cy="10810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15" descr="http://img.velvet.by/files/userfiles/7/zemlyanika-thumb.jpg"/>
          <p:cNvPicPr/>
          <p:nvPr/>
        </p:nvPicPr>
        <p:blipFill>
          <a:blip r:embed="rId8"/>
          <a:stretch/>
        </p:blipFill>
        <p:spPr>
          <a:xfrm>
            <a:off x="395280" y="3500280"/>
            <a:ext cx="1152360" cy="12970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16" descr="http://www.samara-photo.ru/images/49626ee976bc8.jpg"/>
          <p:cNvPicPr/>
          <p:nvPr/>
        </p:nvPicPr>
        <p:blipFill>
          <a:blip r:embed="rId9"/>
          <a:stretch/>
        </p:blipFill>
        <p:spPr>
          <a:xfrm>
            <a:off x="3203640" y="4149720"/>
            <a:ext cx="1584360" cy="118260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17" descr="http://vitaminkka.ru/Frukti/produkt_icon/rjabina_obyknovennaja.jpg"/>
          <p:cNvPicPr/>
          <p:nvPr/>
        </p:nvPicPr>
        <p:blipFill>
          <a:blip r:embed="rId10"/>
          <a:stretch/>
        </p:blipFill>
        <p:spPr>
          <a:xfrm>
            <a:off x="6084720" y="3860640"/>
            <a:ext cx="1595520" cy="10083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8" descr="http://www.mkotovskaya.ru/UPLOAD/2013/06/02/benzoat-natriya_0_0.jpg"/>
          <p:cNvPicPr/>
          <p:nvPr/>
        </p:nvPicPr>
        <p:blipFill>
          <a:blip r:embed="rId11"/>
          <a:stretch/>
        </p:blipFill>
        <p:spPr>
          <a:xfrm>
            <a:off x="1476360" y="5300640"/>
            <a:ext cx="1440000" cy="100800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9" descr="http://www.edelgarden.ru/filestore/uploaded/hannas%20choise_279_110_267_full.jpg"/>
          <p:cNvPicPr/>
          <p:nvPr/>
        </p:nvPicPr>
        <p:blipFill>
          <a:blip r:embed="rId12"/>
          <a:stretch/>
        </p:blipFill>
        <p:spPr>
          <a:xfrm>
            <a:off x="6012000" y="5445000"/>
            <a:ext cx="1224000" cy="11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авильно прочитай фразы, вставляя буквы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Л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или </a:t>
            </a:r>
            <a:r>
              <a:rPr b="1" i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8000" y="907920"/>
            <a:ext cx="903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.асивое об…ак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…ские во…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…абый вете…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е…ый па…ус.         …озовое п…ать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…убой ка…андаш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Рисунок 3" descr="http://a2.tcdn.ru/assets/att/fb/e3/3998527_82966_5802380_25_loshad-obl.jpg"/>
          <p:cNvPicPr/>
          <p:nvPr/>
        </p:nvPicPr>
        <p:blipFill>
          <a:blip r:embed="rId1"/>
          <a:stretch/>
        </p:blipFill>
        <p:spPr>
          <a:xfrm>
            <a:off x="3348000" y="836640"/>
            <a:ext cx="1959120" cy="136836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4" descr="http://stat18.privet.ru/lr/0a280a04baef21ed80e555f4c35ff916"/>
          <p:cNvPicPr/>
          <p:nvPr/>
        </p:nvPicPr>
        <p:blipFill>
          <a:blip r:embed="rId2"/>
          <a:stretch/>
        </p:blipFill>
        <p:spPr>
          <a:xfrm>
            <a:off x="6084720" y="907920"/>
            <a:ext cx="223848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5" descr="http://img-fotki.yandex.ru/get/6106/158320095.32/0_73c6d_527f6876_XL"/>
          <p:cNvPicPr/>
          <p:nvPr/>
        </p:nvPicPr>
        <p:blipFill>
          <a:blip r:embed="rId3"/>
          <a:stretch/>
        </p:blipFill>
        <p:spPr>
          <a:xfrm>
            <a:off x="3348000" y="2349360"/>
            <a:ext cx="1812960" cy="1656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http://www.superyachttimes.com/articles/Image/Companies/Dahm-International/2011-02-Two-Yachts-Sold/Fidel-big.jpg"/>
          <p:cNvPicPr/>
          <p:nvPr/>
        </p:nvPicPr>
        <p:blipFill>
          <a:blip r:embed="rId4"/>
          <a:stretch/>
        </p:blipFill>
        <p:spPr>
          <a:xfrm>
            <a:off x="250920" y="3645000"/>
            <a:ext cx="223344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http://www.adensya.ru/ui/dasha-korneeva/image/588073.jpg"/>
          <p:cNvPicPr/>
          <p:nvPr/>
        </p:nvPicPr>
        <p:blipFill>
          <a:blip r:embed="rId5"/>
          <a:stretch/>
        </p:blipFill>
        <p:spPr>
          <a:xfrm>
            <a:off x="6659640" y="2637000"/>
            <a:ext cx="1014480" cy="19443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http://torgdecor.com/files/uploads/2013/02/110_032.jpg"/>
          <p:cNvPicPr/>
          <p:nvPr/>
        </p:nvPicPr>
        <p:blipFill>
          <a:blip r:embed="rId6"/>
          <a:stretch/>
        </p:blipFill>
        <p:spPr>
          <a:xfrm>
            <a:off x="4716360" y="5373720"/>
            <a:ext cx="34560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Правильно прочитай скороговор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ну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воробь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Метил в воробь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А попал в журав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Егор поймал большого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вышла из-за рака дра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Это Фёдор- забия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Снова в воду бросил ра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Шёл спозаран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Назар на б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Купил там коз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И корзинку Наз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3" descr="http://sovetskiymultik.at.ua/_ph/215/633836606.jpg"/>
          <p:cNvPicPr/>
          <p:nvPr/>
        </p:nvPicPr>
        <p:blipFill>
          <a:blip r:embed="rId1"/>
          <a:stretch/>
        </p:blipFill>
        <p:spPr>
          <a:xfrm>
            <a:off x="4427640" y="907920"/>
            <a:ext cx="1985760" cy="208944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http://sajatutad.hu/wp-content/uploads/2009/01/rak.gif"/>
          <p:cNvPicPr/>
          <p:nvPr/>
        </p:nvPicPr>
        <p:blipFill>
          <a:blip r:embed="rId2"/>
          <a:stretch/>
        </p:blipFill>
        <p:spPr>
          <a:xfrm>
            <a:off x="1332000" y="2924280"/>
            <a:ext cx="2232000" cy="18730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6" descr="http://www.pedlib.ru/books1/5/0236/image094.jpg"/>
          <p:cNvPicPr/>
          <p:nvPr/>
        </p:nvPicPr>
        <p:blipFill>
          <a:blip r:embed="rId3"/>
          <a:stretch/>
        </p:blipFill>
        <p:spPr>
          <a:xfrm>
            <a:off x="3643200" y="5000760"/>
            <a:ext cx="38577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Вставь пропущенные буквы </a:t>
            </a:r>
            <a:r>
              <a:rPr b="1" i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Р-Л</a:t>
            </a:r>
            <a:r>
              <a:rPr b="1" lang="ru-RU" sz="2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в слова и прочитай стихотвор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05264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болов, _ыболов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асскажи п_о свой у_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_п ушёл и вся п_о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мо _одки п_оплыл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а_ась с крючка сорва_ся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у_ова я оста_ся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зато попалась г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_ь, стре_а, _улон, та_ел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рме_ад, жу_на_, кры_о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найти такой ул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?.. В Во_шебном ми_е слов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Рисунок 3" descr="http://mediasubs.ru/group/uploads/fo/formula-schastya/image2/IyMDUzMTI.jpg"/>
          <p:cNvPicPr/>
          <p:nvPr/>
        </p:nvPicPr>
        <p:blipFill>
          <a:blip r:embed="rId1"/>
          <a:stretch/>
        </p:blipFill>
        <p:spPr>
          <a:xfrm>
            <a:off x="5435640" y="1700280"/>
            <a:ext cx="316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арисуй красочную иллюстрацию к прочитанному стихотворен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Содержимое 6" descr="http://floksmix.ucoz.ru/85332655068486.jpg"/>
          <p:cNvPicPr/>
          <p:nvPr/>
        </p:nvPicPr>
        <p:blipFill>
          <a:blip r:embed="rId1"/>
          <a:stretch/>
        </p:blipFill>
        <p:spPr>
          <a:xfrm>
            <a:off x="539640" y="1268280"/>
            <a:ext cx="2664000" cy="235296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7" descr="http://im7-tub-ru.yandex.net/i?id=60195754-50-72&amp;n=21"/>
          <p:cNvPicPr/>
          <p:nvPr/>
        </p:nvPicPr>
        <p:blipFill>
          <a:blip r:embed="rId2"/>
          <a:stretch/>
        </p:blipFill>
        <p:spPr>
          <a:xfrm>
            <a:off x="6012000" y="1484280"/>
            <a:ext cx="2501640" cy="18003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8" descr="http://content.schools.by/novsad2/library/2356_html_5d831735.jpg"/>
          <p:cNvPicPr/>
          <p:nvPr/>
        </p:nvPicPr>
        <p:blipFill>
          <a:blip r:embed="rId3"/>
          <a:stretch/>
        </p:blipFill>
        <p:spPr>
          <a:xfrm>
            <a:off x="395280" y="4005360"/>
            <a:ext cx="2881440" cy="244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9" descr="http://stat20.privet.ru/lr/0c067565fe31abcfb07f7d51b597842d"/>
          <p:cNvPicPr/>
          <p:nvPr/>
        </p:nvPicPr>
        <p:blipFill>
          <a:blip r:embed="rId4"/>
          <a:stretch/>
        </p:blipFill>
        <p:spPr>
          <a:xfrm>
            <a:off x="3564000" y="2349360"/>
            <a:ext cx="1998720" cy="295128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0" descr="http://www.ozedu.ru/files/u1077/fileZqxF39_3.jpg"/>
          <p:cNvPicPr/>
          <p:nvPr/>
        </p:nvPicPr>
        <p:blipFill>
          <a:blip r:embed="rId5"/>
          <a:stretch/>
        </p:blipFill>
        <p:spPr>
          <a:xfrm>
            <a:off x="5724360" y="4076640"/>
            <a:ext cx="3213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Молодцы!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Рисунок 6" descr="http://stat18.privet.ru/lr/0a2d48492dfc3cdc859ba1676d6e8da3"/>
          <p:cNvPicPr/>
          <p:nvPr/>
        </p:nvPicPr>
        <p:blipFill>
          <a:blip r:embed="rId1"/>
          <a:stretch/>
        </p:blipFill>
        <p:spPr>
          <a:xfrm>
            <a:off x="1547640" y="1125360"/>
            <a:ext cx="4608720" cy="459756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4"/>
          <p:cNvSpPr/>
          <p:nvPr/>
        </p:nvSpPr>
        <p:spPr>
          <a:xfrm>
            <a:off x="7740720" y="558972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184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Артикуляционная гимнастика со звуками </a:t>
            </a:r>
            <a:r>
              <a:rPr b="0" lang="ru-RU" sz="2400" spc="-1" strike="noStrike">
                <a:solidFill>
                  <a:srgbClr val="dd7e0e"/>
                </a:solidFill>
                <a:latin typeface="Calibri"/>
              </a:rPr>
              <a:t>[р]-[л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79280" y="475920"/>
            <a:ext cx="87854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Ленивый язычок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 , показываем широкий кончик языка и не напрягая языка слегка покусываем кончик, чтобы не ленилс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Облизываем варенье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 и широким языком облизываем верхнюю и нижнюю губ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 Лошад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, широко открыт рот и цокаем, как лошадка, кончиком языка по бугоркам за верхними зуб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Болтушка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широко улыбаемся, рот приоткрыт, быстрое движение вперед-назад широким кончиком языка между губами со звуком Б-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Грибочек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о открываем рот, крепко прижимаем широкий язык к нёбу так, чтобы была видна напряжённая уздечка- ножка грибочка, а язык стал похож на его шляпку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Заведем мотор»-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м носиком глубокий вдох и на выдохе длительно произносим  Р-Р-Р-Р-Р-Р-Р-Р-Р-Р, (можно использовать различные звуковые дорожки , например едет машинка или мотоцикл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dd7e0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7e0e"/>
                </a:solidFill>
                <a:latin typeface="Times New Roman"/>
                <a:ea typeface="Times New Roman"/>
              </a:rPr>
              <a:t>«Погудим, как пароход»-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ыбаемся нешироко, закусываем широкий кончик языка и сердито низко гудим  Ы-Ы-Ы-Ы-Ы. ( Слышится звук 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Рисунок 4" descr="http://open.az/uploads/posts/2010-09/1284689275_guinness_world_records_01.jpg"/>
          <p:cNvPicPr/>
          <p:nvPr/>
        </p:nvPicPr>
        <p:blipFill>
          <a:blip r:embed="rId1"/>
          <a:stretch/>
        </p:blipFill>
        <p:spPr>
          <a:xfrm>
            <a:off x="3780000" y="765000"/>
            <a:ext cx="936360" cy="7923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5" descr="http://cs11501.vk.me/v11501504/c7a/lgZJai7knB8.jpg"/>
          <p:cNvPicPr/>
          <p:nvPr/>
        </p:nvPicPr>
        <p:blipFill>
          <a:blip r:embed="rId2"/>
          <a:stretch/>
        </p:blipFill>
        <p:spPr>
          <a:xfrm>
            <a:off x="2916360" y="1773360"/>
            <a:ext cx="1062000" cy="792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6" descr="http://im3-tub-ru.yandex.net/i?id=388366222-04-72&amp;n=21"/>
          <p:cNvPicPr/>
          <p:nvPr/>
        </p:nvPicPr>
        <p:blipFill>
          <a:blip r:embed="rId3"/>
          <a:stretch/>
        </p:blipFill>
        <p:spPr>
          <a:xfrm>
            <a:off x="5364000" y="1773360"/>
            <a:ext cx="911520" cy="7189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7" descr="http://1324a09.ucoz.ru/Otkrytki/loshadka1.jpg"/>
          <p:cNvPicPr/>
          <p:nvPr/>
        </p:nvPicPr>
        <p:blipFill>
          <a:blip r:embed="rId4"/>
          <a:stretch/>
        </p:blipFill>
        <p:spPr>
          <a:xfrm>
            <a:off x="2050920" y="2781360"/>
            <a:ext cx="1008360" cy="93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http://gynea.ru/forum/uploads/attachment/2013-06/mini_1372518794_ranjmxm0b48.jpg"/>
          <p:cNvPicPr/>
          <p:nvPr/>
        </p:nvPicPr>
        <p:blipFill>
          <a:blip r:embed="rId5"/>
          <a:stretch/>
        </p:blipFill>
        <p:spPr>
          <a:xfrm>
            <a:off x="5003640" y="2708280"/>
            <a:ext cx="1327320" cy="10080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9" descr="http://img-fotki.yandex.ru/get/6509/36014149.e7/0_75cd9_b1bf7c9e_XL"/>
          <p:cNvPicPr/>
          <p:nvPr/>
        </p:nvPicPr>
        <p:blipFill>
          <a:blip r:embed="rId6"/>
          <a:stretch/>
        </p:blipFill>
        <p:spPr>
          <a:xfrm>
            <a:off x="6084720" y="4292640"/>
            <a:ext cx="1151280" cy="10080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10" descr="http://www.my-speech.ru/pics/artikulacionnaa_gimnastika_1000011e.jpg"/>
          <p:cNvPicPr/>
          <p:nvPr/>
        </p:nvPicPr>
        <p:blipFill>
          <a:blip r:embed="rId7"/>
          <a:stretch/>
        </p:blipFill>
        <p:spPr>
          <a:xfrm>
            <a:off x="7451640" y="4437000"/>
            <a:ext cx="1292400" cy="75096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11" descr="http://lib.convdocs.org/pars_docs/refs/79/78039/78039_html_m4716e6cf.jpg"/>
          <p:cNvPicPr/>
          <p:nvPr/>
        </p:nvPicPr>
        <p:blipFill>
          <a:blip r:embed="rId8"/>
          <a:stretch/>
        </p:blipFill>
        <p:spPr>
          <a:xfrm>
            <a:off x="468360" y="4653000"/>
            <a:ext cx="129528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2" descr="http://neposedu.ru/wp-content/uploads/2013/01/paroxodik.jpg"/>
          <p:cNvPicPr/>
          <p:nvPr/>
        </p:nvPicPr>
        <p:blipFill>
          <a:blip r:embed="rId9"/>
          <a:stretch/>
        </p:blipFill>
        <p:spPr>
          <a:xfrm>
            <a:off x="3348000" y="5877000"/>
            <a:ext cx="1336680" cy="9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75a3"/>
                </a:solidFill>
                <a:latin typeface="Times New Roman"/>
                <a:ea typeface="Times New Roman"/>
              </a:rPr>
              <a:t>Игра «Запомни и повтор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0560" y="1268280"/>
            <a:ext cx="4537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а-ра         р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о-ро         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          ру-л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ы-ры        ры-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-ла-л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о-ро-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Лу-ру-р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-лы-р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579640" y="1268280"/>
            <a:ext cx="3313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          ар-а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л-ор          ор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-ур           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л-ир          ир-и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л-ар-а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р-ол-о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р-ур-у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-ил-и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wiki.uspi.ru/images/8/85/%27%3Bph%2767676gh.jpeg"/>
          <p:cNvPicPr/>
          <p:nvPr/>
        </p:nvPicPr>
        <p:blipFill>
          <a:blip r:embed="rId1"/>
          <a:stretch/>
        </p:blipFill>
        <p:spPr>
          <a:xfrm>
            <a:off x="2987640" y="3213000"/>
            <a:ext cx="2521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95280" y="1125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к-                      …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м -                    …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ма-                    …а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жки-                   …ож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4" descr="http://school.xvatit.com/images/thumb/e/e6/1110%3Blkl22.jpg/800px-1110%3Blkl22.jpg"/>
          <p:cNvPicPr/>
          <p:nvPr/>
        </p:nvPicPr>
        <p:blipFill>
          <a:blip r:embed="rId1"/>
          <a:stretch/>
        </p:blipFill>
        <p:spPr>
          <a:xfrm>
            <a:off x="1042920" y="907920"/>
            <a:ext cx="187344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http://women.itop.net/content/files/images/2012/9/2012-9-25-11-27-57-652-14101.jpg"/>
          <p:cNvPicPr/>
          <p:nvPr/>
        </p:nvPicPr>
        <p:blipFill>
          <a:blip r:embed="rId2"/>
          <a:stretch/>
        </p:blipFill>
        <p:spPr>
          <a:xfrm>
            <a:off x="4140360" y="981000"/>
            <a:ext cx="17269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http://www.pop-a-harrys.com/images/categories/Butter%20Rum.jpg"/>
          <p:cNvPicPr/>
          <p:nvPr/>
        </p:nvPicPr>
        <p:blipFill>
          <a:blip r:embed="rId3"/>
          <a:stretch/>
        </p:blipFill>
        <p:spPr>
          <a:xfrm>
            <a:off x="1258920" y="2205000"/>
            <a:ext cx="1685880" cy="13143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http://www.shuruping.ru/shuruping/products/9f/34238/img.jpg"/>
          <p:cNvPicPr/>
          <p:nvPr/>
        </p:nvPicPr>
        <p:blipFill>
          <a:blip r:embed="rId4"/>
          <a:stretch/>
        </p:blipFill>
        <p:spPr>
          <a:xfrm>
            <a:off x="4284720" y="242100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8" descr="http://upload.wikimedia.org/wikipedia/commons/8/88/Young_lama.jpg"/>
          <p:cNvPicPr/>
          <p:nvPr/>
        </p:nvPicPr>
        <p:blipFill>
          <a:blip r:embed="rId5"/>
          <a:stretch/>
        </p:blipFill>
        <p:spPr>
          <a:xfrm>
            <a:off x="1403280" y="3645000"/>
            <a:ext cx="1246320" cy="1296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9" descr="http://prtara.ru/gallery/45.jpg"/>
          <p:cNvPicPr/>
          <p:nvPr/>
        </p:nvPicPr>
        <p:blipFill>
          <a:blip r:embed="rId6"/>
          <a:stretch/>
        </p:blipFill>
        <p:spPr>
          <a:xfrm>
            <a:off x="4427640" y="3716280"/>
            <a:ext cx="1296720" cy="1149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0" descr="http://dynasound.ru/imgbase/tovmain/dnt999004986.jpg"/>
          <p:cNvPicPr/>
          <p:nvPr/>
        </p:nvPicPr>
        <p:blipFill>
          <a:blip r:embed="rId7"/>
          <a:stretch/>
        </p:blipFill>
        <p:spPr>
          <a:xfrm>
            <a:off x="1258920" y="5084640"/>
            <a:ext cx="146664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1" descr="http://www.petsovet.ru/upload/iblock/2d9/kzhgf.jpg"/>
          <p:cNvPicPr/>
          <p:nvPr/>
        </p:nvPicPr>
        <p:blipFill>
          <a:blip r:embed="rId8"/>
          <a:stretch/>
        </p:blipFill>
        <p:spPr>
          <a:xfrm>
            <a:off x="4356000" y="5084640"/>
            <a:ext cx="144144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05228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д-                      к…а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озы-                      …о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ил-                        жи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ар-                          ба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11" descr="http://kafa-info.com.ua/news_thumbs/knfa9241d37f34ae65501aa275c3fd41c07_800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http://www.gamer.ru/system/attached_images/images/000/434/919/original/fotolia_24661847_s.jpg"/>
          <p:cNvPicPr/>
          <p:nvPr/>
        </p:nvPicPr>
        <p:blipFill>
          <a:blip r:embed="rId2"/>
          <a:stretch/>
        </p:blipFill>
        <p:spPr>
          <a:xfrm>
            <a:off x="3708360" y="765000"/>
            <a:ext cx="169884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http://sortov.net/images/picall/10-3.jpg"/>
          <p:cNvPicPr/>
          <p:nvPr/>
        </p:nvPicPr>
        <p:blipFill>
          <a:blip r:embed="rId3"/>
          <a:stretch/>
        </p:blipFill>
        <p:spPr>
          <a:xfrm>
            <a:off x="971640" y="2060640"/>
            <a:ext cx="136836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4" descr="http://shop.anflo.ru/image/cache/data/rose/639-500x500.jpg"/>
          <p:cNvPicPr/>
          <p:nvPr/>
        </p:nvPicPr>
        <p:blipFill>
          <a:blip r:embed="rId4"/>
          <a:stretch/>
        </p:blipFill>
        <p:spPr>
          <a:xfrm>
            <a:off x="3851280" y="2276640"/>
            <a:ext cx="1441440" cy="12236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15" descr="http://www.supercook.ru/images-skazki-vypusk/sk-kot-i-lisa-10.jpg"/>
          <p:cNvPicPr/>
          <p:nvPr/>
        </p:nvPicPr>
        <p:blipFill>
          <a:blip r:embed="rId5"/>
          <a:stretch/>
        </p:blipFill>
        <p:spPr>
          <a:xfrm>
            <a:off x="971640" y="3429000"/>
            <a:ext cx="1358640" cy="147960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6" descr="http://www.hint4.me/uploads/posts/2013-04/1365803358_rybiy-zhir.jpg"/>
          <p:cNvPicPr/>
          <p:nvPr/>
        </p:nvPicPr>
        <p:blipFill>
          <a:blip r:embed="rId6"/>
          <a:stretch/>
        </p:blipFill>
        <p:spPr>
          <a:xfrm>
            <a:off x="3564000" y="3645000"/>
            <a:ext cx="1888920" cy="100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7" descr="http://www.rcc-travel.ru/upload/iblock/922/7ba0aa8aa02c.jpg"/>
          <p:cNvPicPr/>
          <p:nvPr/>
        </p:nvPicPr>
        <p:blipFill>
          <a:blip r:embed="rId7"/>
          <a:stretch/>
        </p:blipFill>
        <p:spPr>
          <a:xfrm>
            <a:off x="755640" y="5084640"/>
            <a:ext cx="1944720" cy="1440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8" descr="http://legion1812.narod.ru/copirka/1320140559_dvoryanskoe_sobranie.jpg"/>
          <p:cNvPicPr/>
          <p:nvPr/>
        </p:nvPicPr>
        <p:blipFill>
          <a:blip r:embed="rId8"/>
          <a:stretch/>
        </p:blipFill>
        <p:spPr>
          <a:xfrm>
            <a:off x="3564000" y="5013360"/>
            <a:ext cx="2232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76500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рка-                         по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ут –   п…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олод-                    го…од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лобок-                    ко…об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Рисунок 3" descr="http://www.infobarrel.com/media/image/44341.gif"/>
          <p:cNvPicPr/>
          <p:nvPr/>
        </p:nvPicPr>
        <p:blipFill>
          <a:blip r:embed="rId1"/>
          <a:stretch/>
        </p:blipFill>
        <p:spPr>
          <a:xfrm>
            <a:off x="900000" y="765000"/>
            <a:ext cx="129564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4" descr="http://ef.net.ua/published/publicdata/EF/attachments/SC/products_pictures/snad_enl.jpg"/>
          <p:cNvPicPr/>
          <p:nvPr/>
        </p:nvPicPr>
        <p:blipFill>
          <a:blip r:embed="rId2"/>
          <a:stretch/>
        </p:blipFill>
        <p:spPr>
          <a:xfrm>
            <a:off x="3780000" y="765000"/>
            <a:ext cx="1724040" cy="10749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5" descr="http://samlib.ru/img/a/a_o_j/wolshebnyjprutik/ppicture1.jpg"/>
          <p:cNvPicPr/>
          <p:nvPr/>
        </p:nvPicPr>
        <p:blipFill>
          <a:blip r:embed="rId3"/>
          <a:srcRect l="0" t="0" r="0" b="28924"/>
          <a:stretch/>
        </p:blipFill>
        <p:spPr>
          <a:xfrm>
            <a:off x="826920" y="2565360"/>
            <a:ext cx="2322720" cy="48888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6" descr="http://www.motivators.ru/sites/default/files/imagecache/main-motivator/motivator-15676.jpg"/>
          <p:cNvPicPr/>
          <p:nvPr/>
        </p:nvPicPr>
        <p:blipFill>
          <a:blip r:embed="rId4"/>
          <a:stretch/>
        </p:blipFill>
        <p:spPr>
          <a:xfrm>
            <a:off x="5651640" y="1413000"/>
            <a:ext cx="1081080" cy="16556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http://umvd56-oren.ru/userfiles/news/519_golod_zastavil_poyti_na_pre.jpeg"/>
          <p:cNvPicPr/>
          <p:nvPr/>
        </p:nvPicPr>
        <p:blipFill>
          <a:blip r:embed="rId5"/>
          <a:stretch/>
        </p:blipFill>
        <p:spPr>
          <a:xfrm>
            <a:off x="1042920" y="3357720"/>
            <a:ext cx="1801800" cy="122364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8" descr="http://ic.pics.livejournal.com/vanilla1673/33408950/1483/1483_640.jpg"/>
          <p:cNvPicPr/>
          <p:nvPr/>
        </p:nvPicPr>
        <p:blipFill>
          <a:blip r:embed="rId6"/>
          <a:stretch/>
        </p:blipFill>
        <p:spPr>
          <a:xfrm>
            <a:off x="4140360" y="3357720"/>
            <a:ext cx="1747800" cy="115092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9" descr="http://img3.proshkolu.ru/content/media/pic/std/2000000/1577000/1576305-1535ba0af27b6de5.png"/>
          <p:cNvPicPr/>
          <p:nvPr/>
        </p:nvPicPr>
        <p:blipFill>
          <a:blip r:embed="rId7"/>
          <a:stretch/>
        </p:blipFill>
        <p:spPr>
          <a:xfrm>
            <a:off x="1187280" y="5013360"/>
            <a:ext cx="13129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0" descr="http://souz-pak.ru/images/1.jpg.jpeg"/>
          <p:cNvPicPr/>
          <p:nvPr/>
        </p:nvPicPr>
        <p:blipFill>
          <a:blip r:embed="rId8"/>
          <a:stretch/>
        </p:blipFill>
        <p:spPr>
          <a:xfrm>
            <a:off x="4427640" y="5084640"/>
            <a:ext cx="169380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153a1"/>
                </a:solidFill>
                <a:latin typeface="Times New Roman"/>
                <a:ea typeface="Times New Roman"/>
              </a:rPr>
              <a:t>Игра «Наоборот»-допиши слова, заменив Р на Л и наоборо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лт-                        бо…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гла-                         иг…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арка-                     сва…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Жарко-                       жа…к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Рисунок 3" descr="http://www.kuklyspb.ru/Cshop/published/publicdata/KUKLYSPBSHOP/attachments/SC/products_pictures/bolt2jl.jpg"/>
          <p:cNvPicPr/>
          <p:nvPr/>
        </p:nvPicPr>
        <p:blipFill>
          <a:blip r:embed="rId1"/>
          <a:stretch/>
        </p:blipFill>
        <p:spPr>
          <a:xfrm>
            <a:off x="826920" y="765000"/>
            <a:ext cx="1584360" cy="1224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4" descr="http://lib.rus.ec/i/68/289568/pic_26.jpg"/>
          <p:cNvPicPr/>
          <p:nvPr/>
        </p:nvPicPr>
        <p:blipFill>
          <a:blip r:embed="rId2"/>
          <a:stretch/>
        </p:blipFill>
        <p:spPr>
          <a:xfrm>
            <a:off x="3564000" y="765000"/>
            <a:ext cx="1944720" cy="1224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http://4.bp.blogspot.com/_jF-HFaRT6Qk/TTcmxa25ukI/AAAAAAAAAhk/PKe33MPsTus/s1600/ThreadedNeedle.jpg"/>
          <p:cNvPicPr/>
          <p:nvPr/>
        </p:nvPicPr>
        <p:blipFill>
          <a:blip r:embed="rId3"/>
          <a:stretch/>
        </p:blipFill>
        <p:spPr>
          <a:xfrm>
            <a:off x="826920" y="2133720"/>
            <a:ext cx="1766880" cy="1197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6" descr="http://www.bodybuild.ru/img/kosti-igralnye-404.jpg"/>
          <p:cNvPicPr/>
          <p:nvPr/>
        </p:nvPicPr>
        <p:blipFill>
          <a:blip r:embed="rId4"/>
          <a:stretch/>
        </p:blipFill>
        <p:spPr>
          <a:xfrm>
            <a:off x="3851280" y="2349360"/>
            <a:ext cx="1657440" cy="117504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7" descr="http://www.prodaem.in.ua/images/47513/0b950ffc11bd2401a9e654ec3f2752ec1.jpg"/>
          <p:cNvPicPr/>
          <p:nvPr/>
        </p:nvPicPr>
        <p:blipFill>
          <a:blip r:embed="rId5"/>
          <a:stretch/>
        </p:blipFill>
        <p:spPr>
          <a:xfrm>
            <a:off x="826920" y="3500280"/>
            <a:ext cx="1719360" cy="14414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8" descr="http://www.vsluh.ru/system/post_images/large/250/250110/%D1%81%D0%B2%D0%B0%D0%BB%D0%BA%D0%B0%20vasha-zemlja.livejournal.com?1340598317"/>
          <p:cNvPicPr/>
          <p:nvPr/>
        </p:nvPicPr>
        <p:blipFill>
          <a:blip r:embed="rId6"/>
          <a:stretch/>
        </p:blipFill>
        <p:spPr>
          <a:xfrm>
            <a:off x="4067280" y="3645000"/>
            <a:ext cx="1724040" cy="12967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9" descr="http://www.begin-online.ru/images/446339.jpg"/>
          <p:cNvPicPr/>
          <p:nvPr/>
        </p:nvPicPr>
        <p:blipFill>
          <a:blip r:embed="rId7"/>
          <a:stretch/>
        </p:blipFill>
        <p:spPr>
          <a:xfrm>
            <a:off x="826920" y="508464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0" descr="http://images.vfl.ru/ii/1346683082/ee652856/888601_m.gif"/>
          <p:cNvPicPr/>
          <p:nvPr/>
        </p:nvPicPr>
        <p:blipFill>
          <a:blip r:embed="rId8"/>
          <a:stretch/>
        </p:blipFill>
        <p:spPr>
          <a:xfrm>
            <a:off x="4211640" y="5157720"/>
            <a:ext cx="158436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изминутка. Проговори чистоговорку и повтори движ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362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О-РО-ЛО, у орла огромное пер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 стороны, имитация полет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Ы-ЛЫ- ЛЫ, шары всегда кругл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оединяем над головой, показываем большой круг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папа прочитал журн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сгибаем в локтях перед собой, смотрим в ладошки и делаем легкие повороты головы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-АР-АЛ, завтра праздник карнава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уки вытягиваем вверх подпрыгивая, показываем радость, кричим ура!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Содержимое 3" descr="http://forum.na-svyazi.ru/uploads/201312/post-148096-1386838823.jpg"/>
          <p:cNvPicPr/>
          <p:nvPr/>
        </p:nvPicPr>
        <p:blipFill>
          <a:blip r:embed="rId1"/>
          <a:stretch/>
        </p:blipFill>
        <p:spPr>
          <a:xfrm>
            <a:off x="3203640" y="765000"/>
            <a:ext cx="213048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73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веселого кост…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ась теплая з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я ма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й спать по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и сильный ку…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йдусь без д…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одя водо…з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одой был много …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казке фея жи...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а была доб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7T09:29:44Z</dcterms:created>
  <dc:creator>SerdyukovaEV</dc:creator>
  <dc:description/>
  <dc:language>en-US</dc:language>
  <cp:lastModifiedBy>Ирина</cp:lastModifiedBy>
  <dcterms:modified xsi:type="dcterms:W3CDTF">2022-01-07T03:52:46Z</dcterms:modified>
  <cp:revision>80</cp:revision>
  <dc:subject/>
  <dc:title>Логопедическое занятие по теме   «Дифференциация звуков &lt;</dc:title>
</cp:coreProperties>
</file>