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5.png" ContentType="image/pn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12.jpeg" ContentType="image/jpeg"/>
  <Override PartName="/ppt/media/image48.png" ContentType="image/png"/>
  <Override PartName="/ppt/media/image38.jpeg" ContentType="image/jpeg"/>
  <Override PartName="/ppt/media/image30.jpeg" ContentType="image/jpeg"/>
  <Override PartName="/ppt/media/image43.png" ContentType="image/png"/>
  <Override PartName="/ppt/media/image4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5.jpeg" ContentType="image/jpeg"/>
  <Override PartName="/ppt/media/image1.jpeg" ContentType="image/jpeg"/>
  <Override PartName="/ppt/media/image47.png" ContentType="image/png"/>
  <Override PartName="/ppt/media/image11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1D1-4D23-4BC6-9A7C-290BD209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651-1D9B-4F17-9462-3E38F683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D65-7672-49EE-8C88-B2867CC9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1D8-FE8A-46F7-9CED-8A3A1693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E8B-E073-4A25-AF43-C7DA7C08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1F1-26E3-4C1C-9AD4-BD5C1AA0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76D-D571-4F09-9115-7C852F00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804-998D-440D-8C62-600BA5E3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D5A-DE29-4580-B8F0-E1AFCB05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34C-928D-46E4-A280-158BA909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3B5-5CF6-4F3C-8F3E-FECCEA8B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1D0-D2A0-4783-9645-78816832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6317-6B8B-4CE2-A1C0-1FFB7BEC9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3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0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13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4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5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8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9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40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png"/><Relationship Id="rId3" Type="http://schemas.openxmlformats.org/officeDocument/2006/relationships/hyperlink" Target="http://z1.foto.rambler.ru/public/igorrr-64/1/171/1-webbig.jpg" TargetMode="External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7.png"/><Relationship Id="rId3" Type="http://schemas.openxmlformats.org/officeDocument/2006/relationships/image" Target="../media/image46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hyperlink" Target="https://www.google.ru/" TargetMode="External"/><Relationship Id="rId6" Type="http://schemas.openxmlformats.org/officeDocument/2006/relationships/hyperlink" Target="http://www.zanimatika.narod.ru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en_pobedy_str_3"/>
          <p:cNvPicPr/>
          <p:nvPr/>
        </p:nvPicPr>
        <p:blipFill>
          <a:blip r:embed="rId1"/>
          <a:stretch/>
        </p:blipFill>
        <p:spPr>
          <a:xfrm>
            <a:off x="-108000" y="0"/>
            <a:ext cx="936000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705320" y="404640"/>
            <a:ext cx="503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яя общеобразовательная школа №2 г.Задон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403280" y="476280"/>
            <a:ext cx="720108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5   Герое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етского Союз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онского райо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6375240" y="5911920"/>
            <a:ext cx="25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СОШ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риллова Ю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bGpgyA6Sll4"/>
          <p:cNvPicPr/>
          <p:nvPr/>
        </p:nvPicPr>
        <p:blipFill>
          <a:blip r:embed="rId2"/>
          <a:stretch/>
        </p:blipFill>
        <p:spPr>
          <a:xfrm>
            <a:off x="468360" y="1052640"/>
            <a:ext cx="1368360" cy="18716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325080" cy="69580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Picture 6" descr="Андрей_Михайлович_Горбунов"/>
          <p:cNvPicPr/>
          <p:nvPr/>
        </p:nvPicPr>
        <p:blipFill>
          <a:blip r:embed="rId4"/>
          <a:stretch/>
        </p:blipFill>
        <p:spPr>
          <a:xfrm>
            <a:off x="1116000" y="1916280"/>
            <a:ext cx="2951280" cy="38890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08" name="Text Box 7"/>
          <p:cNvSpPr/>
          <p:nvPr/>
        </p:nvSpPr>
        <p:spPr>
          <a:xfrm>
            <a:off x="1191960" y="595008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Горб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Андрей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-457848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5-конечная звезда 7"/>
          <p:cNvGrpSpPr/>
          <p:nvPr/>
        </p:nvGrpSpPr>
        <p:grpSpPr>
          <a:xfrm>
            <a:off x="7570800" y="450720"/>
            <a:ext cx="1096920" cy="1212840"/>
            <a:chOff x="7570800" y="450720"/>
            <a:chExt cx="1096920" cy="1212840"/>
          </a:xfrm>
        </p:grpSpPr>
        <p:pic>
          <p:nvPicPr>
            <p:cNvPr id="111" name="5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7570800" y="450720"/>
              <a:ext cx="10969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826400" y="801720"/>
              <a:ext cx="262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15"/>
          <p:cNvSpPr/>
          <p:nvPr/>
        </p:nvSpPr>
        <p:spPr>
          <a:xfrm>
            <a:off x="4818960" y="1627200"/>
            <a:ext cx="36874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Андрей Михайлович Горбу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родился 16 июля 1905 года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в се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Донское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Задонского района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 1927 году был призван в арм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Окончил пехотное училище, перед вой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его направили в Военно-политическ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академию имени Ленина, по оконча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оторой в августе 1941 года Горбун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начили комиссаром полка, сражавшего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од Брянском. Незадолго до начала Кур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битвы подполковник Горбунов ст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омандиром 237-го стрелкового пол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69-й стрелковой дивизии. В октяб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1943 года участвовал в переправе чере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Днепр. Горбунов шёл вместе с десант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переди атакующих, своим пример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оодушевляя бойцов и офицеров. Пол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овладел важной высотой и дерев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Сенская, обеспечив успешную переправ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других ча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За этот подвиг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А.М.Горбунову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присвое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звание Героя Советского Сою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bGpgyA6Sll4"/>
          <p:cNvPicPr/>
          <p:nvPr/>
        </p:nvPicPr>
        <p:blipFill>
          <a:blip r:embed="rId6"/>
          <a:stretch/>
        </p:blipFill>
        <p:spPr>
          <a:xfrm>
            <a:off x="611280" y="260280"/>
            <a:ext cx="71892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6" descr="Горбунов Николай Иванович"/>
          <p:cNvPicPr/>
          <p:nvPr/>
        </p:nvPicPr>
        <p:blipFill>
          <a:blip r:embed="rId4"/>
          <a:stretch/>
        </p:blipFill>
        <p:spPr>
          <a:xfrm>
            <a:off x="1476360" y="1773360"/>
            <a:ext cx="1511280" cy="187164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18" name="Text Box 7"/>
          <p:cNvSpPr/>
          <p:nvPr/>
        </p:nvSpPr>
        <p:spPr>
          <a:xfrm>
            <a:off x="1114200" y="378936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Горб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иколай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4716360" y="1882080"/>
            <a:ext cx="3816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Николай Иванович Горбунов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одился 15 января 1918 года в селе Донско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Эскадрилья под командованием Горбунова сбила 50 вражеских самолё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Указом Президиума Верховного Совета СССР от 2 августа 1944 года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капитану Горбунову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было  присвоено звание Героя Советского Союз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Но эта радостная весть не застала его в живых. 20 мая 1944 года над излучиной Днестра эскадрилья Горбунова вела неравную схватку с численно превосходящими истребителями противника. 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Николай Иванович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получили в этом бою несколько ран, которые оказались смертельными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Горбунов ни"/>
          <p:cNvPicPr/>
          <p:nvPr/>
        </p:nvPicPr>
        <p:blipFill>
          <a:blip r:embed="rId5"/>
          <a:stretch/>
        </p:blipFill>
        <p:spPr>
          <a:xfrm>
            <a:off x="2340000" y="4653000"/>
            <a:ext cx="1871640" cy="201600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1" name="Text Box 10"/>
          <p:cNvSpPr/>
          <p:nvPr/>
        </p:nvSpPr>
        <p:spPr>
          <a:xfrm>
            <a:off x="613800" y="5805360"/>
            <a:ext cx="164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Памят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в че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Горбунова Н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5-конечная звезда 7"/>
          <p:cNvGrpSpPr/>
          <p:nvPr/>
        </p:nvGrpSpPr>
        <p:grpSpPr>
          <a:xfrm>
            <a:off x="7497720" y="450720"/>
            <a:ext cx="1096920" cy="1212840"/>
            <a:chOff x="7497720" y="450720"/>
            <a:chExt cx="1096920" cy="1212840"/>
          </a:xfrm>
        </p:grpSpPr>
        <p:pic>
          <p:nvPicPr>
            <p:cNvPr id="123" name="5-конечная звезда 7" descr=""/>
            <p:cNvPicPr/>
            <p:nvPr/>
          </p:nvPicPr>
          <p:blipFill>
            <a:blip r:embed="rId6"/>
            <a:stretch/>
          </p:blipFill>
          <p:spPr>
            <a:xfrm>
              <a:off x="7497720" y="450720"/>
              <a:ext cx="10969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754760" y="801720"/>
              <a:ext cx="262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14" descr="bGpgyA6Sll4"/>
          <p:cNvPicPr/>
          <p:nvPr/>
        </p:nvPicPr>
        <p:blipFill>
          <a:blip r:embed="rId7"/>
          <a:stretch/>
        </p:blipFill>
        <p:spPr>
          <a:xfrm>
            <a:off x="611280" y="260280"/>
            <a:ext cx="71892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27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7" descr="Зачиняев Пётр Спиридонович"/>
          <p:cNvPicPr/>
          <p:nvPr/>
        </p:nvPicPr>
        <p:blipFill>
          <a:blip r:embed="rId4"/>
          <a:stretch/>
        </p:blipFill>
        <p:spPr>
          <a:xfrm>
            <a:off x="1258920" y="1989000"/>
            <a:ext cx="2592360" cy="36007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9" name="Text Box 8"/>
          <p:cNvSpPr/>
          <p:nvPr/>
        </p:nvSpPr>
        <p:spPr>
          <a:xfrm>
            <a:off x="1262520" y="5734080"/>
            <a:ext cx="24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Зачиня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ётр Спиридо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-465624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5-конечная звезда 7"/>
          <p:cNvGrpSpPr/>
          <p:nvPr/>
        </p:nvGrpSpPr>
        <p:grpSpPr>
          <a:xfrm>
            <a:off x="7570800" y="311040"/>
            <a:ext cx="1096920" cy="1212840"/>
            <a:chOff x="7570800" y="311040"/>
            <a:chExt cx="1096920" cy="1212840"/>
          </a:xfrm>
        </p:grpSpPr>
        <p:pic>
          <p:nvPicPr>
            <p:cNvPr id="132" name="5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7570800" y="311040"/>
              <a:ext cx="10969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826400" y="658800"/>
              <a:ext cx="262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5"/>
          <p:cNvSpPr/>
          <p:nvPr/>
        </p:nvSpPr>
        <p:spPr>
          <a:xfrm>
            <a:off x="4836600" y="1628640"/>
            <a:ext cx="35154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Пётр Спиридонович Зачиняев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родился в 1918 году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в деревне Нечае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Задонского рай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 ночь на 26 сентября лейтенан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Зачиняев вместе с десантниками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атере и буксируемых им понтонах нач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ереправу через Днепр. Под силь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огнём врага катер сделал 5 рейс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ереправив на правый берег бол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тысячи бойцов, боеприпасы, много оруд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и другой техники. Утром Зачиняев повё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атер с понтонами в шестой раз. Снаря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рвались рядом, в небе появились д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мессершмитта. Зажигательные пу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робили бензобак катера. Пулемёт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очередью был тяжело ранен Зачиня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ревозмогая боль, он отцепил горяч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атер от понтонов. Люди и техника бы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спасены. А Зачиняев через три часа уме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За подвиг на Днепре лейтенан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П.С.Зачиняеву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посмертно присвое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звание Героя Советского Сою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6" descr="bGpgyA6Sll4"/>
          <p:cNvPicPr/>
          <p:nvPr/>
        </p:nvPicPr>
        <p:blipFill>
          <a:blip r:embed="rId6"/>
          <a:stretch/>
        </p:blipFill>
        <p:spPr>
          <a:xfrm>
            <a:off x="611280" y="260280"/>
            <a:ext cx="71892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181080" y="0"/>
            <a:ext cx="9468000" cy="69580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5"/>
          <p:cNvSpPr txBox="1"/>
          <p:nvPr/>
        </p:nvSpPr>
        <p:spPr>
          <a:xfrm>
            <a:off x="2050920" y="692280"/>
            <a:ext cx="5096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Picture 6" descr="Николай_Никитович_Зыков"/>
          <p:cNvPicPr/>
          <p:nvPr/>
        </p:nvPicPr>
        <p:blipFill>
          <a:blip r:embed="rId4"/>
          <a:stretch/>
        </p:blipFill>
        <p:spPr>
          <a:xfrm>
            <a:off x="1116000" y="1916280"/>
            <a:ext cx="2664000" cy="37447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39" name="Text Box 7"/>
          <p:cNvSpPr/>
          <p:nvPr/>
        </p:nvSpPr>
        <p:spPr>
          <a:xfrm>
            <a:off x="1263960" y="5805360"/>
            <a:ext cx="22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икол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икитович 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-4511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bGpgyA6Sll4"/>
          <p:cNvPicPr/>
          <p:nvPr/>
        </p:nvPicPr>
        <p:blipFill>
          <a:blip r:embed="rId5"/>
          <a:stretch/>
        </p:blipFill>
        <p:spPr>
          <a:xfrm>
            <a:off x="468360" y="260280"/>
            <a:ext cx="71892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42" name="Rectangle 12"/>
          <p:cNvSpPr/>
          <p:nvPr/>
        </p:nvSpPr>
        <p:spPr>
          <a:xfrm>
            <a:off x="4572000" y="1484280"/>
            <a:ext cx="3887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Николай Никитович Зыков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одился 14 апреля 1915 года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в деревне Поповка.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В конце сентября 1943 года Зыкову было приказано организовать у села Городище переправу через Днепр 38-й стрелковой дивизии. Бойцы под руководством Зыкова сделали паром, под сильным обстрелом переправились на правый берег и разминировали там около пятисот мин. В последующие ночи паром делал по 18 рейсов. Сапёрная рота лейтенанта Зыкова переправила более двух тысяч бойцов и офицеров с вооружением, включая станковые пулемёты, 40 орудий, 60 миномётов, десятки тонн военных гру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За эту переправу указом от 10 января 1944 года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лейтенанту Зыкову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было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181080" y="0"/>
            <a:ext cx="9433080" cy="7029360"/>
          </a:xfrm>
          <a:prstGeom prst="rect">
            <a:avLst/>
          </a:prstGeom>
          <a:ln w="0">
            <a:noFill/>
          </a:ln>
        </p:spPr>
      </p:pic>
      <p:sp>
        <p:nvSpPr>
          <p:cNvPr id="144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Picture 6" descr="Георгий_Фёдорович_Иванов"/>
          <p:cNvPicPr/>
          <p:nvPr/>
        </p:nvPicPr>
        <p:blipFill>
          <a:blip r:embed="rId4"/>
          <a:stretch/>
        </p:blipFill>
        <p:spPr>
          <a:xfrm>
            <a:off x="2627280" y="4221000"/>
            <a:ext cx="1582920" cy="19447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146" name="Picture 8" descr="иванов георгий фёдорович"/>
          <p:cNvPicPr/>
          <p:nvPr/>
        </p:nvPicPr>
        <p:blipFill>
          <a:blip r:embed="rId5"/>
          <a:stretch/>
        </p:blipFill>
        <p:spPr>
          <a:xfrm>
            <a:off x="755640" y="1844640"/>
            <a:ext cx="1584360" cy="2232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47" name="Text Box 9"/>
          <p:cNvSpPr/>
          <p:nvPr/>
        </p:nvSpPr>
        <p:spPr>
          <a:xfrm>
            <a:off x="2629800" y="2492280"/>
            <a:ext cx="148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ва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Геор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Фёд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-4619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bGpgyA6Sll4"/>
          <p:cNvPicPr/>
          <p:nvPr/>
        </p:nvPicPr>
        <p:blipFill>
          <a:blip r:embed="rId6"/>
          <a:stretch/>
        </p:blipFill>
        <p:spPr>
          <a:xfrm>
            <a:off x="468360" y="260280"/>
            <a:ext cx="71892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50" name="Rectangle 14"/>
          <p:cNvSpPr/>
          <p:nvPr/>
        </p:nvSpPr>
        <p:spPr>
          <a:xfrm>
            <a:off x="4643280" y="1268280"/>
            <a:ext cx="38894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Георгий Фёдорович Иванов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лся 25 марта 1918 года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в селе Ксизово Задонского района.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сентябре 1944 года войска под командованием К. К. Рокоссовского вышли к реке Нарев севернее Варшавы. Батальону майора Иванова было поручено первым переправиться через реку. Вплавь они преодолели Нарев. За ними пошли остальные подразделения. Гитлеровцы пытались сбросить батальон Иванова в реку. Они 12 раз при поддержке танков переходили в атаку. Иванов был ранен, но продолжал руководить боем. Враг потерял два танка, семь орудий, около 400 солдат убитыми и более 20 пленны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 этот подвиг указом от 24 марта 1945 года гвардии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майору Иванову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было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6958080"/>
          </a:xfrm>
          <a:prstGeom prst="rect">
            <a:avLst/>
          </a:prstGeom>
          <a:ln w="0">
            <a:noFill/>
          </a:ln>
        </p:spPr>
      </p:pic>
      <p:sp>
        <p:nvSpPr>
          <p:cNvPr id="152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480680" y="5661000"/>
            <a:ext cx="21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обз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тепан Пет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bGpgyA6Sll4"/>
          <p:cNvPicPr/>
          <p:nvPr/>
        </p:nvPicPr>
        <p:blipFill>
          <a:blip r:embed="rId4"/>
          <a:stretch/>
        </p:blipFill>
        <p:spPr>
          <a:xfrm>
            <a:off x="539640" y="260280"/>
            <a:ext cx="71928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155" name="Picture 10" descr="Kobzev SP.jpg"/>
          <p:cNvPicPr/>
          <p:nvPr/>
        </p:nvPicPr>
        <p:blipFill>
          <a:blip r:embed="rId5"/>
          <a:stretch/>
        </p:blipFill>
        <p:spPr>
          <a:xfrm>
            <a:off x="1403280" y="1916280"/>
            <a:ext cx="2448000" cy="35287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56" name="Rectangle 11"/>
          <p:cNvSpPr/>
          <p:nvPr/>
        </p:nvSpPr>
        <p:spPr>
          <a:xfrm>
            <a:off x="4643280" y="1916280"/>
            <a:ext cx="396108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Степан Петрович Кобзев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одился 5 февраля 1915 года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в селе Дегтевое Задонского рай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Начало Великой Отечественной войны старший лейтенант Кобзев, командир звена 65-го штурмового авиационного полка, встретил на северном фрон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К концу 1944 года он совершил 317 боевых вылетов на штурмовку вражеских войск, аэродромов и коммуник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2 ноября 1944 года гвардии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майору Кобзеву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за храбрость и героизм было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6958080"/>
          </a:xfrm>
          <a:prstGeom prst="rect">
            <a:avLst/>
          </a:prstGeom>
          <a:ln w="0">
            <a:noFill/>
          </a:ln>
        </p:spPr>
      </p:pic>
      <p:sp>
        <p:nvSpPr>
          <p:cNvPr id="158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335960" y="587700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ель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емён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Мельников семён иванович"/>
          <p:cNvPicPr/>
          <p:nvPr/>
        </p:nvPicPr>
        <p:blipFill>
          <a:blip r:embed="rId4"/>
          <a:stretch/>
        </p:blipFill>
        <p:spPr>
          <a:xfrm>
            <a:off x="1042920" y="1916280"/>
            <a:ext cx="2952720" cy="38494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61" name="Rectangle 8"/>
          <p:cNvSpPr/>
          <p:nvPr/>
        </p:nvSpPr>
        <p:spPr>
          <a:xfrm>
            <a:off x="4788000" y="1781640"/>
            <a:ext cx="3456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Семён Иванович Мельников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лся в 1902 году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в селе Липовк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 первых дней Отечественной войны Мельников был на Ленинградском фронте. В 1943 году во время переправы через Днепр было решено строить деревянный свайный мост. Руководство работами было возложено на Мельник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 мужество и отвагу, за трудовую доблесть, проявленную при сооружении моста,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генералу Мельникову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17 ноября 1943 года было присвоено звание Героя Советского Союза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bGpgyA6Sll4"/>
          <p:cNvPicPr/>
          <p:nvPr/>
        </p:nvPicPr>
        <p:blipFill>
          <a:blip r:embed="rId5"/>
          <a:stretch/>
        </p:blipFill>
        <p:spPr>
          <a:xfrm>
            <a:off x="539640" y="260280"/>
            <a:ext cx="71928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7029360"/>
          </a:xfrm>
          <a:prstGeom prst="rect">
            <a:avLst/>
          </a:prstGeom>
          <a:ln w="0">
            <a:noFill/>
          </a:ln>
        </p:spPr>
      </p:pic>
      <p:sp>
        <p:nvSpPr>
          <p:cNvPr id="164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192320" y="5877000"/>
            <a:ext cx="26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хальчен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асилий Кирил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MihalchenkoVasiliyKiril_GSS"/>
          <p:cNvPicPr/>
          <p:nvPr/>
        </p:nvPicPr>
        <p:blipFill>
          <a:blip r:embed="rId4"/>
          <a:stretch/>
        </p:blipFill>
        <p:spPr>
          <a:xfrm>
            <a:off x="1187280" y="1989000"/>
            <a:ext cx="2737080" cy="3672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167" name="Picture 9" descr="bGpgyA6Sll4"/>
          <p:cNvPicPr/>
          <p:nvPr/>
        </p:nvPicPr>
        <p:blipFill>
          <a:blip r:embed="rId5"/>
          <a:stretch/>
        </p:blipFill>
        <p:spPr>
          <a:xfrm>
            <a:off x="539640" y="260280"/>
            <a:ext cx="71928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68" name="Rectangle 10"/>
          <p:cNvSpPr/>
          <p:nvPr/>
        </p:nvSpPr>
        <p:spPr>
          <a:xfrm>
            <a:off x="4572000" y="1773360"/>
            <a:ext cx="41036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Василий Кириллович Михальченко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одился в 1915 году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в Задонске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24 сентября 1943 года младший сержант Василий Михальченко при форсировании Днепра совершил героический подвиг. Враги яростно обстреливали наступающих. Маскируясь в кустарнике, Михальченко гранатами уничтожил огневую точку. Бросился к следующей, и в этот момент его сразила вражеская пу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Василий Михальченко был похоронен у деревни Тарасовичи под Кие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17 октября 1943 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Михальченко В.К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. посмертно было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70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1" name="Picture 6" descr="Михаил_Иосифович_Родионов"/>
          <p:cNvPicPr/>
          <p:nvPr/>
        </p:nvPicPr>
        <p:blipFill>
          <a:blip r:embed="rId4"/>
          <a:stretch/>
        </p:blipFill>
        <p:spPr>
          <a:xfrm>
            <a:off x="755640" y="1557360"/>
            <a:ext cx="1800360" cy="2374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172" name="Picture 7" descr="200px-Могила_Героя_Советского_Союза_Михаила_Родионова"/>
          <p:cNvPicPr/>
          <p:nvPr/>
        </p:nvPicPr>
        <p:blipFill>
          <a:blip r:embed="rId5"/>
          <a:stretch/>
        </p:blipFill>
        <p:spPr>
          <a:xfrm>
            <a:off x="2411280" y="4076640"/>
            <a:ext cx="2016360" cy="26161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73" name="Text Box 8"/>
          <p:cNvSpPr/>
          <p:nvPr/>
        </p:nvSpPr>
        <p:spPr>
          <a:xfrm>
            <a:off x="2703960" y="2781360"/>
            <a:ext cx="15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одио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ха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осиф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-4538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bGpgyA6Sll4"/>
          <p:cNvPicPr/>
          <p:nvPr/>
        </p:nvPicPr>
        <p:blipFill>
          <a:blip r:embed="rId6"/>
          <a:stretch/>
        </p:blipFill>
        <p:spPr>
          <a:xfrm>
            <a:off x="611280" y="260280"/>
            <a:ext cx="71892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76" name="Rectangle 13"/>
          <p:cNvSpPr/>
          <p:nvPr/>
        </p:nvSpPr>
        <p:spPr>
          <a:xfrm>
            <a:off x="4643280" y="1341360"/>
            <a:ext cx="388800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Михаил Иосифович Родионов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одился в 1902 году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в деревне Первое Колесо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Летом 1944 года бригаде полковника Родионова вместе с другими соединениями 3-го Белорусского фронта предстояло выйти к реке Березина и форсировать её с ходу. Совершив марш по бездорожью, бригада глубокой ночью сосредоточилась у города Лепеля и начала его штурм. Утром над городом взвилось красное знамя. Затем форсировали Березину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За умелое руководство войсками и личную храбрость, проявленную при форсировании реки Березины и при разгроме гитлеровского гарнизона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г. Лепель, 4 июля 1944 года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полковник Родионов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был удостоен звания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6958080"/>
          </a:xfrm>
          <a:prstGeom prst="rect">
            <a:avLst/>
          </a:prstGeom>
          <a:ln w="0">
            <a:noFill/>
          </a:ln>
        </p:spPr>
      </p:pic>
      <p:sp>
        <p:nvSpPr>
          <p:cNvPr id="178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326240" y="508464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тепанищ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хаил Тихо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-446724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peop_01"/>
          <p:cNvPicPr/>
          <p:nvPr/>
        </p:nvPicPr>
        <p:blipFill>
          <a:blip r:embed="rId4"/>
          <a:stretch/>
        </p:blipFill>
        <p:spPr>
          <a:xfrm>
            <a:off x="1187280" y="1773360"/>
            <a:ext cx="2664000" cy="31683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182" name="Picture 10" descr="bGpgyA6Sll4"/>
          <p:cNvPicPr/>
          <p:nvPr/>
        </p:nvPicPr>
        <p:blipFill>
          <a:blip r:embed="rId5"/>
          <a:stretch/>
        </p:blipFill>
        <p:spPr>
          <a:xfrm>
            <a:off x="539640" y="260280"/>
            <a:ext cx="71928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83" name="Rectangle 11"/>
          <p:cNvSpPr/>
          <p:nvPr/>
        </p:nvSpPr>
        <p:spPr>
          <a:xfrm>
            <a:off x="4643280" y="1413000"/>
            <a:ext cx="3816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Михаил Тихонович Степанищев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одился 12 декабря 1917 года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в деревне Первое Колесово Задонского район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Указом Президиума Верховного Совета СССР от 26 октября 1944 года за 127 успешных боевых вылетов на штурмовку аэродромов, артиллерийских позиций и скоплений живой силы и техники противника под Сталинградом, при освобождении Кавказа, Донбасса, Крыма, штурману 76 гвардейского штурмового авиационного полка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капитан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М. Т. Степанищеву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было присвоено звание Героя Советского Союз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29 июня 1945 года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Степанищев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был второй раз удостоен звания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3348000" y="907920"/>
            <a:ext cx="28195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держание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1191240" y="2276640"/>
            <a:ext cx="653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. 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2. В муз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3. Герои Задонского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4. 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5.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216000" y="0"/>
            <a:ext cx="9360000" cy="7029360"/>
          </a:xfrm>
          <a:prstGeom prst="rect">
            <a:avLst/>
          </a:prstGeom>
          <a:ln w="0">
            <a:noFill/>
          </a:ln>
        </p:spPr>
      </p:pic>
      <p:sp>
        <p:nvSpPr>
          <p:cNvPr id="185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263600" y="566100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Трубиц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хаил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peop_13"/>
          <p:cNvPicPr/>
          <p:nvPr/>
        </p:nvPicPr>
        <p:blipFill>
          <a:blip r:embed="rId4"/>
          <a:stretch/>
        </p:blipFill>
        <p:spPr>
          <a:xfrm>
            <a:off x="1042920" y="1773360"/>
            <a:ext cx="2592360" cy="36003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88" name="Rectangle 11"/>
          <p:cNvSpPr/>
          <p:nvPr/>
        </p:nvSpPr>
        <p:spPr>
          <a:xfrm>
            <a:off x="-459252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-46004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6" descr="bGpgyA6Sll4"/>
          <p:cNvPicPr/>
          <p:nvPr/>
        </p:nvPicPr>
        <p:blipFill>
          <a:blip r:embed="rId5"/>
          <a:stretch/>
        </p:blipFill>
        <p:spPr>
          <a:xfrm>
            <a:off x="395280" y="260280"/>
            <a:ext cx="71928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91" name="Rectangle 17"/>
          <p:cNvSpPr/>
          <p:nvPr/>
        </p:nvSpPr>
        <p:spPr>
          <a:xfrm>
            <a:off x="4643280" y="1413000"/>
            <a:ext cx="3600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Михаил Иванович Трубицын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родился 11 января 1905 года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в се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В. Студенец Задонского района.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 конце января 1945 года капитан Трубицын был назначен командиром механизированного подвижного отряда. Ему было поручено прорваться в тыл врага в 75 километрах под Бреслау, овладеть мостом через Одер и удерживать его до подхода главных сил бригады. Отряд под огнём врага вышел к Одеру, но мост, к которому они пробивались, фашисты уже взорвали. Отряд форсировал реку на подручных средствах. Разгорелся бой. Гвардейцы стояли насмерть. Трубицын был ранен, но остался в строю. Бойцы уничтожили 7 пулемётов, склад боеприпасов, захватили 20 автомаши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За этот подвиг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капитану Трубицыну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10 апреля 1945 года было присвоено звание Героя Советского Сою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7085160"/>
          </a:xfrm>
          <a:prstGeom prst="rect">
            <a:avLst/>
          </a:prstGeom>
          <a:ln w="0">
            <a:noFill/>
          </a:ln>
        </p:spPr>
      </p:pic>
      <p:sp>
        <p:nvSpPr>
          <p:cNvPr id="193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9" descr="img450"/>
          <p:cNvPicPr/>
          <p:nvPr/>
        </p:nvPicPr>
        <p:blipFill>
          <a:blip r:embed="rId4"/>
          <a:stretch/>
        </p:blipFill>
        <p:spPr>
          <a:xfrm>
            <a:off x="1187280" y="1989000"/>
            <a:ext cx="2592720" cy="36734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95" name="Rectangle 10"/>
          <p:cNvSpPr/>
          <p:nvPr/>
        </p:nvSpPr>
        <p:spPr>
          <a:xfrm>
            <a:off x="1337760" y="5877000"/>
            <a:ext cx="21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Хвос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авел Никит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4643280" y="1413000"/>
            <a:ext cx="374508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Павел Никитич Хвостов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родился 18 декабря 1906 года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в селе Каменка Задонского рай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С июня 1943 года стал начальником инженерных войск 57-й армии. 21 октября 1943 года полковник Хвостов вместе с бойцами строил мост через Днепр у села Шульговка Днепропетровской области. По мосту на правый берег двинулись войска, техника. Враг открыл артиллерийский огонь. Один из снарядов попал в группу офицеров, в которой был Хвос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авел Никитич был ранен в голову и живот. Его переправили в госпиталь в Харьков, затем в Моск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Только через 103 дня он пришёл в сознание и тогда узнал весть о присвоении ему указом от 20 декабря 1943 года звания Героя Советского Союза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Хвостов перенес 20 операций, много лет лечи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 1948 году поселился в Задонске. Через три года он лишился зрения. 31 июля 1977 года П. Н. Хвостов сконча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bGpgyA6Sll4"/>
          <p:cNvPicPr/>
          <p:nvPr/>
        </p:nvPicPr>
        <p:blipFill>
          <a:blip r:embed="rId5"/>
          <a:stretch/>
        </p:blipFill>
        <p:spPr>
          <a:xfrm>
            <a:off x="539640" y="260280"/>
            <a:ext cx="71928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7029360"/>
          </a:xfrm>
          <a:prstGeom prst="rect">
            <a:avLst/>
          </a:prstGeom>
          <a:ln w="0">
            <a:noFill/>
          </a:ln>
        </p:spPr>
      </p:pic>
      <p:sp>
        <p:nvSpPr>
          <p:cNvPr id="199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60680" y="4724280"/>
            <a:ext cx="15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Чурс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ха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аве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img443"/>
          <p:cNvPicPr/>
          <p:nvPr/>
        </p:nvPicPr>
        <p:blipFill>
          <a:blip r:embed="rId4"/>
          <a:stretch/>
        </p:blipFill>
        <p:spPr>
          <a:xfrm>
            <a:off x="900000" y="1557360"/>
            <a:ext cx="1873440" cy="2232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202" name="Rectangle 9"/>
          <p:cNvSpPr/>
          <p:nvPr/>
        </p:nvSpPr>
        <p:spPr>
          <a:xfrm>
            <a:off x="-46213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peop_09"/>
          <p:cNvPicPr/>
          <p:nvPr/>
        </p:nvPicPr>
        <p:blipFill>
          <a:blip r:embed="rId5"/>
          <a:stretch/>
        </p:blipFill>
        <p:spPr>
          <a:xfrm>
            <a:off x="2627280" y="4076640"/>
            <a:ext cx="1657440" cy="21607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204" name="Picture 11" descr="bGpgyA6Sll4"/>
          <p:cNvPicPr/>
          <p:nvPr/>
        </p:nvPicPr>
        <p:blipFill>
          <a:blip r:embed="rId6"/>
          <a:stretch/>
        </p:blipFill>
        <p:spPr>
          <a:xfrm>
            <a:off x="539640" y="260280"/>
            <a:ext cx="71928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205" name="Rectangle 12"/>
          <p:cNvSpPr/>
          <p:nvPr/>
        </p:nvSpPr>
        <p:spPr>
          <a:xfrm>
            <a:off x="4788000" y="1484280"/>
            <a:ext cx="374472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Миха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Савельевич Чурсин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лся 18 сентября 1922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12 марта 1945 года северо-восточнее озера Балатон в Венгрии на расчет Чурсина пошло сразу несколько "тигров". Пять танков бойцы подбили, а потом рядом с ними разорвались два снаряда. Погибли все, кроме Чурсина. Он продолжал бой один, подбил еще четыре танка, но погиб и сам. Похоронен в братской могиле советских воинов на кладбище венгерского города Пустасаблоч. 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Указом от 29 июня 1945 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. С. Чурсину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посмертно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4716360" y="1125360"/>
            <a:ext cx="345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адонщина... Леса зелё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Дон, что шлёт седых гонц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тихо головы склонё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д светлой памятью бойц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травы, что давно не коше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вздохи матери-зем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кие семена не броше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кие думы не взошли?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5-конечная звезда 7"/>
          <p:cNvGrpSpPr/>
          <p:nvPr/>
        </p:nvGrpSpPr>
        <p:grpSpPr>
          <a:xfrm>
            <a:off x="817560" y="324000"/>
            <a:ext cx="1528920" cy="1620720"/>
            <a:chOff x="817560" y="324000"/>
            <a:chExt cx="1528920" cy="1620720"/>
          </a:xfrm>
        </p:grpSpPr>
        <p:pic>
          <p:nvPicPr>
            <p:cNvPr id="209" name="5-конечная звезда 7" descr=""/>
            <p:cNvPicPr/>
            <p:nvPr/>
          </p:nvPicPr>
          <p:blipFill>
            <a:blip r:embed="rId2"/>
            <a:stretch/>
          </p:blipFill>
          <p:spPr>
            <a:xfrm>
              <a:off x="817560" y="324000"/>
              <a:ext cx="15289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204920" y="826920"/>
              <a:ext cx="43020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2" descr="Картинка 1 из 4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4365720"/>
            <a:ext cx="4075200" cy="2324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9_may_2013_1"/>
          <p:cNvPicPr/>
          <p:nvPr/>
        </p:nvPicPr>
        <p:blipFill>
          <a:blip r:embed="rId5"/>
          <a:stretch/>
        </p:blipFill>
        <p:spPr>
          <a:xfrm>
            <a:off x="1042920" y="1773360"/>
            <a:ext cx="2857680" cy="4573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822240" y="2134080"/>
            <a:ext cx="749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должны забывать  про военные события, потому, что за наш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олучную жизнь было отдано много жизней. Люди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жались,  хотели чтобы  их дети жили в будущем под мирным неб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роливали кровь  за наше безоблачное настоящее и будущ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имеем право забывать наших предков, мы должны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ны им за их мужество и отвагу, за храбрость и доблест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, которые происходили в те грозные годы, были решающим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и. Ведь если бы не победили наши воины в этой войне, я прос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юсь  представить, что было бы с нашим народом и стра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" descr=""/>
          <p:cNvPicPr/>
          <p:nvPr/>
        </p:nvPicPr>
        <p:blipFill>
          <a:blip r:embed="rId2"/>
          <a:stretch/>
        </p:blipFill>
        <p:spPr>
          <a:xfrm>
            <a:off x="971640" y="5373720"/>
            <a:ext cx="7200720" cy="981000"/>
          </a:xfrm>
          <a:prstGeom prst="rect">
            <a:avLst/>
          </a:prstGeom>
          <a:ln w="0">
            <a:noFill/>
          </a:ln>
        </p:spPr>
      </p:pic>
      <p:sp>
        <p:nvSpPr>
          <p:cNvPr id="216" name="WordArt 9"/>
          <p:cNvSpPr txBox="1"/>
          <p:nvPr/>
        </p:nvSpPr>
        <p:spPr>
          <a:xfrm>
            <a:off x="3419640" y="1125360"/>
            <a:ext cx="2342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ключен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829080" y="765000"/>
            <a:ext cx="343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охнулись канон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мире тиш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большой земле однаж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чилась вой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349000" y="2060640"/>
            <a:ext cx="40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удем жить, встречать рассве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ерить и люб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олько не забыть бы эт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шь бы не забы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4788000" y="3357720"/>
            <a:ext cx="345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вятое мая – великая да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то знает, что было б тог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орок пя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гда бы и прад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и д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нас не до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ликой Побе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5-конечная звезда 7"/>
          <p:cNvGrpSpPr/>
          <p:nvPr/>
        </p:nvGrpSpPr>
        <p:grpSpPr>
          <a:xfrm>
            <a:off x="6095880" y="334800"/>
            <a:ext cx="2335320" cy="2341800"/>
            <a:chOff x="6095880" y="334800"/>
            <a:chExt cx="2335320" cy="2341800"/>
          </a:xfrm>
        </p:grpSpPr>
        <p:pic>
          <p:nvPicPr>
            <p:cNvPr id="222" name="5-конечная звезда 7" descr=""/>
            <p:cNvPicPr/>
            <p:nvPr/>
          </p:nvPicPr>
          <p:blipFill>
            <a:blip r:embed="rId2"/>
            <a:stretch/>
          </p:blipFill>
          <p:spPr>
            <a:xfrm>
              <a:off x="6095880" y="334800"/>
              <a:ext cx="2335320" cy="23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732720" y="1117440"/>
              <a:ext cx="738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1" descr=""/>
          <p:cNvPicPr/>
          <p:nvPr/>
        </p:nvPicPr>
        <p:blipFill>
          <a:blip r:embed="rId3"/>
          <a:stretch/>
        </p:blipFill>
        <p:spPr>
          <a:xfrm>
            <a:off x="611280" y="5589720"/>
            <a:ext cx="7993080" cy="98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9_maja_14"/>
          <p:cNvPicPr/>
          <p:nvPr/>
        </p:nvPicPr>
        <p:blipFill>
          <a:blip r:embed="rId4"/>
          <a:stretch/>
        </p:blipFill>
        <p:spPr>
          <a:xfrm>
            <a:off x="971640" y="3357720"/>
            <a:ext cx="3168720" cy="2158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" descr=""/>
          <p:cNvPicPr/>
          <p:nvPr/>
        </p:nvPicPr>
        <p:blipFill>
          <a:blip r:embed="rId2"/>
          <a:stretch/>
        </p:blipFill>
        <p:spPr>
          <a:xfrm>
            <a:off x="971640" y="5373720"/>
            <a:ext cx="7200720" cy="981000"/>
          </a:xfrm>
          <a:prstGeom prst="rect">
            <a:avLst/>
          </a:prstGeom>
          <a:ln w="0">
            <a:noFill/>
          </a:ln>
        </p:spPr>
      </p:pic>
      <p:sp>
        <p:nvSpPr>
          <p:cNvPr id="228" name="WordArt 7"/>
          <p:cNvSpPr txBox="1"/>
          <p:nvPr/>
        </p:nvSpPr>
        <p:spPr>
          <a:xfrm>
            <a:off x="1476360" y="1341360"/>
            <a:ext cx="583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итература, интернет ресурс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332720" y="2492280"/>
            <a:ext cx="593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s://www.google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фото ветеранов, мемо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Личные фото в муз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Материал взят из краеведческого музея г.Задон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zanimatika.narod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их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Великой Отечественной 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737280" y="981000"/>
            <a:ext cx="7637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я слышу о Великой  Отечественной  войне, у меня на душе становится оче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евожно и печально. Словно «война» вызывает очень неприятные ощущения тревог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и, отчаяния, потому что на войне было пролито столько крови! Сколько детишек в 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озные годы осталось без папы, мамы, без близких людей!  А сколько людей погибло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ды Великой Отечественн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 рассказать о войне, о земляках – Задонского района для того, чтобы люд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няли, как страшно, когда над головой жутко ревут вражеские самолё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нзительно свистят снаряды, когда не уверен, проснёшься ли ты завтра или н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асскажу о ГЕРОЯХ – земляках, чтобы люди не смели забывать о том гроз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ени и не допустили повторения страданий и гибели неповинных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755640" y="404640"/>
            <a:ext cx="1886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ВЕДЕНИ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12" descr="SDC10913"/>
          <p:cNvPicPr/>
          <p:nvPr/>
        </p:nvPicPr>
        <p:blipFill>
          <a:blip r:embed="rId4"/>
          <a:stretch/>
        </p:blipFill>
        <p:spPr>
          <a:xfrm>
            <a:off x="900000" y="3500280"/>
            <a:ext cx="3313080" cy="29530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grpSp>
        <p:nvGrpSpPr>
          <p:cNvPr id="53" name="5-конечная звезда 7"/>
          <p:cNvGrpSpPr/>
          <p:nvPr/>
        </p:nvGrpSpPr>
        <p:grpSpPr>
          <a:xfrm>
            <a:off x="7643880" y="304920"/>
            <a:ext cx="1116000" cy="1060200"/>
            <a:chOff x="7643880" y="304920"/>
            <a:chExt cx="1116000" cy="1060200"/>
          </a:xfrm>
        </p:grpSpPr>
        <p:pic>
          <p:nvPicPr>
            <p:cNvPr id="54" name="5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7643880" y="304920"/>
              <a:ext cx="111600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905600" y="598320"/>
              <a:ext cx="271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17" descr="bGpgyA6Sll4"/>
          <p:cNvPicPr/>
          <p:nvPr/>
        </p:nvPicPr>
        <p:blipFill>
          <a:blip r:embed="rId6"/>
          <a:stretch/>
        </p:blipFill>
        <p:spPr>
          <a:xfrm>
            <a:off x="5508720" y="3573360"/>
            <a:ext cx="2028600" cy="27291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738720" y="5156640"/>
            <a:ext cx="762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с классом мы ходили в краеведческий музей. Меня очень заинтересов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, посвящённый землякам-участникам Великой Отечественной войны. Там 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видели много интересных и ценных экспонатов времён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0_10194b_f64e1b6d_XL"/>
          <p:cNvPicPr/>
          <p:nvPr/>
        </p:nvPicPr>
        <p:blipFill>
          <a:blip r:embed="rId2"/>
          <a:stretch/>
        </p:blipFill>
        <p:spPr>
          <a:xfrm>
            <a:off x="1835280" y="1341360"/>
            <a:ext cx="5903640" cy="3672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60" name="WordArt 8"/>
          <p:cNvSpPr txBox="1"/>
          <p:nvPr/>
        </p:nvSpPr>
        <p:spPr>
          <a:xfrm>
            <a:off x="755640" y="476280"/>
            <a:ext cx="194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МУЗЕ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843120" y="1037520"/>
            <a:ext cx="6977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узее хранятся подлинные предметы Великой Отечеств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й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аив дыхание мы слушали рассказ о том, как в летний д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42 года немецкие солдаты бомбили торговую площадь г.Задонс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было много мирных жителей: женщин, стариков, детей. В пам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 этом событии, на торговой площади установлена мемориа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с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очётном месте в музее расположены фотограф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оев Советского Союза Задонского рай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 музея, Дунаева Е.А., показала нам гильзы от снаряд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ринное оружие, личные вещи, фронтовые письма принадлежавш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лдат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1"/>
          <p:cNvSpPr txBox="1"/>
          <p:nvPr/>
        </p:nvSpPr>
        <p:spPr>
          <a:xfrm>
            <a:off x="755640" y="476280"/>
            <a:ext cx="194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МУЗЕ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12" descr="SDC10905"/>
          <p:cNvPicPr/>
          <p:nvPr/>
        </p:nvPicPr>
        <p:blipFill>
          <a:blip r:embed="rId4"/>
          <a:stretch/>
        </p:blipFill>
        <p:spPr>
          <a:xfrm>
            <a:off x="1042920" y="4221000"/>
            <a:ext cx="1728720" cy="22780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65" name="Picture 13" descr="SDC10909"/>
          <p:cNvPicPr/>
          <p:nvPr/>
        </p:nvPicPr>
        <p:blipFill>
          <a:blip r:embed="rId5"/>
          <a:stretch/>
        </p:blipFill>
        <p:spPr>
          <a:xfrm>
            <a:off x="6372360" y="4221000"/>
            <a:ext cx="1800000" cy="23050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66" name="Picture 18" descr="SDC10915"/>
          <p:cNvPicPr/>
          <p:nvPr/>
        </p:nvPicPr>
        <p:blipFill>
          <a:blip r:embed="rId6"/>
          <a:stretch/>
        </p:blipFill>
        <p:spPr>
          <a:xfrm>
            <a:off x="3059280" y="4221000"/>
            <a:ext cx="3095280" cy="22323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67" name="Picture 19" descr="bGpgyA6Sll4"/>
          <p:cNvPicPr/>
          <p:nvPr/>
        </p:nvPicPr>
        <p:blipFill>
          <a:blip r:embed="rId7"/>
          <a:stretch/>
        </p:blipFill>
        <p:spPr>
          <a:xfrm>
            <a:off x="7667640" y="260280"/>
            <a:ext cx="71928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139040" y="1127880"/>
            <a:ext cx="66942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глядывая стенды с пожелтевшими военными фотография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дной из  них вдруг узнала своего дважды героя ССС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епанищева Михаила Тихоновича, про которого мне рассказала ма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руководитель музея), Дунаева Е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очется слушать и слушать её задушевные рассказы о Вели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ечественной войне, о героях-земляках отважно сражавшихся за родн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емлю, за нашу мирную жиз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755640" y="404640"/>
            <a:ext cx="194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МУЗЕ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1" name="5-конечная звезда 7"/>
          <p:cNvGrpSpPr/>
          <p:nvPr/>
        </p:nvGrpSpPr>
        <p:grpSpPr>
          <a:xfrm>
            <a:off x="7497720" y="237960"/>
            <a:ext cx="1096920" cy="1146240"/>
            <a:chOff x="7497720" y="237960"/>
            <a:chExt cx="1096920" cy="1146240"/>
          </a:xfrm>
        </p:grpSpPr>
        <p:pic>
          <p:nvPicPr>
            <p:cNvPr id="72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497720" y="237960"/>
              <a:ext cx="1096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754760" y="561960"/>
              <a:ext cx="2620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11" descr="IMG_0608"/>
          <p:cNvPicPr/>
          <p:nvPr/>
        </p:nvPicPr>
        <p:blipFill>
          <a:blip r:embed="rId5"/>
          <a:stretch/>
        </p:blipFill>
        <p:spPr>
          <a:xfrm>
            <a:off x="5292720" y="3141720"/>
            <a:ext cx="2448000" cy="32115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75" name="Picture 12" descr="IMG_0612"/>
          <p:cNvPicPr/>
          <p:nvPr/>
        </p:nvPicPr>
        <p:blipFill>
          <a:blip r:embed="rId6"/>
          <a:stretch/>
        </p:blipFill>
        <p:spPr>
          <a:xfrm>
            <a:off x="1187280" y="3213000"/>
            <a:ext cx="2735280" cy="30974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914760" y="1200600"/>
            <a:ext cx="66805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убеждена, что мы должны не только знать о войне, н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пустить через своё сердце то страдание, которое выпа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олю наших прадедушек, прабабушек. Тогда мы будем боль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ить мир и благополучие и прикладывать все усилия, чтобы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тить раздора среди людей, не допустить войны! А где, как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узее можно прикоснуться к тем огненным год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ещё мне хочется сообщить о том, что с трепетом в сердце 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шали рассказ о бравых героях – Задонского рай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, что о них нам рассказала Дунаева Е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755640" y="476280"/>
            <a:ext cx="194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МУЗЕ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02.avi" descr=""/>
          <p:cNvPicPr/>
          <p:nvPr/>
        </p:nvPicPr>
        <p:blipFill>
          <a:blip r:embed="rId4"/>
          <a:stretch/>
        </p:blipFill>
        <p:spPr>
          <a:xfrm>
            <a:off x="1042920" y="3860640"/>
            <a:ext cx="3048120" cy="2286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80" name="Rectangle 9"/>
          <p:cNvSpPr/>
          <p:nvPr/>
        </p:nvSpPr>
        <p:spPr>
          <a:xfrm>
            <a:off x="4572000" y="400536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ашистские т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тумане рос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уча на небе тем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ый снаря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орвался вд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к началась вой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5-конечная звезда 7"/>
          <p:cNvGrpSpPr/>
          <p:nvPr/>
        </p:nvGrpSpPr>
        <p:grpSpPr>
          <a:xfrm>
            <a:off x="7497720" y="237960"/>
            <a:ext cx="1096920" cy="1212840"/>
            <a:chOff x="7497720" y="237960"/>
            <a:chExt cx="1096920" cy="1212840"/>
          </a:xfrm>
        </p:grpSpPr>
        <p:pic>
          <p:nvPicPr>
            <p:cNvPr id="82" name="5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7497720" y="237960"/>
              <a:ext cx="10969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754760" y="585720"/>
              <a:ext cx="262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-455148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-455148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Боев_Иван_Капитонович"/>
          <p:cNvPicPr/>
          <p:nvPr/>
        </p:nvPicPr>
        <p:blipFill>
          <a:blip r:embed="rId2"/>
          <a:stretch/>
        </p:blipFill>
        <p:spPr>
          <a:xfrm>
            <a:off x="1258920" y="1773360"/>
            <a:ext cx="2808360" cy="41068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88" name="Text Box 12"/>
          <p:cNvSpPr/>
          <p:nvPr/>
        </p:nvSpPr>
        <p:spPr>
          <a:xfrm>
            <a:off x="1480320" y="59500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Бо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ван Капито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13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0" name="5-конечная звезда 7"/>
          <p:cNvGrpSpPr/>
          <p:nvPr/>
        </p:nvGrpSpPr>
        <p:grpSpPr>
          <a:xfrm>
            <a:off x="7570800" y="384120"/>
            <a:ext cx="1096920" cy="1206720"/>
            <a:chOff x="7570800" y="384120"/>
            <a:chExt cx="1096920" cy="1206720"/>
          </a:xfrm>
        </p:grpSpPr>
        <p:pic>
          <p:nvPicPr>
            <p:cNvPr id="91" name="5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7570800" y="384120"/>
              <a:ext cx="109692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826400" y="730080"/>
              <a:ext cx="2620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7"/>
          <p:cNvSpPr/>
          <p:nvPr/>
        </p:nvSpPr>
        <p:spPr>
          <a:xfrm>
            <a:off x="4791960" y="1700280"/>
            <a:ext cx="3650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Иван Капитонович Боев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родился 6 сентября 1924 года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в селе Ксизо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Задонского района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 сентябре 1943 года вблизи села Лютеж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од Киевом группа сапёров п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омандованием старшего сержанта Бое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ереправившись на правый берег Днепр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од ожесточённым огнём враг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обеспечивала высадку на плацдар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одразделений стрелкового пол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Гитлеровцы отбросили их к ре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Сапёры дождались темноты и внезап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орвались в расположение враг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Фашисты захваченные врасплох, сдали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без бо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Иван Боев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с бойцами переплыл Днепр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доставил в часть пленных и це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разведдан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За этот подвиг указом от 17 октябр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1943 года старшему сержанту Боеву был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рисвоено звание Героя Советского Сою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8" descr="bGpgyA6Sll4"/>
          <p:cNvPicPr/>
          <p:nvPr/>
        </p:nvPicPr>
        <p:blipFill>
          <a:blip r:embed="rId6"/>
          <a:stretch/>
        </p:blipFill>
        <p:spPr>
          <a:xfrm>
            <a:off x="611280" y="260280"/>
            <a:ext cx="71892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6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6" descr="Иван_Фёдорович_Воронин"/>
          <p:cNvPicPr/>
          <p:nvPr/>
        </p:nvPicPr>
        <p:blipFill>
          <a:blip r:embed="rId4"/>
          <a:stretch/>
        </p:blipFill>
        <p:spPr>
          <a:xfrm>
            <a:off x="1116000" y="1773360"/>
            <a:ext cx="2879640" cy="37432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98" name="Text Box 7"/>
          <p:cNvSpPr/>
          <p:nvPr/>
        </p:nvSpPr>
        <p:spPr>
          <a:xfrm>
            <a:off x="1479240" y="580536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орон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ван Фёд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-46371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5-конечная звезда 7"/>
          <p:cNvGrpSpPr/>
          <p:nvPr/>
        </p:nvGrpSpPr>
        <p:grpSpPr>
          <a:xfrm>
            <a:off x="7497720" y="450720"/>
            <a:ext cx="1096920" cy="1212840"/>
            <a:chOff x="7497720" y="450720"/>
            <a:chExt cx="1096920" cy="1212840"/>
          </a:xfrm>
        </p:grpSpPr>
        <p:pic>
          <p:nvPicPr>
            <p:cNvPr id="101" name="5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7497720" y="450720"/>
              <a:ext cx="10969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754760" y="801720"/>
              <a:ext cx="262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4"/>
          <p:cNvSpPr/>
          <p:nvPr/>
        </p:nvSpPr>
        <p:spPr>
          <a:xfrm>
            <a:off x="4839120" y="1844640"/>
            <a:ext cx="34498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Иван Фёдорович Воронин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родился 15 июня 1916 года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в дерев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Мухино Задонского рай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9 августа 1945 года наша стра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ерная союзническому долгу, вступила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ойну с Японией. Советской мор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авиации предстояло системат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массированными ударами лиш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ротивника возможности баз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ораблей и судов, обеспечить высад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десанта в портах Юки, Расин и Сейс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За умелое руководство эскадриль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штурмовиков, за храбрость подчинён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лётчиков и личный героизм, проявле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 боях с японскими милитариста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14 сентября 1945 года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капитан Воронин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был удостоен звания Героя Совет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Сою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5" descr="bGpgyA6Sll4"/>
          <p:cNvPicPr/>
          <p:nvPr/>
        </p:nvPicPr>
        <p:blipFill>
          <a:blip r:embed="rId6"/>
          <a:stretch/>
        </p:blipFill>
        <p:spPr>
          <a:xfrm>
            <a:off x="611280" y="260280"/>
            <a:ext cx="71892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8:46:34Z</dcterms:created>
  <dc:creator>root</dc:creator>
  <dc:description/>
  <dc:language>en-US</dc:language>
  <cp:lastModifiedBy>11</cp:lastModifiedBy>
  <dcterms:modified xsi:type="dcterms:W3CDTF">2019-08-27T22:54:37Z</dcterms:modified>
  <cp:revision>17</cp:revision>
  <dc:subject/>
  <dc:title>Слайд 1</dc:title>
</cp:coreProperties>
</file>