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041-B3E4-4C69-8231-CE5D096CF4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FE1-D1CA-49B8-B3E9-C16C7A21FB8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716C-A7E7-4D40-B33A-F9C07F7FBFFF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EFA-36D7-4FB8-9514-22E8A81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829-C2EC-4A5F-BEDE-D0575BB4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500-6070-4FB7-A7EB-3AA4216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EF8-C0F3-47F5-BEAE-0C2BD92C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713-9577-4059-A4E1-5EFD1AB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2F1F-3959-471E-BE9C-E818CCAC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F0C-17E6-457D-BB46-B697153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4EFB-7423-413D-9911-CF7C746B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54D-CF5E-49B1-BABF-C40F3E9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4F1-ECCE-4B9F-A68D-78920A20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9B5-4F27-40BD-91DB-7648EEC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378-293F-40BF-B3E1-0E97D01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0BAD-25D7-47BE-99CC-72DBC09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291-7487-42C1-B72A-A25E66D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07DA-60E0-46F4-B643-8E293FCE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5F5-080D-4D7E-8E1D-DEE33E82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521-C2A3-4249-BF5B-A86255BE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BBC-82DE-4BA7-A01C-471944F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745-6234-483D-9FD1-E2544CFA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F75-DA55-483F-B58C-23FD006B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E3D-288E-41E5-ADE4-64F2FFC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8CA-64D1-49BD-A74B-0C9CE193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059-401F-4015-BF7F-9086696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432-D598-4D23-B683-D06C769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6A05-973B-4664-9982-109627516332}" type="datetime">
              <a:rPr b="0" lang="ru-RU" sz="900" spc="-1" strike="noStrike">
                <a:solidFill>
                  <a:srgbClr val="404040"/>
                </a:solidFill>
                <a:latin typeface="Calibri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594-E9E0-44D1-B3C3-C0011AFC1143}" type="slidenum">
              <a:rPr b="0" lang="ru-RU" sz="18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112-57E8-40B6-9C99-CF34059CAAFA}" type="datetime">
              <a:rPr b="0" lang="ru-RU" sz="900" spc="-1" strike="noStrike">
                <a:solidFill>
                  <a:srgbClr val="404040"/>
                </a:solidFill>
                <a:latin typeface="Calibri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F78-31B7-4BEF-95E4-10894757FA5F}" type="slidenum">
              <a:rPr b="0" lang="ru-RU" sz="1800" spc="-1" strike="noStrike">
                <a:solidFill>
                  <a:srgbClr val="40404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ae1078"/>
                </a:solidFill>
                <a:latin typeface="Calibri"/>
                <a:ea typeface="Microsoft YaHei"/>
              </a:rPr>
              <a:t>«БЕЗОПАСНОСТЬ  В  ДОМЕ»</a:t>
            </a:r>
            <a:br>
              <a:rPr sz="4000"/>
            </a:br>
            <a:r>
              <a:rPr b="1" lang="ru-RU" sz="3200" spc="-1" strike="noStrike">
                <a:solidFill>
                  <a:srgbClr val="ffff00"/>
                </a:solidFill>
                <a:latin typeface="Calibri"/>
                <a:ea typeface="Microsoft YaHei"/>
              </a:rPr>
              <a:t>Подготовила:Спиридонова Наталия Юрьевн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Рисунок 2" descr=""/>
          <p:cNvPicPr/>
          <p:nvPr/>
        </p:nvPicPr>
        <p:blipFill>
          <a:blip r:embed="rId1"/>
          <a:stretch/>
        </p:blipFill>
        <p:spPr>
          <a:xfrm>
            <a:off x="1116000" y="3168720"/>
            <a:ext cx="2232000" cy="3022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"/>
          <p:cNvPicPr/>
          <p:nvPr/>
        </p:nvPicPr>
        <p:blipFill>
          <a:blip r:embed="rId2"/>
          <a:stretch/>
        </p:blipFill>
        <p:spPr>
          <a:xfrm>
            <a:off x="5796000" y="3240000"/>
            <a:ext cx="23050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159660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1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 играй со спичками и зажигалками – это может стать причиной пожара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2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играть с огнём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3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без взрослых зажигать фейерверки и петарды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4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без взрослых пользоваться легковоспламеняющимися вешествам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5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допускать прикосновения бумаги или ткани к электрическим лампам и ночникам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 ПОЖАРНОЙ  БЕЗОПАСНОСТИ 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468360" y="452520"/>
            <a:ext cx="842472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6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случае крупного возгорания немедленно покинь поме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7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задымлённом помещении нужно дышать через мокрую тк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8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выходить на задымлённую лест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9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прятаться от огня в шкафу , под кроватью и в других укромных ме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0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Если не можешь выйти из квартиры – выходи на балк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1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Загоревшую одежду сорви или залей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12.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ae1078"/>
                </a:solidFill>
                <a:latin typeface="Calibri"/>
                <a:ea typeface="Microsoft YaHei"/>
              </a:rPr>
              <a:t>В случае пожара вызови пожарных по телефону  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9d2d0a"/>
                </a:solidFill>
                <a:latin typeface="Calibri"/>
                <a:ea typeface="Microsoft YaHei"/>
              </a:rPr>
              <a:t>Ребенок один дома: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Прямоугольник 2"/>
          <p:cNvSpPr/>
          <p:nvPr/>
        </p:nvSpPr>
        <p:spPr>
          <a:xfrm rot="19800">
            <a:off x="395280" y="2391840"/>
            <a:ext cx="8136000" cy="393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32ac"/>
                </a:solidFill>
                <a:latin typeface="Calibri"/>
                <a:ea typeface="Microsoft YaHei"/>
              </a:rPr>
              <a:t>С какого возраста можно оставлять ребенка одного? Это зависит от многих обстоятельств: возраст вашего ребенка, его самостоятельность, и насколько вы ему доверяете. Необходимо постепенно приучать ребенка оставаться одно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Основными правилами, если ребенок остается один дома, должны быть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79280" y="2238480"/>
            <a:ext cx="896472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а видном месте напишите телефоны, по которым он может быстро связаться (ваша работа, мобильный, милиция, скорая помощь, пожарная охрана, сосед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324000" y="3573360"/>
            <a:ext cx="849600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остоянно повторяйте правила поведения, устраивайте маленькие экзамены, разбирайте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38160" y="4653000"/>
            <a:ext cx="910584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Сами неукоснительно выполняйте правила по безопасности. Будьте примером</a:t>
            </a:r>
            <a:r>
              <a:rPr b="0" lang="ru-RU" sz="2000" spc="-1" strike="noStrike">
                <a:solidFill>
                  <a:srgbClr val="9d2d0a"/>
                </a:solidFill>
                <a:latin typeface="Calibri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0" y="5538960"/>
            <a:ext cx="903600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Выучите с ребенком, как его зовут, и как зовут его родителей, а также домашний адрес и телеф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333360"/>
            <a:ext cx="9325080" cy="45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берите все предметы, которыми он может поранитьс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0" y="1052640"/>
            <a:ext cx="8964720" cy="82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оверьте, не оставили ли вы включенной воду или газ, выключили ли электронагревательные 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0" y="2060640"/>
            <a:ext cx="9325080" cy="45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Закройте окна и тщательно заприте входную дверь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Microsoft Ya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55520" y="2708280"/>
            <a:ext cx="852012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ходя в вечернее время, не забудьте включить свет в комнатах, это отпугнет злоумышленников, и вашему ребенку не будет страшно одном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"/>
          <p:cNvSpPr/>
          <p:nvPr/>
        </p:nvSpPr>
        <p:spPr>
          <a:xfrm>
            <a:off x="324000" y="4221000"/>
            <a:ext cx="900108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и расположении квартиры на первом этаже, зашторьте окна, а если кто-то стучится в окно, ваш ребенок, не подходя к нему, должен громко кричать: «Папа! Иди сю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252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539640" y="1413000"/>
            <a:ext cx="8425080" cy="393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d0da5"/>
                </a:solidFill>
                <a:latin typeface="Calibri"/>
                <a:ea typeface="Microsoft YaHei"/>
              </a:rPr>
              <a:t>Задача взрослых ( педагогов и  родителей) состоит не только в том, чтобы оберегать и защищать ребенка, но и в том, чтобы подготовить его к встрече с различными сложными, а порой и опасными жизненными ситуация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Microsoft YaHei"/>
              </a:rPr>
              <a:t>Уважаемые родители!!!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Скругленная прямоугольная выноска 2"/>
          <p:cNvSpPr/>
          <p:nvPr/>
        </p:nvSpPr>
        <p:spPr>
          <a:xfrm>
            <a:off x="539640" y="1341360"/>
            <a:ext cx="7272360" cy="496728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телось бы обратиться к вам с просьбой, найдите время рассмотреть книгу, побеседовать с ребенком, обсудить ту или иную ситуацию, ведь безопасность наших детей находится в наших руках и от того как мы подготовим его к встрече с возможными трудностями,  зависит, возможно не только здоровье, но и жизнь ваше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676440"/>
            <a:ext cx="889308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d2d0a"/>
                </a:solidFill>
                <a:latin typeface="Verdana"/>
                <a:ea typeface="바탕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755640" y="333360"/>
            <a:ext cx="7488360" cy="435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d2d0a"/>
                </a:solidFill>
                <a:latin typeface="Calibri"/>
                <a:ea typeface="Microsoft YaHei"/>
              </a:rPr>
              <a:t>Важно не только оберегать ребенка от опасности, но и готовить его к встрече с возможными трудностями, формировать представление о наиболее опасных ситуациях, о необходимости соблюдения мер предосторожности, прививать ему навыки безопасного поведения в быту совместно с родителями, которые выступают для ребенка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742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d0da5"/>
                </a:solidFill>
                <a:latin typeface="Calibri"/>
                <a:ea typeface="Microsoft YaHei"/>
              </a:rPr>
              <a:t>- опасные предметы;</a:t>
            </a:r>
            <a:br>
              <a:rPr sz="3200"/>
            </a:br>
            <a:r>
              <a:rPr b="1" lang="ru-RU" sz="3200" spc="-1" strike="noStrike">
                <a:solidFill>
                  <a:srgbClr val="5d0da5"/>
                </a:solidFill>
                <a:latin typeface="Calibri"/>
                <a:ea typeface="Microsoft YaHei"/>
              </a:rPr>
              <a:t>- опасные ситуации дома 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25200" y="1436760"/>
            <a:ext cx="641844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spcAft>
                <a:spcPts val="1412"/>
              </a:spcAft>
              <a:buClr>
                <a:srgbClr val="31b6fd"/>
              </a:buClr>
              <a:buFont typeface="Symbol" charset="2"/>
              <a:buChar char="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eb4310"/>
                </a:solidFill>
                <a:latin typeface="Calibri"/>
                <a:ea typeface="Microsoft YaHei"/>
              </a:rPr>
              <a:t>ОСНОВНЫЕ  ИСТОЧНИКИ  ОПАСНОСТИ ДЛЯ РЕБЁНКА-ДОШКОЛЬНИКА, С КОТОРЫМИ ОН  МОЖЕТ СТОЛКНУТЬСЯ  ДОМА :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ПАСНЫЕ  ПРЕДМЕТЫ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4751280" y="189000"/>
            <a:ext cx="428472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обходимо сформировать у дошкольника представления об опасных для жизни и здоровья предметах, которые встречаются в быту, научить его соблюдать определённые правила , разбирая различные ситуации, объясняя  причины категорических запр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179280" y="3068640"/>
            <a:ext cx="457200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4310"/>
                </a:solidFill>
                <a:latin typeface="Calibri"/>
                <a:ea typeface="Microsoft YaHei"/>
              </a:rPr>
              <a:t>В беседе с ребёнком на эту тему выделите две группы предметов бы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0" y="4286160"/>
            <a:ext cx="8675640" cy="19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1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едметы, которыми ребёнку категорически запрещается пользоваться (спички, зажигалки, кухонная плита, электроприборы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2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Предметы, которыми ребёнка следует научить пользоваться( нож, иголка, ножниц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  <a:ea typeface="Microsoft YaHei"/>
              </a:rPr>
              <a:t>ПРАВИЛА  БЕЗОПАСНОГО  ПОВЕДЕНИЯ В ДОМЕ: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179280" y="1413000"/>
            <a:ext cx="8569440" cy="435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1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Порядок в доме поддерживают не только для красоты , но и для безопасности, поэтому игрушки и предметы надо класть на мес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2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пользоваться острыми предметами без взросл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3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Утюг, пылесос ,телевизор, лампы и другие электроприборы нельзя включать без разрешения взрослых, трогать руками провода, вставлять мелкие предметы в 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4.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	</a:t>
            </a:r>
            <a:r>
              <a:rPr b="0" lang="ru-RU" sz="2800" spc="-1" strike="noStrike">
                <a:solidFill>
                  <a:srgbClr val="ae1078"/>
                </a:solidFill>
                <a:latin typeface="Calibri"/>
                <a:ea typeface="Microsoft YaHei"/>
              </a:rPr>
              <a:t>Нельзя играть со спичками и зажига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ПАСНЫЕ  СИТУАЦИИ  ДОМА»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Скругленная прямоугольная выноска 4"/>
          <p:cNvSpPr/>
          <p:nvPr/>
        </p:nvSpPr>
        <p:spPr>
          <a:xfrm>
            <a:off x="4140360" y="4940280"/>
            <a:ext cx="71280" cy="46080"/>
          </a:xfrm>
          <a:custGeom>
            <a:avLst/>
            <a:gdLst>
              <a:gd name="textAreaLeft" fmla="*/ 2520 w 71280"/>
              <a:gd name="textAreaRight" fmla="*/ 68760 w 71280"/>
              <a:gd name="textAreaTop" fmla="*/ 1440 h 46080"/>
              <a:gd name="textAreaBottom" fmla="*/ 44640 h 46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lnTo>
                  <a:pt x="3590" y="0"/>
                </a:lnTo>
                <a:arcTo wR="3590" hR="3590" stAng="-5400000" swAng="-5400000"/>
                <a:lnTo>
                  <a:pt x="0" y="6280"/>
                </a:lnTo>
                <a:lnTo>
                  <a:pt x="0" y="8970"/>
                </a:lnTo>
                <a:lnTo>
                  <a:pt x="0" y="12630"/>
                </a:lnTo>
                <a:lnTo>
                  <a:pt x="0" y="15320"/>
                </a:lnTo>
                <a:lnTo>
                  <a:pt x="0" y="18010"/>
                </a:lnTo>
                <a:lnTo>
                  <a:pt x="0" y="18010"/>
                </a:lnTo>
                <a:arcTo wR="3590" hR="3590" stAng="10800000" swAng="-5400000"/>
                <a:lnTo>
                  <a:pt x="1400" y="25920"/>
                </a:lnTo>
                <a:lnTo>
                  <a:pt x="8970" y="21600"/>
                </a:lnTo>
                <a:lnTo>
                  <a:pt x="12630" y="21600"/>
                </a:lnTo>
                <a:lnTo>
                  <a:pt x="15320" y="21600"/>
                </a:lnTo>
                <a:lnTo>
                  <a:pt x="18010" y="21600"/>
                </a:lnTo>
                <a:lnTo>
                  <a:pt x="18010" y="21600"/>
                </a:lnTo>
                <a:arcTo wR="3590" hR="3590" stAng="5400000" swAng="-5400000"/>
                <a:lnTo>
                  <a:pt x="21600" y="15320"/>
                </a:lnTo>
                <a:lnTo>
                  <a:pt x="21600" y="12630"/>
                </a:lnTo>
                <a:lnTo>
                  <a:pt x="21600" y="8970"/>
                </a:lnTo>
                <a:lnTo>
                  <a:pt x="21600" y="6280"/>
                </a:lnTo>
                <a:lnTo>
                  <a:pt x="21600" y="3590"/>
                </a:lnTo>
                <a:lnTo>
                  <a:pt x="21600" y="3590"/>
                </a:lnTo>
                <a:arcTo wR="3590" hR="3590" stAng="0" swAng="-5400000"/>
                <a:lnTo>
                  <a:pt x="15320" y="0"/>
                </a:lnTo>
                <a:lnTo>
                  <a:pt x="12630" y="0"/>
                </a:lnTo>
                <a:lnTo>
                  <a:pt x="8970" y="0"/>
                </a:lnTo>
                <a:lnTo>
                  <a:pt x="628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Блок-схема: данные 5"/>
          <p:cNvSpPr/>
          <p:nvPr/>
        </p:nvSpPr>
        <p:spPr>
          <a:xfrm>
            <a:off x="900000" y="3068640"/>
            <a:ext cx="71640" cy="71280"/>
          </a:xfrm>
          <a:custGeom>
            <a:avLst/>
            <a:gdLst>
              <a:gd name="textAreaLeft" fmla="*/ 14040 w 71640"/>
              <a:gd name="textAreaRight" fmla="*/ 57600 w 71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4230" y="0"/>
                </a:moveTo>
                <a:lnTo>
                  <a:pt x="21600" y="0"/>
                </a:lnTo>
                <a:lnTo>
                  <a:pt x="17370" y="21600"/>
                </a:lnTo>
                <a:lnTo>
                  <a:pt x="0" y="21600"/>
                </a:lnTo>
                <a:lnTo>
                  <a:pt x="423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сохраненные данные 6"/>
          <p:cNvSpPr/>
          <p:nvPr/>
        </p:nvSpPr>
        <p:spPr>
          <a:xfrm>
            <a:off x="684360" y="1628640"/>
            <a:ext cx="7704000" cy="464184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Беспокоясь о безопасности своего ребёнка , взрослые должны рассказывать ему о ситуациях , которые могут быть опасными ( открытое окно, балкон, включённая газовая или электрическая пли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 БЕЗОПАСНОГО ПОВЕДЕНИЯ  ДОМА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223920" y="1746360"/>
            <a:ext cx="4570200" cy="228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.Если  вам  позвонил человек, якобы неправильно набравший номер, не называй незнакомцу своё имя и фамилию, просто скажи: «Вы ошиблись номером» - и повесь труб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932360" y="3054240"/>
            <a:ext cx="421164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2. Если вам позвонил незнакомый человек, не отвечай на его вопросы , не говори , что ты находишься дома  один, не рассказывай о своей семье. Лучше попроси перезвонить позже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  <a:ea typeface="Microsoft YaHei"/>
              </a:rPr>
              <a:t>спроси , не нужно что-нибудь передать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Microsoft YaHe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  <a:ea typeface="Microsoft YaHei"/>
              </a:rPr>
              <a:t>«О ПРАВИЛАХ  ПОЖАРНОЙ   БЕЗОПАСНОСТИ».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2257560" y="2637000"/>
            <a:ext cx="4572000" cy="252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В современном мире никто не застрахован ни от социальных, ни от стихийных бедствий. Но предотвращение пожаров, нередко возникающих из-за шалостей детей , - часто в наших руках. Разрешение этой проблемы требует скоординированных действий педагогов  и 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Блок-схема: альтернативный процесс 3"/>
          <p:cNvSpPr/>
          <p:nvPr/>
        </p:nvSpPr>
        <p:spPr>
          <a:xfrm>
            <a:off x="684360" y="2565360"/>
            <a:ext cx="7991280" cy="338292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В современном мире никто не застрахован ни от социальных, ни от стихийных бедств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Microsoft YaHei"/>
              </a:rPr>
              <a:t>Но предотвращение пожаров, нередко возникающих из-за шалостей детей , - часто в наших руках. Разрешение этой проблемы требует скоординированных действий педагогов  и 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Microsoft YaHei"/>
              </a:rPr>
              <a:t>ПРАВИЛА ПОЛЬЗОВАНИЯ ЭЛЕКТРОПРИБОРАМИ 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Прямоугольная выноска 2"/>
          <p:cNvSpPr/>
          <p:nvPr/>
        </p:nvSpPr>
        <p:spPr>
          <a:xfrm>
            <a:off x="468360" y="270828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3590"/>
                </a:lnTo>
                <a:lnTo>
                  <a:pt x="0" y="6280"/>
                </a:lnTo>
                <a:lnTo>
                  <a:pt x="0" y="8970"/>
                </a:lnTo>
                <a:lnTo>
                  <a:pt x="0" y="12630"/>
                </a:lnTo>
                <a:lnTo>
                  <a:pt x="0" y="15320"/>
                </a:lnTo>
                <a:lnTo>
                  <a:pt x="0" y="18010"/>
                </a:lnTo>
                <a:lnTo>
                  <a:pt x="0" y="21600"/>
                </a:lnTo>
                <a:lnTo>
                  <a:pt x="3590" y="21600"/>
                </a:lnTo>
                <a:lnTo>
                  <a:pt x="1400" y="25920"/>
                </a:lnTo>
                <a:lnTo>
                  <a:pt x="8970" y="21600"/>
                </a:lnTo>
                <a:lnTo>
                  <a:pt x="12630" y="21600"/>
                </a:lnTo>
                <a:lnTo>
                  <a:pt x="15320" y="21600"/>
                </a:lnTo>
                <a:lnTo>
                  <a:pt x="18010" y="21600"/>
                </a:lnTo>
                <a:lnTo>
                  <a:pt x="21600" y="21600"/>
                </a:lnTo>
                <a:lnTo>
                  <a:pt x="21600" y="18010"/>
                </a:lnTo>
                <a:lnTo>
                  <a:pt x="21600" y="15320"/>
                </a:lnTo>
                <a:lnTo>
                  <a:pt x="21600" y="12630"/>
                </a:lnTo>
                <a:lnTo>
                  <a:pt x="21600" y="8970"/>
                </a:lnTo>
                <a:lnTo>
                  <a:pt x="21600" y="6280"/>
                </a:lnTo>
                <a:lnTo>
                  <a:pt x="21600" y="3590"/>
                </a:lnTo>
                <a:lnTo>
                  <a:pt x="21600" y="0"/>
                </a:lnTo>
                <a:lnTo>
                  <a:pt x="18010" y="0"/>
                </a:lnTo>
                <a:lnTo>
                  <a:pt x="15320" y="0"/>
                </a:lnTo>
                <a:lnTo>
                  <a:pt x="12630" y="0"/>
                </a:lnTo>
                <a:lnTo>
                  <a:pt x="8970" y="0"/>
                </a:lnTo>
                <a:lnTo>
                  <a:pt x="6280" y="0"/>
                </a:lnTo>
                <a:lnTo>
                  <a:pt x="359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486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1187280" y="2754360"/>
            <a:ext cx="4572000" cy="283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1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Уходя из дома – выключай все электрические 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2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икогда не тяни за провод , вынимая штепсель из розе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льзя без разрешения включать элетро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4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 допускай , чтобы на электрические приборы попадала 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5.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Microsoft YaHei"/>
              </a:rPr>
              <a:t>Нельзя оставлять без присмотра элетроприбо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ая прямоугольная выноска 5"/>
          <p:cNvSpPr/>
          <p:nvPr/>
        </p:nvSpPr>
        <p:spPr>
          <a:xfrm>
            <a:off x="512640" y="1628640"/>
            <a:ext cx="7875720" cy="4176720"/>
          </a:xfrm>
          <a:prstGeom prst="pie">
            <a:avLst/>
          </a:prstGeom>
          <a:solidFill>
            <a:srgbClr val="31b6fd"/>
          </a:solidFill>
          <a:ln w="28440">
            <a:solidFill>
              <a:srgbClr val="248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1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Уходя из дома – выключай все электрические 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2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икогда не тяни за провод , вынимая штепсель из розе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3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льзя без разрешения включать элетро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4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 допускай , чтобы на электрические приборы попадала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5.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	</a:t>
            </a:r>
            <a:r>
              <a:rPr b="1" lang="ru-RU" sz="2400" spc="-1" strike="noStrike">
                <a:solidFill>
                  <a:srgbClr val="9d2d0a"/>
                </a:solidFill>
                <a:latin typeface="Calibri"/>
                <a:ea typeface="Microsoft YaHei"/>
              </a:rPr>
              <a:t>Нельзя оставлять без присмотра элетроприб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ский сад 44</dc:creator>
  <dc:description/>
  <dc:language>en-US</dc:language>
  <cp:lastModifiedBy>PK</cp:lastModifiedBy>
  <dcterms:modified xsi:type="dcterms:W3CDTF">2019-06-29T09:45:12Z</dcterms:modified>
  <cp:revision>19</cp:revision>
  <dc:subject/>
  <dc:title>РОДИТЕЛЬСКОЕ   СОБРАНИЕ   «БЕЗОПАСНОСТЬ  В  ВАШЕМ   ДОМЕ» ( мастер – класс )</dc:title>
</cp:coreProperties>
</file>