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729B-3CEB-455E-A8D9-49A93254AF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5EED-058E-4C9A-9FF0-7F6FC7E359D4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2F28-0CD7-49C4-8C66-3E138452412C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528-4AA4-4861-934B-0449692C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02D-FACD-4877-A145-AD61BC60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37C-CBEC-488C-9705-DD93840E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521-45BA-4F4E-A060-AE2D0B44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A3F9-3F64-49B2-B0B9-F748E5C2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EA61-18A6-4CF4-9E66-37F88403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622B-6C72-4793-96CE-8F264F43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52A3-E9A6-41D0-9E1B-FD549836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BDB8-8D3A-4F36-A4A7-A4F5C1FD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D48D-F332-47EC-8943-49571F6E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F555-37AA-4FFB-A7C4-AEEC7209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DE0-93B5-4B17-83AF-58D8A3A9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211D-41BD-47BC-9BF4-F7C7CD9F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6BE6-C93F-4A7C-9BB6-8C661AC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F94C-21BF-44D4-8B2D-C4BB42B7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01D6-7B23-4C45-B492-15634118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82D5-AF5F-4303-8FA1-4C5554C1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844-2B37-4ACD-A19D-A15A3585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B93-C443-41DF-9675-C6D2A2C7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2E3-68A1-4192-8918-0552FE90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7EA-AB6B-4C53-B58D-BAC1C3B9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D61-28D2-4767-9508-FC5A1B46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6FF-3438-4DC3-AED9-ADAD2539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D2F-459B-4A3F-953F-5BB916AA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F077-64EB-41CB-8A76-B1F69AD24FBD}" type="datetime">
              <a:rPr b="0" lang="ru-RU" sz="9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3129-0E83-4AD1-9597-06DC350ECBD6}" type="slidenum">
              <a:rPr b="0" lang="ru-RU" sz="18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6BAD-ECD1-4346-89A8-9337467008A8}" type="datetime">
              <a:rPr b="0" lang="ru-RU" sz="9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B55A-F604-4767-AA4D-FB3938E94774}" type="slidenum">
              <a:rPr b="0" lang="ru-RU" sz="18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ae1078"/>
                </a:solidFill>
                <a:latin typeface="Calibri"/>
                <a:ea typeface="Microsoft YaHei"/>
              </a:rPr>
              <a:t>«БЕЗОПАСНОСТЬ  В  ДОМЕ»</a:t>
            </a:r>
            <a:br>
              <a:rPr sz="40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Microsoft YaHei"/>
              </a:rPr>
              <a:t>Подготовила:Спиридонова Наталия Юрьевн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9" name="Рисунок 2" descr=""/>
          <p:cNvPicPr/>
          <p:nvPr/>
        </p:nvPicPr>
        <p:blipFill>
          <a:blip r:embed="rId1"/>
          <a:stretch/>
        </p:blipFill>
        <p:spPr>
          <a:xfrm>
            <a:off x="1116000" y="3168720"/>
            <a:ext cx="2232000" cy="30225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"/>
          <p:cNvPicPr/>
          <p:nvPr/>
        </p:nvPicPr>
        <p:blipFill>
          <a:blip r:embed="rId2"/>
          <a:stretch/>
        </p:blipFill>
        <p:spPr>
          <a:xfrm>
            <a:off x="5796000" y="3240000"/>
            <a:ext cx="230508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159660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1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 играй со спичками и зажигалками – это может стать причиной пожара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2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играть с огнём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3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без взрослых зажигать фейерверки и петарды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    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4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без взрослых пользоваться легковоспламеняющимися вешествами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5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допускать прикосновения бумаги или ткани к электрическим лампам и ночникам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ПРАВИЛА  ПОЖАРНОЙ  БЕЗОПАСНОСТИ :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468360" y="452520"/>
            <a:ext cx="842472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6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В случае крупного возгорания немедленно покинь помещ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7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В задымлённом помещении нужно дышать через мокрую тка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8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выходить на задымлённую лест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9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прятаться от огня в шкафу , под кроватью и в других укромных мес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10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Если не можешь выйти из квартиры – выходи на балк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11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Загоревшую одежду сорви или залей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12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В случае пожара вызови пожарных по телефону  0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9d2d0a"/>
                </a:solidFill>
                <a:latin typeface="Calibri"/>
                <a:ea typeface="Microsoft YaHei"/>
              </a:rPr>
              <a:t>Ребенок один дома: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Прямоугольник 2"/>
          <p:cNvSpPr/>
          <p:nvPr/>
        </p:nvSpPr>
        <p:spPr>
          <a:xfrm rot="19800">
            <a:off x="395280" y="2391840"/>
            <a:ext cx="8136000" cy="3930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32ac"/>
                </a:solidFill>
                <a:latin typeface="Calibri"/>
                <a:ea typeface="Microsoft YaHei"/>
              </a:rPr>
              <a:t>С какого возраста можно оставлять ребенка одного? Это зависит от многих обстоятельств: возраст вашего ребенка, его самостоятельность, и насколько вы ему доверяете. Необходимо постепенно приучать ребенка оставаться одног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Основными правилами, если ребенок остается один дома, должны быть: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79280" y="2238480"/>
            <a:ext cx="896472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а видном месте напишите телефоны, по которым он может быстро связаться (ваша работа, мобильный, милиция, скорая помощь, пожарная охрана, сосед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324000" y="3573360"/>
            <a:ext cx="8496000" cy="82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Постоянно повторяйте правила поведения, устраивайте маленькие экзамены, разбирайте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38160" y="4653000"/>
            <a:ext cx="9105840" cy="82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Сами неукоснительно выполняйте правила по безопасности. Будьте примером</a:t>
            </a:r>
            <a:r>
              <a:rPr b="0" lang="ru-RU" sz="2000" spc="-1" strike="noStrike">
                <a:solidFill>
                  <a:srgbClr val="9d2d0a"/>
                </a:solidFill>
                <a:latin typeface="Calibri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0" y="5538960"/>
            <a:ext cx="9036000" cy="82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Выучите с ребенком, как его зовут, и как зовут его родителей, а также домашний адрес и телеф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0" y="333360"/>
            <a:ext cx="9325080" cy="45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Уберите все предметы, которыми он может пораниться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0" y="1052640"/>
            <a:ext cx="8964720" cy="82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Проверьте, не оставили ли вы включенной воду или газ, выключили ли электронагревательные приб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0" y="2060640"/>
            <a:ext cx="9325080" cy="45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Закройте окна и тщательно заприте входную дверь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155520" y="2708280"/>
            <a:ext cx="852012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Уходя в вечернее время, не забудьте включить свет в комнатах, это отпугнет злоумышленников, и вашему ребенку не будет страшно одному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5"/>
          <p:cNvSpPr/>
          <p:nvPr/>
        </p:nvSpPr>
        <p:spPr>
          <a:xfrm>
            <a:off x="324000" y="4221000"/>
            <a:ext cx="900108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При расположении квартиры на первом этаже, зашторьте окна, а если кто-то стучится в окно, ваш ребенок, не подходя к нему, должен громко кричать: «Папа! Иди сюд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252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539640" y="1413000"/>
            <a:ext cx="8425080" cy="3930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d0da5"/>
                </a:solidFill>
                <a:latin typeface="Calibri"/>
                <a:ea typeface="Microsoft YaHei"/>
              </a:rPr>
              <a:t>Задача взрослых ( педагогов и  родителей) состоит не только в том, чтобы оберегать и защищать ребенка, но и в том, чтобы подготовить его к встрече с различными сложными, а порой и опасными жизненными ситуация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Microsoft YaHei"/>
              </a:rPr>
              <a:t>Уважаемые родители!!!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Скругленная прямоугольная выноска 2"/>
          <p:cNvSpPr/>
          <p:nvPr/>
        </p:nvSpPr>
        <p:spPr>
          <a:xfrm>
            <a:off x="539640" y="1341360"/>
            <a:ext cx="7272360" cy="4967280"/>
          </a:xfrm>
          <a:prstGeom prst="pie">
            <a:avLst/>
          </a:prstGeom>
          <a:solidFill>
            <a:srgbClr val="31b6fd"/>
          </a:solidFill>
          <a:ln w="28440">
            <a:solidFill>
              <a:srgbClr val="248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телось бы обратиться к вам с просьбой, найдите время рассмотреть книгу, побеседовать с ребенком, обсудить ту или иную ситуацию, ведь безопасность наших детей находится в наших руках и от того как мы подготовим его к встрече с возможными трудностями,  зависит, возможно не только здоровье, но и жизнь вашего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676440"/>
            <a:ext cx="8893080" cy="20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d2d0a"/>
                </a:solidFill>
                <a:latin typeface="Verdana"/>
                <a:ea typeface="바탕"/>
              </a:rPr>
              <a:t>СПАСИБО ЗА ВНИМАНИЕ!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755640" y="333360"/>
            <a:ext cx="7488360" cy="435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d2d0a"/>
                </a:solidFill>
                <a:latin typeface="Calibri"/>
                <a:ea typeface="Microsoft YaHei"/>
              </a:rPr>
              <a:t>Важно не только оберегать ребенка от опасности, но и готовить его к встрече с возможными трудностями, формировать представление о наиболее опасных ситуациях, о необходимости соблюдения мер предосторожности, прививать ему навыки безопасного поведения в быту совместно с родителями, которые выступают для ребенка примером для подраж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74292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d0da5"/>
                </a:solidFill>
                <a:latin typeface="Calibri"/>
                <a:ea typeface="Microsoft YaHei"/>
              </a:rPr>
              <a:t>- опасные предметы;</a:t>
            </a:r>
            <a:br>
              <a:rPr sz="3200"/>
            </a:br>
            <a:r>
              <a:rPr b="1" lang="ru-RU" sz="3200" spc="-1" strike="noStrike">
                <a:solidFill>
                  <a:srgbClr val="5d0da5"/>
                </a:solidFill>
                <a:latin typeface="Calibri"/>
                <a:ea typeface="Microsoft YaHei"/>
              </a:rPr>
              <a:t>- опасные ситуации дома .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25200" y="1436760"/>
            <a:ext cx="641844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eb4310"/>
                </a:solidFill>
                <a:latin typeface="Calibri"/>
                <a:ea typeface="Microsoft YaHei"/>
              </a:rPr>
              <a:t>ОСНОВНЫЕ  ИСТОЧНИКИ  ОПАСНОСТИ ДЛЯ РЕБЁНКА-ДОШКОЛЬНИКА, С КОТОРЫМИ ОН  МОЖЕТ СТОЛКНУТЬСЯ  ДОМА 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«ОПАСНЫЕ  ПРЕДМЕТЫ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4751280" y="189000"/>
            <a:ext cx="4284720" cy="3382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еобходимо сформировать у дошкольника представления об опасных для жизни и здоровья предметах, которые встречаются в быту, научить его соблюдать определённые правила , разбирая различные ситуации, объясняя  причины категорических запр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179280" y="3068640"/>
            <a:ext cx="457200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4310"/>
                </a:solidFill>
                <a:latin typeface="Calibri"/>
                <a:ea typeface="Microsoft YaHei"/>
              </a:rPr>
              <a:t>В беседе с ребёнком на эту тему выделите две группы предметов бы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0" y="4286160"/>
            <a:ext cx="8675640" cy="19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1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Предметы, которыми ребёнку категорически запрещается пользоваться (спички, зажигалки, кухонная плита, электроприборы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2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Предметы, которыми ребёнка следует научить пользоваться( нож, иголка, ножниц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  <a:ea typeface="Microsoft YaHei"/>
              </a:rPr>
              <a:t>ПРАВИЛА  БЕЗОПАСНОГО  ПОВЕДЕНИЯ В ДОМЕ: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179280" y="1413000"/>
            <a:ext cx="8569440" cy="435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1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Порядок в доме поддерживают не только для красоты , но и для безопасности, поэтому игрушки и предметы надо класть на мес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2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пользоваться острыми предметами без взросл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3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Утюг, пылесос ,телевизор, лампы и другие электроприборы нельзя включать без разрешения взрослых, трогать руками провода, вставлять мелкие предметы в розет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4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играть со спичками и зажигал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«ОПАСНЫЕ  СИТУАЦИИ  ДОМА».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Скругленная прямоугольная выноска 4"/>
          <p:cNvSpPr/>
          <p:nvPr/>
        </p:nvSpPr>
        <p:spPr>
          <a:xfrm>
            <a:off x="4140360" y="4940280"/>
            <a:ext cx="71280" cy="46080"/>
          </a:xfrm>
          <a:custGeom>
            <a:avLst/>
            <a:gdLst>
              <a:gd name="textAreaLeft" fmla="*/ 2520 w 71280"/>
              <a:gd name="textAreaRight" fmla="*/ 68760 w 71280"/>
              <a:gd name="textAreaTop" fmla="*/ 1440 h 46080"/>
              <a:gd name="textAreaBottom" fmla="*/ 44640 h 46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lnTo>
                  <a:pt x="3590" y="0"/>
                </a:lnTo>
                <a:arcTo wR="3590" hR="3590" stAng="-5400000" swAng="-5400000"/>
                <a:lnTo>
                  <a:pt x="0" y="6280"/>
                </a:lnTo>
                <a:lnTo>
                  <a:pt x="0" y="8970"/>
                </a:lnTo>
                <a:lnTo>
                  <a:pt x="0" y="12630"/>
                </a:lnTo>
                <a:lnTo>
                  <a:pt x="0" y="15320"/>
                </a:lnTo>
                <a:lnTo>
                  <a:pt x="0" y="18010"/>
                </a:lnTo>
                <a:lnTo>
                  <a:pt x="0" y="18010"/>
                </a:lnTo>
                <a:arcTo wR="3590" hR="3590" stAng="10800000" swAng="-5400000"/>
                <a:lnTo>
                  <a:pt x="1400" y="25920"/>
                </a:lnTo>
                <a:lnTo>
                  <a:pt x="8970" y="21600"/>
                </a:lnTo>
                <a:lnTo>
                  <a:pt x="12630" y="21600"/>
                </a:lnTo>
                <a:lnTo>
                  <a:pt x="15320" y="21600"/>
                </a:lnTo>
                <a:lnTo>
                  <a:pt x="18010" y="21600"/>
                </a:lnTo>
                <a:lnTo>
                  <a:pt x="18010" y="21600"/>
                </a:lnTo>
                <a:arcTo wR="3590" hR="3590" stAng="5400000" swAng="-5400000"/>
                <a:lnTo>
                  <a:pt x="21600" y="15320"/>
                </a:lnTo>
                <a:lnTo>
                  <a:pt x="21600" y="12630"/>
                </a:lnTo>
                <a:lnTo>
                  <a:pt x="21600" y="8970"/>
                </a:lnTo>
                <a:lnTo>
                  <a:pt x="21600" y="6280"/>
                </a:lnTo>
                <a:lnTo>
                  <a:pt x="21600" y="3590"/>
                </a:lnTo>
                <a:lnTo>
                  <a:pt x="21600" y="3590"/>
                </a:lnTo>
                <a:arcTo wR="3590" hR="3590" stAng="0" swAng="-5400000"/>
                <a:lnTo>
                  <a:pt x="15320" y="0"/>
                </a:lnTo>
                <a:lnTo>
                  <a:pt x="12630" y="0"/>
                </a:lnTo>
                <a:lnTo>
                  <a:pt x="8970" y="0"/>
                </a:lnTo>
                <a:lnTo>
                  <a:pt x="6280" y="0"/>
                </a:lnTo>
                <a:close/>
              </a:path>
            </a:pathLst>
          </a:custGeom>
          <a:solidFill>
            <a:srgbClr val="31b6fd"/>
          </a:solidFill>
          <a:ln w="28440">
            <a:solidFill>
              <a:srgbClr val="2486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Блок-схема: данные 5"/>
          <p:cNvSpPr/>
          <p:nvPr/>
        </p:nvSpPr>
        <p:spPr>
          <a:xfrm>
            <a:off x="900000" y="3068640"/>
            <a:ext cx="71640" cy="71280"/>
          </a:xfrm>
          <a:custGeom>
            <a:avLst/>
            <a:gdLst>
              <a:gd name="textAreaLeft" fmla="*/ 14040 w 71640"/>
              <a:gd name="textAreaRight" fmla="*/ 57600 w 716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4230" y="0"/>
                </a:moveTo>
                <a:lnTo>
                  <a:pt x="21600" y="0"/>
                </a:lnTo>
                <a:lnTo>
                  <a:pt x="17370" y="21600"/>
                </a:lnTo>
                <a:lnTo>
                  <a:pt x="0" y="21600"/>
                </a:lnTo>
                <a:lnTo>
                  <a:pt x="4230" y="0"/>
                </a:lnTo>
                <a:close/>
              </a:path>
            </a:pathLst>
          </a:custGeom>
          <a:solidFill>
            <a:srgbClr val="31b6fd"/>
          </a:solidFill>
          <a:ln w="28440">
            <a:solidFill>
              <a:srgbClr val="2486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Блок-схема: сохраненные данные 6"/>
          <p:cNvSpPr/>
          <p:nvPr/>
        </p:nvSpPr>
        <p:spPr>
          <a:xfrm>
            <a:off x="684360" y="1628640"/>
            <a:ext cx="7704000" cy="4641840"/>
          </a:xfrm>
          <a:prstGeom prst="pie">
            <a:avLst/>
          </a:prstGeom>
          <a:solidFill>
            <a:srgbClr val="31b6fd"/>
          </a:solidFill>
          <a:ln w="28440">
            <a:solidFill>
              <a:srgbClr val="248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Microsoft YaHei"/>
              </a:rPr>
              <a:t>Беспокоясь о безопасности своего ребёнка , взрослые должны рассказывать ему о ситуациях , которые могут быть опасными ( открытое окно, балкон, включённая газовая или электрическая пли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ПРАВИЛА  БЕЗОПАСНОГО ПОВЕДЕНИЯ  ДОМА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223920" y="1746360"/>
            <a:ext cx="4570200" cy="228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.Если  вам  позвонил человек, якобы неправильно набравший номер, не называй незнакомцу своё имя и фамилию, просто скажи: «Вы ошиблись номером» - и повесь труб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4932360" y="3054240"/>
            <a:ext cx="4211640" cy="3382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  <a:ea typeface="Microsoft YaHei"/>
              </a:rPr>
              <a:t>2. Если вам позвонил незнакомый человек, не отвечай на его вопросы , не говори , что ты находишься дома  один, не рассказывай о своей семье. Лучше попроси перезвонить позже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  <a:ea typeface="Microsoft YaHei"/>
              </a:rPr>
              <a:t>спроси , не нужно что-нибудь передать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  <a:ea typeface="Microsoft YaHe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«О ПРАВИЛАХ  ПОЖАРНОЙ   БЕЗОПАСНОСТИ».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2257560" y="2637000"/>
            <a:ext cx="4572000" cy="2529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В современном мире никто не застрахован ни от социальных, ни от стихийных бедствий. Но предотвращение пожаров, нередко возникающих из-за шалостей детей , - часто в наших руках. Разрешение этой проблемы требует скоординированных действий педагогов  и 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Блок-схема: альтернативный процесс 3"/>
          <p:cNvSpPr/>
          <p:nvPr/>
        </p:nvSpPr>
        <p:spPr>
          <a:xfrm>
            <a:off x="684360" y="2565360"/>
            <a:ext cx="7991280" cy="3382920"/>
          </a:xfrm>
          <a:prstGeom prst="pie">
            <a:avLst/>
          </a:prstGeom>
          <a:solidFill>
            <a:srgbClr val="31b6fd"/>
          </a:solidFill>
          <a:ln w="28440">
            <a:solidFill>
              <a:srgbClr val="248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Microsoft YaHei"/>
              </a:rPr>
              <a:t>В современном мире никто не застрахован ни от социальных, ни от стихийных бедств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Microsoft YaHei"/>
              </a:rPr>
              <a:t>Но предотвращение пожаров, нередко возникающих из-за шалостей детей , - часто в наших руках. Разрешение этой проблемы требует скоординированных действий педагогов  и  род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ПРАВИЛА ПОЛЬЗОВАНИЯ ЭЛЕКТРОПРИБОРАМИ 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Прямоугольная выноска 2"/>
          <p:cNvSpPr/>
          <p:nvPr/>
        </p:nvSpPr>
        <p:spPr>
          <a:xfrm>
            <a:off x="468360" y="2708280"/>
            <a:ext cx="44280" cy="46080"/>
          </a:xfrm>
          <a:custGeom>
            <a:avLst/>
            <a:gdLst>
              <a:gd name="textAreaLeft" fmla="*/ 0 w 44280"/>
              <a:gd name="textAreaRight" fmla="*/ 44640 w 44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3590"/>
                </a:lnTo>
                <a:lnTo>
                  <a:pt x="0" y="6280"/>
                </a:lnTo>
                <a:lnTo>
                  <a:pt x="0" y="8970"/>
                </a:lnTo>
                <a:lnTo>
                  <a:pt x="0" y="12630"/>
                </a:lnTo>
                <a:lnTo>
                  <a:pt x="0" y="15320"/>
                </a:lnTo>
                <a:lnTo>
                  <a:pt x="0" y="18010"/>
                </a:lnTo>
                <a:lnTo>
                  <a:pt x="0" y="21600"/>
                </a:lnTo>
                <a:lnTo>
                  <a:pt x="3590" y="21600"/>
                </a:lnTo>
                <a:lnTo>
                  <a:pt x="1400" y="25920"/>
                </a:lnTo>
                <a:lnTo>
                  <a:pt x="8970" y="21600"/>
                </a:lnTo>
                <a:lnTo>
                  <a:pt x="12630" y="21600"/>
                </a:lnTo>
                <a:lnTo>
                  <a:pt x="15320" y="21600"/>
                </a:lnTo>
                <a:lnTo>
                  <a:pt x="18010" y="21600"/>
                </a:lnTo>
                <a:lnTo>
                  <a:pt x="21600" y="21600"/>
                </a:lnTo>
                <a:lnTo>
                  <a:pt x="21600" y="18010"/>
                </a:lnTo>
                <a:lnTo>
                  <a:pt x="21600" y="15320"/>
                </a:lnTo>
                <a:lnTo>
                  <a:pt x="21600" y="12630"/>
                </a:lnTo>
                <a:lnTo>
                  <a:pt x="21600" y="8970"/>
                </a:lnTo>
                <a:lnTo>
                  <a:pt x="21600" y="6280"/>
                </a:lnTo>
                <a:lnTo>
                  <a:pt x="21600" y="3590"/>
                </a:lnTo>
                <a:lnTo>
                  <a:pt x="21600" y="0"/>
                </a:lnTo>
                <a:lnTo>
                  <a:pt x="18010" y="0"/>
                </a:lnTo>
                <a:lnTo>
                  <a:pt x="15320" y="0"/>
                </a:lnTo>
                <a:lnTo>
                  <a:pt x="12630" y="0"/>
                </a:lnTo>
                <a:lnTo>
                  <a:pt x="8970" y="0"/>
                </a:lnTo>
                <a:lnTo>
                  <a:pt x="6280" y="0"/>
                </a:lnTo>
                <a:lnTo>
                  <a:pt x="359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b6fd"/>
          </a:solidFill>
          <a:ln w="28440">
            <a:solidFill>
              <a:srgbClr val="2486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1187280" y="2754360"/>
            <a:ext cx="4572000" cy="283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1.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Уходя из дома – выключай все электрические прибо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2.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Никогда не тяни за провод , вынимая штепсель из розе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3.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Нельзя без разрешения включать элетроприбо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4.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Не допускай , чтобы на электрические приборы попадала в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5.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Нельзя оставлять без присмотра элетроприбо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ая прямоугольная выноска 5"/>
          <p:cNvSpPr/>
          <p:nvPr/>
        </p:nvSpPr>
        <p:spPr>
          <a:xfrm>
            <a:off x="512640" y="1628640"/>
            <a:ext cx="7875720" cy="4176720"/>
          </a:xfrm>
          <a:prstGeom prst="pie">
            <a:avLst/>
          </a:prstGeom>
          <a:solidFill>
            <a:srgbClr val="31b6fd"/>
          </a:solidFill>
          <a:ln w="28440">
            <a:solidFill>
              <a:srgbClr val="248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1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Уходя из дома – выключай все электрические приб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2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икогда не тяни за провод , вынимая штепсель из розе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3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ельзя без разрешения включать элетроприб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4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е допускай , чтобы на электрические приборы попадала 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5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ельзя оставлять без присмотра элетроприб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ский сад 44</dc:creator>
  <dc:description/>
  <dc:language>en-US</dc:language>
  <cp:lastModifiedBy>PK</cp:lastModifiedBy>
  <dcterms:modified xsi:type="dcterms:W3CDTF">2019-06-29T09:45:12Z</dcterms:modified>
  <cp:revision>19</cp:revision>
  <dc:subject/>
  <dc:title>РОДИТЕЛЬСКОЕ   СОБРАНИЕ   «БЕЗОПАСНОСТЬ  В  ВАШЕМ   ДОМЕ» ( мастер – класс )</dc:title>
</cp:coreProperties>
</file>