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9.png" ContentType="image/png"/>
  <Override PartName="/ppt/media/image5.gif" ContentType="image/gif"/>
  <Override PartName="/ppt/media/image13.png" ContentType="image/png"/>
  <Override PartName="/ppt/media/image4.gif" ContentType="image/gif"/>
  <Override PartName="/ppt/media/image12.png" ContentType="image/png"/>
  <Override PartName="/ppt/media/image3.gif" ContentType="image/gif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033-BCAB-41E7-B540-24B0A3B4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B81-01AB-4DD9-B05A-D99D46A0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12D-F39C-4EA1-BA37-E2A73102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5E8-81F1-4C29-B784-6845F30C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0C36-8A86-4F4B-BC05-0453FA0C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10F7-AAD3-4700-A676-0A8CB84E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9EBC-9E29-446D-BEB5-E6498C69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8C67-A88E-46D5-A60E-957F0BF3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3055-8D9F-460E-8196-8E3AA56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8129-052D-4A7D-AEC7-A4F63426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581F-2BFD-4977-8C26-3559E3E1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D10-9D7D-4BF6-9A03-A868BC41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E5EC-B57A-44F1-8900-98C14BB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DBDA-3D4E-4F88-A97A-D3413022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6DFD-4691-4AFC-B12C-2077E4A5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AC12-2C63-46D4-81F2-7B9F982F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2BCB-CF03-4A88-BFBE-D625ACB7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5284-E2F5-4504-B818-72A38D1A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D3FA-C44D-4B55-B857-CBDD0AC8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B8C0-50F7-4B83-A9AF-77F3DE52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5D3A-0AD6-4B3A-A0EE-48D02163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2BA3-D537-4690-960A-B907E1F7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462-5598-4A30-AEED-4322E4FD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CF2F1-BD32-4F5A-94C8-849A9B14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EBF9-286B-4A40-9AB0-3940C1EF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7B0E-CE02-4023-A273-3875C197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797C-5EC6-4660-9A74-4D428E5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9905-9735-43A5-9DFA-6A731B30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ACEB-9807-4105-B61D-9C1C27D5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7BD48-6EFD-4252-8B11-CE78AA38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4031-92D1-4CD2-8848-DB0E53A8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3AAAE-E89F-4357-A8A6-6AF4EDEC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0B83-E5E4-44EE-AE48-339B86AF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CC9-6C14-46CB-8363-585239C3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F10C5-7CB4-4768-957D-22152DA0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5406-6EBA-4477-BD8C-2B3CAEE2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968A0-22CF-4AA1-80D4-907F52C7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C47C-FC0F-4032-9D12-0D7BA59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86E0-8E5C-415C-A60C-EC8DB52A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E3E07-02D1-4884-A181-F313E3DE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67EC-5D8B-4999-B8D1-55EE50E9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00FC-C272-4B3E-8E50-E2A4DBB3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0D3D-E9D7-46B1-8B8A-50DC5891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294-83A0-4879-B1BB-780718D6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ED8-0275-4DA7-A520-222F9E47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9E5-7393-4D47-A4FA-DE8C245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D83-3631-4EF9-8EC6-C6638F4F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C8B-2EF0-4529-9EBC-CF1C798E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C793B-211C-4A32-A4C7-98E20C5FAA7F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74722-C4A6-497A-AB90-F6D68172E807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287B9-9BE5-42A8-AC0C-8BFC7FA280DC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CF934-229C-49C7-8D8A-6DB40321D360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5051520" cy="61437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Trebuchet MS"/>
              </a:rPr>
              <a:t>Когда придёт суббота?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Прямоугольник 6"/>
          <p:cNvSpPr/>
          <p:nvPr/>
        </p:nvSpPr>
        <p:spPr>
          <a:xfrm>
            <a:off x="5292720" y="5229360"/>
            <a:ext cx="385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альных классов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ельской школы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узова Любовь Владимиров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314680" cy="22100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6" descr=""/>
          <p:cNvPicPr/>
          <p:nvPr/>
        </p:nvPicPr>
        <p:blipFill>
          <a:blip r:embed="rId2"/>
          <a:stretch/>
        </p:blipFill>
        <p:spPr>
          <a:xfrm>
            <a:off x="1258920" y="4022640"/>
            <a:ext cx="6210360" cy="21909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7"/>
          <p:cNvSpPr/>
          <p:nvPr/>
        </p:nvSpPr>
        <p:spPr>
          <a:xfrm>
            <a:off x="608472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ятниц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4932360" y="5661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Воскресень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468360" y="2311560"/>
            <a:ext cx="28432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568840" cy="263988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2"/>
          <a:stretch/>
        </p:blipFill>
        <p:spPr>
          <a:xfrm>
            <a:off x="2971800" y="3633840"/>
            <a:ext cx="5800680" cy="22003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5245200" y="22096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онедельник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7164360" y="6093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Сред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3"/>
          <a:stretch/>
        </p:blipFill>
        <p:spPr>
          <a:xfrm>
            <a:off x="173160" y="2976480"/>
            <a:ext cx="30798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419800" cy="21049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6" descr=""/>
          <p:cNvPicPr/>
          <p:nvPr/>
        </p:nvPicPr>
        <p:blipFill>
          <a:blip r:embed="rId2"/>
          <a:stretch/>
        </p:blipFill>
        <p:spPr>
          <a:xfrm>
            <a:off x="179280" y="2849400"/>
            <a:ext cx="5343480" cy="212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292720" y="23623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Вторни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3222720" y="45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Четвер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5478480" y="3865680"/>
            <a:ext cx="34844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4971960" cy="20001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688000" y="3716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Суббот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826920" y="2981160"/>
            <a:ext cx="4660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3640" y="301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 дни недели так называются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8000" y="1444320"/>
            <a:ext cx="90360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едельник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вляясь первым днем недели, понедельник сохраняет в своем названии старославянский смысл «недели»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день, наступивший после недели (воскресенья) – по-недельн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ник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названии вторника уже чётко просматривается слово «второй». Второй день недели или второй день после неде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вание среды происходит от слова «середина». Согласно религиозным обычаям, первым днем недели считается воскресенье (во многих странах эта традиция сохранена и поныне, вспомнить хотя бы Америку и Англию). И хотя международные стандарты обозначают первым днем недели понедельник, в названии третьего дня недели сохранился библейский отпечат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ким образом, среда действительно получается «посередине» неде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3640" y="765000"/>
            <a:ext cx="70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верг и пятниц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снова всё понятно – название произошло от слова «четыре», четвертый день недел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 же самое касается и пятницы, название которой произошло от слова «пять»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ббот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вание субботнего дня произошло от древнееврейского слова «саббат» («шабат» - «покой», «отдых от работы»). И действительно, еврейская религия всегда считала днем отдыха именно суббот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кресень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трудно догадаться, что название седьмого дня недели связано с великим событием – Воскресением Иисуса Христ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1278000"/>
            <a:ext cx="792000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 сегодн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недели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Заголовок 1"/>
          <p:cNvSpPr/>
          <p:nvPr/>
        </p:nvSpPr>
        <p:spPr>
          <a:xfrm>
            <a:off x="1332000" y="443700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 придёт суббота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755640" y="549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словицы и поговорки про врем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Рисунок 3" descr=""/>
          <p:cNvPicPr/>
          <p:nvPr/>
        </p:nvPicPr>
        <p:blipFill>
          <a:blip r:embed="rId1"/>
          <a:stretch/>
        </p:blipFill>
        <p:spPr>
          <a:xfrm>
            <a:off x="974880" y="1596960"/>
            <a:ext cx="6210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1908000" y="404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тересные факты про дни недел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611280" y="9079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Царская Россия внедрила такую привычку по понедельникам понедельничать, то есть ничего не дела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539640" y="168912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онедельник – это день, который всем хочется отмени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539640" y="21938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о вторник и птицы гнезда не вью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611280" y="269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 переводе со старославянского языка «среда» означает «сердце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611280" y="328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Раньше многие по четвергам не ходили в столовую, потому что это считался рыбный ден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539640" y="41562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Если рассказать сон, который приснился в пятницу, то он может сбытьс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571680" y="49528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уществует не только имя, но и фамилия Суббот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TextBox 17"/>
          <p:cNvSpPr/>
          <p:nvPr/>
        </p:nvSpPr>
        <p:spPr>
          <a:xfrm>
            <a:off x="611280" y="55245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оскресенье – это тот день недели, который назвали в честь распятия Иисуса Христ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840" y="76500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гадай загадку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360" y="2349000"/>
            <a:ext cx="53863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но весь век бежит вперёд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никогда не устаё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2757600" y="457848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5580000" y="2913120"/>
            <a:ext cx="34210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179280" y="2925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ШЕДШЕ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2916360" y="4005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СТОЯЩЕ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6227640" y="3086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ДУЩЕ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Овал 2"/>
          <p:cNvSpPr/>
          <p:nvPr/>
        </p:nvSpPr>
        <p:spPr>
          <a:xfrm>
            <a:off x="2556000" y="620640"/>
            <a:ext cx="3887640" cy="1728720"/>
          </a:xfrm>
          <a:prstGeom prst="ellipse">
            <a:avLst/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3276720" y="98100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Стрелка вправо 11"/>
          <p:cNvSpPr/>
          <p:nvPr/>
        </p:nvSpPr>
        <p:spPr>
          <a:xfrm rot="8541000">
            <a:off x="1186560" y="1950840"/>
            <a:ext cx="1513080" cy="539640"/>
          </a:xfrm>
          <a:prstGeom prst="rightArrow">
            <a:avLst>
              <a:gd name="adj1" fmla="val 50000"/>
              <a:gd name="adj2" fmla="val 50015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18462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Стрелка вправо 14"/>
          <p:cNvSpPr/>
          <p:nvPr/>
        </p:nvSpPr>
        <p:spPr>
          <a:xfrm rot="5400000">
            <a:off x="3831120" y="2978640"/>
            <a:ext cx="1513080" cy="540000"/>
          </a:xfrm>
          <a:prstGeom prst="rightArrow">
            <a:avLst>
              <a:gd name="adj1" fmla="val 50000"/>
              <a:gd name="adj2" fmla="val 49982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Стрелка вправо 15"/>
          <p:cNvSpPr/>
          <p:nvPr/>
        </p:nvSpPr>
        <p:spPr>
          <a:xfrm rot="2826600">
            <a:off x="6183720" y="2078640"/>
            <a:ext cx="1512720" cy="539640"/>
          </a:xfrm>
          <a:prstGeom prst="righ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2574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Рисунок 13" descr=""/>
          <p:cNvPicPr/>
          <p:nvPr/>
        </p:nvPicPr>
        <p:blipFill>
          <a:blip r:embed="rId1"/>
          <a:stretch/>
        </p:blipFill>
        <p:spPr>
          <a:xfrm>
            <a:off x="3443400" y="4437000"/>
            <a:ext cx="1935000" cy="2232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6" descr=""/>
          <p:cNvPicPr/>
          <p:nvPr/>
        </p:nvPicPr>
        <p:blipFill>
          <a:blip r:embed="rId2"/>
          <a:stretch/>
        </p:blipFill>
        <p:spPr>
          <a:xfrm>
            <a:off x="5989680" y="3629160"/>
            <a:ext cx="3325680" cy="29178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7" descr=""/>
          <p:cNvPicPr/>
          <p:nvPr/>
        </p:nvPicPr>
        <p:blipFill>
          <a:blip r:embed="rId3"/>
          <a:stretch/>
        </p:blipFill>
        <p:spPr>
          <a:xfrm>
            <a:off x="820800" y="3759120"/>
            <a:ext cx="1771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1908000" y="404640"/>
            <a:ext cx="57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шлое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это то, что был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39640" y="1000080"/>
            <a:ext cx="85042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2"/>
          <p:cNvSpPr/>
          <p:nvPr/>
        </p:nvSpPr>
        <p:spPr>
          <a:xfrm>
            <a:off x="1619280" y="40464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ояще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это то, что сейча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33280" y="941400"/>
            <a:ext cx="86774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2"/>
          <p:cNvSpPr/>
          <p:nvPr/>
        </p:nvSpPr>
        <p:spPr>
          <a:xfrm>
            <a:off x="1187280" y="54936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уще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это то, что буде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40" y="1819440"/>
            <a:ext cx="914400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971640" y="189000"/>
            <a:ext cx="72738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гадай загадку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Облако 4"/>
          <p:cNvSpPr/>
          <p:nvPr/>
        </p:nvSpPr>
        <p:spPr>
          <a:xfrm>
            <a:off x="4559400" y="4398840"/>
            <a:ext cx="4321080" cy="2160720"/>
          </a:xfrm>
          <a:prstGeom prst="pie">
            <a:avLst/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5003640" y="4797360"/>
            <a:ext cx="37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и         недел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Рисунок 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3920" y="1370160"/>
            <a:ext cx="4327560" cy="28558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"/>
          <p:cNvPicPr/>
          <p:nvPr/>
        </p:nvPicPr>
        <p:blipFill>
          <a:blip r:embed="rId2"/>
          <a:stretch/>
        </p:blipFill>
        <p:spPr>
          <a:xfrm>
            <a:off x="5421240" y="1563840"/>
            <a:ext cx="345276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22683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67644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Любовь Абузова</cp:lastModifiedBy>
  <dcterms:modified xsi:type="dcterms:W3CDTF">2022-02-06T19:08:04Z</dcterms:modified>
  <cp:revision>644</cp:revision>
  <dc:subject/>
  <dc:title>Diapositiva 1</dc:title>
</cp:coreProperties>
</file>