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333-D7A8-4D54-830B-87A978DF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A73-7015-450D-A6E2-76D44A19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FA5-D288-4F68-891D-D479C3CE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336-EBA8-404B-A731-D5BC51E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768-3D5D-4C3D-8C98-C5E662D2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037-304A-4149-8490-936DC99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936-FB23-485D-AF76-036AED5A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46A-AABE-41DE-869B-44882043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440E-C5C3-4C6C-B97B-82982296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9F7E-0744-4D4B-8A9D-176059E5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7504-B7F5-439C-9271-831D36B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701-E6D7-4C28-90EA-5F818402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237-E029-478D-B96F-33AF885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11C-2E4A-45C6-954B-B6C86016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FC14-61CF-41A2-92E4-24EF4967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CD1-1BE5-4D36-BDFE-FB1F4B7B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C336-0192-4736-A099-9F3B368C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636A-9ACF-4E58-BC40-81A3C184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4D13-2B02-4BDF-AD23-61A0101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B92C-20C2-4954-BF55-CFBC5196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11BA-B857-4E95-9781-1D108AD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81F7-2D24-4314-A3A3-B6C650A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4A1-66D1-4018-A15F-0969265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69DA-3A44-4CFC-8CDE-0668335C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427A-439C-4D09-904A-9BEC670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DEE3-4A52-4AE8-89D0-F2C5E96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9F2D-8BA6-421C-BF17-56E739C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6CD3-0EF9-4D51-844A-822FF70D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1D77-E743-4904-B4FF-E74B42DC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48FE-8AB7-4D6F-B47D-9CA13F1E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5D5C-D64A-493E-9F48-FD837532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A84A-B880-46CD-AB3C-CF823DBD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79F3-750F-447A-8F43-9DEFFDA9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402-22E9-4402-9B0E-3B22DF15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E256-CFB1-43D8-95AA-9FE967F2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3BC7-042D-4274-A4E2-AF0F0C54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1172-D01B-4B00-A682-CED5465F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D532-17E6-4575-AFBF-CC8BDE5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4875-6164-44F1-973D-E43E3C8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DF60-F64D-413B-A454-AC7BA3D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2524-881F-40D7-B827-09A6F0C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FAA4-DA9D-48AD-A9C0-64634C02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9FDF-912B-4D8C-9C7D-541AA582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DC4-5A72-45C4-BDB4-1F40A35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10C-8CEB-4C00-9497-1523721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C0D-B046-4FBD-8A0A-E1DD6F3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C97-ECA0-44A4-B205-82E64BA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095-B540-4E72-BDE1-8C2A276F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1D9A8-5374-4912-BC92-CE114E385A62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73908-3DA8-4D6E-A159-19E6E070DABA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DE133-269F-47FD-8F2F-236F89199A00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57D61-251D-4D3A-A6AA-1842E6A9132C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051520" cy="614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Trebuchet MS"/>
              </a:rPr>
              <a:t>Когда придёт суббота?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5292720" y="5229360"/>
            <a:ext cx="38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альных классо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ельской школы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узова Любовь Владимиро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31468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"/>
          <p:cNvPicPr/>
          <p:nvPr/>
        </p:nvPicPr>
        <p:blipFill>
          <a:blip r:embed="rId2"/>
          <a:stretch/>
        </p:blipFill>
        <p:spPr>
          <a:xfrm>
            <a:off x="1258920" y="4022640"/>
            <a:ext cx="6210360" cy="2190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608472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ятниц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4932360" y="566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468360" y="2311560"/>
            <a:ext cx="28432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568840" cy="263988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2971800" y="3633840"/>
            <a:ext cx="5800680" cy="22003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5245200" y="22096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недельни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7164360" y="609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ред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173160" y="2976480"/>
            <a:ext cx="3079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419800" cy="2104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"/>
          <p:cNvPicPr/>
          <p:nvPr/>
        </p:nvPicPr>
        <p:blipFill>
          <a:blip r:embed="rId2"/>
          <a:stretch/>
        </p:blipFill>
        <p:spPr>
          <a:xfrm>
            <a:off x="179280" y="2849400"/>
            <a:ext cx="5343480" cy="212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292720" y="23623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Втор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22720" y="45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Четвер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5478480" y="3865680"/>
            <a:ext cx="3484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4971960" cy="20001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688000" y="371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уббот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26920" y="2981160"/>
            <a:ext cx="4660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 дни недели так называются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000" y="1444320"/>
            <a:ext cx="90360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едельник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вляясь первым днем недели, понедельник сохраняет в своем названии старославянский смысл «недели»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день, наступивший после недели (воскресенья) – по-недельн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ник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названии вторника уже чётко просматривается слово «второй». Второй день недели или второй день после нед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вание среды происходит от слова «середина». Согласно религиозным обычаям, первым днем недели считается воскресенье (во многих странах эта традиция сохранена и поныне, вспомнить хотя бы Америку и Англию). И хотя международные стандарты обозначают первым днем недели понедельник, в названии третьего дня недели сохранился библейский отпеча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им образом, среда действительно получается «посередине» нед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765000"/>
            <a:ext cx="70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верг и пятниц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снова всё понятно – название произошло от слова «четыре», четвертый день недел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 же самое касается и пятницы, название которой произошло от слова «пять»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ббот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вание субботнего дня произошло от древнееврейского слова «саббат» («шабат» - «покой», «отдых от работы»). И действительно, еврейская религия всегда считала днем отдыха именно суббот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кресень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рудно догадаться, что название седьмого дня недели связано с великим событием – Воскресением Иисуса Христ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278000"/>
            <a:ext cx="79200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сегодн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недели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332000" y="44370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придёт суббота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55640" y="549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словицы и поговорки про врем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Рисунок 3" descr=""/>
          <p:cNvPicPr/>
          <p:nvPr/>
        </p:nvPicPr>
        <p:blipFill>
          <a:blip r:embed="rId1"/>
          <a:stretch/>
        </p:blipFill>
        <p:spPr>
          <a:xfrm>
            <a:off x="974880" y="1596960"/>
            <a:ext cx="621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90800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есные факты про дни неде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611280" y="9079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Царская Россия внедрила такую привычку по понедельникам понедельничать, то есть ничего не дела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539640" y="16891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недельник – это день, который всем хочется отмени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39640" y="21938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 вторник и птицы гнезда не вью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11280" y="269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переводе со старославянского языка «среда» означает «сердц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611280" y="328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аньше многие по четвергам не ходили в столовую, потому что это считался рыбный д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539640" y="41562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Если рассказать сон, который приснился в пятницу, то он может сбытьс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571680" y="49528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уществует не только имя, но и фамилия Суббо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17"/>
          <p:cNvSpPr/>
          <p:nvPr/>
        </p:nvSpPr>
        <p:spPr>
          <a:xfrm>
            <a:off x="611280" y="55245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скресенье – это тот день недели, который назвали в честь распятия Иисуса Хрис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840" y="765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гадай загадку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2349000"/>
            <a:ext cx="53863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о весь век бежит вперёд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никогда не устаё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757600" y="45784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5580000" y="2913120"/>
            <a:ext cx="34210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79280" y="2925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ШЕДШ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916360" y="4005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СТОЯЩ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6227640" y="3086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УЩ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Овал 2"/>
          <p:cNvSpPr/>
          <p:nvPr/>
        </p:nvSpPr>
        <p:spPr>
          <a:xfrm>
            <a:off x="2556000" y="620640"/>
            <a:ext cx="3887640" cy="1728720"/>
          </a:xfrm>
          <a:prstGeom prst="ellipse">
            <a:avLst/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3276720" y="98100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Стрелка вправо 11"/>
          <p:cNvSpPr/>
          <p:nvPr/>
        </p:nvSpPr>
        <p:spPr>
          <a:xfrm rot="8541000">
            <a:off x="1186560" y="1950840"/>
            <a:ext cx="1513080" cy="539640"/>
          </a:xfrm>
          <a:prstGeom prst="right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18462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Стрелка вправо 14"/>
          <p:cNvSpPr/>
          <p:nvPr/>
        </p:nvSpPr>
        <p:spPr>
          <a:xfrm rot="5400000">
            <a:off x="3831120" y="2978640"/>
            <a:ext cx="1513080" cy="540000"/>
          </a:xfrm>
          <a:prstGeom prst="right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право 15"/>
          <p:cNvSpPr/>
          <p:nvPr/>
        </p:nvSpPr>
        <p:spPr>
          <a:xfrm rot="2826600">
            <a:off x="6183720" y="2078640"/>
            <a:ext cx="1512720" cy="53964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2574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13" descr=""/>
          <p:cNvPicPr/>
          <p:nvPr/>
        </p:nvPicPr>
        <p:blipFill>
          <a:blip r:embed="rId1"/>
          <a:stretch/>
        </p:blipFill>
        <p:spPr>
          <a:xfrm>
            <a:off x="3443400" y="443700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6" descr=""/>
          <p:cNvPicPr/>
          <p:nvPr/>
        </p:nvPicPr>
        <p:blipFill>
          <a:blip r:embed="rId2"/>
          <a:stretch/>
        </p:blipFill>
        <p:spPr>
          <a:xfrm>
            <a:off x="5989680" y="3629160"/>
            <a:ext cx="3325680" cy="2917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7" descr=""/>
          <p:cNvPicPr/>
          <p:nvPr/>
        </p:nvPicPr>
        <p:blipFill>
          <a:blip r:embed="rId3"/>
          <a:stretch/>
        </p:blipFill>
        <p:spPr>
          <a:xfrm>
            <a:off x="820800" y="3759120"/>
            <a:ext cx="1771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1908000" y="404640"/>
            <a:ext cx="57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ло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был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9640" y="1000080"/>
            <a:ext cx="8504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1619280" y="404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сейча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33280" y="941400"/>
            <a:ext cx="86774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1187280" y="549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буде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40" y="1819440"/>
            <a:ext cx="91440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971640" y="189000"/>
            <a:ext cx="7273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гадай загадку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Облако 4"/>
          <p:cNvSpPr/>
          <p:nvPr/>
        </p:nvSpPr>
        <p:spPr>
          <a:xfrm>
            <a:off x="4559400" y="4398840"/>
            <a:ext cx="4321080" cy="2160720"/>
          </a:xfrm>
          <a:prstGeom prst="pie">
            <a:avLst/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5003640" y="479736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и         недел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Рисунок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3920" y="1370160"/>
            <a:ext cx="4327560" cy="2855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"/>
          <p:cNvPicPr/>
          <p:nvPr/>
        </p:nvPicPr>
        <p:blipFill>
          <a:blip r:embed="rId2"/>
          <a:stretch/>
        </p:blipFill>
        <p:spPr>
          <a:xfrm>
            <a:off x="5421240" y="1563840"/>
            <a:ext cx="34527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22683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67644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Любовь Абузова</cp:lastModifiedBy>
  <dcterms:modified xsi:type="dcterms:W3CDTF">2022-02-06T19:08:04Z</dcterms:modified>
  <cp:revision>644</cp:revision>
  <dc:subject/>
  <dc:title>Diapositiva 1</dc:title>
</cp:coreProperties>
</file>