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8.wmf" ContentType="image/x-wmf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9.png" ContentType="image/png"/>
  <Override PartName="/ppt/media/image27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5DA-B3F4-4A03-955D-80ED8FE9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605-F444-40FF-B9C9-774F993D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B41-70C5-435E-B9B6-4522CB71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A3FE-DC39-4F48-A153-0E6089CA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C20-EE0F-4A95-8A7D-977F3026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FA81-83EA-4D6D-B157-5C5B77A6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7E7-6DB4-47CB-8E10-1371ACC6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8253-F6D3-409C-949D-FEF3204B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673-B012-44AF-8C68-B92CB382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C7C-1068-4FC8-B26F-C310D33F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422-428E-4766-A025-0F4ED72D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061-E8B6-4400-B5C7-A4641955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2722-98B9-4923-8AC7-8C16BC0D1F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3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1127160" y="158760"/>
            <a:ext cx="7608960" cy="3054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ands"/>
          <p:cNvPicPr/>
          <p:nvPr/>
        </p:nvPicPr>
        <p:blipFill>
          <a:blip r:embed="rId3"/>
          <a:stretch/>
        </p:blipFill>
        <p:spPr>
          <a:xfrm>
            <a:off x="5089680" y="2959200"/>
            <a:ext cx="38145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3773880" y="693720"/>
            <a:ext cx="284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92f03"/>
                </a:solidFill>
                <a:uFillTx/>
                <a:latin typeface="Calibri"/>
                <a:ea typeface="Calibri"/>
              </a:rPr>
              <a:t>Гипотеза:</a:t>
            </a:r>
            <a:r>
              <a:rPr b="0" lang="ru-RU" sz="4800" spc="-1" strike="noStrike">
                <a:solidFill>
                  <a:srgbClr val="092f03"/>
                </a:solidFill>
                <a:latin typeface="Calibri"/>
                <a:ea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"/>
          <p:cNvSpPr/>
          <p:nvPr/>
        </p:nvSpPr>
        <p:spPr>
          <a:xfrm>
            <a:off x="2013120" y="1949400"/>
            <a:ext cx="6368760" cy="23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5723"/>
                </a:solidFill>
                <a:latin typeface="Calibri"/>
                <a:ea typeface="Calibri"/>
              </a:rPr>
              <a:t>если экологическое состояние кабинета не соответствует санитарно-гигиеническим нормам, то обучение в таком кабинете ведёт к ухудшению здоровья обучающих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4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1353960" y="433440"/>
            <a:ext cx="769320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Классная комната – одно из основных рабочих помещений школы. В разных кабинетах учитель и группа учащихся проводят по 5 – 7 часов 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От качества среды в учебных помещениях во многом зависит их самочувствие, внимание, развитие утомляемости, состояние здоровья. Ведь </a:t>
            </a:r>
            <a:r>
              <a:rPr b="1" i="1" lang="ru-RU" sz="2400" spc="-1" strike="noStrike" u="sng">
                <a:solidFill>
                  <a:srgbClr val="385723"/>
                </a:solidFill>
                <a:uFillTx/>
                <a:latin typeface="Arial"/>
              </a:rPr>
              <a:t>здоровье человека</a:t>
            </a: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 – это его достояние и ц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Для начала мы провели небольшой опрос о том, что учащиеся и учителя школы понимают под «экологией жилища». Самый удачный ответ дал, конечно, учитель би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"/>
          <p:cNvSpPr/>
          <p:nvPr/>
        </p:nvSpPr>
        <p:spPr>
          <a:xfrm>
            <a:off x="1023840" y="0"/>
            <a:ext cx="7925040" cy="8668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85723"/>
                </a:solidFill>
                <a:latin typeface="Calibri"/>
              </a:rPr>
              <a:t>Введ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3343320" y="1449360"/>
            <a:ext cx="26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3343320" y="1449360"/>
            <a:ext cx="26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4" descr=""/>
          <p:cNvPicPr/>
          <p:nvPr/>
        </p:nvPicPr>
        <p:blipFill>
          <a:blip r:embed="rId1"/>
          <a:stretch/>
        </p:blipFill>
        <p:spPr>
          <a:xfrm>
            <a:off x="-155520" y="-6984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8"/>
          <p:cNvSpPr/>
          <p:nvPr/>
        </p:nvSpPr>
        <p:spPr>
          <a:xfrm>
            <a:off x="1523880" y="464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2f03"/>
                </a:solidFill>
                <a:latin typeface="Verdana"/>
              </a:rPr>
              <a:t>На качество среды в жилище влия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4721400" y="3238560"/>
            <a:ext cx="792000" cy="770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4"/>
          <p:cNvSpPr/>
          <p:nvPr/>
        </p:nvSpPr>
        <p:spPr>
          <a:xfrm>
            <a:off x="4648320" y="2662200"/>
            <a:ext cx="936360" cy="57636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5008680" y="3425760"/>
            <a:ext cx="215640" cy="338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3"/>
          <p:cNvSpPr/>
          <p:nvPr/>
        </p:nvSpPr>
        <p:spPr>
          <a:xfrm flipH="1">
            <a:off x="5489280" y="3616200"/>
            <a:ext cx="1096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 flipH="1">
            <a:off x="5513400" y="2598840"/>
            <a:ext cx="113832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3"/>
          <p:cNvSpPr/>
          <p:nvPr/>
        </p:nvSpPr>
        <p:spPr>
          <a:xfrm flipH="1" flipV="1">
            <a:off x="5513400" y="4036680"/>
            <a:ext cx="124632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3"/>
          <p:cNvSpPr/>
          <p:nvPr/>
        </p:nvSpPr>
        <p:spPr>
          <a:xfrm flipH="1">
            <a:off x="5294160" y="2035080"/>
            <a:ext cx="446400" cy="8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3"/>
          <p:cNvSpPr/>
          <p:nvPr/>
        </p:nvSpPr>
        <p:spPr>
          <a:xfrm flipH="1" flipV="1">
            <a:off x="5116680" y="4036680"/>
            <a:ext cx="134640" cy="87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3"/>
          <p:cNvSpPr/>
          <p:nvPr/>
        </p:nvSpPr>
        <p:spPr>
          <a:xfrm flipV="1">
            <a:off x="3548160" y="4022640"/>
            <a:ext cx="1173240" cy="92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3"/>
          <p:cNvSpPr/>
          <p:nvPr/>
        </p:nvSpPr>
        <p:spPr>
          <a:xfrm flipV="1">
            <a:off x="3884760" y="3616200"/>
            <a:ext cx="799920" cy="2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3954600" y="2573280"/>
            <a:ext cx="69984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3"/>
          <p:cNvSpPr/>
          <p:nvPr/>
        </p:nvSpPr>
        <p:spPr>
          <a:xfrm>
            <a:off x="4670280" y="1682640"/>
            <a:ext cx="312840" cy="11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"/>
          <p:cNvSpPr/>
          <p:nvPr/>
        </p:nvSpPr>
        <p:spPr>
          <a:xfrm rot="20140200">
            <a:off x="5535720" y="836640"/>
            <a:ext cx="2023920" cy="1244520"/>
          </a:xfrm>
          <a:prstGeom prst="ellipse">
            <a:avLst/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</a:rPr>
              <a:t>Бытов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2"/>
          <p:cNvSpPr/>
          <p:nvPr/>
        </p:nvSpPr>
        <p:spPr>
          <a:xfrm>
            <a:off x="6651720" y="1857240"/>
            <a:ext cx="2268360" cy="1146240"/>
          </a:xfrm>
          <a:prstGeom prst="ellipse">
            <a:avLst/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</a:rPr>
              <a:t>Уровень ш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</a:rPr>
              <a:t>(влияние зву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</a:rPr>
              <a:t>на челове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3"/>
          <p:cNvSpPr/>
          <p:nvPr/>
        </p:nvSpPr>
        <p:spPr>
          <a:xfrm>
            <a:off x="6586560" y="3127320"/>
            <a:ext cx="2138400" cy="969840"/>
          </a:xfrm>
          <a:prstGeom prst="ellipse">
            <a:avLst/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</a:rPr>
              <a:t>Пы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17"/>
          <p:cNvSpPr/>
          <p:nvPr/>
        </p:nvSpPr>
        <p:spPr>
          <a:xfrm>
            <a:off x="6586560" y="4221000"/>
            <a:ext cx="2347920" cy="1206720"/>
          </a:xfrm>
          <a:prstGeom prst="ellipse">
            <a:avLst/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</a:rPr>
              <a:t>Вибрация в жил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</a:rPr>
              <a:t>помещ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8"/>
          <p:cNvSpPr/>
          <p:nvPr/>
        </p:nvSpPr>
        <p:spPr>
          <a:xfrm>
            <a:off x="2629080" y="690480"/>
            <a:ext cx="3136680" cy="1214640"/>
          </a:xfrm>
          <a:prstGeom prst="ellipse">
            <a:avLst/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  <a:ea typeface="Times New Roman"/>
              </a:rPr>
              <a:t>Излучение СВ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  <a:ea typeface="Times New Roman"/>
              </a:rPr>
              <a:t>(компьютер, сотовый телефо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  <a:ea typeface="Times New Roman"/>
              </a:rPr>
              <a:t>микроволн. пе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  <a:ea typeface="Times New Roman"/>
              </a:rPr>
              <a:t>телевизо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19"/>
          <p:cNvSpPr/>
          <p:nvPr/>
        </p:nvSpPr>
        <p:spPr>
          <a:xfrm>
            <a:off x="1054080" y="1743120"/>
            <a:ext cx="2884680" cy="1384200"/>
          </a:xfrm>
          <a:prstGeom prst="ellipse">
            <a:avLst/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</a:rPr>
              <a:t>Бактери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</a:rPr>
              <a:t>загрязн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</a:rPr>
              <a:t>плесень, грибо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</a:rPr>
              <a:t>биологическая гр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20"/>
          <p:cNvSpPr/>
          <p:nvPr/>
        </p:nvSpPr>
        <p:spPr>
          <a:xfrm>
            <a:off x="1252440" y="3317760"/>
            <a:ext cx="2632320" cy="1149480"/>
          </a:xfrm>
          <a:prstGeom prst="ellipse">
            <a:avLst/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</a:rPr>
              <a:t>Свето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</a:rPr>
              <a:t>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21"/>
          <p:cNvSpPr/>
          <p:nvPr/>
        </p:nvSpPr>
        <p:spPr>
          <a:xfrm>
            <a:off x="1297080" y="4662360"/>
            <a:ext cx="2662200" cy="1239840"/>
          </a:xfrm>
          <a:prstGeom prst="ellipse">
            <a:avLst/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</a:rPr>
              <a:t>Архитектур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</a:rPr>
              <a:t>планировоч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</a:rPr>
              <a:t>распо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22"/>
          <p:cNvSpPr/>
          <p:nvPr/>
        </p:nvSpPr>
        <p:spPr>
          <a:xfrm>
            <a:off x="4033800" y="4910040"/>
            <a:ext cx="2911680" cy="1090800"/>
          </a:xfrm>
          <a:prstGeom prst="ellipse">
            <a:avLst/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  <a:ea typeface="Times New Roman"/>
              </a:rPr>
              <a:t>Строительны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  <a:ea typeface="Times New Roman"/>
              </a:rPr>
              <a:t>отдел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92f03"/>
                </a:solidFill>
                <a:latin typeface="Times New Roman"/>
                <a:ea typeface="Times New Roman"/>
              </a:rPr>
              <a:t>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2208240" y="700200"/>
            <a:ext cx="63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2f03"/>
                </a:solidFill>
                <a:latin typeface="Arial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2f03"/>
                </a:solidFill>
                <a:latin typeface="Arial"/>
              </a:rPr>
              <a:t>эмоциональ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2f03"/>
                </a:solidFill>
                <a:latin typeface="Arial"/>
              </a:rPr>
              <a:t>учебного кабин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11"/>
          <p:cNvSpPr txBox="1"/>
          <p:nvPr/>
        </p:nvSpPr>
        <p:spPr>
          <a:xfrm>
            <a:off x="1986120" y="2517840"/>
            <a:ext cx="7056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85723"/>
                </a:solidFill>
                <a:latin typeface="Arial"/>
              </a:rPr>
              <a:t>Цель: оценить эмоциональное восприятие</a:t>
            </a:r>
            <a:endParaRPr b="1" i="1" lang="en-US" sz="1600" spc="1" strike="noStrike">
              <a:ln w="0">
                <a:noFill/>
              </a:ln>
              <a:solidFill>
                <a:srgbClr val="38572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85723"/>
                </a:solidFill>
                <a:latin typeface="Arial"/>
              </a:rPr>
              <a:t>школьного помещения и уровень его</a:t>
            </a:r>
            <a:endParaRPr b="1" i="1" lang="en-US" sz="1600" spc="1" strike="noStrike">
              <a:ln w="0">
                <a:noFill/>
              </a:ln>
              <a:solidFill>
                <a:srgbClr val="38572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85723"/>
                </a:solidFill>
                <a:latin typeface="Arial"/>
              </a:rPr>
              <a:t>экологического комфорта через</a:t>
            </a:r>
            <a:endParaRPr b="1" i="1" lang="en-US" sz="1600" spc="1" strike="noStrike">
              <a:ln w="0">
                <a:noFill/>
              </a:ln>
              <a:solidFill>
                <a:srgbClr val="38572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85723"/>
                </a:solidFill>
                <a:latin typeface="Arial"/>
              </a:rPr>
              <a:t>анкетирование учащихся 8-11 классов</a:t>
            </a:r>
            <a:endParaRPr b="1" i="1" lang="en-US" sz="1600" spc="1" strike="noStrike">
              <a:ln w="0">
                <a:noFill/>
              </a:ln>
              <a:solidFill>
                <a:srgbClr val="38572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9"/>
          <p:cNvSpPr txBox="1"/>
          <p:nvPr/>
        </p:nvSpPr>
        <p:spPr>
          <a:xfrm>
            <a:off x="1482840" y="1324080"/>
            <a:ext cx="7416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85723"/>
                </a:solidFill>
                <a:latin typeface="Arial"/>
              </a:rPr>
              <a:t>Мы предложили учащимся 8 – 11 классов</a:t>
            </a:r>
            <a:endParaRPr b="1" i="1" lang="en-US" sz="1800" spc="1" strike="noStrike">
              <a:ln w="0">
                <a:noFill/>
              </a:ln>
              <a:solidFill>
                <a:srgbClr val="38572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85723"/>
                </a:solidFill>
                <a:latin typeface="Arial"/>
              </a:rPr>
              <a:t>тест «Тепло – холодно», через который</a:t>
            </a:r>
            <a:endParaRPr b="1" i="1" lang="en-US" sz="1800" spc="1" strike="noStrike">
              <a:ln w="0">
                <a:noFill/>
              </a:ln>
              <a:solidFill>
                <a:srgbClr val="38572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85723"/>
                </a:solidFill>
                <a:latin typeface="Arial"/>
              </a:rPr>
              <a:t>предлагалось выразить ощущения,</a:t>
            </a:r>
            <a:endParaRPr b="1" i="1" lang="en-US" sz="1800" spc="1" strike="noStrike">
              <a:ln w="0">
                <a:noFill/>
              </a:ln>
              <a:solidFill>
                <a:srgbClr val="38572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85723"/>
                </a:solidFill>
                <a:latin typeface="Arial"/>
              </a:rPr>
              <a:t>возникающие в отношении называемого</a:t>
            </a:r>
            <a:endParaRPr b="1" i="1" lang="en-US" sz="1800" spc="1" strike="noStrike">
              <a:ln w="0">
                <a:noFill/>
              </a:ln>
              <a:solidFill>
                <a:srgbClr val="38572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85723"/>
                </a:solidFill>
                <a:latin typeface="Arial"/>
              </a:rPr>
              <a:t>объекта.</a:t>
            </a:r>
            <a:endParaRPr b="1" i="1" lang="en-US" sz="1800" spc="1" strike="noStrike">
              <a:ln w="0">
                <a:noFill/>
              </a:ln>
              <a:solidFill>
                <a:srgbClr val="385723"/>
              </a:solidFill>
              <a:latin typeface="Arial"/>
              <a:ea typeface="Arial"/>
            </a:endParaRPr>
          </a:p>
        </p:txBody>
      </p:sp>
      <p:pic>
        <p:nvPicPr>
          <p:cNvPr id="108" name="Рисунок 1" descr=""/>
          <p:cNvPicPr/>
          <p:nvPr/>
        </p:nvPicPr>
        <p:blipFill>
          <a:blip r:embed="rId2"/>
          <a:stretch/>
        </p:blipFill>
        <p:spPr>
          <a:xfrm>
            <a:off x="5754600" y="4681440"/>
            <a:ext cx="298296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" descr=""/>
          <p:cNvPicPr/>
          <p:nvPr/>
        </p:nvPicPr>
        <p:blipFill>
          <a:blip r:embed="rId2"/>
          <a:stretch/>
        </p:blipFill>
        <p:spPr>
          <a:xfrm>
            <a:off x="2124000" y="2622600"/>
            <a:ext cx="6262920" cy="311472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2"/>
          <p:cNvSpPr/>
          <p:nvPr/>
        </p:nvSpPr>
        <p:spPr>
          <a:xfrm>
            <a:off x="1376280" y="90180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2f03"/>
                </a:solidFill>
                <a:latin typeface="Arial"/>
              </a:rPr>
              <a:t>Все опрошенные школьники отметили, что им довольно комфортно заниматься в кабинете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2"/>
          <p:cNvSpPr/>
          <p:nvPr/>
        </p:nvSpPr>
        <p:spPr>
          <a:xfrm>
            <a:off x="928800" y="914400"/>
            <a:ext cx="7924680" cy="9381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85723"/>
                </a:solidFill>
                <a:latin typeface="Arial"/>
              </a:rPr>
              <a:t>Визуальная сре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328760" y="2147760"/>
            <a:ext cx="769284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385723"/>
                </a:solidFill>
                <a:latin typeface="Calibri"/>
              </a:rPr>
              <a:t>Одним из экологических факторов воздействия на человека является визуальная среда. Цветовая гамма, освещенность, расположение отдельных предметов интерьера, оформление стен, озеленение – всё это создаёт благоприятную или неблагоприятную сре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"/>
          <p:cNvSpPr/>
          <p:nvPr/>
        </p:nvSpPr>
        <p:spPr>
          <a:xfrm>
            <a:off x="1366920" y="658800"/>
            <a:ext cx="800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Цветовая гамма кабинета выдержана в теплых бежевых тонах, потолок белого цвета, шкафы и парты цвета натурального дерева, линолеум бежевого цвета. Всё это создаёт благоприятную визуальную сре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2"/>
          <a:stretch/>
        </p:blipFill>
        <p:spPr>
          <a:xfrm>
            <a:off x="468360" y="2932200"/>
            <a:ext cx="4027320" cy="26175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" descr=""/>
          <p:cNvPicPr/>
          <p:nvPr/>
        </p:nvPicPr>
        <p:blipFill>
          <a:blip r:embed="rId3"/>
          <a:stretch/>
        </p:blipFill>
        <p:spPr>
          <a:xfrm>
            <a:off x="4937040" y="2932200"/>
            <a:ext cx="405936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2179800" y="0"/>
            <a:ext cx="491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2f03"/>
                </a:solidFill>
                <a:latin typeface="Calibri"/>
                <a:ea typeface="Tahoma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1184400" y="627120"/>
            <a:ext cx="79596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ru-RU" sz="2800" spc="-1" strike="noStrike">
                <a:solidFill>
                  <a:srgbClr val="385723"/>
                </a:solidFill>
                <a:latin typeface="Calibri"/>
                <a:ea typeface="Calibri"/>
              </a:rPr>
              <a:t>Проблема экологического состояния жилища, его так называемого здоровья является сегодня достаточно актуальной, так как человек проводит в нём большую часть жизни, а школа, как говорится, наш второй дом, и чтобы жизнь была долгой и счастливой, необходимо соблюдать ряд правил, позволяющих избежать воздействия вредных факторов окружающей среды. Наша исследовательская работа имеет значимость как на уровне школы, так и социума. Учащиеся, располагая определёнными знаниями могут применить их на прак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6"/>
          <p:cNvSpPr txBox="1"/>
          <p:nvPr/>
        </p:nvSpPr>
        <p:spPr>
          <a:xfrm>
            <a:off x="434880" y="138240"/>
            <a:ext cx="849636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092f03"/>
                </a:solidFill>
                <a:latin typeface="Arial"/>
              </a:rPr>
              <a:t>Изучение  вентиляционного  режима кабинета</a:t>
            </a:r>
            <a:endParaRPr b="1" lang="en-US" sz="1200" spc="1" strike="noStrike">
              <a:ln w="0">
                <a:noFill/>
              </a:ln>
              <a:solidFill>
                <a:srgbClr val="092f03"/>
              </a:solidFill>
              <a:latin typeface="Arial"/>
              <a:ea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1228680" y="1200240"/>
            <a:ext cx="754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8572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Определить общую площадь вентиляционных отверс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8572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Рассчитать по формуле коэффициент аэрации (проветрив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10"/>
          <p:cNvGrpSpPr/>
          <p:nvPr/>
        </p:nvGrpSpPr>
        <p:grpSpPr>
          <a:xfrm>
            <a:off x="1487520" y="3187800"/>
            <a:ext cx="1407600" cy="790560"/>
            <a:chOff x="1487520" y="3187800"/>
            <a:chExt cx="1407600" cy="790560"/>
          </a:xfrm>
        </p:grpSpPr>
        <p:sp>
          <p:nvSpPr>
            <p:cNvPr id="123" name="WordArt 19"/>
            <p:cNvSpPr txBox="1"/>
            <p:nvPr/>
          </p:nvSpPr>
          <p:spPr>
            <a:xfrm>
              <a:off x="1487520" y="3403440"/>
              <a:ext cx="714240" cy="424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9900cc"/>
                    </a:solidFill>
                    <a:miter/>
                  </a:ln>
                  <a:solidFill>
                    <a:srgbClr val="9900cc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КА =</a:t>
              </a:r>
              <a:endPara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99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4" name="WordArt 20"/>
            <p:cNvSpPr txBox="1"/>
            <p:nvPr/>
          </p:nvSpPr>
          <p:spPr>
            <a:xfrm>
              <a:off x="2495160" y="3187800"/>
              <a:ext cx="272880" cy="29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9900cc"/>
                    </a:solidFill>
                    <a:miter/>
                  </a:ln>
                  <a:solidFill>
                    <a:srgbClr val="9900cc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п</a:t>
              </a:r>
              <a:endPara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99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5" name="Line 21"/>
            <p:cNvSpPr/>
            <p:nvPr/>
          </p:nvSpPr>
          <p:spPr>
            <a:xfrm>
              <a:off x="2350800" y="3619440"/>
              <a:ext cx="544320" cy="0"/>
            </a:xfrm>
            <a:prstGeom prst="line">
              <a:avLst/>
            </a:prstGeom>
            <a:ln w="190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WordArt 22"/>
            <p:cNvSpPr txBox="1"/>
            <p:nvPr/>
          </p:nvSpPr>
          <p:spPr>
            <a:xfrm>
              <a:off x="2350800" y="3691080"/>
              <a:ext cx="50616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9900cc"/>
                    </a:solidFill>
                    <a:miter/>
                  </a:ln>
                  <a:solidFill>
                    <a:srgbClr val="9900cc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п/п</a:t>
              </a:r>
              <a:endPara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99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27" name="Group 469"/>
          <p:cNvGrpSpPr/>
          <p:nvPr/>
        </p:nvGrpSpPr>
        <p:grpSpPr>
          <a:xfrm>
            <a:off x="3681360" y="2970360"/>
            <a:ext cx="5370120" cy="1441440"/>
            <a:chOff x="3681360" y="2970360"/>
            <a:chExt cx="5370120" cy="1441440"/>
          </a:xfrm>
        </p:grpSpPr>
        <p:grpSp>
          <p:nvGrpSpPr>
            <p:cNvPr id="128" name="Group 468"/>
            <p:cNvGrpSpPr/>
            <p:nvPr/>
          </p:nvGrpSpPr>
          <p:grpSpPr>
            <a:xfrm>
              <a:off x="3681360" y="2970360"/>
              <a:ext cx="5370120" cy="1441440"/>
              <a:chOff x="3681360" y="2970360"/>
              <a:chExt cx="5370120" cy="1441440"/>
            </a:xfrm>
          </p:grpSpPr>
          <p:sp>
            <p:nvSpPr>
              <p:cNvPr id="129" name="WordArt 28"/>
              <p:cNvSpPr txBox="1"/>
              <p:nvPr/>
            </p:nvSpPr>
            <p:spPr>
              <a:xfrm>
                <a:off x="3745440" y="2970360"/>
                <a:ext cx="63612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9900cc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Monotype Corsiva"/>
                  </a:rPr>
                  <a:t>КА -</a:t>
                </a:r>
                <a:endParaRPr b="1" lang="en-US" sz="1800" spc="1" strike="noStrike">
                  <a:ln w="0">
                    <a:noFill/>
                  </a:ln>
                  <a:solidFill>
                    <a:srgbClr val="9900cc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Monotype Corsiva"/>
                  <a:ea typeface="Monotype Corsiva"/>
                </a:endParaRPr>
              </a:p>
            </p:txBody>
          </p:sp>
          <p:sp>
            <p:nvSpPr>
              <p:cNvPr id="130" name="WordArt 29"/>
              <p:cNvSpPr txBox="1"/>
              <p:nvPr/>
            </p:nvSpPr>
            <p:spPr>
              <a:xfrm>
                <a:off x="4444560" y="3043440"/>
                <a:ext cx="336816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9900cc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коэффициент аэрации, </a:t>
                </a:r>
                <a:endParaRPr b="1" lang="en-US" sz="1800" spc="1" strike="noStrike">
                  <a:ln w="0">
                    <a:noFill/>
                  </a:ln>
                  <a:solidFill>
                    <a:srgbClr val="9900cc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31" name="WordArt 30"/>
              <p:cNvSpPr txBox="1"/>
              <p:nvPr/>
            </p:nvSpPr>
            <p:spPr>
              <a:xfrm>
                <a:off x="3808440" y="3402360"/>
                <a:ext cx="380880" cy="431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9900cc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Monotype Corsiva"/>
                  </a:rPr>
                  <a:t>П -</a:t>
                </a:r>
                <a:endParaRPr b="1" lang="en-US" sz="1800" spc="1" strike="noStrike">
                  <a:ln w="0">
                    <a:noFill/>
                  </a:ln>
                  <a:solidFill>
                    <a:srgbClr val="9900cc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Monotype Corsiva"/>
                  <a:ea typeface="Monotype Corsiva"/>
                </a:endParaRPr>
              </a:p>
            </p:txBody>
          </p:sp>
          <p:sp>
            <p:nvSpPr>
              <p:cNvPr id="132" name="WordArt 31"/>
              <p:cNvSpPr txBox="1"/>
              <p:nvPr/>
            </p:nvSpPr>
            <p:spPr>
              <a:xfrm>
                <a:off x="4380120" y="3618360"/>
                <a:ext cx="4671360" cy="720720"/>
              </a:xfrm>
              <a:prstGeom prst="rect">
                <a:avLst/>
              </a:prstGeom>
            </p:spPr>
            <p:txBody>
              <a:bodyPr wrap="none" lIns="90000" rIns="90000" tIns="46800" bIns="46800" anchor="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9900cc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площадь всех вентиляционных</a:t>
                </a:r>
                <a:endParaRPr b="1" lang="en-US" sz="1800" spc="1" strike="noStrike">
                  <a:ln w="0">
                    <a:noFill/>
                  </a:ln>
                  <a:solidFill>
                    <a:srgbClr val="9900cc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9900cc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отверстий,</a:t>
                </a:r>
                <a:endParaRPr b="1" lang="en-US" sz="1800" spc="1" strike="noStrike">
                  <a:ln w="0">
                    <a:noFill/>
                  </a:ln>
                  <a:solidFill>
                    <a:srgbClr val="9900cc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33" name="WordArt 32"/>
              <p:cNvSpPr txBox="1"/>
              <p:nvPr/>
            </p:nvSpPr>
            <p:spPr>
              <a:xfrm>
                <a:off x="3681360" y="3978720"/>
                <a:ext cx="826200" cy="43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9900cc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Monotype Corsiva"/>
                  </a:rPr>
                  <a:t>п/п - </a:t>
                </a:r>
                <a:endParaRPr b="1" lang="en-US" sz="1800" spc="1" strike="noStrike">
                  <a:ln w="0">
                    <a:noFill/>
                  </a:ln>
                  <a:solidFill>
                    <a:srgbClr val="9900cc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Monotype Corsiva"/>
                  <a:ea typeface="Monotype Corsiva"/>
                </a:endParaRPr>
              </a:p>
            </p:txBody>
          </p:sp>
        </p:grpSp>
        <p:sp>
          <p:nvSpPr>
            <p:cNvPr id="134" name="WordArt 33"/>
            <p:cNvSpPr txBox="1"/>
            <p:nvPr/>
          </p:nvSpPr>
          <p:spPr>
            <a:xfrm>
              <a:off x="4444560" y="4123080"/>
              <a:ext cx="196992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9900cc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площадь пола.</a:t>
              </a:r>
              <a:endParaRPr b="1" lang="en-US" sz="1800" spc="1" strike="noStrike">
                <a:ln w="0">
                  <a:noFill/>
                </a:ln>
                <a:solidFill>
                  <a:srgbClr val="99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4" descr=""/>
          <p:cNvPicPr/>
          <p:nvPr/>
        </p:nvPicPr>
        <p:blipFill>
          <a:blip r:embed="rId1"/>
          <a:stretch/>
        </p:blipFill>
        <p:spPr>
          <a:xfrm>
            <a:off x="3240" y="-17604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1063800" y="847800"/>
            <a:ext cx="4273200" cy="4940280"/>
          </a:xfrm>
          <a:prstGeom prst="rect">
            <a:avLst/>
          </a:prstGeom>
          <a:noFill/>
          <a:ln w="22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85723"/>
                </a:solidFill>
                <a:latin typeface="Arial"/>
                <a:ea typeface="Arial"/>
              </a:rPr>
              <a:t>Справк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Arial"/>
              </a:rPr>
              <a:t>Коэффициент аэрации для учебного помещения должен быть не менее 1/50 площади пола и  при условии, что учитываемые вентиляционные отверстия должны открываться не реже чем один раз в час на 10 -15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0"/>
          <p:cNvGrpSpPr/>
          <p:nvPr/>
        </p:nvGrpSpPr>
        <p:grpSpPr>
          <a:xfrm>
            <a:off x="5646600" y="3881520"/>
            <a:ext cx="3146400" cy="1368000"/>
            <a:chOff x="5646600" y="3881520"/>
            <a:chExt cx="3146400" cy="1368000"/>
          </a:xfrm>
        </p:grpSpPr>
        <p:sp>
          <p:nvSpPr>
            <p:cNvPr id="138" name="WordArt 17"/>
            <p:cNvSpPr txBox="1"/>
            <p:nvPr/>
          </p:nvSpPr>
          <p:spPr>
            <a:xfrm>
              <a:off x="5697360" y="3881520"/>
              <a:ext cx="2714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КА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  <p:grpSp>
          <p:nvGrpSpPr>
            <p:cNvPr id="139" name="Group 19"/>
            <p:cNvGrpSpPr/>
            <p:nvPr/>
          </p:nvGrpSpPr>
          <p:grpSpPr>
            <a:xfrm>
              <a:off x="5646600" y="3954240"/>
              <a:ext cx="3146400" cy="1295280"/>
              <a:chOff x="5646600" y="3954240"/>
              <a:chExt cx="3146400" cy="1295280"/>
            </a:xfrm>
          </p:grpSpPr>
          <p:pic>
            <p:nvPicPr>
              <p:cNvPr id="140" name="WordArt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6059160" y="3954240"/>
                <a:ext cx="2687760" cy="36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WordArt 18"/>
              <p:cNvSpPr txBox="1"/>
              <p:nvPr/>
            </p:nvSpPr>
            <p:spPr>
              <a:xfrm>
                <a:off x="5646600" y="4389120"/>
                <a:ext cx="3146400" cy="860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"/>
                  </a:rPr>
                  <a:t>Рекомендуется проветривать помещение</a:t>
                </a:r>
                <a:endPara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"/>
                  </a:rPr>
                  <a:t>на каждой перемене.</a:t>
                </a:r>
                <a:endPara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142" name="TextBox 1"/>
          <p:cNvSpPr/>
          <p:nvPr/>
        </p:nvSpPr>
        <p:spPr>
          <a:xfrm>
            <a:off x="5560920" y="1006560"/>
            <a:ext cx="3471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бинете 12 форточек, но действующих из них только четыре. Вентиляционных отверстий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 = 1,5: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 = 1/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" descr=""/>
          <p:cNvPicPr/>
          <p:nvPr/>
        </p:nvPicPr>
        <p:blipFill>
          <a:blip r:embed="rId2"/>
          <a:stretch/>
        </p:blipFill>
        <p:spPr>
          <a:xfrm>
            <a:off x="1271520" y="1103400"/>
            <a:ext cx="7775640" cy="44863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8"/>
          <p:cNvSpPr/>
          <p:nvPr/>
        </p:nvSpPr>
        <p:spPr>
          <a:xfrm>
            <a:off x="4191120" y="1254240"/>
            <a:ext cx="22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Verdana"/>
              </a:rPr>
              <a:t>Известк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Verdana"/>
              </a:rPr>
              <a:t>побе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 rot="1014000">
            <a:off x="1460160" y="2847960"/>
            <a:ext cx="15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Бума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об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 rot="21084600">
            <a:off x="7421400" y="257472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бель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дер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(масси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3127320" y="4741920"/>
            <a:ext cx="40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Деревянный настил (парк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4402080" y="2768760"/>
            <a:ext cx="220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Verdana"/>
              </a:rPr>
              <a:t>Деревя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Verdana"/>
              </a:rPr>
              <a:t>ок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1081080" y="249120"/>
            <a:ext cx="76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2f03"/>
                </a:solidFill>
                <a:latin typeface="Arial"/>
              </a:rPr>
              <a:t>ЭКОЛОГИЧЕСКИ ЧИСТЫ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"/>
          <p:cNvSpPr/>
          <p:nvPr/>
        </p:nvSpPr>
        <p:spPr>
          <a:xfrm>
            <a:off x="1403280" y="1496880"/>
            <a:ext cx="7602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5723"/>
                </a:solidFill>
                <a:latin typeface="Arial"/>
              </a:rPr>
              <a:t>В кабинете стены оклеены бумажными обоями, рамы окон деревянные, потолок побелен мелом, что соответствует экологическим требованиям. Но шкафы и учебные столы изготовлены из ДСП, на полу покрытие из линолеума, а это не самые экологически чистые материа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2" descr=""/>
          <p:cNvPicPr/>
          <p:nvPr/>
        </p:nvPicPr>
        <p:blipFill>
          <a:blip r:embed="rId2"/>
          <a:stretch/>
        </p:blipFill>
        <p:spPr>
          <a:xfrm>
            <a:off x="631800" y="509760"/>
            <a:ext cx="3828960" cy="57704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4913280" y="1182600"/>
            <a:ext cx="400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В кабинете имеются источники излучения: компьютер и телевизор, но они используются не постоянно и расположены на необходимом удалении от рабочих мест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1508040" y="2286000"/>
            <a:ext cx="7718400" cy="55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85723"/>
                </a:solidFill>
                <a:latin typeface="Arial"/>
              </a:rPr>
              <a:t>Световой коэффициент (СК) вычисляем по формул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1                  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1 - площадь о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К =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г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2                   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2 - площадь п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"/>
          <p:cNvSpPr/>
          <p:nvPr/>
        </p:nvSpPr>
        <p:spPr>
          <a:xfrm>
            <a:off x="2590920" y="4638600"/>
            <a:ext cx="1517400" cy="9720"/>
          </a:xfrm>
          <a:prstGeom prst="line">
            <a:avLst/>
          </a:prstGeom>
          <a:ln w="349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1508040" y="60336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2f03"/>
                </a:solidFill>
                <a:latin typeface="Arial"/>
              </a:rPr>
              <a:t>Оценка светового реж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2"/>
          <p:cNvSpPr/>
          <p:nvPr/>
        </p:nvSpPr>
        <p:spPr>
          <a:xfrm>
            <a:off x="2223360" y="10944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92f03"/>
                </a:solidFill>
                <a:latin typeface="Calibri"/>
                <a:ea typeface="Tahoma"/>
              </a:rPr>
              <a:t>Измеряем площадь ок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1" descr=""/>
          <p:cNvPicPr/>
          <p:nvPr/>
        </p:nvPicPr>
        <p:blipFill>
          <a:blip r:embed="rId2"/>
          <a:stretch/>
        </p:blipFill>
        <p:spPr>
          <a:xfrm>
            <a:off x="407880" y="755640"/>
            <a:ext cx="3591000" cy="54100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2" descr=""/>
          <p:cNvPicPr/>
          <p:nvPr/>
        </p:nvPicPr>
        <p:blipFill>
          <a:blip r:embed="rId3"/>
          <a:stretch/>
        </p:blipFill>
        <p:spPr>
          <a:xfrm>
            <a:off x="4129200" y="1498680"/>
            <a:ext cx="488304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4" descr=""/>
          <p:cNvPicPr/>
          <p:nvPr/>
        </p:nvPicPr>
        <p:blipFill>
          <a:blip r:embed="rId1"/>
          <a:stretch/>
        </p:blipFill>
        <p:spPr>
          <a:xfrm>
            <a:off x="-3398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"/>
          <p:cNvSpPr/>
          <p:nvPr/>
        </p:nvSpPr>
        <p:spPr>
          <a:xfrm>
            <a:off x="923760" y="797040"/>
            <a:ext cx="7877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кабинете 12 окон с форточками. Высота окон 1,30 м, ширина 0,71 м, высота форточек 0,42 м, ширина 0,71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щая площадь окон 14,6544 кв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лина кабинета 11 м, ширина 6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щая площадь 72 кв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К = 14,6544 : 72 = 0,2035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4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1"/>
          <p:cNvSpPr/>
          <p:nvPr/>
        </p:nvSpPr>
        <p:spPr>
          <a:xfrm>
            <a:off x="1496880" y="1190520"/>
            <a:ext cx="7378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92f03"/>
                </a:solidFill>
                <a:latin typeface="Arial"/>
              </a:rPr>
              <a:t>Естественное освещение соответствует норме. Улучшает его и светлый фон кабинета, светлые дверь, стены, оклеенные светлыми обоями и потолок, побеленный мелом, что увеличивает отражающую способность поверх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4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"/>
          <p:cNvSpPr/>
          <p:nvPr/>
        </p:nvSpPr>
        <p:spPr>
          <a:xfrm>
            <a:off x="1403280" y="750960"/>
            <a:ext cx="7334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5723"/>
                </a:solidFill>
                <a:latin typeface="Arial"/>
              </a:rPr>
              <a:t>Искусственное освещение в кабинете осуществляется люминисцентными лампами дневного света и согласно последним замерам Роспотребнадзора соответствует норме</a:t>
            </a:r>
            <a:r>
              <a:rPr b="0" i="1" lang="ru-RU" sz="1600" spc="-1" strike="noStrike">
                <a:solidFill>
                  <a:srgbClr val="38572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2" descr=""/>
          <p:cNvPicPr/>
          <p:nvPr/>
        </p:nvPicPr>
        <p:blipFill>
          <a:blip r:embed="rId2"/>
          <a:stretch/>
        </p:blipFill>
        <p:spPr>
          <a:xfrm>
            <a:off x="2363760" y="3517920"/>
            <a:ext cx="6577200" cy="24750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6" descr=""/>
          <p:cNvPicPr/>
          <p:nvPr/>
        </p:nvPicPr>
        <p:blipFill>
          <a:blip r:embed="rId3"/>
          <a:stretch/>
        </p:blipFill>
        <p:spPr>
          <a:xfrm>
            <a:off x="246240" y="4295880"/>
            <a:ext cx="18763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2464200" y="727200"/>
            <a:ext cx="55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2f03"/>
                </a:solidFill>
                <a:latin typeface="Calibri"/>
                <a:ea typeface="Tahoma"/>
              </a:rPr>
              <a:t>Объект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2044800" y="1495440"/>
            <a:ext cx="663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5723"/>
                </a:solidFill>
                <a:latin typeface="Calibri"/>
                <a:ea typeface="Calibri"/>
              </a:rPr>
              <a:t>объектом экологического исследования выбран школьный кабинет би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2"/>
          <a:stretch/>
        </p:blipFill>
        <p:spPr>
          <a:xfrm>
            <a:off x="3224160" y="3164040"/>
            <a:ext cx="460872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4" descr=""/>
          <p:cNvPicPr/>
          <p:nvPr/>
        </p:nvPicPr>
        <p:blipFill>
          <a:blip r:embed="rId1"/>
          <a:stretch/>
        </p:blipFill>
        <p:spPr>
          <a:xfrm>
            <a:off x="-9360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"/>
          <p:cNvSpPr/>
          <p:nvPr/>
        </p:nvSpPr>
        <p:spPr>
          <a:xfrm>
            <a:off x="1193400" y="-81000"/>
            <a:ext cx="659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85723"/>
                </a:solidFill>
                <a:latin typeface="Tahoma"/>
                <a:ea typeface="Tahoma"/>
              </a:rPr>
              <a:t>Температурный реж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0"/>
          <p:cNvSpPr/>
          <p:nvPr/>
        </p:nvSpPr>
        <p:spPr>
          <a:xfrm>
            <a:off x="4946760" y="1215360"/>
            <a:ext cx="3716280" cy="3385800"/>
          </a:xfrm>
          <a:prstGeom prst="rect">
            <a:avLst/>
          </a:prstGeom>
          <a:noFill/>
          <a:ln w="28440">
            <a:solidFill>
              <a:srgbClr val="ed7d3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Справ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По гигиеническим нормам температура для учебных кабинетов не должна быть ниже  16 – 18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Изменение температуры на 3 – 4° нежела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2"/>
          <a:stretch/>
        </p:blipFill>
        <p:spPr>
          <a:xfrm>
            <a:off x="1222200" y="871560"/>
            <a:ext cx="3227400" cy="49845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4684680" y="4857840"/>
            <a:ext cx="424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2f03"/>
                </a:solidFill>
                <a:latin typeface="Arial"/>
              </a:rPr>
              <a:t>Средняя температура воздуха в кабинете 16°С, что немного ниже н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" descr=""/>
          <p:cNvPicPr/>
          <p:nvPr/>
        </p:nvPicPr>
        <p:blipFill>
          <a:blip r:embed="rId2"/>
          <a:stretch/>
        </p:blipFill>
        <p:spPr>
          <a:xfrm>
            <a:off x="5851440" y="1314360"/>
            <a:ext cx="3006720" cy="4589640"/>
          </a:xfrm>
          <a:prstGeom prst="rect">
            <a:avLst/>
          </a:prstGeom>
          <a:ln w="0">
            <a:noFill/>
          </a:ln>
        </p:spPr>
      </p:pic>
      <p:sp>
        <p:nvSpPr>
          <p:cNvPr id="179" name="TextBox 3"/>
          <p:cNvSpPr/>
          <p:nvPr/>
        </p:nvSpPr>
        <p:spPr>
          <a:xfrm>
            <a:off x="1782720" y="1874880"/>
            <a:ext cx="318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5723"/>
                </a:solidFill>
                <a:latin typeface="Arial"/>
              </a:rPr>
              <a:t>Влажность воздуха в кабинете согласно показаниям психрометра в пределах н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2"/>
          <p:cNvSpPr/>
          <p:nvPr/>
        </p:nvSpPr>
        <p:spPr>
          <a:xfrm>
            <a:off x="1810800" y="0"/>
            <a:ext cx="69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92f03"/>
                </a:solidFill>
                <a:latin typeface="Tahoma"/>
                <a:ea typeface="Tahoma"/>
              </a:rPr>
              <a:t>Зелёные растения в кабин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2"/>
          <a:stretch/>
        </p:blipFill>
        <p:spPr>
          <a:xfrm>
            <a:off x="517680" y="804960"/>
            <a:ext cx="5690880" cy="37130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3" descr=""/>
          <p:cNvPicPr/>
          <p:nvPr/>
        </p:nvPicPr>
        <p:blipFill>
          <a:blip r:embed="rId3"/>
          <a:stretch/>
        </p:blipFill>
        <p:spPr>
          <a:xfrm>
            <a:off x="1246320" y="1149480"/>
            <a:ext cx="5979960" cy="393228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4" descr=""/>
          <p:cNvPicPr/>
          <p:nvPr/>
        </p:nvPicPr>
        <p:blipFill>
          <a:blip r:embed="rId4"/>
          <a:stretch/>
        </p:blipFill>
        <p:spPr>
          <a:xfrm>
            <a:off x="1820880" y="1657440"/>
            <a:ext cx="3198960" cy="48196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5" descr=""/>
          <p:cNvPicPr/>
          <p:nvPr/>
        </p:nvPicPr>
        <p:blipFill>
          <a:blip r:embed="rId5"/>
          <a:stretch/>
        </p:blipFill>
        <p:spPr>
          <a:xfrm>
            <a:off x="3351240" y="1849320"/>
            <a:ext cx="2975040" cy="44658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7" descr=""/>
          <p:cNvPicPr/>
          <p:nvPr/>
        </p:nvPicPr>
        <p:blipFill>
          <a:blip r:embed="rId6"/>
          <a:stretch/>
        </p:blipFill>
        <p:spPr>
          <a:xfrm>
            <a:off x="3494160" y="2671920"/>
            <a:ext cx="514008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2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2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2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2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1"/>
          <p:cNvSpPr/>
          <p:nvPr/>
        </p:nvSpPr>
        <p:spPr>
          <a:xfrm>
            <a:off x="1062000" y="612720"/>
            <a:ext cx="8164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анализировав видовой состав растений кабинета, мы пришли к выводу, что самым полезным для здоровья оказался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хлорофитум хохлаты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Он не только хорошо очищает комнатный воздух.  Американский ученый Билл Вилвертон, много лет, изучавший комнатные растения, отметил: «По каким – то причинам хлорофитум ассимилирует вредные газы с феноменальной скоростью и очищает воздух лучше, чем некоторые технические устройства». 4 – 5 экземпляров хлорофитума на 10 м²  помещения способны очистить воздух от различных примесей на 70 -8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менее полезна в кабинете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китайская роза или гибиску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которая уже через три недели пребывания в помещении полностью освобождает его от микробов, очищает и оздоравливает возду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" descr=""/>
          <p:cNvPicPr/>
          <p:nvPr/>
        </p:nvPicPr>
        <p:blipFill>
          <a:blip r:embed="rId2"/>
          <a:stretch/>
        </p:blipFill>
        <p:spPr>
          <a:xfrm>
            <a:off x="193680" y="243000"/>
            <a:ext cx="5541840" cy="36925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"/>
          <p:cNvPicPr/>
          <p:nvPr/>
        </p:nvPicPr>
        <p:blipFill>
          <a:blip r:embed="rId3"/>
          <a:stretch/>
        </p:blipFill>
        <p:spPr>
          <a:xfrm>
            <a:off x="3349800" y="3159000"/>
            <a:ext cx="560844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1376280" y="820800"/>
            <a:ext cx="764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Arial"/>
              </a:rPr>
              <a:t>А вот такие растения как диффенбахия, монстера, разные виды молочаев, которые присутствуют в кабинете и имеют интересный декоративный вид, не рекомендованы к размещению в школах, так как сок этих растений ядов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3" descr=""/>
          <p:cNvPicPr/>
          <p:nvPr/>
        </p:nvPicPr>
        <p:blipFill>
          <a:blip r:embed="rId2"/>
          <a:stretch/>
        </p:blipFill>
        <p:spPr>
          <a:xfrm>
            <a:off x="2620800" y="3292560"/>
            <a:ext cx="2252880" cy="33811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"/>
          <p:cNvPicPr/>
          <p:nvPr/>
        </p:nvPicPr>
        <p:blipFill>
          <a:blip r:embed="rId3"/>
          <a:stretch/>
        </p:blipFill>
        <p:spPr>
          <a:xfrm>
            <a:off x="5627520" y="3292560"/>
            <a:ext cx="22640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2"/>
          <p:cNvSpPr/>
          <p:nvPr/>
        </p:nvSpPr>
        <p:spPr>
          <a:xfrm>
            <a:off x="1484640" y="741240"/>
            <a:ext cx="73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2f03"/>
                </a:solidFill>
                <a:latin typeface="Calibri"/>
                <a:ea typeface="Tahoma"/>
              </a:rPr>
              <a:t>Рекомендации по улучшению экологиче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2f03"/>
                </a:solidFill>
                <a:latin typeface="Calibri"/>
                <a:ea typeface="Tahoma"/>
              </a:rPr>
              <a:t>состояния каби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1584360" y="202716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Arial"/>
              </a:rPr>
              <a:t>Периодическое проветр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Arial"/>
              </a:rPr>
              <a:t>Влажная убо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Arial"/>
              </a:rPr>
              <a:t>Приобретение мебели и материалов для ремонта с учётом их экологических кач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Arial"/>
              </a:rPr>
              <a:t>Дешевый и эстетический способ уменьшения влияния вредных факторов – комнатные растения, но к их подбору надо подходить обдума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"/>
          <p:cNvSpPr/>
          <p:nvPr/>
        </p:nvSpPr>
        <p:spPr>
          <a:xfrm>
            <a:off x="2055960" y="750960"/>
            <a:ext cx="6294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5723"/>
                </a:solidFill>
                <a:latin typeface="Arial"/>
              </a:rPr>
              <a:t>В целом экологическая обстановка в кабинете биологии хорошая, что способствует сохранению здоровья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Группа 5"/>
          <p:cNvGrpSpPr/>
          <p:nvPr/>
        </p:nvGrpSpPr>
        <p:grpSpPr>
          <a:xfrm>
            <a:off x="6264360" y="3538440"/>
            <a:ext cx="2952720" cy="3210120"/>
            <a:chOff x="6264360" y="3538440"/>
            <a:chExt cx="2952720" cy="3210120"/>
          </a:xfrm>
        </p:grpSpPr>
        <p:pic>
          <p:nvPicPr>
            <p:cNvPr id="202" name="Picture 5" descr="F:\экология\images (2).jpg"/>
            <p:cNvPicPr/>
            <p:nvPr/>
          </p:nvPicPr>
          <p:blipFill>
            <a:blip r:embed="rId2"/>
            <a:stretch/>
          </p:blipFill>
          <p:spPr>
            <a:xfrm>
              <a:off x="6264360" y="4095720"/>
              <a:ext cx="2952720" cy="26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" descr="F:\экология\images (1).jpg"/>
            <p:cNvPicPr/>
            <p:nvPr/>
          </p:nvPicPr>
          <p:blipFill>
            <a:blip r:embed="rId3"/>
            <a:stretch/>
          </p:blipFill>
          <p:spPr>
            <a:xfrm>
              <a:off x="6599520" y="3538440"/>
              <a:ext cx="2282040" cy="188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4" name="Рисунок 8" descr=""/>
          <p:cNvPicPr/>
          <p:nvPr/>
        </p:nvPicPr>
        <p:blipFill>
          <a:blip r:embed="rId4"/>
          <a:stretch/>
        </p:blipFill>
        <p:spPr>
          <a:xfrm>
            <a:off x="1262160" y="3297240"/>
            <a:ext cx="39798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1"/>
          <p:cNvSpPr/>
          <p:nvPr/>
        </p:nvSpPr>
        <p:spPr>
          <a:xfrm>
            <a:off x="2055960" y="750960"/>
            <a:ext cx="6294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5723"/>
                </a:solidFill>
                <a:latin typeface="Arial"/>
              </a:rPr>
              <a:t>Очень важно уделять своему жилищу как можно больше внимания,</a:t>
            </a:r>
            <a:br>
              <a:rPr sz="2800"/>
            </a:br>
            <a:r>
              <a:rPr b="1" i="1" lang="ru-RU" sz="2800" spc="-1" strike="noStrike">
                <a:solidFill>
                  <a:srgbClr val="385723"/>
                </a:solidFill>
                <a:latin typeface="Arial"/>
              </a:rPr>
              <a:t>ведь от состояния места обитания человека зависит самое главное – это здоров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Группа 5"/>
          <p:cNvGrpSpPr/>
          <p:nvPr/>
        </p:nvGrpSpPr>
        <p:grpSpPr>
          <a:xfrm>
            <a:off x="6264360" y="3538440"/>
            <a:ext cx="2952720" cy="3210120"/>
            <a:chOff x="6264360" y="3538440"/>
            <a:chExt cx="2952720" cy="3210120"/>
          </a:xfrm>
        </p:grpSpPr>
        <p:pic>
          <p:nvPicPr>
            <p:cNvPr id="208" name="Picture 5" descr="F:\экология\images (2).jpg"/>
            <p:cNvPicPr/>
            <p:nvPr/>
          </p:nvPicPr>
          <p:blipFill>
            <a:blip r:embed="rId2"/>
            <a:stretch/>
          </p:blipFill>
          <p:spPr>
            <a:xfrm>
              <a:off x="6264360" y="4095720"/>
              <a:ext cx="2952720" cy="26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6" descr="F:\экология\images (1).jpg"/>
            <p:cNvPicPr/>
            <p:nvPr/>
          </p:nvPicPr>
          <p:blipFill>
            <a:blip r:embed="rId3"/>
            <a:stretch/>
          </p:blipFill>
          <p:spPr>
            <a:xfrm>
              <a:off x="6599520" y="3538440"/>
              <a:ext cx="2282040" cy="188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Рисунок 8" descr=""/>
          <p:cNvPicPr/>
          <p:nvPr/>
        </p:nvPicPr>
        <p:blipFill>
          <a:blip r:embed="rId4"/>
          <a:stretch/>
        </p:blipFill>
        <p:spPr>
          <a:xfrm>
            <a:off x="1262160" y="3297240"/>
            <a:ext cx="39798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3373920" y="711360"/>
            <a:ext cx="348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2f03"/>
                </a:solidFill>
                <a:latin typeface="Calibri"/>
                <a:ea typeface="Tahoma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45455"/>
          <p:cNvPicPr/>
          <p:nvPr/>
        </p:nvPicPr>
        <p:blipFill>
          <a:blip r:embed="rId2"/>
          <a:stretch/>
        </p:blipFill>
        <p:spPr>
          <a:xfrm>
            <a:off x="7223040" y="4832280"/>
            <a:ext cx="1819440" cy="19033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1477800" y="1658880"/>
            <a:ext cx="7564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48235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385723"/>
                </a:solidFill>
                <a:latin typeface="Calibri"/>
              </a:rPr>
              <a:t>Изучить и определить наличие неблагоприятных экологических  факторов, влияющих на здоровье учащихся, предложить рекомендации по уменьшению их влияния и познакомиться с методиками получения качественных и количественных показателей экологического состояния среды жизн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2931480" y="711360"/>
            <a:ext cx="399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2f03"/>
                </a:solidFill>
                <a:latin typeface="Calibri"/>
                <a:ea typeface="Tahoma"/>
              </a:rPr>
              <a:t>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1285920" y="1608120"/>
            <a:ext cx="7858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3857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5723"/>
                </a:solidFill>
                <a:latin typeface="Calibri"/>
                <a:ea typeface="Times New Roman"/>
              </a:rPr>
              <a:t>Оценка эмоционального восприятия кабин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3857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5723"/>
                </a:solidFill>
                <a:latin typeface="Calibri"/>
                <a:ea typeface="Times New Roman"/>
              </a:rPr>
              <a:t>Оценка вентиляционного режима кабин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3857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5723"/>
                </a:solidFill>
                <a:latin typeface="Calibri"/>
                <a:ea typeface="Times New Roman"/>
              </a:rPr>
              <a:t>Исследование качества отделочных материалов в каби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3857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5723"/>
                </a:solidFill>
                <a:latin typeface="Calibri"/>
                <a:ea typeface="Times New Roman"/>
              </a:rPr>
              <a:t>Оценка освещенности кабин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3857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5723"/>
                </a:solidFill>
                <a:latin typeface="Calibri"/>
                <a:ea typeface="Times New Roman"/>
              </a:rPr>
              <a:t>Роль зелёных растений в каби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1888920" y="811080"/>
            <a:ext cx="70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2f03"/>
                </a:solidFill>
                <a:latin typeface="Calibri"/>
                <a:ea typeface="Tahoma"/>
              </a:rPr>
              <a:t>Целевая аудитория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649520" y="2390760"/>
            <a:ext cx="7121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5723"/>
                </a:solidFill>
                <a:latin typeface="Calibri"/>
                <a:ea typeface="Tahoma"/>
              </a:rPr>
              <a:t>Учителя и обучающиеся МБО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5723"/>
                </a:solidFill>
                <a:latin typeface="Calibri"/>
                <a:ea typeface="Tahoma"/>
              </a:rPr>
              <a:t>«СОШ № 20 им. А.А. Хмелевского» и других образовательных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768240" y="1116000"/>
            <a:ext cx="8301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2f03"/>
                </a:solidFill>
                <a:latin typeface="Calibri"/>
                <a:ea typeface="Tahoma"/>
              </a:rPr>
              <a:t>Необходимые условия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1413000" y="2917800"/>
            <a:ext cx="7656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Calibri"/>
                <a:ea typeface="Tahoma"/>
              </a:rPr>
              <a:t>Наличие измерительных приборов (термометр, психрометр, рулет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Calibri"/>
                <a:ea typeface="Tahoma"/>
              </a:rPr>
              <a:t>Фотоаппа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Calibri"/>
                <a:ea typeface="Tahoma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Calibri"/>
                <a:ea typeface="Tahoma"/>
              </a:rPr>
              <a:t>Литература по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1488240" y="617400"/>
            <a:ext cx="67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2f03"/>
                </a:solidFill>
                <a:latin typeface="Calibri"/>
                <a:ea typeface="Tahoma"/>
              </a:rPr>
              <a:t>Теоретическая значи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1601640" y="1623960"/>
            <a:ext cx="71470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5723"/>
                </a:solidFill>
                <a:latin typeface="Calibri"/>
                <a:ea typeface="Calibri"/>
              </a:rPr>
              <a:t>работы заключалась  в изучении        специальной литературы с целью подбора методов для определения показателей качества жилищных усло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"/>
          <p:cNvSpPr/>
          <p:nvPr/>
        </p:nvSpPr>
        <p:spPr>
          <a:xfrm>
            <a:off x="2175840" y="1181160"/>
            <a:ext cx="60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2f03"/>
                </a:solidFill>
                <a:latin typeface="Calibri"/>
                <a:ea typeface="Calibri"/>
              </a:rPr>
              <a:t>Практическая значимость</a:t>
            </a:r>
            <a:r>
              <a:rPr b="0" lang="ru-RU" sz="4000" spc="-1" strike="noStrike">
                <a:solidFill>
                  <a:srgbClr val="092f03"/>
                </a:solidFill>
                <a:latin typeface="Calibri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2146320" y="2274840"/>
            <a:ext cx="647208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5723"/>
                </a:solidFill>
                <a:latin typeface="Calibri"/>
                <a:ea typeface="Calibri"/>
              </a:rPr>
              <a:t>заключается в адресных рекомендациях по улучшению условий в кабинете, обеспечения качества воздуха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admin</cp:lastModifiedBy>
  <dcterms:modified xsi:type="dcterms:W3CDTF">2022-02-06T20:34:39Z</dcterms:modified>
  <cp:revision>77</cp:revision>
  <dc:subject/>
  <dc:title>Презентация PowerPoint</dc:title>
</cp:coreProperties>
</file>