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5B4-7CC0-4250-9581-C8E93609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BD0-B2F6-49C7-9E58-0D68052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015-6932-4147-B08B-E4A26DB1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04F-1C02-42DC-97B8-7C502E64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161-E682-4B52-9A39-8400E1F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71D-BFC6-47A0-8BB4-E7EAE95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DAC-A34A-4749-80EA-C502C5EC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6D6-48BE-4859-B804-A7669DFB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FD7-DD7C-47E5-BD1C-BE69274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18E-67E4-4334-814F-04D2CAD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4E2-EE48-483D-822C-994F76C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B17-A827-48E8-9296-7034C3F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376-D3DA-4BB7-8AD2-84DC826F6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hyperlink" Target="http://www.google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32320" y="475920"/>
            <a:ext cx="691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бюджетное 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275640" y="1988640"/>
            <a:ext cx="27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18080" y="256464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ИЯНИЕ  МЕЛА  НА  ЗДОРОВЬЕ 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492520" y="472428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шков Егор Алексе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 3-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риллова Юли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мел3"/>
          <p:cNvPicPr/>
          <p:nvPr/>
        </p:nvPicPr>
        <p:blipFill>
          <a:blip r:embed="rId1"/>
          <a:stretch/>
        </p:blipFill>
        <p:spPr>
          <a:xfrm>
            <a:off x="468360" y="3933720"/>
            <a:ext cx="3456000" cy="230364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489040" y="548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ласти использования м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5640" y="119592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лотый мел широко применяется в качестве дешёвого материала  для побелки, окраски заборов, стен, бордюров, для защиты стволов деревьев от солнечных ожог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побелка бордюров"/>
          <p:cNvPicPr/>
          <p:nvPr/>
        </p:nvPicPr>
        <p:blipFill>
          <a:blip r:embed="rId1"/>
          <a:stretch/>
        </p:blipFill>
        <p:spPr>
          <a:xfrm>
            <a:off x="395280" y="2276640"/>
            <a:ext cx="3024360" cy="2376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0" name="Picture 7" descr="побелка деревьев"/>
          <p:cNvPicPr/>
          <p:nvPr/>
        </p:nvPicPr>
        <p:blipFill>
          <a:blip r:embed="rId2"/>
          <a:stretch/>
        </p:blipFill>
        <p:spPr>
          <a:xfrm>
            <a:off x="2700360" y="3284640"/>
            <a:ext cx="3240000" cy="230508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71" name="Picture 8" descr="побелка потолка"/>
          <p:cNvPicPr/>
          <p:nvPr/>
        </p:nvPicPr>
        <p:blipFill>
          <a:blip r:embed="rId3"/>
          <a:stretch/>
        </p:blipFill>
        <p:spPr>
          <a:xfrm>
            <a:off x="5796000" y="4365720"/>
            <a:ext cx="2879640" cy="194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3635280" y="2421000"/>
            <a:ext cx="1584360" cy="13478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5292720" y="3068640"/>
            <a:ext cx="1079640" cy="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2627280" y="2420640"/>
            <a:ext cx="1008000" cy="431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13"/>
          <p:cNvSpPr/>
          <p:nvPr/>
        </p:nvSpPr>
        <p:spPr>
          <a:xfrm flipH="1" flipV="1">
            <a:off x="2484000" y="2997360"/>
            <a:ext cx="1079640" cy="7128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5292720" y="3357720"/>
            <a:ext cx="1079640" cy="5029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5"/>
          <p:cNvSpPr/>
          <p:nvPr/>
        </p:nvSpPr>
        <p:spPr>
          <a:xfrm flipH="1">
            <a:off x="2484000" y="3284640"/>
            <a:ext cx="1079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6"/>
          <p:cNvSpPr/>
          <p:nvPr/>
        </p:nvSpPr>
        <p:spPr>
          <a:xfrm flipH="1">
            <a:off x="2916000" y="3573360"/>
            <a:ext cx="863640" cy="71928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076720" y="3573360"/>
            <a:ext cx="863640" cy="863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716360" y="3860640"/>
            <a:ext cx="647640" cy="100836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4427640" y="3933720"/>
            <a:ext cx="0" cy="1079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2"/>
          <p:cNvSpPr/>
          <p:nvPr/>
        </p:nvSpPr>
        <p:spPr>
          <a:xfrm flipV="1">
            <a:off x="4427640" y="1196640"/>
            <a:ext cx="0" cy="107964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3"/>
          <p:cNvSpPr/>
          <p:nvPr/>
        </p:nvSpPr>
        <p:spPr>
          <a:xfrm flipV="1">
            <a:off x="4788000" y="1341360"/>
            <a:ext cx="431640" cy="1008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4"/>
          <p:cNvSpPr/>
          <p:nvPr/>
        </p:nvSpPr>
        <p:spPr>
          <a:xfrm flipV="1">
            <a:off x="5076720" y="1699920"/>
            <a:ext cx="719280" cy="86508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5"/>
          <p:cNvSpPr/>
          <p:nvPr/>
        </p:nvSpPr>
        <p:spPr>
          <a:xfrm flipV="1">
            <a:off x="5219640" y="2349360"/>
            <a:ext cx="1008000" cy="432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3564000" y="3860640"/>
            <a:ext cx="503280" cy="936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7"/>
          <p:cNvSpPr/>
          <p:nvPr/>
        </p:nvSpPr>
        <p:spPr>
          <a:xfrm flipH="1" flipV="1">
            <a:off x="3708360" y="1341360"/>
            <a:ext cx="432000" cy="1008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28"/>
          <p:cNvSpPr/>
          <p:nvPr/>
        </p:nvSpPr>
        <p:spPr>
          <a:xfrm flipH="1" flipV="1">
            <a:off x="3059280" y="1773360"/>
            <a:ext cx="720720" cy="7920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2696760" y="37476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ласти использования м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5274720" y="105084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ДОБАВКА  К ПИЩ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853600" y="1555920"/>
            <a:ext cx="29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ЛАКОКРАСО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284160" y="2203560"/>
            <a:ext cx="254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СТЕКОЛЬ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0360" y="7635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ОЛУЧЕНИЕ С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6499800" y="2924280"/>
            <a:ext cx="241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БУМАЖ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762120" y="836640"/>
            <a:ext cx="323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ИГОТОВЛ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ШКОЛЬНЫХ  МЕЛ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397800" y="126828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ИЗГОТОВЛЕН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ХУДОЖЕСТВЕННЫХ  КРАС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326880" y="2133720"/>
            <a:ext cx="24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ИЗВОДСТВО   СПИЧ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6428520" y="3716280"/>
            <a:ext cx="250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РЕЗИНОВ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326880" y="27082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ОДКОРМКА  ЖИВОТН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0"/>
          <p:cNvSpPr/>
          <p:nvPr/>
        </p:nvSpPr>
        <p:spPr>
          <a:xfrm>
            <a:off x="327600" y="3429000"/>
            <a:ext cx="217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НАПОЛНИТ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ДЛЯ  РЕЗ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1"/>
          <p:cNvSpPr/>
          <p:nvPr/>
        </p:nvSpPr>
        <p:spPr>
          <a:xfrm>
            <a:off x="471960" y="4221000"/>
            <a:ext cx="22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ИЗВЕСТКОВАНИЕ  ПОЧ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1263240" y="4797360"/>
            <a:ext cx="28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СОСТАВНАЯ ЧА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ЗУБНЫХ ПОРОШ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5437440" y="4869000"/>
            <a:ext cx="281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РЕНТГЕНОВСКОЕ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ОБСЛЕДОВАНИЕ  ЖЕЛУ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3782880" y="5373720"/>
            <a:ext cx="279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РОИЗВОДСТ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ВЯЖУЩИХ ВЕЩЕСТ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5923800" y="4290840"/>
            <a:ext cx="3036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САХАРНАЯ  ПРОМЫШЛЕН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(очистка  свекольного  со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62520" y="47628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роизводство м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68360" y="1056240"/>
            <a:ext cx="77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л для письма, а также мел для дерева и кожи получают формовкой белого молотого мела со связующим веществом. Мелки, кроме красивого цвета, должны обладать определенной твердостью, т. е. не должны быть слишком твердыми или слишком мягки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39640" y="2563920"/>
            <a:ext cx="7899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ошок мела смешивают с соответствующим количеством минеральных красок для получения любого оттенка и замешивают в водном растворе столярного клея. В качестве наполнителя для белых мелков применяют гипс, алебастр. Для придания мелку мягкости можно прибавить мыла (в виде мыльной воды), масла или воска. Готовые высушенные мелки погружают в масло, что улучшает их цвет и делает их более мягкими. В качестве связующего вещества для цветных мелков применяются также пивные дрожжи, клей, гумми-арабик, а также клейстер из овсяной му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примесей в меле есть  гипс и крахм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547640" y="40464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т так выглядят красители, которые использу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приготовления цветных мел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сухие краски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11" name="Picture 8" descr="ваыаы"/>
          <p:cNvPicPr/>
          <p:nvPr/>
        </p:nvPicPr>
        <p:blipFill>
          <a:blip r:embed="rId2"/>
          <a:stretch/>
        </p:blipFill>
        <p:spPr>
          <a:xfrm>
            <a:off x="4932360" y="1916280"/>
            <a:ext cx="3168720" cy="3601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344320" y="476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ПРАКТИЧЕСКАЯ 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09480" y="1125000"/>
            <a:ext cx="740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ю был  проведён социологический опрос учителей МБОУ СОШ №2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форме анкетиров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319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611280" y="692280"/>
          <a:ext cx="777708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7777080" cy="5400720"/>
                  </a:xfrm>
                  <a:prstGeom prst="rect">
                    <a:avLst/>
                  </a:prstGeom>
                  <a:ln w="5724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2"/>
          <p:cNvGraphicFramePr/>
          <p:nvPr/>
        </p:nvGraphicFramePr>
        <p:xfrm>
          <a:off x="468360" y="549360"/>
          <a:ext cx="828036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280360" cy="5327640"/>
                  </a:xfrm>
                  <a:prstGeom prst="rect">
                    <a:avLst/>
                  </a:prstGeom>
                  <a:ln w="5724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5"/>
          <p:cNvGraphicFramePr/>
          <p:nvPr/>
        </p:nvGraphicFramePr>
        <p:xfrm>
          <a:off x="468360" y="549360"/>
          <a:ext cx="820728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207280" cy="5616360"/>
                  </a:xfrm>
                  <a:prstGeom prst="rect">
                    <a:avLst/>
                  </a:prstGeom>
                  <a:ln w="5724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684360" y="645840"/>
            <a:ext cx="7200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в анкеты учителей нашей школы, я пришёл к выводу, что качество школьных мелков учителей не устраивает, т.к. у некоторых учителей есть отрицательные последствия: аллергия на мел, ломкость ногтей, сухость рук, кашель, чихание, першение в горле. Также ме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огда не пишет, крошится, пачкает ру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арапает дос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187280" y="47628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КОМЕНДАЦИ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55640" y="17359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меньшения отрицательных последствий, котор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ются при постоянном контакте с мел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омендую учителям нашей шко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о время работы чаще мыть руки со смягчающ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алетным мылом: «глицериновое», «вазелиновое»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молочно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После каждого урока смазывать руки увлажняющим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мом для ру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тирать мел с доски только влажной тряпк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ромывать тряпку для стирания мела как можно ча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Schoolbook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27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Теоретическая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История возникновения м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Области исполь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) Производство м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Практическая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Социологический 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Рекоменд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Список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68360" y="1929240"/>
            <a:ext cx="82803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йствие мела на организм обусловлено  индивидуальными особенностями каждого учителя. Как и любая пыль, меловая пыль накапливается в дыхательных путях, вызывая раздражения. Отсюда могут быть такие симптомы, как: кашель, першение в горле, чихание. Пострадать может и сверхчувствительная кожа. Руки могут чесаться, кожа сохнуть. У людей с пониженным содержанием железа может наблюдаться  «странное» пристрастие, например, поедание  ме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елом, поступающим в нашу школу, работать очен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яжело. Возможно, действительно возникла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в приобретении интерактив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403280" y="476280"/>
            <a:ext cx="61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ЙСТВИЕ  МЕЛА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ОРГАНИЗМ  УЧИТЕЛ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11280" y="1137240"/>
            <a:ext cx="79930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Проведя исследование я сделал выв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Мел имеет большое практическое значение, т.к. применяется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харной, резиновой, бумажной, стекольной промышленнос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лучении соды, приготовлении школьных мелков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Исследуя мелки в нашей школе, я узнал, что они состоят из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родного мела (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рбоната кальция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гипса и крахм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Анализируя анкеты учителей нашей школы, я пришёл к выв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школьный мел может оказывать отрицательное влияние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оровье учителей, но не смотря на это, меловые доски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стоящее время являютс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ыми безопасными для здоровь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т.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ркерные доски могут выделять эфиры и вызывать астму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активные доски дают излишнее напряжение на глаз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684360" y="549360"/>
            <a:ext cx="6983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О  ИНТЕРЕС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1440" y="1413000"/>
            <a:ext cx="8617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КОЛЬНЫЙ МЕЛ  МЕНЯЮТ  НА  ЛАЗ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ёные из Московского института электроники и математики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ожили заменить мел лазерной указкой и управляющей программ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 проекта «Умный мел» Леонид Восков (профессор институт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нцип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б-камера считывает происходящее на экране. А программа анализиру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жение. С помощью лазерной указки ученики (7человек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временно, не мешая друг другу могут перетаскивать ярлыки, писа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овать, выполнять любые задания, которые даст им преподават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ым технологическим решением уже заинтересовал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Министерстве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11280" y="13698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ИСОК 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А. Савина, О.Г. Хинн « Я познаю мир», «Издательство АСТ»  Москва,1999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Энциклопедия юного химика, Москва.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м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белка м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google.r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еловые ск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684360" y="836640"/>
            <a:ext cx="7127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420360" y="518760"/>
            <a:ext cx="209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18200" y="2908080"/>
            <a:ext cx="243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695960" y="1197000"/>
            <a:ext cx="583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сти исследование школьных мелк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упающих в нашу школу, и изуч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х действие на организм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622520" y="3573360"/>
            <a:ext cx="639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Провести анализ литер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Изучить состав м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Провести социологический опрос на влия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йствия мела на организм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851280" y="105156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ИПОТ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621800" y="184464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 мела должен отвечать за его каче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мел3"/>
          <p:cNvPicPr/>
          <p:nvPr/>
        </p:nvPicPr>
        <p:blipFill>
          <a:blip r:embed="rId1"/>
          <a:stretch/>
        </p:blipFill>
        <p:spPr>
          <a:xfrm>
            <a:off x="2771640" y="2781360"/>
            <a:ext cx="4176720" cy="287964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  <p:pic>
        <p:nvPicPr>
          <p:cNvPr id="55" name="Picture 7" descr="мел3"/>
          <p:cNvPicPr/>
          <p:nvPr/>
        </p:nvPicPr>
        <p:blipFill>
          <a:blip r:embed="rId2"/>
          <a:stretch/>
        </p:blipFill>
        <p:spPr>
          <a:xfrm>
            <a:off x="2771640" y="2781360"/>
            <a:ext cx="4176720" cy="2879640"/>
          </a:xfrm>
          <a:prstGeom prst="rect">
            <a:avLst/>
          </a:prstGeom>
          <a:ln w="442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8920" y="1195200"/>
            <a:ext cx="590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ЪЕКТ 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кольный м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УБЪЕКТ  ИССЛЕДОВАНИЯ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я МБОУ СОШ №2 г.Задонс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лияние мела на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Ы И ПРИЁМЫ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ализ литературы и электронных ресурс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блюдение, беседа, соц.опрос, обобщение, вы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045440" y="1052640"/>
            <a:ext cx="647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считаю, что эта тема актуальна потому чт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 поступающий  в нашу школу, не отвеч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бованиям – пачкает руки, сильно крошитс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зывает неприятные ощущ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ём причина, я решил выясн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натуральные мелки"/>
          <p:cNvPicPr/>
          <p:nvPr/>
        </p:nvPicPr>
        <p:blipFill>
          <a:blip r:embed="rId1"/>
          <a:stretch/>
        </p:blipFill>
        <p:spPr>
          <a:xfrm>
            <a:off x="2771640" y="3284640"/>
            <a:ext cx="3457800" cy="273672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04292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л имеет как растительное, так и животное происхождение. Он состоит из известковых водорослей и корненожек. Это всё простейшие организмы, которые извлекали  из морской воды карбонат кальция и строили свои раковины и ске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мирая, они опускались на дно океанов. Из этих раковин и скелетов образовывался толстый слой. Постепенно этот слой цементировался, превращался мягкий известняк, который мы называем м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так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л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арбонат кальция) - тонкозернистый, мягкий, белый известняк, состоящий из мелких обломков и целых скелетов микроорг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14880" y="4762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стория возникновения м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755640" y="475200"/>
            <a:ext cx="70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и мела, находившиеся на морском дне, были подняты над поверхностью моря. Наиболее рыхлые участки были размыты водой, оставив высокие меловые скалы.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ый хороший мел получают в Англии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мел7"/>
          <p:cNvPicPr/>
          <p:nvPr/>
        </p:nvPicPr>
        <p:blipFill>
          <a:blip r:embed="rId1"/>
          <a:stretch/>
        </p:blipFill>
        <p:spPr>
          <a:xfrm>
            <a:off x="2268360" y="1844640"/>
            <a:ext cx="5092920" cy="43182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468360" y="619560"/>
            <a:ext cx="74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 сегодняшний день  добыча и производство мела на территории СНГ существует в России, Белоруссии, Украине и Казахстане. Ежегодное потребление природного мела в кусковом, дроблёном и измельчённом виде в разных странах превышает 150 млн. тон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дроб мел"/>
          <p:cNvPicPr/>
          <p:nvPr/>
        </p:nvPicPr>
        <p:blipFill>
          <a:blip r:embed="rId1"/>
          <a:stretch/>
        </p:blipFill>
        <p:spPr>
          <a:xfrm>
            <a:off x="3348000" y="3357720"/>
            <a:ext cx="2664000" cy="20635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65" name="Picture 11" descr="кусковой мел2"/>
          <p:cNvPicPr/>
          <p:nvPr/>
        </p:nvPicPr>
        <p:blipFill>
          <a:blip r:embed="rId2"/>
          <a:stretch/>
        </p:blipFill>
        <p:spPr>
          <a:xfrm>
            <a:off x="468360" y="2421000"/>
            <a:ext cx="2735280" cy="23763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pic>
        <p:nvPicPr>
          <p:cNvPr id="66" name="Picture 12" descr="измельчённый мел"/>
          <p:cNvPicPr/>
          <p:nvPr/>
        </p:nvPicPr>
        <p:blipFill>
          <a:blip r:embed="rId3"/>
          <a:stretch/>
        </p:blipFill>
        <p:spPr>
          <a:xfrm>
            <a:off x="6156360" y="4005360"/>
            <a:ext cx="2663640" cy="201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Юлия Кириллова</cp:lastModifiedBy>
  <dcterms:modified xsi:type="dcterms:W3CDTF">2020-01-02T17:00:17Z</dcterms:modified>
  <cp:revision>9</cp:revision>
  <dc:subject/>
  <dc:title>Заголовок слайда</dc:title>
</cp:coreProperties>
</file>