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A5E-A04F-4CFF-973F-C52531E9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18A-6631-4CF2-BF66-DD514CC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600-41B4-4A48-B38A-E8DE17CB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A37-F8C3-4493-94ED-1D216CF5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F13-D974-4921-B3D6-FDFED054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79B-5738-4623-A804-0A0CCA36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46F-C0CD-4915-AA1B-26D0D962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B69-FBAE-4593-BCCA-9C08646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406-33C8-46EA-B1AB-F2C0340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F3E-5234-470C-8409-BC4B686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93F-4E88-453A-908E-71B7370F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A97-BDEA-49E9-B7D4-7D86577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8E4-CE8B-420D-895C-159910AD3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32320" y="475920"/>
            <a:ext cx="691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275640" y="198864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18080" y="2564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ИЯНИЕ  МЕЛА  НА  ЗДОРОВЬЕ 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492520" y="472428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шков Егор Алекс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 3-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риллова Юли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мел3"/>
          <p:cNvPicPr/>
          <p:nvPr/>
        </p:nvPicPr>
        <p:blipFill>
          <a:blip r:embed="rId1"/>
          <a:stretch/>
        </p:blipFill>
        <p:spPr>
          <a:xfrm>
            <a:off x="468360" y="3933720"/>
            <a:ext cx="3456000" cy="2303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489040" y="548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ласти использования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5640" y="119592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лотый мел широко применяется в качестве дешёвого материала  для побелки, окраски заборов, стен, бордюров, для защиты стволов деревьев от солнечных ожог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побелка бордюров"/>
          <p:cNvPicPr/>
          <p:nvPr/>
        </p:nvPicPr>
        <p:blipFill>
          <a:blip r:embed="rId1"/>
          <a:stretch/>
        </p:blipFill>
        <p:spPr>
          <a:xfrm>
            <a:off x="395280" y="2276640"/>
            <a:ext cx="3024360" cy="2376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0" name="Picture 7" descr="побелка деревьев"/>
          <p:cNvPicPr/>
          <p:nvPr/>
        </p:nvPicPr>
        <p:blipFill>
          <a:blip r:embed="rId2"/>
          <a:stretch/>
        </p:blipFill>
        <p:spPr>
          <a:xfrm>
            <a:off x="2700360" y="3284640"/>
            <a:ext cx="3240000" cy="23050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71" name="Picture 8" descr="побелка потолка"/>
          <p:cNvPicPr/>
          <p:nvPr/>
        </p:nvPicPr>
        <p:blipFill>
          <a:blip r:embed="rId3"/>
          <a:stretch/>
        </p:blipFill>
        <p:spPr>
          <a:xfrm>
            <a:off x="5796000" y="4365720"/>
            <a:ext cx="2879640" cy="194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3635280" y="2421000"/>
            <a:ext cx="1584360" cy="13478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5292720" y="3068640"/>
            <a:ext cx="1079640" cy="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2627280" y="2420640"/>
            <a:ext cx="1008000" cy="431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3"/>
          <p:cNvSpPr/>
          <p:nvPr/>
        </p:nvSpPr>
        <p:spPr>
          <a:xfrm flipH="1" flipV="1">
            <a:off x="2484000" y="2997360"/>
            <a:ext cx="1079640" cy="712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5292720" y="3357720"/>
            <a:ext cx="1079640" cy="5029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2484000" y="3284640"/>
            <a:ext cx="1079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6"/>
          <p:cNvSpPr/>
          <p:nvPr/>
        </p:nvSpPr>
        <p:spPr>
          <a:xfrm flipH="1">
            <a:off x="2916000" y="3573360"/>
            <a:ext cx="863640" cy="7192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076720" y="3573360"/>
            <a:ext cx="863640" cy="863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716360" y="3860640"/>
            <a:ext cx="647640" cy="100836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4427640" y="3933720"/>
            <a:ext cx="0" cy="1079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2"/>
          <p:cNvSpPr/>
          <p:nvPr/>
        </p:nvSpPr>
        <p:spPr>
          <a:xfrm flipV="1">
            <a:off x="4427640" y="1196640"/>
            <a:ext cx="0" cy="1079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3"/>
          <p:cNvSpPr/>
          <p:nvPr/>
        </p:nvSpPr>
        <p:spPr>
          <a:xfrm flipV="1">
            <a:off x="4788000" y="1341360"/>
            <a:ext cx="431640" cy="1008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4"/>
          <p:cNvSpPr/>
          <p:nvPr/>
        </p:nvSpPr>
        <p:spPr>
          <a:xfrm flipV="1">
            <a:off x="5076720" y="1699920"/>
            <a:ext cx="719280" cy="8650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5"/>
          <p:cNvSpPr/>
          <p:nvPr/>
        </p:nvSpPr>
        <p:spPr>
          <a:xfrm flipV="1">
            <a:off x="5219640" y="2349360"/>
            <a:ext cx="1008000" cy="432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3564000" y="3860640"/>
            <a:ext cx="503280" cy="936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7"/>
          <p:cNvSpPr/>
          <p:nvPr/>
        </p:nvSpPr>
        <p:spPr>
          <a:xfrm flipH="1" flipV="1">
            <a:off x="3708360" y="1341360"/>
            <a:ext cx="432000" cy="1008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28"/>
          <p:cNvSpPr/>
          <p:nvPr/>
        </p:nvSpPr>
        <p:spPr>
          <a:xfrm flipH="1" flipV="1">
            <a:off x="3059280" y="1773360"/>
            <a:ext cx="720720" cy="792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2696760" y="37476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ласти использования м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5274720" y="105084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ДОБАВКА  К ПИЩ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853600" y="155592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ЛАКОКРАСО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284160" y="2203560"/>
            <a:ext cx="25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ТЕКОЛЬ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0360" y="7635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ОЛУЧЕНИЕ С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6499800" y="2924280"/>
            <a:ext cx="24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БУМАЖ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762120" y="836640"/>
            <a:ext cx="323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ИГОТОВЛ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ШКОЛЬНЫХ  МЕЛ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397800" y="126828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ИЗГОТОВЛ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ХУДОЖЕСТВЕННЫХ  КРАС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326880" y="2133720"/>
            <a:ext cx="24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ИЗВОДСТВО   СПИ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6428520" y="3716280"/>
            <a:ext cx="25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РЕЗИНОВ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326880" y="27082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ОДКОРМКА  ЖИВОТН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0"/>
          <p:cNvSpPr/>
          <p:nvPr/>
        </p:nvSpPr>
        <p:spPr>
          <a:xfrm>
            <a:off x="327600" y="3429000"/>
            <a:ext cx="217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НАПОЛНИ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ДЛЯ  РЕЗ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1"/>
          <p:cNvSpPr/>
          <p:nvPr/>
        </p:nvSpPr>
        <p:spPr>
          <a:xfrm>
            <a:off x="471960" y="4221000"/>
            <a:ext cx="22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ИЗВЕСТКОВАНИЕ  ПОЧ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1263240" y="4797360"/>
            <a:ext cx="28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ОСТАВНАЯ ЧА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ЗУБНЫХ ПОРОШ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5437440" y="4869000"/>
            <a:ext cx="28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РЕНТГЕНОВСКОЕ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ОБСЛЕДОВАНИЕ  ЖЕЛУ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3782880" y="5373720"/>
            <a:ext cx="279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ИЗВОДСТ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ВЯЖУЩИХ ВЕЩЕСТ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5923800" y="4290840"/>
            <a:ext cx="3036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АХАРНАЯ  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(очистка  свекольного  со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62520" y="47628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роизводство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105624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л для письма, а также мел для дерева и кожи получают формовкой белого молотого мела со связующим веществом. Мелки, кроме красивого цвета, должны обладать определенной твердостью, т. е. не должны быть слишком твердыми или слишком мягк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39640" y="2563920"/>
            <a:ext cx="7899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ошок мела смешивают с соответствующим количеством минеральных красок для получения любого оттенка и замешивают в водном растворе столярного клея. В качестве наполнителя для белых мелков применяют гипс, алебастр. Для придания мелку мягкости можно прибавить мыла (в виде мыльной воды), масла или воска. Готовые высушенные мелки погружают в масло, что улучшает их цвет и делает их более мягкими. В качестве связующего вещества для цветных мелков применяются также пивные дрожжи, клей, гумми-арабик, а также клейстер из овсяной му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примесей в меле есть  гипс и крахм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547640" y="40464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так выглядят красители, которые использу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приготовления цветных мел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сухие краски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11" name="Picture 8" descr="ваыаы"/>
          <p:cNvPicPr/>
          <p:nvPr/>
        </p:nvPicPr>
        <p:blipFill>
          <a:blip r:embed="rId2"/>
          <a:stretch/>
        </p:blipFill>
        <p:spPr>
          <a:xfrm>
            <a:off x="4932360" y="1916280"/>
            <a:ext cx="3168720" cy="3601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344320" y="476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ПРАКТИЧЕСКАЯ 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09480" y="1125000"/>
            <a:ext cx="740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ю был  проведён социологический опрос учителей МБОУ СОШ №2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форме анкетиро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319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611280" y="692280"/>
          <a:ext cx="777708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7777080" cy="540072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2"/>
          <p:cNvGraphicFramePr/>
          <p:nvPr/>
        </p:nvGraphicFramePr>
        <p:xfrm>
          <a:off x="468360" y="549360"/>
          <a:ext cx="828036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280360" cy="532764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5"/>
          <p:cNvGraphicFramePr/>
          <p:nvPr/>
        </p:nvGraphicFramePr>
        <p:xfrm>
          <a:off x="468360" y="549360"/>
          <a:ext cx="820728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207280" cy="561636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684360" y="645840"/>
            <a:ext cx="7200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в анкеты учителей нашей школы, я пришёл к выводу, что качество школьных мелков учителей не устраивает, т.к. у некоторых учителей есть отрицательные последствия: аллергия на мел, ломкость ногтей, сухость рук, кашель, чихание, першение в горле. Также м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да не пишет, крошится, пачкает ру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арапает дос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187280" y="47628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ОМЕНДАЦИ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55640" y="17359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меньшения отрицательных последствий, котор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при постоянном контакте с мел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мендую учителям нашей шко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о время работы чаще мыть руки со смягчающ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алетным мылом: «глицериновое», «вазелиновое»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молочно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После каждого урока смазывать руки увлажняющим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мом для ру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тирать мел с доски только влажной тряпк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ромывать тряпку для стирания мела как можно ча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Schoolbook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Теоретическая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История возникновения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Области исполь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Производство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Практическая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Социологический 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Рекоменд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68360" y="1929240"/>
            <a:ext cx="82803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йствие мела на организм обусловлено  индивидуальными особенностями каждого учителя. Как и любая пыль, меловая пыль накапливается в дыхательных путях, вызывая раздражения. Отсюда могут быть такие симптомы, как: кашель, першение в горле, чихание. Пострадать может и сверхчувствительная кожа. Руки могут чесаться, кожа сохнуть. У людей с пониженным содержанием железа может наблюдаться  «странное» пристрастие, например, поедание  ме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елом, поступающим в нашу школу, работать очен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яжело. Возможно, действительно возникла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в приобретении интерактив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403280" y="476280"/>
            <a:ext cx="61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ЙСТВИЕ  МЕЛА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ОРГАНИЗМ  УЧИТЕЛ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1280" y="1137240"/>
            <a:ext cx="79930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Проведя исследование я сделал выв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Мел имеет большое практическое значение, т.к. применяется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харной, резиновой, бумажной, стекольной промышленнос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лучении соды, приготовлении школьных мелков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Исследуя мелки в нашей школе, я узнал, что они состоят из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родного мела (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рбоната кальция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гипса и крахм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Анализируя анкеты учителей нашей школы, я пришёл к выв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школьный мел может оказывать отрицательное влияни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оровье учителей, но не смотря на это, меловые доски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тоящее время являютс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ми безопасными для здоровь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ркерные доски могут выделять эфиры и вызывать астму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активные доски дают излишнее напряжение на гла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684360" y="549360"/>
            <a:ext cx="6983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О  ИНТЕРЕС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1440" y="1413000"/>
            <a:ext cx="8617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КОЛЬНЫЙ МЕЛ  МЕНЯЮТ  НА  ЛАЗ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ёные из Московского института электроники и математики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ожили заменить мел лазерной указкой и управляющей программ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проекта «Умный мел» Леонид Восков (профессор институт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цип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б-камера считывает происходящее на экране. А программа анализиру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жение. С помощью лазерной указки ученики (7человек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временно, не мешая друг другу могут перетаскивать ярлыки, писа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овать, выполнять любые задания, которые даст им преподава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ым технологическим решением уже заинтересовал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Министерстве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11280" y="13698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ИСОК 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А. Савина, О.Г. Хинн « Я познаю мир», «Издательство АСТ»  Москва,1999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Энциклопедия юного химика, Москва.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м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белка м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еловые ск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684360" y="836640"/>
            <a:ext cx="7127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420360" y="518760"/>
            <a:ext cx="209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18200" y="2908080"/>
            <a:ext cx="243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695960" y="1197000"/>
            <a:ext cx="583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сти исследование школьных мелк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упающих в нашу школу, и изуч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 действие на организ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22520" y="3573360"/>
            <a:ext cx="639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Провести анализ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Изучить состав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Провести социологический опрос на влия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ия мела на организ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851280" y="105156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ИПОТ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621800" y="184464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 мела должен отвечать за его каче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мел3"/>
          <p:cNvPicPr/>
          <p:nvPr/>
        </p:nvPicPr>
        <p:blipFill>
          <a:blip r:embed="rId1"/>
          <a:stretch/>
        </p:blipFill>
        <p:spPr>
          <a:xfrm>
            <a:off x="2771640" y="2781360"/>
            <a:ext cx="4176720" cy="2879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  <p:pic>
        <p:nvPicPr>
          <p:cNvPr id="55" name="Picture 7" descr="мел3"/>
          <p:cNvPicPr/>
          <p:nvPr/>
        </p:nvPicPr>
        <p:blipFill>
          <a:blip r:embed="rId2"/>
          <a:stretch/>
        </p:blipFill>
        <p:spPr>
          <a:xfrm>
            <a:off x="2771640" y="2781360"/>
            <a:ext cx="4176720" cy="2879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8920" y="1195200"/>
            <a:ext cx="590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ЪЕКТ 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кольный м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УБЪЕКТ  ИССЛЕДОВАНИЯ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я МБОУ СОШ №2 г.Задон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лияние мела на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Ы И ПРИЁМЫ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литературы и электронных ресурс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людение, беседа, соц.опрос, обобщение, вы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045440" y="1052640"/>
            <a:ext cx="647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считаю, что эта тема актуальна потому чт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 поступающий  в нашу школу, не отвеч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бованиям – пачкает руки, сильно крошит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зывает неприятные ощущ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 причина, я решил выясн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натуральные мелки"/>
          <p:cNvPicPr/>
          <p:nvPr/>
        </p:nvPicPr>
        <p:blipFill>
          <a:blip r:embed="rId1"/>
          <a:stretch/>
        </p:blipFill>
        <p:spPr>
          <a:xfrm>
            <a:off x="2771640" y="3284640"/>
            <a:ext cx="3457800" cy="273672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04292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л имеет как растительное, так и животное происхождение. Он состоит из известковых водорослей и корненожек. Это всё простейшие организмы, которые извлекали  из морской воды карбонат кальция и строили свои раковины и ске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мирая, они опускались на дно океанов. Из этих раковин и скелетов образовывался толстый слой. Постепенно этот слой цементировался, превращался мягкий известняк, который мы называем м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так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л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рбонат кальция) - тонкозернистый, мягкий, белый известняк, состоящий из мелких обломков и целых скелетов микроорг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14880" y="4762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стория возникновения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755640" y="475200"/>
            <a:ext cx="70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и мела, находившиеся на морском дне, были подняты над поверхностью моря. Наиболее рыхлые участки были размыты водой, оставив высокие меловые скалы.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ый хороший мел получают в Англии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мел7"/>
          <p:cNvPicPr/>
          <p:nvPr/>
        </p:nvPicPr>
        <p:blipFill>
          <a:blip r:embed="rId1"/>
          <a:stretch/>
        </p:blipFill>
        <p:spPr>
          <a:xfrm>
            <a:off x="2268360" y="1844640"/>
            <a:ext cx="5092920" cy="43182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468360" y="61956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 сегодняшний день  добыча и производство мела на территории СНГ существует в России, Белоруссии, Украине и Казахстане. Ежегодное потребление природного мела в кусковом, дроблёном и измельчённом виде в разных странах превышает 150 млн. тон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дроб мел"/>
          <p:cNvPicPr/>
          <p:nvPr/>
        </p:nvPicPr>
        <p:blipFill>
          <a:blip r:embed="rId1"/>
          <a:stretch/>
        </p:blipFill>
        <p:spPr>
          <a:xfrm>
            <a:off x="3348000" y="3357720"/>
            <a:ext cx="2664000" cy="20635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65" name="Picture 11" descr="кусковой мел2"/>
          <p:cNvPicPr/>
          <p:nvPr/>
        </p:nvPicPr>
        <p:blipFill>
          <a:blip r:embed="rId2"/>
          <a:stretch/>
        </p:blipFill>
        <p:spPr>
          <a:xfrm>
            <a:off x="468360" y="2421000"/>
            <a:ext cx="2735280" cy="23763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66" name="Picture 12" descr="измельчённый мел"/>
          <p:cNvPicPr/>
          <p:nvPr/>
        </p:nvPicPr>
        <p:blipFill>
          <a:blip r:embed="rId3"/>
          <a:stretch/>
        </p:blipFill>
        <p:spPr>
          <a:xfrm>
            <a:off x="6156360" y="4005360"/>
            <a:ext cx="2663640" cy="201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Юлия Кириллова</cp:lastModifiedBy>
  <dcterms:modified xsi:type="dcterms:W3CDTF">2020-01-02T17:00:17Z</dcterms:modified>
  <cp:revision>9</cp:revision>
  <dc:subject/>
  <dc:title>Заголовок слайда</dc:title>
</cp:coreProperties>
</file>