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416-21F7-4E51-8D8F-723A3EB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84A-53BB-400D-8C09-5D555B1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834-727B-42B7-A8A2-9515D12A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727-D51B-44EF-8B1F-0722180C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386-B64D-4E9C-8397-4DB789E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D8A-694D-470D-B7D0-7FB1031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5F4-25F0-44E1-AAC3-2767E40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9A1-B983-4342-9476-1BEB972B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4E-5221-48D9-BD4E-23C5D957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48A-7E66-4ABC-B359-54B5821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CE4-8A1D-4DBF-B03E-0647970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771-F95B-49D0-87AF-1BCEDAB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3FB-8F9E-45FD-BAF7-28754CA96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л: каменный пояс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-1440" y="-1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33280" y="2421000"/>
            <a:ext cx="2178000" cy="244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5" name="WordArt 8"/>
          <p:cNvSpPr txBox="1"/>
          <p:nvPr/>
        </p:nvSpPr>
        <p:spPr>
          <a:xfrm>
            <a:off x="108000" y="5516640"/>
            <a:ext cx="30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аница между Европой и Ази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уя текст учебника п. 36 и карту атласа, запишите текст в тетрадь, вставляя пропущен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этой частью территории России обычно подразумевают Уральские горы, которые протянулись от побережья арктического Карского моря до степей Казахстана. Протяжённость Уральских гор с юга на север …… километров, а с запада на восток от … до … километров. В древности горы Урала называли……., а до XVIII века «каменным поясом» (в переводе с тюркского «Урал» означает пояс). Издавна Урал считался естественной границей, разделяющей две части света - ….. И…... Уральские горы сравнительно невысоки: всего лишь несколько вершин достигают высоты 1,5 тысяч метров над уровнем моря, а самая высокая из них (………) – 1895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62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таблицу, по материалам параграф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920" y="1425600"/>
          <a:ext cx="9074160" cy="4883040"/>
        </p:xfrm>
        <a:graphic>
          <a:graphicData uri="http://schemas.openxmlformats.org/drawingml/2006/table">
            <a:tbl>
              <a:tblPr/>
              <a:tblGrid>
                <a:gridCol w="1606680"/>
                <a:gridCol w="1214280"/>
                <a:gridCol w="1501920"/>
                <a:gridCol w="1428480"/>
                <a:gridCol w="1810080"/>
                <a:gridCol w="151272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-ний о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выс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выс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ые ископае-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й-Х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е гря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-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-тинов камень -492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поляр-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AutoShape 91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08000" y="1159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характеру рельефа и других природных особенностей выделяют Поляр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полярный, Северный, Средний и Южный 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0_6276e_85b62aaa_XL.jpg"/>
          <p:cNvPicPr/>
          <p:nvPr/>
        </p:nvPicPr>
        <p:blipFill>
          <a:blip r:embed="rId1"/>
          <a:stretch/>
        </p:blipFill>
        <p:spPr>
          <a:xfrm>
            <a:off x="5364000" y="987480"/>
            <a:ext cx="2159280" cy="1311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5FA5EB7P.jpg"/>
          <p:cNvPicPr/>
          <p:nvPr/>
        </p:nvPicPr>
        <p:blipFill>
          <a:blip r:embed="rId2"/>
          <a:stretch/>
        </p:blipFill>
        <p:spPr>
          <a:xfrm>
            <a:off x="7070760" y="2298600"/>
            <a:ext cx="1781280" cy="1596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zumrud--kamen-voshishheniya-i-mudrosti.jpg"/>
          <p:cNvPicPr/>
          <p:nvPr/>
        </p:nvPicPr>
        <p:blipFill>
          <a:blip r:embed="rId3"/>
          <a:stretch/>
        </p:blipFill>
        <p:spPr>
          <a:xfrm>
            <a:off x="5973840" y="4078440"/>
            <a:ext cx="1950840" cy="141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4120" y="1182600"/>
            <a:ext cx="407052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mbria"/>
              </a:rPr>
              <a:t>Полезные ископаемы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7160" y="2204640"/>
            <a:ext cx="40687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В результате длительных процессов разрушения на поверхность оказались слои горных пород, которые содержат разные полезные ископаемые. Поэтому в центральной и восточной части Уральских гор распложены крупные месторождения платины, золота, железа, меди, а так же залежи уральских самоцветов: изумруда, топаза, аметиста, малах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В настоящее время Урал остается одним из крупнейших  горнорудных районов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45800" y="1008000"/>
            <a:ext cx="14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484040" y="2371680"/>
            <a:ext cx="1374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Малах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300280" y="5332320"/>
            <a:ext cx="1262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6320" y="1263600"/>
            <a:ext cx="2662200" cy="3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mbria"/>
              </a:rPr>
              <a:t>Клима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5882797_large.jpg"/>
          <p:cNvPicPr/>
          <p:nvPr/>
        </p:nvPicPr>
        <p:blipFill>
          <a:blip r:embed="rId1"/>
          <a:stretch/>
        </p:blipFill>
        <p:spPr>
          <a:xfrm>
            <a:off x="5748480" y="1676520"/>
            <a:ext cx="3206520" cy="2315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88560" y="1638000"/>
            <a:ext cx="3436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На климат региона большое влияние оказывают </a:t>
            </a:r>
            <a:r>
              <a:rPr b="1" i="1" lang="ru-RU" sz="1500" spc="-1" strike="noStrike">
                <a:solidFill>
                  <a:srgbClr val="000000"/>
                </a:solidFill>
                <a:latin typeface="Cambria"/>
              </a:rPr>
              <a:t>атлантические воздушные массы</a:t>
            </a: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, соседство </a:t>
            </a:r>
            <a:r>
              <a:rPr b="1" i="1" lang="ru-RU" sz="1500" spc="-1" strike="noStrike">
                <a:solidFill>
                  <a:srgbClr val="000000"/>
                </a:solidFill>
                <a:latin typeface="Cambria"/>
              </a:rPr>
              <a:t>Северного Ледовитого океана</a:t>
            </a: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, большая протяженность го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Климат умеренный, континентальный. Наиболее холодные районы на севере и северо-востоке, где средняя температура января -21 — 23°С, а на юге -15 — 17°С. Средняя температура июля на севере 9-10°С, на юге 19-20°С. Преобладает западный перенос воздушных масс, поэтому на западном склоне атмосферных осадков больше (600-1000 мм), чем на восточном (300-600 мм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2760" y="115920"/>
            <a:ext cx="7515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Гидр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765000"/>
            <a:ext cx="87120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е горы служат водоразделом для рек европейской части страны и Западной Сибири. На западных склонах находится исток Печоры. Здесь же берут начало крупные притоки Камы. На восточных склонах расположены истоки многочисленных притоков Оби и берет начало река Ур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mbria"/>
              </a:rPr>
              <a:t>Крупнейшие реки Урала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: Чусовая (735 км), Белая (1420 км), Печора (1809 км), Пышма (603 км),  Лозьва (637 км),  Сосьва (635 км),  Ай (549 км), Сылва (493 км), Илыч (411 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На Урале находится более 6 тысяч озёр. Наиболее распространенные озёра тектонического происх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 Ур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го          Восточного        Юж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ка                  стока                   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те схему, используя информацию карты «Урал» в атла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2268000" y="1125360"/>
            <a:ext cx="86364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643280" y="112536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6156360" y="1125360"/>
            <a:ext cx="86508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43:50Z</dcterms:created>
  <dc:creator>Лена</dc:creator>
  <dc:description/>
  <dc:language>en-US</dc:language>
  <cp:lastModifiedBy>Ларина Ольга</cp:lastModifiedBy>
  <dcterms:modified xsi:type="dcterms:W3CDTF">2022-02-07T18:31:57Z</dcterms:modified>
  <cp:revision>13</cp:revision>
  <dc:subject/>
  <dc:title>Урал: каменный пояс России.</dc:title>
</cp:coreProperties>
</file>