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1AF-C3A5-4009-AC6E-60E6BA3F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D60-D6A8-4A5B-A136-694E5F10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94F-EEF5-40A7-A1E3-6D98629B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35A-853D-423D-B745-218E5713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DCE-0FAC-447A-AE5B-F223DFA2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E28-8857-41D2-9E39-D43BC203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14C-F6BD-468C-B60B-1B4AC396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DC6-A041-4675-974B-CDC28117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1F9-AB41-4AC7-9120-4C9CE673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846-BE53-4555-A95A-1C137BDD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9D1-139F-48B0-895C-E6FB2F02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D61-9FC3-44E4-BFE1-533C5120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DE07-22F3-4290-872E-7F26FA759F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л: каменный пояс Росс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6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-1440" y="-15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233280" y="2421000"/>
            <a:ext cx="2178000" cy="244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45" name="WordArt 8"/>
          <p:cNvSpPr txBox="1"/>
          <p:nvPr/>
        </p:nvSpPr>
        <p:spPr>
          <a:xfrm>
            <a:off x="108000" y="5516640"/>
            <a:ext cx="302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Граница между Европой и Азие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пользуя текст учебника п. 36 и карту атласа, запишите текст в тетрадь, вставляя пропущен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этой частью территории России обычно подразумевают Уральские горы, которые протянулись от побережья арктического Карского моря до степей Казахстана. Протяжённость Уральских гор с юга на север …… километров, а с запада на восток от … до … километров. В древности горы Урала называли……., а до XVIII века «каменным поясом» (в переводе с тюркского «Урал» означает пояс). Издавна Урал считался естественной границей, разделяющей две части света - ….. И…... Уральские горы сравнительно невысоки: всего лишь несколько вершин достигают высоты 1,5 тысяч метров над уровнем моря, а самая высокая из них (………) – 1895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762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лните таблицу, по материалам параграфа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4920" y="1425600"/>
          <a:ext cx="9074160" cy="4883040"/>
        </p:xfrm>
        <a:graphic>
          <a:graphicData uri="http://schemas.openxmlformats.org/drawingml/2006/table">
            <a:tbl>
              <a:tblPr/>
              <a:tblGrid>
                <a:gridCol w="1606680"/>
                <a:gridCol w="1214280"/>
                <a:gridCol w="1501920"/>
                <a:gridCol w="1428480"/>
                <a:gridCol w="1810080"/>
                <a:gridCol w="151272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-ний об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выс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выс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ые ископае-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ые з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й-Х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е гря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- 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н-тинов камень -492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менный уг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н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поляр-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AutoShape 91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08000" y="11592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 характеру рельефа и других природных особенностей выделяют Поляр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иполярный, Северный, Средний и Южный У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0_6276e_85b62aaa_XL.jpg"/>
          <p:cNvPicPr/>
          <p:nvPr/>
        </p:nvPicPr>
        <p:blipFill>
          <a:blip r:embed="rId1"/>
          <a:stretch/>
        </p:blipFill>
        <p:spPr>
          <a:xfrm>
            <a:off x="5364000" y="987480"/>
            <a:ext cx="2159280" cy="1311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i5FA5EB7P.jpg"/>
          <p:cNvPicPr/>
          <p:nvPr/>
        </p:nvPicPr>
        <p:blipFill>
          <a:blip r:embed="rId2"/>
          <a:stretch/>
        </p:blipFill>
        <p:spPr>
          <a:xfrm>
            <a:off x="7070760" y="2298600"/>
            <a:ext cx="1781280" cy="1596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Izumrud--kamen-voshishheniya-i-mudrosti.jpg"/>
          <p:cNvPicPr/>
          <p:nvPr/>
        </p:nvPicPr>
        <p:blipFill>
          <a:blip r:embed="rId3"/>
          <a:stretch/>
        </p:blipFill>
        <p:spPr>
          <a:xfrm>
            <a:off x="5973840" y="4078440"/>
            <a:ext cx="1950840" cy="1414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4120" y="1182600"/>
            <a:ext cx="4070520" cy="10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mbria"/>
              </a:rPr>
              <a:t>Полезные ископаемы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7160" y="2204640"/>
            <a:ext cx="406872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В результате длительных процессов разрушения на поверхность оказались слои горных пород, которые содержат разные полезные ископаемые. Поэтому в центральной и восточной части Уральских гор распложены крупные месторождения платины, золота, железа, меди, а так же залежи уральских самоцветов: изумруда, топаза, аметиста, малах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mbria"/>
              </a:rPr>
              <a:t>В настоящее время Урал остается одним из крупнейших  горнорудных районов стр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445800" y="1008000"/>
            <a:ext cx="1407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Амет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7484040" y="2371680"/>
            <a:ext cx="1374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Малах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300280" y="5332320"/>
            <a:ext cx="1262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Изум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6320" y="1263600"/>
            <a:ext cx="2662200" cy="38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mbria"/>
              </a:rPr>
              <a:t>Клима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4" descr="5882797_large.jpg"/>
          <p:cNvPicPr/>
          <p:nvPr/>
        </p:nvPicPr>
        <p:blipFill>
          <a:blip r:embed="rId1"/>
          <a:stretch/>
        </p:blipFill>
        <p:spPr>
          <a:xfrm>
            <a:off x="5748480" y="1676520"/>
            <a:ext cx="3206520" cy="2315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88560" y="1638000"/>
            <a:ext cx="3436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mbria"/>
              </a:rPr>
              <a:t>На климат региона большое влияние оказывают </a:t>
            </a:r>
            <a:r>
              <a:rPr b="1" i="1" lang="ru-RU" sz="1500" spc="-1" strike="noStrike">
                <a:solidFill>
                  <a:srgbClr val="000000"/>
                </a:solidFill>
                <a:latin typeface="Cambria"/>
              </a:rPr>
              <a:t>атлантические воздушные массы</a:t>
            </a:r>
            <a:r>
              <a:rPr b="0" i="1" lang="ru-RU" sz="1500" spc="-1" strike="noStrike">
                <a:solidFill>
                  <a:srgbClr val="000000"/>
                </a:solidFill>
                <a:latin typeface="Cambria"/>
              </a:rPr>
              <a:t>, соседство </a:t>
            </a:r>
            <a:r>
              <a:rPr b="1" i="1" lang="ru-RU" sz="1500" spc="-1" strike="noStrike">
                <a:solidFill>
                  <a:srgbClr val="000000"/>
                </a:solidFill>
                <a:latin typeface="Cambria"/>
              </a:rPr>
              <a:t>Северного Ледовитого океана</a:t>
            </a:r>
            <a:r>
              <a:rPr b="0" i="1" lang="ru-RU" sz="1500" spc="-1" strike="noStrike">
                <a:solidFill>
                  <a:srgbClr val="000000"/>
                </a:solidFill>
                <a:latin typeface="Cambria"/>
              </a:rPr>
              <a:t>, большая протяженность го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mbria"/>
              </a:rPr>
              <a:t>Климат умеренный, континентальный. Наиболее холодные районы на севере и северо-востоке, где средняя температура января -21 — 23°С, а на юге -15 — 17°С. Средняя температура июля на севере 9-10°С, на юге 19-20°С. Преобладает западный перенос воздушных масс, поэтому на западном склоне атмосферных осадков больше (600-1000 мм), чем на восточном (300-600 мм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2760" y="115920"/>
            <a:ext cx="7515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Гидро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765000"/>
            <a:ext cx="87120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кие горы служат водоразделом для рек европейской части страны и Западной Сибири. На западных склонах находится исток Печоры. Здесь же берут начало крупные притоки Камы. На восточных склонах расположены истоки многочисленных притоков Оби и берет начало река Ур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mbria"/>
              </a:rPr>
              <a:t>Крупнейшие реки Урала</a:t>
            </a: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: Чусовая (735 км), Белая (1420 км), Печора (1809 км), Пышма (603 км),  Лозьва (637 км),  Сосьва (635 км),  Ай (549 км), Сылва (493 км), Илыч (411 к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На Урале находится более 6 тысяч озёр. Наиболее распространенные озёра тектонического происх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и Ур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дного          Восточного        Юж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ка                  стока                   с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чите схему, используя информацию карты «Урал» в атла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 flipH="1">
            <a:off x="2268000" y="1125360"/>
            <a:ext cx="863640" cy="57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643280" y="1125360"/>
            <a:ext cx="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6156360" y="1125360"/>
            <a:ext cx="86508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2:43:50Z</dcterms:created>
  <dc:creator>Лена</dc:creator>
  <dc:description/>
  <dc:language>en-US</dc:language>
  <cp:lastModifiedBy>Ларина Ольга</cp:lastModifiedBy>
  <dcterms:modified xsi:type="dcterms:W3CDTF">2022-02-07T18:31:57Z</dcterms:modified>
  <cp:revision>13</cp:revision>
  <dc:subject/>
  <dc:title>Урал: каменный пояс России.</dc:title>
</cp:coreProperties>
</file>