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7B8-3F3B-4CE4-84BB-583C4136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EF4-FCEB-4E52-B520-F4A4490B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693-F9C0-4699-AB77-783A9E12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3BF-5FE3-4688-ABCB-F74F68D1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2D7E-8AA6-4D94-9D44-4996B14F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390B-3E9E-4C57-B043-56910A37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A9CB-1F38-4C7C-BFEE-02E070AE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8B90-FD90-4C03-BBC5-60D55D22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7B36-2F95-4497-85C9-87392B95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BEF3-2CD6-4311-A9CB-F1B3059B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CC31-96ED-4908-8BF7-E3CF627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23C-EFEA-47C2-A7AA-FADD6AB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9E04-641A-4A6E-A170-DDA7A126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EE2D-771B-4AC7-85D2-34C25F35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0066-0A45-4C4B-A4C6-F30583D3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D10A-C095-4E53-B6D9-EDDA53C0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7F3A-717B-45B5-9A09-6FE74C77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487-3D94-4551-854F-2800C457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E1C-5065-40C3-AB6B-EBC49559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9ED-BCCA-4384-80CC-FD9D79B5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F10-54F5-41F9-8CA2-85B6849A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F3E-574C-4B3B-B85D-80F3BC55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521-E34C-4380-BB5D-9C54335A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3D8-CDB5-4508-BAF1-EEC41011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F274-E15D-4640-BACB-2078F21906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C33D-16DA-46B0-85CF-D500DB7175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ЗВУКИ И БУКВ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С и 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ЛОГОПЕДИЧЕСКОЕ ЗАНЯТ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52280"/>
            <a:ext cx="8153280" cy="685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Государственное бюджетное общеобразовательное уч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школа-интернат № 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809880"/>
            <a:ext cx="259092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Учитель-логоп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Слепухина Г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095880"/>
            <a:ext cx="30481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г. 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77920"/>
            <a:ext cx="5562360" cy="1139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Tahoma"/>
              </a:rPr>
              <a:t>Игра «Наоборот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А – ЗДА               ЗМА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О -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___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_              ЗМО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C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ТУ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 - ____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               ЗМУ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Ы - ____              ЗМЫ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343400"/>
            <a:ext cx="6476760" cy="2133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АЙКА - 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УБ - 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КОЗА - 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Лиза - 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1000" cy="788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вук С.З в середине сло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5740" t="21866" r="42594" b="26001"/>
          <a:stretch/>
        </p:blipFill>
        <p:spPr>
          <a:xfrm>
            <a:off x="380880" y="1447920"/>
            <a:ext cx="5029200" cy="3463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91320" y="1447920"/>
            <a:ext cx="3124080" cy="4267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БУ-…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О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ВА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ВЕ-…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О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3705120" cy="3962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15000" y="914400"/>
            <a:ext cx="12193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4800600"/>
            <a:ext cx="777240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b76"/>
                </a:solidFill>
                <a:latin typeface="Verdana"/>
              </a:rPr>
              <a:t>На дереве сидит сова</a:t>
            </a:r>
            <a:r>
              <a:rPr b="0" lang="en-US" sz="6000" spc="-1" strike="noStrike">
                <a:solidFill>
                  <a:srgbClr val="003b7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1520" y="457200"/>
            <a:ext cx="106668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33526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2286000"/>
            <a:ext cx="106704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0199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83040" cy="438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4120" y="1522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228600"/>
            <a:ext cx="1143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17524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Verdana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1828800"/>
            <a:ext cx="1143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Verdana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172200"/>
            <a:ext cx="1676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943600"/>
            <a:ext cx="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62485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924680" y="6172200"/>
            <a:ext cx="76320" cy="7632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3429000"/>
            <a:ext cx="1447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т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4197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ж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41911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</a:rPr>
              <a:t>Найди лишнюю картинк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17466" t="55900" r="45035" b="28971"/>
          <a:stretch/>
        </p:blipFill>
        <p:spPr>
          <a:xfrm>
            <a:off x="228600" y="3886200"/>
            <a:ext cx="85345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457200" y="990720"/>
            <a:ext cx="8077320" cy="2171520"/>
            <a:chOff x="457200" y="990720"/>
            <a:chExt cx="8077320" cy="21715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rcRect l="17620" t="33915" r="45121" b="47898"/>
            <a:stretch/>
          </p:blipFill>
          <p:spPr>
            <a:xfrm>
              <a:off x="457200" y="990720"/>
              <a:ext cx="807732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457200" y="990720"/>
              <a:ext cx="8077320" cy="217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2273400" cy="340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25928" t="0" r="20371" b="0"/>
          <a:stretch/>
        </p:blipFill>
        <p:spPr>
          <a:xfrm>
            <a:off x="5105520" y="228600"/>
            <a:ext cx="1904760" cy="3352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380880"/>
            <a:ext cx="152388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Со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04920"/>
            <a:ext cx="152388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о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09680" y="3809880"/>
            <a:ext cx="1981440" cy="1254240"/>
            <a:chOff x="2209680" y="3809880"/>
            <a:chExt cx="1981440" cy="1254240"/>
          </a:xfrm>
        </p:grpSpPr>
        <p:pic>
          <p:nvPicPr>
            <p:cNvPr id="228" name="" descr=""/>
            <p:cNvPicPr/>
            <p:nvPr/>
          </p:nvPicPr>
          <p:blipFill>
            <a:blip r:embed="rId3"/>
            <a:srcRect l="26759" t="35433" r="62347" b="52045"/>
            <a:stretch/>
          </p:blipFill>
          <p:spPr>
            <a:xfrm>
              <a:off x="2209680" y="3809880"/>
              <a:ext cx="198144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 txBox="1"/>
            <p:nvPr/>
          </p:nvSpPr>
          <p:spPr>
            <a:xfrm>
              <a:off x="2209680" y="3809880"/>
              <a:ext cx="1981440" cy="125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80880" y="1143000"/>
            <a:ext cx="1600200" cy="1676520"/>
            <a:chOff x="380880" y="1143000"/>
            <a:chExt cx="1600200" cy="167652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rcRect l="47500" t="33915" r="45121" b="53323"/>
            <a:stretch/>
          </p:blipFill>
          <p:spPr>
            <a:xfrm>
              <a:off x="380880" y="1143000"/>
              <a:ext cx="16002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380880" y="1143000"/>
              <a:ext cx="160020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238880" y="1295280"/>
            <a:ext cx="1633680" cy="1791000"/>
            <a:chOff x="7238880" y="1295280"/>
            <a:chExt cx="1633680" cy="1791000"/>
          </a:xfrm>
        </p:grpSpPr>
        <p:pic>
          <p:nvPicPr>
            <p:cNvPr id="234" name="" descr=""/>
            <p:cNvPicPr/>
            <p:nvPr/>
          </p:nvPicPr>
          <p:blipFill>
            <a:blip r:embed="rId5"/>
            <a:srcRect l="17620" t="33915" r="73245" b="47898"/>
            <a:stretch/>
          </p:blipFill>
          <p:spPr>
            <a:xfrm>
              <a:off x="7238880" y="1295280"/>
              <a:ext cx="16336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 txBox="1"/>
            <p:nvPr/>
          </p:nvSpPr>
          <p:spPr>
            <a:xfrm>
              <a:off x="7238880" y="1295280"/>
              <a:ext cx="1633680" cy="179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57200" y="3124080"/>
            <a:ext cx="1563840" cy="1714680"/>
            <a:chOff x="457200" y="3124080"/>
            <a:chExt cx="1563840" cy="1714680"/>
          </a:xfrm>
        </p:grpSpPr>
        <p:pic>
          <p:nvPicPr>
            <p:cNvPr id="237" name="" descr=""/>
            <p:cNvPicPr/>
            <p:nvPr/>
          </p:nvPicPr>
          <p:blipFill>
            <a:blip r:embed="rId6"/>
            <a:srcRect l="38712" t="33915" r="52153" b="47898"/>
            <a:stretch/>
          </p:blipFill>
          <p:spPr>
            <a:xfrm>
              <a:off x="457200" y="3124080"/>
              <a:ext cx="156384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 txBox="1"/>
            <p:nvPr/>
          </p:nvSpPr>
          <p:spPr>
            <a:xfrm>
              <a:off x="457200" y="3124080"/>
              <a:ext cx="156384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7"/>
          <a:srcRect l="17466" t="56075" r="73497" b="30700"/>
          <a:stretch/>
        </p:blipFill>
        <p:spPr>
          <a:xfrm>
            <a:off x="7238880" y="3200400"/>
            <a:ext cx="1746360" cy="1752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rcRect l="26506" t="60292" r="58764" b="28971"/>
          <a:stretch/>
        </p:blipFill>
        <p:spPr>
          <a:xfrm>
            <a:off x="4343400" y="3809880"/>
            <a:ext cx="2666880" cy="1333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5486400"/>
            <a:ext cx="8686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У Сони _________. Это Сонин ___________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У Зои ___________. Это Зоин ___________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2209680"/>
            <a:ext cx="6858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тог заня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01080" cy="534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0" y="304920"/>
            <a:ext cx="5334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Характеристика звука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048880" cy="5315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0" y="304920"/>
            <a:ext cx="5334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Характеристика звука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7409" t="15138" r="50003" b="4134"/>
          <a:stretch/>
        </p:blipFill>
        <p:spPr>
          <a:xfrm>
            <a:off x="380880" y="533520"/>
            <a:ext cx="403884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6943" t="16669" r="50003" b="3706"/>
          <a:stretch/>
        </p:blipFill>
        <p:spPr>
          <a:xfrm>
            <a:off x="4745160" y="533520"/>
            <a:ext cx="412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49295" t="74472" r="38952" b="5819"/>
          <a:stretch/>
        </p:blipFill>
        <p:spPr>
          <a:xfrm>
            <a:off x="3581280" y="3733920"/>
            <a:ext cx="2387880" cy="2590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37475" t="51757" r="51585" b="28127"/>
          <a:stretch/>
        </p:blipFill>
        <p:spPr>
          <a:xfrm>
            <a:off x="685800" y="5335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50610" t="53056" r="39329" b="28775"/>
          <a:stretch/>
        </p:blipFill>
        <p:spPr>
          <a:xfrm>
            <a:off x="3573360" y="457200"/>
            <a:ext cx="206532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61990" t="73824" r="26634" b="5819"/>
          <a:stretch/>
        </p:blipFill>
        <p:spPr>
          <a:xfrm>
            <a:off x="6781680" y="3809880"/>
            <a:ext cx="1981440" cy="2390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rcRect l="61550" t="51757" r="26634" b="26828"/>
          <a:stretch/>
        </p:blipFill>
        <p:spPr>
          <a:xfrm>
            <a:off x="457200" y="380988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rcRect l="38351" t="75404" r="51585" b="8816"/>
          <a:stretch/>
        </p:blipFill>
        <p:spPr>
          <a:xfrm>
            <a:off x="6676920" y="533520"/>
            <a:ext cx="2162160" cy="22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3124080"/>
            <a:ext cx="80773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Назови слова. Какой звук есть в каждом сл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835280" cy="2895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24480" y="228600"/>
            <a:ext cx="2590920" cy="285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3047760" cy="3105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019920" y="3505320"/>
            <a:ext cx="2838240" cy="2857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52680" y="533520"/>
            <a:ext cx="2895840" cy="160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Назови сл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Какой звук е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в каждом сл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3657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Круглый год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руглый год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руглый год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За зимой весна ид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 за весною след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оропится к нам лет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 у кого не спросим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дет за летом осен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 за осенью сам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новь идет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пешит зи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38280" y="228600"/>
            <a:ext cx="5257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Пальчиковая гимна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Рассмотри картинки, назови слова со звуком С, а затем слова со звуком З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3890" t="27777" r="40744" b="19272"/>
          <a:stretch/>
        </p:blipFill>
        <p:spPr>
          <a:xfrm>
            <a:off x="457200" y="1676520"/>
            <a:ext cx="77724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2640" y="304560"/>
            <a:ext cx="7467480" cy="2971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А  -  ЗА         СИ  -  З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О  -  ЗО         СЁ   -  З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У  -  ЗУ         СЮ  -  З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Ы  - ЗЫ         СИ  -  З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038480"/>
            <a:ext cx="7543800" cy="19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СА – ЗА        ЗА – ЗА - 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ЗА – СА         ЗА – СА - 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ЗА – ЗА         ЗА – СА - 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NBY</cp:lastModifiedBy>
  <dcterms:modified xsi:type="dcterms:W3CDTF">2022-02-02T18:55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