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88E-CD78-4183-8BB9-D52728B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46F-E6B7-49F2-A2BF-71F8E8D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217-198A-4A21-8779-03F8C448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283-93C4-4056-8617-0BAE5841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68EA-7419-4D0F-B26D-143127BB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5DA-8293-42DF-AEF7-C0FC4C8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5374-2872-40B1-8B69-FA10CA16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DBD-C892-4F23-8209-6891711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75CB-0303-480B-962C-C64AD226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1CE7-E9E0-479F-859A-6DA5D5D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1722-278C-487E-B704-442AC0E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F4F-6206-48B2-87BE-C177059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EB4F-3B8F-47C0-994F-B2CAB534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CC26-75FD-4DB7-A789-08DD30D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20F1-DF12-4E79-A08D-CA13142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A9AE-DF10-4DEE-AFB3-4CC74574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ED13-2990-408A-87D0-E7A18FA8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F08-1A71-4462-B219-FD7E66D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E48-076C-483B-9DBC-5D81CE39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BFE-6C9D-448D-8C21-62D2AB59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E06-FC74-4D12-B6F7-67B1F290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9B2-80CB-4EE1-B00A-0698923E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FD4-2963-41A4-BCE7-85FFFD24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7CD-9650-44E6-BF33-48AE1C0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C9CF-0601-42D2-9B3D-02EE77048F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228E-56C1-4F6C-A180-0F2F5279E6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ЗВУКИ И БУКВ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С и 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ОГОПЕДИЧЕСКОЕ ЗАНЯТ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осударственное бюджет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школа-интернат № 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809880"/>
            <a:ext cx="25909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Учитель-лого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Слепухина Г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095880"/>
            <a:ext cx="30481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. 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77920"/>
            <a:ext cx="556236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Tahoma"/>
              </a:rPr>
              <a:t>Игра «Наоборо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А – ЗДА               ЗМА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О -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_              ЗМО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ТУ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 - _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               ЗМУ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Ы - ____              ЗМЫ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343400"/>
            <a:ext cx="6476760" cy="2133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АЙКА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УБ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КОЗА -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Лиза -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788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вук С.З в середине сл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5740" t="21866" r="42594" b="26001"/>
          <a:stretch/>
        </p:blipFill>
        <p:spPr>
          <a:xfrm>
            <a:off x="380880" y="1447920"/>
            <a:ext cx="5029200" cy="3463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91320" y="1447920"/>
            <a:ext cx="3124080" cy="426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БУ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А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Е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705120" cy="39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15000" y="914400"/>
            <a:ext cx="12193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800600"/>
            <a:ext cx="777240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b76"/>
                </a:solidFill>
                <a:latin typeface="Verdana"/>
              </a:rPr>
              <a:t>На дереве сидит сова</a:t>
            </a:r>
            <a:r>
              <a:rPr b="0" lang="en-US" sz="6000" spc="-1" strike="noStrike">
                <a:solidFill>
                  <a:srgbClr val="003b7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57200"/>
            <a:ext cx="10666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3526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2286000"/>
            <a:ext cx="106704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019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83040" cy="438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4120" y="1522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2286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7524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Verdana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18288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172200"/>
            <a:ext cx="1676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94360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62485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924680" y="6172200"/>
            <a:ext cx="76320" cy="7632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429000"/>
            <a:ext cx="1447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т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4197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ж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1911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</a:rPr>
              <a:t>Найди лишнюю картин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7466" t="55900" r="45035" b="28971"/>
          <a:stretch/>
        </p:blipFill>
        <p:spPr>
          <a:xfrm>
            <a:off x="228600" y="3886200"/>
            <a:ext cx="85345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457200" y="990720"/>
            <a:ext cx="8077320" cy="2171520"/>
            <a:chOff x="457200" y="990720"/>
            <a:chExt cx="8077320" cy="21715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7620" t="33915" r="45121" b="47898"/>
            <a:stretch/>
          </p:blipFill>
          <p:spPr>
            <a:xfrm>
              <a:off x="457200" y="990720"/>
              <a:ext cx="80773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57200" y="990720"/>
              <a:ext cx="8077320" cy="21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2273400" cy="340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25928" t="0" r="20371" b="0"/>
          <a:stretch/>
        </p:blipFill>
        <p:spPr>
          <a:xfrm>
            <a:off x="5105520" y="228600"/>
            <a:ext cx="1904760" cy="3352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380880"/>
            <a:ext cx="152388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Со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04920"/>
            <a:ext cx="15238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о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9680" y="3809880"/>
            <a:ext cx="1981440" cy="1254240"/>
            <a:chOff x="2209680" y="3809880"/>
            <a:chExt cx="1981440" cy="1254240"/>
          </a:xfrm>
        </p:grpSpPr>
        <p:pic>
          <p:nvPicPr>
            <p:cNvPr id="228" name="" descr=""/>
            <p:cNvPicPr/>
            <p:nvPr/>
          </p:nvPicPr>
          <p:blipFill>
            <a:blip r:embed="rId3"/>
            <a:srcRect l="26759" t="35433" r="62347" b="52045"/>
            <a:stretch/>
          </p:blipFill>
          <p:spPr>
            <a:xfrm>
              <a:off x="2209680" y="3809880"/>
              <a:ext cx="198144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 txBox="1"/>
            <p:nvPr/>
          </p:nvSpPr>
          <p:spPr>
            <a:xfrm>
              <a:off x="2209680" y="3809880"/>
              <a:ext cx="1981440" cy="125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80880" y="1143000"/>
            <a:ext cx="1600200" cy="1676520"/>
            <a:chOff x="380880" y="1143000"/>
            <a:chExt cx="1600200" cy="167652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rcRect l="47500" t="33915" r="45121" b="53323"/>
            <a:stretch/>
          </p:blipFill>
          <p:spPr>
            <a:xfrm>
              <a:off x="380880" y="1143000"/>
              <a:ext cx="16002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380880" y="1143000"/>
              <a:ext cx="16002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38880" y="1295280"/>
            <a:ext cx="1633680" cy="1791000"/>
            <a:chOff x="7238880" y="1295280"/>
            <a:chExt cx="1633680" cy="1791000"/>
          </a:xfrm>
        </p:grpSpPr>
        <p:pic>
          <p:nvPicPr>
            <p:cNvPr id="234" name="" descr=""/>
            <p:cNvPicPr/>
            <p:nvPr/>
          </p:nvPicPr>
          <p:blipFill>
            <a:blip r:embed="rId5"/>
            <a:srcRect l="17620" t="33915" r="73245" b="47898"/>
            <a:stretch/>
          </p:blipFill>
          <p:spPr>
            <a:xfrm>
              <a:off x="7238880" y="1295280"/>
              <a:ext cx="16336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7238880" y="1295280"/>
              <a:ext cx="1633680" cy="179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57200" y="3124080"/>
            <a:ext cx="1563840" cy="1714680"/>
            <a:chOff x="457200" y="3124080"/>
            <a:chExt cx="1563840" cy="1714680"/>
          </a:xfrm>
        </p:grpSpPr>
        <p:pic>
          <p:nvPicPr>
            <p:cNvPr id="237" name="" descr=""/>
            <p:cNvPicPr/>
            <p:nvPr/>
          </p:nvPicPr>
          <p:blipFill>
            <a:blip r:embed="rId6"/>
            <a:srcRect l="38712" t="33915" r="52153" b="47898"/>
            <a:stretch/>
          </p:blipFill>
          <p:spPr>
            <a:xfrm>
              <a:off x="457200" y="3124080"/>
              <a:ext cx="15638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 txBox="1"/>
            <p:nvPr/>
          </p:nvSpPr>
          <p:spPr>
            <a:xfrm>
              <a:off x="457200" y="3124080"/>
              <a:ext cx="15638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7"/>
          <a:srcRect l="17466" t="56075" r="73497" b="30700"/>
          <a:stretch/>
        </p:blipFill>
        <p:spPr>
          <a:xfrm>
            <a:off x="7238880" y="3200400"/>
            <a:ext cx="174636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rcRect l="26506" t="60292" r="58764" b="28971"/>
          <a:stretch/>
        </p:blipFill>
        <p:spPr>
          <a:xfrm>
            <a:off x="4343400" y="3809880"/>
            <a:ext cx="2666880" cy="133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486400"/>
            <a:ext cx="8686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Сони _________. Это Сон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Зои ___________. Это Зо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2209680"/>
            <a:ext cx="6858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тог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01080" cy="534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048880" cy="5315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7409" t="15138" r="50003" b="4134"/>
          <a:stretch/>
        </p:blipFill>
        <p:spPr>
          <a:xfrm>
            <a:off x="380880" y="533520"/>
            <a:ext cx="403884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6943" t="16669" r="50003" b="3706"/>
          <a:stretch/>
        </p:blipFill>
        <p:spPr>
          <a:xfrm>
            <a:off x="4745160" y="533520"/>
            <a:ext cx="412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49295" t="74472" r="38952" b="5819"/>
          <a:stretch/>
        </p:blipFill>
        <p:spPr>
          <a:xfrm>
            <a:off x="3581280" y="3733920"/>
            <a:ext cx="2387880" cy="2590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37475" t="51757" r="51585" b="28127"/>
          <a:stretch/>
        </p:blipFill>
        <p:spPr>
          <a:xfrm>
            <a:off x="685800" y="5335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50610" t="53056" r="39329" b="28775"/>
          <a:stretch/>
        </p:blipFill>
        <p:spPr>
          <a:xfrm>
            <a:off x="3573360" y="457200"/>
            <a:ext cx="206532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61990" t="73824" r="26634" b="5819"/>
          <a:stretch/>
        </p:blipFill>
        <p:spPr>
          <a:xfrm>
            <a:off x="6781680" y="3809880"/>
            <a:ext cx="198144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rcRect l="61550" t="51757" r="26634" b="26828"/>
          <a:stretch/>
        </p:blipFill>
        <p:spPr>
          <a:xfrm>
            <a:off x="457200" y="380988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38351" t="75404" r="51585" b="8816"/>
          <a:stretch/>
        </p:blipFill>
        <p:spPr>
          <a:xfrm>
            <a:off x="6676920" y="533520"/>
            <a:ext cx="216216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3124080"/>
            <a:ext cx="80773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 Какой звук есть 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835280" cy="289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24480" y="228600"/>
            <a:ext cx="259092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3047760" cy="3105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019920" y="3505320"/>
            <a:ext cx="2838240" cy="285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33520"/>
            <a:ext cx="2895840" cy="160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Какой звук е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3657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руглый год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За зимой весна ид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весною след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оропится к нам ле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 у кого не спросим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дет за летом осе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осенью са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новь идет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пешит з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38280" y="228600"/>
            <a:ext cx="5257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Пальчиковая гимна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Рассмотри картинки, назови слова со звуком С, а затем слова со звуком З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890" t="27777" r="40744" b="19272"/>
          <a:stretch/>
        </p:blipFill>
        <p:spPr>
          <a:xfrm>
            <a:off x="457200" y="1676520"/>
            <a:ext cx="7772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7467480" cy="2971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А  -  ЗА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О  -  ЗО         СЁ   -  З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У  -  ЗУ         СЮ  -  З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Ы  - ЗЫ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038480"/>
            <a:ext cx="75438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СА – ЗА        ЗА – З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СА         ЗА – СА -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ЗА         ЗА – С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NBY</cp:lastModifiedBy>
  <dcterms:modified xsi:type="dcterms:W3CDTF">2022-02-02T18:55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