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D74-6782-419B-BAA3-C59FB56C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EA7-1FDF-4D57-A95E-C6D2C2B8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45D-B90E-45E1-95DF-FFAF0A59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583-E1F2-4AE1-A8BF-19F91D4A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A0A7-C384-4089-911F-B31865F1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B0FC-8EB4-4464-8A8C-1F14E42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F4FF-DEB2-4312-97EC-6D50691E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7368-7A0B-400E-A2DA-CEE94A2E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C22E-12D3-4672-88AE-07E6722E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ABA9-11B1-4505-839E-24AA7477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8B0C-87F9-4232-94ED-5FB67A9A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BB2-FA64-490E-A823-0CC0040A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C2D8-0D9E-4837-A695-040EC63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43F8-F7C9-49F9-8AD9-117C16FF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541B-72DA-4EC3-9E77-B25C6613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17B0-9B09-4093-BA32-96E0BF50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2DCA-C76C-451C-8E03-519EB3A6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F08-9172-4360-A4C1-985C5D72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D05-AAA6-4799-8F59-86603305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681-7776-4BCB-A833-9B83D490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4FE-0117-459E-BE14-F1D869B9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54C-17C4-4AD8-A488-E409E840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7DD-1913-44CF-870A-AA9965F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875-C2FE-4A31-AAF0-2DD79827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3CA8-76F0-4A20-8BCE-7D3D1CEFB95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2405-DA76-43CF-AC07-D8546BC306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ЗВУКИ И БУКВЫ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С и 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ЛОГОПЕДИЧЕСКОЕ ЗАНЯТ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52280"/>
            <a:ext cx="8153280" cy="685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Государственное бюджетное общеобразовательное уч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школа-интернат № 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3809880"/>
            <a:ext cx="2590920" cy="91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Учитель-логоп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Verdana"/>
              </a:rPr>
              <a:t>Слепухина Г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095880"/>
            <a:ext cx="30481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Verdana"/>
              </a:rPr>
              <a:t>г. Санкт-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77920"/>
            <a:ext cx="5562360" cy="1139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Tahoma"/>
              </a:rPr>
              <a:t>Игра «Наоборот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А – ЗДА               ЗМА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О -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___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_              ЗМО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C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ТУ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 - ____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               ЗМУ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СТЫ - ____              ЗМЫ - ____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4343400"/>
            <a:ext cx="6476760" cy="2133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АЙКА - 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УБ - 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КОЗА - 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Лиза - 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1000" cy="788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вук С.З в середине сло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15740" t="21866" r="42594" b="26001"/>
          <a:stretch/>
        </p:blipFill>
        <p:spPr>
          <a:xfrm>
            <a:off x="380880" y="1447920"/>
            <a:ext cx="5029200" cy="3463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91320" y="1447920"/>
            <a:ext cx="3124080" cy="4267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БУ-…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О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ВА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ВЕ-…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О-…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3705120" cy="3962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15000" y="914400"/>
            <a:ext cx="121932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4800600"/>
            <a:ext cx="777240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b76"/>
                </a:solidFill>
                <a:latin typeface="Verdana"/>
              </a:rPr>
              <a:t>На дереве сидит сова</a:t>
            </a:r>
            <a:r>
              <a:rPr b="0" lang="en-US" sz="6000" spc="-1" strike="noStrike">
                <a:solidFill>
                  <a:srgbClr val="003b76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1520" y="457200"/>
            <a:ext cx="106668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33526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2286000"/>
            <a:ext cx="106704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b76"/>
                </a:solidFill>
                <a:latin typeface="Verdana"/>
              </a:rPr>
              <a:t>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0199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59436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83040" cy="438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4120" y="1522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228600"/>
            <a:ext cx="114300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b76"/>
                </a:solidFill>
                <a:latin typeface="Verdana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1752480"/>
            <a:ext cx="114300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Verdana"/>
              </a:rPr>
              <a:t>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1828800"/>
            <a:ext cx="114300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Verdana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172200"/>
            <a:ext cx="1676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943600"/>
            <a:ext cx="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6248520"/>
            <a:ext cx="2057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924680" y="6172200"/>
            <a:ext cx="76320" cy="7632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3429000"/>
            <a:ext cx="1447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т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41972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ж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419112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76"/>
                </a:solidFill>
                <a:latin typeface="Arial"/>
              </a:rPr>
              <a:t>Найди лишнюю картинку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17466" t="55900" r="45035" b="28971"/>
          <a:stretch/>
        </p:blipFill>
        <p:spPr>
          <a:xfrm>
            <a:off x="228600" y="3886200"/>
            <a:ext cx="8534520" cy="236232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457200" y="990720"/>
            <a:ext cx="8077320" cy="2171520"/>
            <a:chOff x="457200" y="990720"/>
            <a:chExt cx="8077320" cy="217152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rcRect l="17620" t="33915" r="45121" b="47898"/>
            <a:stretch/>
          </p:blipFill>
          <p:spPr>
            <a:xfrm>
              <a:off x="457200" y="990720"/>
              <a:ext cx="807732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 txBox="1"/>
            <p:nvPr/>
          </p:nvSpPr>
          <p:spPr>
            <a:xfrm>
              <a:off x="457200" y="990720"/>
              <a:ext cx="8077320" cy="217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2273400" cy="340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25928" t="0" r="20371" b="0"/>
          <a:stretch/>
        </p:blipFill>
        <p:spPr>
          <a:xfrm>
            <a:off x="5105520" y="228600"/>
            <a:ext cx="1904760" cy="3352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" y="380880"/>
            <a:ext cx="152388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Со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04920"/>
            <a:ext cx="152388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Зо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09680" y="3809880"/>
            <a:ext cx="1981440" cy="1254240"/>
            <a:chOff x="2209680" y="3809880"/>
            <a:chExt cx="1981440" cy="1254240"/>
          </a:xfrm>
        </p:grpSpPr>
        <p:pic>
          <p:nvPicPr>
            <p:cNvPr id="228" name="" descr=""/>
            <p:cNvPicPr/>
            <p:nvPr/>
          </p:nvPicPr>
          <p:blipFill>
            <a:blip r:embed="rId3"/>
            <a:srcRect l="26759" t="35433" r="62347" b="52045"/>
            <a:stretch/>
          </p:blipFill>
          <p:spPr>
            <a:xfrm>
              <a:off x="2209680" y="3809880"/>
              <a:ext cx="198144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 txBox="1"/>
            <p:nvPr/>
          </p:nvSpPr>
          <p:spPr>
            <a:xfrm>
              <a:off x="2209680" y="3809880"/>
              <a:ext cx="1981440" cy="125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80880" y="1143000"/>
            <a:ext cx="1600200" cy="1676520"/>
            <a:chOff x="380880" y="1143000"/>
            <a:chExt cx="1600200" cy="1676520"/>
          </a:xfrm>
        </p:grpSpPr>
        <p:pic>
          <p:nvPicPr>
            <p:cNvPr id="231" name="" descr=""/>
            <p:cNvPicPr/>
            <p:nvPr/>
          </p:nvPicPr>
          <p:blipFill>
            <a:blip r:embed="rId4"/>
            <a:srcRect l="47500" t="33915" r="45121" b="53323"/>
            <a:stretch/>
          </p:blipFill>
          <p:spPr>
            <a:xfrm>
              <a:off x="380880" y="1143000"/>
              <a:ext cx="16002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380880" y="1143000"/>
              <a:ext cx="160020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238880" y="1295280"/>
            <a:ext cx="1633680" cy="1791000"/>
            <a:chOff x="7238880" y="1295280"/>
            <a:chExt cx="1633680" cy="1791000"/>
          </a:xfrm>
        </p:grpSpPr>
        <p:pic>
          <p:nvPicPr>
            <p:cNvPr id="234" name="" descr=""/>
            <p:cNvPicPr/>
            <p:nvPr/>
          </p:nvPicPr>
          <p:blipFill>
            <a:blip r:embed="rId5"/>
            <a:srcRect l="17620" t="33915" r="73245" b="47898"/>
            <a:stretch/>
          </p:blipFill>
          <p:spPr>
            <a:xfrm>
              <a:off x="7238880" y="1295280"/>
              <a:ext cx="163368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 txBox="1"/>
            <p:nvPr/>
          </p:nvSpPr>
          <p:spPr>
            <a:xfrm>
              <a:off x="7238880" y="1295280"/>
              <a:ext cx="1633680" cy="179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57200" y="3124080"/>
            <a:ext cx="1563840" cy="1714680"/>
            <a:chOff x="457200" y="3124080"/>
            <a:chExt cx="1563840" cy="1714680"/>
          </a:xfrm>
        </p:grpSpPr>
        <p:pic>
          <p:nvPicPr>
            <p:cNvPr id="237" name="" descr=""/>
            <p:cNvPicPr/>
            <p:nvPr/>
          </p:nvPicPr>
          <p:blipFill>
            <a:blip r:embed="rId6"/>
            <a:srcRect l="38712" t="33915" r="52153" b="47898"/>
            <a:stretch/>
          </p:blipFill>
          <p:spPr>
            <a:xfrm>
              <a:off x="457200" y="3124080"/>
              <a:ext cx="156384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 txBox="1"/>
            <p:nvPr/>
          </p:nvSpPr>
          <p:spPr>
            <a:xfrm>
              <a:off x="457200" y="3124080"/>
              <a:ext cx="1563840" cy="17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7"/>
          <a:srcRect l="17466" t="56075" r="73497" b="30700"/>
          <a:stretch/>
        </p:blipFill>
        <p:spPr>
          <a:xfrm>
            <a:off x="7238880" y="3200400"/>
            <a:ext cx="1746360" cy="1752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rcRect l="26506" t="60292" r="58764" b="28971"/>
          <a:stretch/>
        </p:blipFill>
        <p:spPr>
          <a:xfrm>
            <a:off x="4343400" y="3809880"/>
            <a:ext cx="2666880" cy="1333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5486400"/>
            <a:ext cx="8686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У Сони _________. Это Сонин ___________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У Зои ___________. Это Зоин ___________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2209680"/>
            <a:ext cx="6858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тог заня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01080" cy="5349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0" y="304920"/>
            <a:ext cx="5334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Характеристика звука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048880" cy="5315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0" y="304920"/>
            <a:ext cx="5334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Характеристика звука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7409" t="15138" r="50003" b="4134"/>
          <a:stretch/>
        </p:blipFill>
        <p:spPr>
          <a:xfrm>
            <a:off x="380880" y="533520"/>
            <a:ext cx="403884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6943" t="16669" r="50003" b="3706"/>
          <a:stretch/>
        </p:blipFill>
        <p:spPr>
          <a:xfrm>
            <a:off x="4745160" y="533520"/>
            <a:ext cx="412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49295" t="74472" r="38952" b="5819"/>
          <a:stretch/>
        </p:blipFill>
        <p:spPr>
          <a:xfrm>
            <a:off x="3581280" y="3733920"/>
            <a:ext cx="2387880" cy="2590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37475" t="51757" r="51585" b="28127"/>
          <a:stretch/>
        </p:blipFill>
        <p:spPr>
          <a:xfrm>
            <a:off x="685800" y="5335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50610" t="53056" r="39329" b="28775"/>
          <a:stretch/>
        </p:blipFill>
        <p:spPr>
          <a:xfrm>
            <a:off x="3573360" y="457200"/>
            <a:ext cx="206532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61990" t="73824" r="26634" b="5819"/>
          <a:stretch/>
        </p:blipFill>
        <p:spPr>
          <a:xfrm>
            <a:off x="6781680" y="3809880"/>
            <a:ext cx="1981440" cy="2390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rcRect l="61550" t="51757" r="26634" b="26828"/>
          <a:stretch/>
        </p:blipFill>
        <p:spPr>
          <a:xfrm>
            <a:off x="457200" y="380988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rcRect l="38351" t="75404" r="51585" b="8816"/>
          <a:stretch/>
        </p:blipFill>
        <p:spPr>
          <a:xfrm>
            <a:off x="6676920" y="533520"/>
            <a:ext cx="2162160" cy="22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3124080"/>
            <a:ext cx="80773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Назови слова. Какой звук есть в каждом сло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835280" cy="2895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24480" y="228600"/>
            <a:ext cx="2590920" cy="285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04920" y="3200400"/>
            <a:ext cx="3047760" cy="3105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019920" y="3505320"/>
            <a:ext cx="2838240" cy="2857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52680" y="533520"/>
            <a:ext cx="2895840" cy="160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Назови сл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Какой звук е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Verdana"/>
              </a:rPr>
              <a:t>в каждом сло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3657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Круглый год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руглый год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руглый год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За зимой весна ид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 за весною след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оропится к нам лет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 у кого не спросим 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дет за летом осен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 за осенью сам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новь идет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пешит зим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38280" y="228600"/>
            <a:ext cx="52578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Verdana"/>
              </a:rPr>
              <a:t>Пальчиковая гимна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Arial"/>
              </a:rPr>
              <a:t>Рассмотри картинки, назови слова со звуком С, а затем слова со звуком З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3890" t="27777" r="40744" b="19272"/>
          <a:stretch/>
        </p:blipFill>
        <p:spPr>
          <a:xfrm>
            <a:off x="457200" y="1676520"/>
            <a:ext cx="77724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2640" y="304560"/>
            <a:ext cx="7467480" cy="2971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А  -  ЗА         СИ  -  З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О  -  ЗО         СЁ   -  З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У  -  ЗУ         СЮ  -  З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Verdana"/>
              </a:rPr>
              <a:t>СЫ  - ЗЫ         СИ  -  З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038480"/>
            <a:ext cx="7543800" cy="19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СА – ЗА        ЗА – ЗА - 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ЗА – СА         ЗА – СА - 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СА – ЗА – ЗА         ЗА – СА - 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NBY</cp:lastModifiedBy>
  <dcterms:modified xsi:type="dcterms:W3CDTF">2022-02-02T18:55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