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39.png" ContentType="image/png"/>
  <Override PartName="/ppt/media/image41.png" ContentType="image/png"/>
  <Override PartName="/ppt/media/image46.png" ContentType="image/png"/>
  <Override PartName="/ppt/media/image34.wmf" ContentType="image/x-wmf"/>
  <Override PartName="/ppt/media/image35.png" ContentType="image/png"/>
  <Override PartName="/ppt/media/image5.jpeg" ContentType="image/jpeg"/>
  <Override PartName="/ppt/media/image47.png" ContentType="image/png"/>
  <Override PartName="/ppt/media/image49.png" ContentType="image/png"/>
  <Override PartName="/ppt/media/image12.png" ContentType="image/png"/>
  <Override PartName="/ppt/media/image20.jpeg" ContentType="image/jpeg"/>
  <Override PartName="/ppt/media/image50.jpeg" ContentType="image/jpeg"/>
  <Override PartName="/ppt/media/image13.png" ContentType="image/png"/>
  <Override PartName="/ppt/media/image44.jpeg" ContentType="image/jpeg"/>
  <Override PartName="/ppt/media/image45.png" ContentType="image/png"/>
  <Override PartName="/ppt/media/image51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33.png" ContentType="image/png"/>
  <Override PartName="/ppt/media/image8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26.jpeg" ContentType="image/jpeg"/>
  <Override PartName="/ppt/media/image42.png" ContentType="image/png"/>
  <Override PartName="/ppt/media/image4.jpeg" ContentType="image/jpeg"/>
  <Override PartName="/ppt/media/image4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E3E-0C68-4D6E-8DB7-CD421D17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1F3-2384-4031-8FDA-D45F6AA0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27C-6962-4AAE-A17D-E52C24B7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10C-2146-4F1A-8185-BDC7062B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BE5-1544-4531-BFF8-DA88E093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483-670D-4447-A255-BD6D1ACF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776-BF54-4E20-B61A-5600DE2E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0F2-B88F-44C4-964B-A425ADE1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BAB-69E0-4834-AF09-45EBDD08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AA8-2A9E-4200-8012-A6B55F89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1D2-C71C-4D11-9892-21768A49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B72-8BE3-45B0-872C-E3B04DE0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7994-7E8D-4E31-9640-5D58AB7BD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6" descr="ладонь.png"/>
          <p:cNvPicPr/>
          <p:nvPr/>
        </p:nvPicPr>
        <p:blipFill>
          <a:blip r:embed="rId4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7487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8008a"/>
                </a:solidFill>
                <a:latin typeface="Comic Sans MS"/>
              </a:rPr>
              <a:t>Дыхательная               гимнастика</a:t>
            </a:r>
            <a:br>
              <a:rPr sz="4800"/>
            </a:br>
            <a:r>
              <a:rPr b="1" lang="ru-RU" sz="4800" spc="-1" strike="noStrike">
                <a:solidFill>
                  <a:srgbClr val="c8008a"/>
                </a:solidFill>
                <a:latin typeface="Comic Sans MS"/>
              </a:rPr>
              <a:t>для детей 4-5 ле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Безымянный"/>
          <p:cNvPicPr/>
          <p:nvPr/>
        </p:nvPicPr>
        <p:blipFill>
          <a:blip r:embed="rId2"/>
          <a:stretch/>
        </p:blipFill>
        <p:spPr>
          <a:xfrm>
            <a:off x="2786040" y="2781360"/>
            <a:ext cx="3857760" cy="3240000"/>
          </a:xfrm>
          <a:prstGeom prst="rect">
            <a:avLst/>
          </a:prstGeom>
          <a:ln w="9360">
            <a:solidFill>
              <a:srgbClr val="a2007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УШ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86120" y="1125000"/>
            <a:ext cx="4929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окачивая головой вправо-влево, выполнять сильные вдохи. Плечи остаются неподвижными, а уши тянутся к плеч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ледить, чтобы при наклоне головы туловище не поворачива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714240" y="1928880"/>
            <a:ext cx="25005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                </a:t>
            </a: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«КАЧАЛКА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5640" y="981000"/>
            <a:ext cx="442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И. п. – сидя на стуле, руки на коленя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Раскачивать туловище вперёд-назад, произнося на выдохе «Ф-р-оо-хх!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Повторить 6-8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6072120" y="2928960"/>
            <a:ext cx="1962360" cy="150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1785960" y="421488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ЁЛОЧКА РАСТЕ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5178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слегка расставив ноги, руки опустить. Присесть и выпрямиться, поднимая руки вверх шире плеч. Приседая, произносить: «Страх-х!». Повторить 2-3 ра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7236000" y="260280"/>
            <a:ext cx="1152360" cy="143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146376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7080120" y="3357720"/>
            <a:ext cx="146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«ГУСИ ШИПЯ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7640" y="981000"/>
            <a:ext cx="6021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, ноги врозь, ступни параллельно, держа палку на сгибе рук. Наклониться вперёд, смотря перед собой и вытягивая шею, произнести: «Ш-ш-ш...». Повторить в среднем темпе 3-4 ра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Безымянный"/>
          <p:cNvPicPr/>
          <p:nvPr/>
        </p:nvPicPr>
        <p:blipFill>
          <a:blip r:embed="rId2"/>
          <a:stretch/>
        </p:blipFill>
        <p:spPr>
          <a:xfrm>
            <a:off x="108000" y="1484280"/>
            <a:ext cx="2087640" cy="302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guiiiuytg"/>
          <p:cNvPicPr/>
          <p:nvPr/>
        </p:nvPicPr>
        <p:blipFill>
          <a:blip r:embed="rId3"/>
          <a:stretch/>
        </p:blipFill>
        <p:spPr>
          <a:xfrm>
            <a:off x="5435640" y="4005360"/>
            <a:ext cx="3554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ЗАЙЧИК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2760" y="1785960"/>
            <a:ext cx="507204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И. п. – встать прямо, слегка расставив ноги, руки опустить. Приседая, сгибать руки к плечам ладонями вперёд, как зайчик, становящийся на задние лапки. Произносить на выдохе: «Фр!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Повторить медленно 5-7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785880" y="3214800"/>
            <a:ext cx="1714320" cy="221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6723000" y="571680"/>
            <a:ext cx="1992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ГРЕБЦ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532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сесть, ноги врозь, палку держать у груди. Наклониться вперёд, коснуться палкой носков ног, произнести: «Гу!». Выпрямиться, палку притянуть к груд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овторить медленно 3-5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5929200" y="1928880"/>
            <a:ext cx="25005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ЧАСИ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71480" y="160020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ноги врозь, руки в стороны. Опуская прямые руки вниз и скрещивая их перед собой, произносить: «Та-ак!» - и поднимать их в стороны. Повторить в среднем темпе 4-6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6357960" y="357120"/>
            <a:ext cx="2041560" cy="16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500040" y="4071960"/>
            <a:ext cx="1928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ОСТУЧИ КУЛАЧ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1600200"/>
            <a:ext cx="50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ноги врозь, руки опустить. Присесть и 3 раза постучать кулачками о пол, приговаривая: «Тук-тук-тук». Повторить в среднем темпе 2-3 ра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5580000" y="1195560"/>
            <a:ext cx="146376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7296120" y="2852640"/>
            <a:ext cx="14637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РЫЖ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2000160"/>
            <a:ext cx="767268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рыгать на обеих ногах, произнося на каждый прыжок: «Ха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Каждые 12-16 прыжков чередовать с ходьб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6892920" y="214200"/>
            <a:ext cx="203688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Картинки по запросу прыжки детей"/>
          <p:cNvPicPr/>
          <p:nvPr/>
        </p:nvPicPr>
        <p:blipFill>
          <a:blip r:embed="rId3"/>
          <a:stretch/>
        </p:blipFill>
        <p:spPr>
          <a:xfrm>
            <a:off x="933480" y="3716280"/>
            <a:ext cx="7129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ОГРЕЙС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14840" y="1600200"/>
            <a:ext cx="50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ноги врозь, руки поднять в сторо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Быстро скрещивать руки перед грудью, хлопать ладонями по плечам, произнося: «Ух-х-х!». Разводить руки в стороны – назад. Повторить 8-10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571680" y="2714760"/>
            <a:ext cx="27860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Дыхание – одна из функций жизнеобеспечения человека. Процесс физиологического дыхания в норме осуществляется ритмично, глубина дыхания соответствует потребностям организма в кислороде. Вдох является более активной фазой дыхания чем выдо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КОНЬКОБЕЖЕЦ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ноги врозь, руки заложить за спи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гибать то правую, то левую ногу, наклоняя туловище с полуоборотом в стороны (подражая движениям конькобежца) и произнося: «Кр-р-р!». Повторить в среднем темпе 5-8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762520" y="1928880"/>
            <a:ext cx="2452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ЗАБЛУДИЛС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0200" y="160020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поставить ноги вместе, руки сложить рупо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дохнуть и на выдохе громко произнес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«А-у-у-у!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овторить 8-10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357120" y="3429000"/>
            <a:ext cx="2114640" cy="207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6892920" y="214200"/>
            <a:ext cx="2036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СНЕЖНЫЙ К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 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слегка расставив ноги, руки опустить. Присесть пониже на всей ступне и, сильно наклоняясь вперёд, обхватить руками голени, голову опусти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ри этом произносить: «Хр-р-р!». Повторить медленно 3-5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5357880" y="2857680"/>
            <a:ext cx="3286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СНЕГОВИК ВЕСЕЛИТЬС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7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поставить ноги вместе, руки на поясе. Вдохнуть, после чего сделать прыжок двумя ногами с одновременным выдохом, произнося: «Ха!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овторить 6-8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857680" y="3357720"/>
            <a:ext cx="3214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ВЫРАСТИ БОЛЬШИ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ноги вмес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однять руки вверх, потянуться, подняться на носки – вдох; опустить руки вниз, опуститься на всю ступню – выдох, произнося: «У-х-х-х!». Повторить 4-5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2"/>
          <a:stretch/>
        </p:blipFill>
        <p:spPr>
          <a:xfrm>
            <a:off x="5842080" y="1857240"/>
            <a:ext cx="2730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ЕТУШОК КРИЧИ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Стоя, спокойно вдохнуть, на выдохе протяжно произнести: «Ку-ка-ре-ку-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Тихо- тихо всё кругом (сидеть на корточках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се уснули крепким сн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Петушок один вскочил (встать руки поднять вверх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сех ребяток разбудил (подняться на нос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«Ку-ка-ре-ку-у!» (произнести на выдох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5429160" y="2000160"/>
            <a:ext cx="2428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РЕГУЛИРОВЩ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1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тоя, ноги расставлены на ширину плеч, одна рука поднята вверх, другая отведена в сторо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дох носом, затем поменять положение рук и во время удлинённого выдоха произносить р-р-р-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MC900198606[1]"/>
          <p:cNvPicPr/>
          <p:nvPr/>
        </p:nvPicPr>
        <p:blipFill>
          <a:blip r:embed="rId2"/>
          <a:stretch/>
        </p:blipFill>
        <p:spPr>
          <a:xfrm>
            <a:off x="714240" y="1643040"/>
            <a:ext cx="2571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СНЕЖИН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357280" y="1285560"/>
            <a:ext cx="450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ыполняется стоя. Держа в руках кусочки ваты, произвести вдох и подуть на вату (выдох). Струя длинная и холодная, не надувая щек при выдох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 неба падают зим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  кружатся над землё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Легкие пушин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Белые снежи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016760" y="214200"/>
            <a:ext cx="1841400" cy="1500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500040" y="3571920"/>
            <a:ext cx="1746360" cy="157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7093080" y="2924280"/>
            <a:ext cx="1461960" cy="243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5"/>
          <a:stretch/>
        </p:blipFill>
        <p:spPr>
          <a:xfrm>
            <a:off x="1042920" y="947880"/>
            <a:ext cx="146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ХЛОП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3217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ыполняется стоя, руки опущены вдоль туловища. На вдох- развести руки в стороны, на выдох- поднять прямую ногу сделать хлопок под коле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 барабаном ходит еж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Не жалеет своих нож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Он играет целый ден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Он не знает слова- л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6929280" y="3786120"/>
            <a:ext cx="1500480" cy="107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857840" y="3000240"/>
            <a:ext cx="19288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ЧАСИ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71480" y="1856880"/>
            <a:ext cx="47862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Сидя на стуле, ноги развести на ширину плеч, руки опустить. Отвести левую руку в сторону и положить на затылок: медленно наклониться вправо, легко похлопать правой рукой по левому боку- вдох. Вернуться в исходное положение- полный выдох (живот втянуть, расслабиться). То же в другую сторон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Тик-так, тик-так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Ходят часики вот та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Наклон влево, наклон вправ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Наклон влево, наклон впра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619200" y="4000680"/>
            <a:ext cx="195264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6810480" y="357120"/>
            <a:ext cx="18334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Правильное дыхание очень важно для развития речи, оно влияет на звукопроизношение, артикуляцию и развитие голоса. Дыхательные упражнения помогают выработать диафрагмальное дыхание, а также продолжительность, силу и правильное распределение выдоха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ВЕТЕР ДУЕ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6360" y="1341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Стоя спокойно вдохнуть через нос и также спокойно выдохнуть через ро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Я подую высоко- (руки поднять вверх, встать на носочки, подуть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Я подую низко- (руки перед собой, присесть, и подуть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Я подую далеко- (руки перед собой, наклон вперед, подуть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Я подую близко- ( руки положить на грудь и подуть на них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6429240" y="4287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3"/>
          <a:stretch/>
        </p:blipFill>
        <p:spPr>
          <a:xfrm>
            <a:off x="6427800" y="2394000"/>
            <a:ext cx="24382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ОДУВАНЧ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ыполняется сидя на корточках, раскрытые ладони рук на уровне рта. Спокойно вдохнуть через рот на воображаемую головку одуванчика на ладо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Я шарик пушист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Белею в поле чист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А дунул ветерок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Остался стебелё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5214960" y="2571840"/>
            <a:ext cx="35002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НАДУЙ ШАР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356920" y="1785960"/>
            <a:ext cx="6215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   </a:t>
            </a: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Выбрать удобную позу (сидя, стоя), положить одну руку на живот, другую - сбоку на нижнюю часть грудной клетки. Сделать глубокий вдох через нос (живот при этом немного выпячивается вперёд, а нижняя часть грудной клетки расширяется, что контролируется правой или левой рукой). После вдоха сразу произвести свободный, плавный выдох (живот и нижняя часть грудной клетки принимают прежнее положени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Вот мы шарик наду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А рукою проверяе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Шарик лопнул- выдыхае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Наши мышцы расслабля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Стихотворный текст  произносит педагог, а дети выполняют нужные действ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500040" y="350028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15080" y="214200"/>
            <a:ext cx="2214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ВЬЮГ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Перед детьми- сюжетная картина «Вьюга». По сигналу «Вьюга началась» дети тихо гудят: у-у-у. По сигналу – «Сильная вьюга»дети громко произносят: У-У-У. По сигналу « Вьюга затихает» дети постепенно уменьшают силу голоса. По сигналу «Вьюга кончилась» замолкают. Речевые сигналы можно сопровождать движением руки: горизонтальное движение – дети говорят тихо, руки вверх – усиление голоса, руки вниз – уменьшение силы голо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5697360" y="1500120"/>
            <a:ext cx="2803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НА ТУРНИК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тоя, ноги вместе, гимнастическую палку держим в обеих руках перед собой. Поднять палку вверх, подняться на носки – вдох, палку опустить назад на лопатки – длинный выдох. Выдыхая произносить: ф-ф-ф-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3" descr=""/>
          <p:cNvPicPr/>
          <p:nvPr/>
        </p:nvPicPr>
        <p:blipFill>
          <a:blip r:embed="rId2"/>
          <a:stretch/>
        </p:blipFill>
        <p:spPr>
          <a:xfrm>
            <a:off x="5286240" y="157176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8a"/>
                </a:solidFill>
                <a:latin typeface="Comic Sans MS"/>
              </a:rPr>
              <a:t>Эти упражнения ребенок должен выполнять утром и в середине дня. В летнее время дыхательную гимнастику лучше проводить на воздухе во время прогул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3419640" y="476280"/>
            <a:ext cx="2438280" cy="146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3995640" y="3860640"/>
            <a:ext cx="1463760" cy="2438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7308720" y="3429000"/>
            <a:ext cx="1462320" cy="2438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5"/>
          <a:stretch/>
        </p:blipFill>
        <p:spPr>
          <a:xfrm>
            <a:off x="250920" y="3429000"/>
            <a:ext cx="146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Рекомендации по проведению дыхательной гимна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Перед проведением дыхательной гимнастики необходимо вытереть пыль в помещении и проветрить 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Дыхательную гимнастику не рекомендуется проводить после плотного ужина или обед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Упражнения рекомендуется выполнять в свободной одежде, которая не стесняет дв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Необходимо следить за тем, чтобы во время выполнения упражнений не напрягались мышцы рук, шеи, гру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Разминк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1571400"/>
            <a:ext cx="57862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И. п. - стоя, ноги на ширине плеч, туловище прямое руки полусогнуты в. локтях, пальцы слегка сжаты в кулаки, повернутые друг к другу. Присесть, скрестив руки навстречу друг другу, вдох носом - активный, быстрый, ясно слышимый. Вернуться в и. п. Отдохнуть. О выдохе не думать, не контролировать его сознанием. Повторить упражнение подряд 8 раз без пауз. Темп 1-2 вдоха в секунду, двигаться строго ритмично. Повторить 10-20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659640" y="1484280"/>
            <a:ext cx="22320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c8008a"/>
                </a:solidFill>
                <a:latin typeface="Comic Sans MS"/>
              </a:rPr>
              <a:t>«У КОГО ДОЛЬШЕ КОЛЫШЕТСЯ ЛЕНТ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52149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Каждый ребенок берет в руку узкую ленточку из тонкой цветной бумаги. Ноги на ширине плеч, руки внизу, слегка отведены назад. Спокойный вдох. На выдохе поднести ленточку ко рту, сделать небольшой накл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http://www.shop-toys.ru/products_pictures/3765_enl.jpg"/>
          <p:cNvPicPr/>
          <p:nvPr/>
        </p:nvPicPr>
        <p:blipFill>
          <a:blip r:embed="rId2"/>
          <a:stretch/>
        </p:blipFill>
        <p:spPr>
          <a:xfrm>
            <a:off x="6500880" y="1785960"/>
            <a:ext cx="2114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ЗАДУЙ СВЕЧ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стать прямо, ноги на ширине плеч. Сделать свободный вдох и слегка задержать дыхание. Сложить губы трубочкой. Выполнить три коротких редких выдоха, словно задувая горящую свечу: «Фу! Фу! Фу!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о время упражнения туловище держать прям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funforkids.ru/pictures/ny_animals/ny_animal123.png"/>
          <p:cNvPicPr/>
          <p:nvPr/>
        </p:nvPicPr>
        <p:blipFill>
          <a:blip r:embed="rId2"/>
          <a:stretch/>
        </p:blipFill>
        <p:spPr>
          <a:xfrm>
            <a:off x="6215040" y="2214720"/>
            <a:ext cx="2428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«ПОЛНОЕ ДЫХ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0040" y="1071720"/>
            <a:ext cx="75722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стать прямо, ноги на ширине плеч. Сделать свободный глубокий вдох, одновременно поднимая руки перед собой вверх. Задержать дыхание (пока приятно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ыполнить энергичный выдох открытым ртом, одновременно опуская руки и наклоняясь вперед («Ха!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ыдыхать с облегчением, как будто освобождаясь от забот. Медленно выпрямить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427640" y="4214880"/>
            <a:ext cx="2438280" cy="146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438280" cy="146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43828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611280" y="4221000"/>
            <a:ext cx="24382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ЁЖ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99840" y="1642680"/>
            <a:ext cx="400068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Поворот головы вправо-влево в темпе движ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Одновременно с каждым носоглотки (ноздри двигаются и как бы соединяются, шея напряжена); выдох мягкий, произвольный, через полуоткрытые гу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285840" y="2714760"/>
            <a:ext cx="2214360" cy="2571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6572160" y="571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/>
  <dc:description/>
  <dc:language>en-US</dc:language>
  <cp:lastModifiedBy>Подсеваткины</cp:lastModifiedBy>
  <cp:lastPrinted>2018-02-18T12:01:44Z</cp:lastPrinted>
  <dcterms:modified xsi:type="dcterms:W3CDTF">2022-02-07T14:59:34Z</dcterms:modified>
  <cp:revision>57</cp:revision>
  <dc:subject/>
  <dc:title>Слайд 1</dc:title>
</cp:coreProperties>
</file>