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708-5566-4BC2-87B0-74A0A6CE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1B3-C935-4176-B597-8180C42F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BE8-D182-4142-A825-D6B01EA0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F68-C512-43FF-9CC6-3BA45871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F08F-C305-4F0D-AA59-0655F1E3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6C3F-84F7-4040-A225-F89FE68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8C2-F213-4DCA-B843-CF51ACDD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9375-A62A-400B-9F64-70898496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EC3F-431F-4E8D-B6E4-CE7A4C5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05C6-E411-4636-A426-FEFB3AD4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779D-875E-42B6-A8D4-D4776E6E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33A-1715-4D9A-A03F-7F3AD1C6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7E9-146F-4C97-9814-8A6BF8D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4A9F-5638-4F5B-9DFB-72F5B8A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03E-10C3-4D69-810C-F83F8B6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038-837A-45E2-8724-27E6798D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C2E6-96C2-466B-9496-A31F1329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E7A-083D-4810-9B3B-CEA850F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378-8C60-4078-A257-1E41113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39B-6FF8-4989-9679-498E8B8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06C-3A46-4B5B-B276-E224BA4A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87C-58DD-4C5C-A033-06C5A7B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9C4-B0EE-4597-A7F1-1FF3B81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154-B450-4E2A-A883-1A9F35D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9EB5-3AC9-4F69-867D-9078C5B218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F65-3DD4-4404-9046-D028BADFFB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гра эстафета, как средство успешной адаптации ребенка к школьной программе по ФК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76720" y="5013000"/>
            <a:ext cx="26956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льпичева М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структор по Ф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68360" y="333360"/>
            <a:ext cx="431964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стаф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197000"/>
            <a:ext cx="2592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способам действ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92360" y="1197000"/>
            <a:ext cx="24498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количеств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1197000"/>
            <a:ext cx="251928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способ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7280" y="69228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692280"/>
            <a:ext cx="3097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68000" y="692280"/>
            <a:ext cx="1798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2133720"/>
            <a:ext cx="28908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мес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2133720"/>
            <a:ext cx="3585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пере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133720"/>
            <a:ext cx="50328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преодоле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ят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группов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764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поочеред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472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бин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2133720"/>
            <a:ext cx="43344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ей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1640" y="2133720"/>
            <a:ext cx="43344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уг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44000" y="2133720"/>
            <a:ext cx="43164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тре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0920" y="1773360"/>
            <a:ext cx="1512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971640" y="177336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692360" y="177336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177336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1773360"/>
            <a:ext cx="151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1773360"/>
            <a:ext cx="4334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732360" y="1773360"/>
            <a:ext cx="9349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67640" y="17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177336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24000" y="5373720"/>
            <a:ext cx="237672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2360" y="5373720"/>
            <a:ext cx="2303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условлен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24360" y="508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24360" y="5084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6000" y="5084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50864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788000" y="4508640"/>
            <a:ext cx="57600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00720" y="177336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Готовность ребенка к школе – это совокупность физических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, интеллектуальных, эмоциональных, коммуникативных и личностных качеств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зическая готовност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–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о состояние здоровья, определенный уровень зрелости организма 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ебен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необходимый уровень развития двигательных навыков и качеств, в особенности тонких моторных координаций, 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зическа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и умственная работоспособность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редств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физического воспит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ры :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эстафеты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одвижные,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ие упражнения 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ходьба, бег, прыжки, лазанье, метание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мнастика (элементов акробатики и ритмической гимнаст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рт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элементы футбола, хоккея, городков, бадминтона, баскетбола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стороннее воздействие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М. Амосова, В.К. Бальсевича, Ю.К. Чернышенко, В.Н. Новохатько, Е.И. Панкратьева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т ловк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ют самопозна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ют на умственное развит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приучаются к деятельности в коллекти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то же такое игры-эстафет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 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афета (estafette) - конная эстафета , скорая почта или посылка нарочных верховых гонц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афета - это соревнования спортивных команд, бег, движение на дистанции, при котором на определенном этапе один спортсмен, сменяясь, передает другому условл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дна из разновидностей подвижных игр командного характера с правилами. В играх-эстафетах команды детей состязаются между собой в преодолении различных препятствий, в быстром и рациональном решении двигательны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иды движений и их сочет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метан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подлезанием под различные снаряды и с перелезанием через препятств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впрыгиванием на/в предметы и спрыгиванием или перепрыгиванием препятств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сохранением равновесия на различных снаряд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переноской мячей, обручей и других предметов в сочетании с дополнительными движен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ведением мяча одной рукой и забрасыванием его в баскетбольную корзин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ползанием и лазанием по гимнастическим снаряд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о змейкой между предме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дьба с перешагиванием предм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вижение различными способами по полу и спортивным снаря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жнения игр-эстаф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епенно увеличить количество препятствий в иг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последовательность выполнения за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способы выполнения зад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водить дополнительные движения (хлопки, повороты, подпрыгивания вверх и т.д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нять величину и вес предм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ть площадку для иг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жнить прави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жнить взаимоотношения между детьми (передвижение парами, тройками, небольшими подгруппами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вариант построения команд на площа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исходное положение участников команд на линии старта (сидя, сидя «по-турецки», стоя на коленях, лежа на животе, стоя спиной к линии старта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ть нетрадиционное деление зала (по короткой стороне, по диагонали, к середине одной из длинных стор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вила в игре-эстафет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игро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о игры по сигнал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еги в командах выполняются строго по очереди, которую никто не пропускае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е выполнять до конц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еря переносного инвентар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мешать выполнению задания другим игрок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нчание эстаф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1:05:06Z</dcterms:created>
  <dc:creator>марина</dc:creator>
  <dc:description/>
  <dc:language>en-US</dc:language>
  <cp:lastModifiedBy>марина</cp:lastModifiedBy>
  <dcterms:modified xsi:type="dcterms:W3CDTF">2022-02-07T11:26:42Z</dcterms:modified>
  <cp:revision>11</cp:revision>
  <dc:subject/>
  <dc:title>Игра эстафета, как средство успешной адаптации ребенка к школьной программе по ФК.</dc:title>
</cp:coreProperties>
</file>