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A75-D749-41C0-AD62-4A8DB1FD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E6F-827B-40E9-BB08-2BD0CCE1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305-83BE-416A-A966-CBCCB264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279-E2B8-436C-B8C4-3F0804E3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7B7E-CE46-49C7-BB44-03512F40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A931-517C-42D8-BC39-3CE5C3D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C2EE-B936-4453-BF7B-FC707FB9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6FC-B7C2-48BE-AA57-7E7C79A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8395-FA89-49E7-95B2-0E70B9C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6FCB-7BDA-4619-B745-9DAEA2B5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A665-E6E7-4BAF-99FE-8B566DF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2D2-B27E-4102-A73C-93700CF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EE7-8DC5-4189-B93C-9A08E38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8D16-CF49-4429-B7BE-EC705FF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FE31-2D22-490E-80A7-F2FD3A3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D7CE-1B9C-44B9-B2CE-1453F301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CF37-4AB1-46F3-9F8E-5BC80C39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9CB-C85C-4FAA-B012-9A0CCB9E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D7C-B999-4651-86F3-2C95161B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73C-2F30-44EB-AA8F-E10A6ECB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DCF-6640-4116-9AE8-56C0AB99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ADB-5C7C-49E3-AEF6-EC9AF66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DD3-65F4-4E28-AE16-32778C6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5BF-050B-44D6-AE52-BC3C1F8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4E97-9D6F-4BDA-83A7-872087A7FB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237-F6E9-4F0D-B813-B9F5D212FB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гра эстафета, как средство успешной адаптации ребенка к школьной программе по ФК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76720" y="5013000"/>
            <a:ext cx="26956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льпичева М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структор по Ф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68360" y="333360"/>
            <a:ext cx="431964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стаф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197000"/>
            <a:ext cx="2592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способам действ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92360" y="1197000"/>
            <a:ext cx="24498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количеств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1197000"/>
            <a:ext cx="251928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способ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7280" y="69228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692280"/>
            <a:ext cx="3097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68000" y="692280"/>
            <a:ext cx="1798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2133720"/>
            <a:ext cx="28908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мес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2133720"/>
            <a:ext cx="3585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пере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133720"/>
            <a:ext cx="50328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преодоле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ят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группов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764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поочеред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472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бин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2133720"/>
            <a:ext cx="576360" cy="237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2133720"/>
            <a:ext cx="43344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ей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51640" y="2133720"/>
            <a:ext cx="43344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уг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44000" y="2133720"/>
            <a:ext cx="43164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тре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0920" y="1773360"/>
            <a:ext cx="1512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971640" y="177336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692360" y="177336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177336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1773360"/>
            <a:ext cx="151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1773360"/>
            <a:ext cx="4334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732360" y="1773360"/>
            <a:ext cx="9349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67640" y="17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177336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24000" y="5373720"/>
            <a:ext cx="237672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2360" y="5373720"/>
            <a:ext cx="2303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условлен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особ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24360" y="508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24360" y="5084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6000" y="5084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50864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788000" y="4508640"/>
            <a:ext cx="57600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00720" y="177336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Готовность ребенка к школе – это совокупность физических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, интеллектуальных, эмоциональных, коммуникативных и личностных качеств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зическая готовност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–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то состояние здоровья, определенный уровень зрелости организма 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ебен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необходимый уровень развития двигательных навыков и качеств, в особенности тонких моторных координаций, 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зическа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и умственная работоспособность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редств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физического воспит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ры :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эстафеты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одвижные, спорти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ие упражнения 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ходьба, бег, прыжки, лазанье, метание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мнастика (элементов акробатики и ритмической гимнаст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рт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элементы футбола, хоккея, городков, бадминтона, баскетбола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ностороннее воздействие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М. Амосова, В.К. Бальсевича, Ю.К. Чернышенко, В.Н. Новохатько, Е.И. Панкратьева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т ловк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ют самопозна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ют на умственное развит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приучаются к деятельности в коллекти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то же такое игры-эстафет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 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афета (estafette) - конная эстафета , скорая почта или посылка нарочных верховых гонц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афета - это соревнования спортивных команд, бег, движение на дистанции, при котором на определенном этапе один спортсмен, сменяясь, передает другому условл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дна из разновидностей подвижных игр командного характера с правилами. В играх-эстафетах команды детей состязаются между собой в преодолении различных препятствий, в быстром и рациональном решении двигательны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иды движений и их сочет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метан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подлезанием под различные снаряды и с перелезанием через препятств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впрыгиванием на/в предметы и спрыгиванием или перепрыгиванием препятств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сохранением равновесия на различных снаряд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переноской мячей, обручей и других предметов в сочетании с дополнительными движен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ведением мяча одной рукой и забрасыванием его в баскетбольную корзин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 ползанием и лазанием по гимнастическим снаряд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 со змейкой между предме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дьба с перешагиванием предм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движение различными способами по полу и спортивным снаря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жнения игр-эстаф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епенно увеличить количество препятствий в иг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последовательность выполнения за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способы выполнения зад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водить дополнительные движения (хлопки, повороты, подпрыгивания вверх и т.д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нять величину и вес предм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ть площадку для иг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жнить прави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жнить взаимоотношения между детьми (передвижение парами, тройками, небольшими подгруппами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вариант построения команд на площа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ить исходное положение участников команд на линии старта (сидя, сидя «по-турецки», стоя на коленях, лежа на животе, стоя спиной к линии старта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ть нетрадиционное деление зала (по короткой стороне, по диагонали, к середине одной из длинных стор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авила в игре-эстафет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игро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о игры по сигнал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еги в командах выполняются строго по очереди, которую никто не пропускае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е выполнять до конц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еря переносного инвентар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мешать выполнению задания другим игрок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нчание эстаф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1:05:06Z</dcterms:created>
  <dc:creator>марина</dc:creator>
  <dc:description/>
  <dc:language>en-US</dc:language>
  <cp:lastModifiedBy>марина</cp:lastModifiedBy>
  <dcterms:modified xsi:type="dcterms:W3CDTF">2022-02-07T11:26:42Z</dcterms:modified>
  <cp:revision>11</cp:revision>
  <dc:subject/>
  <dc:title>Игра эстафета, как средство успешной адаптации ребенка к школьной программе по ФК.</dc:title>
</cp:coreProperties>
</file>