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C77-4495-4B8E-9EC4-FB6B28B1B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6D89-1F95-4232-BE88-F5289556A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DE5-6098-437B-8E9C-C49B8C95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D91-03A3-4FF0-B711-DF5A37C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C72-2A7B-4F64-944E-4351352B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058-0838-4765-8FEE-178F4692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F6C-45E8-446E-BBCC-DE553B3F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0EB-5094-46E8-BC47-C82AD5E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1AD-9AC6-49A5-9CE2-790987F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ADA-AACD-4EB5-AFC3-295777A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A58B-54C0-4ACB-AC26-B384419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2DFA-29E6-437D-99B3-C8B2A0E3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4D15-BF95-487B-9742-4C227CF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D60-63E0-4C25-A2F5-E041BC7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A872-2DD8-42E3-ACF8-0D24505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941F-C29B-461B-8982-B78019D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95EB-87AB-4648-B51E-40F3721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BA9-68C7-44E8-9DEA-25EC88AE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2981-62FA-49A6-B02F-C49F2B87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529-C932-4FDD-A53C-31997A0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E19-2045-49BB-A3BE-11F611D4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D90-C33B-4875-A19A-DDF2816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6D3-878B-4995-B308-11DE5DC2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E60-B398-4723-8534-A057D27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E88-39D9-4033-9BA6-9AEB988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FCE-C030-43F8-9CDB-F10C736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200-3A19-414F-92E3-660ABFDE26B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A1F-B6C7-405C-9EE4-310BBA6D2C5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8.xml"/><Relationship Id="rId11" Type="http://schemas.openxmlformats.org/officeDocument/2006/relationships/slide" Target="slide17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30.xml"/><Relationship Id="rId17" Type="http://schemas.openxmlformats.org/officeDocument/2006/relationships/slide" Target="slide31.xml"/><Relationship Id="rId18" Type="http://schemas.openxmlformats.org/officeDocument/2006/relationships/slide" Target="slide32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0" y="390600"/>
            <a:ext cx="5614920" cy="2766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8920" y="3716280"/>
            <a:ext cx="4969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.С. Пушкин «Евгений Онегин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63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1052640"/>
            <a:ext cx="82072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означает слово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andy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 кому оно принадлежи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83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Когда выпал снег в описываемый Пушкиным год любви Татьяны к Онегину?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У кого хранится последнее стихотворение Ленского?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980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 кем и куда уехала Ольга Ларина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36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её подруг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 самых колыбельных дне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О какой подруге Татьяны идет речь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68360" y="10522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О чём говорит автор в лирических отступлениях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(гл.7-8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360" y="3333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от бегает дворовый мальчик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салазки … посадив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бя в коня преобрази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зовут собачку,  которую упоминает Пушкин, описывая зи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105228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а сколько недель до свадьбы Ленского состоялась дуэль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1700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Жил анахоретом»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Что такое «анахорет»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1052640"/>
            <a:ext cx="820728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Что такое «картель»?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2268360"/>
                <a:gridCol w="2303640"/>
                <a:gridCol w="2286000"/>
                <a:gridCol w="22860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БАЛ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БАЛ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БАЛ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С. Пушки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Евгений Онегин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ревши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й геро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ящ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93" name="Прямоугольник 4">
            <a:hlinkClick r:id="rId1" action="ppaction://hlinksldjump"/>
          </p:cNvPr>
          <p:cNvSpPr/>
          <p:nvPr/>
        </p:nvSpPr>
        <p:spPr>
          <a:xfrm>
            <a:off x="2340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5">
            <a:hlinkClick r:id="rId2" action="ppaction://hlinksldjump"/>
          </p:cNvPr>
          <p:cNvSpPr/>
          <p:nvPr/>
        </p:nvSpPr>
        <p:spPr>
          <a:xfrm>
            <a:off x="2340000" y="220500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">
            <a:hlinkClick r:id="rId3" action="ppaction://hlinksldjump"/>
          </p:cNvPr>
          <p:cNvSpPr/>
          <p:nvPr/>
        </p:nvSpPr>
        <p:spPr>
          <a:xfrm>
            <a:off x="305928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7">
            <a:hlinkClick r:id="rId4" action="ppaction://hlinksldjump"/>
          </p:cNvPr>
          <p:cNvSpPr/>
          <p:nvPr/>
        </p:nvSpPr>
        <p:spPr>
          <a:xfrm>
            <a:off x="3780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8">
            <a:hlinkClick r:id="rId5" action="ppaction://hlinksldjump"/>
          </p:cNvPr>
          <p:cNvSpPr/>
          <p:nvPr/>
        </p:nvSpPr>
        <p:spPr>
          <a:xfrm>
            <a:off x="3780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9">
            <a:hlinkClick r:id="rId6" action="ppaction://hlinksldjump"/>
          </p:cNvPr>
          <p:cNvSpPr/>
          <p:nvPr/>
        </p:nvSpPr>
        <p:spPr>
          <a:xfrm>
            <a:off x="529272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0">
            <a:hlinkClick r:id="rId7" action="ppaction://hlinksldjump"/>
          </p:cNvPr>
          <p:cNvSpPr/>
          <p:nvPr/>
        </p:nvSpPr>
        <p:spPr>
          <a:xfrm>
            <a:off x="601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1">
            <a:hlinkClick r:id="rId8" action="ppaction://hlinksldjump"/>
          </p:cNvPr>
          <p:cNvSpPr/>
          <p:nvPr/>
        </p:nvSpPr>
        <p:spPr>
          <a:xfrm>
            <a:off x="457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2">
            <a:hlinkClick r:id="rId9" action="ppaction://hlinksldjump"/>
          </p:cNvPr>
          <p:cNvSpPr/>
          <p:nvPr/>
        </p:nvSpPr>
        <p:spPr>
          <a:xfrm>
            <a:off x="601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3">
            <a:hlinkClick r:id="rId10" action="ppaction://hlinksldjump"/>
          </p:cNvPr>
          <p:cNvSpPr/>
          <p:nvPr/>
        </p:nvSpPr>
        <p:spPr>
          <a:xfrm>
            <a:off x="457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4">
            <a:hlinkClick r:id="rId11" action="ppaction://hlinksldjump"/>
          </p:cNvPr>
          <p:cNvSpPr/>
          <p:nvPr/>
        </p:nvSpPr>
        <p:spPr>
          <a:xfrm>
            <a:off x="759636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>
            <a:hlinkClick r:id="rId12" action="ppaction://hlinksldjump"/>
          </p:cNvPr>
          <p:cNvSpPr/>
          <p:nvPr/>
        </p:nvSpPr>
        <p:spPr>
          <a:xfrm>
            <a:off x="835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6">
            <a:hlinkClick r:id="rId13" action="ppaction://hlinksldjump"/>
          </p:cNvPr>
          <p:cNvSpPr/>
          <p:nvPr/>
        </p:nvSpPr>
        <p:spPr>
          <a:xfrm>
            <a:off x="687564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7">
            <a:hlinkClick r:id="rId14" action="ppaction://hlinksldjump"/>
          </p:cNvPr>
          <p:cNvSpPr/>
          <p:nvPr/>
        </p:nvSpPr>
        <p:spPr>
          <a:xfrm>
            <a:off x="835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8">
            <a:hlinkClick r:id="rId15" action="ppaction://hlinksldjump"/>
          </p:cNvPr>
          <p:cNvSpPr/>
          <p:nvPr/>
        </p:nvSpPr>
        <p:spPr>
          <a:xfrm>
            <a:off x="687564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9">
            <a:hlinkClick r:id="rId16" action="ppaction://hlinksldjump"/>
          </p:cNvPr>
          <p:cNvSpPr/>
          <p:nvPr/>
        </p:nvSpPr>
        <p:spPr>
          <a:xfrm>
            <a:off x="2627280" y="5805360"/>
            <a:ext cx="16574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0">
            <a:hlinkClick r:id="rId17" action="ppaction://hlinksldjump"/>
          </p:cNvPr>
          <p:cNvSpPr/>
          <p:nvPr/>
        </p:nvSpPr>
        <p:spPr>
          <a:xfrm>
            <a:off x="4859280" y="5805360"/>
            <a:ext cx="16574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1">
            <a:hlinkClick r:id="rId18" action="ppaction://hlinksldjump"/>
          </p:cNvPr>
          <p:cNvSpPr/>
          <p:nvPr/>
        </p:nvSpPr>
        <p:spPr>
          <a:xfrm>
            <a:off x="7164360" y="5805360"/>
            <a:ext cx="16556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2">
            <a:hlinkClick r:id="rId19" action="ppaction://hlinksldjump"/>
          </p:cNvPr>
          <p:cNvSpPr/>
          <p:nvPr/>
        </p:nvSpPr>
        <p:spPr>
          <a:xfrm>
            <a:off x="255600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3">
            <a:hlinkClick r:id="rId20" action="ppaction://hlinksldjump"/>
          </p:cNvPr>
          <p:cNvSpPr/>
          <p:nvPr/>
        </p:nvSpPr>
        <p:spPr>
          <a:xfrm>
            <a:off x="356400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4">
            <a:hlinkClick r:id="rId21" action="ppaction://hlinksldjump"/>
          </p:cNvPr>
          <p:cNvSpPr/>
          <p:nvPr/>
        </p:nvSpPr>
        <p:spPr>
          <a:xfrm>
            <a:off x="485928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5">
            <a:hlinkClick r:id="rId22" action="ppaction://hlinksldjump"/>
          </p:cNvPr>
          <p:cNvSpPr/>
          <p:nvPr/>
        </p:nvSpPr>
        <p:spPr>
          <a:xfrm>
            <a:off x="586728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26">
            <a:hlinkClick r:id="rId23" action="ppaction://hlinksldjump"/>
          </p:cNvPr>
          <p:cNvSpPr/>
          <p:nvPr/>
        </p:nvSpPr>
        <p:spPr>
          <a:xfrm>
            <a:off x="716436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7">
            <a:hlinkClick r:id="rId24" action="ppaction://hlinksldjump"/>
          </p:cNvPr>
          <p:cNvSpPr/>
          <p:nvPr/>
        </p:nvSpPr>
        <p:spPr>
          <a:xfrm>
            <a:off x="817236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8">
            <a:hlinkClick r:id="rId25" action="ppaction://hlinksldjump"/>
          </p:cNvPr>
          <p:cNvSpPr/>
          <p:nvPr/>
        </p:nvSpPr>
        <p:spPr>
          <a:xfrm>
            <a:off x="255600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29">
            <a:hlinkClick r:id="rId26" action="ppaction://hlinksldjump"/>
          </p:cNvPr>
          <p:cNvSpPr/>
          <p:nvPr/>
        </p:nvSpPr>
        <p:spPr>
          <a:xfrm>
            <a:off x="356400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0">
            <a:hlinkClick r:id="rId27" action="ppaction://hlinksldjump"/>
          </p:cNvPr>
          <p:cNvSpPr/>
          <p:nvPr/>
        </p:nvSpPr>
        <p:spPr>
          <a:xfrm>
            <a:off x="485928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1">
            <a:hlinkClick r:id="rId28" action="ppaction://hlinksldjump"/>
          </p:cNvPr>
          <p:cNvSpPr/>
          <p:nvPr/>
        </p:nvSpPr>
        <p:spPr>
          <a:xfrm>
            <a:off x="586728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2">
            <a:hlinkClick r:id="rId29" action="ppaction://hlinksldjump"/>
          </p:cNvPr>
          <p:cNvSpPr/>
          <p:nvPr/>
        </p:nvSpPr>
        <p:spPr>
          <a:xfrm>
            <a:off x="716436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3">
            <a:hlinkClick r:id="rId30" action="ppaction://hlinksldjump"/>
          </p:cNvPr>
          <p:cNvSpPr/>
          <p:nvPr/>
        </p:nvSpPr>
        <p:spPr>
          <a:xfrm>
            <a:off x="817236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68360" y="1484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Что такое «вензель»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280" y="907560"/>
            <a:ext cx="8280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Татьяна «мигом обежал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уртины, мостики, лужок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ллею к озеру, лесок»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Что такое «куртины»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620280"/>
            <a:ext cx="8642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 том совести, в том смысла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ет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а всех различные вериги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»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Что такое «вериги»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560" y="90792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…На смятом канап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лежал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Что такое «канапе»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000" y="40428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гулки, чтенье, сон глубоки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есная тень, журчанье струй.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ой белянки черноокой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ладой и свежий поцелу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зде послушный конь ретивы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ед довольно прихотливый</a:t>
            </a:r>
            <a:r>
              <a:rPr b="0" i="1" lang="en-US" sz="4800" spc="-1" strike="noStrike">
                <a:solidFill>
                  <a:srgbClr val="ffffff"/>
                </a:solidFill>
                <a:latin typeface="Book Antiqua"/>
              </a:rPr>
              <a:t>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Узнайте  героя по образу жизни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484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Она по-русски плохо знала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оманов наших не чита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 изъяснялася с трудо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 языке своем родном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сегда скромна, всегда послушна, всегда  как утро весела, как жизнь поэта простодушна, как поцелуй любви мила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4920" y="549000"/>
            <a:ext cx="84358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66840" indent="-275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…был добрый малый,                        В прошедшем веке запоздалый;                        Но в книгах не видал вреда;                        Он, не читая никогда,                        Их почитал пустой игрушкой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66840" indent="-275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О каком герое идёт речь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9528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тряк, недавно из Тамбова,                        В очках и в рыжем парике.                        Как истинный француз, в кармане                         …      привез куплет Татьяне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6836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бы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…хозяин превосходный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ладелец нищих мужиков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184428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 какую игру играл Онегин в деревн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39280" y="69192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Именно этот предмет в детстве «Татьяна в руки не брала»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Что находится в черном ящик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черном ящике любимый напиток  Лариных, родителей Татьяны</a:t>
            </a:r>
            <a:r>
              <a:rPr b="1" lang="ru-RU" sz="47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68360" y="62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 черном ящике лежит то, что ждал Наполеон от захваченной Москвы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333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060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Что Пушкин назвал «заменой счастию»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197000"/>
            <a:ext cx="82072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Какую шляпу носил Онегин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000" y="980640"/>
            <a:ext cx="83516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колько писем написал Онегин Татьян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1484280"/>
            <a:ext cx="82803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очему Ленский не писал оды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000" y="765000"/>
            <a:ext cx="8280360" cy="52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чему  страсбургский пирог назван «нетленным»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58972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1125000"/>
            <a:ext cx="8351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 значении каких слов Пушкин заглядывал в «Академический словарь»? Почему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5:51Z</dcterms:created>
  <dc:creator>Полина</dc:creator>
  <dc:description/>
  <dc:language>en-US</dc:language>
  <cp:lastModifiedBy>User</cp:lastModifiedBy>
  <dcterms:modified xsi:type="dcterms:W3CDTF">2021-12-09T17:37:37Z</dcterms:modified>
  <cp:revision>36</cp:revision>
  <dc:subject/>
  <dc:title>Слайд 1</dc:title>
</cp:coreProperties>
</file>