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6C9B-0E98-4E91-9FB1-9DDB7AC716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CB51-D072-4899-BAD3-743E729684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0D7-77B2-4E81-85DA-1172AEC1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AE4-4D00-4591-9D6B-4CC69315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7C9-726E-4201-877F-37BE9012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54F6-7FDB-481F-A4D0-79C08E64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F0CD-40EA-4802-858C-732BF428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2363-BA4F-480A-846B-45B0C986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36FD-9D4A-410D-910C-64B2524F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826F-E688-4D2A-8278-B2E1D711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9FBD-1AC1-4163-93FF-48972CF7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9062-63CB-4FD2-B5A3-740BC109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1A2D-320D-4A73-B45A-6B402F80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ECB-F75D-4E8B-9F23-7C6E3E01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04F7-FC81-498B-AA51-D1846CC2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998E-41F0-4960-8AC0-B560A9DC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EFA4-6B2B-43FC-9731-DF1FDFE6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11BA-88E0-43D8-B37D-D9EC1251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EF21-31F4-4F5A-BA99-DC2C0D2F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9F7-1520-4591-BA38-57C9B858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E5A8-C77F-4739-8E52-32F36D85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FBA-3888-4C8B-96F2-55A01B84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A98-6106-4B68-8F9E-7219B79D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4425-9FA9-47BE-A74D-25B5102C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654-1217-4574-928B-6CEF6524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E55-C35E-4C8E-9140-46C5EA4F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69E2-CED1-4BC2-902E-03739850B6D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B7AA-348A-4450-A44B-8B9DF31723E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8.xml"/><Relationship Id="rId11" Type="http://schemas.openxmlformats.org/officeDocument/2006/relationships/slide" Target="slide17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30.xml"/><Relationship Id="rId17" Type="http://schemas.openxmlformats.org/officeDocument/2006/relationships/slide" Target="slide31.xml"/><Relationship Id="rId18" Type="http://schemas.openxmlformats.org/officeDocument/2006/relationships/slide" Target="slide32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26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0" y="390600"/>
            <a:ext cx="5614920" cy="2766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78920" y="3716280"/>
            <a:ext cx="49690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.С. Пушкин «Евгений Онегин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219640" y="333360"/>
            <a:ext cx="3637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68360" y="1052640"/>
            <a:ext cx="820728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то означает слово 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dandy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 кому оно принадлежит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360" y="836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Когда выпал снег в описываемый Пушкиным год любви Татьяны к Онегину?</a:t>
            </a:r>
            <a:r>
              <a:rPr b="1" i="1" lang="en-US" sz="6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134136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У кого хранится последнее стихотворение Ленского? 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980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 кем и куда уехала Ольга Ларина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68360" y="90792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её подруг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т самых колыбельных дне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О какой подруге Татьяны идет речь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68360" y="105228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О чём говорит автор в лирических отступлениях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(гл.7-8)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68360" y="3333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43520" indent="-333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от бегает дворовый мальчик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43520" indent="-333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 салазки … посадив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43520" indent="-333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ебя в коня преобрази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43520" indent="-333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3520" indent="-3330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 зовут собачку,  которую упоминает Пушкин, описывая зим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8360" y="1052280"/>
            <a:ext cx="82296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За сколько недель до свадьбы Ленского состоялась дуэль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68360" y="17002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«Жил анахоретом»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Что такое «анахорет»?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68360" y="1052640"/>
            <a:ext cx="820728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Что такое «картель»?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0" y="0"/>
          <a:ext cx="9144000" cy="6950160"/>
        </p:xfrm>
        <a:graphic>
          <a:graphicData uri="http://schemas.openxmlformats.org/drawingml/2006/table">
            <a:tbl>
              <a:tblPr/>
              <a:tblGrid>
                <a:gridCol w="2268360"/>
                <a:gridCol w="2303640"/>
                <a:gridCol w="2286000"/>
                <a:gridCol w="2286000"/>
              </a:tblGrid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БАЛ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БАЛЛ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БАЛЛ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С. Пушкин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Евгений Онегин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ревшие сл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най геро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ный ящ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93" name="Прямоугольник 4">
            <a:hlinkClick r:id="rId1" action="ppaction://hlinksldjump"/>
          </p:cNvPr>
          <p:cNvSpPr/>
          <p:nvPr/>
        </p:nvSpPr>
        <p:spPr>
          <a:xfrm>
            <a:off x="2340000" y="141300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5">
            <a:hlinkClick r:id="rId2" action="ppaction://hlinksldjump"/>
          </p:cNvPr>
          <p:cNvSpPr/>
          <p:nvPr/>
        </p:nvSpPr>
        <p:spPr>
          <a:xfrm>
            <a:off x="2340000" y="2205000"/>
            <a:ext cx="792000" cy="432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6">
            <a:hlinkClick r:id="rId3" action="ppaction://hlinksldjump"/>
          </p:cNvPr>
          <p:cNvSpPr/>
          <p:nvPr/>
        </p:nvSpPr>
        <p:spPr>
          <a:xfrm>
            <a:off x="3059280" y="1844640"/>
            <a:ext cx="792000" cy="432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7">
            <a:hlinkClick r:id="rId4" action="ppaction://hlinksldjump"/>
          </p:cNvPr>
          <p:cNvSpPr/>
          <p:nvPr/>
        </p:nvSpPr>
        <p:spPr>
          <a:xfrm>
            <a:off x="3780000" y="227664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8">
            <a:hlinkClick r:id="rId5" action="ppaction://hlinksldjump"/>
          </p:cNvPr>
          <p:cNvSpPr/>
          <p:nvPr/>
        </p:nvSpPr>
        <p:spPr>
          <a:xfrm>
            <a:off x="3780000" y="141300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9">
            <a:hlinkClick r:id="rId6" action="ppaction://hlinksldjump"/>
          </p:cNvPr>
          <p:cNvSpPr/>
          <p:nvPr/>
        </p:nvSpPr>
        <p:spPr>
          <a:xfrm>
            <a:off x="5292720" y="1844640"/>
            <a:ext cx="792000" cy="432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10">
            <a:hlinkClick r:id="rId7" action="ppaction://hlinksldjump"/>
          </p:cNvPr>
          <p:cNvSpPr/>
          <p:nvPr/>
        </p:nvSpPr>
        <p:spPr>
          <a:xfrm>
            <a:off x="6012000" y="227664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11">
            <a:hlinkClick r:id="rId8" action="ppaction://hlinksldjump"/>
          </p:cNvPr>
          <p:cNvSpPr/>
          <p:nvPr/>
        </p:nvSpPr>
        <p:spPr>
          <a:xfrm>
            <a:off x="4572000" y="227664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12">
            <a:hlinkClick r:id="rId9" action="ppaction://hlinksldjump"/>
          </p:cNvPr>
          <p:cNvSpPr/>
          <p:nvPr/>
        </p:nvSpPr>
        <p:spPr>
          <a:xfrm>
            <a:off x="6012000" y="141300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13">
            <a:hlinkClick r:id="rId10" action="ppaction://hlinksldjump"/>
          </p:cNvPr>
          <p:cNvSpPr/>
          <p:nvPr/>
        </p:nvSpPr>
        <p:spPr>
          <a:xfrm>
            <a:off x="4572000" y="141300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4">
            <a:hlinkClick r:id="rId11" action="ppaction://hlinksldjump"/>
          </p:cNvPr>
          <p:cNvSpPr/>
          <p:nvPr/>
        </p:nvSpPr>
        <p:spPr>
          <a:xfrm>
            <a:off x="7596360" y="1844640"/>
            <a:ext cx="792000" cy="432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5">
            <a:hlinkClick r:id="rId12" action="ppaction://hlinksldjump"/>
          </p:cNvPr>
          <p:cNvSpPr/>
          <p:nvPr/>
        </p:nvSpPr>
        <p:spPr>
          <a:xfrm>
            <a:off x="8352000" y="227664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6">
            <a:hlinkClick r:id="rId13" action="ppaction://hlinksldjump"/>
          </p:cNvPr>
          <p:cNvSpPr/>
          <p:nvPr/>
        </p:nvSpPr>
        <p:spPr>
          <a:xfrm>
            <a:off x="6875640" y="227664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7">
            <a:hlinkClick r:id="rId14" action="ppaction://hlinksldjump"/>
          </p:cNvPr>
          <p:cNvSpPr/>
          <p:nvPr/>
        </p:nvSpPr>
        <p:spPr>
          <a:xfrm>
            <a:off x="8352000" y="141300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8">
            <a:hlinkClick r:id="rId15" action="ppaction://hlinksldjump"/>
          </p:cNvPr>
          <p:cNvSpPr/>
          <p:nvPr/>
        </p:nvSpPr>
        <p:spPr>
          <a:xfrm>
            <a:off x="6875640" y="1413000"/>
            <a:ext cx="792000" cy="4316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9">
            <a:hlinkClick r:id="rId16" action="ppaction://hlinksldjump"/>
          </p:cNvPr>
          <p:cNvSpPr/>
          <p:nvPr/>
        </p:nvSpPr>
        <p:spPr>
          <a:xfrm>
            <a:off x="2627280" y="5805360"/>
            <a:ext cx="1657440" cy="7923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20">
            <a:hlinkClick r:id="rId17" action="ppaction://hlinksldjump"/>
          </p:cNvPr>
          <p:cNvSpPr/>
          <p:nvPr/>
        </p:nvSpPr>
        <p:spPr>
          <a:xfrm>
            <a:off x="4859280" y="5805360"/>
            <a:ext cx="1657440" cy="7923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1">
            <a:hlinkClick r:id="rId18" action="ppaction://hlinksldjump"/>
          </p:cNvPr>
          <p:cNvSpPr/>
          <p:nvPr/>
        </p:nvSpPr>
        <p:spPr>
          <a:xfrm>
            <a:off x="7164360" y="5805360"/>
            <a:ext cx="1655640" cy="7923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2">
            <a:hlinkClick r:id="rId19" action="ppaction://hlinksldjump"/>
          </p:cNvPr>
          <p:cNvSpPr/>
          <p:nvPr/>
        </p:nvSpPr>
        <p:spPr>
          <a:xfrm>
            <a:off x="2556000" y="2924280"/>
            <a:ext cx="720720" cy="10094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23">
            <a:hlinkClick r:id="rId20" action="ppaction://hlinksldjump"/>
          </p:cNvPr>
          <p:cNvSpPr/>
          <p:nvPr/>
        </p:nvSpPr>
        <p:spPr>
          <a:xfrm>
            <a:off x="3564000" y="2924280"/>
            <a:ext cx="720720" cy="10094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24">
            <a:hlinkClick r:id="rId21" action="ppaction://hlinksldjump"/>
          </p:cNvPr>
          <p:cNvSpPr/>
          <p:nvPr/>
        </p:nvSpPr>
        <p:spPr>
          <a:xfrm>
            <a:off x="4859280" y="2924280"/>
            <a:ext cx="720720" cy="10094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25">
            <a:hlinkClick r:id="rId22" action="ppaction://hlinksldjump"/>
          </p:cNvPr>
          <p:cNvSpPr/>
          <p:nvPr/>
        </p:nvSpPr>
        <p:spPr>
          <a:xfrm>
            <a:off x="5867280" y="2924280"/>
            <a:ext cx="720720" cy="10094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26">
            <a:hlinkClick r:id="rId23" action="ppaction://hlinksldjump"/>
          </p:cNvPr>
          <p:cNvSpPr/>
          <p:nvPr/>
        </p:nvSpPr>
        <p:spPr>
          <a:xfrm>
            <a:off x="7164360" y="2924280"/>
            <a:ext cx="720720" cy="10094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27">
            <a:hlinkClick r:id="rId24" action="ppaction://hlinksldjump"/>
          </p:cNvPr>
          <p:cNvSpPr/>
          <p:nvPr/>
        </p:nvSpPr>
        <p:spPr>
          <a:xfrm>
            <a:off x="8172360" y="2924280"/>
            <a:ext cx="720720" cy="10094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28">
            <a:hlinkClick r:id="rId25" action="ppaction://hlinksldjump"/>
          </p:cNvPr>
          <p:cNvSpPr/>
          <p:nvPr/>
        </p:nvSpPr>
        <p:spPr>
          <a:xfrm>
            <a:off x="2556000" y="4292640"/>
            <a:ext cx="720720" cy="1008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29">
            <a:hlinkClick r:id="rId26" action="ppaction://hlinksldjump"/>
          </p:cNvPr>
          <p:cNvSpPr/>
          <p:nvPr/>
        </p:nvSpPr>
        <p:spPr>
          <a:xfrm>
            <a:off x="3564000" y="4292640"/>
            <a:ext cx="720720" cy="1008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30">
            <a:hlinkClick r:id="rId27" action="ppaction://hlinksldjump"/>
          </p:cNvPr>
          <p:cNvSpPr/>
          <p:nvPr/>
        </p:nvSpPr>
        <p:spPr>
          <a:xfrm>
            <a:off x="4859280" y="4292640"/>
            <a:ext cx="720720" cy="1008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31">
            <a:hlinkClick r:id="rId28" action="ppaction://hlinksldjump"/>
          </p:cNvPr>
          <p:cNvSpPr/>
          <p:nvPr/>
        </p:nvSpPr>
        <p:spPr>
          <a:xfrm>
            <a:off x="5867280" y="4292640"/>
            <a:ext cx="720720" cy="1008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32">
            <a:hlinkClick r:id="rId29" action="ppaction://hlinksldjump"/>
          </p:cNvPr>
          <p:cNvSpPr/>
          <p:nvPr/>
        </p:nvSpPr>
        <p:spPr>
          <a:xfrm>
            <a:off x="7164360" y="4292640"/>
            <a:ext cx="720720" cy="1008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33">
            <a:hlinkClick r:id="rId30" action="ppaction://hlinksldjump"/>
          </p:cNvPr>
          <p:cNvSpPr/>
          <p:nvPr/>
        </p:nvSpPr>
        <p:spPr>
          <a:xfrm>
            <a:off x="8172360" y="4292640"/>
            <a:ext cx="720720" cy="1008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68360" y="1484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Book Antiqua"/>
              </a:rPr>
              <a:t>Что такое «вензель»</a:t>
            </a: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39280" y="907560"/>
            <a:ext cx="8280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Татьяна «мигом обежала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уртины, мостики, лужок,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ллею к озеру, лесок»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Что такое «куртины»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50920" y="620280"/>
            <a:ext cx="8642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800" spc="-1" strike="noStrike">
                <a:solidFill>
                  <a:srgbClr val="ffffff"/>
                </a:solidFill>
                <a:latin typeface="Book Antiqua"/>
              </a:rPr>
              <a:t>«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 том совести, в том смысла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нет;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На всех различные вериги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»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Что такое «вериги»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560" y="907920"/>
            <a:ext cx="8713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«…На смятом канап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лежал…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Что такое «канапе»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68000" y="40428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Book Antiqua"/>
              </a:rPr>
              <a:t>«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гулки, чтенье, сон глубокий, 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есная тень, журчанье струй. 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рой белянки черноокой 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ладой и свежий поцелуй, 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зде послушный конь ретивый, 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ед довольно прихотливый</a:t>
            </a:r>
            <a:r>
              <a:rPr b="0" i="1" lang="en-US" sz="4800" spc="-1" strike="noStrike">
                <a:solidFill>
                  <a:srgbClr val="ffffff"/>
                </a:solidFill>
                <a:latin typeface="Book Antiqua"/>
              </a:rPr>
              <a:t>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Узнайте  героя по образу жизни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68360" y="148428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48920" indent="-336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Она по-русски плохо знала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оманов наших не читал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 изъяснялася с трудо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 языке своем родном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»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Кто это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43520" indent="-3330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ook Antiqua"/>
              </a:rPr>
              <a:t>«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сегда скромна, всегда послушна, всегда  как утро весела, как жизнь поэта простодушна, как поцелуй любви мила</a:t>
            </a:r>
            <a:r>
              <a:rPr b="1" i="1" lang="en-US" sz="4800" spc="-1" strike="noStrike">
                <a:solidFill>
                  <a:srgbClr val="ffffff"/>
                </a:solidFill>
                <a:latin typeface="Book Antiqua"/>
              </a:rPr>
              <a:t>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43520" indent="-333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Кто это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4920" y="549000"/>
            <a:ext cx="84358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66840" indent="-2754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…был добрый малый,                        В прошедшем веке запоздалый;                        Но в книгах не видал вреда;                        Он, не читая никогда,                        Их почитал пустой игрушкой»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66840" indent="-2754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О каком герое идёт речь?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95280" y="333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Book Antiqua"/>
              </a:rPr>
              <a:t>«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тряк, недавно из Тамбова,                        В очках и в рыжем парике.                        Как истинный француз, в кармане                         …      привез куплет Татьяне</a:t>
            </a:r>
            <a:r>
              <a:rPr b="0" i="1" lang="en-US" sz="4000" spc="-1" strike="noStrike">
                <a:solidFill>
                  <a:srgbClr val="ffffff"/>
                </a:solidFill>
                <a:latin typeface="Book Antiqua"/>
              </a:rPr>
              <a:t>»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Кто это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68360" y="1125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Кто был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ff"/>
                </a:solidFill>
                <a:latin typeface="Book Antiqua"/>
              </a:rPr>
              <a:t>«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…хозяин превосходный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Владелец нищих мужиков</a:t>
            </a:r>
            <a:r>
              <a:rPr b="1" i="1" lang="en-US" sz="4800" spc="-1" strike="noStrike">
                <a:solidFill>
                  <a:srgbClr val="ffffff"/>
                </a:solidFill>
                <a:latin typeface="Book Antiqua"/>
              </a:rPr>
              <a:t>»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i="1" lang="en-US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68360" y="184428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В какую игру играл Онегин в деревне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39280" y="691920"/>
            <a:ext cx="8280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Именно этот предмет в детстве «Татьяна в руки не брала»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Что находится в черном ящике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68360" y="1196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 черном ящике любимый напиток  Лариных, родителей Татьяны</a:t>
            </a:r>
            <a:r>
              <a:rPr b="1" lang="ru-RU" sz="47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68360" y="620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В черном ящике лежит то, что ждал Наполеон от захваченной Москвы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Управляющая кнопка: домой 3"/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000" y="333360"/>
            <a:ext cx="8218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68360" y="20602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Что Пушкин назвал «заменой счастию»?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1197000"/>
            <a:ext cx="82072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Какую шляпу носил Онегин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000" y="980640"/>
            <a:ext cx="83516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колько писем написал Онегин Татьяне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000" y="1484280"/>
            <a:ext cx="828036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Почему Ленский не писал оды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68000" y="765000"/>
            <a:ext cx="8280360" cy="521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Почему  страсбургский пирог назван «нетленным»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58972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000" y="1125000"/>
            <a:ext cx="83516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О значении каких слов Пушкин заглядывал в «Академический словарь»? Почему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Управляющая кнопка: домой 3">
            <a:hlinkClick r:id="rId1" action="ppaction://hlinksldjump"/>
          </p:cNvPr>
          <p:cNvSpPr/>
          <p:nvPr/>
        </p:nvSpPr>
        <p:spPr>
          <a:xfrm>
            <a:off x="7956720" y="530064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  <a:path fill="darken" w="21600" h="23252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2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50"/>
                </a:lnTo>
                <a:close/>
              </a:path>
              <a:path fill="darkenLess" w="21600" h="23252">
                <a:moveTo>
                  <a:pt x="9877" y="15125"/>
                </a:moveTo>
                <a:lnTo>
                  <a:pt x="11723" y="15125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16:35:51Z</dcterms:created>
  <dc:creator>Полина</dc:creator>
  <dc:description/>
  <dc:language>en-US</dc:language>
  <cp:lastModifiedBy>User</cp:lastModifiedBy>
  <dcterms:modified xsi:type="dcterms:W3CDTF">2021-12-09T17:37:37Z</dcterms:modified>
  <cp:revision>36</cp:revision>
  <dc:subject/>
  <dc:title>Слайд 1</dc:title>
</cp:coreProperties>
</file>