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E1F-6C54-4C67-B93A-68FA42F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937-744B-4933-BE9D-A43AC33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8A8C7-4FA6-4A09-B0DB-F256132C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6ADD2-0EAC-4BA6-B560-44FC0CD0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43098-D20F-4F27-89EF-3664E14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EB217-825B-48E8-89CB-467F4D21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5260C-7042-4B10-A1F2-33C8946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4333E-B722-41E0-A2AA-3876087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C37DB-04CE-47AC-9E12-40BBC1F9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9A02E-A9AD-457D-9D3B-5EE19D36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8AA40-1FC9-4751-AB44-43205900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C799A-5E35-4AD3-889B-BB21BEE1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B83-8ED1-4A11-B21A-4CAA5341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1927B-89FB-42A8-900B-61C02AD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DFA79-B4C7-4396-B9C8-AA54600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55559-F4CC-47AF-B04F-1141BB6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CAD0F-D331-4682-B9C2-F877B28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D3AC1-05E8-49B9-9E07-503A006A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FE694-490F-4A96-8EED-2C10B1FE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52CD0-CA0C-4412-A37A-1076F48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77C20-7224-476B-80C0-031866A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0816-AFEE-499A-9E5D-D867DDB6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9B812-F3B0-4452-B014-06F82A71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E92-810E-4EBE-8A54-C32580F8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8D576-D117-4FCA-9372-02E018BE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D96C-F12A-45BC-B357-5AAC7399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BCB5-36FD-474B-89F5-8B74DB5C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660D-605D-40F0-B969-113679A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605C0-1807-484D-AB64-2DC48CC1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F3A7B-BBD9-437F-82EC-31499835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B6A6E-CFA9-4D6C-9B53-C441CBA2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A4D4-ABB6-4C23-BE5C-28CFD72F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24FF-9A1C-4A38-A025-479D5F2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BAA63-F6A2-4389-B5CF-4184294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6902-FE37-4371-9AEC-923FC189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23796-C5B2-48A3-8D4B-14397F6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0AC34-F292-445F-B4AF-A69C60C0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78A15-5570-4B2B-9338-FFA02596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F52C1-7D99-4D8A-B42A-8AE3F6F7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66C75-F67A-48C2-BC6D-7A46FEEB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AB887-89F9-4A77-9B19-E173868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A271B-10D3-4824-9DED-8DF0D4E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E5635-A96E-43BE-AF37-D012320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B3973-6A58-4BEB-ACBB-26295937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B5FBC-4B44-42DD-8F49-CC5AF669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299-F50C-4743-8362-55A2282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EAFB1-EFD3-45F3-B62C-2826025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89DE0-A734-4C98-ACAF-42D069F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9005C-F712-4209-B64F-F6C87F8E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190B0-3C7B-45D8-A5DC-3297D0AC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5B6A6-18A7-4DC8-B0C8-4380115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58554-0ED1-4D61-A2A5-E2E241C8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FC1B7-C01A-44C4-BF4D-14D62121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C6979-905C-4834-B587-E3C3C6F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9363D-23C9-4269-A0D4-45677B2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56E1C-4721-4189-89D6-95B960B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61FB-FFFF-476F-84D9-15F716A2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5A13C-9AB3-4D2B-9A97-2997558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A2786-4179-43C0-9E23-55E4811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57F5C-9E37-4A46-AC37-4C55AC83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E28AB-53AE-4C5A-9BA0-E851E56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E7FED-AB0B-479A-A515-EA63CBA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3F37B-3B17-4318-9C5B-B277F189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BAEB0-9FE6-4C48-BA08-699E1B8F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BDEB7-24B2-4B56-BD87-FE694A33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6C67C-B396-4974-B443-181C9297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D93B4-7873-41B2-BED5-59D128FD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517C-9967-4448-8D11-C7C7EF6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35D0C-2853-45DA-941E-1384D98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BD5A7-4110-41F0-ADDC-3F59EB8A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BA3F4-D547-40F9-912C-870D2674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F2406-3A56-4EFF-AB1D-5A1FEDA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4D372-7922-4CA3-A429-BFE7C9C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59471-3AB0-4D70-871A-A905AFF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185DC-6DE8-4B5D-8DB4-7D6FEA3D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CC27F-AD07-458C-ACB7-3B1235FA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12D98-BD66-4B58-9521-BE809580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8415B-0EEF-4F2F-B3C6-D0019F90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DF1-9516-4429-A8CE-E5ADDEB6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86D99-D05A-4B6A-8CE4-8E1907AC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B423A-5863-42E6-B215-23ADC0A7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BB53C-D67B-48EE-A70E-637F7383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56628-C8AF-4E00-BE98-C9657B64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CDE7C-328E-43B3-8AD1-C806232A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EEECD-2980-4EF5-881B-5C342A7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698B8-BEA9-4BDD-811E-1B102AF4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8A3D7-5047-4134-BF69-02C2B08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0A80B-8914-48D7-8EA0-1B9B1B54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7D30F-7B30-4561-A28B-98B03C82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FFB-17B7-49E6-BFD2-10ABD880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A1155-1A1D-4846-B836-1795E4DC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3F03F-7168-4822-BD7B-8740BE54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77F9D-DCCD-4941-A4E8-84298CB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9DBF6-46B9-44CD-A592-595F179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10D4D-6C74-415B-A986-BF4BDED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8CE24-B3A7-40E3-8313-6651CFE7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0AEA6-0C28-4674-850F-A6AA4FEC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B0367-F0FF-4F8C-908F-EE4144C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E22D5-AB4E-4DFD-92B8-A0CF38D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E39FE-8902-45A7-BFDD-4689348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11ED-E91B-4FE9-BB63-A094E9C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8BB6B-F616-4243-BC5F-8A9993C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67A3C-E7F4-4A78-916B-392B9DB6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9DBD9-035F-4D96-BA2D-E961019F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A5D-844F-482B-85AB-AFB053C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FDC7-8DCF-4C1E-9044-F36751AE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A6A6-D29B-4186-8A7C-5559ACD9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832-1405-4087-807E-5617A2F8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1FE2-1E95-4EC7-A10F-4B356197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5D4D-4998-420A-862B-46900B65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E9B8-B40E-4DFD-B9E3-E5B5E738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122C-F7A7-4180-9F05-B7CB5BCE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6333-7DBA-4DD7-9051-BF5D9AE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CB30-0DFA-46D9-8C1F-9487D48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6228-90F7-4047-A65E-20F3261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16F-758B-4455-B831-C541BC48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AA23-3FB2-43C0-8F99-7E5F9CD5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A87A-454F-4A54-8AEA-EC56988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EE63-232D-43FC-A588-E42594D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B5FD-551A-4588-8AA3-B6831FE3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E78A-785B-4CDD-A37B-AC814DB9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640C-45CB-4A2B-91A3-B4C8720D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527D-61B3-492F-8072-0DEBF3C8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8BCC-0FED-49AF-AFA5-59DD91D2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3B5C-59DD-4ED9-B08E-ADF3767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C13B-465B-4750-B950-079F23EB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3C1-098E-4E5A-BB66-97C8E6F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764F-8F1C-4D47-AF90-5D3DBF8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8805-DD1E-4C06-9A58-77E4BC30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04E0-3F55-403F-B51A-BB17F3C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939F-A877-4828-9ED2-103DC0D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6425-8C0E-4FF4-8CDE-2162F83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4293-0FC5-4337-9B40-4F021D4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2C7D-3271-40C3-9875-0645BB7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8243-14A3-4229-B7F7-9742DC43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49ED6-B0BB-4EBA-8F27-DD9769AD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E87E4-C014-49DA-B663-BA673707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CBA-763D-44E2-88DA-1A3CEBBB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AE4FE-2EFB-44AA-B137-51237B1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838F-6472-41AA-9EE4-5A56FBD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10EB-228E-4331-9273-C79E716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49DB1-51F3-467E-8860-EA1B327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619C-F50F-4FA6-A3B5-35F4A2F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77E4B-C97C-439F-85E0-E03C3A6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2F302-B7C0-4058-8267-BD1F9FD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8E73-7EA9-4945-9ED6-61293FA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0865-E931-460E-8D09-A858A2AD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6582A-1C6F-4D36-9DF2-89939746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B54-E719-4392-8E80-F46F8895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6079-5879-418F-BD1F-61877781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A896A-D862-4D77-B1C7-29BC0960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46E0-4C7D-4DF5-A85D-6824F11E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8347-7137-45E2-8344-15567B7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AAD44-AF5C-4683-9656-3950198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19DDA-A3FE-47F4-A78D-C518662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350D6-D6CA-4488-AD88-C3F7391D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460A-94DA-4585-A5AE-7950DAB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EB51-1F13-4AEC-8F20-B1E9768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2448-8A66-4E48-B8B7-C4284BE2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E5C-70E0-4684-B47E-1C3F2EA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9283-8165-466A-B4BF-3254552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45360-71ED-4090-8300-1A1AC0DB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9D6D8-78F0-4C3E-A521-A16505CD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62E9-0AB7-419F-B2E8-7E91A249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B18E-F4C6-4EAA-93B5-40DC408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99D4E-2EE5-4BF2-880D-132A8DB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F7C01-474C-485A-8F4E-06A124AC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FAA5E-EDFF-48B9-903A-684FF7F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5453-0DD1-491C-9958-4E715B5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B388-F867-43C9-9995-6C2310D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0FD-7504-4F0F-B079-AEF1D66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6868-3872-4D96-B714-5B4AB57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1FB7-9CAC-49D1-BE94-DAD2F42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B1943-4EFB-4C15-9586-389EF7D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17489-1392-4AD3-B695-E36EEB6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B6C9-69DB-47A8-97F1-51D0A005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BA07-722E-43B3-87A5-F553BAF3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2DD15-DA89-457A-8B99-E074B2CE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96A7-C5A6-486A-88DC-A1CAE708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87061-4B1E-476A-B16D-D756594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569D-C17F-4267-ABB5-D8480C2F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BB6-AC05-4464-9505-4CD3BA9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58ECA-CAA8-4BD0-8039-4E6BE863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C5E9A-FC38-424E-93C6-08AD6C2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6C8C-C66C-4150-998A-1B569C39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E8B6-FE93-417E-9AED-D79FCB2C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65C2-9E7A-4AA8-BA17-10F7FEB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472B-C930-4F10-8B96-AA2FF1B3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3AD06-5F90-45CF-B9FF-37995036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F64D6-ADB9-4381-BA1C-F738EBB1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01A95-568F-4C12-84B7-ABE84576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CF6D6-CEBA-4475-9D52-EE1F170A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6015C-64D4-4A7D-B579-F6E04BF571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DB5A0-66B0-4AF3-893F-32E12073E5E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6E6D4-13FE-4B4A-8BE8-77F879C5F9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6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E92B2-415B-46CA-BE40-F1D315B4E7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E8EDE-BEA2-441D-BE65-71492671649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0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359AD-70E0-4CD1-AEAB-A8C30759A8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B3F1D-D1C9-446D-9B57-303BB2496DC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4B026-61F1-4174-A263-7AE6CB4338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2289C-4882-42E5-8C14-73997EEFAE0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954BE-A32E-4308-9097-69ADBB4589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6A941-A6F4-4194-BAEB-319E75A60E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3BB2D-6BE9-42A3-9606-19E13D4431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95B54-B73B-44BF-8F69-CC003A34721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83C90-68EB-494A-AFA5-7C89446155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0C77B-7B28-40BC-B354-3767F68B0B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62D60-4637-4620-AD3B-DFF8A406958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178dbb"/>
                </a:solidFill>
                <a:latin typeface="Century Gothic"/>
              </a:rPr>
              <a:t>Современное музееведение</a:t>
            </a:r>
            <a:endParaRPr b="0" lang="en-US" sz="5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Размеще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 старинное, связанное с какими-то историческими событиями здание, которое само по себе является ценным объектом, подлежит охран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ание может быть выстроено специально под муз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ание музея может представлять собой музеефицированный объект, где главная задача – сохранить не только здание, но интерьеры, т.е. целый комплекс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узейный кварта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ерриториальный комплек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ко-муз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род муз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Город-музе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исторический город (Историческое поселение), сохранивший историческую застройку и являющийся, как целостный организм, основным объектом показа. Г.-м. отличает высокая степень музеефикации и ориентация на культурный туриз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писок объектов всемирного наследия ЮНЕСКО включено ок. 70 городов-памятников, в т.ч. один российский – исторический центр С.-Петербург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Планировка помещени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0% – на экспозиции и временные выставк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0% на фонды, лаборатории консервации и реставрации и др. помещения, связанные с хранением экспонатов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0% на вспомогательные помещения для персонала («комнаты для оборудования и офисы»)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0% на рекреационную зону (холлы, залы, аудитории, кафе или рестораны и т.п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Линейный проект музейного здания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35" name="Объект 3" descr=""/>
          <p:cNvPicPr/>
          <p:nvPr/>
        </p:nvPicPr>
        <p:blipFill>
          <a:blip r:embed="rId1"/>
          <a:stretch/>
        </p:blipFill>
        <p:spPr>
          <a:xfrm>
            <a:off x="1395360" y="3571920"/>
            <a:ext cx="5764320" cy="2627280"/>
          </a:xfrm>
          <a:prstGeom prst="rect">
            <a:avLst/>
          </a:prstGeom>
          <a:ln w="0">
            <a:noFill/>
          </a:ln>
        </p:spPr>
      </p:pic>
      <p:sp>
        <p:nvSpPr>
          <p:cNvPr id="1136" name="Прямоугольник 4"/>
          <p:cNvSpPr/>
          <p:nvPr/>
        </p:nvSpPr>
        <p:spPr>
          <a:xfrm>
            <a:off x="7351560" y="2138400"/>
            <a:ext cx="448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ступные публике помещения идут вдоль фасада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посредственно за ними – помещения без окон, где располагаются фондовые помещения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задней, освещаемой окнами части здания располагаются рабочие и учебные помещ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Экспозиционная работа музеев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2588760" y="1452240"/>
            <a:ext cx="8915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Экспозиция» (от лат. «expositio» – выставлять, выкладывать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Совокупность музейных предметов, подобранных по определенной системе для обозрения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ая форма музейной коммуникации, образовательные и воспитательные цели которой осуществляются путем демонстрации музейных предметов, организованных, объясненных и размещенных в соответствии с разработанной музеем научной концепцией и современными принципами архитектурно-художественных решен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Музейная экспози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целенаправленная, научно-обоснованная демонстрация музейных предметов, связанных единством содержания, композиционно организованных, откомментированных, технически и художественно оформленных, в совокупности создающих специфический (музейный) образ природных, общественных или культурных явлений и процессов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178dbb"/>
                </a:solidFill>
                <a:latin typeface="Century Gothic"/>
              </a:rPr>
              <a:t>экспозиционные комплексы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кспозиции состоят из отдельных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экспозиционных комплексов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– тематически связанных, пространственно и художественно организованных групп музейных предметов, научно-вспомогательного материала, текстов и экспозиционного музейного оборудования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деляют несколько типов экспозиционных комплексов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тематические (есть мнение, что только тематические комплексы следует относить к экспозиционным, т.е. это понятия-синонимы)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жизненные (естественные) – биогруппы, панорамы и диорамы, типовые – мемориальные, коллекционные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ногда к экспозиционным комплексам относят весь демонстрационный зал, созданный по единому проекту и имеющий свой неповторимый стил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Жизненный цикл экспозици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 проектирование экспозици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научное проектирование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– разработка основной идеи и конкретного содержани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художественное проектирование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 – разработка архитектурно-художественных принципов и решений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техническое и рабочее проектирование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) монтаж экспозици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) демонтаж экспозиции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) реэкспозицию (обновление старой экспозиции без полного демонтаж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178dbb"/>
                </a:solidFill>
                <a:latin typeface="Century Gothic"/>
              </a:rPr>
              <a:t>Систематический метод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результате его применения появляются </a:t>
            </a: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систематические экспозиции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, т.е. экспозиции, построенные в соответствии с классификацией, принятой в определенной профильной дисциплине, отрасли культуры или отрасли общественного производства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Основная структура систематической экспозиции – типологический (систематический) ряд музейных предметов, отражающий эволюцию тех или иных процессов природы, человеческого общества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Часто такой метод экспозиции применяется в естественнонаучных музеях, например в зоологических, биологических, минералогических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 России первым художественным собранием, использовавшим систематический метод построения экспозиции, был Эрмитаж: после проведенной в 1793 г. Мартинелли и Георги ревизии собрания развеска приобрела систематический характер – по странам и школам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178dbb"/>
                </a:solidFill>
                <a:latin typeface="Century Gothic"/>
              </a:rPr>
              <a:t>Ландшафтный метод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езультате которого по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ландшафтная экспози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чаще применяется в естественнонаучных музея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а такой экспозиции воспроизвести сочетаемость, взаимосвязь и взаимозависимость каких-то компонентов явления или процесс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нный метод часто применяется в музеях естественнонаучного профиля. Впервые этот метод был применен при показе естественнонаучных коллекций на Всемирной выставке в Лондоне в 1851 г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Характерная черта ландшафтной экспозиции – использование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диора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или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панора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содержание которых раскрывается и дополняется музейными предметами, ландшафтными картами, профилями и т.п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178dbb"/>
                </a:solidFill>
                <a:latin typeface="Century Gothic"/>
              </a:rPr>
              <a:t>Тематический метод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формирован на основе ансамблевого метода в практике советского музееведения 2-й половины 1920-х гг. для историко-революционных музеев. Позже он получил распространение и в других профильных группах и подгруппа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а метода – раскрыть посредством музейных предметов определенный сюжет, создать в сознании посетителя музейный образ отображаемых явлений или процессов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ематическая экспозиция строится как система взаимосвязанных разделов, тем, подтем, содержание которых связано и обосновано общей концепцией. В центре такой экспозиции должен быть предмет, обладающий наивысшей коммуникативностью, репрезентативностью, экспрессивностью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Что такое музей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1627200" y="1161720"/>
            <a:ext cx="588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узей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от греч. μουσεῖον — Дом Муз – "философская школа с книгохранилищем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узы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( </a:t>
            </a:r>
            <a:r>
              <a:rPr b="0" lang="ru-RU" sz="1800" spc="-1" strike="noStrike" u="sng">
                <a:solidFill>
                  <a:srgbClr val="2da0f1"/>
                </a:solidFill>
                <a:uFillTx/>
                <a:latin typeface="Century Gothic"/>
                <a:hlinkClick r:id="rId1"/>
              </a:rPr>
              <a:t>др.-греч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μοῦσαι — «мыслящие») покровительницы искусств и наук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11" name="Рисунок 3" descr=""/>
          <p:cNvPicPr/>
          <p:nvPr/>
        </p:nvPicPr>
        <p:blipFill>
          <a:blip r:embed="rId2"/>
          <a:stretch/>
        </p:blipFill>
        <p:spPr>
          <a:xfrm>
            <a:off x="7516800" y="336600"/>
            <a:ext cx="4189320" cy="2266920"/>
          </a:xfrm>
          <a:prstGeom prst="rect">
            <a:avLst/>
          </a:prstGeom>
          <a:ln w="0">
            <a:noFill/>
          </a:ln>
        </p:spPr>
      </p:pic>
      <p:sp>
        <p:nvSpPr>
          <p:cNvPr id="1112" name="Прямоугольник 5"/>
          <p:cNvSpPr/>
          <p:nvPr/>
        </p:nvSpPr>
        <p:spPr>
          <a:xfrm>
            <a:off x="1627200" y="2782800"/>
            <a:ext cx="1007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узей – это концентрированное выражение культуры прошлого и настоящего, через которое человек осуществляет свою адаптацию к изменяющимся условиям окружающей его действительности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узей позволяет человеку путем собственных душевных усилий, преодоления собственных и внешних стереотипов, внутренних барьеров сформировать целостное восприятие прошлого и настоящего времен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178dbb"/>
                </a:solidFill>
                <a:latin typeface="Century Gothic"/>
              </a:rPr>
              <a:t>Инсталляция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от англ. installation – установка) – пространственная композиция, созданная художником из различных элементов: бытовых предметов, промышленных изделий и материалов, природных объектов, текстов, визуальной информации. Основоположниками инсталляции были дадаист М. Дюшан и сюрреалист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стетическое содержание инсталляции заключается в игре смысловых значений, которые изменяются в зависимости от того, где находится предмет: в привычном бытовом окружении или в выставочном зале. Инсталляция как метод оформления экспозиции широко применяется в музеях, стремящихся уйти от образа просветителя и в большей степени направленных на развлечение посетителя (говоря иначе, музеев с преобладанием в их деятельности рекреационной функции над остальными). Инсталляция не реконструирует реальные образы и объекты, а направлена на создание яркой ассоци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Музеи бывают разны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14" name="Объект 4" descr=""/>
          <p:cNvPicPr/>
          <p:nvPr/>
        </p:nvPicPr>
        <p:blipFill>
          <a:blip r:embed="rId1"/>
          <a:stretch/>
        </p:blipFill>
        <p:spPr>
          <a:xfrm>
            <a:off x="6037200" y="1265400"/>
            <a:ext cx="5811840" cy="3778200"/>
          </a:xfrm>
          <a:prstGeom prst="rect">
            <a:avLst/>
          </a:prstGeom>
          <a:ln w="0">
            <a:noFill/>
          </a:ln>
        </p:spPr>
      </p:pic>
      <p:pic>
        <p:nvPicPr>
          <p:cNvPr id="1115" name="Рисунок 5" descr=""/>
          <p:cNvPicPr/>
          <p:nvPr/>
        </p:nvPicPr>
        <p:blipFill>
          <a:blip r:embed="rId2"/>
          <a:stretch/>
        </p:blipFill>
        <p:spPr>
          <a:xfrm>
            <a:off x="646200" y="2905200"/>
            <a:ext cx="5292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Согласно Федеральному закону №54-ФЗ «О Музейном фонде Российской Федерации и музеях в Российской Федерации»: 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588760" y="2905200"/>
            <a:ext cx="891540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Музей — это некоммерческое учреждение культуры, обладающее коллекцией культурных ценностей, входящих в состав Музейного фонд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6494040" y="2133360"/>
            <a:ext cx="50101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социальна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научная, научно-исследовательска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культурно-просветительска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19" name="Рисунок 4" descr=""/>
          <p:cNvPicPr/>
          <p:nvPr/>
        </p:nvPicPr>
        <p:blipFill>
          <a:blip r:embed="rId1"/>
          <a:stretch/>
        </p:blipFill>
        <p:spPr>
          <a:xfrm>
            <a:off x="395280" y="0"/>
            <a:ext cx="561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составляющими понятия музей являются:</a:t>
            </a:r>
            <a:br>
              <a:rPr sz="3200"/>
            </a:b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брание предметов (идей и носителей), осмысленных в качестве ценностей собирателем, индивидуальным или коллективны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"Храм муз" – музей как пространство предъявления различных фрагментов реальности – место коллективного действа и собирания произвед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щение по поводу представленных ценностей, коллективное действо, в котором осуществляется выход за грани обыденности, в атмосферу иной реальности, праздника, смена ролей, воссоздания "иного"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Формы работы музея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588760" y="1384200"/>
            <a:ext cx="89154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Организованная экскурсиия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Индивидуальный» осмотр экспозиции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Лекция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нсультация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Научные чтения (конференции, сессии, заседания и т.п.); клуб (студия, кружок и т.п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нкурс (викторина, олимпиада и т.д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Вечер» встреч (работников, ветеранов и пр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онцерт (театрализованное представление, литературный, литературно-музыкальный вечер и пр.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Киносеанс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Музейный праздник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Семейные абонементы выходного дня,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Музейные игры, квесты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Мастер-класс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Образовательный урок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И т.д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лассификация музеев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592360" y="1371600"/>
            <a:ext cx="891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1. Исторические музеи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а) общеисторические (вся история человечества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б) национальной истории (история отдельных стран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) региональной истории (история отдельных регионов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г) истории отдельных периодов или исторических событий, феноменов (историко-революционные, истории декабризма, истории религии или атеизма и т.п.)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д) узкоспециализированные (археологические, этнографические, нумизматические, военно-исторические и т.д.)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2.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700" spc="-1" strike="noStrike">
                <a:solidFill>
                  <a:srgbClr val="404040"/>
                </a:solidFill>
                <a:latin typeface="Century Gothic"/>
              </a:rPr>
              <a:t>Музеи отдельных отраслей культуры 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(в узком смысле слова)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а) художествен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б) литератур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в) музыкаль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г) театральные музеи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д) музеи физкультуры и спорта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3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едагогические музе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4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Естественнонаучные музе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5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Промышленные музе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) музеи торговли, промышленности и ремесел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) музеи техники (музеи отдельных отраслей)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) музеи отдельных пред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6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Сельскохозяйственные музе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7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Комплексны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1T17:15:03Z</dcterms:created>
  <dc:creator>Елена Грибушкина</dc:creator>
  <dc:description/>
  <dc:language>en-US</dc:language>
  <cp:lastModifiedBy>Подсеваткины</cp:lastModifiedBy>
  <dcterms:modified xsi:type="dcterms:W3CDTF">2022-02-07T18:04:40Z</dcterms:modified>
  <cp:revision>31</cp:revision>
  <dc:subject/>
  <dc:title>Современное музееведение</dc:title>
</cp:coreProperties>
</file>