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A6B1-ECAD-4D1D-874F-C0EE7842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37BB-4B57-498C-B86B-F8245C8F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876C9-651A-44CC-98BD-F72248E2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4EDF7-C07E-49AC-94D2-D4095AE7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DFDF9-15B7-44FC-8398-6DE3096A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5722B-47C1-4C12-BB57-2F5E998D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28C4E-C545-4039-85A0-CF919E6D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632BA-A0BD-4329-9F59-EDD1AEEF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09220-328E-445B-8949-54EF7F80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C7C6F-D1FA-4C65-8A1D-A6D713A7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36A29-3B3D-413D-A4A9-4455F7F8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3E5F2-279A-45A8-9630-5FAAEF6D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9D16-B3F4-4F74-82AA-4F412B61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080C2-2CE6-466F-BCB0-763F1609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C4DC2-F327-43BD-B2B3-CA7E6120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6107A-2532-4485-9D82-925AA489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F00A3-ECAF-4D9A-8E38-1A32B764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1D9D5-8F90-4E18-8C5B-E5F4CEA5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05640-FAF4-4313-A97D-34475E46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67041-AC06-4E67-87B8-CAC43F83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93821-7649-4435-A0C5-909B3BA5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251BA-EC10-447B-BD32-5BE7687A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F5E51-92FA-4321-968D-FD513B9A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A877-E3D4-480C-BA10-7BCFF357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F9798-1EA7-4766-82B0-9F915170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707CB-2324-4E08-885E-542D28EB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9B704-91AB-43DD-87F0-5140FCAA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834BC-5DAB-4F03-B1D0-96572FDE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9D9B2-4A64-4129-9C00-34DE8E5D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74DA2-57EA-4867-8995-BBBD304B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D1D72-182D-4478-85BD-BDF1D980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28D5F-CA2C-47EE-B542-B4085359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5399E-C3BB-4823-9068-C126F368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CD3CF-A39B-4531-B454-C265A7A9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9995-B2C0-4A36-8D30-5E035103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52A6D-9712-4B26-95BC-995AC9A6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B5892-65FB-4905-9546-696CBDE1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4E39E-7B4F-45E9-9B7A-A392CA4C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CBAE8-BE28-44F2-9F93-AEBCE1FC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B5AD4-5237-4A79-8A89-7C644A9C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80F1E-1ADD-4383-88A3-B4C5CA68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8B6E5-CD51-45D3-8A9B-F5F9EF99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67270-28AE-4B91-9243-D10F5B45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BDAC2-7451-4E85-9E01-3F0C0726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BC4D0-D1F7-4A36-B107-DAD486C0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7DDB-4BEB-4043-985B-26E94AD2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5614C-7640-454A-B4CC-EEE53971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15711-C764-4137-966A-DCB266EC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03105-F2C2-4799-9101-E79A1409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8FEA9-6BAF-43C6-B517-7BC28F33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5DC18-EE93-4DF4-84A8-6D7E8422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968938-28DC-46E4-A533-C50794E1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026A44-E64B-4740-B292-760F5A90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DB39D8-AE01-442D-8774-5759D3C9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292965-BC81-44DD-9FB3-8EDCB80C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A247CF-174C-4596-9211-7984FA90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2358-18FC-420D-AC87-94621176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E08C23-971F-4C21-B6F8-5E6F7743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69A5CC-F4FF-4310-89B1-E579D7AC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B87BDD-FB56-449A-9B38-5351103B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376828-65CF-46DE-99CD-95B75FD2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D8322A-BBF2-412E-B612-7B122A21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825FB4-C760-4BFD-8664-F6FC25A3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6E8ACE-428B-4493-8489-0825838D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4F5A9A-7C3C-44BC-A812-AFC2D08B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A8970F-E61D-40C7-9CAB-A7F9742F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39DE8B-BA20-4D93-A1DC-65754EDF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5553-EA2B-4791-AB19-522714D0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CE6CB8-25DA-40F9-8129-2EDA1B60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676CA5-72CF-4CCE-9463-02DD166C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704B48-DDD1-4136-BB47-B933AB78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A7B6E3-E32E-4871-A9F4-9B4BAB6E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5D4F4F-7724-47AD-949A-633E107D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DE83C6-7CBE-4545-A6F1-FE7B69EB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FE8DF6-A593-4D45-A3DA-83C2B522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F7E807-4801-41FD-8D5B-A1CF7CDA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1DED6B-5220-44F4-B7C4-4D4819F2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9EDB25-2F68-4735-9225-69CBEF61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FC72-F155-4581-91D3-213EC075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639ECB-FAA8-4D53-82F2-4131C390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976A11-A61F-4B4E-9387-A8984CD0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C26252-689B-4C97-A59A-3FF68B16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2F33E6-6726-44EA-885A-F59E467E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FD6E5F-424B-4B45-8776-A73FFF32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A2C080-4E0F-4CA0-AB87-21C986A6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E4B841-16C7-493D-9D36-FEBE136E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2ECC25-0799-4F8B-95D2-4E698DD4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15BC53-5177-4FB8-ABFE-D8A842E0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235674-2FD2-4316-9E21-88E6A39B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86D5-78B2-4672-A948-E4874E2A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F765F8-41D0-4BCE-BA6A-E4EBF9C7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2742D4-5F7D-498F-B285-BF2AFCCA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86F4F1-9F62-47F0-8B2C-C53EFD81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7AD5A1-4207-4EF9-9894-CA2AAC10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719575-9644-4F31-BBFD-14D830AC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4DF011-4F18-4EC1-B30C-0F605337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619BB7-C341-4CF8-B4E9-6CD1D14B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C8C892-CA8B-415E-BE5D-0568C0FD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828C8B-B8CB-4221-88D7-AA8B036D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A1BED6-8294-426D-97F5-536F4517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5051-54A0-41D8-ACB5-0F933F31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757CB2-7A6A-4931-9602-B983CE12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015E87-A954-4B7A-8C44-9CBB7F78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FEEA18-930F-4265-8C8A-725C510E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8C08-88F0-4160-9E08-AE0A1360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920D-5243-41B9-9C3A-668A1DE5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E616-18ED-4377-AA33-40740B1E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5251-C41E-4F94-A87E-29EB94D7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3F74-6C6B-4B0D-8876-7EDCEAF8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2B4A-6C4F-4DCD-894E-6AC3DC70B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55D8B-35FE-474B-8A50-B56EF156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CE7F4-AED4-47AD-9D31-E91132AE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00AE5-A86A-4B99-BB01-BF18C881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2D2CA-EAA7-471F-A5E3-9534ACBD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B77C3-393E-4544-8FBA-EB698BBD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5A5C-84E9-4AC7-B11D-FDB7A36B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2BA85-84A6-4B85-9F00-37C6F87A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8C8A6-DF8E-40F7-8989-1A39D421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C2EAC-4147-405B-A01D-43720E3C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FFDCC-CAD5-4FAA-BBA1-F826F434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2FB66-3328-49D5-9CE4-14CF9F43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B0253-C5DA-41F3-91B8-4447794E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AB1CA-1FD8-4D13-AFF1-538AF2D4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B747F-FB1B-4C97-9B32-1183516E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027DF-A7D2-4440-A7F8-B5F18950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FCE3C-F5AC-46ED-85B1-EBE4FA90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B08A-09C1-408D-9CE2-548F5F70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2D092-5811-43EE-BBAB-6A6568F6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C7766-E3D4-47C4-A17D-0CC546DA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8D33C-CA24-49BC-9899-970CC19C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32793-35BC-4F57-8308-E3AA160A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BAC8A-0A61-45A1-A8FF-D9966C62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8FD9D-F345-4579-A1F8-A64DDDF6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92055-6B4D-40DA-93D8-3D1E1609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8BFBB-1CAB-4BBD-BF5C-B79E7161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6B4BA-2712-48B0-9106-1ED5D071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62372-6CD4-4E64-BEE4-1134403F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C6F6-E86B-49FF-8D81-59DF7CEE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6B70B-E784-49C8-BA51-BA41310F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19A23-8E50-425B-A72B-BFCE9AED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4CB72-B78E-4929-8DFE-059436CE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C4486-AAED-4CF3-945C-54493A44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85D91-9106-4F50-AF64-9971CA89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B5A50-078F-4C1E-9CE1-2222EF38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768EE-1048-423A-8BE2-4CAC13AE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618E3-5C28-4076-8D11-E4204B26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6F4BA-D4C9-4B57-8FBA-C2ED2A82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FBC9B-8592-4B99-8CF2-C71D8146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9320-C5E1-48E1-A2F7-DC25C9D1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3D6AE-4510-45C5-A1D8-CC740450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9C1D4-7CDC-42CF-A839-68F410A6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2459B-C066-4857-9A51-CC8FEEFF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0DD79-8410-4E52-9815-8F9AE9DC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A35B2-54F6-4531-9192-6A16D94B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1EB36-0287-4B5F-AC9C-5F3335D4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55F05-18D3-4C5C-9479-3296C76F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278CE-9526-4DB6-A0DA-7CA67B42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3805A-A9CE-4B5A-B1A4-A93677C0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66720-B0D5-4AFF-ABC9-8521A96C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A456-EA20-4A1B-872A-668B558D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8D688-F082-47B0-A3E0-5947A35B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BD7D4-8F28-43BA-A3FC-66AC23DC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4FDA5-1920-445E-B7B7-F325BE27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88952-1E0C-43D5-80CB-83EDD54D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122D2-C603-4145-A39B-A467B3DC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93AE5-6DA1-4AF7-8B95-E1C1CFF0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82CED-4E13-44D4-B655-5307E809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A63F8-F623-40C2-92FD-7D3C252D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7BBF9-4980-4E15-918E-3271EDE5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72950-3D70-4B6C-A26F-23D8D1D0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A7D5-1948-49B1-800A-8645B898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72402-487B-4F80-BD3C-A6D5EFDD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C407D-44C6-4598-84FF-42B4547C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6F3B0-9576-40F6-A1F0-BEE71DA6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66DD0-B0E0-4340-82F0-B358BE93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A1EB8-7A9C-478E-B7CD-5D23BB1D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14FF3-B6A1-482B-A1EB-10EBD560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48D92-3DF4-4509-A5D3-244396AB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B8134-AE17-42E5-9BC4-3B0349F6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A5B33-2646-4680-8BB4-8A309BA7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EE01B-5833-49C1-8578-5A92B82F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A4A2-FB15-455C-9EC8-E22A29F7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0D500-FE24-450F-9536-08B710AC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85451-9B33-478B-91B0-4A54A5D6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3D9D4-A040-4633-A751-78DBC052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361FA-CB69-4729-B538-DE57D213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21176-5C96-4BF3-BC67-23741F9C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CF8CB-C8C5-4499-B109-97A75320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3C5F5-C475-423E-A545-8CC29D5E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E4923-E436-4402-888C-A2CAC5E1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D4492-41FD-4066-B817-A1F52B75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3E6DA-5898-4E15-8244-BC1D9188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AE6763-0238-4AA2-A351-A0CA368F30E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F9DBA4-EEE1-4A19-9A6E-5147BA33018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TextBox 13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8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3517FE-9F0B-4C36-A197-C14E9C44CCC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6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4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5C5EEB-AF91-4041-BFDF-FB7F233D5F5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TextBox 1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8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FCDC39-26BF-45BD-9B9E-DF885B341B1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0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4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1A64E2-BFC4-493E-9E86-346339F8CD5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0ECED-447F-412F-8E2B-1DC2382A87D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6D406-1D29-446D-8AD5-94DFBD5823B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249131-82EB-46DF-B25E-E09DE0DA653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9DF0C0-95D1-4C07-9E1E-04059748AA4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0A3E9-E6C4-4935-A6B9-861DBCA7104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FD985C-BD82-44F1-A1D1-FC042E0CBD7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2AF712-D89F-4A65-86F8-69B545B483F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63C0D-A1CF-421C-BADB-C1C8EE32477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A568C-4E72-4073-850F-854E02D99D8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83E661-BE68-4C2F-855A-5CE7C7F67B6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4;&#1088;&#1077;&#1074;&#1085;&#1077;&#1075;&#1088;&#1077;&#1095;&#1077;&#1089;&#1082;&#1080;&#1081;_&#1103;&#1079;&#1099;&#1082;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2588760" y="2514600"/>
            <a:ext cx="891540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178dbb"/>
                </a:solidFill>
                <a:latin typeface="Century Gothic"/>
              </a:rPr>
              <a:t>Современное музееведение</a:t>
            </a:r>
            <a:endParaRPr b="0" lang="en-US" sz="54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2588760" y="4776480"/>
            <a:ext cx="8915400" cy="1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Размещение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1) старинное, связанное с какими-то историческими событиями здание, которое само по себе является ценным объектом, подлежит охран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дание может быть выстроено специально под музе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дание музея может представлять собой музеефицированный объект, где главная задача – сохранить не только здание, но интерьеры, т.е. целый комплекс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узейный квартал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ерриториальный комплекс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Эко-музе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Город музе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8dbb"/>
                </a:solidFill>
                <a:latin typeface="Century Gothic"/>
              </a:rPr>
              <a:t>Город-музей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Это исторический город (Историческое поселение), сохранивший историческую застройку и являющийся, как целостный организм, основным объектом показа. Г.-м. отличает высокая степень музеефикации и ориентация на культурный туризм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Список объектов всемирного наследия ЮНЕСКО включено ок. 70 городов-памятников, в т.ч. один российский – исторический центр С.-Петербург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Планировка помещений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40% – на экспозиции и временные выставки;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20% на фонды, лаборатории консервации и реставрации и др. помещения, связанные с хранением экспонатов;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20% на вспомогательные помещения для персонала («комнаты для оборудования и офисы»)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20% на рекреационную зону (холлы, залы, аудитории, кафе или рестораны и т.п.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Линейный проект музейного здания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pic>
        <p:nvPicPr>
          <p:cNvPr id="1135" name="Объект 3" descr=""/>
          <p:cNvPicPr/>
          <p:nvPr/>
        </p:nvPicPr>
        <p:blipFill>
          <a:blip r:embed="rId1"/>
          <a:stretch/>
        </p:blipFill>
        <p:spPr>
          <a:xfrm>
            <a:off x="1395360" y="3571920"/>
            <a:ext cx="5764320" cy="2627280"/>
          </a:xfrm>
          <a:prstGeom prst="rect">
            <a:avLst/>
          </a:prstGeom>
          <a:ln w="0">
            <a:noFill/>
          </a:ln>
        </p:spPr>
      </p:pic>
      <p:sp>
        <p:nvSpPr>
          <p:cNvPr id="1136" name="Прямоугольник 4"/>
          <p:cNvSpPr/>
          <p:nvPr/>
        </p:nvSpPr>
        <p:spPr>
          <a:xfrm>
            <a:off x="7351560" y="2138400"/>
            <a:ext cx="4481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ступные публике помещения идут вдоль фасада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епосредственно за ними – помещения без окон, где располагаются фондовые помещения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 задней, освещаемой окнами части здания располагаются рабочие и учебные помещени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Экспозиционная работа музеев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2588760" y="1452240"/>
            <a:ext cx="89154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«Экспозиция» (от лат. «expositio» – выставлять, выкладывать)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«Совокупность музейных предметов, подобранных по определенной системе для обозрения»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сновная форма музейной коммуникации, образовательные и воспитательные цели которой осуществляются путем демонстрации музейных предметов, организованных, объясненных и размещенных в соответствии с разработанной музеем научной концепцией и современными принципами архитектурно-художественных решени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Музейная экспозиция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– целенаправленная, научно-обоснованная демонстрация музейных предметов, связанных единством содержания, композиционно организованных, откомментированных, технически и художественно оформленных, в совокупности создающих специфический (музейный) образ природных, общественных или культурных явлений и процессов»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178dbb"/>
                </a:solidFill>
                <a:latin typeface="Century Gothic"/>
              </a:rPr>
              <a:t>экспозиционные комплексы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Экспозиции состоят из отдельных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экспозиционных комплексов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– тематически связанных, пространственно и художественно организованных групп музейных предметов, научно-вспомогательного материала, текстов и экспозиционного музейного оборудования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ыделяют несколько типов экспозиционных комплексов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тематические (есть мнение, что только тематические комплексы следует относить к экспозиционным, т.е. это понятия-синонимы);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жизненные (естественные) – биогруппы, панорамы и диорамы, типовые – мемориальные, коллекционные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Иногда к экспозиционным комплексам относят весь демонстрационный зал, созданный по единому проекту и имеющий свой неповторимый стиль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Жизненный цикл экспозиции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1) проектирование экспозици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Century Gothic"/>
              </a:rPr>
              <a:t>научное проектирование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 – разработка основной идеи и конкретного содержания;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Century Gothic"/>
              </a:rPr>
              <a:t>художественное проектирование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 – разработка архитектурно-художественных принципов и решений;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Century Gothic"/>
              </a:rPr>
              <a:t>техническое и рабочее проектирование;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2) монтаж экспозиции;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3) демонтаж экспозиции;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4) реэкспозицию (обновление старой экспозиции без полного демонтажа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178dbb"/>
                </a:solidFill>
                <a:latin typeface="Century Gothic"/>
              </a:rPr>
              <a:t>Систематический метод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В результате его применения появляются </a:t>
            </a:r>
            <a:r>
              <a:rPr b="0" i="1" lang="ru-RU" sz="1700" spc="-1" strike="noStrike">
                <a:solidFill>
                  <a:srgbClr val="404040"/>
                </a:solidFill>
                <a:latin typeface="Century Gothic"/>
              </a:rPr>
              <a:t>систематические экспозиции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, т.е. экспозиции, построенные в соответствии с классификацией, принятой в определенной профильной дисциплине, отрасли культуры или отрасли общественного производства.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Основная структура систематической экспозиции – типологический (систематический) ряд музейных предметов, отражающий эволюцию тех или иных процессов природы, человеческого общества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Часто такой метод экспозиции применяется в естественнонаучных музеях, например в зоологических, биологических, минералогических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В России первым художественным собранием, использовавшим систематический метод построения экспозиции, был Эрмитаж: после проведенной в 1793 г. Мартинелли и Георги ревизии собрания развеска приобрела систематический характер – по странам и школам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178dbb"/>
                </a:solidFill>
                <a:latin typeface="Century Gothic"/>
              </a:rPr>
              <a:t>Ландшафтный метод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результате которого появляется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ландшафтная экспозиция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, чаще применяется в естественнонаучных музеях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дача такой экспозиции воспроизвести сочетаемость, взаимосвязь и взаимозависимость каких-то компонентов явления или процесс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анный метод часто применяется в музеях естественнонаучного профиля. Впервые этот метод был применен при показе естественнонаучных коллекций на Всемирной выставке в Лондоне в 1851 г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Характерная черта ландшафтной экспозиции – использование </a:t>
            </a: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диорам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или </a:t>
            </a: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панорам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, содержание которых раскрывается и дополняется музейными предметами, ландшафтными картами, профилями и т.п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178dbb"/>
                </a:solidFill>
                <a:latin typeface="Century Gothic"/>
              </a:rPr>
              <a:t>Тематический метод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формирован на основе ансамблевого метода в практике советского музееведения 2-й половины 1920-х гг. для историко-революционных музеев. Позже он получил распространение и в других профильных группах и подгруппах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дача метода – раскрыть посредством музейных предметов определенный сюжет, создать в сознании посетителя музейный образ отображаемых явлений или процессов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ематическая экспозиция строится как система взаимосвязанных разделов, тем, подтем, содержание которых связано и обосновано общей концепцией. В центре такой экспозиции должен быть предмет, обладающий наивысшей коммуникативностью, репрезентативностью, экспрессивностью и т.д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Что такое музей?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1627200" y="1161720"/>
            <a:ext cx="58896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Музей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от греч. μουσεῖον — Дом Муз – "философская школа с книгохранилищем»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Музы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( </a:t>
            </a:r>
            <a:r>
              <a:rPr b="0" lang="ru-RU" sz="1800" spc="-1" strike="noStrike" u="sng">
                <a:solidFill>
                  <a:srgbClr val="2da0f1"/>
                </a:solidFill>
                <a:uFillTx/>
                <a:latin typeface="Century Gothic"/>
                <a:hlinkClick r:id="rId1"/>
              </a:rPr>
              <a:t>др.-греч.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μοῦσαι — «мыслящие») покровительницы искусств и наук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11" name="Рисунок 3" descr=""/>
          <p:cNvPicPr/>
          <p:nvPr/>
        </p:nvPicPr>
        <p:blipFill>
          <a:blip r:embed="rId2"/>
          <a:stretch/>
        </p:blipFill>
        <p:spPr>
          <a:xfrm>
            <a:off x="7516800" y="336600"/>
            <a:ext cx="4189320" cy="2266920"/>
          </a:xfrm>
          <a:prstGeom prst="rect">
            <a:avLst/>
          </a:prstGeom>
          <a:ln w="0">
            <a:noFill/>
          </a:ln>
        </p:spPr>
      </p:pic>
      <p:sp>
        <p:nvSpPr>
          <p:cNvPr id="1112" name="Прямоугольник 5"/>
          <p:cNvSpPr/>
          <p:nvPr/>
        </p:nvSpPr>
        <p:spPr>
          <a:xfrm>
            <a:off x="1627200" y="2782800"/>
            <a:ext cx="10078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Музей – это концентрированное выражение культуры прошлого и настоящего, через которое человек осуществляет свою адаптацию к изменяющимся условиям окружающей его действительности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Музей позволяет человеку путем собственных душевных усилий, преодоления собственных и внешних стереотипов, внутренних барьеров сформировать целостное восприятие прошлого и настоящего времени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178dbb"/>
                </a:solidFill>
                <a:latin typeface="Century Gothic"/>
              </a:rPr>
              <a:t>Инсталляция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(от англ. installation – установка) – пространственная композиция, созданная художником из различных элементов: бытовых предметов, промышленных изделий и материалов, природных объектов, текстов, визуальной информации. Основоположниками инсталляции были дадаист М. Дюшан и сюрреалисты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Эстетическое содержание инсталляции заключается в игре смысловых значений, которые изменяются в зависимости от того, где находится предмет: в привычном бытовом окружении или в выставочном зале. Инсталляция как метод оформления экспозиции широко применяется в музеях, стремящихся уйти от образа просветителя и в большей степени направленных на развлечение посетителя (говоря иначе, музеев с преобладанием в их деятельности рекреационной функции над остальными). Инсталляция не реконструирует реальные образы и объекты, а направлена на создание яркой ассоциаци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Музеи бывают разные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pic>
        <p:nvPicPr>
          <p:cNvPr id="1114" name="Объект 4" descr=""/>
          <p:cNvPicPr/>
          <p:nvPr/>
        </p:nvPicPr>
        <p:blipFill>
          <a:blip r:embed="rId1"/>
          <a:stretch/>
        </p:blipFill>
        <p:spPr>
          <a:xfrm>
            <a:off x="6037200" y="1265400"/>
            <a:ext cx="5811840" cy="3778200"/>
          </a:xfrm>
          <a:prstGeom prst="rect">
            <a:avLst/>
          </a:prstGeom>
          <a:ln w="0">
            <a:noFill/>
          </a:ln>
        </p:spPr>
      </p:pic>
      <p:pic>
        <p:nvPicPr>
          <p:cNvPr id="1115" name="Рисунок 5" descr=""/>
          <p:cNvPicPr/>
          <p:nvPr/>
        </p:nvPicPr>
        <p:blipFill>
          <a:blip r:embed="rId2"/>
          <a:stretch/>
        </p:blipFill>
        <p:spPr>
          <a:xfrm>
            <a:off x="646200" y="2905200"/>
            <a:ext cx="529272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178dbb"/>
                </a:solidFill>
                <a:latin typeface="Century Gothic"/>
              </a:rPr>
              <a:t>Согласно Федеральному закону №54-ФЗ «О Музейном фонде Российской Федерации и музеях в Российской Федерации»: </a:t>
            </a:r>
            <a:endParaRPr b="0" lang="en-US" sz="32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2588760" y="2905200"/>
            <a:ext cx="8915400" cy="30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Музей — это некоммерческое учреждение культуры, обладающее коллекцией культурных ценностей, входящих в состав Музейного фонда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 txBox="1"/>
          <p:nvPr/>
        </p:nvSpPr>
        <p:spPr>
          <a:xfrm>
            <a:off x="6494040" y="2133360"/>
            <a:ext cx="501012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социальная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научная, научно-исследовательская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культурно-просветительская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19" name="Рисунок 4" descr=""/>
          <p:cNvPicPr/>
          <p:nvPr/>
        </p:nvPicPr>
        <p:blipFill>
          <a:blip r:embed="rId1"/>
          <a:stretch/>
        </p:blipFill>
        <p:spPr>
          <a:xfrm>
            <a:off x="395280" y="0"/>
            <a:ext cx="561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178dbb"/>
                </a:solidFill>
                <a:latin typeface="Century Gothic"/>
              </a:rPr>
              <a:t>составляющими понятия музей являются:</a:t>
            </a:r>
            <a:br>
              <a:rPr sz="3200"/>
            </a:br>
            <a:endParaRPr b="0" lang="en-US" sz="32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обрание предметов (идей и носителей), осмысленных в качестве ценностей собирателем, индивидуальным или коллективным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"Храм муз" – музей как пространство предъявления различных фрагментов реальности – место коллективного действа и собирания произведени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щение по поводу представленных ценностей, коллективное действо, в котором осуществляется выход за грани обыденности, в атмосферу иной реальности, праздника, смена ролей, воссоздания "иного"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Формы работы музея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2588760" y="1384200"/>
            <a:ext cx="891540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Организованная экскурсиия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«Индивидуальный» осмотр экспозиции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Лекция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Консультация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Научные чтения (конференции, сессии, заседания и т.п.); клуб (студия, кружок и т.п.)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Конкурс (викторина, олимпиада и т.д.)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«Вечер» встреч (работников, ветеранов и пр.)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Концерт (театрализованное представление, литературный, литературно-музыкальный вечер и пр.)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Киносеанс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Музейный праздник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Семейные абонементы выходного дня,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Музейные игры, квесты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Мастер-класс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Образовательный урок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И т.д.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Классификация музеев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2592360" y="1371600"/>
            <a:ext cx="8912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>
                <a:solidFill>
                  <a:srgbClr val="404040"/>
                </a:solidFill>
                <a:latin typeface="Century Gothic"/>
              </a:rPr>
              <a:t>1. Исторические музеи: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а) общеисторические (вся история человечества)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б) национальной истории (история отдельных стран)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в) региональной истории (история отдельных регионов)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г) истории отдельных периодов или исторических событий, феноменов (историко-революционные, истории декабризма, истории религии или атеизма и т.п.)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д) узкоспециализированные (археологические, этнографические, нумизматические, военно-исторические и т.д.)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>
                <a:solidFill>
                  <a:srgbClr val="404040"/>
                </a:solidFill>
                <a:latin typeface="Century Gothic"/>
              </a:rPr>
              <a:t>2.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     </a:t>
            </a:r>
            <a:r>
              <a:rPr b="0" i="1" lang="ru-RU" sz="1700" spc="-1" strike="noStrike">
                <a:solidFill>
                  <a:srgbClr val="404040"/>
                </a:solidFill>
                <a:latin typeface="Century Gothic"/>
              </a:rPr>
              <a:t>Музеи отдельных отраслей культуры 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(в узком смысле слова):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а) художественные музеи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б) литературные музеи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в) музыкальные музеи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г) театральные музеи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д) музеи физкультуры и спорта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3.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   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Педагогические музе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4.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   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Естественнонаучные музе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5.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   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Промышленные музеи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а) музеи торговли, промышленности и ремесел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б) музеи техники (музеи отдельных отраслей)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) музеи отдельных предприяти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6.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   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Сельскохозяйственные музе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7.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   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Комплексны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1T17:15:03Z</dcterms:created>
  <dc:creator>Елена Грибушкина</dc:creator>
  <dc:description/>
  <dc:language>en-US</dc:language>
  <cp:lastModifiedBy>Подсеваткины</cp:lastModifiedBy>
  <dcterms:modified xsi:type="dcterms:W3CDTF">2022-02-07T18:04:40Z</dcterms:modified>
  <cp:revision>31</cp:revision>
  <dc:subject/>
  <dc:title>Современное музееведение</dc:title>
</cp:coreProperties>
</file>