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A86D-A797-4462-BF7A-172F576F6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4322-F4C4-4B3B-BE35-526C62AB8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03B-9E7B-4CB3-A340-42F9B162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8F5-35AF-4371-B701-FD28EE3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553-2C52-49D3-85AE-93827A25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1F8-9818-471D-B6A6-DEBA28F8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47F-7640-4A93-A742-AD92E052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BE5-8769-4192-A5BD-996911C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F38-60DC-4172-8F38-9C30E2D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A11-82D3-4EFC-9DB9-80210D51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E1A-C607-4874-BB5C-8D1B0B1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AFE-66F2-4830-BF11-E1A944E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B5F-13BD-4F1E-A6A4-C8B4F83D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B80-554C-4D54-9F23-1555E18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57D6-07EE-45AE-A74B-BF56B6A28B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15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 Виды налогов. Налоговая система.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BB55-862B-49D8-BBA8-B00E9A2784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ib_52059_3016690"/>
          <p:cNvPicPr/>
          <p:nvPr/>
        </p:nvPicPr>
        <p:blipFill>
          <a:blip r:embed="rId1"/>
          <a:stretch/>
        </p:blipFill>
        <p:spPr>
          <a:xfrm>
            <a:off x="853920" y="1779480"/>
            <a:ext cx="5515200" cy="4137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6948360" y="3848040"/>
            <a:ext cx="1847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и экономики Бачихина Е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Симфер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2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14D-E449-4BD7-BF54-177B27B257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ессив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вный налог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 rot="10800000">
            <a:off x="457200" y="63579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D01-56AB-4D37-8E80-C93AFBBC468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5"/>
          <p:cNvCxnSpPr/>
          <p:nvPr/>
        </p:nvCxnSpPr>
        <p:spPr>
          <a:xfrm flipV="1">
            <a:off x="1071720" y="1499760"/>
            <a:ext cx="2160" cy="486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13"/>
          <p:cNvCxnSpPr/>
          <p:nvPr/>
        </p:nvCxnSpPr>
        <p:spPr>
          <a:xfrm>
            <a:off x="1071360" y="6357960"/>
            <a:ext cx="54298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Прямая соединительная линия 16"/>
          <p:cNvSpPr/>
          <p:nvPr/>
        </p:nvSpPr>
        <p:spPr>
          <a:xfrm>
            <a:off x="1071720" y="3143160"/>
            <a:ext cx="542916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277960" y="56437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366920" y="18572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8BA-3EA9-4781-B3D6-462413F325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рессив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налогообложе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целесообразнос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праведлив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интересов государства, регионов, предприятий и гражд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C9E-7938-4C2F-8445-56147BB1BF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350B-252E-487E-AB1F-550A4063A0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393040" cy="6280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AE6-6F3F-431A-868C-3D324A0EF6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57120" y="214200"/>
            <a:ext cx="8786880" cy="69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экспорт и им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прибыль (для предприят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(для физических л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6145200" y="927000"/>
            <a:ext cx="2998800" cy="300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 налоги</a:t>
            </a:r>
            <a:br>
              <a:rPr sz="4200"/>
            </a:br>
            <a:br>
              <a:rPr sz="4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с рекламы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ы за парковку автотрансп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D9F-A94C-4E2B-AEB8-F63ADA9B3E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я Лаффер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29D5-CF3F-44E6-ADA0-F20CE4A9C6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6"/>
          <p:cNvCxnSpPr/>
          <p:nvPr/>
        </p:nvCxnSpPr>
        <p:spPr>
          <a:xfrm flipV="1">
            <a:off x="1425960" y="2034360"/>
            <a:ext cx="2520" cy="3931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7"/>
          <p:cNvCxnSpPr/>
          <p:nvPr/>
        </p:nvCxnSpPr>
        <p:spPr>
          <a:xfrm>
            <a:off x="1428840" y="5963760"/>
            <a:ext cx="621576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Блок-схема: узел 11"/>
          <p:cNvSpPr/>
          <p:nvPr/>
        </p:nvSpPr>
        <p:spPr>
          <a:xfrm>
            <a:off x="1428840" y="5929200"/>
            <a:ext cx="71280" cy="716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 13"/>
          <p:cNvSpPr/>
          <p:nvPr/>
        </p:nvSpPr>
        <p:spPr>
          <a:xfrm>
            <a:off x="1449360" y="3214800"/>
            <a:ext cx="5837400" cy="2813040"/>
          </a:xfrm>
          <a:custGeom>
            <a:avLst/>
            <a:gdLst/>
            <a:ahLst/>
            <a:rect l="l" t="t" r="r" b="b"/>
            <a:pathLst>
              <a:path w="5133703" h="2812869">
                <a:moveTo>
                  <a:pt x="0" y="2708366"/>
                </a:moveTo>
                <a:cubicBezTo>
                  <a:pt x="917666" y="1354183"/>
                  <a:pt x="1835332" y="0"/>
                  <a:pt x="2690949" y="17417"/>
                </a:cubicBezTo>
                <a:cubicBezTo>
                  <a:pt x="3546566" y="34834"/>
                  <a:pt x="5133703" y="2812869"/>
                  <a:pt x="5133703" y="2812869"/>
                </a:cubicBezTo>
                <a:lnTo>
                  <a:pt x="5133703" y="281286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узел 14"/>
          <p:cNvSpPr/>
          <p:nvPr/>
        </p:nvSpPr>
        <p:spPr>
          <a:xfrm>
            <a:off x="4429080" y="3178080"/>
            <a:ext cx="71640" cy="716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3863880" y="2643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724800" y="4857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7150680" y="6143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1145880" y="600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4149000" y="6143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89480" y="1928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1587960" y="185724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язательные платежи фирнам и населения, взимаемые государственными органами власти на основе государствен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428616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696-C9E4-46E5-A385-10AEBE9799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5"/>
          <p:cNvCxnSpPr>
            <a:stCxn id="54" idx="3"/>
            <a:endCxn id="54" idx="3"/>
          </p:cNvCxnSpPr>
          <p:nvPr/>
        </p:nvCxnSpPr>
        <p:spPr>
          <a:xfrm>
            <a:off x="8686800" y="520812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7" name="Picture 7" descr="%D0%9D%D0%B0%D0%BB%D0%BE%D0%B3%D0%BE%D0%B2%D1%8B%D0%B9-%D0%BA%D0%BE%D0%B4%D0%B5%D0%BA%D1%81-%D0%BA%D0%BD%D0%B8%D0%B3%D0%B0"/>
          <p:cNvPicPr/>
          <p:nvPr/>
        </p:nvPicPr>
        <p:blipFill>
          <a:blip r:embed="rId1"/>
          <a:stretch/>
        </p:blipFill>
        <p:spPr>
          <a:xfrm>
            <a:off x="2143080" y="2428920"/>
            <a:ext cx="4645080" cy="4429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нал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скаль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пределяющ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932-419E-48FF-B8AA-FB84FE2D4F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3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налог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налога(налогоплательщик)- лицо, которое по закону обязано платить нало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лога(налоговая база)- доход, продукция или имущество, с которого начисляется нало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- величина налоговых начислений на единицу объек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7715160" y="54291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CF9-D0D8-40DD-9637-6E500F443E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лого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02A-4F6C-47C7-937D-D40E6D073B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7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089920" cy="4071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390600" y="1603440"/>
            <a:ext cx="8308800" cy="452268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1EF-EEB6-4F4F-8939-9CF9DB107B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по способу установления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ок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ьный(ставка налогообложения неизмен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E2A9-3E32-40E9-8584-7ECCE9EECB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5"/>
          <p:cNvCxnSpPr/>
          <p:nvPr/>
        </p:nvCxnSpPr>
        <p:spPr>
          <a:xfrm flipV="1">
            <a:off x="641880" y="2642400"/>
            <a:ext cx="1080" cy="4001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642960" y="6643800"/>
            <a:ext cx="4644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Прямая соединительная линия 13"/>
          <p:cNvSpPr/>
          <p:nvPr/>
        </p:nvSpPr>
        <p:spPr>
          <a:xfrm>
            <a:off x="642960" y="5072040"/>
            <a:ext cx="457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795600" y="292896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4063320" y="600084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6EE-45FB-4B75-A696-169B600715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371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орциональный налог</a:t>
                      </a:r>
                      <a:endParaRPr b="0" lang="en-US" sz="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12240">
                      <a:solidFill>
                        <a:srgbClr val="8064a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ставка (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алога (д. е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1224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ый налог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 rot="10800000">
            <a:off x="457200" y="63572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AC2-0849-4917-9EFF-AD45E00B9B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5"/>
          <p:cNvCxnSpPr/>
          <p:nvPr/>
        </p:nvCxnSpPr>
        <p:spPr>
          <a:xfrm flipH="1" flipV="1">
            <a:off x="1285560" y="1856520"/>
            <a:ext cx="72000" cy="471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13"/>
          <p:cNvCxnSpPr/>
          <p:nvPr/>
        </p:nvCxnSpPr>
        <p:spPr>
          <a:xfrm>
            <a:off x="1357200" y="6571800"/>
            <a:ext cx="51444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ая соединительная линия 15"/>
          <p:cNvSpPr/>
          <p:nvPr/>
        </p:nvSpPr>
        <p:spPr>
          <a:xfrm flipV="1">
            <a:off x="1357200" y="3429000"/>
            <a:ext cx="4572000" cy="20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77960" y="57862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581480" y="19288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PC-11</cp:lastModifiedBy>
  <dcterms:modified xsi:type="dcterms:W3CDTF">2022-02-07T08:28:47Z</dcterms:modified>
  <cp:revision>213</cp:revision>
  <dc:subject/>
  <dc:title>Статистика населения</dc:title>
</cp:coreProperties>
</file>