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B54-6755-4BBA-93B4-AE8160ABF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368-D287-4C1F-902E-E30AFDDA3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8D0-8B1F-40B1-B1D6-75C00008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9C8-1FC0-4FAC-884C-BF62DFE1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453-B20B-42F1-8126-068105E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7A7-09C5-444F-A1AA-B760087F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1B4-22D4-4BD0-91D3-6D3FFD21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250-8F42-4DEC-A495-ACFFB29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0DD-F9C4-4BCD-913F-48014BB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952-80E5-4D1B-8B42-34FA4A0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F4B-0C36-4FFE-9D08-95EA44F3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D2F-6638-4E62-8BC2-B078387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467-FF1D-4AB2-B7A5-5C99F5A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CA6-CD73-43AC-8D1D-9FFB0C0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F64-AF05-413F-89DD-3CC3D8E1A0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15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 Виды налогов. Налоговая система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0740-F013-4C41-AF73-C596A2C75C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ib_52059_3016690"/>
          <p:cNvPicPr/>
          <p:nvPr/>
        </p:nvPicPr>
        <p:blipFill>
          <a:blip r:embed="rId1"/>
          <a:stretch/>
        </p:blipFill>
        <p:spPr>
          <a:xfrm>
            <a:off x="853920" y="1779480"/>
            <a:ext cx="5515200" cy="4137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6948360" y="3848040"/>
            <a:ext cx="1847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и экономики Бачихина Е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Симфер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2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590-B022-4419-B5F8-EF86F7823E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ессив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вный налог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 rot="10800000">
            <a:off x="457200" y="63579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3A4E-947B-4CE0-A067-9A1519191D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5"/>
          <p:cNvCxnSpPr/>
          <p:nvPr/>
        </p:nvCxnSpPr>
        <p:spPr>
          <a:xfrm flipV="1">
            <a:off x="1071720" y="1499760"/>
            <a:ext cx="2160" cy="486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13"/>
          <p:cNvCxnSpPr/>
          <p:nvPr/>
        </p:nvCxnSpPr>
        <p:spPr>
          <a:xfrm>
            <a:off x="1071360" y="6357960"/>
            <a:ext cx="54298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Прямая соединительная линия 16"/>
          <p:cNvSpPr/>
          <p:nvPr/>
        </p:nvSpPr>
        <p:spPr>
          <a:xfrm>
            <a:off x="1071720" y="3143160"/>
            <a:ext cx="542916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277960" y="56437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366920" y="18572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0AB-CA8B-41CF-972C-7E231377A4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рессив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налогообложе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целесообразнос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праведлив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интересов государства, регионов, предприятий и гражд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C93-A7F7-4757-BCF3-E52F1C55A0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CFC-F492-4656-8E56-E8B5E7A576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393040" cy="6280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B85F-8F36-4DC6-B898-16566B6C50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57120" y="214200"/>
            <a:ext cx="8786880" cy="69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экспорт и им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прибыль (для предприят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(для физических л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6145200" y="927000"/>
            <a:ext cx="2998800" cy="300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 налоги</a:t>
            </a:r>
            <a:br>
              <a:rPr sz="4200"/>
            </a:br>
            <a:br>
              <a:rPr sz="4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с рекламы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ы за парковку автотрансп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E36-4FB2-4A8D-8DF1-7CA1C3AFE0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я Лаффер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DB18-F148-42D7-8F3A-5A8CD8F8B1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6"/>
          <p:cNvCxnSpPr/>
          <p:nvPr/>
        </p:nvCxnSpPr>
        <p:spPr>
          <a:xfrm flipV="1">
            <a:off x="1425960" y="2034360"/>
            <a:ext cx="2520" cy="3931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7"/>
          <p:cNvCxnSpPr/>
          <p:nvPr/>
        </p:nvCxnSpPr>
        <p:spPr>
          <a:xfrm>
            <a:off x="1428840" y="5963760"/>
            <a:ext cx="621576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Блок-схема: узел 11"/>
          <p:cNvSpPr/>
          <p:nvPr/>
        </p:nvSpPr>
        <p:spPr>
          <a:xfrm>
            <a:off x="1428840" y="5929200"/>
            <a:ext cx="71280" cy="716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 13"/>
          <p:cNvSpPr/>
          <p:nvPr/>
        </p:nvSpPr>
        <p:spPr>
          <a:xfrm>
            <a:off x="1449360" y="3214800"/>
            <a:ext cx="5837400" cy="2813040"/>
          </a:xfrm>
          <a:custGeom>
            <a:avLst/>
            <a:gdLst/>
            <a:ahLst/>
            <a:rect l="l" t="t" r="r" b="b"/>
            <a:pathLst>
              <a:path w="5133703" h="2812869">
                <a:moveTo>
                  <a:pt x="0" y="2708366"/>
                </a:moveTo>
                <a:cubicBezTo>
                  <a:pt x="917666" y="1354183"/>
                  <a:pt x="1835332" y="0"/>
                  <a:pt x="2690949" y="17417"/>
                </a:cubicBezTo>
                <a:cubicBezTo>
                  <a:pt x="3546566" y="34834"/>
                  <a:pt x="5133703" y="2812869"/>
                  <a:pt x="5133703" y="2812869"/>
                </a:cubicBezTo>
                <a:lnTo>
                  <a:pt x="5133703" y="281286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узел 14"/>
          <p:cNvSpPr/>
          <p:nvPr/>
        </p:nvSpPr>
        <p:spPr>
          <a:xfrm>
            <a:off x="4429080" y="3178080"/>
            <a:ext cx="71640" cy="716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3863880" y="2643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724800" y="4857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7150680" y="614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1145880" y="600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4149000" y="6143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89480" y="1928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1587960" y="185724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язательные платежи фирнам и населения, взимаемые государственными органами власти на основе государствен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42861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089-EEC3-4949-BF59-1B9502A1E5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5"/>
          <p:cNvCxnSpPr>
            <a:stCxn id="54" idx="3"/>
            <a:endCxn id="54" idx="3"/>
          </p:cNvCxnSpPr>
          <p:nvPr/>
        </p:nvCxnSpPr>
        <p:spPr>
          <a:xfrm>
            <a:off x="8686800" y="520812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7" name="Picture 7" descr="%D0%9D%D0%B0%D0%BB%D0%BE%D0%B3%D0%BE%D0%B2%D1%8B%D0%B9-%D0%BA%D0%BE%D0%B4%D0%B5%D0%BA%D1%81-%D0%BA%D0%BD%D0%B8%D0%B3%D0%B0"/>
          <p:cNvPicPr/>
          <p:nvPr/>
        </p:nvPicPr>
        <p:blipFill>
          <a:blip r:embed="rId1"/>
          <a:stretch/>
        </p:blipFill>
        <p:spPr>
          <a:xfrm>
            <a:off x="2143080" y="2428920"/>
            <a:ext cx="4645080" cy="4429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нал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скаль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пределяющ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51A-0B0F-4D77-A1A0-58A72F3D68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3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налог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налога(налогоплательщик)- лицо, которое по закону обязано платить нало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лога(налоговая база)- доход, продукция или имущество, с которого начисляется нало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- величина налоговых начислений на единицу объек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7715160" y="54291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819A-B027-4CB2-AAF4-99E235A090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лого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5F7-74F9-42E1-B380-E7BC50EE78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7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089920" cy="4071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390600" y="1603440"/>
            <a:ext cx="8308800" cy="452268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6D78-B12A-4D59-A2C5-F536E47E88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по способу установления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ок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ьный(ставка налогообложения неизмен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7BE-EA8F-45FB-9214-F3CDB806A0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5"/>
          <p:cNvCxnSpPr/>
          <p:nvPr/>
        </p:nvCxnSpPr>
        <p:spPr>
          <a:xfrm flipV="1">
            <a:off x="641880" y="2642400"/>
            <a:ext cx="1080" cy="400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642960" y="6643800"/>
            <a:ext cx="4644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Прямая соединительная линия 13"/>
          <p:cNvSpPr/>
          <p:nvPr/>
        </p:nvSpPr>
        <p:spPr>
          <a:xfrm>
            <a:off x="642960" y="5072040"/>
            <a:ext cx="457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795600" y="29289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063320" y="60008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E6E-D12E-4117-B634-B653C8E631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орциональ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ый налог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 rot="10800000">
            <a:off x="457200" y="63572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516-893B-4FC6-8605-799CFABF1E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5"/>
          <p:cNvCxnSpPr/>
          <p:nvPr/>
        </p:nvCxnSpPr>
        <p:spPr>
          <a:xfrm flipH="1" flipV="1">
            <a:off x="1285560" y="1856520"/>
            <a:ext cx="72000" cy="471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13"/>
          <p:cNvCxnSpPr/>
          <p:nvPr/>
        </p:nvCxnSpPr>
        <p:spPr>
          <a:xfrm>
            <a:off x="1357200" y="6571800"/>
            <a:ext cx="51444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ая соединительная линия 15"/>
          <p:cNvSpPr/>
          <p:nvPr/>
        </p:nvSpPr>
        <p:spPr>
          <a:xfrm flipV="1">
            <a:off x="1357200" y="3429000"/>
            <a:ext cx="4572000" cy="20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77960" y="57862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581480" y="19288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PC-11</cp:lastModifiedBy>
  <dcterms:modified xsi:type="dcterms:W3CDTF">2022-02-07T08:28:47Z</dcterms:modified>
  <cp:revision>213</cp:revision>
  <dc:subject/>
  <dc:title>Статистика населения</dc:title>
</cp:coreProperties>
</file>