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6.jpeg" ContentType="image/jpeg"/>
  <Override PartName="/ppt/media/image32.jpeg" ContentType="image/jpeg"/>
  <Override PartName="/ppt/media/image36.png" ContentType="image/png"/>
  <Override PartName="/ppt/media/image45.jpeg" ContentType="image/jpeg"/>
  <Override PartName="/ppt/media/image42.png" ContentType="image/png"/>
  <Override PartName="/ppt/media/image46.jpeg" ContentType="image/jpeg"/>
  <Override PartName="/ppt/media/image51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44.png" ContentType="image/png"/>
  <Override PartName="/ppt/media/image40.jpeg" ContentType="image/jpeg"/>
  <Override PartName="/ppt/media/image57.jpeg" ContentType="image/jpeg"/>
  <Override PartName="/ppt/media/image37.jpeg" ContentType="image/jpeg"/>
  <Override PartName="/ppt/media/image30.png" ContentType="image/png"/>
  <Override PartName="/ppt/media/image8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E85-F70D-44AA-B87A-2665BE525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807-6315-40EB-9618-08BD654802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CA7-1142-4350-AC29-BD080C06A1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C38-AEA2-4370-8D7C-913C3069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C2E-6E21-4D12-9409-ED9634F9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D22-3BF0-4708-9C21-4B0B1D5F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4C3-43DF-418C-9218-4E66C325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8FC-0733-4E19-BA2C-00729EB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646-2822-4F97-8BA8-12D0FE8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6D1-839C-4AE6-AA22-1B1C3A9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7F2-AF55-490C-B97F-7877AAE3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44C-C4B1-4C06-B316-BE95E7A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F96-9D56-4F9A-A096-1884857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A18-4C7B-4A23-BBE7-5895D18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5FC-A0C9-4367-81F6-01920C8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0069-706C-42CC-8C9C-0B72094A66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esenka_pro_detskij_sad_-_Din_din_detskij_sad.mp3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0" name="shalunishki" descr=""/>
          <p:cNvPicPr/>
          <p:nvPr/>
        </p:nvPicPr>
        <p:blipFill>
          <a:blip r:embed="rId3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457200" y="228600"/>
            <a:ext cx="8153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Уголок ПДД, ПБ, дидактических игр, констру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Как дорогу перейти и как на пожаре себя 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Запомним мы с тобой, играя, все правила изуч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6305400" y="4017960"/>
            <a:ext cx="2838600" cy="284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Алексей\Desktop\ририорри\DSC05435.JPG"/>
          <p:cNvPicPr/>
          <p:nvPr/>
        </p:nvPicPr>
        <p:blipFill>
          <a:blip r:embed="rId3"/>
          <a:stretch/>
        </p:blipFill>
        <p:spPr>
          <a:xfrm>
            <a:off x="304920" y="2057400"/>
            <a:ext cx="613548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182448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033880" y="247320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еатральны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2"/>
          <a:stretch/>
        </p:blipFill>
        <p:spPr>
          <a:xfrm>
            <a:off x="5834160" y="360828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Алексей\Desktop\ририорри\DSC05420.JPG"/>
          <p:cNvPicPr/>
          <p:nvPr/>
        </p:nvPicPr>
        <p:blipFill>
          <a:blip r:embed="rId3"/>
          <a:stretch/>
        </p:blipFill>
        <p:spPr>
          <a:xfrm>
            <a:off x="0" y="0"/>
            <a:ext cx="4952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83852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9907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голок сюжетно – ролевой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2"/>
          <a:stretch/>
        </p:blipFill>
        <p:spPr>
          <a:xfrm>
            <a:off x="6934320" y="38268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Алексей\Desktop\ририорри\DSC05359.JPG"/>
          <p:cNvPicPr/>
          <p:nvPr/>
        </p:nvPicPr>
        <p:blipFill>
          <a:blip r:embed="rId3"/>
          <a:stretch/>
        </p:blipFill>
        <p:spPr>
          <a:xfrm>
            <a:off x="1600200" y="1295280"/>
            <a:ext cx="5400720" cy="40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-914400" y="77760"/>
            <a:ext cx="10058400" cy="7085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5562720" y="650880"/>
            <a:ext cx="293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Наш уголок 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2463840" y="4944960"/>
            <a:ext cx="2397240" cy="238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Алексей\Desktop\ририорри\DSC05479.JPG"/>
          <p:cNvPicPr/>
          <p:nvPr/>
        </p:nvPicPr>
        <p:blipFill>
          <a:blip r:embed="rId3"/>
          <a:stretch/>
        </p:blipFill>
        <p:spPr>
          <a:xfrm>
            <a:off x="-685800" y="533520"/>
            <a:ext cx="538488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Алексей\Desktop\ририорри\DSC05407.JPG"/>
          <p:cNvPicPr/>
          <p:nvPr/>
        </p:nvPicPr>
        <p:blipFill>
          <a:blip r:embed="rId4"/>
          <a:stretch/>
        </p:blipFill>
        <p:spPr>
          <a:xfrm>
            <a:off x="4800600" y="1981080"/>
            <a:ext cx="38988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6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2438280" y="4932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Наша умывальная ком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7383600" y="4140360"/>
            <a:ext cx="222552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Алексей\Desktop\ририорри\DSC05472.JPG"/>
          <p:cNvPicPr/>
          <p:nvPr/>
        </p:nvPicPr>
        <p:blipFill>
          <a:blip r:embed="rId3"/>
          <a:stretch/>
        </p:blipFill>
        <p:spPr>
          <a:xfrm>
            <a:off x="-457200" y="152388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Алексей\Desktop\ририорри\DSC05415.JPG"/>
          <p:cNvPicPr/>
          <p:nvPr/>
        </p:nvPicPr>
        <p:blipFill>
          <a:blip r:embed="rId4"/>
          <a:stretch/>
        </p:blipFill>
        <p:spPr>
          <a:xfrm>
            <a:off x="3429000" y="2209680"/>
            <a:ext cx="388620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-228600" y="1440"/>
            <a:ext cx="9372600" cy="6856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3679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1219320" y="798480"/>
            <a:ext cx="6172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и будни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-228600" y="1440"/>
            <a:ext cx="9372600" cy="6856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-304920" y="689040"/>
            <a:ext cx="9315720" cy="193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Алексей\Desktop\ририорри\DSC05413.JPG"/>
          <p:cNvPicPr/>
          <p:nvPr/>
        </p:nvPicPr>
        <p:blipFill>
          <a:blip r:embed="rId3"/>
          <a:stretch/>
        </p:blipFill>
        <p:spPr>
          <a:xfrm>
            <a:off x="0" y="2819520"/>
            <a:ext cx="4114800" cy="3892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Алексей\Desktop\ририорри\DSC05443.JPG"/>
          <p:cNvPicPr/>
          <p:nvPr/>
        </p:nvPicPr>
        <p:blipFill>
          <a:blip r:embed="rId4"/>
          <a:stretch/>
        </p:blipFill>
        <p:spPr>
          <a:xfrm>
            <a:off x="4648320" y="266688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203040" y="1279800"/>
            <a:ext cx="422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Играть мы очень люб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ы знаете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Без игр прожить реб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Никак, никак нельзя!!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Алексей\Desktop\ририорри\DSC05449.JPG"/>
          <p:cNvPicPr/>
          <p:nvPr/>
        </p:nvPicPr>
        <p:blipFill>
          <a:blip r:embed="rId3"/>
          <a:stretch/>
        </p:blipFill>
        <p:spPr>
          <a:xfrm>
            <a:off x="304920" y="320040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Алексей\Desktop\ририорри\DSC05451.JPG"/>
          <p:cNvPicPr/>
          <p:nvPr/>
        </p:nvPicPr>
        <p:blipFill>
          <a:blip r:embed="rId4"/>
          <a:stretch/>
        </p:blipFill>
        <p:spPr>
          <a:xfrm>
            <a:off x="5181480" y="1219320"/>
            <a:ext cx="39625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3"/>
          <p:cNvSpPr/>
          <p:nvPr/>
        </p:nvSpPr>
        <p:spPr>
          <a:xfrm>
            <a:off x="279360" y="1987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Любим мы не только б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Веселиться и иг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Кроме этого мы люб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Очень любим рисовать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7081920" y="4749840"/>
            <a:ext cx="1600200" cy="1814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Алексей\Desktop\ририорри\DSC05455.JPG"/>
          <p:cNvPicPr/>
          <p:nvPr/>
        </p:nvPicPr>
        <p:blipFill>
          <a:blip r:embed="rId3"/>
          <a:stretch/>
        </p:blipFill>
        <p:spPr>
          <a:xfrm>
            <a:off x="304920" y="1523880"/>
            <a:ext cx="6772320" cy="5078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4572000" y="2061000"/>
            <a:ext cx="4572000" cy="1008720"/>
          </a:xfrm>
          <a:prstGeom prst="rect">
            <a:avLst/>
          </a:prstGeom>
          <a:solidFill>
            <a:srgbClr val="95b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Мы на месте не сид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Все творим, творим ,творим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1697040" cy="1778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Алексей\Desktop\ририорри\DSC05347.JPG"/>
          <p:cNvPicPr/>
          <p:nvPr/>
        </p:nvPicPr>
        <p:blipFill>
          <a:blip r:embed="rId3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Алексей\Desktop\ририорри\DSC05339.JPG"/>
          <p:cNvPicPr/>
          <p:nvPr/>
        </p:nvPicPr>
        <p:blipFill>
          <a:blip r:embed="rId4"/>
          <a:stretch/>
        </p:blipFill>
        <p:spPr>
          <a:xfrm>
            <a:off x="3859200" y="3276720"/>
            <a:ext cx="52848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риходи честной народ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группа «Смешарики» вас жд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2" descr=""/>
          <p:cNvPicPr/>
          <p:nvPr/>
        </p:nvPicPr>
        <p:blipFill>
          <a:blip r:embed="rId2"/>
          <a:stretch/>
        </p:blipFill>
        <p:spPr>
          <a:xfrm>
            <a:off x="1643040" y="3014640"/>
            <a:ext cx="1666800" cy="169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1360" y="19810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 нашей группе малы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се красавцы, крепыш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Мы играем, мы гуля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Книжки добрые чита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Не скучаем, не груст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И большими стать хот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85800" y="106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ДЕВ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Алексей\Desktop\ририорри\DSC05333.JPG"/>
          <p:cNvPicPr/>
          <p:nvPr/>
        </p:nvPicPr>
        <p:blipFill>
          <a:blip r:embed="rId3"/>
          <a:stretch/>
        </p:blipFill>
        <p:spPr>
          <a:xfrm>
            <a:off x="3733920" y="990720"/>
            <a:ext cx="5410080" cy="59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1596960" y="383040"/>
            <a:ext cx="710244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Свежий воздух малышам нужен и полез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  <a:ea typeface="Arial"/>
              </a:rPr>
              <a:t>Очень весело гулять! И никаких болезн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7202520" y="4105440"/>
            <a:ext cx="2090880" cy="240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Алексей\Desktop\ририорри\DSC05344.JPG"/>
          <p:cNvPicPr/>
          <p:nvPr/>
        </p:nvPicPr>
        <p:blipFill>
          <a:blip r:embed="rId3"/>
          <a:stretch/>
        </p:blipFill>
        <p:spPr>
          <a:xfrm>
            <a:off x="228600" y="1371600"/>
            <a:ext cx="677232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600200" y="-1184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И ПРАЗДНИКИ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44440" y="28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ень золо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221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нь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00400" y="608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711840" y="6235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943600" y="2753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нь 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2"/>
          <a:stretch/>
        </p:blipFill>
        <p:spPr>
          <a:xfrm>
            <a:off x="6553080" y="762120"/>
            <a:ext cx="14814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Алексей\Desktop\ририорри\DSC05367.JPG"/>
          <p:cNvPicPr/>
          <p:nvPr/>
        </p:nvPicPr>
        <p:blipFill>
          <a:blip r:embed="rId3"/>
          <a:stretch/>
        </p:blipFill>
        <p:spPr>
          <a:xfrm>
            <a:off x="304920" y="68580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Алексей\Desktop\ририорри\DSC05488.JPG"/>
          <p:cNvPicPr/>
          <p:nvPr/>
        </p:nvPicPr>
        <p:blipFill>
          <a:blip r:embed="rId4"/>
          <a:stretch/>
        </p:blipFill>
        <p:spPr>
          <a:xfrm>
            <a:off x="4572000" y="29718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7" descr=""/>
          <p:cNvPicPr/>
          <p:nvPr/>
        </p:nvPicPr>
        <p:blipFill>
          <a:blip r:embed="rId5"/>
          <a:stretch/>
        </p:blipFill>
        <p:spPr>
          <a:xfrm>
            <a:off x="1743120" y="4102200"/>
            <a:ext cx="23112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4478400" y="3243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-27720"/>
            <a:ext cx="89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352680" y="62337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8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52280" y="394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кскурсия на 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895480" y="60026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емориал с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721480" y="4353840"/>
            <a:ext cx="33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сиделки в Д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645160" y="3107880"/>
            <a:ext cx="28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арк Солнц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2"/>
          <a:stretch/>
        </p:blipFill>
        <p:spPr>
          <a:xfrm>
            <a:off x="6622920" y="5475240"/>
            <a:ext cx="145908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6"/>
          <p:cNvSpPr/>
          <p:nvPr/>
        </p:nvSpPr>
        <p:spPr>
          <a:xfrm>
            <a:off x="2057400" y="228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Наши экскур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304920" y="1600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рогулка в «парк Солнце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Аллея памя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мемориал Сла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8"/>
          <p:cNvSpPr/>
          <p:nvPr/>
        </p:nvSpPr>
        <p:spPr>
          <a:xfrm>
            <a:off x="4191120" y="1600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Экскурсия на почт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Благовещенский соб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:\Users\Алексей\Desktop\ририорри\DSC05393.JPG"/>
          <p:cNvPicPr/>
          <p:nvPr/>
        </p:nvPicPr>
        <p:blipFill>
          <a:blip r:embed="rId3"/>
          <a:stretch/>
        </p:blipFill>
        <p:spPr>
          <a:xfrm>
            <a:off x="0" y="2819520"/>
            <a:ext cx="4121280" cy="403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Алексей\Desktop\ририорри\DSC05468.JPG"/>
          <p:cNvPicPr/>
          <p:nvPr/>
        </p:nvPicPr>
        <p:blipFill>
          <a:blip r:embed="rId4"/>
          <a:stretch/>
        </p:blipFill>
        <p:spPr>
          <a:xfrm>
            <a:off x="4648320" y="2514600"/>
            <a:ext cx="372888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-228600" y="144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0" y="67788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209680" y="1944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И РОД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УЧАСТИЕ В ПРАЗДНИКАХ, РАЗВЛЕЧ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Алексей\Desktop\ририорри\DSC05445.JPG"/>
          <p:cNvPicPr/>
          <p:nvPr/>
        </p:nvPicPr>
        <p:blipFill>
          <a:blip r:embed="rId2"/>
          <a:stretch/>
        </p:blipFill>
        <p:spPr>
          <a:xfrm>
            <a:off x="-1066680" y="990720"/>
            <a:ext cx="5105160" cy="487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Алексей\Desktop\ририорри\DSC05454.JPG"/>
          <p:cNvPicPr/>
          <p:nvPr/>
        </p:nvPicPr>
        <p:blipFill>
          <a:blip r:embed="rId3"/>
          <a:stretch/>
        </p:blipFill>
        <p:spPr>
          <a:xfrm>
            <a:off x="4446720" y="990720"/>
            <a:ext cx="46972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Скругленный прямоугольник 4"/>
          <p:cNvSpPr/>
          <p:nvPr/>
        </p:nvSpPr>
        <p:spPr>
          <a:xfrm>
            <a:off x="1066680" y="609480"/>
            <a:ext cx="5715000" cy="358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ГРУППУ ВСЮ МЫ ПОКА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О СЕБЕ ВСЕ РАССКА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В ГОСТИ СНОВА БУДЕМ 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alibri"/>
              </a:rPr>
              <a:t>НАМ  ЕСТЬ, ЧТО 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ЖДЕМ ВАС ПО АДРЕ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Г. Гагарин, УЛИЦА Свердлова , Д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МБДОУ « ДЕТСКИЙ САД «КРЕПЫ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alibri"/>
              </a:rPr>
              <a:t>Старшая  ГРУППА «СМЕШАР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2556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3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Давайте познакомим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675480" y="1902240"/>
            <a:ext cx="2633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Старшая группа, творческие и артистичные воспитатели: Васильева Светлана Алексеевна, Камышева Наталья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29 де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14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и 15 дев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2"/>
          <a:stretch/>
        </p:blipFill>
        <p:spPr>
          <a:xfrm>
            <a:off x="8280360" y="5257800"/>
            <a:ext cx="863640" cy="1346040"/>
          </a:xfrm>
          <a:prstGeom prst="rect">
            <a:avLst/>
          </a:prstGeom>
          <a:ln w="0">
            <a:noFill/>
          </a:ln>
        </p:spPr>
      </p:pic>
      <p:sp>
        <p:nvSpPr>
          <p:cNvPr id="61" name="Объект 6"/>
          <p:cNvSpPr/>
          <p:nvPr/>
        </p:nvSpPr>
        <p:spPr>
          <a:xfrm>
            <a:off x="1219320" y="5794200"/>
            <a:ext cx="594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Дружно все мы здесь жив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И в игре жизнь узна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Алексей\Desktop\ририорри\DSC05469.JPG"/>
          <p:cNvPicPr/>
          <p:nvPr/>
        </p:nvPicPr>
        <p:blipFill>
          <a:blip r:embed="rId3"/>
          <a:stretch/>
        </p:blipFill>
        <p:spPr>
          <a:xfrm>
            <a:off x="533520" y="1066680"/>
            <a:ext cx="52815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Алексей\Desktop\ририорри\DSC05453.JPG"/>
          <p:cNvPicPr/>
          <p:nvPr/>
        </p:nvPicPr>
        <p:blipFill>
          <a:blip r:embed="rId1"/>
          <a:stretch/>
        </p:blipFill>
        <p:spPr>
          <a:xfrm>
            <a:off x="304920" y="1600200"/>
            <a:ext cx="6543720" cy="490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-3492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219320" y="400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Наш главный помощ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- Стифеева И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207648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Алексей\Desktop\ририорри\DSC05453.JPG"/>
          <p:cNvPicPr/>
          <p:nvPr/>
        </p:nvPicPr>
        <p:blipFill>
          <a:blip r:embed="rId4"/>
          <a:stretch/>
        </p:blipFill>
        <p:spPr>
          <a:xfrm>
            <a:off x="685800" y="16844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066680" y="1401480"/>
            <a:ext cx="65534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ПАСПОРТ 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ПРИГЛАШАЕМ В ГОСТИ К 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К ИНТЕРЕСНЫМ УГОЛ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7640" y="452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Уголок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2"/>
          <a:stretch/>
        </p:blipFill>
        <p:spPr>
          <a:xfrm>
            <a:off x="68400" y="4530600"/>
            <a:ext cx="2133360" cy="2127240"/>
          </a:xfrm>
          <a:prstGeom prst="rect">
            <a:avLst/>
          </a:prstGeom>
          <a:ln w="0">
            <a:noFill/>
          </a:ln>
        </p:spPr>
      </p:pic>
      <p:sp>
        <p:nvSpPr>
          <p:cNvPr id="75" name="Горизонтальный свиток 2"/>
          <p:cNvSpPr/>
          <p:nvPr/>
        </p:nvSpPr>
        <p:spPr>
          <a:xfrm>
            <a:off x="2909880" y="4800600"/>
            <a:ext cx="4419720" cy="20574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541680" y="523368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И в восемь лет и в три и в 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Все дети любят рис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Мы с тобою цел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На бумаге созда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Алексей\Desktop\ририорри\DSC05350.JPG"/>
          <p:cNvPicPr/>
          <p:nvPr/>
        </p:nvPicPr>
        <p:blipFill>
          <a:blip r:embed="rId3"/>
          <a:stretch/>
        </p:blipFill>
        <p:spPr>
          <a:xfrm>
            <a:off x="2371680" y="914400"/>
            <a:ext cx="67723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876920" y="2452680"/>
            <a:ext cx="33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"/>
              </a:rPr>
              <a:t>Уголок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04920" y="3809880"/>
            <a:ext cx="3733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04920" y="3733920"/>
            <a:ext cx="3581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2"/>
          <a:stretch/>
        </p:blipFill>
        <p:spPr>
          <a:xfrm>
            <a:off x="79200" y="3808440"/>
            <a:ext cx="2816280" cy="2711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6700680" y="399960"/>
            <a:ext cx="2506680" cy="231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лексей\Desktop\ририорри\DSC05349.JPG"/>
          <p:cNvPicPr/>
          <p:nvPr/>
        </p:nvPicPr>
        <p:blipFill>
          <a:blip r:embed="rId4"/>
          <a:stretch/>
        </p:blipFill>
        <p:spPr>
          <a:xfrm>
            <a:off x="0" y="0"/>
            <a:ext cx="4648320" cy="373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Алексей\Desktop\ририорри\DSC05441.JPG"/>
          <p:cNvPicPr/>
          <p:nvPr/>
        </p:nvPicPr>
        <p:blipFill>
          <a:blip r:embed="rId5"/>
          <a:stretch/>
        </p:blipFill>
        <p:spPr>
          <a:xfrm>
            <a:off x="3886200" y="318600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372600" cy="6854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25000"/>
            <a:ext cx="2362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04920" y="3809880"/>
            <a:ext cx="3733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304920" y="3733920"/>
            <a:ext cx="35812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147680" y="588960"/>
            <a:ext cx="49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Книжный уго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2"/>
          <a:stretch/>
        </p:blipFill>
        <p:spPr>
          <a:xfrm>
            <a:off x="6124680" y="3733920"/>
            <a:ext cx="2381040" cy="2943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4978440" y="180900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Times New Roman"/>
                <a:ea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Здесь есть книжки для реб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Про щенят и порос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Про лисичку, медвеж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И пушистого кот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И про жадного мальч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Косолапого лесного м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Алексей\Desktop\ририорри\DSC05396.JPG"/>
          <p:cNvPicPr/>
          <p:nvPr/>
        </p:nvPicPr>
        <p:blipFill>
          <a:blip r:embed="rId3"/>
          <a:stretch/>
        </p:blipFill>
        <p:spPr>
          <a:xfrm>
            <a:off x="228600" y="121932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37260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1371600" y="6120"/>
            <a:ext cx="607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Спортивный уго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Чтоб успешно разв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Нужно спортом зани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улыбались детям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Алексей\Desktop\ририорри\DSC05410.JPG"/>
          <p:cNvPicPr/>
          <p:nvPr/>
        </p:nvPicPr>
        <p:blipFill>
          <a:blip r:embed="rId3"/>
          <a:stretch/>
        </p:blipFill>
        <p:spPr>
          <a:xfrm>
            <a:off x="5105520" y="144792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Алексей\Desktop\ририорри\DSC05401.JPG"/>
          <p:cNvPicPr/>
          <p:nvPr/>
        </p:nvPicPr>
        <p:blipFill>
          <a:blip r:embed="rId4"/>
          <a:stretch/>
        </p:blipFill>
        <p:spPr>
          <a:xfrm>
            <a:off x="0" y="1371600"/>
            <a:ext cx="3657600" cy="4952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2666880" y="3276720"/>
            <a:ext cx="307188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BTL</cp:lastModifiedBy>
  <dcterms:modified xsi:type="dcterms:W3CDTF">2019-11-21T12:01:03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270000000000010291210207f7000400038000</vt:lpwstr>
  </property>
  <property fmtid="{D5CDD505-2E9C-101B-9397-08002B2CF9AE}" pid="3" name="Version">
    <vt:r8>1</vt:r8>
  </property>
</Properties>
</file>