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55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14.jpeg" ContentType="image/jpeg"/>
  <Override PartName="/ppt/media/image41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6.jpeg" ContentType="image/jpeg"/>
  <Override PartName="/ppt/media/image32.jpeg" ContentType="image/jpeg"/>
  <Override PartName="/ppt/media/image36.png" ContentType="image/png"/>
  <Override PartName="/ppt/media/image45.jpeg" ContentType="image/jpeg"/>
  <Override PartName="/ppt/media/image42.png" ContentType="image/png"/>
  <Override PartName="/ppt/media/image46.jpeg" ContentType="image/jpeg"/>
  <Override PartName="/ppt/media/image51.jpeg" ContentType="image/jpeg"/>
  <Override PartName="/ppt/media/image31.jpeg" ContentType="image/jpeg"/>
  <Override PartName="/ppt/media/image48.jpeg" ContentType="image/jpeg"/>
  <Override PartName="/ppt/media/image53.png" ContentType="image/png"/>
  <Override PartName="/ppt/media/image13.png" ContentType="image/png"/>
  <Override PartName="/ppt/media/image54.jpeg" ContentType="image/jpeg"/>
  <Override PartName="/ppt/media/image44.png" ContentType="image/png"/>
  <Override PartName="/ppt/media/image40.jpeg" ContentType="image/jpeg"/>
  <Override PartName="/ppt/media/image57.jpeg" ContentType="image/jpeg"/>
  <Override PartName="/ppt/media/image37.jpeg" ContentType="image/jpeg"/>
  <Override PartName="/ppt/media/image30.png" ContentType="image/png"/>
  <Override PartName="/ppt/media/image8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39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503B-2B20-4DB8-A246-97D7932BAA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913A-C5B6-4B8D-93B3-5B08F86AF9A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E767-A9AF-4851-B390-2ABC41C99A3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889E-D632-4CFD-8D72-688E7556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BD5-ABB8-4499-BE84-88A2CD75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AF01-7B2D-41E1-AA94-797B935A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94C-7F8B-46B6-83D0-00612B44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116-80B8-4446-92DA-21785422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FDA-FF54-4B6B-841A-1BF4DF3D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8CCB-982A-4C7A-B1F9-0CF79B53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649-FC20-4AAB-AF6B-B8D05D39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2D1-CAE7-494D-8D3E-69FF5C35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5A01-4915-4C0D-BB02-D4A70F67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1D4-7DA8-4D9D-A7BC-032F3063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B97-E18C-4EB0-956B-283472BE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77B3-D504-4A88-BEEA-4E8C282FFD6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esenka_pro_detskij_sad_-_Din_din_detskij_sad.mp3" descr=""/>
          <p:cNvPicPr/>
          <p:nvPr/>
        </p:nvPicPr>
        <p:blipFill>
          <a:blip r:embed="rId2"/>
          <a:stretch/>
        </p:blipFill>
        <p:spPr>
          <a:xfrm>
            <a:off x="8305920" y="5943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50" name="shalunishki" descr=""/>
          <p:cNvPicPr/>
          <p:nvPr/>
        </p:nvPicPr>
        <p:blipFill>
          <a:blip r:embed="rId3"/>
          <a:stretch/>
        </p:blipFill>
        <p:spPr>
          <a:xfrm>
            <a:off x="432756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372600" cy="68565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5"/>
          <p:cNvSpPr/>
          <p:nvPr/>
        </p:nvSpPr>
        <p:spPr>
          <a:xfrm>
            <a:off x="457200" y="228600"/>
            <a:ext cx="81532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Уголок ПДД, ПБ, дидактических игр, констру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Как дорогу перейти и как на пожаре себя в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Запомним мы с тобой, играя, все правила изуч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" descr=""/>
          <p:cNvPicPr/>
          <p:nvPr/>
        </p:nvPicPr>
        <p:blipFill>
          <a:blip r:embed="rId2"/>
          <a:stretch/>
        </p:blipFill>
        <p:spPr>
          <a:xfrm>
            <a:off x="6305400" y="4017960"/>
            <a:ext cx="2838600" cy="284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Алексей\Desktop\ририорри\DSC05435.JPG"/>
          <p:cNvPicPr/>
          <p:nvPr/>
        </p:nvPicPr>
        <p:blipFill>
          <a:blip r:embed="rId3"/>
          <a:stretch/>
        </p:blipFill>
        <p:spPr>
          <a:xfrm>
            <a:off x="304920" y="2057400"/>
            <a:ext cx="6135480" cy="4600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-25560"/>
            <a:ext cx="937260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0" y="1824480"/>
            <a:ext cx="9144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033880" y="2473200"/>
            <a:ext cx="38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Театральный уго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" descr=""/>
          <p:cNvPicPr/>
          <p:nvPr/>
        </p:nvPicPr>
        <p:blipFill>
          <a:blip r:embed="rId2"/>
          <a:stretch/>
        </p:blipFill>
        <p:spPr>
          <a:xfrm>
            <a:off x="5834160" y="360828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Алексей\Desktop\ририорри\DSC05420.JPG"/>
          <p:cNvPicPr/>
          <p:nvPr/>
        </p:nvPicPr>
        <p:blipFill>
          <a:blip r:embed="rId3"/>
          <a:stretch/>
        </p:blipFill>
        <p:spPr>
          <a:xfrm>
            <a:off x="0" y="0"/>
            <a:ext cx="49528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183852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990720" y="5335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Уголок сюжетно – ролевой иг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2"/>
          <a:stretch/>
        </p:blipFill>
        <p:spPr>
          <a:xfrm>
            <a:off x="6934320" y="38268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Алексей\Desktop\ририорри\DSC05359.JPG"/>
          <p:cNvPicPr/>
          <p:nvPr/>
        </p:nvPicPr>
        <p:blipFill>
          <a:blip r:embed="rId3"/>
          <a:stretch/>
        </p:blipFill>
        <p:spPr>
          <a:xfrm>
            <a:off x="1600200" y="1295280"/>
            <a:ext cx="5400720" cy="405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-914400" y="77760"/>
            <a:ext cx="10058400" cy="70851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5562720" y="650880"/>
            <a:ext cx="2933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Наш уголок для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2"/>
          <a:stretch/>
        </p:blipFill>
        <p:spPr>
          <a:xfrm>
            <a:off x="2463840" y="4944960"/>
            <a:ext cx="2397240" cy="238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Алексей\Desktop\ририорри\DSC05479.JPG"/>
          <p:cNvPicPr/>
          <p:nvPr/>
        </p:nvPicPr>
        <p:blipFill>
          <a:blip r:embed="rId3"/>
          <a:stretch/>
        </p:blipFill>
        <p:spPr>
          <a:xfrm>
            <a:off x="-685800" y="533520"/>
            <a:ext cx="538488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Алексей\Desktop\ририорри\DSC05407.JPG"/>
          <p:cNvPicPr/>
          <p:nvPr/>
        </p:nvPicPr>
        <p:blipFill>
          <a:blip r:embed="rId4"/>
          <a:stretch/>
        </p:blipFill>
        <p:spPr>
          <a:xfrm>
            <a:off x="4800600" y="1981080"/>
            <a:ext cx="389880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68565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2438280" y="4932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Наша умывальная комн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2"/>
          <a:stretch/>
        </p:blipFill>
        <p:spPr>
          <a:xfrm>
            <a:off x="7383600" y="4140360"/>
            <a:ext cx="2225520" cy="2438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Алексей\Desktop\ририорри\DSC05472.JPG"/>
          <p:cNvPicPr/>
          <p:nvPr/>
        </p:nvPicPr>
        <p:blipFill>
          <a:blip r:embed="rId3"/>
          <a:stretch/>
        </p:blipFill>
        <p:spPr>
          <a:xfrm>
            <a:off x="-457200" y="1523880"/>
            <a:ext cx="3759120" cy="2819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Users\Алексей\Desktop\ририорри\DSC05415.JPG"/>
          <p:cNvPicPr/>
          <p:nvPr/>
        </p:nvPicPr>
        <p:blipFill>
          <a:blip r:embed="rId4"/>
          <a:stretch/>
        </p:blipFill>
        <p:spPr>
          <a:xfrm>
            <a:off x="3429000" y="2209680"/>
            <a:ext cx="388620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-228600" y="1440"/>
            <a:ext cx="9372600" cy="68565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93679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1219320" y="798480"/>
            <a:ext cx="6172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 </a:t>
            </a:r>
            <a:r>
              <a:rPr b="1" lang="ru-RU" sz="7200" spc="-1" strike="noStrike">
                <a:solidFill>
                  <a:srgbClr val="008000"/>
                </a:solidFill>
                <a:latin typeface="Times New Roman"/>
                <a:ea typeface="Arial"/>
              </a:rPr>
              <a:t>Наши будни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-228600" y="1440"/>
            <a:ext cx="9372600" cy="685656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4" descr=""/>
          <p:cNvPicPr/>
          <p:nvPr/>
        </p:nvPicPr>
        <p:blipFill>
          <a:blip r:embed="rId2"/>
          <a:stretch/>
        </p:blipFill>
        <p:spPr>
          <a:xfrm>
            <a:off x="-304920" y="689040"/>
            <a:ext cx="9315720" cy="1938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Алексей\Desktop\ририорри\DSC05413.JPG"/>
          <p:cNvPicPr/>
          <p:nvPr/>
        </p:nvPicPr>
        <p:blipFill>
          <a:blip r:embed="rId3"/>
          <a:stretch/>
        </p:blipFill>
        <p:spPr>
          <a:xfrm>
            <a:off x="0" y="2819520"/>
            <a:ext cx="4114800" cy="3892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:\Users\Алексей\Desktop\ририорри\DSC05443.JPG"/>
          <p:cNvPicPr/>
          <p:nvPr/>
        </p:nvPicPr>
        <p:blipFill>
          <a:blip r:embed="rId4"/>
          <a:stretch/>
        </p:blipFill>
        <p:spPr>
          <a:xfrm>
            <a:off x="4648320" y="2666880"/>
            <a:ext cx="44956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203040" y="1279800"/>
            <a:ext cx="4229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Играть мы очень люб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Вы знаете друз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Без игр прожить ребе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Никак, никак нельзя!!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2" descr=""/>
          <p:cNvPicPr/>
          <p:nvPr/>
        </p:nvPicPr>
        <p:blipFill>
          <a:blip r:embed="rId2"/>
          <a:stretch/>
        </p:blipFill>
        <p:spPr>
          <a:xfrm>
            <a:off x="3733920" y="19810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Алексей\Desktop\ририорри\DSC05449.JPG"/>
          <p:cNvPicPr/>
          <p:nvPr/>
        </p:nvPicPr>
        <p:blipFill>
          <a:blip r:embed="rId3"/>
          <a:stretch/>
        </p:blipFill>
        <p:spPr>
          <a:xfrm>
            <a:off x="304920" y="3200400"/>
            <a:ext cx="4038480" cy="3429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Users\Алексей\Desktop\ририорри\DSC05451.JPG"/>
          <p:cNvPicPr/>
          <p:nvPr/>
        </p:nvPicPr>
        <p:blipFill>
          <a:blip r:embed="rId4"/>
          <a:stretch/>
        </p:blipFill>
        <p:spPr>
          <a:xfrm>
            <a:off x="5181480" y="1219320"/>
            <a:ext cx="396252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3"/>
          <p:cNvSpPr/>
          <p:nvPr/>
        </p:nvSpPr>
        <p:spPr>
          <a:xfrm>
            <a:off x="279360" y="198720"/>
            <a:ext cx="434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Любим мы не только бег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Веселиться и игр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Кроме этого мы люб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Очень любим рисовать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1" descr=""/>
          <p:cNvPicPr/>
          <p:nvPr/>
        </p:nvPicPr>
        <p:blipFill>
          <a:blip r:embed="rId2"/>
          <a:stretch/>
        </p:blipFill>
        <p:spPr>
          <a:xfrm>
            <a:off x="7081920" y="4749840"/>
            <a:ext cx="1600200" cy="1814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Алексей\Desktop\ририорри\DSC05455.JPG"/>
          <p:cNvPicPr/>
          <p:nvPr/>
        </p:nvPicPr>
        <p:blipFill>
          <a:blip r:embed="rId3"/>
          <a:stretch/>
        </p:blipFill>
        <p:spPr>
          <a:xfrm>
            <a:off x="304920" y="1523880"/>
            <a:ext cx="6772320" cy="50785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7"/>
          <p:cNvSpPr/>
          <p:nvPr/>
        </p:nvSpPr>
        <p:spPr>
          <a:xfrm>
            <a:off x="4572000" y="2061000"/>
            <a:ext cx="4572000" cy="1008720"/>
          </a:xfrm>
          <a:prstGeom prst="rect">
            <a:avLst/>
          </a:prstGeom>
          <a:solidFill>
            <a:srgbClr val="95b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Мы на месте не сид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Все творим, творим ,творим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1" descr=""/>
          <p:cNvPicPr/>
          <p:nvPr/>
        </p:nvPicPr>
        <p:blipFill>
          <a:blip r:embed="rId2"/>
          <a:stretch/>
        </p:blipFill>
        <p:spPr>
          <a:xfrm>
            <a:off x="1219320" y="4724280"/>
            <a:ext cx="1697040" cy="1778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Алексей\Desktop\ририорри\DSC05347.JPG"/>
          <p:cNvPicPr/>
          <p:nvPr/>
        </p:nvPicPr>
        <p:blipFill>
          <a:blip r:embed="rId3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Users\Алексей\Desktop\ририорри\DSC05339.JPG"/>
          <p:cNvPicPr/>
          <p:nvPr/>
        </p:nvPicPr>
        <p:blipFill>
          <a:blip r:embed="rId4"/>
          <a:stretch/>
        </p:blipFill>
        <p:spPr>
          <a:xfrm>
            <a:off x="3859200" y="3276720"/>
            <a:ext cx="52848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Приходи честной народ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группа «Смешарики» вас жд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2" descr=""/>
          <p:cNvPicPr/>
          <p:nvPr/>
        </p:nvPicPr>
        <p:blipFill>
          <a:blip r:embed="rId2"/>
          <a:stretch/>
        </p:blipFill>
        <p:spPr>
          <a:xfrm>
            <a:off x="1643040" y="3014640"/>
            <a:ext cx="1666800" cy="1697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71360" y="198108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В нашей группе малыш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Все красавцы, крепыш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Мы играем, мы гуля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Книжки добрые чита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Не скучаем, не груст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И большими стать хот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85800" y="1068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ДЕВ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Алексей\Desktop\ририорри\DSC05333.JPG"/>
          <p:cNvPicPr/>
          <p:nvPr/>
        </p:nvPicPr>
        <p:blipFill>
          <a:blip r:embed="rId3"/>
          <a:stretch/>
        </p:blipFill>
        <p:spPr>
          <a:xfrm>
            <a:off x="3733920" y="990720"/>
            <a:ext cx="5410080" cy="59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1596960" y="383040"/>
            <a:ext cx="710244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Свежий воздух малышам нужен и полезе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Очень весело гулять! И никаких болезней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4" descr=""/>
          <p:cNvPicPr/>
          <p:nvPr/>
        </p:nvPicPr>
        <p:blipFill>
          <a:blip r:embed="rId2"/>
          <a:stretch/>
        </p:blipFill>
        <p:spPr>
          <a:xfrm>
            <a:off x="7202520" y="4105440"/>
            <a:ext cx="2090880" cy="2401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Алексей\Desktop\ририорри\DSC05344.JPG"/>
          <p:cNvPicPr/>
          <p:nvPr/>
        </p:nvPicPr>
        <p:blipFill>
          <a:blip r:embed="rId3"/>
          <a:stretch/>
        </p:blipFill>
        <p:spPr>
          <a:xfrm>
            <a:off x="228600" y="1371600"/>
            <a:ext cx="6772320" cy="50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65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1600200" y="-11844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НАШИ ПРАЗДНИКИ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Arial"/>
              </a:rPr>
              <a:t>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44440" y="2866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сень золо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221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нь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200400" y="6081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8 М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6711840" y="6235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ов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5943600" y="27536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нь Мат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1" descr=""/>
          <p:cNvPicPr/>
          <p:nvPr/>
        </p:nvPicPr>
        <p:blipFill>
          <a:blip r:embed="rId2"/>
          <a:stretch/>
        </p:blipFill>
        <p:spPr>
          <a:xfrm>
            <a:off x="6553080" y="762120"/>
            <a:ext cx="1481400" cy="1981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Users\Алексей\Desktop\ририорри\DSC05367.JPG"/>
          <p:cNvPicPr/>
          <p:nvPr/>
        </p:nvPicPr>
        <p:blipFill>
          <a:blip r:embed="rId3"/>
          <a:stretch/>
        </p:blipFill>
        <p:spPr>
          <a:xfrm>
            <a:off x="304920" y="685800"/>
            <a:ext cx="4419360" cy="3314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C:\Users\Алексей\Desktop\ририорри\DSC05488.JPG"/>
          <p:cNvPicPr/>
          <p:nvPr/>
        </p:nvPicPr>
        <p:blipFill>
          <a:blip r:embed="rId4"/>
          <a:stretch/>
        </p:blipFill>
        <p:spPr>
          <a:xfrm>
            <a:off x="4572000" y="29718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 17" descr=""/>
          <p:cNvPicPr/>
          <p:nvPr/>
        </p:nvPicPr>
        <p:blipFill>
          <a:blip r:embed="rId5"/>
          <a:stretch/>
        </p:blipFill>
        <p:spPr>
          <a:xfrm>
            <a:off x="1743120" y="4102200"/>
            <a:ext cx="231120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4478400" y="3243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0" y="-27720"/>
            <a:ext cx="89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352680" y="623376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8 М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52280" y="3940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Экскурсия на поч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2895480" y="60026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емориал сл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5721480" y="4353840"/>
            <a:ext cx="33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сиделки в Д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5645160" y="3107880"/>
            <a:ext cx="28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арк Солнц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1" descr=""/>
          <p:cNvPicPr/>
          <p:nvPr/>
        </p:nvPicPr>
        <p:blipFill>
          <a:blip r:embed="rId2"/>
          <a:stretch/>
        </p:blipFill>
        <p:spPr>
          <a:xfrm>
            <a:off x="6622920" y="5475240"/>
            <a:ext cx="1459080" cy="12952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6"/>
          <p:cNvSpPr/>
          <p:nvPr/>
        </p:nvSpPr>
        <p:spPr>
          <a:xfrm>
            <a:off x="2057400" y="2286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Наши экскур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7"/>
          <p:cNvSpPr/>
          <p:nvPr/>
        </p:nvSpPr>
        <p:spPr>
          <a:xfrm>
            <a:off x="304920" y="16002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Прогулка в «парк Солнце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Аллея памят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мемориал Слав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8"/>
          <p:cNvSpPr/>
          <p:nvPr/>
        </p:nvSpPr>
        <p:spPr>
          <a:xfrm>
            <a:off x="4191120" y="1600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Экскурсия на почт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Благовещенский соб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C:\Users\Алексей\Desktop\ририорри\DSC05393.JPG"/>
          <p:cNvPicPr/>
          <p:nvPr/>
        </p:nvPicPr>
        <p:blipFill>
          <a:blip r:embed="rId3"/>
          <a:stretch/>
        </p:blipFill>
        <p:spPr>
          <a:xfrm>
            <a:off x="0" y="2819520"/>
            <a:ext cx="4121280" cy="4038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C:\Users\Алексей\Desktop\ририорри\DSC05468.JPG"/>
          <p:cNvPicPr/>
          <p:nvPr/>
        </p:nvPicPr>
        <p:blipFill>
          <a:blip r:embed="rId4"/>
          <a:stretch/>
        </p:blipFill>
        <p:spPr>
          <a:xfrm>
            <a:off x="4648320" y="2514600"/>
            <a:ext cx="3728880" cy="27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-228600" y="1440"/>
            <a:ext cx="9372600" cy="68565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0" y="67788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209680" y="1944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НАШИ РОДИ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УЧАСТИЕ В ПРАЗДНИКАХ, РАЗВЛЕЧ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C:\Users\Алексей\Desktop\ририорри\DSC05445.JPG"/>
          <p:cNvPicPr/>
          <p:nvPr/>
        </p:nvPicPr>
        <p:blipFill>
          <a:blip r:embed="rId2"/>
          <a:stretch/>
        </p:blipFill>
        <p:spPr>
          <a:xfrm>
            <a:off x="-1066680" y="990720"/>
            <a:ext cx="5105160" cy="4876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Алексей\Desktop\ририорри\DSC05454.JPG"/>
          <p:cNvPicPr/>
          <p:nvPr/>
        </p:nvPicPr>
        <p:blipFill>
          <a:blip r:embed="rId3"/>
          <a:stretch/>
        </p:blipFill>
        <p:spPr>
          <a:xfrm>
            <a:off x="4446720" y="990720"/>
            <a:ext cx="46972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Скругленный прямоугольник 4"/>
          <p:cNvSpPr/>
          <p:nvPr/>
        </p:nvSpPr>
        <p:spPr>
          <a:xfrm>
            <a:off x="1066680" y="609480"/>
            <a:ext cx="5715000" cy="358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alibri"/>
              </a:rPr>
              <a:t>ГРУППУ ВСЮ МЫ ПОКАЗ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alibri"/>
              </a:rPr>
              <a:t>О СЕБЕ ВСЕ РАССКАЗ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alibri"/>
              </a:rPr>
              <a:t>В ГОСТИ СНОВА БУДЕМ ЖД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alibri"/>
              </a:rPr>
              <a:t>НАМ  ЕСТЬ, ЧТО П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alibri"/>
              </a:rPr>
              <a:t>ЖДЕМ ВАС ПО АДРЕС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alibri"/>
              </a:rPr>
              <a:t>Г. Гагарин, УЛИЦА Свердлова , Д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alibri"/>
              </a:rPr>
              <a:t>МБДОУ « ДЕТСКИЙ САД «КРЕПЫ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alibri"/>
              </a:rPr>
              <a:t>Старшая  ГРУППА «СМЕШАР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-2556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Давайте познакомим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675480" y="1902240"/>
            <a:ext cx="2633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Старшая группа, творческие и артистичные воспитатели: Васильева Светлана Алексеевна, Камышева Наталья Михайл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а так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29 дет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14 мальч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и 15 дев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" descr=""/>
          <p:cNvPicPr/>
          <p:nvPr/>
        </p:nvPicPr>
        <p:blipFill>
          <a:blip r:embed="rId2"/>
          <a:stretch/>
        </p:blipFill>
        <p:spPr>
          <a:xfrm>
            <a:off x="8280360" y="5257800"/>
            <a:ext cx="863640" cy="1346040"/>
          </a:xfrm>
          <a:prstGeom prst="rect">
            <a:avLst/>
          </a:prstGeom>
          <a:ln w="0">
            <a:noFill/>
          </a:ln>
        </p:spPr>
      </p:pic>
      <p:sp>
        <p:nvSpPr>
          <p:cNvPr id="61" name="Объект 6"/>
          <p:cNvSpPr/>
          <p:nvPr/>
        </p:nvSpPr>
        <p:spPr>
          <a:xfrm>
            <a:off x="1219320" y="5794200"/>
            <a:ext cx="59436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Дружно все мы здесь жив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И в игре жизнь узнае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Алексей\Desktop\ририорри\DSC05469.JPG"/>
          <p:cNvPicPr/>
          <p:nvPr/>
        </p:nvPicPr>
        <p:blipFill>
          <a:blip r:embed="rId3"/>
          <a:stretch/>
        </p:blipFill>
        <p:spPr>
          <a:xfrm>
            <a:off x="533520" y="1066680"/>
            <a:ext cx="5281560" cy="45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Алексей\Desktop\ририорри\DSC05453.JPG"/>
          <p:cNvPicPr/>
          <p:nvPr/>
        </p:nvPicPr>
        <p:blipFill>
          <a:blip r:embed="rId1"/>
          <a:stretch/>
        </p:blipFill>
        <p:spPr>
          <a:xfrm>
            <a:off x="304920" y="1600200"/>
            <a:ext cx="6543720" cy="4906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-3492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1219320" y="4003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Arial"/>
              </a:rPr>
              <a:t>Наш главный помощни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Arial"/>
              </a:rPr>
              <a:t>- Стифеева Ирина Игор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3"/>
          <a:stretch/>
        </p:blipFill>
        <p:spPr>
          <a:xfrm>
            <a:off x="7086600" y="5257800"/>
            <a:ext cx="2076480" cy="1600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:\Users\Алексей\Desktop\ририорри\DSC05453.JPG"/>
          <p:cNvPicPr/>
          <p:nvPr/>
        </p:nvPicPr>
        <p:blipFill>
          <a:blip r:embed="rId4"/>
          <a:stretch/>
        </p:blipFill>
        <p:spPr>
          <a:xfrm>
            <a:off x="685800" y="168444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066680" y="1401480"/>
            <a:ext cx="655344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Arial"/>
              </a:rPr>
              <a:t>ПАСПОРТ ГРУПП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  <a:ea typeface="Arial"/>
              </a:rPr>
              <a:t>ПРИГЛАШАЕМ В ГОСТИ К Н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  <a:ea typeface="Arial"/>
              </a:rPr>
              <a:t>К ИНТЕРЕСНЫМ УГОЛ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65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5"/>
          <p:cNvSpPr/>
          <p:nvPr/>
        </p:nvSpPr>
        <p:spPr>
          <a:xfrm>
            <a:off x="17640" y="452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Уголок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" descr=""/>
          <p:cNvPicPr/>
          <p:nvPr/>
        </p:nvPicPr>
        <p:blipFill>
          <a:blip r:embed="rId2"/>
          <a:stretch/>
        </p:blipFill>
        <p:spPr>
          <a:xfrm>
            <a:off x="68400" y="4530600"/>
            <a:ext cx="2133360" cy="2127240"/>
          </a:xfrm>
          <a:prstGeom prst="rect">
            <a:avLst/>
          </a:prstGeom>
          <a:ln w="0">
            <a:noFill/>
          </a:ln>
        </p:spPr>
      </p:pic>
      <p:sp>
        <p:nvSpPr>
          <p:cNvPr id="75" name="Горизонтальный свиток 2"/>
          <p:cNvSpPr/>
          <p:nvPr/>
        </p:nvSpPr>
        <p:spPr>
          <a:xfrm>
            <a:off x="2909880" y="4800600"/>
            <a:ext cx="4419720" cy="205740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541680" y="5233680"/>
            <a:ext cx="35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И в восемь лет и в три и в п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Все дети любят рис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Мы с тобою целы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На бумаге создад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Алексей\Desktop\ририорри\DSC05350.JPG"/>
          <p:cNvPicPr/>
          <p:nvPr/>
        </p:nvPicPr>
        <p:blipFill>
          <a:blip r:embed="rId3"/>
          <a:stretch/>
        </p:blipFill>
        <p:spPr>
          <a:xfrm>
            <a:off x="2371680" y="914400"/>
            <a:ext cx="677232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9343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4876920" y="2452680"/>
            <a:ext cx="33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Arial"/>
              </a:rPr>
              <a:t>Уголок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304920" y="3809880"/>
            <a:ext cx="3733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304920" y="3733920"/>
            <a:ext cx="35812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" descr=""/>
          <p:cNvPicPr/>
          <p:nvPr/>
        </p:nvPicPr>
        <p:blipFill>
          <a:blip r:embed="rId2"/>
          <a:stretch/>
        </p:blipFill>
        <p:spPr>
          <a:xfrm>
            <a:off x="79200" y="3808440"/>
            <a:ext cx="2816280" cy="27115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" descr=""/>
          <p:cNvPicPr/>
          <p:nvPr/>
        </p:nvPicPr>
        <p:blipFill>
          <a:blip r:embed="rId3"/>
          <a:stretch/>
        </p:blipFill>
        <p:spPr>
          <a:xfrm>
            <a:off x="6700680" y="399960"/>
            <a:ext cx="2506680" cy="231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Алексей\Desktop\ририорри\DSC05349.JPG"/>
          <p:cNvPicPr/>
          <p:nvPr/>
        </p:nvPicPr>
        <p:blipFill>
          <a:blip r:embed="rId4"/>
          <a:stretch/>
        </p:blipFill>
        <p:spPr>
          <a:xfrm>
            <a:off x="0" y="0"/>
            <a:ext cx="4648320" cy="373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Алексей\Desktop\ририорри\DSC05441.JPG"/>
          <p:cNvPicPr/>
          <p:nvPr/>
        </p:nvPicPr>
        <p:blipFill>
          <a:blip r:embed="rId5"/>
          <a:stretch/>
        </p:blipFill>
        <p:spPr>
          <a:xfrm>
            <a:off x="3886200" y="3186000"/>
            <a:ext cx="489600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372600" cy="68547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225000"/>
            <a:ext cx="23623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Arial"/>
              </a:rPr>
              <a:t>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304920" y="3809880"/>
            <a:ext cx="3733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304920" y="3733920"/>
            <a:ext cx="35812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1147680" y="588960"/>
            <a:ext cx="49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Книжный уго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2"/>
          <a:stretch/>
        </p:blipFill>
        <p:spPr>
          <a:xfrm>
            <a:off x="6124680" y="3733920"/>
            <a:ext cx="2381040" cy="2943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4978440" y="1809000"/>
            <a:ext cx="4343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Times New Roman"/>
                <a:ea typeface="Arial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Здесь есть книжки для реб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Про щенят и порос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Про лисичку, медвежо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И пушистого кот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И про жадного мальчиш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Косолапого лесного миш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Users\Алексей\Desktop\ририорри\DSC05396.JPG"/>
          <p:cNvPicPr/>
          <p:nvPr/>
        </p:nvPicPr>
        <p:blipFill>
          <a:blip r:embed="rId3"/>
          <a:stretch/>
        </p:blipFill>
        <p:spPr>
          <a:xfrm>
            <a:off x="228600" y="1219320"/>
            <a:ext cx="5257800" cy="3809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372600" cy="68565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1371600" y="6120"/>
            <a:ext cx="60721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Arial"/>
              </a:rPr>
              <a:t>Спортивный уго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Чтоб успешно разви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Нужно спортом заним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улыбались детям.mp3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Алексей\Desktop\ририорри\DSC05410.JPG"/>
          <p:cNvPicPr/>
          <p:nvPr/>
        </p:nvPicPr>
        <p:blipFill>
          <a:blip r:embed="rId3"/>
          <a:stretch/>
        </p:blipFill>
        <p:spPr>
          <a:xfrm>
            <a:off x="5105520" y="1447920"/>
            <a:ext cx="4343400" cy="4800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Алексей\Desktop\ририорри\DSC05401.JPG"/>
          <p:cNvPicPr/>
          <p:nvPr/>
        </p:nvPicPr>
        <p:blipFill>
          <a:blip r:embed="rId4"/>
          <a:stretch/>
        </p:blipFill>
        <p:spPr>
          <a:xfrm>
            <a:off x="0" y="1371600"/>
            <a:ext cx="3657600" cy="49528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"/>
          <p:cNvPicPr/>
          <p:nvPr/>
        </p:nvPicPr>
        <p:blipFill>
          <a:blip r:embed="rId5"/>
          <a:stretch/>
        </p:blipFill>
        <p:spPr>
          <a:xfrm>
            <a:off x="2666880" y="3276720"/>
            <a:ext cx="3071880" cy="3297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ей</dc:creator>
  <dc:description/>
  <dc:language>en-US</dc:language>
  <cp:lastModifiedBy>BTL</cp:lastModifiedBy>
  <dcterms:modified xsi:type="dcterms:W3CDTF">2019-11-21T12:01:03Z</dcterms:modified>
  <cp:revision>2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270000000000010291210207f7000400038000</vt:lpwstr>
  </property>
  <property fmtid="{D5CDD505-2E9C-101B-9397-08002B2CF9AE}" pid="3" name="Version">
    <vt:r8>1</vt:r8>
  </property>
</Properties>
</file>