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8013-6438-409D-85BA-EF65A4A29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23A2-39E5-4F24-939C-B3119AFCBE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ждение побе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797-15AF-4014-88C4-19AFCB2F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37A-19CA-472A-9BE8-BF196C3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0BF-498D-4ADB-B639-71D1098E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376-71CA-459B-89D0-B96D7EEF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03C-8F69-40DC-A274-81419CA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119-4373-4FBE-BEA3-2AFC1A2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5AD-CB3B-462B-81D3-5762BCF4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95E-F34A-4E85-97D6-ABB78B61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F15-7DBC-4323-81D0-5B61F00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696-CF44-40CD-BF86-0E9F581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7D1-94BD-43F0-9D73-5A38C46D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7F7-6A9B-483C-8618-C5727DE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5B23-6D4C-42C2-AD56-77C3C7E0DD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Проект</a:t>
            </a:r>
            <a:br>
              <a:rPr sz="4400"/>
            </a:b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«Малые зимние </a:t>
            </a:r>
            <a:br>
              <a:rPr sz="4400"/>
            </a:b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Олимпийские игры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1785960" y="285840"/>
            <a:ext cx="67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АВТОНОМНОЕ ДОШКО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РАЗОВАТЕЛЬНОЕ УЧРЕЖДЕНИЕ – ДЕТСКИЙ САД № 9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4123440" y="616572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2021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8" descr="1345017848_olympic_flag"/>
          <p:cNvPicPr/>
          <p:nvPr/>
        </p:nvPicPr>
        <p:blipFill>
          <a:blip r:embed="rId1"/>
          <a:stretch/>
        </p:blipFill>
        <p:spPr>
          <a:xfrm>
            <a:off x="1332000" y="3573360"/>
            <a:ext cx="3189240" cy="21258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52" name="Picture 19" descr="9e419927ea2c3e36976e50d4609c8f46"/>
          <p:cNvPicPr/>
          <p:nvPr/>
        </p:nvPicPr>
        <p:blipFill>
          <a:blip r:embed="rId2"/>
          <a:stretch/>
        </p:blipFill>
        <p:spPr>
          <a:xfrm>
            <a:off x="0" y="1357200"/>
            <a:ext cx="1568520" cy="19576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53" name="Picture 20" descr="7185079_original"/>
          <p:cNvPicPr/>
          <p:nvPr/>
        </p:nvPicPr>
        <p:blipFill>
          <a:blip r:embed="rId3"/>
          <a:stretch/>
        </p:blipFill>
        <p:spPr>
          <a:xfrm>
            <a:off x="7093080" y="907920"/>
            <a:ext cx="1834920" cy="13766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54" name="Picture 21" descr="sm_img-533248_300x180"/>
          <p:cNvPicPr/>
          <p:nvPr/>
        </p:nvPicPr>
        <p:blipFill>
          <a:blip r:embed="rId4"/>
          <a:stretch/>
        </p:blipFill>
        <p:spPr>
          <a:xfrm>
            <a:off x="5651640" y="3573360"/>
            <a:ext cx="1631880" cy="19893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ccff"/>
              </a:solidFill>
              <a:latin typeface="Tahoma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1"/>
          <a:stretch/>
        </p:blipFill>
        <p:spPr>
          <a:xfrm>
            <a:off x="3635280" y="5084640"/>
            <a:ext cx="1417680" cy="177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s://sun9-84.userapi.com/impf/_F2Ich5Dw3ogHYh9uUiNIMvgloRLFWqxiBYS5g/iFVT5A8fBb0.jpg?size=1280x720&amp;quality=96&amp;sign=ac9ba52c36471e474d7a051906a00256&amp;type=album"/>
          <p:cNvPicPr/>
          <p:nvPr/>
        </p:nvPicPr>
        <p:blipFill>
          <a:blip r:embed="rId2"/>
          <a:stretch/>
        </p:blipFill>
        <p:spPr>
          <a:xfrm>
            <a:off x="4572000" y="1857240"/>
            <a:ext cx="3929040" cy="41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11" descr="C:\Users\Админ\Downloads\8_rCHKVlDw8.jpg"/>
          <p:cNvPicPr/>
          <p:nvPr/>
        </p:nvPicPr>
        <p:blipFill>
          <a:blip r:embed="rId3"/>
          <a:stretch/>
        </p:blipFill>
        <p:spPr>
          <a:xfrm>
            <a:off x="428760" y="1928880"/>
            <a:ext cx="35002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C:\Users\Админ\Downloads\spb4UkHZ034.jpg"/>
          <p:cNvPicPr/>
          <p:nvPr/>
        </p:nvPicPr>
        <p:blipFill>
          <a:blip r:embed="rId4"/>
          <a:stretch/>
        </p:blipFill>
        <p:spPr>
          <a:xfrm>
            <a:off x="714240" y="4114800"/>
            <a:ext cx="3524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cc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5827680" y="38606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Санный спо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43040" y="112536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Награждение побед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1"/>
          <a:stretch/>
        </p:blipFill>
        <p:spPr>
          <a:xfrm>
            <a:off x="1547640" y="5199120"/>
            <a:ext cx="1548000" cy="16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Users\Админ\Downloads\-kjwyUrGCZg.jpg"/>
          <p:cNvPicPr/>
          <p:nvPr/>
        </p:nvPicPr>
        <p:blipFill>
          <a:blip r:embed="rId2"/>
          <a:stretch/>
        </p:blipFill>
        <p:spPr>
          <a:xfrm>
            <a:off x="4643280" y="928800"/>
            <a:ext cx="3673800" cy="289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C:\Users\Админ\Downloads\5zG8AoPUo1o.jpg"/>
          <p:cNvPicPr/>
          <p:nvPr/>
        </p:nvPicPr>
        <p:blipFill>
          <a:blip r:embed="rId3"/>
          <a:stretch/>
        </p:blipFill>
        <p:spPr>
          <a:xfrm>
            <a:off x="4857840" y="4071960"/>
            <a:ext cx="38242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3" descr="C:\Users\Админ\Downloads\ilsB_OZGlpk.jpg"/>
          <p:cNvPicPr/>
          <p:nvPr/>
        </p:nvPicPr>
        <p:blipFill>
          <a:blip r:embed="rId4"/>
          <a:stretch/>
        </p:blipFill>
        <p:spPr>
          <a:xfrm>
            <a:off x="571680" y="1714680"/>
            <a:ext cx="32781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Закрытие </a:t>
            </a:r>
            <a:br>
              <a:rPr sz="3600"/>
            </a:b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«Малых зимних Олимпийских игр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C:\Users\1\Desktop\Презентации для детей\олимпиада\картинки олимпиада\42.jpg"/>
          <p:cNvPicPr/>
          <p:nvPr/>
        </p:nvPicPr>
        <p:blipFill>
          <a:blip r:embed="rId1"/>
          <a:srcRect l="3577" t="5060" r="4698" b="19924"/>
          <a:stretch/>
        </p:blipFill>
        <p:spPr>
          <a:xfrm>
            <a:off x="1619280" y="2205000"/>
            <a:ext cx="54388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ccff"/>
                </a:solidFill>
                <a:uFillTx/>
                <a:latin typeface="Tahoma"/>
              </a:rPr>
              <a:t>Приложение: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лендарное планирование по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ественное слово на спортивную тематик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картотеки: загадки, стих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тавка детских рисунк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блемы и медали участникам соревн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ценарий  «Малых зимних Олимпийских игр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948360" y="0"/>
            <a:ext cx="173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Участники проекта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тели групп, дети  подготовительной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Тип проекта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осро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79280" y="592920"/>
            <a:ext cx="871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Пробле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1. Что такое Олимпиада? История возникновения Олимпийских игр?</a:t>
            </a:r>
            <a:br>
              <a:rPr sz="1800"/>
            </a:b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. Что значит малые зимние Олимпийские игр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3. Что нужно делать, чтобы стать Олимпийце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едостаточ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нформированность детей об олимпийских     играх и их возникновении, о зимних видах спор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Актуальность проблем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облема ухудшения здоровья подрастающего поколения  приобретает все большую актуальность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  настоящее время в России  ежегодно общий уровень отклонения в состоянии здоровья детей  возрастает на 6,7 %.  Из-за образа современной жизни у  большинства взрослых слабый мотивационный аспект двигательной активности и  низкий уровень представлений о здоровом образе жизни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 спорте и олимпийском движении, о зимних видах спор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Цель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Формирование социальной и личностной мотивации детей старшего дошкольного возраста на сохранение и укрепление своего здоровья и воспитания социально значимых личностных качеств посредством знакомства с зимними Олимпийскими игр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Задачи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 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ДЛЯ ДЕТЕЙ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Формировать у детей представления об Олимпийских играх, как мирном соревновании с целью физического и социально-нравственного совершенствования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азвивать у детей интерес к занятиям физической культурой и спортом, умения и навыки сотрудничества через нравственный и эстетический опыт Олимпиад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Развивать у детей стремление к  укреплению и сохранению своего собственного   здоровья посредством занятий физической культур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Оздоровительные: развивать силу, ловкость, быстроту, меткость, умение применять накопленные знания  и умения в практической 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оспитывать у детей  целеустремленность, организованность, инициативность, трудолюбие, взаимовыручку,  смелость и отва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ДЛЯ ПЕДАГОГОВ: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1. Создать информационную  ба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Создать условия для  благополучного и комфортного  состояния детей на спортивных мероприят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ДЛЯ РОДИТЕЛЕ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вать творческие и физические способности  в спортивной  деятельности. Приобщать к здоровому образу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I 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этап.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Диагностичес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ыявить уровень знаний детей  об Олимпиаде, зимних видах спор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ановка проблемы, определение цели и задач исследователь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овать простран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ать сценарий спортивного соревнования «Малые зимние Олимпийские игры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II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 этап.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Цель: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Организация деятельности детей в рамках проекта.</a:t>
            </a:r>
            <a:br>
              <a:rPr sz="36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Tahoma"/>
              </a:rPr>
              <a:t>Продукты проекта для де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\и « Спортивное оборудование», «Зимние виды спорт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а работ «Олимпийские кольцы». «Олимпийские игр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портивное соревнование «Малые зимние Олимпийские  игр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Tahoma"/>
              </a:rPr>
              <a:t>Продукты проекта для педагогов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проек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анирование по данной тем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готовка эмблем, названий команд, девиза вместе с дет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Tahoma"/>
              </a:rPr>
              <a:t>Продукты проекта для родител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проек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сультации «Роль семьи в физическом воспитании ребёнка», «Пропаганда здорового образа жизни в семье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творчество с дет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готовление атрибутов к соревнованию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Третий этап: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Презентация материалов проект</a:t>
            </a: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а</a:t>
            </a:r>
            <a:br>
              <a:rPr sz="36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Выставка рисунков детей на тему «Олимпийские игры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Сборник стихов, загадок о разных видах спорта и их значении для человека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Создание и оформление выставки «История Олимпиады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резентация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Спортивное соревновани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Малые зимние Олимпийские игры»- итог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ccff"/>
                </a:solidFill>
                <a:uFillTx/>
                <a:latin typeface="Tahoma"/>
              </a:rPr>
              <a:t>Ожидаемые результаты проект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Для дет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ность знаний  детей об истории Олимпийских игр, зимних видах спор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олнение словарного запаса детей 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Для педагог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нность осознанного отношения к своему собственному здоров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олнение знаний  об истории Олимпийских игр и зимних видах спор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опление наглядного материала, стихов и загадок о зимних видах спорта и Олимпиа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Для родител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  об истории Олимпийских иг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явление интереса к занятиям физкультурой и спорт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Открытие </a:t>
            </a:r>
            <a:br>
              <a:rPr sz="3200"/>
            </a:b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«Малых зимних Олимпийских игр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1"/>
          <a:stretch/>
        </p:blipFill>
        <p:spPr>
          <a:xfrm>
            <a:off x="7780320" y="0"/>
            <a:ext cx="1363680" cy="155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3786120"/>
            <a:ext cx="403848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C:\Users\Админ\Downloads\m4kLBlm1Srg.jpg"/>
          <p:cNvPicPr/>
          <p:nvPr/>
        </p:nvPicPr>
        <p:blipFill>
          <a:blip r:embed="rId2"/>
          <a:stretch/>
        </p:blipFill>
        <p:spPr>
          <a:xfrm>
            <a:off x="4500720" y="3643200"/>
            <a:ext cx="421452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:\Users\Админ\Downloads\TXd-qV7X89A.jpg"/>
          <p:cNvPicPr/>
          <p:nvPr/>
        </p:nvPicPr>
        <p:blipFill>
          <a:blip r:embed="rId3"/>
          <a:stretch/>
        </p:blipFill>
        <p:spPr>
          <a:xfrm>
            <a:off x="428760" y="1714680"/>
            <a:ext cx="41432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1T10:18:58Z</dcterms:created>
  <dc:creator>Ольга</dc:creator>
  <dc:description/>
  <dc:language>en-US</dc:language>
  <cp:lastModifiedBy>Админ</cp:lastModifiedBy>
  <dcterms:modified xsi:type="dcterms:W3CDTF">2021-10-13T20:07:57Z</dcterms:modified>
  <cp:revision>25</cp:revision>
  <dc:subject/>
  <dc:title>Навстречу Олимпиаде 2014  в Сочи </dc:title>
</cp:coreProperties>
</file>