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228-F55E-4B6C-B081-0F68002AE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41B-79EE-4603-8A6D-F1C031E22F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62E-0300-4BAB-BBF1-B0ACBC8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01-DA06-4F23-A522-FCF8E814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2DD-82A3-4834-BE72-EA0DCA41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771-FBA3-4D98-A2BD-53C25D5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426-2673-477A-A3DE-CFCAB841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FFA-48B3-4A3B-AE2A-244A886A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84FC-3994-4D52-8F36-FF39A221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5CC8-0184-495A-BD8C-94893252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42D0-08FD-41CC-94C2-885FCD4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C4E8-9D88-4FF1-AF2E-07E1EBA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2CA-E72D-4137-8891-6851076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C2E-DFB4-43D5-A4EA-DC08A91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EAE-056B-43E4-8C8B-7C2E48F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A96-1E48-4AF3-AA3B-C8DC3FB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A55A-B09E-470A-916C-8FAC6A6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977-9AF5-4993-9225-328FC979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552-DEF7-451D-8869-9785B8CD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BB7A-A26E-4C86-B085-670AFF7B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BCEA-8B94-4154-89E8-543684E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5251-9B68-4662-944F-5DA7161D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55A2-86CE-4012-A4E5-19B856A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1665-7F88-4A30-9461-629FCC0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54E-7E4B-43CF-984A-1D898EF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516E-B364-449D-B563-A24AE8EE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9ED3-DC12-48DD-AF4E-AD2A06A8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22AF-D4D0-4709-8387-A8BE76B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B07F-C7D0-46C6-9617-B8A29316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320F-8C80-4FDC-9422-0F9A58A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6A13-D6D5-4AB3-AE90-AB091D5D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660D-200E-4834-82C8-2B82BE2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602C-F418-4312-AD70-7978DBD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FCC2-AE48-4D76-92FC-FF520C4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C26C-5D5B-44F2-AD96-37E7E5F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CE6-787E-40E8-A13F-C702DEA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FC23-5A59-4131-8545-9754BA3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EEAA-C517-4503-9839-3607F6B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AE25-9D27-4E86-BB7C-1B0DC0C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9409-5C78-4697-B64D-922CA67C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9AAB-870C-4556-864B-DA376DF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9AAE-F684-495A-A5E5-FBCC885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0E0D-F5F6-4566-B7D2-BC346F0A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6173-A5BB-4169-9510-D1332901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BE6A-BA6F-4A72-A5E2-9A7CA6D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02B8-C004-4D63-8CAE-DFD1CBF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5D3-0E4C-4378-AA77-B794AEE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2137-00AA-489E-A2CC-5825D2EC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06982-E3D1-44B8-B892-1B126A6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E98D-618A-4ACD-9035-02C16340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D345-38F1-48F1-8A92-EC4A4B7B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24F4-8E92-45C0-A430-7880700A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58F1-6B9C-4870-A905-1F9E126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9878-D2B1-430A-833C-A0B44DC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7489-A855-49FB-89BC-7CAEB69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2907-9273-4599-9DA8-7EC3A3E5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BA41-09D2-4FF4-A403-CDD100E5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DA7-5057-4D5D-BB93-49BAC18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FE938-B398-4BA4-B812-91D59328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9CF-C43B-4C11-878D-66B5133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BC3-6390-4D69-84F3-F15C0C1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AA5-4578-4ADE-9375-DD0D97D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604-1FFF-4E80-A823-29ED17D6CFB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10" descr=""/>
          <p:cNvPicPr/>
          <p:nvPr/>
        </p:nvPicPr>
        <p:blipFill>
          <a:blip r:embed="rId4"/>
          <a:stretch/>
        </p:blipFill>
        <p:spPr>
          <a:xfrm>
            <a:off x="704880" y="404640"/>
            <a:ext cx="1655640" cy="1379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5251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FB9-390E-49A5-8B69-BDCD554E378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E8A-0B2A-4B8D-9ED5-ECDDE5A7C226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A240-BA4E-4732-8109-9D33753F9156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2045-DB75-4298-B9C8-7E526CAC7FEB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425000" cy="22557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7150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готовила: Ганеева Ирина Олег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итель – логопед МДОУ ДС №7 «Петуш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357800" y="3000240"/>
            <a:ext cx="4000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39680" y="396720"/>
            <a:ext cx="8454960" cy="1182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бенок должен уметь пользоваться разными способами словообразования и словоизменения (правильно употреблять слова с уменьшительно-ласкательными суффиксами, образовывать слова в нужной форм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4000680" cy="13874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1357200" y="571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назову один, а ты назови 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нь, - р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артикуляционная гимнастика (читстим нижние зубки)"/>
          <p:cNvPicPr/>
          <p:nvPr/>
        </p:nvPicPr>
        <p:blipFill>
          <a:blip r:embed="rId2"/>
          <a:stretch/>
        </p:blipFill>
        <p:spPr>
          <a:xfrm>
            <a:off x="4214880" y="1643040"/>
            <a:ext cx="2071800" cy="1147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артикуляционная гимнастика (читстим нижние зубки)"/>
          <p:cNvPicPr/>
          <p:nvPr/>
        </p:nvPicPr>
        <p:blipFill>
          <a:blip r:embed="rId3"/>
          <a:stretch/>
        </p:blipFill>
        <p:spPr>
          <a:xfrm>
            <a:off x="6429240" y="1357200"/>
            <a:ext cx="1676520" cy="928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артикуляционная гимнастика (читстим нижние зубки)"/>
          <p:cNvPicPr/>
          <p:nvPr/>
        </p:nvPicPr>
        <p:blipFill>
          <a:blip r:embed="rId4"/>
          <a:stretch/>
        </p:blipFill>
        <p:spPr>
          <a:xfrm>
            <a:off x="6500880" y="2143080"/>
            <a:ext cx="1592280" cy="882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9"/>
          <p:cNvSpPr/>
          <p:nvPr/>
        </p:nvSpPr>
        <p:spPr>
          <a:xfrm>
            <a:off x="285840" y="335772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жи, как называют детёнышей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214200" y="4000680"/>
            <a:ext cx="378648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6"/>
          <a:stretch/>
        </p:blipFill>
        <p:spPr>
          <a:xfrm>
            <a:off x="4214880" y="4071960"/>
            <a:ext cx="3192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 7 годам ребёнок должен уметь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сказывать небольшие по объёму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сказы и сказк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ть рассказ по картин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ть рассказ по серии карти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чать на вопросы по текст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34800" y="-36360"/>
            <a:ext cx="8474400" cy="2315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13840" y="1714680"/>
            <a:ext cx="89298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в семье условия, благоприятные для общего и речевого развития детей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гать ребенка за неправильную речь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язчиво исправлять неправильное произношение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острять внимание на запинках и повторах слогов и слов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озитивный настрой ребенка на занятия с педагогам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общаться с ребёнком,  чаще читать 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Castellar"/>
              </a:rPr>
              <a:t>Спасибо   за   внимание!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429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чь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 орудие, с помощью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торого человек мыслит и выражает свои мысли.»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.Л. Рубинштейн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-262080" y="195120"/>
            <a:ext cx="453564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42960" y="1857240"/>
            <a:ext cx="3816360" cy="4330800"/>
          </a:xfrm>
          <a:prstGeom prst="rect">
            <a:avLst/>
          </a:prstGeom>
          <a:noFill/>
          <a:ln w="39960">
            <a:solidFill>
              <a:srgbClr val="fa8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гда говорят о "готовности к школе", то имеют в виду не отдельные умения и знания, а их определенный набор, в котором присутствуют все основные компоненты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929120" y="726120"/>
            <a:ext cx="3456000" cy="5277600"/>
          </a:xfrm>
          <a:prstGeom prst="rect">
            <a:avLst/>
          </a:prstGeom>
          <a:noFill/>
          <a:ln w="39960">
            <a:solidFill>
              <a:srgbClr val="fa8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rebuchet MS"/>
              </a:rPr>
              <a:t>Наша речь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авильное произношение всех звуко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ение различать звуки речи на слух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ладение навыками звукового анализа и синтез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оварный запас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формированность грамматического строя речи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вязную речь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85840" y="324000"/>
            <a:ext cx="8450280" cy="1180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600200"/>
            <a:ext cx="8115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-231840"/>
            <a:ext cx="7461360" cy="1700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количество и последовате-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ьность звуков в слове, место звука в слов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 отношению к другим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бенку 6 -7 лет доступны слова сложной слоговой структуры (аквариум, библиотекарь, баскетболист, экскаватор). Он произносит их в быстром темпе, не переставляет, не выкидывает, не добавляет звуки и слоги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071800" y="4000680"/>
            <a:ext cx="371448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(около  3000  слов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своей речи он должен активно использовать все части реч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Title 1"/>
          <p:cNvSpPr/>
          <p:nvPr/>
        </p:nvSpPr>
        <p:spPr>
          <a:xfrm>
            <a:off x="2143080" y="500040"/>
            <a:ext cx="4300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рный зап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2500200" y="3290760"/>
            <a:ext cx="4071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343044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7:13:52Z</dcterms:created>
  <dc:creator>Microsoft</dc:creator>
  <dc:description/>
  <dc:language>en-US</dc:language>
  <cp:lastModifiedBy>Ирина</cp:lastModifiedBy>
  <dcterms:modified xsi:type="dcterms:W3CDTF">2022-02-07T10:00:43Z</dcterms:modified>
  <cp:revision>90</cp:revision>
  <dc:subject/>
  <dc:title>Презентация PowerPoint</dc:title>
</cp:coreProperties>
</file>