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17C-2EAA-40CD-A9D6-9375C2A18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8A38-F850-4775-9CD2-BC644D249F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4EB-B48F-4404-B4AE-DEF604EC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ED3-3056-46B3-AAEC-7003D0A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F64-8214-4459-9550-6AE8823D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E23-EC22-4F7E-8067-C9FF5596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6A9-95FF-4D5C-9C17-867429E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1723-D4BB-46F8-86F1-785BE66A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B27-E177-4943-A64D-5FA33A4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E1D1-2434-4837-9297-9FCBC7F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DAD-641B-4715-8265-9C1AF613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1E6-F28F-4825-98EE-0D5F54D6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8A5-58D0-4CC2-91E3-9C66FD2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583-514A-4B35-A5F7-3BBC986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9BBB-1295-4AA6-A3FC-D53E213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F3F6-01D9-4404-B30C-49EDCA9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1EA-4964-4E62-927F-C9D566C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2FC-060E-4C85-84DE-58D11E3A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015A-3F5A-4427-9610-B3CC96C3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4162-F8A4-4F66-9761-895DC4DA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B2EC-40E5-48BD-8EFE-6915CC09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55A2-BBD9-4FBD-8052-E75B1E32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3321-C0CC-49C5-8EFD-047D6457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9714-C3A0-4FDC-9B1D-5E2402F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51F-58BD-46FB-9A38-376F0E5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9420-7F69-4EE4-B64D-E1B590E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3A89-09DD-431C-B4F7-8AF1432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982F-A380-4902-AA1C-7D80D23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2DF0-F01E-4D29-BA32-B01AEB8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6426-AA2E-45CE-9EDE-1662B3FE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0EF1-DC74-4B92-A4CB-E61D607B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7E0C-7E28-4643-B1B3-DA47E2A9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0A4D-F9A3-4C67-9750-FDCAA3E7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1766-2152-43A5-A154-6F13A537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4ECC-A969-460B-9E69-1CF8B84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AD3-C1A2-46B0-8E3F-9776720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FB00-2F73-4812-AA01-08CE480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FCB1-5DAA-409C-8871-4F65F30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CC96-5F69-4C12-905D-A3E368C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A13F-6140-408D-A860-2EB88FE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76D1-6DCA-4663-86E9-5C14644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7471-E38E-4130-ABD4-25A6C30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B6D3-28FA-4418-806B-9ED3002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99C97-192B-45A1-973B-015C6592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DD43-AFBF-40F6-BF7F-C69E710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DD79-659B-4864-906F-B5EB37EB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AC0-CBFD-4AD0-9260-41258A7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105E-FFEE-49EE-B671-44EBBDB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AD36-FE1A-4F6B-9573-19A3B0F0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A102-37A4-4E1D-B1A7-C756FCC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07E5-F190-4767-85A2-9F8103BF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77BB-3BF4-49BC-B84A-6F0DE0E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505F-C552-4422-956F-E5802C1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708D-151A-41CC-972A-0466807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3A79-CBFB-4B3C-B03C-CC6948E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D41A-A031-4421-B0B0-EB82906C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632E-DC05-4CEE-9FA0-32461E25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AF0-1BF6-4FEA-88A6-389566F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3FF2-F48A-4240-8782-B0B3853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3BE-CC20-476B-8AA9-414DB25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EF5-6685-40D1-A2AB-5C14DFE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D96-0923-4BDD-8D46-8BBF56A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5A33-AB4E-4F71-9566-B1EE62A4BB3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Рисунок 10" descr=""/>
          <p:cNvPicPr/>
          <p:nvPr/>
        </p:nvPicPr>
        <p:blipFill>
          <a:blip r:embed="rId4"/>
          <a:stretch/>
        </p:blipFill>
        <p:spPr>
          <a:xfrm>
            <a:off x="704880" y="404640"/>
            <a:ext cx="1655640" cy="1379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5251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0F1-6DCF-45B6-A7A6-C08ADC567558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1A5-2BDE-4186-8FD5-8CD3604EA0CA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1EBE-98A3-4443-831E-50FE7974793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73A-8B19-4778-A583-7E54B134BB30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425000" cy="22557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7150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готовила: Ганеева Ирина Олег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итель – логопед МДОУ ДС №7 «Петуш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357800" y="3000240"/>
            <a:ext cx="4000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39680" y="396720"/>
            <a:ext cx="8454960" cy="1182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бенок должен уметь пользоваться разными способами словообразования и словоизменения (правильно употреблять слова с уменьшительно-ласкательными суффиксами, образовывать слова в нужной форм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4000680" cy="13874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1357200" y="571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назову один, а ты назови мн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нь, - р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артикуляционная гимнастика (читстим нижние зубки)"/>
          <p:cNvPicPr/>
          <p:nvPr/>
        </p:nvPicPr>
        <p:blipFill>
          <a:blip r:embed="rId2"/>
          <a:stretch/>
        </p:blipFill>
        <p:spPr>
          <a:xfrm>
            <a:off x="4214880" y="1643040"/>
            <a:ext cx="2071800" cy="1147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артикуляционная гимнастика (читстим нижние зубки)"/>
          <p:cNvPicPr/>
          <p:nvPr/>
        </p:nvPicPr>
        <p:blipFill>
          <a:blip r:embed="rId3"/>
          <a:stretch/>
        </p:blipFill>
        <p:spPr>
          <a:xfrm>
            <a:off x="6429240" y="1357200"/>
            <a:ext cx="1676520" cy="928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артикуляционная гимнастика (читстим нижние зубки)"/>
          <p:cNvPicPr/>
          <p:nvPr/>
        </p:nvPicPr>
        <p:blipFill>
          <a:blip r:embed="rId4"/>
          <a:stretch/>
        </p:blipFill>
        <p:spPr>
          <a:xfrm>
            <a:off x="6500880" y="2143080"/>
            <a:ext cx="1592280" cy="882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9"/>
          <p:cNvSpPr/>
          <p:nvPr/>
        </p:nvSpPr>
        <p:spPr>
          <a:xfrm>
            <a:off x="285840" y="335772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жи, как называют детёнышей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214200" y="4000680"/>
            <a:ext cx="378648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6"/>
          <a:stretch/>
        </p:blipFill>
        <p:spPr>
          <a:xfrm>
            <a:off x="4214880" y="4071960"/>
            <a:ext cx="3192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 7 годам ребёнок должен уметь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сказывать небольшие по объёму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ссказы и сказк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ть рассказ по картин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ть рассказ по серии карти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чать на вопросы по текст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334800" y="-36360"/>
            <a:ext cx="8474400" cy="2315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213840" y="1714680"/>
            <a:ext cx="89298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в семье условия, благоприятные для общего и речевого развития детей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гать ребенка за неправильную речь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язчиво исправлять неправильное произношение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острять внимание на запинках и повторах слогов и слов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озитивный настрой ребенка на занятия с педагогам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общаться с ребёнком,  чаще читать 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Castellar"/>
              </a:rPr>
              <a:t>Спасибо   за   внимание!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429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чь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 орудие, с помощью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торого человек мыслит и выражает свои мысли.»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.Л. Рубинштейн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-262080" y="195120"/>
            <a:ext cx="453564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42960" y="1857240"/>
            <a:ext cx="3816360" cy="4330800"/>
          </a:xfrm>
          <a:prstGeom prst="rect">
            <a:avLst/>
          </a:prstGeom>
          <a:noFill/>
          <a:ln w="39960">
            <a:solidFill>
              <a:srgbClr val="fa8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Когда говорят о "готовности к школе", то имеют в виду не отдельные умения и знания, а их определенный набор, в котором присутствуют все основные компоненты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929120" y="726120"/>
            <a:ext cx="3456000" cy="5277600"/>
          </a:xfrm>
          <a:prstGeom prst="rect">
            <a:avLst/>
          </a:prstGeom>
          <a:noFill/>
          <a:ln w="39960">
            <a:solidFill>
              <a:srgbClr val="fa8d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rebuchet MS"/>
              </a:rPr>
              <a:t>Наша речь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авильное произношение всех звуко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ение различать звуки речи на слух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ладение навыками звукового анализа и синтез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оварный запас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формированность грамматического строя речи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вязную речь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85840" y="324000"/>
            <a:ext cx="8450280" cy="1180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600200"/>
            <a:ext cx="8115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-231840"/>
            <a:ext cx="7461360" cy="1700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количество и последовате-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ьность звуков в слове, место звука в слов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 отношению к другим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бенку 6 -7 лет доступны слова сложной слоговой структуры (аквариум, библиотекарь, баскетболист, экскаватор). Он произносит их в быстром темпе, не переставляет, не выкидывает, не добавляет звуки и слоги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2071800" y="4000680"/>
            <a:ext cx="371448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(около  3000  слов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своей речи он должен активно использовать все части реч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Title 1"/>
          <p:cNvSpPr/>
          <p:nvPr/>
        </p:nvSpPr>
        <p:spPr>
          <a:xfrm>
            <a:off x="2143080" y="500040"/>
            <a:ext cx="4300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рный зап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2500200" y="3290760"/>
            <a:ext cx="4071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343044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2913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7:13:52Z</dcterms:created>
  <dc:creator>Microsoft</dc:creator>
  <dc:description/>
  <dc:language>en-US</dc:language>
  <cp:lastModifiedBy>Ирина</cp:lastModifiedBy>
  <dcterms:modified xsi:type="dcterms:W3CDTF">2022-02-07T10:00:43Z</dcterms:modified>
  <cp:revision>90</cp:revision>
  <dc:subject/>
  <dc:title>Презентация PowerPoint</dc:title>
</cp:coreProperties>
</file>