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6CF71-0679-428C-9578-696CC2A2F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BAB83-60FB-4730-8379-D92D9A290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4515B-8B83-49C7-9355-9B4BEE557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54E7E-24D2-4A78-B1A1-B7E565F77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21D5-4B13-47D3-907E-2CB9724160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0DB3-8E00-4438-B95F-D6957D35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A4625-9F94-49A0-A7F7-96A7E954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E0AC8-B732-498F-99F3-BC87887D1C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DB945-D9F6-44FD-BBFD-B181FD279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E667E-691D-481C-990C-C210C0CD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E35AA-8999-4ADA-B59E-43DDB7C1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6D3DA-D4D0-4ED5-8F93-F5D138E4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C15C7-549B-478C-BDE6-F1514A9D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75C44-9B38-40E2-9B92-B66C4C75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44559-0565-48DF-A8DD-F298D440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3013-E5DC-40FF-BFAC-67E4C7AF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C5D26-DE30-4C60-81F3-D092CEA1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C3237-6BA7-49F9-ACE4-8C0CEE16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139DA-A32C-46E2-9754-AB8D22D7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29B9C-33E7-48AE-87FD-6F4D0431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F2E4A-C1D7-419D-A0D7-75D6C2A67E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9B71-44BA-463B-8706-64D08E9C45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C8B9-69A6-4AA1-819E-7AADE872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7996-B979-4440-A688-AC1EEA73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15DF-6FB7-4F6C-ADB3-A1639E00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02C4-8536-44D1-87EE-6F718D93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209F-D964-4A28-B36E-159C7F04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5C40-76A3-403E-8F41-04C7C734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6615-DC65-499B-9924-87AD3019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5341-30A3-4C5C-A1E4-8C36F18D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7BF5-782B-4181-BC18-DE2AD5CC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932C-FE82-4DF0-B4DF-9E71A865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4F53-979F-45F0-B174-3799846C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6C71-DF6B-45A8-949A-5D99C272D1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7B8D-159D-42B5-8A3C-77CB418A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8602-AF9C-4342-B85C-CDB86F3E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E38A-A42D-4D34-BC33-17BCD0C5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802C-6635-47EB-84D7-8C762CFB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1C58-74AF-4898-BD2E-8CA9F9B5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DB50-F30C-4C61-B1AB-233789E1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B0006-1E03-418C-9DE1-28721B016ABD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B77DC-3430-4C6B-81AA-1051066CFE58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4000"/>
          </a:bodyPr>
          <a:p>
            <a:pPr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3680" indent="-3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59840" indent="-316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23920" indent="-316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88000" indent="-316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88000" indent="-316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88000" indent="-316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4BA4B-7D9F-4778-BDBB-56598CBF3DD1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7DB74-696F-4954-B8E5-3A2D5C48F738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999BF-2577-469C-8466-256A49655680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B8FF8-2EAA-411F-BE76-022B7B2ABC04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едметно-развивающая среда              в детском саду в рамках 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442440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МБДОУ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№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Группа Средня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ириченко А.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2021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 сюжетно-ролевой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6" descr=""/>
          <p:cNvPicPr/>
          <p:nvPr/>
        </p:nvPicPr>
        <p:blipFill>
          <a:blip r:embed="rId1"/>
          <a:stretch/>
        </p:blipFill>
        <p:spPr>
          <a:xfrm>
            <a:off x="0" y="500040"/>
            <a:ext cx="4929120" cy="3500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2"/>
          <a:stretch/>
        </p:blipFill>
        <p:spPr>
          <a:xfrm>
            <a:off x="5000760" y="500040"/>
            <a:ext cx="4143240" cy="3357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"/>
          <p:cNvPicPr/>
          <p:nvPr/>
        </p:nvPicPr>
        <p:blipFill>
          <a:blip r:embed="rId3"/>
          <a:stretch/>
        </p:blipFill>
        <p:spPr>
          <a:xfrm>
            <a:off x="5072040" y="392904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7" descr=""/>
          <p:cNvPicPr/>
          <p:nvPr/>
        </p:nvPicPr>
        <p:blipFill>
          <a:blip r:embed="rId4"/>
          <a:stretch/>
        </p:blipFill>
        <p:spPr>
          <a:xfrm>
            <a:off x="0" y="3286080"/>
            <a:ext cx="4071960" cy="35719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8" descr=""/>
          <p:cNvPicPr/>
          <p:nvPr/>
        </p:nvPicPr>
        <p:blipFill>
          <a:blip r:embed="rId5"/>
          <a:stretch/>
        </p:blipFill>
        <p:spPr>
          <a:xfrm>
            <a:off x="3214800" y="3143160"/>
            <a:ext cx="3357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"/>
          <p:cNvSpPr/>
          <p:nvPr/>
        </p:nvSpPr>
        <p:spPr>
          <a:xfrm>
            <a:off x="428760" y="-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нтр физ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7" descr=""/>
          <p:cNvPicPr/>
          <p:nvPr/>
        </p:nvPicPr>
        <p:blipFill>
          <a:blip r:embed="rId2"/>
          <a:stretch/>
        </p:blipFill>
        <p:spPr>
          <a:xfrm>
            <a:off x="4357800" y="2428920"/>
            <a:ext cx="4643280" cy="44290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"/>
          <p:cNvPicPr/>
          <p:nvPr/>
        </p:nvPicPr>
        <p:blipFill>
          <a:blip r:embed="rId3"/>
          <a:stretch/>
        </p:blipFill>
        <p:spPr>
          <a:xfrm>
            <a:off x="285840" y="500040"/>
            <a:ext cx="3857400" cy="2506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"/>
          <p:cNvPicPr/>
          <p:nvPr/>
        </p:nvPicPr>
        <p:blipFill>
          <a:blip r:embed="rId4"/>
          <a:stretch/>
        </p:blipFill>
        <p:spPr>
          <a:xfrm>
            <a:off x="4357800" y="500040"/>
            <a:ext cx="4572000" cy="25718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"/>
          <p:cNvPicPr/>
          <p:nvPr/>
        </p:nvPicPr>
        <p:blipFill>
          <a:blip r:embed="rId5"/>
          <a:stretch/>
        </p:blipFill>
        <p:spPr>
          <a:xfrm>
            <a:off x="285840" y="3357720"/>
            <a:ext cx="38574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нтр осн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9"/>
          <p:cNvSpPr/>
          <p:nvPr/>
        </p:nvSpPr>
        <p:spPr>
          <a:xfrm>
            <a:off x="857160" y="928800"/>
            <a:ext cx="7572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Очень важно закрепить у детей понятие пожарная безопасность, убедить в необходимости соблюдения правил пожарной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762360" cy="3537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4083120" cy="35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  правил дорожного движ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5"/>
          <p:cNvSpPr/>
          <p:nvPr/>
        </p:nvSpPr>
        <p:spPr>
          <a:xfrm>
            <a:off x="1071720" y="785880"/>
            <a:ext cx="7500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Обучение ПДД  направлено на развитие  стремлений к изучению правил дорожного движения, о назначении  дорожных знаков. Воспитанию  у дошкольников правила безопасного поведения на дор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2548080" cy="35593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7" descr=""/>
          <p:cNvPicPr/>
          <p:nvPr/>
        </p:nvPicPr>
        <p:blipFill>
          <a:blip r:embed="rId3"/>
          <a:stretch/>
        </p:blipFill>
        <p:spPr>
          <a:xfrm>
            <a:off x="3286080" y="2000160"/>
            <a:ext cx="50007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0" y="5572080"/>
            <a:ext cx="9144000" cy="1285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-2145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нтр театрализованной деятельности</a:t>
            </a: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0" y="1143000"/>
            <a:ext cx="5214960" cy="35719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3" descr=""/>
          <p:cNvPicPr/>
          <p:nvPr/>
        </p:nvPicPr>
        <p:blipFill>
          <a:blip r:embed="rId3"/>
          <a:stretch/>
        </p:blipFill>
        <p:spPr>
          <a:xfrm>
            <a:off x="4286160" y="3051000"/>
            <a:ext cx="485784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900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нтр математ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6" descr=""/>
          <p:cNvPicPr/>
          <p:nvPr/>
        </p:nvPicPr>
        <p:blipFill>
          <a:blip r:embed="rId2"/>
          <a:stretch/>
        </p:blipFill>
        <p:spPr>
          <a:xfrm>
            <a:off x="3643200" y="571680"/>
            <a:ext cx="5500800" cy="62863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7"/>
          <p:cNvSpPr/>
          <p:nvPr/>
        </p:nvSpPr>
        <p:spPr>
          <a:xfrm>
            <a:off x="528480" y="1319040"/>
            <a:ext cx="290052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Arial"/>
              </a:rPr>
              <a:t>направлен на воспитание и формирование математических представлений  у детей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2278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нтр патриотического воспитания</a:t>
            </a:r>
            <a:br>
              <a:rPr sz="2800"/>
            </a:b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развивает любовь к своей малой Родине, представление о том, чем она знаменита, какова природа, каким трудом заняты люди – отражено, то  что чрезвычайно важно для воспитания нравственных, духовных и патриотических чувств подрастающего поколения.</a:t>
            </a:r>
            <a:br>
              <a:rPr sz="2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ребования ФГОС                                                          к  предметно - развивающей среде: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2785680"/>
            <a:ext cx="784872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 Доступность для воспитанников всех помещений организации, где осуществляется образовательный процесс.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Свободный доступ воспитанников к играм, игрушкам, материалам, пособиям, обеспечивающих все основные виды деятельности. </a:t>
            </a:r>
            <a:r>
              <a:rPr b="1" lang="ru-RU" sz="3200" spc="-1" strike="noStrike">
                <a:solidFill>
                  <a:srgbClr val="3333cc"/>
                </a:solidFill>
                <a:latin typeface="Calibri"/>
              </a:rPr>
              <a:t>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"/>
          <p:cNvSpPr/>
          <p:nvPr/>
        </p:nvSpPr>
        <p:spPr>
          <a:xfrm>
            <a:off x="539640" y="333360"/>
            <a:ext cx="7993080" cy="54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Monotype Corsiva"/>
              </a:rPr>
              <a:t>Предметная развивающая среда должна способствовать реализации образовательных областей в образовательном процессе, включающ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) совместную партнерскую деятельность взрослого и детей;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) свободную самостоятельную деятельность самих детей в условиях созданной педагогами предметной развивающей образовательной среды, обеспечивающей выбор каждым ребенком деятельности по интересам и позволяющей ему взаимодействовать со сверстниками или действовать индивиду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2"/>
          <p:cNvSpPr/>
          <p:nvPr/>
        </p:nvSpPr>
        <p:spPr>
          <a:xfrm>
            <a:off x="395280" y="189000"/>
            <a:ext cx="849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При формировании предметно-развивающей среды в своей группе, мы поставили себе цель выполнять это с минимальными экономическими затратами, поскольку не можем рассчитывать на серьезные материальные вложения в оснащение предметной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Мы стараемся сделать предметно-развивающую среду разнообразной, яркой, информативно богатой, для того чтобы максимально ускорить и облегчить адаптационный период детей в детском саду, создать эмоционально положительную атмосферу в группе, обеспечить индивидуальное гармоничное развитие ребенка. Мы соблюдаем принцип зонирования. Благодаря организации различных игровых зон и уголков с помощью открытых стеллажей, не загромождающих помещение. В группе созданы условия для разных видов детской деятельности (игровой, продуктивной и познавательно-исследовательской). Для того, чтобы каждый ребенок смог найти себе дело и занятие по душе и чувствовал себя комфортно, в группе выделены центры определенного вида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573264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нтр  художественно — эстетического развития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d2db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0" y="4357800"/>
            <a:ext cx="3643200" cy="2500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"/>
          <p:cNvPicPr/>
          <p:nvPr/>
        </p:nvPicPr>
        <p:blipFill>
          <a:blip r:embed="rId2"/>
          <a:stretch/>
        </p:blipFill>
        <p:spPr>
          <a:xfrm>
            <a:off x="0" y="1571760"/>
            <a:ext cx="2928960" cy="2571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3"/>
          <a:stretch/>
        </p:blipFill>
        <p:spPr>
          <a:xfrm>
            <a:off x="2857680" y="4357800"/>
            <a:ext cx="2928600" cy="2500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"/>
          <p:cNvPicPr/>
          <p:nvPr/>
        </p:nvPicPr>
        <p:blipFill>
          <a:blip r:embed="rId4"/>
          <a:stretch/>
        </p:blipFill>
        <p:spPr>
          <a:xfrm>
            <a:off x="5072040" y="4351320"/>
            <a:ext cx="4071960" cy="25066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6"/>
          <p:cNvSpPr/>
          <p:nvPr/>
        </p:nvSpPr>
        <p:spPr>
          <a:xfrm>
            <a:off x="3429000" y="1714680"/>
            <a:ext cx="478620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Arial"/>
              </a:rPr>
              <a:t>Включает в себя музыкальные игрушки и материалы для художественно-творческой деятельности: рисования, лепки и аппликации, а также наглядно-демонстрационный материал по народно-прикладному искус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4643280" y="1000080"/>
            <a:ext cx="4500720" cy="5857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нтр  речевого развития                               </a:t>
            </a:r>
            <a:br>
              <a:rPr sz="28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 играет существенную роль в формировании у детей интереса и любви к художественной литературе. В этом уголке ребенок имеет возможность самостоятельно, по своему вкусу выбрать книгу и спокойно рассмотреть ее с яркими иллюстрациям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3571920" y="2643120"/>
            <a:ext cx="3093840" cy="25034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7" descr=""/>
          <p:cNvPicPr/>
          <p:nvPr/>
        </p:nvPicPr>
        <p:blipFill>
          <a:blip r:embed="rId3"/>
          <a:stretch/>
        </p:blipFill>
        <p:spPr>
          <a:xfrm>
            <a:off x="0" y="1643040"/>
            <a:ext cx="36432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0" y="1000080"/>
            <a:ext cx="5643720" cy="58579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6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роды и экспериментирования</a:t>
            </a: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                   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5786280" y="1500120"/>
            <a:ext cx="2857680" cy="43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В нем находится материал, для осуществления опытной деятельности:  лупы, колбы, мерные стаканчики, воронки, песочные часы, грунт, камни, семена, крупы. Комнатные растения, инструменты по уходу за ними: грабли, лопатки для рыхления, пульвер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00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Подоконник отличное место для разведения небольшого домашнего огорода. Процесс выращивания на окне свежей зелени несложен и почти не требует материальных затрат, зато сколько удовольствия для детей и пользы. Это занятие развивает любознательность и наблюдательность у детей, помогает им лучше познать жизнь раст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4" descr=""/>
          <p:cNvPicPr/>
          <p:nvPr/>
        </p:nvPicPr>
        <p:blipFill>
          <a:blip r:embed="rId1"/>
          <a:stretch/>
        </p:blipFill>
        <p:spPr>
          <a:xfrm>
            <a:off x="357120" y="2071800"/>
            <a:ext cx="842976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0"/>
          <p:cNvSpPr/>
          <p:nvPr/>
        </p:nvSpPr>
        <p:spPr>
          <a:xfrm>
            <a:off x="642960" y="500040"/>
            <a:ext cx="785808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циально-личностное развитие. </a:t>
            </a:r>
            <a:br>
              <a:rPr sz="28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гра - основной вид деятельности наших малышей. Яркий, насыщенный игровой центр создает условия для творческой деятельности детей, развивает фантазию, формирует игровые навыки и умения, воспитывает дружеское взаимоотношение между детьми.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свободном доступе для детей находятся атрибуты для зарождающихся в этом возрасте сюжетно- ролевых игр: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«Семья», «Больница», , «Магазин», «Кафе», «Парикмахерск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д</dc:creator>
  <dc:description/>
  <dc:language>en-US</dc:language>
  <cp:lastModifiedBy>Пользователь</cp:lastModifiedBy>
  <dcterms:modified xsi:type="dcterms:W3CDTF">2022-02-07T17:01:27Z</dcterms:modified>
  <cp:revision>19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1</vt:r8>
  </property>
</Properties>
</file>