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AEED4-C484-4D16-A5AC-26F660A62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DE515-8068-423C-9AF5-57DA7D92A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5878-E39B-4DD9-B8AC-2B15F53B0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F2536-98E1-4B32-815F-6F0EC84C2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5C1B-3822-4F68-BCFF-9BCB401AC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779E-F4C5-4155-8F91-A12904F9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3832-A8FF-4819-B690-3F5E9DD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0E7B-A274-4403-9FE3-C76C95E3E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AE6E-711C-422E-BF95-4E37FD896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4821B-CF2A-48C5-AD82-7CA742C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B51E-7CBF-425E-82C8-B5EAA1B6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DAE8A-E9F6-4A2B-8830-FB9CCE1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C53FD-40C0-400F-89D6-CAF712A0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30C32-C565-4C8C-A7A3-89629680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CA9B1-AB67-47F9-B380-D355D081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1360-E1AF-47CC-AE52-9A5E6DF8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32656-60B5-439B-BF01-7B91935F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42C66-BF37-4E47-9F3E-2019AED0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2CF97-8346-4AA7-BCD7-CED45A7C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543AA-5554-46A2-B098-4860CB7A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70319-C7C1-439F-8BEF-319705AEE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9A19-28CE-4CC3-B75C-BD4A95C694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A2D6-F05B-49CC-9701-3022F9F8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9A48-F30D-4118-AB39-69DCECD7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B2E4-B423-415D-814C-905021E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583F-3130-414A-93D9-F0C81B24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2583-0476-4393-B654-F784B2EC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9CF4-33E1-4EF8-A873-EB0F8F75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07FE-189C-4676-8702-C2E14832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8F3-0EDA-4F92-9CBD-466C35D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5C16-C6CF-45E9-AE70-C3BE7A6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81F-9C2E-4543-AC45-A8C69FA1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1546-7708-429E-8FDD-BA38C6F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E52A-2B21-4930-9BD3-BCCCF36E7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7A41-7070-4452-A88C-35E2BF5C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DDF1-9EA0-4AAC-A6EB-2B18495C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A750-159F-4C0A-901A-A48432F6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FDDB-C0B6-4D27-9780-7E8775DD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8421-A0E8-4BCA-AEFA-C2035369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1FB4-AB56-415B-B174-CDB1EF96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4272D-1642-43F6-A710-6656BB3E8F34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0AD03-704C-47EE-B3CC-D067EEF04D7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3680" indent="-39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984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2392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8800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8800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88000" indent="-316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BB7A9-FEBC-4C94-A314-CB6B8BB64CB8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F03DC-3887-4095-830B-C23784B727D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F1CF7-D6C6-4359-9936-35D3930D1C1C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4AF86-63AF-4E16-8637-4954F5C716F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в рамка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442440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№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Группа Средня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ириченко А.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2021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сюжетно-ролевой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b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6" descr=""/>
          <p:cNvPicPr/>
          <p:nvPr/>
        </p:nvPicPr>
        <p:blipFill>
          <a:blip r:embed="rId1"/>
          <a:stretch/>
        </p:blipFill>
        <p:spPr>
          <a:xfrm>
            <a:off x="0" y="500040"/>
            <a:ext cx="4929120" cy="3500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2"/>
          <a:stretch/>
        </p:blipFill>
        <p:spPr>
          <a:xfrm>
            <a:off x="5000760" y="500040"/>
            <a:ext cx="4143240" cy="3357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3"/>
          <a:stretch/>
        </p:blipFill>
        <p:spPr>
          <a:xfrm>
            <a:off x="5072040" y="392904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"/>
          <p:cNvPicPr/>
          <p:nvPr/>
        </p:nvPicPr>
        <p:blipFill>
          <a:blip r:embed="rId4"/>
          <a:stretch/>
        </p:blipFill>
        <p:spPr>
          <a:xfrm>
            <a:off x="0" y="3286080"/>
            <a:ext cx="4071960" cy="35719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8" descr=""/>
          <p:cNvPicPr/>
          <p:nvPr/>
        </p:nvPicPr>
        <p:blipFill>
          <a:blip r:embed="rId5"/>
          <a:stretch/>
        </p:blipFill>
        <p:spPr>
          <a:xfrm>
            <a:off x="3214800" y="3143160"/>
            <a:ext cx="3357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428760" y="-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нтр физ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7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4643280" cy="44290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"/>
          <p:cNvPicPr/>
          <p:nvPr/>
        </p:nvPicPr>
        <p:blipFill>
          <a:blip r:embed="rId3"/>
          <a:stretch/>
        </p:blipFill>
        <p:spPr>
          <a:xfrm>
            <a:off x="285840" y="500040"/>
            <a:ext cx="3857400" cy="2506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"/>
          <p:cNvPicPr/>
          <p:nvPr/>
        </p:nvPicPr>
        <p:blipFill>
          <a:blip r:embed="rId4"/>
          <a:stretch/>
        </p:blipFill>
        <p:spPr>
          <a:xfrm>
            <a:off x="4357800" y="50004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"/>
          <p:cNvPicPr/>
          <p:nvPr/>
        </p:nvPicPr>
        <p:blipFill>
          <a:blip r:embed="rId5"/>
          <a:stretch/>
        </p:blipFill>
        <p:spPr>
          <a:xfrm>
            <a:off x="285840" y="3357720"/>
            <a:ext cx="3857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нтр осн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9"/>
          <p:cNvSpPr/>
          <p:nvPr/>
        </p:nvSpPr>
        <p:spPr>
          <a:xfrm>
            <a:off x="857160" y="928800"/>
            <a:ext cx="7572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Очень важно закрепить у детей понятие пожарная безопасность, убедить в необходимости соблюдения правил пожарной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762360" cy="353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83120" cy="35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 правил дорожного дви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1071720" y="785880"/>
            <a:ext cx="750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Обучение ПДД  направлено на развитие  стремлений к изучению правил дорожного движения, о назначении  дорожных знаков. Воспитанию  у дошкольников правила безопасного поведения на дор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2548080" cy="35593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7" descr=""/>
          <p:cNvPicPr/>
          <p:nvPr/>
        </p:nvPicPr>
        <p:blipFill>
          <a:blip r:embed="rId3"/>
          <a:stretch/>
        </p:blipFill>
        <p:spPr>
          <a:xfrm>
            <a:off x="3286080" y="2000160"/>
            <a:ext cx="50007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-2145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нтр театрализованной деятельности</a:t>
            </a: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0" y="1143000"/>
            <a:ext cx="5214960" cy="35719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3" descr=""/>
          <p:cNvPicPr/>
          <p:nvPr/>
        </p:nvPicPr>
        <p:blipFill>
          <a:blip r:embed="rId3"/>
          <a:stretch/>
        </p:blipFill>
        <p:spPr>
          <a:xfrm>
            <a:off x="4286160" y="3051000"/>
            <a:ext cx="48578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900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нтр математ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ата 4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"/>
          <p:cNvPicPr/>
          <p:nvPr/>
        </p:nvPicPr>
        <p:blipFill>
          <a:blip r:embed="rId2"/>
          <a:stretch/>
        </p:blipFill>
        <p:spPr>
          <a:xfrm>
            <a:off x="3643200" y="571680"/>
            <a:ext cx="5500800" cy="62863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7"/>
          <p:cNvSpPr/>
          <p:nvPr/>
        </p:nvSpPr>
        <p:spPr>
          <a:xfrm>
            <a:off x="528480" y="1319040"/>
            <a:ext cx="290052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направлен на воспитание и формирование математических представлений  у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2278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нтр патриотического воспитания</a:t>
            </a:r>
            <a:br>
              <a:rPr sz="2800"/>
            </a:br>
            <a:r>
              <a:rPr b="0" lang="ru-RU" sz="1800" spc="-1" strike="noStrike">
                <a:solidFill>
                  <a:srgbClr val="2d2db9"/>
                </a:solidFill>
                <a:latin typeface="Arial"/>
              </a:rPr>
              <a:t>развивает любовь к своей малой Родине, представление о том, чем она знаменита, какова природа, каким трудом заняты люди – отражено, то  что чрезвычайно важно для воспитания нравственных, духовных и патриотических чувств подрастающего поколения.</a:t>
            </a: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ребования ФГОС                                                          к  предметно - развивающей среде: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2785680"/>
            <a:ext cx="784872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 Доступность для воспитанников всех помещений организации, где осуществляется образовательный процесс.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Свободный доступ воспитанников к играм, игрушкам, материалам, пособиям, обеспечивающих все основные виды деятельности. </a:t>
            </a: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"/>
          <p:cNvSpPr/>
          <p:nvPr/>
        </p:nvSpPr>
        <p:spPr>
          <a:xfrm>
            <a:off x="539640" y="333360"/>
            <a:ext cx="7993080" cy="54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Monotype Corsiva"/>
              </a:rPr>
              <a:t>Предметная развивающая среда должна способствовать реализации образовательных областей в образовательном процессе, включающ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) совместную партнерскую деятельность взрослого и детей;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) свободную самостоятельную деятельность самих детей в условиях созданной педагогами предметной развивающей образовательной среды, обеспечивающей выбор каждым ребенком деятельности по интересам и позволяющей ему взаимодействовать со сверстниками или действовать индивиду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2"/>
          <p:cNvSpPr/>
          <p:nvPr/>
        </p:nvSpPr>
        <p:spPr>
          <a:xfrm>
            <a:off x="395280" y="189000"/>
            <a:ext cx="849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При формировании предметно-развивающей среды в своей группе, мы поставили себе цель выполнять это с минимальными экономическими затратами, поскольку не можем рассчитывать на серьезные материальные вложения в оснащение предметной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Мы стараемся сделать предметно-развивающую среду разнообразной, яркой, информативно богатой, для того чтобы максимально ускорить и облегчить адаптационный период детей в детском саду, создать эмоционально положительную атмосферу в группе, обеспечить индивидуальное гармоничное развитие ребенка. Мы соблюдаем принцип зонирования. Благодаря организации различных игровых зон и уголков с помощью открытых стеллажей, не загромождающих помещение. В группе созданы условия для разных видов детской деятельности (игровой, продуктивной и познавательно-исследовательской). Для того, чтобы каждый ребенок смог найти себе дело и занятие по душе и чувствовал себя комфортно, в группе выделены центры определенного вида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нтр  художественно — эстетического развития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0" y="4357800"/>
            <a:ext cx="3643200" cy="2500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2"/>
          <a:stretch/>
        </p:blipFill>
        <p:spPr>
          <a:xfrm>
            <a:off x="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3"/>
          <a:stretch/>
        </p:blipFill>
        <p:spPr>
          <a:xfrm>
            <a:off x="2857680" y="4357800"/>
            <a:ext cx="292860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4"/>
          <a:stretch/>
        </p:blipFill>
        <p:spPr>
          <a:xfrm>
            <a:off x="5072040" y="4351320"/>
            <a:ext cx="4071960" cy="25066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3429000" y="1714680"/>
            <a:ext cx="478620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Arial"/>
              </a:rPr>
              <a:t>Включает в себя музыкальные игрушки и материалы для художественно-творческой деятельности: рисования, лепки и аппликации, а также наглядно-демонстрационный материал по народно-прикладному искус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643280" y="1000080"/>
            <a:ext cx="4500720" cy="5857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нтр  речевого развития                               </a:t>
            </a:r>
            <a:br>
              <a:rPr sz="2800"/>
            </a:b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 играет существенную роль в формировании у детей интереса и любви к художественной литературе. В этом уголке ребенок имеет возможность самостоятельно, по своему вкусу выбрать книгу и спокойно рассмотреть ее с яркими иллюстрациям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3571920" y="2643120"/>
            <a:ext cx="3093840" cy="25034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7" descr=""/>
          <p:cNvPicPr/>
          <p:nvPr/>
        </p:nvPicPr>
        <p:blipFill>
          <a:blip r:embed="rId3"/>
          <a:stretch/>
        </p:blipFill>
        <p:spPr>
          <a:xfrm>
            <a:off x="0" y="1643040"/>
            <a:ext cx="3643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0" y="1000080"/>
            <a:ext cx="5643720" cy="5857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роды и экспериментирования</a:t>
            </a: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                   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5786280" y="1500120"/>
            <a:ext cx="285768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В нем находится материал, для осуществления опытной деятельности:  лупы, колбы, мерные стаканчики, воронки, песочные часы, грунт, камни, семена, крупы. Комнатные растения, инструменты по уходу за ними: грабли, лопатки для рыхления, пульвер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008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Подоконник отличное место для разведения небольшого домашнего огорода. Процесс выращивания на окне свежей зелени несложен и почти не требует материальных затрат, зато сколько удовольствия для детей и пользы. Это занятие развивает любознательность и наблюдательность у детей, помогает им лучше познать жизнь раст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"/>
          <p:cNvPicPr/>
          <p:nvPr/>
        </p:nvPicPr>
        <p:blipFill>
          <a:blip r:embed="rId1"/>
          <a:stretch/>
        </p:blipFill>
        <p:spPr>
          <a:xfrm>
            <a:off x="357120" y="2071800"/>
            <a:ext cx="84297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0"/>
          <p:cNvSpPr/>
          <p:nvPr/>
        </p:nvSpPr>
        <p:spPr>
          <a:xfrm>
            <a:off x="642960" y="500040"/>
            <a:ext cx="785808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циально-личностное развитие. </a:t>
            </a:r>
            <a:br>
              <a:rPr sz="28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гра - основной вид деятельности наших малышей. Яркий, насыщенный игровой центр создает условия для творческой деятельности детей, развивает фантазию, формирует игровые навыки и умения, воспитывает дружеское взаимоотношение между детьми.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свободном доступе для детей находятся атрибуты для зарождающихся в этом возрасте сюжетно- ролевых игр: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«Семья», «Больница», , «Магазин», «Кафе», «Парикмахер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Пользователь</cp:lastModifiedBy>
  <dcterms:modified xsi:type="dcterms:W3CDTF">2022-02-07T17:01:27Z</dcterms:modified>
  <cp:revision>1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