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9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09C-4E2E-4207-A498-EDC4ABF6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B94-EC1A-4720-B958-AC7AFF3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E1C-0EB1-4D67-B2E0-FAEC182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263-A798-4171-96AF-37F78D9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F20-AE67-45E4-8E9F-D8B78C0D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278-172D-45D6-BF4B-5DED999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19A-145E-4DF6-948A-2F380B97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9D2-B6A2-4423-AC14-144DB81F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3E6-317B-46BD-9E42-D65948DE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D5F-4DD0-469C-A60B-54758F8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E84-64EE-40AB-9EA2-B6BAD10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A1C-8E6A-40C4-85D0-F928D92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367-E4BE-4C4D-BD0E-88A5C33641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2000" y="5157720"/>
            <a:ext cx="28800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468360" y="5587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395280" y="26352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836640"/>
          <a:ext cx="8229600" cy="580716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Ф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едицинским показаниям в группе компенсирующей направленности, проводит специ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куляцион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руппах компенсирующей направленности в режимных процессах и как часть НОД по 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зкотерап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акс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и музыкального воз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индивидуальных, групповых, подгрупповых занятиях с психологом и воспита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развивающе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действия, на познание, на нов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ни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ющая среда ДОУ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ДО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следовательской деятельности могут быть выбраны доступные и интересные детям старшего дошкольного возраста типы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ная деятельность включает в себ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для детей, сформулированное в виде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ую детскую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взаимодействия детей с воспитателем, друг с другом,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деятельности как найденный детьми способ решения пробл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ектная деятельность дошкольников может бы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вательно-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в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ткосрочные проекты(1 неделя- полгод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срочные (полгода - несколько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а ученым-изобретателем Т.С. Альтшуллер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использует нетрадиционные формы работы, которые ставят ребенка в позицию думающего человека. Адаптированная к дошкольному возрасту ТРИЗ-технология позволяет воспитывать и обучать ребенка под девизом «Творчество во всем!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772668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881360"/>
            <a:ext cx="7848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4438800" y="3985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дбор иллюстративного материала к занятиям и для оформления стендов, группы, кабинетов (сканирование, интернет, принтер, презентация,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 Использование мультимедийного проектора на занятиях, на педсоветах, Р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4140360" y="5270400"/>
            <a:ext cx="16189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53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режиссерских игр у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организации сюжетно-ролевых иг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5219640" y="4508640"/>
            <a:ext cx="20876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жина С.Д. «Технология интегрированного занятия в ДОУ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ирование соединяет знания из разных образовательных областей на равноправной основе, дополняя друг друга. При этом решается несколько задач развития. В форме интегрированной НОД лучше проводить обобщение материала, итоговые меропри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442764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ых условиях развитие человека невозможно без построения системы формирования его здоровья. Выбор здоровьесберегающих педагогических технологий зависи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ипа дошкольного учрежд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должительности пребывания в нем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программы, по которой работают педаго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кретных условий ДОУ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й компетентности педагог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ей здоровь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1"/>
          <a:stretch/>
        </p:blipFill>
        <p:spPr>
          <a:xfrm>
            <a:off x="5508720" y="5272200"/>
            <a:ext cx="17971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80360" cy="5116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30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младшего возраста, с подгруппой и всей группой ежеднев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ческие пау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ремя НОД, 3-5 мин. По мере утомления детей со 2-й младше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стика для гл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 по 3-5 мин. В зависимости от интенсивности нагрузки, может включаться в физкультминутки во время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ыхательн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зных формах физкультурно-оздоровительной работы, начиная с младш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333360"/>
          <a:ext cx="8351640" cy="508968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дрящ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в группе, ежедне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масс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мощью сухого обти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  как часть оздоровительных мероприятий со средне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аливающие мероприятия, дорожки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сна, ежедневно, начиная с младшего возраста. Во время НОД по физической куль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 спортивные игры (элементы спортивных иг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часть НОД по физической культуре, на прогулке, в группе (средней и малой степени подвижности),ежедневно, все возрастные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1052640"/>
          <a:ext cx="8209080" cy="4519440"/>
        </p:xfrm>
        <a:graphic>
          <a:graphicData uri="http://schemas.openxmlformats.org/drawingml/2006/table">
            <a:tbl>
              <a:tblPr/>
              <a:tblGrid>
                <a:gridCol w="3600720"/>
                <a:gridCol w="4608360"/>
              </a:tblGrid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 по физической культу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раза в неделю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портивном зале, в группе, на прогулке в соответствии с программ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ення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дневно, в музыкальном и спортивном залах, в группе. Все возрастные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из серии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Шорыгина Т.А. Беседы о здоровье. Авдеева Н.Н., Князева О.Л., Стеркина Р.Б.Безопасность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неделю в режимных процессах, как часть или целая НОД по позн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ные досуги и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 раз в квартал. Начиная с младшего возраста в спортивном зале, на прогул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964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Ириша</cp:lastModifiedBy>
  <dcterms:modified xsi:type="dcterms:W3CDTF">2020-11-29T03:33:48Z</dcterms:modified>
  <cp:revision>114</cp:revision>
  <dc:subject/>
  <dc:title>Слайд 1</dc:title>
</cp:coreProperties>
</file>