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9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D83-B527-433C-8EC0-4198EF0E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C74-5B61-4ACD-B9C0-431AA876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3AB-8822-46AC-B49D-4DD83D72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E38-8A73-498F-B0C3-E4661538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48B-5482-4160-9DCE-DF543056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391-904F-4E27-9322-E167E78E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475-E6BF-4CE7-8445-1513423A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093-750F-4C2A-AD6E-FE3AE3EF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784-4636-4521-8DE3-E16FCFE0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78E-89C4-4D1C-B33B-9003B9D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ABE-7F8B-4B9F-8149-BA7FB333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508-22D1-4ABE-8688-D8C515C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CAE6-DA67-4656-86A7-45EBDB333E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в  ДОУ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2000" y="5157720"/>
            <a:ext cx="288000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468360" y="55872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395280" y="263520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ционные 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836640"/>
          <a:ext cx="8229600" cy="5807160"/>
        </p:xfrm>
        <a:graphic>
          <a:graphicData uri="http://schemas.openxmlformats.org/drawingml/2006/table">
            <a:tbl>
              <a:tblPr/>
              <a:tblGrid>
                <a:gridCol w="3672000"/>
                <a:gridCol w="4557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Ф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икуляцион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руппах компенсирующей направленности в режимных процессах и как часть НОД по коммун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зко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ак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и музыкального воз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развивающе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ющее обучение - направление в теории и практике образования, ориентирующееся на развитие физических, познавательных и нравственных способностей воспитанников обучающихся путём использования их потенциальных возможностей. Это мотивация на конкретное действия, на познание, на нов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ним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ая среда ДОУ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амма ДО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и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 в детском саду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исследовательской деятельности могут быть выбраны доступные и интересные детям старшего дошкольного возраста типы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1584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етоды и приемы организации экспериментально – исследовательской 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вристические бесе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лирование (создание моделей об изменениях в неживой природе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ы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ация результатов: наблюдений, опытов, экспериментов,  трудовой деятель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ражание голосам и звукам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дактические игры, игровые обучающие и творчески развивающие ситу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143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58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ная деятельность включает в себ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 для детей, сформулированное в виде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ую детскую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взаимодействия детей с воспитателем, друг с другом,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деятельности как найденный детьми способ решения проблемы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ектная деятельность дошкольников может бы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вательно-исследователь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ткосрочные проекты(1 неделя- полгод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осрочные (полгода - несколько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«ТРИЗ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ория решения изобретательских задач)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а ученым-изобретателем Т.С. Альтшуллером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69992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 использует нетрадиционные формы работы, которые ставят ребенка в позицию думающего человека. Адаптированная к дошкольному возрасту ТРИЗ-технология позволяет воспитывать и обучать ребенка под девизом «Творчество во всем!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данной технологии в детском саду яв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, с одной стороны, таких качеств мышления, как гибкость, подвижность, системность, диалектич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– поисковой активности, стремления к новиз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, в котором развивается современный  ребенок,  коренным образом отличается от мира,   в котором выросли его родители. Это 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(компьютер, интерактивная доска, планшет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1589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72668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хн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4280" y="1881360"/>
            <a:ext cx="7848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овокупность приемов, применяемых в каком-либо деле, мастерстве, искусств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толковый словарь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Б.Т.Лихачё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4438800" y="39852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имущества компьют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моделировать жизненные ситуации, которые нельзя увидеть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227640" y="5373720"/>
            <a:ext cx="1474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КТ в работе современного педаг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765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дбор иллюстративного материала к занятиям и для оформления стендов, группы, кабинетов (сканирование, интернет, принтер, презентация,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одбор дополнительного познавательного материала к занятиям, знакомство со   сценариями праздников и других мероприят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Обмен опытом, знакомство с периодикой, наработками других педагогов России и зарубежь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 Использование мультимедийного проектора на занятиях, на педсоветах, Р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ая технолог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348000" y="4627440"/>
            <a:ext cx="2303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правления личностно-ориентированных технолог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я сотрудни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ует принцип демократизации дошкольного образования, равенство в отношениях педагога с ребенком, партнерство в системе взаимоотношений «Взрослый - ребено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714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 на основе гуманизации и демократизации педагогических отношений с процессуальной ориентацией, приоритетом личностных отношений, индивидуального подхода, демократическим управлением и яркой гуманистической направленностью содержания. Таким подходом обладают новые образовательные программы «Детство», «От рождения до школы», «Радуга», «Из детства – в отрочеств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ность технологического воспитательно-образовательного процесса конструируется на основе заданных исходных установок: социальный заказ (родители, общество) образовательные ориентиры, цели и содержание образования. Эти исходные установки должны конкретизировать современные подходы к оценке достижений дошкольников, а также создавать условия для индивидуальных и дифференцированных зад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противопоставляют авторитарному, обезличенному и обездушенному подходу к ребенку в традиционной технологии – атмосферу любви, заботы, сотрудничества, создают условия для творчества личност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26622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портфолио дошкольник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ряд функций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 (фиксирует изменения и рост за определенный период времени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ельная (раскрывает весь спектр выполняемых рабо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тинговая (показывает диапазон умений и навыков ребенка)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здания портфолио является своего рода педагогической технолог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056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ов портфолио очень много. Содержание разделов  заполняется постепенно, в соответствии с возможностями и достижениями дошк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имеет свою структуру, состоит из разделов. Ряд авторов предлагают собственные структуру и содержание портфолио ребенка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(папка личных достижений ребенка) позволяет осуществить индивидуальный подход к каждому ребенку и вручается при выпуске из детского сада как подарок самому ребенку и его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i?id=353090863-44-72&amp;n=21"/>
          <p:cNvPicPr/>
          <p:nvPr/>
        </p:nvPicPr>
        <p:blipFill>
          <a:blip r:embed="rId1"/>
          <a:stretch/>
        </p:blipFill>
        <p:spPr>
          <a:xfrm>
            <a:off x="4140360" y="5270400"/>
            <a:ext cx="16189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«Портфолио педагог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образование нуждается в новом типе педагог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 думающ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ющим современными технологиями образова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ами психолого-педагогической диагност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ами самостоятельного конструирования педагогического процесса в условиях конкретной практической деятельн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м прогнозировать свой конечный результ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каждого педагога должно быть досье успехов, в котором отражается все радостное, интересное и достойное из того, что происходит в жизни педагога. Таким досье может стать портфолио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позволяет учитывать результаты, достигнутые педагогом в разнообразных видах деятельности (воспитательной, учебной, творческой, социальной, коммуникативной), и является  формой оценки профессионализма и результативности работы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276720" y="5373720"/>
            <a:ext cx="1658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ктура образовательной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4" descr=""/>
          <p:cNvPicPr/>
          <p:nvPr/>
        </p:nvPicPr>
        <p:blipFill>
          <a:blip r:embed="rId1"/>
          <a:stretch/>
        </p:blipFill>
        <p:spPr>
          <a:xfrm>
            <a:off x="457200" y="1706400"/>
            <a:ext cx="82533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технологии тесно связаны со всеми сторонами воспитательной и образовательной работы детского сада и решением его основных задач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режиссерских игр у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сюжетно-ролевых иг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i?id=982326287-43-72&amp;n=21"/>
          <p:cNvPicPr/>
          <p:nvPr/>
        </p:nvPicPr>
        <p:blipFill>
          <a:blip r:embed="rId1"/>
          <a:stretch/>
        </p:blipFill>
        <p:spPr>
          <a:xfrm>
            <a:off x="5219640" y="4508640"/>
            <a:ext cx="20876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В нее включаются последователь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 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ление игровых технологий из отдельных игр и элементов - забота каждого воспитател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интегрированно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жина С.Д. «Технология интегрированного занятия в ДОУ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ирование соединяет знания из разных образовательных областей на равноправной основе, дополняя друг друга. При этом решается несколько задач развития. В форме интегрированной НОД лучше проводить обобщение материала, итоговые меропри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й подход, то есть новые педагогические технологии гарантируют достижения дошкольника и в дальнейшем гарантируют их успешное обучение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педагог – творец технологии, даже если имеет дело с заимствованиями. Создание технологии невозможно без творчества. Для педагога, научившегося работать на технологическом уровне, всегда будет главным ориентиром познавательный процесс в его развивающемся состоя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в наших руках, поэтому их нельзя опуск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36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ческих Вам успехов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635280" y="4429080"/>
            <a:ext cx="25210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ортфолио дошкольника и воспита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«ТРИЗ» и д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4" descr="j0428113[1]"/>
          <p:cNvPicPr/>
          <p:nvPr/>
        </p:nvPicPr>
        <p:blipFill>
          <a:blip r:embed="rId1"/>
          <a:stretch/>
        </p:blipFill>
        <p:spPr>
          <a:xfrm>
            <a:off x="6516720" y="4508640"/>
            <a:ext cx="1871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доровьесберегающие  технолог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х технологий являе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 включают все аспекты воздействия педагога на здоровье ребенка на разных уровнях — информационном, психологическом, био­энергетичес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?id=365692677-66-72&amp;n=21"/>
          <p:cNvPicPr/>
          <p:nvPr/>
        </p:nvPicPr>
        <p:blipFill>
          <a:blip r:embed="rId1"/>
          <a:stretch/>
        </p:blipFill>
        <p:spPr>
          <a:xfrm>
            <a:off x="442764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временных условиях развитие человека невозможно без построения системы формирования его здоровья. Выбор здоровьесберегающих педагогических технологий завис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ипа дошкольного учрежд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должительности пребывания в нем дете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граммы, по которой работают педагог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кретных условий ДО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ой компетентности педагог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ей здоровь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i?id=982326287-43-72&amp;n=21"/>
          <p:cNvPicPr/>
          <p:nvPr/>
        </p:nvPicPr>
        <p:blipFill>
          <a:blip r:embed="rId1"/>
          <a:stretch/>
        </p:blipFill>
        <p:spPr>
          <a:xfrm>
            <a:off x="5508720" y="5272200"/>
            <a:ext cx="17971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сохранения и стимулирования здоров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836640"/>
          <a:ext cx="8280360" cy="51163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43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младшего возраста, с подгруппой и всей группой ежеднев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ческие пау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 время НОД, 3-5 мин. По мере утомления детей со 2-й младше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стика для гл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по 3-5 мин. В зависимости от интенсивности нагрузки, может включаться в физкультминутки во время Н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ыхатель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зных формах физкультурно-оздоровительной работы, начиная с младш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333360"/>
          <a:ext cx="8351640" cy="508968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дрящ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в группе, ежедне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помощью сухого обтир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 как часть оздоровительных мероприятий со средн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аливающие мероприятия, дорожки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, ежедневно, начиная с младшего возраста. Во время НОД по физической культу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 спортивные игры (элементы спортивных иг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часть НОД по физической культуре, на прогулке, в группе (средней и малой степени подвижности),ежедневно, все возрастные груп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9640" y="1052640"/>
          <a:ext cx="8209080" cy="4519440"/>
        </p:xfrm>
        <a:graphic>
          <a:graphicData uri="http://schemas.openxmlformats.org/drawingml/2006/table">
            <a:tbl>
              <a:tblPr/>
              <a:tblGrid>
                <a:gridCol w="3600720"/>
                <a:gridCol w="4608360"/>
              </a:tblGrid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Д по физической культу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 раза в неделю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портивном зале, в группе, на прогулке в соответствии с программ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ення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, в музыкальном и спортивном залах, в группе.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я из серии «Здоровь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Шорыгина Т.А. Беседы о здоровье. Авдеева Н.Н., Князева О.Л., Стеркина Р.Б.Безопасность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неделю в режимных процессах, как часть или целая НОД по позн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ные досуги и празд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квартал. Начиная с младшего возраста в спортивном зале, на прогул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обучения здоровому образу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Ириша</cp:lastModifiedBy>
  <dcterms:modified xsi:type="dcterms:W3CDTF">2020-11-29T03:33:48Z</dcterms:modified>
  <cp:revision>114</cp:revision>
  <dc:subject/>
  <dc:title>Слайд 1</dc:title>
</cp:coreProperties>
</file>