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1CC0-0A4D-4827-B67E-690B364E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AEE2-B1F7-42EA-99C9-C411F368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C9C1-0F95-4514-8301-3B27D9C0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0FA6-2F85-4DBB-AC24-DAFD4A18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704B-5473-4D41-B26B-412618A8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DB90-5E9C-40E5-A87D-97E07AEA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9868-4632-4F64-8351-6C8F4366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7ACD-AD76-45BE-8278-0F10AFFE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BDC6-3856-4757-BB54-29432F80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A4C3-5A30-4C4D-91B3-F57A25FC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066D-4B7E-45A7-A28F-C7F619A0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CC88-BA8B-4C58-B0EB-7D253C92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75E0-BDF3-43B0-A6FF-ACA89FC2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9A51-25B2-4672-B75C-F1A0091D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05EE-FEAB-4A33-A648-07073A1F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2E07-D4AC-4646-A247-59F63895F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6F25-19F5-4B71-A851-353F174F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141B-77AC-4247-91EF-552B6D53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43C3-5B19-40F6-A416-E497A1E7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EE7-7861-4A17-9552-D2196330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94C1-B732-483D-9BF9-E1285F89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CA40-A49B-456D-BC88-8095C911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15A8-3890-403F-B695-9B266A58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4D95-CF27-4860-810F-F3A1D7CF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4053-CA94-474C-A29A-606F4FA733E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BD6B-843C-4057-9C95-4FC6CE0366D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" Target="slide2.xml"/><Relationship Id="rId5" Type="http://schemas.openxmlformats.org/officeDocument/2006/relationships/image" Target="../media/image2.png"/><Relationship Id="rId6" Type="http://schemas.openxmlformats.org/officeDocument/2006/relationships/slide" Target="slide8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8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8.xml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Times New Roman"/>
              </a:rPr>
              <a:t>Алкадиены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идрогалогенирован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3" descr="2.jpg"/>
          <p:cNvPicPr/>
          <p:nvPr/>
        </p:nvPicPr>
        <p:blipFill>
          <a:blip r:embed="rId1"/>
          <a:stretch/>
        </p:blipFill>
        <p:spPr>
          <a:xfrm>
            <a:off x="642960" y="2500200"/>
            <a:ext cx="77724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имеризация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иважнейш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ойство алкадиенов с точки зрения промышл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CH-CH=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=CH-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-)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img008"/>
          <p:cNvPicPr/>
          <p:nvPr/>
        </p:nvPicPr>
        <p:blipFill>
          <a:blip r:embed="rId1"/>
          <a:stretch/>
        </p:blipFill>
        <p:spPr>
          <a:xfrm>
            <a:off x="1835280" y="3860640"/>
            <a:ext cx="1655640" cy="898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img009"/>
          <p:cNvPicPr/>
          <p:nvPr/>
        </p:nvPicPr>
        <p:blipFill>
          <a:blip r:embed="rId2"/>
          <a:stretch/>
        </p:blipFill>
        <p:spPr>
          <a:xfrm>
            <a:off x="4932360" y="3860640"/>
            <a:ext cx="1871640" cy="1060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BTAR_RG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BTAR_UP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BTAR_LFT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  <p:cxnSp>
        <p:nvCxnSpPr>
          <p:cNvPr id="205" name="Прямая со стрелкой 8"/>
          <p:cNvCxnSpPr/>
          <p:nvPr/>
        </p:nvCxnSpPr>
        <p:spPr>
          <a:xfrm>
            <a:off x="3708000" y="4365360"/>
            <a:ext cx="93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6" name="TextBox 9"/>
          <p:cNvSpPr/>
          <p:nvPr/>
        </p:nvSpPr>
        <p:spPr>
          <a:xfrm>
            <a:off x="4168440" y="2268360"/>
            <a:ext cx="651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12000">
                <a:solidFill>
                  <a:srgbClr val="000000"/>
                </a:solidFill>
                <a:latin typeface="Times New Roman"/>
              </a:rPr>
              <a:t>kat</a:t>
            </a:r>
            <a:r>
              <a:rPr b="0" lang="ru-RU" sz="3200" spc="-1" strike="noStrike" baseline="-12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 baseline="-12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Прямая со стрелкой 12"/>
          <p:cNvCxnSpPr/>
          <p:nvPr/>
        </p:nvCxnSpPr>
        <p:spPr>
          <a:xfrm>
            <a:off x="3995640" y="2923920"/>
            <a:ext cx="937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8" name="TextBox 13"/>
          <p:cNvSpPr/>
          <p:nvPr/>
        </p:nvSpPr>
        <p:spPr>
          <a:xfrm>
            <a:off x="3891240" y="3789360"/>
            <a:ext cx="651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12000">
                <a:solidFill>
                  <a:srgbClr val="000000"/>
                </a:solidFill>
                <a:latin typeface="Times New Roman"/>
              </a:rPr>
              <a:t>kat</a:t>
            </a:r>
            <a:r>
              <a:rPr b="0" lang="ru-RU" sz="3200" spc="-1" strike="noStrike" baseline="-12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 baseline="-12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Times New Roman"/>
              </a:rPr>
              <a:t>Натуральный каучук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туральный каучук получают из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лечного сока (</a:t>
            </a:r>
            <a:r>
              <a:rPr b="1" i="1" lang="ru-RU" sz="2600" spc="-1" strike="noStrike">
                <a:solidFill>
                  <a:srgbClr val="330066"/>
                </a:solidFill>
                <a:latin typeface="Times New Roman"/>
              </a:rPr>
              <a:t>латекс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каучуконосного дерева гевеи, растущего в тропических лесах Бразил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нагревании без доступа воздуха каучук распадается с образованием диенового углеводорода –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2- метилбутадиена-1,3 или изопрена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аучук – это полимер, в котором молекулы изопрена соединены друг с другом по схеме 1,4- присоединения с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цис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конфигурацией полимерной цеп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img014"/>
          <p:cNvPicPr/>
          <p:nvPr/>
        </p:nvPicPr>
        <p:blipFill>
          <a:blip r:embed="rId1"/>
          <a:stretch/>
        </p:blipFill>
        <p:spPr>
          <a:xfrm>
            <a:off x="1979640" y="5300640"/>
            <a:ext cx="4824360" cy="1081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BTAR_RGT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BTAR_UP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BTAR_LFT"/>
          <p:cNvPicPr/>
          <p:nvPr/>
        </p:nvPicPr>
        <p:blipFill>
          <a:blip r:embed="rId5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ан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лимер изопрена также встречается в природе в виде </a:t>
            </a:r>
            <a:r>
              <a:rPr b="1" i="1" lang="ru-RU" sz="2800" spc="-1" strike="noStrike">
                <a:solidFill>
                  <a:srgbClr val="330066"/>
                </a:solidFill>
                <a:latin typeface="Times New Roman"/>
              </a:rPr>
              <a:t>гуттаперч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туральный каучук обладает уникальным комплексом свойств: эластичностью, износоустойчивостью, клейкостью, водо- и газонепроницаемостью, хороший изолятор, растворимостью в органических растворител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ки: при высоко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размягчается, при низко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хруп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img015"/>
          <p:cNvPicPr/>
          <p:nvPr/>
        </p:nvPicPr>
        <p:blipFill>
          <a:blip r:embed="rId1"/>
          <a:stretch/>
        </p:blipFill>
        <p:spPr>
          <a:xfrm>
            <a:off x="1763640" y="1844640"/>
            <a:ext cx="4753080" cy="1368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BTAR_RGT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BTAR_UP"/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BTAR_LFT"/>
          <p:cNvPicPr/>
          <p:nvPr/>
        </p:nvPicPr>
        <p:blipFill>
          <a:blip r:embed="rId4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Times New Roman"/>
              </a:rPr>
              <a:t>Получение резины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придания каучуку необходим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зико-механических свойств: прочности, эластичности, стойкости к действию растворителей и агрессивных химических сред – каучук подвергают вулканизации нагреванием до 130-14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с серой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Вулканизация – процесс получения рез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из каучу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томы серы присоединяются по месту разрыва некоторых двойных связей и линейные молекулы каучука "сшиваются" в более крупные трехмерные молекулы –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лучаетс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з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торая по прочности значительно превосходит невулканизированный каучу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BTAR_UP"/>
          <p:cNvPicPr/>
          <p:nvPr/>
        </p:nvPicPr>
        <p:blipFill>
          <a:blip r:embed="rId2"/>
          <a:stretch/>
        </p:blipFill>
        <p:spPr>
          <a:xfrm>
            <a:off x="7956720" y="6165720"/>
            <a:ext cx="365040" cy="435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BTAR_LFT"/>
          <p:cNvPicPr/>
          <p:nvPr/>
        </p:nvPicPr>
        <p:blipFill>
          <a:blip r:embed="rId3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547280" y="1773360"/>
            <a:ext cx="64198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601906"/>
                </a:solidFill>
                <a:latin typeface="Times New Roman"/>
              </a:rPr>
              <a:t>Резина обладает большой эластичностью, прочностью, устойчива к действию растворителей. Ее получают путем вулканизации кауч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BTAR_UP"/>
          <p:cNvPicPr/>
          <p:nvPr/>
        </p:nvPicPr>
        <p:blipFill>
          <a:blip r:embed="rId1"/>
          <a:stretch/>
        </p:blipFill>
        <p:spPr>
          <a:xfrm>
            <a:off x="7956720" y="6165720"/>
            <a:ext cx="36504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ироко применяются сополимерные     каучуки – продукты совместной полимеризации (сополимеризации) бутадиена с другими непредельными соединениями.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: Каучук полученный из бутадиена-1,3 (80%    по массе) и  стирол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CH–C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20% по массе)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, широко используют при производстве автомобильных шин и резиновых издел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BTAR_UP"/>
          <p:cNvPicPr/>
          <p:nvPr/>
        </p:nvPicPr>
        <p:blipFill>
          <a:blip r:embed="rId2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BTAR_LFT"/>
          <p:cNvPicPr/>
          <p:nvPr/>
        </p:nvPicPr>
        <p:blipFill>
          <a:blip r:embed="rId3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омашнее зад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раграф 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р. 102 №3,6,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050"/>
                </a:solidFill>
                <a:latin typeface="Arial"/>
              </a:rPr>
              <a:t>*Творческое задание на каникулы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зентация по вопросу №4 (3-5 слайд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330066"/>
              </a:buClr>
              <a:buSzPct val="7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омашнее задание (для сдающих ЕГЭ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964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а 3: Алкен неразветвленного строения содержит двойную связь при первом атоме углерода. Образец этого алкена массой 0,84г присоединяет максимально 1,6 г брома. Определите формулу алкена и назовите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Задач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носительная плотность паров углеводорода по водороду равна 41. Массовая доля водорода в нем равна 12,2%. Выведите молекулярную формулу углеводоро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543800" cy="101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Times New Roman"/>
              </a:rPr>
              <a:t>Диеновые углеводороды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9999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669999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6699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6004d"/>
                </a:solidFill>
                <a:latin typeface="Times New Roman"/>
              </a:rPr>
              <a:t>Диеновые углеводороды</a:t>
            </a:r>
            <a:r>
              <a:rPr b="0" lang="ru-RU" sz="2800" spc="-1" strike="noStrike">
                <a:solidFill>
                  <a:srgbClr val="26004d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ли алкадиены – это непредельные углеводороды, содержащие две двойные углерод - углеродные свя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004d"/>
                </a:solidFill>
                <a:latin typeface="Times New Roman"/>
              </a:rPr>
              <a:t>C</a:t>
            </a:r>
            <a:r>
              <a:rPr b="1" lang="en-US" sz="2800" spc="-1" strike="noStrike" baseline="-12000">
                <a:solidFill>
                  <a:srgbClr val="26004d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26004d"/>
                </a:solidFill>
                <a:latin typeface="Times New Roman"/>
              </a:rPr>
              <a:t>H</a:t>
            </a:r>
            <a:r>
              <a:rPr b="1" lang="ru-RU" sz="2800" spc="-1" strike="noStrike" baseline="-12000">
                <a:solidFill>
                  <a:srgbClr val="26004d"/>
                </a:solidFill>
                <a:latin typeface="Times New Roman"/>
              </a:rPr>
              <a:t>2</a:t>
            </a:r>
            <a:r>
              <a:rPr b="1" lang="en-US" sz="2800" spc="-1" strike="noStrike" baseline="-12000">
                <a:solidFill>
                  <a:srgbClr val="26004d"/>
                </a:solidFill>
                <a:latin typeface="Times New Roman"/>
              </a:rPr>
              <a:t>n</a:t>
            </a:r>
            <a:r>
              <a:rPr b="1" lang="ru-RU" sz="2800" spc="-1" strike="noStrike" baseline="-12000">
                <a:solidFill>
                  <a:srgbClr val="26004d"/>
                </a:solidFill>
                <a:latin typeface="Times New Roman"/>
              </a:rPr>
              <a:t> -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международной номенклатуре алкадиены называют  так же , как и алкены, но только вместо окончания </a:t>
            </a:r>
            <a:r>
              <a:rPr b="1" lang="ru-RU" sz="2800" spc="-1" strike="noStrike">
                <a:solidFill>
                  <a:srgbClr val="26004d"/>
                </a:solidFill>
                <a:latin typeface="Times New Roman"/>
              </a:rPr>
              <a:t>–ен</a:t>
            </a:r>
            <a:r>
              <a:rPr b="0" lang="ru-RU" sz="2800" spc="-1" strike="noStrike">
                <a:solidFill>
                  <a:srgbClr val="26004d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есь употребляетс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6004d"/>
                </a:solidFill>
                <a:latin typeface="Times New Roman"/>
              </a:rPr>
              <a:t>–дие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TAR_U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543800" cy="101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Times New Roman"/>
              </a:rPr>
              <a:t>Изомерия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9999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алкадиенов характерны те же виды изомерии, что и для алкенов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Углеродного скел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Положения двойных свя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Цис- транс – изом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) Межклассовая (с алкин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BTAR_U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Times New Roman"/>
              </a:rPr>
              <a:t>Классификация по положению двойных связей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 </a:t>
            </a:r>
            <a:r>
              <a:rPr b="1" i="1" lang="ru-RU" sz="2800" spc="-1" strike="noStrike">
                <a:solidFill>
                  <a:srgbClr val="26004d"/>
                </a:solidFill>
                <a:latin typeface="Times New Roman"/>
              </a:rPr>
              <a:t>Кумулирован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.е. с двумя двойными связями, примыкающими к одному атому углер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падиен (аллен)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i="1" lang="ru-RU" sz="2800" spc="-1" strike="noStrike">
                <a:solidFill>
                  <a:srgbClr val="26004d"/>
                </a:solidFill>
                <a:latin typeface="Times New Roman"/>
              </a:rPr>
              <a:t>Изолирован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.е. с двумя двойными связями, разделенными несколькими простыми связ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нтадиен -1,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BTAR_U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BTAR_LF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2184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 </a:t>
            </a:r>
            <a:r>
              <a:rPr b="1" i="1" lang="ru-RU" sz="2800" spc="-1" strike="noStrike">
                <a:solidFill>
                  <a:srgbClr val="26004d"/>
                </a:solidFill>
                <a:latin typeface="Times New Roman"/>
              </a:rPr>
              <a:t>Сопряженны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.е. с двумя двойными связями, разделенными одной простой связ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тадиен -1,3 (дивини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С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-метилбутадиен -1,3 (изопрен)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ибольший интерес представляют углеводороды с сопряженными двойными связ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BTAR_U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BTAR_LFT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Times New Roman"/>
              </a:rPr>
              <a:t>Получение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 Дегидрирование алк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CH(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–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C(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-CH=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12000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BTAR_U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BTAR_LF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  <p:cxnSp>
        <p:nvCxnSpPr>
          <p:cNvPr id="172" name="Прямая со стрелкой 7"/>
          <p:cNvCxnSpPr/>
          <p:nvPr/>
        </p:nvCxnSpPr>
        <p:spPr>
          <a:xfrm>
            <a:off x="3348000" y="2565000"/>
            <a:ext cx="122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3" name="TextBox 8"/>
          <p:cNvSpPr/>
          <p:nvPr/>
        </p:nvSpPr>
        <p:spPr>
          <a:xfrm>
            <a:off x="3132000" y="2133720"/>
            <a:ext cx="158436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12000">
                <a:solidFill>
                  <a:srgbClr val="000000"/>
                </a:solidFill>
                <a:latin typeface="Times New Roman"/>
              </a:rPr>
              <a:t>Cr</a:t>
            </a:r>
            <a:r>
              <a:rPr b="1" lang="ru-RU" sz="2000" spc="-1" strike="noStrike" baseline="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12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000" spc="-1" strike="noStrike" baseline="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 baseline="12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12000">
                <a:solidFill>
                  <a:srgbClr val="000000"/>
                </a:solidFill>
                <a:latin typeface="Times New Roman"/>
              </a:rPr>
              <a:t> Al</a:t>
            </a:r>
            <a:r>
              <a:rPr b="1" lang="ru-RU" sz="2000" spc="-1" strike="noStrike" baseline="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12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000" spc="-1" strike="noStrike" baseline="12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12000">
                <a:solidFill>
                  <a:srgbClr val="000000"/>
                </a:solidFill>
                <a:latin typeface="Times New Roman"/>
              </a:rPr>
              <a:t>600</a:t>
            </a:r>
            <a:r>
              <a:rPr b="0" lang="en-US" sz="2800" spc="-1" strike="noStrike" baseline="-12000">
                <a:solidFill>
                  <a:srgbClr val="000000"/>
                </a:solidFill>
                <a:latin typeface="Times New Roman"/>
                <a:ea typeface="Arial"/>
              </a:rPr>
              <a:t>º</a:t>
            </a:r>
            <a:r>
              <a:rPr b="0" lang="ru-RU" sz="2800" spc="-1" strike="noStrike" baseline="-12000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Прямая со стрелкой 9"/>
          <p:cNvCxnSpPr/>
          <p:nvPr/>
        </p:nvCxnSpPr>
        <p:spPr>
          <a:xfrm>
            <a:off x="3850920" y="3644640"/>
            <a:ext cx="865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5" name="TextBox 11"/>
          <p:cNvSpPr/>
          <p:nvPr/>
        </p:nvSpPr>
        <p:spPr>
          <a:xfrm>
            <a:off x="3492360" y="3213000"/>
            <a:ext cx="158436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12000">
                <a:solidFill>
                  <a:srgbClr val="000000"/>
                </a:solidFill>
                <a:latin typeface="Times New Roman"/>
              </a:rPr>
              <a:t>Cr</a:t>
            </a:r>
            <a:r>
              <a:rPr b="1" lang="ru-RU" sz="2000" spc="-1" strike="noStrike" baseline="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12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000" spc="-1" strike="noStrike" baseline="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 baseline="12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12000">
                <a:solidFill>
                  <a:srgbClr val="000000"/>
                </a:solidFill>
                <a:latin typeface="Times New Roman"/>
              </a:rPr>
              <a:t> Al</a:t>
            </a:r>
            <a:r>
              <a:rPr b="1" lang="ru-RU" sz="2000" spc="-1" strike="noStrike" baseline="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12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000" spc="-1" strike="noStrike" baseline="12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12000">
                <a:solidFill>
                  <a:srgbClr val="000000"/>
                </a:solidFill>
                <a:latin typeface="Times New Roman"/>
              </a:rPr>
              <a:t>600</a:t>
            </a:r>
            <a:r>
              <a:rPr b="0" lang="en-US" sz="2800" spc="-1" strike="noStrike" baseline="-12000">
                <a:solidFill>
                  <a:srgbClr val="000000"/>
                </a:solidFill>
                <a:latin typeface="Times New Roman"/>
                <a:ea typeface="Arial"/>
              </a:rPr>
              <a:t>º</a:t>
            </a:r>
            <a:r>
              <a:rPr b="0" lang="ru-RU" sz="2800" spc="-1" strike="noStrike" baseline="-12000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50752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я Лебед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H   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BTAR_U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BTAR_LF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  <p:cxnSp>
        <p:nvCxnSpPr>
          <p:cNvPr id="180" name="Прямая со стрелкой 6"/>
          <p:cNvCxnSpPr/>
          <p:nvPr/>
        </p:nvCxnSpPr>
        <p:spPr>
          <a:xfrm>
            <a:off x="2555640" y="522900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1" name="TextBox 7"/>
          <p:cNvSpPr/>
          <p:nvPr/>
        </p:nvSpPr>
        <p:spPr>
          <a:xfrm>
            <a:off x="2642040" y="4748040"/>
            <a:ext cx="1310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12000">
                <a:solidFill>
                  <a:srgbClr val="000000"/>
                </a:solidFill>
                <a:latin typeface="Times New Roman"/>
              </a:rPr>
              <a:t>ZnO</a:t>
            </a:r>
            <a:r>
              <a:rPr b="0" lang="ru-RU" sz="3200" spc="-1" strike="noStrike" baseline="-12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 baseline="-12000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ru-RU" sz="24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-12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12000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3200" spc="-1" strike="noStrike" baseline="-12000">
                <a:solidFill>
                  <a:srgbClr val="000000"/>
                </a:solidFill>
                <a:latin typeface="Times New Roman"/>
                <a:ea typeface="Arial"/>
              </a:rPr>
              <a:t>º</a:t>
            </a:r>
            <a:r>
              <a:rPr b="0" lang="ru-RU" sz="3200" spc="-1" strike="noStrike" baseline="-12000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Рисунок 9" descr="Sergey_Lebedev.jpg"/>
          <p:cNvPicPr/>
          <p:nvPr/>
        </p:nvPicPr>
        <p:blipFill>
          <a:blip r:embed="rId6"/>
          <a:stretch/>
        </p:blipFill>
        <p:spPr>
          <a:xfrm>
            <a:off x="468360" y="260280"/>
            <a:ext cx="2684520" cy="35766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0"/>
          <p:cNvSpPr/>
          <p:nvPr/>
        </p:nvSpPr>
        <p:spPr>
          <a:xfrm>
            <a:off x="3348000" y="333360"/>
            <a:ext cx="46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ргей Васильевич Лебеде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-советский учёный-химик, основоположник промышленного способа получения синтетического каучука. В 1932 году разработал способ синтез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нтетического каучу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 основе бутадиена, получаемого из спир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Times New Roman"/>
              </a:rPr>
              <a:t>Химические свойства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60190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помн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сопряженных диенах присоединение преимущественно идет в положения 1 и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BTAR_U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BTAR_LF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Times New Roman"/>
              </a:rPr>
              <a:t>Химические свойства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акции присоединения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идр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-CH=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+ 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=CH-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Галоген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BTAR_U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BTAR_LF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  <p:sp>
        <p:nvSpPr>
          <p:cNvPr id="194" name="TextBox 6"/>
          <p:cNvSpPr/>
          <p:nvPr/>
        </p:nvSpPr>
        <p:spPr>
          <a:xfrm>
            <a:off x="4188240" y="2041560"/>
            <a:ext cx="433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12000">
                <a:solidFill>
                  <a:srgbClr val="000000"/>
                </a:solidFill>
                <a:latin typeface="Times New Roman"/>
              </a:rPr>
              <a:t>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Рисунок 7" descr="1.gif"/>
          <p:cNvPicPr/>
          <p:nvPr/>
        </p:nvPicPr>
        <p:blipFill>
          <a:blip r:embed="rId6"/>
          <a:stretch/>
        </p:blipFill>
        <p:spPr>
          <a:xfrm>
            <a:off x="714240" y="3929040"/>
            <a:ext cx="74869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7:10:11Z</dcterms:created>
  <dc:creator>WASP</dc:creator>
  <dc:description/>
  <dc:language>en-US</dc:language>
  <cp:lastModifiedBy>Пользователь</cp:lastModifiedBy>
  <dcterms:modified xsi:type="dcterms:W3CDTF">2020-10-22T09:58:38Z</dcterms:modified>
  <cp:revision>23</cp:revision>
  <dc:subject/>
  <dc:title>Алкадиены</dc:title>
</cp:coreProperties>
</file>