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70FE-953E-472A-911C-B63C32E3B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E28A-DFE1-4D91-9AD4-E059ADFF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A970-EE9E-46E1-992D-4090979C5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A354-3438-4B9A-AB9A-71DE031DD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3F22-F5BA-425D-9C82-8646F88D3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CEEC-A4F5-473C-A334-C76561F4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C282-4B01-4D53-9479-E103E1B8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8FFA-F251-4658-9806-AB727C62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5E4F-1843-4B7A-9F36-CF654E45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BCB6-5D3B-4F44-B12C-5013E707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ED22-A937-47B1-B59B-B32574FE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2343-B3D7-4131-A87A-8D1CDC7D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7191-BC9A-402C-9354-344151BD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9B1A-DD48-499D-8957-E8A5E173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17C3-4B80-45D0-8881-2C9F0DA5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4C0D-DFCE-4FAA-8FEF-F5B459E01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BB14-D14A-4934-AF27-0BD9DBABA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2664-FE2F-4A0D-AC4D-36975860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CEAD-4286-4FE0-B042-E30A8160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480D-B046-4241-9A04-E4F36534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6A08-5374-4B9B-AC78-888B54F6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2B75-0ED2-49BE-8FBE-43000920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528A-F2E6-48D2-9A2A-91248FD3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8E87-B55B-45BD-87F1-4CCEB4A7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15E5-FC03-4177-AFF2-D790F663B59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1D34-B034-4CDC-9F08-613F8A2423D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" Target="slide2.xml"/><Relationship Id="rId5" Type="http://schemas.openxmlformats.org/officeDocument/2006/relationships/image" Target="../media/image2.png"/><Relationship Id="rId6" Type="http://schemas.openxmlformats.org/officeDocument/2006/relationships/slide" Target="slide8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6.xml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8.xm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8.xml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Times New Roman"/>
              </a:rPr>
              <a:t>Алкадиены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идрогалогенирован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Рисунок 3" descr="2.jpg"/>
          <p:cNvPicPr/>
          <p:nvPr/>
        </p:nvPicPr>
        <p:blipFill>
          <a:blip r:embed="rId1"/>
          <a:stretch/>
        </p:blipFill>
        <p:spPr>
          <a:xfrm>
            <a:off x="642960" y="2500200"/>
            <a:ext cx="77724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имеризация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иважнейше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ойство алкадиенов с точки зрения промышл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CH-CH=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=CH-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-)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img008"/>
          <p:cNvPicPr/>
          <p:nvPr/>
        </p:nvPicPr>
        <p:blipFill>
          <a:blip r:embed="rId1"/>
          <a:stretch/>
        </p:blipFill>
        <p:spPr>
          <a:xfrm>
            <a:off x="1835280" y="3860640"/>
            <a:ext cx="1655640" cy="8985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img009"/>
          <p:cNvPicPr/>
          <p:nvPr/>
        </p:nvPicPr>
        <p:blipFill>
          <a:blip r:embed="rId2"/>
          <a:stretch/>
        </p:blipFill>
        <p:spPr>
          <a:xfrm>
            <a:off x="4932360" y="3860640"/>
            <a:ext cx="1871640" cy="1060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BTAR_RG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BTAR_UP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924680" y="6172200"/>
            <a:ext cx="365400" cy="434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BTAR_LFT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451640" y="6237360"/>
            <a:ext cx="435240" cy="365040"/>
          </a:xfrm>
          <a:prstGeom prst="rect">
            <a:avLst/>
          </a:prstGeom>
          <a:ln w="0">
            <a:noFill/>
          </a:ln>
        </p:spPr>
      </p:pic>
      <p:cxnSp>
        <p:nvCxnSpPr>
          <p:cNvPr id="205" name="Прямая со стрелкой 8"/>
          <p:cNvCxnSpPr/>
          <p:nvPr/>
        </p:nvCxnSpPr>
        <p:spPr>
          <a:xfrm>
            <a:off x="3708000" y="4365360"/>
            <a:ext cx="93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6" name="TextBox 9"/>
          <p:cNvSpPr/>
          <p:nvPr/>
        </p:nvSpPr>
        <p:spPr>
          <a:xfrm>
            <a:off x="4168440" y="2268360"/>
            <a:ext cx="6516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12000">
                <a:solidFill>
                  <a:srgbClr val="000000"/>
                </a:solidFill>
                <a:latin typeface="Times New Roman"/>
              </a:rPr>
              <a:t>kat</a:t>
            </a:r>
            <a:r>
              <a:rPr b="0" lang="ru-RU" sz="3200" spc="-1" strike="noStrike" baseline="-12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 baseline="-12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Прямая со стрелкой 12"/>
          <p:cNvCxnSpPr/>
          <p:nvPr/>
        </p:nvCxnSpPr>
        <p:spPr>
          <a:xfrm>
            <a:off x="3995640" y="2923920"/>
            <a:ext cx="937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8" name="TextBox 13"/>
          <p:cNvSpPr/>
          <p:nvPr/>
        </p:nvSpPr>
        <p:spPr>
          <a:xfrm>
            <a:off x="3891240" y="3789360"/>
            <a:ext cx="6516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12000">
                <a:solidFill>
                  <a:srgbClr val="000000"/>
                </a:solidFill>
                <a:latin typeface="Times New Roman"/>
              </a:rPr>
              <a:t>kat</a:t>
            </a:r>
            <a:r>
              <a:rPr b="0" lang="ru-RU" sz="3200" spc="-1" strike="noStrike" baseline="-12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 baseline="-12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Times New Roman"/>
              </a:rPr>
              <a:t>Натуральный каучук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туральный каучук получают из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лечного сока (</a:t>
            </a:r>
            <a:r>
              <a:rPr b="1" i="1" lang="ru-RU" sz="2600" spc="-1" strike="noStrike">
                <a:solidFill>
                  <a:srgbClr val="330066"/>
                </a:solidFill>
                <a:latin typeface="Times New Roman"/>
              </a:rPr>
              <a:t>латекс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 каучуконосного дерева гевеи, растущего в тропических лесах Бразил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 нагревании без доступа воздуха каучук распадается с образованием диенового углеводорода –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2- метилбутадиена-1,3 или изопрена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аучук – это полимер, в котором молекулы изопрена соединены друг с другом по схеме 1,4- присоединения с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цис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конфигурацией полимерной цеп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img014"/>
          <p:cNvPicPr/>
          <p:nvPr/>
        </p:nvPicPr>
        <p:blipFill>
          <a:blip r:embed="rId1"/>
          <a:stretch/>
        </p:blipFill>
        <p:spPr>
          <a:xfrm>
            <a:off x="1979640" y="5300640"/>
            <a:ext cx="4824360" cy="1081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BTAR_RGT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BTAR_UP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24680" y="6172200"/>
            <a:ext cx="365400" cy="4348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BTAR_LFT"/>
          <p:cNvPicPr/>
          <p:nvPr/>
        </p:nvPicPr>
        <p:blipFill>
          <a:blip r:embed="rId5"/>
          <a:stretch/>
        </p:blipFill>
        <p:spPr>
          <a:xfrm>
            <a:off x="7451640" y="6237360"/>
            <a:ext cx="4352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ран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олимер изопрена также встречается в природе в виде </a:t>
            </a:r>
            <a:r>
              <a:rPr b="1" i="1" lang="ru-RU" sz="2800" spc="-1" strike="noStrike">
                <a:solidFill>
                  <a:srgbClr val="330066"/>
                </a:solidFill>
                <a:latin typeface="Times New Roman"/>
              </a:rPr>
              <a:t>гуттаперч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туральный каучук обладает уникальным комплексом свойств: эластичностью, износоустойчивостью, клейкостью, водо- и газонепроницаемостью, хороший изолятор, растворимостью в органических растворител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достатки: при высокой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размягчается, при низкой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хруп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img015"/>
          <p:cNvPicPr/>
          <p:nvPr/>
        </p:nvPicPr>
        <p:blipFill>
          <a:blip r:embed="rId1"/>
          <a:stretch/>
        </p:blipFill>
        <p:spPr>
          <a:xfrm>
            <a:off x="1763640" y="1844640"/>
            <a:ext cx="4753080" cy="1368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BTAR_RGT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BTAR_UP"/>
          <p:cNvPicPr/>
          <p:nvPr/>
        </p:nvPicPr>
        <p:blipFill>
          <a:blip r:embed="rId3"/>
          <a:stretch/>
        </p:blipFill>
        <p:spPr>
          <a:xfrm>
            <a:off x="7924680" y="6172200"/>
            <a:ext cx="365400" cy="434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BTAR_LFT"/>
          <p:cNvPicPr/>
          <p:nvPr/>
        </p:nvPicPr>
        <p:blipFill>
          <a:blip r:embed="rId4"/>
          <a:stretch/>
        </p:blipFill>
        <p:spPr>
          <a:xfrm>
            <a:off x="7451640" y="6237360"/>
            <a:ext cx="4352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Times New Roman"/>
              </a:rPr>
              <a:t>Получение резины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придания каучуку необходим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зико-механических свойств: прочности, эластичности, стойкости к действию растворителей и агрессивных химических сред – каучук подвергают вулканизации нагреванием до 130-14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с серой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Вулканизация – процесс получения рез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из каучу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томы серы присоединяются по месту разрыва некоторых двойных связей и линейные молекулы каучука "сшиваются" в более крупные трехмерные молекулы –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олучается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зи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оторая по прочности значительно превосходит невулканизированный каучу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BTAR_RG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BTAR_UP"/>
          <p:cNvPicPr/>
          <p:nvPr/>
        </p:nvPicPr>
        <p:blipFill>
          <a:blip r:embed="rId2"/>
          <a:stretch/>
        </p:blipFill>
        <p:spPr>
          <a:xfrm>
            <a:off x="7956720" y="6165720"/>
            <a:ext cx="365040" cy="4352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BTAR_LFT"/>
          <p:cNvPicPr/>
          <p:nvPr/>
        </p:nvPicPr>
        <p:blipFill>
          <a:blip r:embed="rId3"/>
          <a:stretch/>
        </p:blipFill>
        <p:spPr>
          <a:xfrm>
            <a:off x="7451640" y="6237360"/>
            <a:ext cx="4352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547280" y="1773360"/>
            <a:ext cx="64198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601906"/>
                </a:solidFill>
                <a:latin typeface="Times New Roman"/>
              </a:rPr>
              <a:t>Резина обладает большой эластичностью, прочностью, устойчива к действию растворителей. Ее получают путем вулканизации кауч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BTAR_UP"/>
          <p:cNvPicPr/>
          <p:nvPr/>
        </p:nvPicPr>
        <p:blipFill>
          <a:blip r:embed="rId1"/>
          <a:stretch/>
        </p:blipFill>
        <p:spPr>
          <a:xfrm>
            <a:off x="7956720" y="6165720"/>
            <a:ext cx="36504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Широко применяются сополимерные     каучуки – продукты совместной полимеризации (сополимеризации) бутадиена с другими непредельными соединениями.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ример: Каучук полученный из бутадиена-1,3 (80%    по массе) и  стирол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CH–C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20% по массе) 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К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, широко используют при производстве автомобильных шин и резиновых издел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" descr="BTAR_RG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BTAR_UP"/>
          <p:cNvPicPr/>
          <p:nvPr/>
        </p:nvPicPr>
        <p:blipFill>
          <a:blip r:embed="rId2"/>
          <a:stretch/>
        </p:blipFill>
        <p:spPr>
          <a:xfrm>
            <a:off x="7924680" y="6172200"/>
            <a:ext cx="365400" cy="434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BTAR_LFT"/>
          <p:cNvPicPr/>
          <p:nvPr/>
        </p:nvPicPr>
        <p:blipFill>
          <a:blip r:embed="rId3"/>
          <a:stretch/>
        </p:blipFill>
        <p:spPr>
          <a:xfrm>
            <a:off x="7451640" y="6237360"/>
            <a:ext cx="4352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омашнее зад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араграф 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р. 102 №3,6,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b050"/>
                </a:solidFill>
                <a:latin typeface="Arial"/>
              </a:rPr>
              <a:t>*Творческое задание на каникулы: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зентация по вопросу №4 (3-5 слайдо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330066"/>
              </a:buClr>
              <a:buSzPct val="7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омашнее задание (для сдающих ЕГЭ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964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а 3: Алкен неразветвленного строения содержит двойную связь при первом атоме углерода. Образец этого алкена массой 0,84г присоединяет максимально 1,6 г брома. Определите формулу алкена и назовите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Задач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носительная плотность паров углеводорода по водороду равна 41. Массовая доля водорода в нем равна 12,2%. Выведите молекулярную формулу углеводоро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543800" cy="101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Times New Roman"/>
              </a:rPr>
              <a:t>Диеновые углеводороды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9999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669999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669999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26004d"/>
                </a:solidFill>
                <a:latin typeface="Times New Roman"/>
              </a:rPr>
              <a:t>Диеновые углеводороды</a:t>
            </a:r>
            <a:r>
              <a:rPr b="0" lang="ru-RU" sz="2800" spc="-1" strike="noStrike">
                <a:solidFill>
                  <a:srgbClr val="26004d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ли алкадиены – это непредельные углеводороды, содержащие две двойные углерод - углеродные связ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004d"/>
                </a:solidFill>
                <a:latin typeface="Times New Roman"/>
              </a:rPr>
              <a:t>C</a:t>
            </a:r>
            <a:r>
              <a:rPr b="1" lang="en-US" sz="2800" spc="-1" strike="noStrike" baseline="-12000">
                <a:solidFill>
                  <a:srgbClr val="26004d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26004d"/>
                </a:solidFill>
                <a:latin typeface="Times New Roman"/>
              </a:rPr>
              <a:t>H</a:t>
            </a:r>
            <a:r>
              <a:rPr b="1" lang="ru-RU" sz="2800" spc="-1" strike="noStrike" baseline="-12000">
                <a:solidFill>
                  <a:srgbClr val="26004d"/>
                </a:solidFill>
                <a:latin typeface="Times New Roman"/>
              </a:rPr>
              <a:t>2</a:t>
            </a:r>
            <a:r>
              <a:rPr b="1" lang="en-US" sz="2800" spc="-1" strike="noStrike" baseline="-12000">
                <a:solidFill>
                  <a:srgbClr val="26004d"/>
                </a:solidFill>
                <a:latin typeface="Times New Roman"/>
              </a:rPr>
              <a:t>n</a:t>
            </a:r>
            <a:r>
              <a:rPr b="1" lang="ru-RU" sz="2800" spc="-1" strike="noStrike" baseline="-12000">
                <a:solidFill>
                  <a:srgbClr val="26004d"/>
                </a:solidFill>
                <a:latin typeface="Times New Roman"/>
              </a:rPr>
              <a:t> -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международной номенклатуре алкадиены называют  так же , как и алкены, но только вместо окончания </a:t>
            </a:r>
            <a:r>
              <a:rPr b="1" lang="ru-RU" sz="2800" spc="-1" strike="noStrike">
                <a:solidFill>
                  <a:srgbClr val="26004d"/>
                </a:solidFill>
                <a:latin typeface="Times New Roman"/>
              </a:rPr>
              <a:t>–ен</a:t>
            </a:r>
            <a:r>
              <a:rPr b="0" lang="ru-RU" sz="2800" spc="-1" strike="noStrike">
                <a:solidFill>
                  <a:srgbClr val="26004d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есь употребляетс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26004d"/>
                </a:solidFill>
                <a:latin typeface="Times New Roman"/>
              </a:rPr>
              <a:t>–дие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BTAR_RG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BTAR_U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6172200"/>
            <a:ext cx="36540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543800" cy="101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Times New Roman"/>
              </a:rPr>
              <a:t>Изомерия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9999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алкадиенов характерны те же виды изомерии, что и для алкенов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Углеродного скел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Положения двойных свя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) Цис- транс – изоме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) Межклассовая (с алкина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BTAR_RG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BTAR_U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6172200"/>
            <a:ext cx="36540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Times New Roman"/>
              </a:rPr>
              <a:t>Классификация по положению двойных связей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 </a:t>
            </a:r>
            <a:r>
              <a:rPr b="1" i="1" lang="ru-RU" sz="2800" spc="-1" strike="noStrike">
                <a:solidFill>
                  <a:srgbClr val="26004d"/>
                </a:solidFill>
                <a:latin typeface="Times New Roman"/>
              </a:rPr>
              <a:t>Кумулирован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.е. с двумя двойными связями, примыкающими к одному атому углер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падиен (аллен)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i="1" lang="ru-RU" sz="2800" spc="-1" strike="noStrike">
                <a:solidFill>
                  <a:srgbClr val="26004d"/>
                </a:solidFill>
                <a:latin typeface="Times New Roman"/>
              </a:rPr>
              <a:t>Изолирован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.е. с двумя двойными связями, разделенными несколькими простыми связ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нтадиен -1,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BTAR_RG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BTAR_U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6172200"/>
            <a:ext cx="365400" cy="434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BTAR_LF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51640" y="6237360"/>
            <a:ext cx="4352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82184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) </a:t>
            </a:r>
            <a:r>
              <a:rPr b="1" i="1" lang="ru-RU" sz="2800" spc="-1" strike="noStrike">
                <a:solidFill>
                  <a:srgbClr val="26004d"/>
                </a:solidFill>
                <a:latin typeface="Times New Roman"/>
              </a:rPr>
              <a:t>Сопряженны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.е. с двумя двойными связями, разделенными одной простой связь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утадиен -1,3 (дивини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С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-метилбутадиен -1,3 (изопрен)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ибольший интерес представляют углеводороды с сопряженными двойными связ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BTAR_RG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BTAR_U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6172200"/>
            <a:ext cx="365400" cy="434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BTAR_LFT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451640" y="6237360"/>
            <a:ext cx="4352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5438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Times New Roman"/>
              </a:rPr>
              <a:t>Получение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 Дегидрирование алка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CH(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–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C(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-CH=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12000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BTAR_RG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BTAR_U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6172200"/>
            <a:ext cx="365400" cy="434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BTAR_LF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51640" y="6237360"/>
            <a:ext cx="435240" cy="365040"/>
          </a:xfrm>
          <a:prstGeom prst="rect">
            <a:avLst/>
          </a:prstGeom>
          <a:ln w="0">
            <a:noFill/>
          </a:ln>
        </p:spPr>
      </p:pic>
      <p:cxnSp>
        <p:nvCxnSpPr>
          <p:cNvPr id="172" name="Прямая со стрелкой 7"/>
          <p:cNvCxnSpPr/>
          <p:nvPr/>
        </p:nvCxnSpPr>
        <p:spPr>
          <a:xfrm>
            <a:off x="3348000" y="2565000"/>
            <a:ext cx="122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3" name="TextBox 8"/>
          <p:cNvSpPr/>
          <p:nvPr/>
        </p:nvSpPr>
        <p:spPr>
          <a:xfrm>
            <a:off x="3132000" y="2133720"/>
            <a:ext cx="158436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12000">
                <a:solidFill>
                  <a:srgbClr val="000000"/>
                </a:solidFill>
                <a:latin typeface="Times New Roman"/>
              </a:rPr>
              <a:t>Cr</a:t>
            </a:r>
            <a:r>
              <a:rPr b="1" lang="ru-RU" sz="2000" spc="-1" strike="noStrike" baseline="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12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2000" spc="-1" strike="noStrike" baseline="12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 baseline="12000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12000">
                <a:solidFill>
                  <a:srgbClr val="000000"/>
                </a:solidFill>
                <a:latin typeface="Times New Roman"/>
              </a:rPr>
              <a:t> Al</a:t>
            </a:r>
            <a:r>
              <a:rPr b="1" lang="ru-RU" sz="2000" spc="-1" strike="noStrike" baseline="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12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2000" spc="-1" strike="noStrike" baseline="12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-12000">
                <a:solidFill>
                  <a:srgbClr val="000000"/>
                </a:solidFill>
                <a:latin typeface="Times New Roman"/>
              </a:rPr>
              <a:t>600</a:t>
            </a:r>
            <a:r>
              <a:rPr b="0" lang="en-US" sz="2800" spc="-1" strike="noStrike" baseline="-12000">
                <a:solidFill>
                  <a:srgbClr val="000000"/>
                </a:solidFill>
                <a:latin typeface="Times New Roman"/>
                <a:ea typeface="Arial"/>
              </a:rPr>
              <a:t>º</a:t>
            </a:r>
            <a:r>
              <a:rPr b="0" lang="ru-RU" sz="2800" spc="-1" strike="noStrike" baseline="-12000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Прямая со стрелкой 9"/>
          <p:cNvCxnSpPr/>
          <p:nvPr/>
        </p:nvCxnSpPr>
        <p:spPr>
          <a:xfrm>
            <a:off x="3850920" y="3644640"/>
            <a:ext cx="865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5" name="TextBox 11"/>
          <p:cNvSpPr/>
          <p:nvPr/>
        </p:nvSpPr>
        <p:spPr>
          <a:xfrm>
            <a:off x="3492360" y="3213000"/>
            <a:ext cx="158436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12000">
                <a:solidFill>
                  <a:srgbClr val="000000"/>
                </a:solidFill>
                <a:latin typeface="Times New Roman"/>
              </a:rPr>
              <a:t>Cr</a:t>
            </a:r>
            <a:r>
              <a:rPr b="1" lang="ru-RU" sz="2000" spc="-1" strike="noStrike" baseline="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12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2000" spc="-1" strike="noStrike" baseline="12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 baseline="12000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12000">
                <a:solidFill>
                  <a:srgbClr val="000000"/>
                </a:solidFill>
                <a:latin typeface="Times New Roman"/>
              </a:rPr>
              <a:t> Al</a:t>
            </a:r>
            <a:r>
              <a:rPr b="1" lang="ru-RU" sz="2000" spc="-1" strike="noStrike" baseline="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12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2000" spc="-1" strike="noStrike" baseline="12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-12000">
                <a:solidFill>
                  <a:srgbClr val="000000"/>
                </a:solidFill>
                <a:latin typeface="Times New Roman"/>
              </a:rPr>
              <a:t>600</a:t>
            </a:r>
            <a:r>
              <a:rPr b="0" lang="en-US" sz="2800" spc="-1" strike="noStrike" baseline="-12000">
                <a:solidFill>
                  <a:srgbClr val="000000"/>
                </a:solidFill>
                <a:latin typeface="Times New Roman"/>
                <a:ea typeface="Arial"/>
              </a:rPr>
              <a:t>º</a:t>
            </a:r>
            <a:r>
              <a:rPr b="0" lang="ru-RU" sz="2800" spc="-1" strike="noStrike" baseline="-12000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50752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акция Лебед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H   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BTAR_RG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BTAR_U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6172200"/>
            <a:ext cx="365400" cy="434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BTAR_LF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51640" y="6237360"/>
            <a:ext cx="435240" cy="365040"/>
          </a:xfrm>
          <a:prstGeom prst="rect">
            <a:avLst/>
          </a:prstGeom>
          <a:ln w="0">
            <a:noFill/>
          </a:ln>
        </p:spPr>
      </p:pic>
      <p:cxnSp>
        <p:nvCxnSpPr>
          <p:cNvPr id="180" name="Прямая со стрелкой 6"/>
          <p:cNvCxnSpPr/>
          <p:nvPr/>
        </p:nvCxnSpPr>
        <p:spPr>
          <a:xfrm>
            <a:off x="2555640" y="5229000"/>
            <a:ext cx="144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1" name="TextBox 7"/>
          <p:cNvSpPr/>
          <p:nvPr/>
        </p:nvSpPr>
        <p:spPr>
          <a:xfrm>
            <a:off x="2642040" y="4748040"/>
            <a:ext cx="13104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12000">
                <a:solidFill>
                  <a:srgbClr val="000000"/>
                </a:solidFill>
                <a:latin typeface="Times New Roman"/>
              </a:rPr>
              <a:t>ZnO</a:t>
            </a:r>
            <a:r>
              <a:rPr b="0" lang="ru-RU" sz="3200" spc="-1" strike="noStrike" baseline="-12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 baseline="-12000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ru-RU" sz="24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-12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12000">
                <a:solidFill>
                  <a:srgbClr val="000000"/>
                </a:solidFill>
                <a:latin typeface="Times New Roman"/>
              </a:rPr>
              <a:t>450</a:t>
            </a:r>
            <a:r>
              <a:rPr b="0" lang="en-US" sz="3200" spc="-1" strike="noStrike" baseline="-12000">
                <a:solidFill>
                  <a:srgbClr val="000000"/>
                </a:solidFill>
                <a:latin typeface="Times New Roman"/>
                <a:ea typeface="Arial"/>
              </a:rPr>
              <a:t>º</a:t>
            </a:r>
            <a:r>
              <a:rPr b="0" lang="ru-RU" sz="3200" spc="-1" strike="noStrike" baseline="-12000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Рисунок 9" descr="Sergey_Lebedev.jpg"/>
          <p:cNvPicPr/>
          <p:nvPr/>
        </p:nvPicPr>
        <p:blipFill>
          <a:blip r:embed="rId6"/>
          <a:stretch/>
        </p:blipFill>
        <p:spPr>
          <a:xfrm>
            <a:off x="468360" y="260280"/>
            <a:ext cx="2684520" cy="35766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0"/>
          <p:cNvSpPr/>
          <p:nvPr/>
        </p:nvSpPr>
        <p:spPr>
          <a:xfrm>
            <a:off x="3348000" y="333360"/>
            <a:ext cx="46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ргей Васильевич Лебеде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-советский учёный-химик, основоположник промышленного способа получения синтетического каучука. В 1932 году разработал способ синтез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нтетического каучу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 основе бутадиена, получаемого из спир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Times New Roman"/>
              </a:rPr>
              <a:t>Химические свойства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60190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апомни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 сопряженных диенах присоединение преимущественно идет в положения 1 и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BTAR_RG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BTAR_U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6172200"/>
            <a:ext cx="365400" cy="4348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BTAR_LF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51640" y="6237360"/>
            <a:ext cx="4352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Times New Roman"/>
              </a:rPr>
              <a:t>Химические свойства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акции присоединения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идр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-CH=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+ 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=CH-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Галоген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BTAR_RG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BTAR_U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6172200"/>
            <a:ext cx="365400" cy="434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BTAR_LF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51640" y="6237360"/>
            <a:ext cx="435240" cy="365040"/>
          </a:xfrm>
          <a:prstGeom prst="rect">
            <a:avLst/>
          </a:prstGeom>
          <a:ln w="0">
            <a:noFill/>
          </a:ln>
        </p:spPr>
      </p:pic>
      <p:sp>
        <p:nvSpPr>
          <p:cNvPr id="194" name="TextBox 6"/>
          <p:cNvSpPr/>
          <p:nvPr/>
        </p:nvSpPr>
        <p:spPr>
          <a:xfrm>
            <a:off x="4188240" y="2041560"/>
            <a:ext cx="433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12000">
                <a:solidFill>
                  <a:srgbClr val="000000"/>
                </a:solidFill>
                <a:latin typeface="Times New Roman"/>
              </a:rPr>
              <a:t>k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Рисунок 7" descr="1.gif"/>
          <p:cNvPicPr/>
          <p:nvPr/>
        </p:nvPicPr>
        <p:blipFill>
          <a:blip r:embed="rId6"/>
          <a:stretch/>
        </p:blipFill>
        <p:spPr>
          <a:xfrm>
            <a:off x="714240" y="3929040"/>
            <a:ext cx="74869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17:10:11Z</dcterms:created>
  <dc:creator>WASP</dc:creator>
  <dc:description/>
  <dc:language>en-US</dc:language>
  <cp:lastModifiedBy>Пользователь</cp:lastModifiedBy>
  <dcterms:modified xsi:type="dcterms:W3CDTF">2020-10-22T09:58:38Z</dcterms:modified>
  <cp:revision>23</cp:revision>
  <dc:subject/>
  <dc:title>Алкадиены</dc:title>
</cp:coreProperties>
</file>