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C56B-497C-4E83-9D1E-32571D48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2A80-7297-48EB-8630-24614059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92FF-04B0-49FA-B033-AEB45F4D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45A4-B37D-42AB-B663-C6EF8C30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E3CE-D969-4A63-8E64-9D4C569B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09D2-531B-4143-91DD-83D622E2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F34D-AB33-4AB6-9B81-AA740ABF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7E8C-A005-44CD-B501-4173A666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D6FE-47E9-46C6-B61E-EFF36825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1BEE-1868-4098-BE24-C257AD0D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F19F-8138-4D9C-BD07-E2FBAC30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2792-CB94-43A1-BAEE-57E18F16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5689-FC9E-45FA-B1ED-8183279F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861D-4AF0-441E-86A3-1E2903B7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B496-4D1D-4426-9676-1D3C1DC8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8677-D25D-4796-BC06-FA8B0EB0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8804-41E8-42C9-962F-4E079EB55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873C-D6CE-4E31-B90B-5997F8A1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E74F-C8C6-46E0-AE57-DCB26314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52A0-956A-4715-AC53-2BCD1F8F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E1D0-6BD1-40FB-A5B8-A9549AE9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AE12-63C9-42A1-B6DB-BE97C418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1DB5-2B5B-4CC3-BF19-F77A16BE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1A66-D5A4-4380-AB56-59F5282F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9E09-4AF9-40BB-A761-B3970E5557C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E159-38A8-44E8-AC03-493C9691C64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&#1040;&#1093;&#1084;&#1072;&#1090;&#1086;&#1074;&#1072;_192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ru.wikipedia.org/wiki/1900" TargetMode="External"/><Relationship Id="rId3" Type="http://schemas.openxmlformats.org/officeDocument/2006/relationships/hyperlink" Target="http://ru.wikipedia.org/wiki/1905" TargetMode="External"/><Relationship Id="rId4" Type="http://schemas.openxmlformats.org/officeDocument/2006/relationships/hyperlink" Target="http://ru.wikipedia.org/wiki/1906" TargetMode="External"/><Relationship Id="rId5" Type="http://schemas.openxmlformats.org/officeDocument/2006/relationships/hyperlink" Target="http://ru.wikipedia.org/wiki/1907" TargetMode="External"/><Relationship Id="rId6" Type="http://schemas.openxmlformats.org/officeDocument/2006/relationships/hyperlink" Target="http://ru.wikipedia.org/wiki/1908" TargetMode="External"/><Relationship Id="rId7" Type="http://schemas.openxmlformats.org/officeDocument/2006/relationships/hyperlink" Target="http://ru.wikipedia.org/wiki/1910" TargetMode="External"/><Relationship Id="rId8" Type="http://schemas.openxmlformats.org/officeDocument/2006/relationships/hyperlink" Target="http://ru.wikipedia.org/wiki/1910" TargetMode="External"/><Relationship Id="rId9" Type="http://schemas.openxmlformats.org/officeDocument/2006/relationships/hyperlink" Target="http://ru.wikipedia.org/wiki/&#1043;&#1091;&#1084;&#1080;&#1083;&#1105;&#1074;,_&#1053;&#1080;&#1082;&#1086;&#1083;&#1072;&#1081;_&#1057;&#1090;&#1077;&#1087;&#1072;&#1085;&#1086;&#1074;&#1080;&#1095;" TargetMode="External"/><Relationship Id="rId10" Type="http://schemas.openxmlformats.org/officeDocument/2006/relationships/hyperlink" Target="http://ru.wikipedia.org/wiki/1910" TargetMode="External"/><Relationship Id="rId11" Type="http://schemas.openxmlformats.org/officeDocument/2006/relationships/hyperlink" Target="http://ru.wikipedia.org/wiki/1912" TargetMode="External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«Серебряный век Русской поэзии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: 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Анна Ахматова»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255600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ahoma"/>
              </a:rPr>
              <a:t>Жена и мать «врагов народа»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649760" y="1600200"/>
            <a:ext cx="41925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649760" y="3925440"/>
            <a:ext cx="419256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0" name="Picture 10" descr="i?id=22559480&amp;tov=5"/>
          <p:cNvPicPr/>
          <p:nvPr/>
        </p:nvPicPr>
        <p:blipFill>
          <a:blip r:embed="rId2"/>
          <a:stretch/>
        </p:blipFill>
        <p:spPr>
          <a:xfrm>
            <a:off x="1187280" y="1916280"/>
            <a:ext cx="2624400" cy="345744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11"/>
          <p:cNvSpPr/>
          <p:nvPr/>
        </p:nvSpPr>
        <p:spPr>
          <a:xfrm>
            <a:off x="1312560" y="546408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. Гумиле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2" name="Picture 17" descr="i?id=384796&amp;tov=7"/>
          <p:cNvPicPr/>
          <p:nvPr/>
        </p:nvPicPr>
        <p:blipFill>
          <a:blip r:embed="rId3"/>
          <a:stretch/>
        </p:blipFill>
        <p:spPr>
          <a:xfrm>
            <a:off x="4643280" y="1700280"/>
            <a:ext cx="1951200" cy="208908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18"/>
          <p:cNvSpPr/>
          <p:nvPr/>
        </p:nvSpPr>
        <p:spPr>
          <a:xfrm>
            <a:off x="6805080" y="249228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.Н. Пун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4" name="Picture 20" descr="i?id=23304808&amp;tov=6"/>
          <p:cNvPicPr/>
          <p:nvPr/>
        </p:nvPicPr>
        <p:blipFill>
          <a:blip r:embed="rId4"/>
          <a:stretch/>
        </p:blipFill>
        <p:spPr>
          <a:xfrm>
            <a:off x="4643280" y="3933720"/>
            <a:ext cx="1657440" cy="215928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22"/>
          <p:cNvSpPr/>
          <p:nvPr/>
        </p:nvSpPr>
        <p:spPr>
          <a:xfrm>
            <a:off x="6372720" y="48690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Л. Н. Гумиле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cc"/>
                </a:solidFill>
                <a:latin typeface="Tahoma"/>
              </a:rPr>
              <a:t>Могила Анны Ахматовой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3040200" y="5969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Text Box 35"/>
          <p:cNvSpPr/>
          <p:nvPr/>
        </p:nvSpPr>
        <p:spPr>
          <a:xfrm>
            <a:off x="971640" y="5667480"/>
            <a:ext cx="737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 марта 1966 — умерла в санатории в Домодедово (Подмосковье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хоронена в Комарово, под Ленинградо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0" name="Picture 37" descr="komarovo1"/>
          <p:cNvPicPr/>
          <p:nvPr/>
        </p:nvPicPr>
        <p:blipFill>
          <a:blip r:embed="rId1"/>
          <a:stretch/>
        </p:blipFill>
        <p:spPr>
          <a:xfrm>
            <a:off x="826920" y="1160640"/>
            <a:ext cx="749016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ahoma"/>
              </a:rPr>
              <a:t>Памятник на могиле Анны Ахматовой в Комаров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4976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4" name="Picture 10" descr="komarovo3"/>
          <p:cNvPicPr/>
          <p:nvPr/>
        </p:nvPicPr>
        <p:blipFill>
          <a:blip r:embed="rId1"/>
          <a:stretch/>
        </p:blipFill>
        <p:spPr>
          <a:xfrm>
            <a:off x="4643280" y="220500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2" descr="komarovo2"/>
          <p:cNvPicPr/>
          <p:nvPr/>
        </p:nvPicPr>
        <p:blipFill>
          <a:blip r:embed="rId2"/>
          <a:stretch/>
        </p:blipFill>
        <p:spPr>
          <a:xfrm>
            <a:off x="395280" y="22050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Памятник Анне Ахматовой в Одесс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4976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дпись на памятнике: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"Здесь в глубине аллеи находился дом, где родилась Анна Андреевна Ахматова (Горенко) - русский поэт 1889-1989"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9" name="Picture 5" descr="odessa2"/>
          <p:cNvPicPr/>
          <p:nvPr/>
        </p:nvPicPr>
        <p:blipFill>
          <a:blip r:embed="rId1"/>
          <a:stretch/>
        </p:blipFill>
        <p:spPr>
          <a:xfrm>
            <a:off x="439560" y="1413000"/>
            <a:ext cx="40039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3" dur="500" fill="hold"/>
                                        <p:tgtEl>
                                          <p:spTgt spid="4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8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8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500"/>
                            </p:stCondLst>
                            <p:childTnLst>
                              <p:par>
                                <p:cTn id="4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ahoma"/>
              </a:rPr>
              <a:t>Памятник Анне Ахматовой в Москве</a:t>
            </a:r>
            <a:r>
              <a:rPr b="0" i="1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2" name="Picture 5" descr="moscow2"/>
          <p:cNvPicPr/>
          <p:nvPr/>
        </p:nvPicPr>
        <p:blipFill>
          <a:blip r:embed="rId1"/>
          <a:stretch/>
        </p:blipFill>
        <p:spPr>
          <a:xfrm>
            <a:off x="179280" y="1413000"/>
            <a:ext cx="5050080" cy="3946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7" descr="moscow2a"/>
          <p:cNvPicPr/>
          <p:nvPr/>
        </p:nvPicPr>
        <p:blipFill>
          <a:blip r:embed="rId2"/>
          <a:stretch/>
        </p:blipFill>
        <p:spPr>
          <a:xfrm>
            <a:off x="5651640" y="1268280"/>
            <a:ext cx="3089160" cy="403236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8"/>
          <p:cNvSpPr/>
          <p:nvPr/>
        </p:nvSpPr>
        <p:spPr>
          <a:xfrm>
            <a:off x="2768040" y="5564160"/>
            <a:ext cx="4601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амятник открыт 7 ноября 2000 г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200"/>
                            </p:stCondLst>
                            <p:childTnLst>
                              <p:par>
                                <p:cTn id="49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700"/>
                            </p:stCondLst>
                            <p:childTnLst>
                              <p:par>
                                <p:cTn id="49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700"/>
                            </p:stCondLst>
                            <p:childTnLst>
                              <p:par>
                                <p:cTn id="5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ahoma"/>
              </a:rPr>
              <a:t>Мемориальные доски на доме Ардовых в Москв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1680" y="1600200"/>
            <a:ext cx="41925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649760" y="1600200"/>
            <a:ext cx="41925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9640" y="5229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Эти доски установлены в Москве по адресу ул. Большая Ордынка, д. 17, как известно, в этом доме жила подруга Анны Ахматовой - Нина Ольшевска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9" name="Picture 10" descr="moscow1a"/>
          <p:cNvPicPr/>
          <p:nvPr/>
        </p:nvPicPr>
        <p:blipFill>
          <a:blip r:embed="rId1"/>
          <a:stretch/>
        </p:blipFill>
        <p:spPr>
          <a:xfrm>
            <a:off x="250920" y="1341360"/>
            <a:ext cx="3471840" cy="38880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" descr="moscow1"/>
          <p:cNvPicPr/>
          <p:nvPr/>
        </p:nvPicPr>
        <p:blipFill>
          <a:blip r:embed="rId2"/>
          <a:stretch/>
        </p:blipFill>
        <p:spPr>
          <a:xfrm>
            <a:off x="4140360" y="1628640"/>
            <a:ext cx="475272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500"/>
                            </p:stCondLst>
                            <p:childTnLst>
                              <p:par>
                                <p:cTn id="5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12480" y="241200"/>
            <a:ext cx="838188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Tahoma"/>
              </a:rPr>
              <a:t>"Оглянувшаяся</a:t>
            </a:r>
            <a:r>
              <a:rPr b="1" i="1" lang="ru-RU" sz="4000" spc="-1" strike="noStrike">
                <a:solidFill>
                  <a:srgbClr val="ffffcc"/>
                </a:solidFill>
                <a:latin typeface="Tahoma"/>
              </a:rPr>
              <a:t>"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амятник Анне Ахматовой появился в Санкт-Петербурге на набережной Робеспьера спустя 40 лет после кончины русской поэтессы. По замыслу скульптора Галины Додоновой, героиня Серебряного века смотрит через Неву на печально знаменитую тюрьму "Кресты«, где в годы сталинских репрессий под следствием находился сын Ахматовой -Лев Гумилев.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4976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4" name="Picture 7" descr="Памятник Ахматовой в Санкт-Петербурге установлен на месте, которое указала сама поэт"/>
          <p:cNvPicPr/>
          <p:nvPr/>
        </p:nvPicPr>
        <p:blipFill>
          <a:blip r:embed="rId1"/>
          <a:stretch/>
        </p:blipFill>
        <p:spPr>
          <a:xfrm>
            <a:off x="4643280" y="2060640"/>
            <a:ext cx="4032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300"/>
                            </p:stCondLst>
                            <p:childTnLst>
                              <p:par>
                                <p:cTn id="5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800"/>
                            </p:stCondLst>
                            <p:childTnLst>
                              <p:par>
                                <p:cTn id="55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3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16000" y="1341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Бронзовая скульптура Ахматовой размером около трех метров размещается на постаменте из монолитного темно-красного гранита Ириновского местонахождения, на площадке между домами № 12 и № 14 на набережной Робеспьера. На противоположной стороне Невы находятся "Кресты".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8" name="Picture 5" descr="kresty"/>
          <p:cNvPicPr/>
          <p:nvPr/>
        </p:nvPicPr>
        <p:blipFill>
          <a:blip r:embed="rId1"/>
          <a:stretch/>
        </p:blipFill>
        <p:spPr>
          <a:xfrm>
            <a:off x="539640" y="333360"/>
            <a:ext cx="39610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4976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мятни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 дворе гимназии № 209 г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нкт-Петербурга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2" name="Picture 8" descr="akhmat"/>
          <p:cNvPicPr/>
          <p:nvPr/>
        </p:nvPicPr>
        <p:blipFill>
          <a:blip r:embed="rId1"/>
          <a:stretch/>
        </p:blipFill>
        <p:spPr>
          <a:xfrm>
            <a:off x="468360" y="765000"/>
            <a:ext cx="44355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cc"/>
                </a:solidFill>
                <a:latin typeface="Tahoma"/>
              </a:rPr>
              <a:t>Стихи на стенах (Лейден) 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5" name="Picture 5" descr="leiden1"/>
          <p:cNvPicPr/>
          <p:nvPr/>
        </p:nvPicPr>
        <p:blipFill>
          <a:blip r:embed="rId1"/>
          <a:stretch/>
        </p:blipFill>
        <p:spPr>
          <a:xfrm>
            <a:off x="468360" y="1268280"/>
            <a:ext cx="82072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Горенко Анна Андреевна (Ахматова)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4976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эте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исат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тературове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тературный крит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еводч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Picture 7" descr="200px-%D0%90%D1%85%D0%BC%D0%B0%D1%82%D0%BE%D0%B2%D0%B0_19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268280"/>
            <a:ext cx="3311640" cy="43214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8"/>
          <p:cNvSpPr/>
          <p:nvPr/>
        </p:nvSpPr>
        <p:spPr>
          <a:xfrm>
            <a:off x="466920" y="5661000"/>
            <a:ext cx="45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23. 06. 1889 - 05. 03. 1966 г.г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850"/>
                            </p:stCondLst>
                            <p:childTnLst>
                              <p:par>
                                <p:cTn id="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700"/>
                            </p:stCondLst>
                            <p:childTnLst>
                              <p:par>
                                <p:cTn id="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800"/>
                            </p:stCondLst>
                            <p:childTnLst>
                              <p:par>
                                <p:cTn id="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150"/>
                            </p:stCondLst>
                            <p:childTnLst>
                              <p:par>
                                <p:cTn id="5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4976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Мемориальная доска в Севастопол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9" name="Picture 5" descr="sevastop"/>
          <p:cNvPicPr/>
          <p:nvPr/>
        </p:nvPicPr>
        <p:blipFill>
          <a:blip r:embed="rId1"/>
          <a:stretch/>
        </p:blipFill>
        <p:spPr>
          <a:xfrm>
            <a:off x="395280" y="189000"/>
            <a:ext cx="452592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Tahoma"/>
              </a:rPr>
              <a:t>Памятник Николаю Гумилеву, Анне Ахматовой и </a:t>
            </a:r>
            <a:br>
              <a:rPr sz="2800"/>
            </a:br>
            <a:r>
              <a:rPr b="1" i="1" lang="ru-RU" sz="2800" spc="-1" strike="noStrike">
                <a:solidFill>
                  <a:srgbClr val="ffffcc"/>
                </a:solidFill>
                <a:latin typeface="Tahoma"/>
              </a:rPr>
              <a:t>Льву Гумилеву в Бежецк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64976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3" name="Picture 8" descr="gumilevy2"/>
          <p:cNvPicPr/>
          <p:nvPr/>
        </p:nvPicPr>
        <p:blipFill>
          <a:blip r:embed="rId1"/>
          <a:stretch/>
        </p:blipFill>
        <p:spPr>
          <a:xfrm>
            <a:off x="755640" y="1628640"/>
            <a:ext cx="3529080" cy="45370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gumilevy"/>
          <p:cNvPicPr/>
          <p:nvPr/>
        </p:nvPicPr>
        <p:blipFill>
          <a:blip r:embed="rId2"/>
          <a:stretch/>
        </p:blipFill>
        <p:spPr>
          <a:xfrm>
            <a:off x="5219640" y="1700280"/>
            <a:ext cx="3097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Музей Анны Ахматовой в Фонтанном Доме расположен в центре Петербурга, в Южном флигеле Шереметевского дворца, шедевра архитектуры русского барокко. Музей открылся в 1989 году, к столетию со дня рождения поэта, и был первым музеем, посвященным тем представителям ахматовского поколения, которые пытались сохранить свой мир, свою личность в условиях тоталитарного государств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8" name="Picture 8" descr="info_01"/>
          <p:cNvPicPr/>
          <p:nvPr/>
        </p:nvPicPr>
        <p:blipFill>
          <a:blip r:embed="rId1"/>
          <a:stretch/>
        </p:blipFill>
        <p:spPr>
          <a:xfrm>
            <a:off x="468360" y="907920"/>
            <a:ext cx="403236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cc"/>
                </a:solidFill>
                <a:latin typeface="Tahoma"/>
              </a:rPr>
              <a:t>Памятник во дворе Музея Анны Ахматовой в Фонтанном Дом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649760" y="1600200"/>
            <a:ext cx="41925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649760" y="3925440"/>
            <a:ext cx="419256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3" name="Picture 16" descr="fd1"/>
          <p:cNvPicPr/>
          <p:nvPr/>
        </p:nvPicPr>
        <p:blipFill>
          <a:blip r:embed="rId1"/>
          <a:stretch/>
        </p:blipFill>
        <p:spPr>
          <a:xfrm>
            <a:off x="250920" y="692280"/>
            <a:ext cx="5002200" cy="568800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21"/>
          <p:cNvSpPr/>
          <p:nvPr/>
        </p:nvSpPr>
        <p:spPr>
          <a:xfrm>
            <a:off x="5160960" y="1413000"/>
            <a:ext cx="3983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5 марта 2006 г. в Санкт-Петербург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был открыт памятник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нне Андреевне Ахматов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ткрытие памятник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становленно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саду возл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Фонтанного дом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иурочено к сороковой годовщи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о дня смерти поэта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8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8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01680" y="1600200"/>
            <a:ext cx="41925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649760" y="1600200"/>
            <a:ext cx="41925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8" name="Picture 7" descr="fd2"/>
          <p:cNvPicPr/>
          <p:nvPr/>
        </p:nvPicPr>
        <p:blipFill>
          <a:blip r:embed="rId1"/>
          <a:stretch/>
        </p:blipFill>
        <p:spPr>
          <a:xfrm>
            <a:off x="461880" y="260280"/>
            <a:ext cx="3102120" cy="36734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8" descr="fd3"/>
          <p:cNvPicPr/>
          <p:nvPr/>
        </p:nvPicPr>
        <p:blipFill>
          <a:blip r:embed="rId2"/>
          <a:stretch/>
        </p:blipFill>
        <p:spPr>
          <a:xfrm>
            <a:off x="4500720" y="258840"/>
            <a:ext cx="4643280" cy="360180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12"/>
          <p:cNvSpPr/>
          <p:nvPr/>
        </p:nvSpPr>
        <p:spPr>
          <a:xfrm>
            <a:off x="-1114560" y="4124160"/>
            <a:ext cx="1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Text Box 13"/>
          <p:cNvSpPr/>
          <p:nvPr/>
        </p:nvSpPr>
        <p:spPr>
          <a:xfrm>
            <a:off x="1183680" y="3979800"/>
            <a:ext cx="79606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амятник, который является даром директора музе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"Исаакиевский собор" Hиколая Hагорского, представляе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обой кусок стены с изображением Ахматовой. Надпись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ыгравированная в зеркальном отображении, содержи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трочки из ее стихов "Тень моя на стенах твоих"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втором мемориального знака является извест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етербургский скульптор Вячеслав Бухае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ahoma"/>
              </a:rPr>
              <a:t>Мемориальная доска на здании музея Анны Ахматовой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4" name="Picture 5" descr="fonthouse"/>
          <p:cNvPicPr/>
          <p:nvPr/>
        </p:nvPicPr>
        <p:blipFill>
          <a:blip r:embed="rId1"/>
          <a:stretch/>
        </p:blipFill>
        <p:spPr>
          <a:xfrm>
            <a:off x="1990800" y="1413000"/>
            <a:ext cx="46688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8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8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8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8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00"/>
                            </p:stCondLst>
                            <p:childTnLst>
                              <p:par>
                                <p:cTn id="6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одител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64976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397440" y="558972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дре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онович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ренк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Picture 10" descr="i?id=22898922&amp;tov=8"/>
          <p:cNvPicPr/>
          <p:nvPr/>
        </p:nvPicPr>
        <p:blipFill>
          <a:blip r:embed="rId2"/>
          <a:stretch/>
        </p:blipFill>
        <p:spPr>
          <a:xfrm>
            <a:off x="1042920" y="1628640"/>
            <a:ext cx="2790720" cy="38163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2" descr="i?id=9966458&amp;tov=2"/>
          <p:cNvPicPr/>
          <p:nvPr/>
        </p:nvPicPr>
        <p:blipFill>
          <a:blip r:embed="rId3"/>
          <a:stretch/>
        </p:blipFill>
        <p:spPr>
          <a:xfrm>
            <a:off x="5219640" y="1628640"/>
            <a:ext cx="2535120" cy="381636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13"/>
          <p:cNvSpPr/>
          <p:nvPr/>
        </p:nvSpPr>
        <p:spPr>
          <a:xfrm>
            <a:off x="5003640" y="5589720"/>
            <a:ext cx="30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на Эразмовна Стогов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cc"/>
                </a:solidFill>
                <a:latin typeface="Tahoma"/>
              </a:rPr>
              <a:t>Почему «Ахматова»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"Только семнадцатилетняя шальная девчонка могла выбрать татарскую фамилию для русской поэтессы... Мне потому пришло на ум взять себе псевдоним, что папа, узнав о моих стихах, сказал: "Не срами мое имя".—"И не надо мне твоего имени!"— сказала я...".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ahoma"/>
              </a:rPr>
              <a:t>Жизнь и творчеств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1900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—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1905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— учёба в </a:t>
            </a:r>
            <a:r>
              <a:rPr b="0" i="1" lang="ru-RU" sz="2000" spc="-1" strike="noStrike">
                <a:solidFill>
                  <a:srgbClr val="5a5c6c"/>
                </a:solidFill>
                <a:latin typeface="Tahoma"/>
              </a:rPr>
              <a:t>Царскосельской гимназ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1906</a:t>
            </a:r>
            <a:r>
              <a:rPr b="0" i="1" lang="ru-RU" sz="2000" spc="-1" strike="noStrike">
                <a:solidFill>
                  <a:srgbClr val="5a5c6c"/>
                </a:solidFill>
                <a:latin typeface="Tahoma"/>
              </a:rPr>
              <a:t>—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1907</a:t>
            </a:r>
            <a:r>
              <a:rPr b="0" i="1" lang="ru-RU" sz="2000" spc="-1" strike="noStrike">
                <a:solidFill>
                  <a:srgbClr val="5a5c6c"/>
                </a:solidFill>
                <a:latin typeface="Tahoma"/>
              </a:rPr>
              <a:t> — учёба в Киевской Фундуклеевской гимнази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1908</a:t>
            </a:r>
            <a:r>
              <a:rPr b="0" i="1" lang="ru-RU" sz="2000" spc="-1" strike="noStrike">
                <a:solidFill>
                  <a:srgbClr val="5a5c6c"/>
                </a:solidFill>
                <a:latin typeface="Tahoma"/>
              </a:rPr>
              <a:t>—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1910</a:t>
            </a:r>
            <a:r>
              <a:rPr b="0" i="1" lang="ru-RU" sz="2000" spc="-1" strike="noStrike">
                <a:solidFill>
                  <a:srgbClr val="5a5c6c"/>
                </a:solidFill>
                <a:latin typeface="Tahoma"/>
              </a:rPr>
              <a:t> — учёба на Киевских высших женских курсах и на Высших историко-литературных курсах Раева в Петербург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8"/>
              </a:rPr>
              <a:t>1910</a:t>
            </a:r>
            <a:r>
              <a:rPr b="0" i="1" lang="ru-RU" sz="2000" spc="-1" strike="noStrike">
                <a:solidFill>
                  <a:srgbClr val="5a5c6c"/>
                </a:solidFill>
                <a:latin typeface="Tahoma"/>
              </a:rPr>
              <a:t> — в апреле вышла замуж за 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9"/>
              </a:rPr>
              <a:t>Н.Гумилёва</a:t>
            </a:r>
            <a:r>
              <a:rPr b="0" i="1" lang="ru-RU" sz="2000" spc="-1" strike="noStrike">
                <a:solidFill>
                  <a:srgbClr val="5a5c6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0"/>
              </a:rPr>
              <a:t>1910</a:t>
            </a:r>
            <a:r>
              <a:rPr b="0" i="1" lang="ru-RU" sz="2000" spc="-1" strike="noStrike">
                <a:solidFill>
                  <a:srgbClr val="5a5c6c"/>
                </a:solidFill>
                <a:latin typeface="Tahoma"/>
              </a:rPr>
              <a:t>—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1"/>
              </a:rPr>
              <a:t>1912</a:t>
            </a:r>
            <a:r>
              <a:rPr b="0" i="1" lang="ru-RU" sz="2000" spc="-1" strike="noStrike">
                <a:solidFill>
                  <a:srgbClr val="5a5c6c"/>
                </a:solidFill>
                <a:latin typeface="Tahoma"/>
              </a:rPr>
              <a:t> дважды побывала в Париже, путешествовала по Италии. В Париже произошло знакомство с Амадео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Модильян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4976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Picture 9" descr="i?id=31721146&amp;tov=6"/>
          <p:cNvPicPr/>
          <p:nvPr/>
        </p:nvPicPr>
        <p:blipFill>
          <a:blip r:embed="rId12"/>
          <a:stretch/>
        </p:blipFill>
        <p:spPr>
          <a:xfrm>
            <a:off x="4643280" y="1628640"/>
            <a:ext cx="4032360" cy="329580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10"/>
          <p:cNvSpPr/>
          <p:nvPr/>
        </p:nvSpPr>
        <p:spPr>
          <a:xfrm>
            <a:off x="4861440" y="5229360"/>
            <a:ext cx="329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Рисунок Амедео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одильян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нна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Ахматова" (1911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Picture 5" descr="Картинка 10 из 357"/>
          <p:cNvPicPr/>
          <p:nvPr/>
        </p:nvPicPr>
        <p:blipFill>
          <a:blip r:embed="rId2"/>
          <a:stretch/>
        </p:blipFill>
        <p:spPr>
          <a:xfrm>
            <a:off x="1403280" y="189000"/>
            <a:ext cx="6121440" cy="568800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6"/>
          <p:cNvSpPr/>
          <p:nvPr/>
        </p:nvSpPr>
        <p:spPr>
          <a:xfrm>
            <a:off x="1909080" y="5805360"/>
            <a:ext cx="629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хматова с мужем Н.С.Гумилевым и сын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.Н.Гумилевым,который родился в октябре 1912 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cc"/>
                </a:solidFill>
                <a:latin typeface="Tahoma"/>
              </a:rPr>
              <a:t>Творчеств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1912 г.- первая книга сборник «Вечер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Весна 1914 г.- сборник «Четки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1917 г. – «Белая стая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1921 г. – сборник «Подорожник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Октябрь 1921 г. – «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Anno Domini MCMXXI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» (лат. «В лето господне 1921»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В 1920-е г. г. Подвергалась замалчиванию, цензуре и травл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1923 по 1934 г.  практически не печаталас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1935-1940 г. г. – поэма «Реквием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1940 г. – новый шестой сборник «Из шести книг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1941 г. – войну встретила в Ленинграде. Позднее по настоянию врачей была эвакуирована сначала в Москву, затем в Чистополь, оттуда через Казань в Ташкент. В Ташкенте выходит сборник стихотворений Анны Ахматов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1945 г. 15 мая – возвращается из эвакуации в Москв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1962 г. – номинирована на Нобелевскую премию по литерату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1964 г. – в Италии получила премию «Этна-Таормин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1965 г. – диплом почетного доктора Оксфордского университе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1965 г. – издан сборник «Бег времени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500"/>
                            </p:stCondLst>
                            <p:childTnLst>
                              <p:par>
                                <p:cTn id="19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500"/>
                            </p:stCondLst>
                            <p:childTnLst>
                              <p:par>
                                <p:cTn id="20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500"/>
                            </p:stCondLst>
                            <p:childTnLst>
                              <p:par>
                                <p:cTn id="20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500"/>
                            </p:stCondLst>
                            <p:childTnLst>
                              <p:par>
                                <p:cTn id="21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7500"/>
                            </p:stCondLst>
                            <p:childTnLst>
                              <p:par>
                                <p:cTn id="2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500"/>
                            </p:stCondLst>
                            <p:childTnLst>
                              <p:par>
                                <p:cTn id="23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9500"/>
                            </p:stCondLst>
                            <p:childTnLst>
                              <p:par>
                                <p:cTn id="2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cc"/>
                </a:solidFill>
                <a:latin typeface="Tahoma"/>
              </a:rPr>
              <a:t>Характерные черты творчества</a:t>
            </a: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ерность нравственным основам быт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Тонкое понимание психологии чув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Осмысление общенародных трагедий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X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века, сопряженное с личными переживани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Тяготение к классическому стилю поэтического язы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500"/>
                            </p:stCondLst>
                            <p:childTnLst>
                              <p:par>
                                <p:cTn id="3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500"/>
                            </p:stCondLst>
                            <p:childTnLst>
                              <p:par>
                                <p:cTn id="3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ahoma"/>
              </a:rPr>
              <a:t>О своих стихах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«Для меня в них — связь с временем, с новой жизнью моего народа. Когда я писала их, я жила теми ритмами, которые звучали в героической истории моей страны. Я счастлива, что жила в эти годы и видела события, которым не было равных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6230880" y="5300640"/>
            <a:ext cx="26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нна Ахмат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08:37:20Z</dcterms:created>
  <dc:creator>Гость</dc:creator>
  <dc:description/>
  <dc:language>en-US</dc:language>
  <cp:lastModifiedBy>Администратор</cp:lastModifiedBy>
  <dcterms:modified xsi:type="dcterms:W3CDTF">2019-11-19T12:49:26Z</dcterms:modified>
  <cp:revision>7</cp:revision>
  <dc:subject/>
  <dc:title>Слайд 1</dc:title>
</cp:coreProperties>
</file>