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61575" cy="76930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9241-BA57-40D8-893D-3F106D7FE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94960"/>
            <a:ext cx="905508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2920" y="4447080"/>
            <a:ext cx="905508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589D-5DEF-47B1-B046-92DA652C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94960"/>
            <a:ext cx="4418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42960" y="1794960"/>
            <a:ext cx="4418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2920" y="4447080"/>
            <a:ext cx="4418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142960" y="4447080"/>
            <a:ext cx="4418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4DDD-78EC-4E05-B6EA-A65E4E72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94960"/>
            <a:ext cx="2915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64720" y="1794960"/>
            <a:ext cx="2915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626520" y="1794960"/>
            <a:ext cx="2915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02920" y="4447080"/>
            <a:ext cx="2915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64720" y="4447080"/>
            <a:ext cx="2915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626520" y="4447080"/>
            <a:ext cx="2915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030B-B4C7-4C6D-80C7-F6E7ED4A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2FE4-7DE2-44CE-80EC-F53566FB5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2920" y="1794960"/>
            <a:ext cx="9055080" cy="50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75E8-B400-4F92-A8FA-1F1FF2C8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2920" y="1794960"/>
            <a:ext cx="9055080" cy="5077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002A-6C64-4E5E-AC6C-0CEE904F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2920" y="1794960"/>
            <a:ext cx="4418640" cy="5077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42960" y="1794960"/>
            <a:ext cx="4418640" cy="5077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EE5B-B93B-4AD1-AE20-167FD781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4FE9-075A-4115-9483-B5447DAB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02920" y="310680"/>
            <a:ext cx="9055080" cy="59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BC5F-D023-4889-A35D-1A225B4F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2920" y="1794960"/>
            <a:ext cx="4418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42960" y="1794960"/>
            <a:ext cx="4418640" cy="5077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2920" y="4447080"/>
            <a:ext cx="4418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5983-4032-4F44-A7D9-415639AC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02920" y="1794960"/>
            <a:ext cx="9055080" cy="50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7E96-1781-4CA5-9D7C-DEC92D95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2920" y="1794960"/>
            <a:ext cx="4418640" cy="5077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42960" y="1794960"/>
            <a:ext cx="4418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142960" y="4447080"/>
            <a:ext cx="4418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E001-E5E7-4D7E-BCF7-9006A495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2920" y="1794960"/>
            <a:ext cx="4418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42960" y="1794960"/>
            <a:ext cx="4418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2920" y="4447080"/>
            <a:ext cx="905508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87D3-70BA-457E-AB39-BC2AFC04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2920" y="1794960"/>
            <a:ext cx="905508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2920" y="4447080"/>
            <a:ext cx="905508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B7B5-7756-4A8C-AE10-65E0FB99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2920" y="1794960"/>
            <a:ext cx="4418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42960" y="1794960"/>
            <a:ext cx="4418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2920" y="4447080"/>
            <a:ext cx="4418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142960" y="4447080"/>
            <a:ext cx="4418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A654-A7CD-4496-AC41-F52E40442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2920" y="1794960"/>
            <a:ext cx="2915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64720" y="1794960"/>
            <a:ext cx="2915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26520" y="1794960"/>
            <a:ext cx="2915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02920" y="4447080"/>
            <a:ext cx="2915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64720" y="4447080"/>
            <a:ext cx="2915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626520" y="4447080"/>
            <a:ext cx="2915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D15D-3329-4E1D-B309-3754E6200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94960"/>
            <a:ext cx="9055080" cy="5077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80D9-2555-4FA0-995F-991E12CB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94960"/>
            <a:ext cx="4418640" cy="5077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42960" y="1794960"/>
            <a:ext cx="4418640" cy="5077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95DC-8AEA-4291-96E8-4AE6C04B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5D31-A5E5-4F0F-9FBC-4C59A3CF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02920" y="310680"/>
            <a:ext cx="9055080" cy="59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713E-BC00-481C-B0E2-F753BC63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2920" y="1794960"/>
            <a:ext cx="4418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42960" y="1794960"/>
            <a:ext cx="4418640" cy="5077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2920" y="4447080"/>
            <a:ext cx="4418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D228-177B-4F5A-B522-350CCA64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94960"/>
            <a:ext cx="4418640" cy="5077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42960" y="1794960"/>
            <a:ext cx="4418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142960" y="4447080"/>
            <a:ext cx="4418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9B0A-974F-4339-833A-623A526E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94960"/>
            <a:ext cx="4418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42960" y="1794960"/>
            <a:ext cx="441864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02920" y="4447080"/>
            <a:ext cx="9055080" cy="242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D32E-F7D7-45B9-A35F-0A8D61F4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7292880" y="7211880"/>
            <a:ext cx="314280" cy="23508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786200"/>
            <a:ext cx="10058040" cy="2906640"/>
            <a:chOff x="3240" y="4786200"/>
            <a:chExt cx="10058040" cy="2906640"/>
          </a:xfrm>
        </p:grpSpPr>
        <p:sp>
          <p:nvSpPr>
            <p:cNvPr id="2" name="Freeform 4"/>
            <p:cNvSpPr/>
            <p:nvPr/>
          </p:nvSpPr>
          <p:spPr>
            <a:xfrm>
              <a:off x="3240" y="4786200"/>
              <a:ext cx="10058040" cy="290664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6162480" y="6615360"/>
              <a:ext cx="1382760" cy="927720"/>
              <a:chOff x="6162480" y="6615360"/>
              <a:chExt cx="1382760" cy="92772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6440040" y="6784560"/>
                <a:ext cx="928800" cy="582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6509880" y="6837840"/>
                <a:ext cx="789120" cy="4896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607800" y="6894720"/>
                <a:ext cx="600480" cy="3722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675840" y="6937560"/>
                <a:ext cx="460800" cy="2847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736680" y="6984000"/>
                <a:ext cx="335160" cy="1972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46360" y="6615360"/>
                <a:ext cx="668520" cy="2865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455880" y="7425720"/>
                <a:ext cx="773280" cy="1173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6162480" y="6955200"/>
                <a:ext cx="155520" cy="3862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6235560" y="6668640"/>
                <a:ext cx="1309680" cy="82080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052760" y="6626160"/>
                <a:ext cx="165600" cy="511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831000" y="7030440"/>
                <a:ext cx="148320" cy="9396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102120" y="6465960"/>
              <a:ext cx="2839680" cy="1216080"/>
              <a:chOff x="3102120" y="6465960"/>
              <a:chExt cx="2839680" cy="121608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961080" y="7005240"/>
                <a:ext cx="1114560" cy="671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4041360" y="7048080"/>
                <a:ext cx="948600" cy="591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4088520" y="7085160"/>
                <a:ext cx="874800" cy="5324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4135680" y="7115400"/>
                <a:ext cx="775440" cy="4593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4165560" y="7130160"/>
                <a:ext cx="721080" cy="43056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4256280" y="7169400"/>
                <a:ext cx="534600" cy="3416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4324320" y="7222680"/>
                <a:ext cx="396360" cy="240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439880" y="7295760"/>
                <a:ext cx="156600" cy="1065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514760" y="6805800"/>
                <a:ext cx="784080" cy="33084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741120" y="6859080"/>
                <a:ext cx="1557720" cy="82296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636360" y="6816240"/>
                <a:ext cx="703800" cy="86580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5214960" y="7201080"/>
                <a:ext cx="188640" cy="4485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611880" y="6561720"/>
                <a:ext cx="1458360" cy="2667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3260880" y="6861240"/>
                <a:ext cx="298440" cy="82080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5154120" y="6679440"/>
                <a:ext cx="628920" cy="100044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4048560" y="6465960"/>
                <a:ext cx="1882440" cy="75672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770800" y="7265520"/>
                <a:ext cx="171000" cy="416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3102120" y="6540480"/>
                <a:ext cx="839880" cy="114156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7210440" y="5983200"/>
              <a:ext cx="2359800" cy="1461240"/>
              <a:chOff x="7210440" y="5983200"/>
              <a:chExt cx="2359800" cy="146124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7336080" y="6057720"/>
                <a:ext cx="2096280" cy="130140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7210440" y="5993640"/>
                <a:ext cx="949320" cy="130716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8369280" y="5983200"/>
                <a:ext cx="1063080" cy="4485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9163800" y="7135200"/>
                <a:ext cx="125280" cy="9396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868520" y="7252560"/>
                <a:ext cx="1230480" cy="19188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9321120" y="6506280"/>
                <a:ext cx="249120" cy="60516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839080" y="6453000"/>
                <a:ext cx="144720" cy="16020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763760" y="6324840"/>
                <a:ext cx="1251360" cy="7675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7596360" y="6249960"/>
                <a:ext cx="1591920" cy="94932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971480" y="6217920"/>
                <a:ext cx="637200" cy="1173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795440" y="6335640"/>
                <a:ext cx="113040" cy="84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940160" y="6424560"/>
                <a:ext cx="903960" cy="5680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995960" y="6463440"/>
                <a:ext cx="777960" cy="4824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8051760" y="6499080"/>
                <a:ext cx="669960" cy="41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8128800" y="6549120"/>
                <a:ext cx="519840" cy="3132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8191440" y="6584760"/>
                <a:ext cx="387360" cy="247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8274960" y="6638040"/>
                <a:ext cx="219960" cy="144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9222840" y="5384520"/>
              <a:ext cx="741960" cy="459000"/>
              <a:chOff x="9222840" y="5384520"/>
              <a:chExt cx="741960" cy="45900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9222840" y="5671440"/>
                <a:ext cx="668880" cy="17208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9284040" y="5384520"/>
                <a:ext cx="450360" cy="9504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9860400" y="5459760"/>
                <a:ext cx="104400" cy="27972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9388800" y="5782680"/>
                <a:ext cx="335160" cy="320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9264600" y="5416560"/>
                <a:ext cx="281160" cy="33372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9587880" y="5416560"/>
                <a:ext cx="321120" cy="3747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9336240" y="5445360"/>
                <a:ext cx="522000" cy="33192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9399240" y="5493600"/>
                <a:ext cx="396000" cy="236160"/>
                <a:chOff x="9399240" y="5493600"/>
                <a:chExt cx="396000" cy="23616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9399240" y="5493600"/>
                  <a:ext cx="396000" cy="23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9438120" y="5518440"/>
                  <a:ext cx="321840" cy="182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9487440" y="5536440"/>
                  <a:ext cx="221040" cy="14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9531720" y="5564880"/>
                  <a:ext cx="132840" cy="84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502920" y="1794960"/>
            <a:ext cx="9055080" cy="5077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68280" indent="-253800">
              <a:spcBef>
                <a:spcPts val="901"/>
              </a:spcBef>
              <a:buClr>
                <a:srgbClr val="0088e4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774800" indent="-252360">
              <a:spcBef>
                <a:spcPts val="901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282760" indent="-253800">
              <a:spcBef>
                <a:spcPts val="901"/>
              </a:spcBef>
              <a:buClr>
                <a:srgbClr val="99ff99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282760" indent="-2538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282760" indent="-2538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503280" y="7005600"/>
            <a:ext cx="2347920" cy="534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436560" y="7005600"/>
            <a:ext cx="3187800" cy="534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7210440" y="7005600"/>
            <a:ext cx="2347920" cy="534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3DBB-5B11-464D-A453-16237CE4DA5C}" type="slidenum">
              <a:rPr b="0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786200"/>
            <a:ext cx="10058040" cy="2906640"/>
            <a:chOff x="3240" y="4786200"/>
            <a:chExt cx="10058040" cy="2906640"/>
          </a:xfrm>
        </p:grpSpPr>
        <p:sp>
          <p:nvSpPr>
            <p:cNvPr id="107" name="Freeform 3"/>
            <p:cNvSpPr/>
            <p:nvPr/>
          </p:nvSpPr>
          <p:spPr>
            <a:xfrm>
              <a:off x="3240" y="4786200"/>
              <a:ext cx="10058040" cy="290664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6162480" y="6615360"/>
              <a:ext cx="1382760" cy="927720"/>
              <a:chOff x="6162480" y="6615360"/>
              <a:chExt cx="1382760" cy="92772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6440040" y="6784560"/>
                <a:ext cx="928800" cy="582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6509880" y="6837840"/>
                <a:ext cx="789120" cy="4896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607800" y="6894720"/>
                <a:ext cx="600480" cy="3722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675840" y="6937560"/>
                <a:ext cx="460800" cy="2847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736680" y="6984000"/>
                <a:ext cx="335160" cy="1972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6246360" y="6615360"/>
                <a:ext cx="668520" cy="2865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6455880" y="7425720"/>
                <a:ext cx="773280" cy="1173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6162480" y="6955200"/>
                <a:ext cx="155520" cy="3862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6235560" y="6668640"/>
                <a:ext cx="1309680" cy="82080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7052760" y="6626160"/>
                <a:ext cx="165600" cy="511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831000" y="7030440"/>
                <a:ext cx="148320" cy="9396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3102120" y="6465960"/>
              <a:ext cx="2839680" cy="1216080"/>
              <a:chOff x="3102120" y="6465960"/>
              <a:chExt cx="2839680" cy="121608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961080" y="7005240"/>
                <a:ext cx="1114560" cy="671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4041360" y="7048080"/>
                <a:ext cx="948600" cy="591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4088520" y="7085160"/>
                <a:ext cx="874800" cy="5324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4135680" y="7115400"/>
                <a:ext cx="775440" cy="4593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4165560" y="7130160"/>
                <a:ext cx="721080" cy="43056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4256280" y="7169400"/>
                <a:ext cx="534600" cy="3416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4324320" y="7222680"/>
                <a:ext cx="396360" cy="240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439880" y="7295760"/>
                <a:ext cx="156600" cy="1065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514760" y="6805800"/>
                <a:ext cx="784080" cy="33084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741120" y="6859080"/>
                <a:ext cx="1557720" cy="82296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636360" y="6816240"/>
                <a:ext cx="703800" cy="86580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5214960" y="7201080"/>
                <a:ext cx="188640" cy="4485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611880" y="6561720"/>
                <a:ext cx="1458360" cy="2667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3260880" y="6861240"/>
                <a:ext cx="298440" cy="82080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5154120" y="6679440"/>
                <a:ext cx="628920" cy="100044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4048560" y="6465960"/>
                <a:ext cx="1882440" cy="75672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770800" y="7265520"/>
                <a:ext cx="171000" cy="416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3102120" y="6540480"/>
                <a:ext cx="839880" cy="114156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7210440" y="5983200"/>
              <a:ext cx="2359800" cy="1461240"/>
              <a:chOff x="7210440" y="5983200"/>
              <a:chExt cx="2359800" cy="146124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7336080" y="6057720"/>
                <a:ext cx="2096280" cy="130140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7210440" y="5993640"/>
                <a:ext cx="949320" cy="130716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8369280" y="5983200"/>
                <a:ext cx="1063080" cy="4485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9163800" y="7135200"/>
                <a:ext cx="125280" cy="9396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868520" y="7252560"/>
                <a:ext cx="1230480" cy="19188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9321120" y="6506280"/>
                <a:ext cx="249120" cy="60516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839080" y="6453000"/>
                <a:ext cx="144720" cy="16020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763760" y="6324840"/>
                <a:ext cx="1251360" cy="7675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7596360" y="6249960"/>
                <a:ext cx="1591920" cy="94932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971480" y="6217920"/>
                <a:ext cx="637200" cy="1173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795440" y="6335640"/>
                <a:ext cx="113040" cy="84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940160" y="6424560"/>
                <a:ext cx="903960" cy="5680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995960" y="6463440"/>
                <a:ext cx="777960" cy="4824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8051760" y="6499080"/>
                <a:ext cx="669960" cy="41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8128800" y="6549120"/>
                <a:ext cx="519840" cy="3132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8191440" y="6584760"/>
                <a:ext cx="387360" cy="247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8274960" y="6638040"/>
                <a:ext cx="219960" cy="144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9222840" y="5384520"/>
              <a:ext cx="741960" cy="459000"/>
              <a:chOff x="9222840" y="5384520"/>
              <a:chExt cx="741960" cy="45900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9222840" y="5671440"/>
                <a:ext cx="668880" cy="17208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9284040" y="5384520"/>
                <a:ext cx="450360" cy="9504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9860400" y="5459760"/>
                <a:ext cx="104400" cy="27972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9388800" y="5782680"/>
                <a:ext cx="335160" cy="320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9264600" y="5416560"/>
                <a:ext cx="281160" cy="33372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9587880" y="5416560"/>
                <a:ext cx="321120" cy="3747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9336240" y="5445360"/>
                <a:ext cx="522000" cy="33192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9399240" y="5493600"/>
                <a:ext cx="396000" cy="236160"/>
                <a:chOff x="9399240" y="5493600"/>
                <a:chExt cx="396000" cy="23616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9399240" y="5493600"/>
                  <a:ext cx="396000" cy="23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9438120" y="5518440"/>
                  <a:ext cx="321840" cy="182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9487440" y="5536440"/>
                  <a:ext cx="221040" cy="14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9531720" y="5564880"/>
                  <a:ext cx="132840" cy="84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02920" y="1794960"/>
            <a:ext cx="9055080" cy="5077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24040" indent="-316080"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68280" indent="-253800">
              <a:spcBef>
                <a:spcPts val="901"/>
              </a:spcBef>
              <a:buClr>
                <a:srgbClr val="0088e4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774800" indent="-252360">
              <a:spcBef>
                <a:spcPts val="901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282760" indent="-253800">
              <a:spcBef>
                <a:spcPts val="901"/>
              </a:spcBef>
              <a:buClr>
                <a:srgbClr val="99ff99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282760" indent="-2538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282760" indent="-2538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503280" y="7008840"/>
            <a:ext cx="2347920" cy="512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436560" y="7008840"/>
            <a:ext cx="3187800" cy="512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7210440" y="7008840"/>
            <a:ext cx="2347920" cy="512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3E05-55B3-4206-8814-C9BA50680E24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belcanto.ru/ballet_petrushka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И.Ф.Стравинский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2920" y="1398240"/>
            <a:ext cx="9055080" cy="5473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0" algn="ctr">
              <a:spcBef>
                <a:spcPts val="1100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Балет «Петрушка»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7" descr="http://900igr.net/up/datai/59651/0019-015-.png"/>
          <p:cNvPicPr/>
          <p:nvPr/>
        </p:nvPicPr>
        <p:blipFill>
          <a:blip r:embed="rId1"/>
          <a:stretch/>
        </p:blipFill>
        <p:spPr>
          <a:xfrm>
            <a:off x="998640" y="2190600"/>
            <a:ext cx="8269200" cy="550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Arial"/>
              </a:rPr>
              <a:t>Проверь себя: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77920" y="1398240"/>
            <a:ext cx="9361440" cy="6119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685800" indent="-685800">
              <a:spcBef>
                <a:spcPts val="774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100" spc="-1" strike="noStrike">
                <a:solidFill>
                  <a:srgbClr val="ffff00"/>
                </a:solidFill>
                <a:latin typeface="Arial"/>
              </a:rPr>
              <a:t>Что такое балет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74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100" spc="-1" strike="noStrike">
                <a:solidFill>
                  <a:srgbClr val="ffff00"/>
                </a:solidFill>
                <a:latin typeface="Arial"/>
              </a:rPr>
              <a:t>Назовите композитора балета «Петрушка»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74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100" spc="-1" strike="noStrike">
                <a:solidFill>
                  <a:srgbClr val="ffff00"/>
                </a:solidFill>
                <a:latin typeface="Arial"/>
              </a:rPr>
              <a:t>Перечислите главных действующих персонажей балета «Петрушка»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74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100" spc="-1" strike="noStrike">
                <a:solidFill>
                  <a:srgbClr val="ffff00"/>
                </a:solidFill>
                <a:latin typeface="Arial"/>
              </a:rPr>
              <a:t>Назовите народный праздник, представленный в балете «Петрушка»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74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100" spc="-1" strike="noStrike">
                <a:solidFill>
                  <a:srgbClr val="ffff00"/>
                </a:solidFill>
                <a:latin typeface="Arial"/>
              </a:rPr>
              <a:t>В чем особенность музыки балета «Петрушка»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55080" cy="12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br>
              <a:rPr sz="4500"/>
            </a:b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Игорь Фёдорович Стравинский 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Picture 7" descr="https://files.adme.ru/files/news/part_98/988610/18585710-stravinsky-igor-fyodorovitch-50f14b1fca335-650-d815e74a45-1484581010.jpg"/>
          <p:cNvPicPr/>
          <p:nvPr/>
        </p:nvPicPr>
        <p:blipFill>
          <a:blip r:embed="rId1"/>
          <a:srcRect l="0" t="0" r="26730" b="0"/>
          <a:stretch/>
        </p:blipFill>
        <p:spPr>
          <a:xfrm>
            <a:off x="0" y="1719360"/>
            <a:ext cx="4886280" cy="387504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9"/>
          <p:cNvSpPr/>
          <p:nvPr/>
        </p:nvSpPr>
        <p:spPr>
          <a:xfrm>
            <a:off x="17316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AutoShape 11"/>
          <p:cNvSpPr/>
          <p:nvPr/>
        </p:nvSpPr>
        <p:spPr>
          <a:xfrm>
            <a:off x="17316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Прямоугольник 8"/>
          <p:cNvSpPr/>
          <p:nvPr/>
        </p:nvSpPr>
        <p:spPr>
          <a:xfrm>
            <a:off x="4886280" y="1308240"/>
            <a:ext cx="482436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Творческая жизнь И. Стравинского — это живая история музыки XX в. В ней, как в зеркале, отразились процессы развития современного искусства, пытливо ищущего новые пут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н подобен Фокуснику из своего 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Verdana"/>
                <a:hlinkClick r:id="rId2"/>
              </a:rPr>
              <a:t>балета «Петрушка»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: свободно перемещает жанры, формы, стили на своей творческой сцене, как бы подчиняя их правилам собственной игр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Прямоугольник 9"/>
          <p:cNvSpPr/>
          <p:nvPr/>
        </p:nvSpPr>
        <p:spPr>
          <a:xfrm>
            <a:off x="566640" y="550224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7.06.1882-  06.04.197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https://im0-tub-ru.yandex.net/i?id=834f275935d3f19bfc7093b67f2b15da-l&amp;n=13"/>
          <p:cNvPicPr/>
          <p:nvPr/>
        </p:nvPicPr>
        <p:blipFill>
          <a:blip r:embed="rId1"/>
          <a:stretch/>
        </p:blipFill>
        <p:spPr>
          <a:xfrm>
            <a:off x="566640" y="1890720"/>
            <a:ext cx="8702640" cy="5802480"/>
          </a:xfrm>
          <a:prstGeom prst="rect">
            <a:avLst/>
          </a:prstGeom>
          <a:ln w="0">
            <a:noFill/>
          </a:ln>
        </p:spPr>
      </p:pic>
      <p:sp>
        <p:nvSpPr>
          <p:cNvPr id="221" name="TextBox 4"/>
          <p:cNvSpPr/>
          <p:nvPr/>
        </p:nvSpPr>
        <p:spPr>
          <a:xfrm>
            <a:off x="566640" y="677880"/>
            <a:ext cx="941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начале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XX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в. Русский композитор Игорь Федорович Стравинский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чинил балет «Петрушка» («Потешные сцены»). Этот балет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е только ставят в театрах, но и исполняют в концертных залах как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имфоническую сюит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782640" y="390600"/>
            <a:ext cx="84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балете четыре небольшие картины, идущие без перерыва. Их соединяет барабанный бой. В двух средних картинах показана жизнь кукол, крайние картины – массовые сцены праздничного гулянья. В них широко использованы русские мелодии от  простейших мотивов до уличных песен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Picture 2" descr="http://soundtimes.ru/images/baletstr2/116.jpg"/>
          <p:cNvPicPr/>
          <p:nvPr/>
        </p:nvPicPr>
        <p:blipFill>
          <a:blip r:embed="rId1"/>
          <a:stretch/>
        </p:blipFill>
        <p:spPr>
          <a:xfrm>
            <a:off x="0" y="3054240"/>
            <a:ext cx="5143680" cy="4114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http://soundtimes.ru/images/baletstr2/114.jpg"/>
          <p:cNvPicPr/>
          <p:nvPr/>
        </p:nvPicPr>
        <p:blipFill>
          <a:blip r:embed="rId2"/>
          <a:stretch/>
        </p:blipFill>
        <p:spPr>
          <a:xfrm>
            <a:off x="4743360" y="2133720"/>
            <a:ext cx="53182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9783720" cy="6443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-я картин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родное гулянье на масленой.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лаганный дед потешает толпу. Появляется шарманщик с улично танцовщицей, которая танцует, отбивая такт треугольник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нимание толпы привлекают два барабанщика. Из теат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ходит старый фокусни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 играет на флейт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навес раздвигает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лпа видит трех кукол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трушку, Арапа и Балери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окусник оживляет 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косновением флей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7" descr="http://cdn2.img.ria.ru/images/96693/94/966939401.jpg"/>
          <p:cNvPicPr/>
          <p:nvPr/>
        </p:nvPicPr>
        <p:blipFill>
          <a:blip r:embed="rId1"/>
          <a:stretch/>
        </p:blipFill>
        <p:spPr>
          <a:xfrm>
            <a:off x="4670280" y="2117880"/>
            <a:ext cx="5185080" cy="3457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https://pulse-uk.org.uk/wp-content/uploads/2013/07/AS_240713_2981.jpg"/>
          <p:cNvPicPr/>
          <p:nvPr/>
        </p:nvPicPr>
        <p:blipFill>
          <a:blip r:embed="rId2"/>
          <a:stretch/>
        </p:blipFill>
        <p:spPr>
          <a:xfrm>
            <a:off x="0" y="4357800"/>
            <a:ext cx="459900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462280" y="533520"/>
            <a:ext cx="4095720" cy="633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-я карти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действие происходит в комнатке Петрушки, маленького, уродливого человечка, жестоко страдающего от неразделённой любви…Музыка Петрушки носит импровизационный характер, развитие построено на частой смене мотивов, темпов, тембров, фактуры, передавая мгновенные переходы от одного настроения к друго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11" descr="http://www.liepa.ru/wp-content/uploads/slideshow-gallery/234.jpg"/>
          <p:cNvPicPr/>
          <p:nvPr/>
        </p:nvPicPr>
        <p:blipFill>
          <a:blip r:embed="rId1"/>
          <a:stretch/>
        </p:blipFill>
        <p:spPr>
          <a:xfrm>
            <a:off x="0" y="461880"/>
            <a:ext cx="5530680" cy="32641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3" descr="http://intoclassics.net/_nw/108/36480348.jpg"/>
          <p:cNvPicPr/>
          <p:nvPr/>
        </p:nvPicPr>
        <p:blipFill>
          <a:blip r:embed="rId2"/>
          <a:stretch/>
        </p:blipFill>
        <p:spPr>
          <a:xfrm>
            <a:off x="709560" y="3774960"/>
            <a:ext cx="468144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9" descr="http://biletleader.ru/db.img/gallery/wm/3eZDhiQE.jpg"/>
          <p:cNvPicPr/>
          <p:nvPr/>
        </p:nvPicPr>
        <p:blipFill>
          <a:blip r:embed="rId1"/>
          <a:stretch/>
        </p:blipFill>
        <p:spPr>
          <a:xfrm>
            <a:off x="206280" y="317520"/>
            <a:ext cx="5112000" cy="299736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6"/>
          <p:cNvSpPr/>
          <p:nvPr/>
        </p:nvSpPr>
        <p:spPr>
          <a:xfrm>
            <a:off x="5462640" y="200160"/>
            <a:ext cx="4392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3 картина- образы Арапа и Балерин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ействие происходит в комнате Арапа. Он лежит на тахте на фоне ярких восточных ковров и сосредоточенно изучает большой кокосовый орех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анец Арапа с орехом представляет музыку восточного характера. Он корявый и неуклюжий. Балерина  танцует в сопровождении военного барабана 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3" name="Picture 4" descr="http://bilettorg.ru/photogallery_spectacl/2723.jpg"/>
          <p:cNvPicPr/>
          <p:nvPr/>
        </p:nvPicPr>
        <p:blipFill>
          <a:blip r:embed="rId2"/>
          <a:stretch/>
        </p:blipFill>
        <p:spPr>
          <a:xfrm>
            <a:off x="0" y="3363840"/>
            <a:ext cx="5391000" cy="40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4"/>
          <p:cNvSpPr/>
          <p:nvPr/>
        </p:nvSpPr>
        <p:spPr>
          <a:xfrm>
            <a:off x="5318280" y="750960"/>
            <a:ext cx="417672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4-я картина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сцена на улице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момент наивысшего разгула ожившие куклы выбегают на улицу. Арап поражает Петрушку ударом сабли. Петрушка умирает в окружении толпы гуля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Прямоугольник 6"/>
          <p:cNvSpPr/>
          <p:nvPr/>
        </p:nvSpPr>
        <p:spPr>
          <a:xfrm>
            <a:off x="206280" y="4422600"/>
            <a:ext cx="892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Толпа медленно расходится. Все тише звучат гармошечные переборы. Гаснут фонари. Фокусник волочит за собой тряпичную куклу. Внезапно его охватывает страх: над ширмой появляется Петрушка, угрожая ему. Отголоски музыки гулянья завершают балет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6" name="Picture 4" descr="http://chaspik.spb.ru/wp-content/uploads/2010/06/1340.jpg"/>
          <p:cNvPicPr/>
          <p:nvPr/>
        </p:nvPicPr>
        <p:blipFill>
          <a:blip r:embed="rId1"/>
          <a:stretch/>
        </p:blipFill>
        <p:spPr>
          <a:xfrm>
            <a:off x="0" y="606600"/>
            <a:ext cx="53085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782640" y="533520"/>
            <a:ext cx="828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узыка И.Ф.Стравинского написана в 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народном стил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Picture 8" descr="http://osd.ru/photos/evnt/2773_ev_003.jpg"/>
          <p:cNvPicPr/>
          <p:nvPr/>
        </p:nvPicPr>
        <p:blipFill>
          <a:blip r:embed="rId1"/>
          <a:stretch/>
        </p:blipFill>
        <p:spPr>
          <a:xfrm>
            <a:off x="1143000" y="1685880"/>
            <a:ext cx="7991640" cy="449568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7"/>
          <p:cNvSpPr/>
          <p:nvPr/>
        </p:nvSpPr>
        <p:spPr>
          <a:xfrm>
            <a:off x="1069920" y="614988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узыка в народном стиле – композиторская, но очень похожая на народную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03:55:37Z</dcterms:created>
  <dc:creator>Cab108</dc:creator>
  <dc:description/>
  <dc:language>en-US</dc:language>
  <cp:lastModifiedBy>Екатерина</cp:lastModifiedBy>
  <dcterms:modified xsi:type="dcterms:W3CDTF">2022-02-07T16:36:00Z</dcterms:modified>
  <cp:revision>37</cp:revision>
  <dc:subject/>
  <dc:title>Слайд 1</dc:title>
</cp:coreProperties>
</file>