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6F5B8-C360-468A-96A2-91E13DBDD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55AC7-3FB9-45E5-8D06-2D0655C2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952D9-EBE9-49E5-ABF1-3133426A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74452-EBFD-4D2E-9806-2B8BFEFE2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3B706-A472-4126-BED8-BA1244C7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351DC-F2C6-46EF-B2B9-0B076F59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4C006-FA4B-4854-86C2-46962C66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6E8A7-E084-4FB3-BBBB-DF997481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D10AD-75DF-4239-B877-E790DB53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EFE46-8925-4790-A929-0BA9CD5C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C6DCC-B303-4598-B0C9-E92B5F6F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67BD5-C4FB-4DEF-B81F-5CF06F2D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b5b1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cc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cc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cc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cc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cc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cc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aa88c"/>
                </a:gs>
                <a:gs pos="100000">
                  <a:srgbClr val="c9c6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cc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9e9c82"/>
                </a:gs>
                <a:gs pos="100000">
                  <a:srgbClr val="c9c6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cc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cc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cc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cc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cc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3c0a0"/>
                </a:gs>
                <a:gs pos="100000">
                  <a:srgbClr val="c9c6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cc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b0ac9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cc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cc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cc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3c0a0"/>
                </a:gs>
                <a:gs pos="100000">
                  <a:srgbClr val="c9c6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cc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cc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cc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2af93"/>
                </a:gs>
                <a:gs pos="100000">
                  <a:srgbClr val="b0ac9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33cc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33c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90D2-0E04-472E-85EE-EF3B6757DB7C}" type="slidenum">
              <a:rPr b="0" lang="ru-RU" sz="1000" spc="-1" strike="noStrike">
                <a:solidFill>
                  <a:srgbClr val="ff33cc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4470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33cc"/>
                </a:solidFill>
                <a:latin typeface="Tahoma"/>
              </a:rPr>
              <a:t>	</a:t>
            </a:r>
            <a:r>
              <a:rPr b="0" lang="ru-RU" sz="4800" spc="-1" strike="noStrike" u="sng">
                <a:solidFill>
                  <a:srgbClr val="666699"/>
                </a:solidFill>
                <a:uFillTx/>
                <a:latin typeface="Tahoma"/>
                <a:hlinkClick r:id="rId1" action="ppaction://hlinksldjump"/>
              </a:rPr>
              <a:t>Иван</a:t>
            </a:r>
            <a:r>
              <a:rPr b="0" lang="ru-RU" sz="4800" spc="-1" strike="noStrike">
                <a:solidFill>
                  <a:srgbClr val="ff33cc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ff33cc"/>
                </a:solidFill>
                <a:latin typeface="Tahoma"/>
              </a:rPr>
              <a:t>  </a:t>
            </a:r>
            <a:r>
              <a:rPr b="0" lang="ru-RU" sz="4800" spc="-1" strike="noStrike">
                <a:solidFill>
                  <a:srgbClr val="ff33cc"/>
                </a:solidFill>
                <a:latin typeface="Tahoma"/>
              </a:rPr>
              <a:t>Андреевич</a:t>
            </a:r>
            <a:r>
              <a:rPr b="0" lang="en-US" sz="4800" spc="-1" strike="noStrike">
                <a:solidFill>
                  <a:srgbClr val="ff33cc"/>
                </a:solidFill>
                <a:latin typeface="Tahoma"/>
              </a:rPr>
              <a:t>    </a:t>
            </a:r>
            <a:r>
              <a:rPr b="0" lang="ru-RU" sz="4800" spc="-1" strike="noStrike">
                <a:solidFill>
                  <a:srgbClr val="ff33cc"/>
                </a:solidFill>
                <a:latin typeface="Tahoma"/>
              </a:rPr>
              <a:t>Крылов</a:t>
            </a:r>
            <a:r>
              <a:rPr b="0" lang="en-US" sz="4800" spc="-1" strike="noStrike">
                <a:solidFill>
                  <a:srgbClr val="ff33cc"/>
                </a:solidFill>
                <a:latin typeface="Tahoma"/>
              </a:rPr>
              <a:t>     </a:t>
            </a:r>
            <a:endParaRPr b="0" lang="en-US" sz="4800" spc="-1" strike="noStrike">
              <a:solidFill>
                <a:srgbClr val="ff33cc"/>
              </a:solidFill>
              <a:latin typeface="Tahoma"/>
            </a:endParaRPr>
          </a:p>
        </p:txBody>
      </p:sp>
      <p:pic>
        <p:nvPicPr>
          <p:cNvPr id="64" name="Picture 4" descr="Рисунок2"/>
          <p:cNvPicPr/>
          <p:nvPr/>
        </p:nvPicPr>
        <p:blipFill>
          <a:blip r:embed="rId2"/>
          <a:stretch/>
        </p:blipFill>
        <p:spPr>
          <a:xfrm>
            <a:off x="2728800" y="1328760"/>
            <a:ext cx="3687840" cy="4200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3458880" y="5589720"/>
            <a:ext cx="217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1789-1844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66" name="AutoShape 6">
            <a:hlinkClick r:id="" action="ppaction://hlinkshowjump?jump=lastslide"/>
          </p:cNvPr>
          <p:cNvSpPr/>
          <p:nvPr/>
        </p:nvSpPr>
        <p:spPr>
          <a:xfrm>
            <a:off x="250920" y="6308640"/>
            <a:ext cx="576000" cy="549360"/>
          </a:xfrm>
          <a:custGeom>
            <a:avLst/>
            <a:gdLst>
              <a:gd name="textAreaLeft" fmla="*/ 35280 w 576000"/>
              <a:gd name="textAreaRight" fmla="*/ 540720 w 576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47" h="21600">
                <a:moveTo>
                  <a:pt x="0" y="0"/>
                </a:moveTo>
                <a:lnTo>
                  <a:pt x="22647" y="0"/>
                </a:lnTo>
                <a:lnTo>
                  <a:pt x="22647" y="21600"/>
                </a:lnTo>
                <a:lnTo>
                  <a:pt x="0" y="21600"/>
                </a:lnTo>
                <a:close/>
              </a:path>
              <a:path fill="lightenLess" w="22647" h="21600">
                <a:moveTo>
                  <a:pt x="0" y="0"/>
                </a:moveTo>
                <a:lnTo>
                  <a:pt x="22647" y="0"/>
                </a:lnTo>
                <a:lnTo>
                  <a:pt x="21247" y="1400"/>
                </a:lnTo>
                <a:lnTo>
                  <a:pt x="1400" y="1400"/>
                </a:lnTo>
                <a:close/>
              </a:path>
              <a:path fill="darken" w="22647" h="21600">
                <a:moveTo>
                  <a:pt x="22647" y="0"/>
                </a:moveTo>
                <a:lnTo>
                  <a:pt x="22647" y="21600"/>
                </a:lnTo>
                <a:lnTo>
                  <a:pt x="21247" y="20200"/>
                </a:lnTo>
                <a:lnTo>
                  <a:pt x="21247" y="1400"/>
                </a:lnTo>
                <a:close/>
              </a:path>
              <a:path fill="darkenLess" w="22647" h="21600">
                <a:moveTo>
                  <a:pt x="22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47" y="20200"/>
                </a:lnTo>
                <a:close/>
              </a:path>
              <a:path fill="lighten" w="22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47" h="21600">
                <a:moveTo>
                  <a:pt x="11323" y="3837"/>
                </a:moveTo>
                <a:lnTo>
                  <a:pt x="13900" y="6448"/>
                </a:lnTo>
                <a:lnTo>
                  <a:pt x="13900" y="4707"/>
                </a:lnTo>
                <a:lnTo>
                  <a:pt x="15675" y="4707"/>
                </a:lnTo>
                <a:lnTo>
                  <a:pt x="15675" y="8224"/>
                </a:lnTo>
                <a:lnTo>
                  <a:pt x="18286" y="10800"/>
                </a:lnTo>
                <a:lnTo>
                  <a:pt x="16633" y="10800"/>
                </a:lnTo>
                <a:lnTo>
                  <a:pt x="16633" y="17989"/>
                </a:lnTo>
                <a:lnTo>
                  <a:pt x="6014" y="17989"/>
                </a:lnTo>
                <a:lnTo>
                  <a:pt x="6014" y="10800"/>
                </a:lnTo>
                <a:lnTo>
                  <a:pt x="4360" y="10800"/>
                </a:lnTo>
                <a:close/>
              </a:path>
              <a:path fill="darkenLess" w="22647" h="21600">
                <a:moveTo>
                  <a:pt x="13900" y="6448"/>
                </a:moveTo>
                <a:lnTo>
                  <a:pt x="13900" y="4707"/>
                </a:lnTo>
                <a:lnTo>
                  <a:pt x="15675" y="4707"/>
                </a:lnTo>
                <a:lnTo>
                  <a:pt x="15675" y="8224"/>
                </a:lnTo>
                <a:close/>
              </a:path>
              <a:path fill="darkenLess" w="22647" h="21600">
                <a:moveTo>
                  <a:pt x="10401" y="14299"/>
                </a:moveTo>
                <a:lnTo>
                  <a:pt x="12246" y="14299"/>
                </a:lnTo>
                <a:lnTo>
                  <a:pt x="12246" y="17989"/>
                </a:lnTo>
                <a:lnTo>
                  <a:pt x="16633" y="17989"/>
                </a:lnTo>
                <a:lnTo>
                  <a:pt x="16633" y="10800"/>
                </a:lnTo>
                <a:lnTo>
                  <a:pt x="6014" y="10800"/>
                </a:lnTo>
                <a:lnTo>
                  <a:pt x="6014" y="17989"/>
                </a:lnTo>
                <a:lnTo>
                  <a:pt x="10401" y="179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ahoma"/>
              </a:rPr>
              <a:t>Чьи это слова?</a:t>
            </a:r>
            <a:br>
              <a:rPr sz="3800"/>
            </a:br>
            <a:endParaRPr b="0" lang="en-US" sz="3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Соседка, перестань срамиться,-</a:t>
            </a:r>
            <a:endParaRPr b="0" lang="en-US" sz="20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бе ль с Слоном возиться?»</a:t>
            </a:r>
            <a:endParaRPr b="0" lang="en-US" sz="20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 Соседушка, я сыт по горло».</a:t>
            </a:r>
            <a:endParaRPr b="0" lang="en-US" sz="20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 Ну что за шейка, что за глазки?</a:t>
            </a:r>
            <a:endParaRPr b="0" lang="en-US" sz="20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ссказывать- так право сказки».</a:t>
            </a:r>
            <a:endParaRPr b="0" lang="en-US" sz="20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 НЕ оставь меня, кум милый!</a:t>
            </a:r>
            <a:endParaRPr b="0" lang="en-US" sz="20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ай ты мне собраться с силой…»</a:t>
            </a:r>
            <a:endParaRPr b="0" lang="en-US" sz="20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Чтоб музыкантом быть, так надобно уменье</a:t>
            </a:r>
            <a:endParaRPr b="0" lang="en-US" sz="20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 уши ваших понежней.»</a:t>
            </a:r>
            <a:endParaRPr b="0" lang="en-US" sz="20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Смотри, ты уже хрипишь, а он идет себе вперед</a:t>
            </a:r>
            <a:endParaRPr b="0" lang="en-US" sz="20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 лаю твоего совсем не примечает».</a:t>
            </a:r>
            <a:endParaRPr b="0" lang="en-US" sz="20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cc"/>
              </a:solidFill>
              <a:latin typeface="Tahoma"/>
            </a:endParaRPr>
          </a:p>
        </p:txBody>
      </p:sp>
      <p:pic>
        <p:nvPicPr>
          <p:cNvPr id="128" name="Picture 4" descr="HWScan00055"/>
          <p:cNvPicPr/>
          <p:nvPr/>
        </p:nvPicPr>
        <p:blipFill>
          <a:blip r:embed="rId1"/>
          <a:stretch/>
        </p:blipFill>
        <p:spPr>
          <a:xfrm>
            <a:off x="4932360" y="1125360"/>
            <a:ext cx="2290680" cy="30243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7633080" y="155736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Шавка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7506720" y="22050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Фока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7696080" y="27813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Лисица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7408080" y="350028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Стрекоза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7473240" y="422100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Соловей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7777440" y="508464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Шавка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401796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36" name="AutoShape 13">
            <a:hlinkClick r:id="" action="ppaction://hlinkshowjump?jump=firstslide"/>
          </p:cNvPr>
          <p:cNvSpPr/>
          <p:nvPr/>
        </p:nvSpPr>
        <p:spPr>
          <a:xfrm>
            <a:off x="179280" y="6093000"/>
            <a:ext cx="576360" cy="539640"/>
          </a:xfrm>
          <a:custGeom>
            <a:avLst/>
            <a:gdLst>
              <a:gd name="textAreaLeft" fmla="*/ 34920 w 576360"/>
              <a:gd name="textAreaRight" fmla="*/ 541440 w 5763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3069" h="21600">
                <a:moveTo>
                  <a:pt x="0" y="0"/>
                </a:moveTo>
                <a:lnTo>
                  <a:pt x="23069" y="0"/>
                </a:lnTo>
                <a:lnTo>
                  <a:pt x="23069" y="21600"/>
                </a:lnTo>
                <a:lnTo>
                  <a:pt x="0" y="21600"/>
                </a:lnTo>
                <a:close/>
              </a:path>
              <a:path fill="lightenLess" w="23069" h="21600">
                <a:moveTo>
                  <a:pt x="0" y="0"/>
                </a:moveTo>
                <a:lnTo>
                  <a:pt x="23069" y="0"/>
                </a:lnTo>
                <a:lnTo>
                  <a:pt x="21669" y="1400"/>
                </a:lnTo>
                <a:lnTo>
                  <a:pt x="1400" y="1400"/>
                </a:lnTo>
                <a:close/>
              </a:path>
              <a:path fill="darken" w="23069" h="21600">
                <a:moveTo>
                  <a:pt x="23069" y="0"/>
                </a:moveTo>
                <a:lnTo>
                  <a:pt x="23069" y="21600"/>
                </a:lnTo>
                <a:lnTo>
                  <a:pt x="21669" y="20200"/>
                </a:lnTo>
                <a:lnTo>
                  <a:pt x="21669" y="1400"/>
                </a:lnTo>
                <a:close/>
              </a:path>
              <a:path fill="darkenLess" w="23069" h="21600">
                <a:moveTo>
                  <a:pt x="230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9" y="20200"/>
                </a:lnTo>
                <a:close/>
              </a:path>
              <a:path fill="lighten" w="230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69" h="21600">
                <a:moveTo>
                  <a:pt x="11534" y="3837"/>
                </a:moveTo>
                <a:lnTo>
                  <a:pt x="14111" y="6448"/>
                </a:lnTo>
                <a:lnTo>
                  <a:pt x="14111" y="4707"/>
                </a:lnTo>
                <a:lnTo>
                  <a:pt x="15886" y="4707"/>
                </a:lnTo>
                <a:lnTo>
                  <a:pt x="15886" y="8224"/>
                </a:lnTo>
                <a:lnTo>
                  <a:pt x="18497" y="10800"/>
                </a:lnTo>
                <a:lnTo>
                  <a:pt x="16844" y="10800"/>
                </a:lnTo>
                <a:lnTo>
                  <a:pt x="16844" y="17989"/>
                </a:lnTo>
                <a:lnTo>
                  <a:pt x="6225" y="17989"/>
                </a:lnTo>
                <a:lnTo>
                  <a:pt x="6225" y="10800"/>
                </a:lnTo>
                <a:lnTo>
                  <a:pt x="4571" y="10800"/>
                </a:lnTo>
                <a:close/>
              </a:path>
              <a:path fill="darkenLess" w="23069" h="21600">
                <a:moveTo>
                  <a:pt x="14111" y="6448"/>
                </a:moveTo>
                <a:lnTo>
                  <a:pt x="14111" y="4707"/>
                </a:lnTo>
                <a:lnTo>
                  <a:pt x="15886" y="4707"/>
                </a:lnTo>
                <a:lnTo>
                  <a:pt x="15886" y="8224"/>
                </a:lnTo>
                <a:close/>
              </a:path>
              <a:path fill="darkenLess" w="23069" h="21600">
                <a:moveTo>
                  <a:pt x="10612" y="14299"/>
                </a:moveTo>
                <a:lnTo>
                  <a:pt x="12457" y="14299"/>
                </a:lnTo>
                <a:lnTo>
                  <a:pt x="12457" y="17989"/>
                </a:lnTo>
                <a:lnTo>
                  <a:pt x="16844" y="17989"/>
                </a:lnTo>
                <a:lnTo>
                  <a:pt x="16844" y="10800"/>
                </a:lnTo>
                <a:lnTo>
                  <a:pt x="6225" y="10800"/>
                </a:lnTo>
                <a:lnTo>
                  <a:pt x="6225" y="17989"/>
                </a:lnTo>
                <a:lnTo>
                  <a:pt x="10612" y="179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3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3" dur="3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3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3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8" dur="3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3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3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4" dur="3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3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3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0" dur="3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3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3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5" dur="3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3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3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1" dur="3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3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3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6" dur="3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3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3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3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3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3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7" dur="30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3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3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3" dur="30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3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3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8" dur="30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ahoma"/>
              </a:rPr>
              <a:t>Урок</a:t>
            </a:r>
            <a:endParaRPr b="0" lang="en-US" sz="4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влек меня тем…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казался интересным…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зволновал…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ставил задуматься…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вел меня на размышления…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39" name="AutoShape 4">
            <a:hlinkClick r:id="" action="ppaction://hlinkshowjump?jump=firstslide"/>
          </p:cNvPr>
          <p:cNvSpPr/>
          <p:nvPr/>
        </p:nvSpPr>
        <p:spPr>
          <a:xfrm>
            <a:off x="0" y="6319800"/>
            <a:ext cx="576360" cy="538200"/>
          </a:xfrm>
          <a:custGeom>
            <a:avLst/>
            <a:gdLst>
              <a:gd name="textAreaLeft" fmla="*/ 34560 w 576360"/>
              <a:gd name="textAreaRight" fmla="*/ 541800 w 576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3130" h="21600">
                <a:moveTo>
                  <a:pt x="0" y="0"/>
                </a:moveTo>
                <a:lnTo>
                  <a:pt x="23130" y="0"/>
                </a:lnTo>
                <a:lnTo>
                  <a:pt x="23130" y="21600"/>
                </a:lnTo>
                <a:lnTo>
                  <a:pt x="0" y="21600"/>
                </a:lnTo>
                <a:close/>
              </a:path>
              <a:path fill="lightenLess" w="23130" h="21600">
                <a:moveTo>
                  <a:pt x="0" y="0"/>
                </a:moveTo>
                <a:lnTo>
                  <a:pt x="23130" y="0"/>
                </a:lnTo>
                <a:lnTo>
                  <a:pt x="21730" y="1400"/>
                </a:lnTo>
                <a:lnTo>
                  <a:pt x="1400" y="1400"/>
                </a:lnTo>
                <a:close/>
              </a:path>
              <a:path fill="darken" w="23130" h="21600">
                <a:moveTo>
                  <a:pt x="23130" y="0"/>
                </a:moveTo>
                <a:lnTo>
                  <a:pt x="23130" y="21600"/>
                </a:lnTo>
                <a:lnTo>
                  <a:pt x="21730" y="20200"/>
                </a:lnTo>
                <a:lnTo>
                  <a:pt x="21730" y="1400"/>
                </a:lnTo>
                <a:close/>
              </a:path>
              <a:path fill="darkenLess" w="23130" h="21600">
                <a:moveTo>
                  <a:pt x="231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30" y="20200"/>
                </a:lnTo>
                <a:close/>
              </a:path>
              <a:path fill="lighten" w="231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30" h="21600">
                <a:moveTo>
                  <a:pt x="11565" y="3837"/>
                </a:moveTo>
                <a:lnTo>
                  <a:pt x="14142" y="6448"/>
                </a:lnTo>
                <a:lnTo>
                  <a:pt x="14142" y="4707"/>
                </a:lnTo>
                <a:lnTo>
                  <a:pt x="15917" y="4707"/>
                </a:lnTo>
                <a:lnTo>
                  <a:pt x="15917" y="8224"/>
                </a:lnTo>
                <a:lnTo>
                  <a:pt x="18528" y="10800"/>
                </a:lnTo>
                <a:lnTo>
                  <a:pt x="16874" y="10800"/>
                </a:lnTo>
                <a:lnTo>
                  <a:pt x="16874" y="17989"/>
                </a:lnTo>
                <a:lnTo>
                  <a:pt x="6256" y="17989"/>
                </a:lnTo>
                <a:lnTo>
                  <a:pt x="6256" y="10800"/>
                </a:lnTo>
                <a:lnTo>
                  <a:pt x="4602" y="10800"/>
                </a:lnTo>
                <a:close/>
              </a:path>
              <a:path fill="darkenLess" w="23130" h="21600">
                <a:moveTo>
                  <a:pt x="14142" y="6448"/>
                </a:moveTo>
                <a:lnTo>
                  <a:pt x="14142" y="4707"/>
                </a:lnTo>
                <a:lnTo>
                  <a:pt x="15917" y="4707"/>
                </a:lnTo>
                <a:lnTo>
                  <a:pt x="15917" y="8224"/>
                </a:lnTo>
                <a:close/>
              </a:path>
              <a:path fill="darkenLess" w="23130" h="21600">
                <a:moveTo>
                  <a:pt x="10643" y="14299"/>
                </a:moveTo>
                <a:lnTo>
                  <a:pt x="12488" y="14299"/>
                </a:lnTo>
                <a:lnTo>
                  <a:pt x="12488" y="17989"/>
                </a:lnTo>
                <a:lnTo>
                  <a:pt x="16874" y="17989"/>
                </a:lnTo>
                <a:lnTo>
                  <a:pt x="16874" y="10800"/>
                </a:lnTo>
                <a:lnTo>
                  <a:pt x="6256" y="10800"/>
                </a:lnTo>
                <a:lnTo>
                  <a:pt x="6256" y="17989"/>
                </a:lnTo>
                <a:lnTo>
                  <a:pt x="10643" y="179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3402000" y="5805360"/>
            <a:ext cx="545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Tahoma"/>
              </a:rPr>
              <a:t>Презентацию подготовила Хлыбова Т.И. </a:t>
            </a: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Tahoma"/>
              </a:rPr>
              <a:t>МОУ СОШ №21</a:t>
            </a:r>
            <a:r>
              <a:rPr b="0" lang="en-US" sz="18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33cc"/>
                </a:solidFill>
                <a:latin typeface="Tahoma"/>
              </a:rPr>
              <a:t>г. Миасс, Челябинская область </a:t>
            </a: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496728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ahoma"/>
              </a:rPr>
              <a:t>Сложи название</a:t>
            </a:r>
            <a:br>
              <a:rPr sz="3800"/>
            </a:br>
            <a:endParaRPr b="0" lang="en-US" sz="3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773000"/>
            <a:ext cx="331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ртышка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рона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рекоза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иж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лон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тух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еркало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укушка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лк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16000" y="1700280"/>
            <a:ext cx="3671640" cy="48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лубь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чки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исица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уравей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ська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Ягненок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езьяна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тух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Жемчужное зерно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</p:txBody>
      </p:sp>
      <p:pic>
        <p:nvPicPr>
          <p:cNvPr id="70" name="Picture 5" descr="HWScan00048"/>
          <p:cNvPicPr/>
          <p:nvPr/>
        </p:nvPicPr>
        <p:blipFill>
          <a:blip r:embed="rId1"/>
          <a:stretch/>
        </p:blipFill>
        <p:spPr>
          <a:xfrm>
            <a:off x="6227640" y="0"/>
            <a:ext cx="2916360" cy="38894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4427640" y="3284640"/>
            <a:ext cx="317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72" name="Line 7"/>
          <p:cNvSpPr/>
          <p:nvPr/>
        </p:nvSpPr>
        <p:spPr>
          <a:xfrm>
            <a:off x="2050920" y="2060640"/>
            <a:ext cx="936720" cy="28872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73" name="Line 8"/>
          <p:cNvSpPr/>
          <p:nvPr/>
        </p:nvSpPr>
        <p:spPr>
          <a:xfrm>
            <a:off x="1619280" y="2421000"/>
            <a:ext cx="1440000" cy="43164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74" name="Line 9"/>
          <p:cNvSpPr/>
          <p:nvPr/>
        </p:nvSpPr>
        <p:spPr>
          <a:xfrm>
            <a:off x="1763640" y="2852640"/>
            <a:ext cx="1224000" cy="43200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75" name="Line 10"/>
          <p:cNvSpPr/>
          <p:nvPr/>
        </p:nvSpPr>
        <p:spPr>
          <a:xfrm flipV="1">
            <a:off x="1116000" y="2060280"/>
            <a:ext cx="1800360" cy="115236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76" name="Line 11"/>
          <p:cNvSpPr/>
          <p:nvPr/>
        </p:nvSpPr>
        <p:spPr>
          <a:xfrm>
            <a:off x="1116000" y="3573360"/>
            <a:ext cx="1800360" cy="14292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77" name="Line 12"/>
          <p:cNvSpPr/>
          <p:nvPr/>
        </p:nvSpPr>
        <p:spPr>
          <a:xfrm>
            <a:off x="1258920" y="4076640"/>
            <a:ext cx="1728720" cy="129708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78" name="Line 13"/>
          <p:cNvSpPr/>
          <p:nvPr/>
        </p:nvSpPr>
        <p:spPr>
          <a:xfrm>
            <a:off x="1619280" y="4437000"/>
            <a:ext cx="1297080" cy="14436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79" name="Line 14"/>
          <p:cNvSpPr/>
          <p:nvPr/>
        </p:nvSpPr>
        <p:spPr>
          <a:xfrm>
            <a:off x="1619280" y="4941720"/>
            <a:ext cx="1368360" cy="14292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80" name="Line 15"/>
          <p:cNvSpPr/>
          <p:nvPr/>
        </p:nvSpPr>
        <p:spPr>
          <a:xfrm flipV="1">
            <a:off x="1332000" y="4220640"/>
            <a:ext cx="1584360" cy="107964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81" name="AutoShape 16">
            <a:hlinkClick r:id="" action="ppaction://hlinkshowjump?jump=firstslide"/>
          </p:cNvPr>
          <p:cNvSpPr/>
          <p:nvPr/>
        </p:nvSpPr>
        <p:spPr>
          <a:xfrm>
            <a:off x="0" y="6291360"/>
            <a:ext cx="719280" cy="566640"/>
          </a:xfrm>
          <a:custGeom>
            <a:avLst/>
            <a:gdLst>
              <a:gd name="textAreaLeft" fmla="*/ 36720 w 719280"/>
              <a:gd name="textAreaRight" fmla="*/ 682560 w 719280"/>
              <a:gd name="textAreaTop" fmla="*/ 36720 h 566640"/>
              <a:gd name="textAreaBottom" fmla="*/ 529920 h 566640"/>
            </a:gdLst>
            <a:ahLst/>
            <a:rect l="textAreaLeft" t="textAreaTop" r="textAreaRight" b="textAreaBottom"/>
            <a:pathLst>
              <a:path w="27415" h="21600">
                <a:moveTo>
                  <a:pt x="0" y="0"/>
                </a:moveTo>
                <a:lnTo>
                  <a:pt x="27415" y="0"/>
                </a:lnTo>
                <a:lnTo>
                  <a:pt x="27415" y="21600"/>
                </a:lnTo>
                <a:lnTo>
                  <a:pt x="0" y="21600"/>
                </a:lnTo>
                <a:close/>
              </a:path>
              <a:path fill="lightenLess" w="27415" h="21600">
                <a:moveTo>
                  <a:pt x="0" y="0"/>
                </a:moveTo>
                <a:lnTo>
                  <a:pt x="27415" y="0"/>
                </a:lnTo>
                <a:lnTo>
                  <a:pt x="26015" y="1400"/>
                </a:lnTo>
                <a:lnTo>
                  <a:pt x="1400" y="1400"/>
                </a:lnTo>
                <a:close/>
              </a:path>
              <a:path fill="darken" w="27415" h="21600">
                <a:moveTo>
                  <a:pt x="27415" y="0"/>
                </a:moveTo>
                <a:lnTo>
                  <a:pt x="27415" y="21600"/>
                </a:lnTo>
                <a:lnTo>
                  <a:pt x="26015" y="20200"/>
                </a:lnTo>
                <a:lnTo>
                  <a:pt x="26015" y="1400"/>
                </a:lnTo>
                <a:close/>
              </a:path>
              <a:path fill="darkenLess" w="27415" h="21600">
                <a:moveTo>
                  <a:pt x="27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15" y="20200"/>
                </a:lnTo>
                <a:close/>
              </a:path>
              <a:path fill="lighten" w="27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15" h="21600">
                <a:moveTo>
                  <a:pt x="13707" y="3837"/>
                </a:moveTo>
                <a:lnTo>
                  <a:pt x="16284" y="6448"/>
                </a:lnTo>
                <a:lnTo>
                  <a:pt x="16284" y="4707"/>
                </a:lnTo>
                <a:lnTo>
                  <a:pt x="18059" y="4707"/>
                </a:lnTo>
                <a:lnTo>
                  <a:pt x="18059" y="8224"/>
                </a:lnTo>
                <a:lnTo>
                  <a:pt x="20670" y="10800"/>
                </a:lnTo>
                <a:lnTo>
                  <a:pt x="19017" y="10800"/>
                </a:lnTo>
                <a:lnTo>
                  <a:pt x="19017" y="17989"/>
                </a:lnTo>
                <a:lnTo>
                  <a:pt x="8398" y="17989"/>
                </a:lnTo>
                <a:lnTo>
                  <a:pt x="8398" y="10800"/>
                </a:lnTo>
                <a:lnTo>
                  <a:pt x="6744" y="10800"/>
                </a:lnTo>
                <a:close/>
              </a:path>
              <a:path fill="darkenLess" w="27415" h="21600">
                <a:moveTo>
                  <a:pt x="16284" y="6448"/>
                </a:moveTo>
                <a:lnTo>
                  <a:pt x="16284" y="4707"/>
                </a:lnTo>
                <a:lnTo>
                  <a:pt x="18059" y="4707"/>
                </a:lnTo>
                <a:lnTo>
                  <a:pt x="18059" y="8224"/>
                </a:lnTo>
                <a:close/>
              </a:path>
              <a:path fill="darkenLess" w="27415" h="21600">
                <a:moveTo>
                  <a:pt x="12785" y="14299"/>
                </a:moveTo>
                <a:lnTo>
                  <a:pt x="14630" y="14299"/>
                </a:lnTo>
                <a:lnTo>
                  <a:pt x="14630" y="17989"/>
                </a:lnTo>
                <a:lnTo>
                  <a:pt x="19017" y="17989"/>
                </a:lnTo>
                <a:lnTo>
                  <a:pt x="19017" y="10800"/>
                </a:lnTo>
                <a:lnTo>
                  <a:pt x="8398" y="10800"/>
                </a:lnTo>
                <a:lnTo>
                  <a:pt x="8398" y="17989"/>
                </a:lnTo>
                <a:lnTo>
                  <a:pt x="12785" y="179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500"/>
                            </p:stCondLst>
                            <p:childTnLst>
                              <p:par>
                                <p:cTn id="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500"/>
                            </p:stCondLst>
                            <p:childTnLst>
                              <p:par>
                                <p:cTn id="1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500"/>
                            </p:stCondLst>
                            <p:childTnLst>
                              <p:par>
                                <p:cTn id="1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97960" cy="3068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- это небольшое произведение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написанное стихами или прозой, в которых высмеиваются пороки людей, такие как глупость, лесть, хвастовство и др.</a:t>
            </a:r>
            <a:endParaRPr b="0" lang="en-US" sz="3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-360" y="3068280"/>
            <a:ext cx="84805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Смешат в басне:</a:t>
            </a:r>
            <a:endParaRPr b="0" lang="en-US" sz="28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ами животные, их действия</a:t>
            </a:r>
            <a:endParaRPr b="0" lang="en-US" sz="28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мешные случаи, смешная история </a:t>
            </a:r>
            <a:endParaRPr b="0" lang="en-US" sz="28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смешка ( сатира)</a:t>
            </a:r>
            <a:endParaRPr b="0" lang="en-US" sz="28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Похожа на сказку</a:t>
            </a:r>
            <a:endParaRPr b="0" lang="en-US" sz="28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Задача одна: высмеять плохие черты характера людей</a:t>
            </a:r>
            <a:endParaRPr b="0" lang="en-US" sz="28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95360" y="404640"/>
            <a:ext cx="162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cc"/>
                </a:solidFill>
                <a:latin typeface="Tahoma"/>
              </a:rPr>
              <a:t>Басня</a:t>
            </a:r>
            <a:endParaRPr b="0" lang="en-US" sz="40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85" name="AutoShape 5">
            <a:hlinkClick r:id="" action="ppaction://hlinkshowjump?jump=firstslide"/>
          </p:cNvPr>
          <p:cNvSpPr/>
          <p:nvPr/>
        </p:nvSpPr>
        <p:spPr>
          <a:xfrm>
            <a:off x="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12017" y="3837"/>
                </a:moveTo>
                <a:lnTo>
                  <a:pt x="14593" y="6448"/>
                </a:ln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lnTo>
                  <a:pt x="18979" y="10800"/>
                </a:lnTo>
                <a:lnTo>
                  <a:pt x="17326" y="10800"/>
                </a:lnTo>
                <a:lnTo>
                  <a:pt x="17326" y="17989"/>
                </a:lnTo>
                <a:lnTo>
                  <a:pt x="6707" y="17989"/>
                </a:lnTo>
                <a:lnTo>
                  <a:pt x="6707" y="10800"/>
                </a:lnTo>
                <a:lnTo>
                  <a:pt x="5054" y="10800"/>
                </a:lnTo>
                <a:close/>
              </a:path>
              <a:path fill="darkenLess" w="24033" h="21600">
                <a:moveTo>
                  <a:pt x="14593" y="6448"/>
                </a:move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close/>
              </a:path>
              <a:path fill="darkenLess" w="24033" h="21600">
                <a:moveTo>
                  <a:pt x="11094" y="14299"/>
                </a:moveTo>
                <a:lnTo>
                  <a:pt x="12939" y="14299"/>
                </a:lnTo>
                <a:lnTo>
                  <a:pt x="12939" y="17989"/>
                </a:lnTo>
                <a:lnTo>
                  <a:pt x="17326" y="17989"/>
                </a:lnTo>
                <a:lnTo>
                  <a:pt x="17326" y="10800"/>
                </a:lnTo>
                <a:lnTo>
                  <a:pt x="6707" y="10800"/>
                </a:lnTo>
                <a:lnTo>
                  <a:pt x="6707" y="17989"/>
                </a:lnTo>
                <a:lnTo>
                  <a:pt x="11094" y="179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2349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33cc"/>
                </a:solidFill>
                <a:latin typeface="Showcard Gothic"/>
              </a:rPr>
              <a:t>«Мораль  сей басни такова…»</a:t>
            </a:r>
            <a:br>
              <a:rPr sz="3400"/>
            </a:br>
            <a:r>
              <a:rPr b="0" lang="ru-RU" sz="3800" spc="-1" strike="noStrike">
                <a:solidFill>
                  <a:srgbClr val="ff0000"/>
                </a:solidFill>
                <a:latin typeface="Showcard Gothic"/>
              </a:rPr>
              <a:t>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Showcard Gothic"/>
              </a:rPr>
              <a:t>И.А. КРЫЛОВ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23640" y="2707920"/>
            <a:ext cx="3887640" cy="34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начале - задает оценку заранее</a:t>
            </a:r>
            <a:endParaRPr b="0" lang="en-US" sz="28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конце- вывод, урок</a:t>
            </a:r>
            <a:endParaRPr b="0" lang="en-US" sz="2800" spc="-1" strike="noStrike">
              <a:solidFill>
                <a:srgbClr val="ff33cc"/>
              </a:solidFill>
              <a:latin typeface="Tahoma"/>
            </a:endParaRPr>
          </a:p>
        </p:txBody>
      </p:sp>
      <p:pic>
        <p:nvPicPr>
          <p:cNvPr id="88" name="Picture 8" descr="HWScan00052"/>
          <p:cNvPicPr/>
          <p:nvPr/>
        </p:nvPicPr>
        <p:blipFill>
          <a:blip r:embed="rId1"/>
          <a:stretch/>
        </p:blipFill>
        <p:spPr>
          <a:xfrm>
            <a:off x="5435640" y="2565360"/>
            <a:ext cx="3168720" cy="4032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9"/>
          <p:cNvSpPr/>
          <p:nvPr/>
        </p:nvSpPr>
        <p:spPr>
          <a:xfrm>
            <a:off x="313200" y="1773360"/>
            <a:ext cx="80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Мораль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равоучение, поучительный вывод</a:t>
            </a:r>
            <a:endParaRPr b="0" lang="en-US" sz="28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90" name="AutoShape 10">
            <a:hlinkClick r:id="" action="ppaction://hlinkshowjump?jump=firstslide"/>
          </p:cNvPr>
          <p:cNvSpPr/>
          <p:nvPr/>
        </p:nvSpPr>
        <p:spPr>
          <a:xfrm>
            <a:off x="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10800" y="3962"/>
                </a:moveTo>
                <a:lnTo>
                  <a:pt x="13376" y="6573"/>
                </a:lnTo>
                <a:lnTo>
                  <a:pt x="13376" y="4832"/>
                </a:lnTo>
                <a:lnTo>
                  <a:pt x="15152" y="4832"/>
                </a:lnTo>
                <a:lnTo>
                  <a:pt x="15152" y="8349"/>
                </a:lnTo>
                <a:lnTo>
                  <a:pt x="17763" y="10925"/>
                </a:lnTo>
                <a:lnTo>
                  <a:pt x="16109" y="10925"/>
                </a:lnTo>
                <a:lnTo>
                  <a:pt x="16109" y="18114"/>
                </a:lnTo>
                <a:lnTo>
                  <a:pt x="5491" y="18114"/>
                </a:lnTo>
                <a:lnTo>
                  <a:pt x="5491" y="10925"/>
                </a:lnTo>
                <a:lnTo>
                  <a:pt x="3837" y="10925"/>
                </a:lnTo>
                <a:close/>
              </a:path>
              <a:path fill="darkenLess" w="21600" h="21850">
                <a:moveTo>
                  <a:pt x="13376" y="6573"/>
                </a:moveTo>
                <a:lnTo>
                  <a:pt x="13376" y="4832"/>
                </a:lnTo>
                <a:lnTo>
                  <a:pt x="15152" y="4832"/>
                </a:lnTo>
                <a:lnTo>
                  <a:pt x="15152" y="8349"/>
                </a:lnTo>
                <a:close/>
              </a:path>
              <a:path fill="darkenLess" w="21600" h="21850">
                <a:moveTo>
                  <a:pt x="9877" y="14424"/>
                </a:moveTo>
                <a:lnTo>
                  <a:pt x="11723" y="14424"/>
                </a:lnTo>
                <a:lnTo>
                  <a:pt x="11723" y="18114"/>
                </a:lnTo>
                <a:lnTo>
                  <a:pt x="16109" y="18114"/>
                </a:lnTo>
                <a:lnTo>
                  <a:pt x="16109" y="10925"/>
                </a:lnTo>
                <a:lnTo>
                  <a:pt x="5491" y="10925"/>
                </a:lnTo>
                <a:lnTo>
                  <a:pt x="5491" y="18114"/>
                </a:lnTo>
                <a:lnTo>
                  <a:pt x="9877" y="1811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ahoma"/>
              </a:rPr>
              <a:t>Мораль сей басни такова.</a:t>
            </a:r>
            <a:br>
              <a:rPr sz="3800"/>
            </a:br>
            <a:endParaRPr b="0" lang="en-US" sz="3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Tahoma"/>
              </a:rPr>
              <a:t>« </a:t>
            </a: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Уж сколько раз твердили миру,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Что лесть гнусна, вредна, но только все не впрок.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И в сердце льстец всегда отыщет уголок.»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« Случается нередко нам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И труд  и мудрость видеть там, 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Где стоит только догадаться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За дело просто взяться.»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« Вперед чужой беде не смейся, Голубок!»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« Когда в товарищах согласья нет,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На лад их дело не пойдет,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И выйдет из него не дело, только мука».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HWScan00061"/>
          <p:cNvPicPr/>
          <p:nvPr/>
        </p:nvPicPr>
        <p:blipFill>
          <a:blip r:embed="rId1"/>
          <a:stretch/>
        </p:blipFill>
        <p:spPr>
          <a:xfrm>
            <a:off x="2843280" y="1700280"/>
            <a:ext cx="3100320" cy="316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HWScan00064"/>
          <p:cNvPicPr/>
          <p:nvPr/>
        </p:nvPicPr>
        <p:blipFill>
          <a:blip r:embed="rId2"/>
          <a:stretch/>
        </p:blipFill>
        <p:spPr>
          <a:xfrm>
            <a:off x="0" y="333360"/>
            <a:ext cx="2879640" cy="3166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HWScan00066"/>
          <p:cNvPicPr/>
          <p:nvPr/>
        </p:nvPicPr>
        <p:blipFill>
          <a:blip r:embed="rId3"/>
          <a:stretch/>
        </p:blipFill>
        <p:spPr>
          <a:xfrm>
            <a:off x="5970600" y="2852640"/>
            <a:ext cx="3173400" cy="3311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ahoma"/>
              </a:rPr>
              <a:t>Узнай басню</a:t>
            </a:r>
            <a:endParaRPr b="0" lang="en-US" sz="4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-94320" y="3573360"/>
            <a:ext cx="27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Ворона и лисица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2739960" y="49417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Лисица и виноград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5949720"/>
            <a:ext cx="8229600" cy="13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53400" y="6237360"/>
            <a:ext cx="41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Петух и жемчужное зерно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01" name="AutoShape 16">
            <a:hlinkClick r:id="" action="ppaction://hlinkshowjump?jump=firstslide"/>
          </p:cNvPr>
          <p:cNvSpPr/>
          <p:nvPr/>
        </p:nvSpPr>
        <p:spPr>
          <a:xfrm>
            <a:off x="0" y="6165720"/>
            <a:ext cx="576360" cy="538200"/>
          </a:xfrm>
          <a:custGeom>
            <a:avLst/>
            <a:gdLst>
              <a:gd name="textAreaLeft" fmla="*/ 34560 w 576360"/>
              <a:gd name="textAreaRight" fmla="*/ 541800 w 576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3130" h="21600">
                <a:moveTo>
                  <a:pt x="0" y="0"/>
                </a:moveTo>
                <a:lnTo>
                  <a:pt x="23130" y="0"/>
                </a:lnTo>
                <a:lnTo>
                  <a:pt x="23130" y="21600"/>
                </a:lnTo>
                <a:lnTo>
                  <a:pt x="0" y="21600"/>
                </a:lnTo>
                <a:close/>
              </a:path>
              <a:path fill="lightenLess" w="23130" h="21600">
                <a:moveTo>
                  <a:pt x="0" y="0"/>
                </a:moveTo>
                <a:lnTo>
                  <a:pt x="23130" y="0"/>
                </a:lnTo>
                <a:lnTo>
                  <a:pt x="21730" y="1400"/>
                </a:lnTo>
                <a:lnTo>
                  <a:pt x="1400" y="1400"/>
                </a:lnTo>
                <a:close/>
              </a:path>
              <a:path fill="darken" w="23130" h="21600">
                <a:moveTo>
                  <a:pt x="23130" y="0"/>
                </a:moveTo>
                <a:lnTo>
                  <a:pt x="23130" y="21600"/>
                </a:lnTo>
                <a:lnTo>
                  <a:pt x="21730" y="20200"/>
                </a:lnTo>
                <a:lnTo>
                  <a:pt x="21730" y="1400"/>
                </a:lnTo>
                <a:close/>
              </a:path>
              <a:path fill="darkenLess" w="23130" h="21600">
                <a:moveTo>
                  <a:pt x="231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30" y="20200"/>
                </a:lnTo>
                <a:close/>
              </a:path>
              <a:path fill="lighten" w="231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30" h="21600">
                <a:moveTo>
                  <a:pt x="11565" y="3837"/>
                </a:moveTo>
                <a:lnTo>
                  <a:pt x="14142" y="6448"/>
                </a:lnTo>
                <a:lnTo>
                  <a:pt x="14142" y="4707"/>
                </a:lnTo>
                <a:lnTo>
                  <a:pt x="15917" y="4707"/>
                </a:lnTo>
                <a:lnTo>
                  <a:pt x="15917" y="8224"/>
                </a:lnTo>
                <a:lnTo>
                  <a:pt x="18528" y="10800"/>
                </a:lnTo>
                <a:lnTo>
                  <a:pt x="16874" y="10800"/>
                </a:lnTo>
                <a:lnTo>
                  <a:pt x="16874" y="17989"/>
                </a:lnTo>
                <a:lnTo>
                  <a:pt x="6256" y="17989"/>
                </a:lnTo>
                <a:lnTo>
                  <a:pt x="6256" y="10800"/>
                </a:lnTo>
                <a:lnTo>
                  <a:pt x="4602" y="10800"/>
                </a:lnTo>
                <a:close/>
              </a:path>
              <a:path fill="darkenLess" w="23130" h="21600">
                <a:moveTo>
                  <a:pt x="14142" y="6448"/>
                </a:moveTo>
                <a:lnTo>
                  <a:pt x="14142" y="4707"/>
                </a:lnTo>
                <a:lnTo>
                  <a:pt x="15917" y="4707"/>
                </a:lnTo>
                <a:lnTo>
                  <a:pt x="15917" y="8224"/>
                </a:lnTo>
                <a:close/>
              </a:path>
              <a:path fill="darkenLess" w="23130" h="21600">
                <a:moveTo>
                  <a:pt x="10643" y="14299"/>
                </a:moveTo>
                <a:lnTo>
                  <a:pt x="12488" y="14299"/>
                </a:lnTo>
                <a:lnTo>
                  <a:pt x="12488" y="17989"/>
                </a:lnTo>
                <a:lnTo>
                  <a:pt x="16874" y="17989"/>
                </a:lnTo>
                <a:lnTo>
                  <a:pt x="16874" y="10800"/>
                </a:lnTo>
                <a:lnTo>
                  <a:pt x="6256" y="10800"/>
                </a:lnTo>
                <a:lnTo>
                  <a:pt x="6256" y="17989"/>
                </a:lnTo>
                <a:lnTo>
                  <a:pt x="10643" y="179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HWScan00073"/>
          <p:cNvPicPr/>
          <p:nvPr/>
        </p:nvPicPr>
        <p:blipFill>
          <a:blip r:embed="rId1"/>
          <a:stretch/>
        </p:blipFill>
        <p:spPr>
          <a:xfrm>
            <a:off x="5983200" y="0"/>
            <a:ext cx="3160800" cy="3311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HWScan00070"/>
          <p:cNvPicPr/>
          <p:nvPr/>
        </p:nvPicPr>
        <p:blipFill>
          <a:blip r:embed="rId2"/>
          <a:stretch/>
        </p:blipFill>
        <p:spPr>
          <a:xfrm>
            <a:off x="0" y="2852640"/>
            <a:ext cx="2965320" cy="3357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HWScan00076"/>
          <p:cNvPicPr/>
          <p:nvPr/>
        </p:nvPicPr>
        <p:blipFill>
          <a:blip r:embed="rId3"/>
          <a:stretch/>
        </p:blipFill>
        <p:spPr>
          <a:xfrm>
            <a:off x="2916360" y="1484280"/>
            <a:ext cx="3073320" cy="3313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5589360"/>
            <a:ext cx="8229600" cy="54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ahoma"/>
              </a:rPr>
              <a:t>Узнай басню</a:t>
            </a:r>
            <a:endParaRPr b="0" lang="en-US" sz="4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580680" y="60930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Квартет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3291120" y="4869000"/>
            <a:ext cx="26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Кукушка и петух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6189840" y="342900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Мартышка и очки</a:t>
            </a:r>
            <a:endParaRPr b="0" lang="en-US" sz="24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10" name="AutoShape 13">
            <a:hlinkClick r:id="" action="ppaction://hlinkshowjump?jump=firstslide"/>
          </p:cNvPr>
          <p:cNvSpPr/>
          <p:nvPr/>
        </p:nvSpPr>
        <p:spPr>
          <a:xfrm>
            <a:off x="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4835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ahoma"/>
              </a:rPr>
              <a:t>Когда так говорят?</a:t>
            </a:r>
            <a:br>
              <a:rPr sz="3800"/>
            </a:br>
            <a:endParaRPr b="0" lang="en-US" sz="3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а только воз и ныне там.</a:t>
            </a:r>
            <a:endParaRPr b="0" lang="en-US" sz="2800" spc="-1" strike="noStrike">
              <a:solidFill>
                <a:srgbClr val="ff33cc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 кожи лезут вон.</a:t>
            </a:r>
            <a:endParaRPr b="0" lang="en-US" sz="2800" spc="-1" strike="noStrike">
              <a:solidFill>
                <a:srgbClr val="ff33cc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Хоть видит око, да зуб неймет.</a:t>
            </a:r>
            <a:endParaRPr b="0" lang="en-US" sz="2800" spc="-1" strike="noStrike">
              <a:solidFill>
                <a:srgbClr val="ff33cc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лона-то я и не приметил.</a:t>
            </a:r>
            <a:endParaRPr b="0" lang="en-US" sz="2800" spc="-1" strike="noStrike">
              <a:solidFill>
                <a:srgbClr val="ff33cc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еликий человек лишь громок на делах.</a:t>
            </a:r>
            <a:endParaRPr b="0" lang="en-US" sz="2800" spc="-1" strike="noStrike">
              <a:solidFill>
                <a:srgbClr val="ff33cc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ем кумушек считать трудиться, не лучше  ль на себя, кума, оборотиться?</a:t>
            </a:r>
            <a:endParaRPr b="0" lang="en-US" sz="2800" spc="-1" strike="noStrike">
              <a:solidFill>
                <a:srgbClr val="ff33cc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 ларчик просто открывался.</a:t>
            </a:r>
            <a:endParaRPr b="0" lang="en-US" sz="2800" spc="-1" strike="noStrike">
              <a:solidFill>
                <a:srgbClr val="ff33cc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 вы, друзья, как не садитесь, все в музыканты не годитесь.</a:t>
            </a:r>
            <a:endParaRPr b="0" lang="en-US" sz="2800" spc="-1" strike="noStrike">
              <a:solidFill>
                <a:srgbClr val="ff33cc"/>
              </a:solidFill>
              <a:latin typeface="Tahoma"/>
            </a:endParaRPr>
          </a:p>
        </p:txBody>
      </p:sp>
      <p:pic>
        <p:nvPicPr>
          <p:cNvPr id="113" name="Picture 5" descr="HWScan00055"/>
          <p:cNvPicPr/>
          <p:nvPr/>
        </p:nvPicPr>
        <p:blipFill>
          <a:blip r:embed="rId1"/>
          <a:stretch/>
        </p:blipFill>
        <p:spPr>
          <a:xfrm>
            <a:off x="6480000" y="0"/>
            <a:ext cx="2664000" cy="360036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6">
            <a:hlinkClick r:id="" action="ppaction://hlinkshowjump?jump=firstslide"/>
          </p:cNvPr>
          <p:cNvSpPr/>
          <p:nvPr/>
        </p:nvSpPr>
        <p:spPr>
          <a:xfrm>
            <a:off x="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15" name="AutoShape 7">
            <a:hlinkClick r:id="" action="ppaction://hlinkshowjump?jump=firstslide"/>
          </p:cNvPr>
          <p:cNvSpPr/>
          <p:nvPr/>
        </p:nvSpPr>
        <p:spPr>
          <a:xfrm>
            <a:off x="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ahoma"/>
              </a:rPr>
              <a:t>«Басня- путаница»</a:t>
            </a:r>
            <a:endParaRPr b="0" lang="en-US" sz="3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 кому-то принесли от мастера </a:t>
            </a: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арец.</a:t>
            </a: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делкой, чистотой Ларец в глаза</a:t>
            </a: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идался.</a:t>
            </a: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 тысячу ладов тянул, переливался.</a:t>
            </a: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видевши Слона, ну на него</a:t>
            </a: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етаться,</a:t>
            </a: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лаять, и визжать, и рваться.</a:t>
            </a: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то это там за рожа?</a:t>
            </a: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ие у нее ужимки и прыжки!</a:t>
            </a: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Я удавилась бы с тоски, </a:t>
            </a: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гда бы на нее хоть чуть была </a:t>
            </a: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хожа.</a:t>
            </a: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артышка тут с досады и печали</a:t>
            </a: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 камень так хватила их,</a:t>
            </a: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то только брызги засверкали,</a:t>
            </a: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щай, хозяйские горшки!</a:t>
            </a: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  <p:pic>
        <p:nvPicPr>
          <p:cNvPr id="118" name="Picture 5" descr="Рисунок3"/>
          <p:cNvPicPr/>
          <p:nvPr/>
        </p:nvPicPr>
        <p:blipFill>
          <a:blip r:embed="rId1"/>
          <a:stretch/>
        </p:blipFill>
        <p:spPr>
          <a:xfrm>
            <a:off x="3708360" y="2563920"/>
            <a:ext cx="2664000" cy="16621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2"/>
          <p:cNvSpPr/>
          <p:nvPr/>
        </p:nvSpPr>
        <p:spPr>
          <a:xfrm>
            <a:off x="7463160" y="1052640"/>
            <a:ext cx="167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ahoma"/>
              </a:rPr>
              <a:t>Ларчик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5700600" y="1844640"/>
            <a:ext cx="328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ahoma"/>
              </a:rPr>
              <a:t>Осёл и соловей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5901120" y="2708280"/>
            <a:ext cx="314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ahoma"/>
              </a:rPr>
              <a:t>Слон и Моська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4933080" y="4076640"/>
            <a:ext cx="41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ahoma"/>
              </a:rPr>
              <a:t>Зеркало и обезьяна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5292720" y="4869000"/>
            <a:ext cx="363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ahoma"/>
              </a:rPr>
              <a:t>Мартышка и очки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7768440" y="5734080"/>
            <a:ext cx="11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ahoma"/>
              </a:rPr>
              <a:t>Обоз</a:t>
            </a:r>
            <a:endParaRPr b="0" lang="en-US" sz="3200" spc="-1" strike="noStrike">
              <a:solidFill>
                <a:srgbClr val="ff33cc"/>
              </a:solidFill>
              <a:latin typeface="Tahoma"/>
            </a:endParaRPr>
          </a:p>
        </p:txBody>
      </p:sp>
      <p:sp>
        <p:nvSpPr>
          <p:cNvPr id="125" name="AutoShape 19">
            <a:hlinkClick r:id="" action="ppaction://hlinkshowjump?jump=firstslide"/>
          </p:cNvPr>
          <p:cNvSpPr/>
          <p:nvPr/>
        </p:nvSpPr>
        <p:spPr>
          <a:xfrm>
            <a:off x="0" y="6021360"/>
            <a:ext cx="576360" cy="539640"/>
          </a:xfrm>
          <a:custGeom>
            <a:avLst/>
            <a:gdLst>
              <a:gd name="textAreaLeft" fmla="*/ 34920 w 576360"/>
              <a:gd name="textAreaRight" fmla="*/ 541440 w 5763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3069" h="21600">
                <a:moveTo>
                  <a:pt x="0" y="0"/>
                </a:moveTo>
                <a:lnTo>
                  <a:pt x="23069" y="0"/>
                </a:lnTo>
                <a:lnTo>
                  <a:pt x="23069" y="21600"/>
                </a:lnTo>
                <a:lnTo>
                  <a:pt x="0" y="21600"/>
                </a:lnTo>
                <a:close/>
              </a:path>
              <a:path fill="lightenLess" w="23069" h="21600">
                <a:moveTo>
                  <a:pt x="0" y="0"/>
                </a:moveTo>
                <a:lnTo>
                  <a:pt x="23069" y="0"/>
                </a:lnTo>
                <a:lnTo>
                  <a:pt x="21669" y="1400"/>
                </a:lnTo>
                <a:lnTo>
                  <a:pt x="1400" y="1400"/>
                </a:lnTo>
                <a:close/>
              </a:path>
              <a:path fill="darken" w="23069" h="21600">
                <a:moveTo>
                  <a:pt x="23069" y="0"/>
                </a:moveTo>
                <a:lnTo>
                  <a:pt x="23069" y="21600"/>
                </a:lnTo>
                <a:lnTo>
                  <a:pt x="21669" y="20200"/>
                </a:lnTo>
                <a:lnTo>
                  <a:pt x="21669" y="1400"/>
                </a:lnTo>
                <a:close/>
              </a:path>
              <a:path fill="darkenLess" w="23069" h="21600">
                <a:moveTo>
                  <a:pt x="230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9" y="20200"/>
                </a:lnTo>
                <a:close/>
              </a:path>
              <a:path fill="lighten" w="230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69" h="21600">
                <a:moveTo>
                  <a:pt x="11534" y="3837"/>
                </a:moveTo>
                <a:lnTo>
                  <a:pt x="14111" y="6448"/>
                </a:lnTo>
                <a:lnTo>
                  <a:pt x="14111" y="4707"/>
                </a:lnTo>
                <a:lnTo>
                  <a:pt x="15886" y="4707"/>
                </a:lnTo>
                <a:lnTo>
                  <a:pt x="15886" y="8224"/>
                </a:lnTo>
                <a:lnTo>
                  <a:pt x="18497" y="10800"/>
                </a:lnTo>
                <a:lnTo>
                  <a:pt x="16844" y="10800"/>
                </a:lnTo>
                <a:lnTo>
                  <a:pt x="16844" y="17989"/>
                </a:lnTo>
                <a:lnTo>
                  <a:pt x="6225" y="17989"/>
                </a:lnTo>
                <a:lnTo>
                  <a:pt x="6225" y="10800"/>
                </a:lnTo>
                <a:lnTo>
                  <a:pt x="4571" y="10800"/>
                </a:lnTo>
                <a:close/>
              </a:path>
              <a:path fill="darkenLess" w="23069" h="21600">
                <a:moveTo>
                  <a:pt x="14111" y="6448"/>
                </a:moveTo>
                <a:lnTo>
                  <a:pt x="14111" y="4707"/>
                </a:lnTo>
                <a:lnTo>
                  <a:pt x="15886" y="4707"/>
                </a:lnTo>
                <a:lnTo>
                  <a:pt x="15886" y="8224"/>
                </a:lnTo>
                <a:close/>
              </a:path>
              <a:path fill="darkenLess" w="23069" h="21600">
                <a:moveTo>
                  <a:pt x="10612" y="14299"/>
                </a:moveTo>
                <a:lnTo>
                  <a:pt x="12457" y="14299"/>
                </a:lnTo>
                <a:lnTo>
                  <a:pt x="12457" y="17989"/>
                </a:lnTo>
                <a:lnTo>
                  <a:pt x="16844" y="17989"/>
                </a:lnTo>
                <a:lnTo>
                  <a:pt x="16844" y="10800"/>
                </a:lnTo>
                <a:lnTo>
                  <a:pt x="6225" y="10800"/>
                </a:lnTo>
                <a:lnTo>
                  <a:pt x="6225" y="17989"/>
                </a:lnTo>
                <a:lnTo>
                  <a:pt x="10612" y="179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cc"/>
              </a:solidFill>
              <a:latin typeface="Tahoma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1" dur="3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000"/>
                            </p:stCondLst>
                            <p:childTnLst>
                              <p:par>
                                <p:cTn id="5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3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3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1" dur="3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4" dur="3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3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0" dur="3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3" dur="3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6" dur="3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30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2" dur="30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5" dur="30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8" dur="30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1" dur="3000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4" dur="3000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7" dur="3000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0" dur="3000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4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c9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c9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8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c9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0" dur="2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c9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2" dur="2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c9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2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c9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6" dur="2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c9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8" dur="2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c9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0" dur="2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c9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2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c9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4" dur="2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c9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2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c9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2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c9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0" dur="2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c9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2" dur="2000" fill="hold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c9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4" dur="2000" fill="hold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c9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6" dur="2000" fill="hold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c9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000"/>
                            </p:stCondLst>
                            <p:childTnLst>
                              <p:par>
                                <p:cTn id="6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09:02:29Z</dcterms:created>
  <dc:creator>Ученик</dc:creator>
  <dc:description/>
  <dc:language>en-US</dc:language>
  <cp:lastModifiedBy>computer08</cp:lastModifiedBy>
  <dcterms:modified xsi:type="dcterms:W3CDTF">2012-10-10T06:35:09Z</dcterms:modified>
  <cp:revision>30</cp:revision>
  <dc:subject/>
  <dc:title>Уж сколько раз твердили миру…</dc:title>
</cp:coreProperties>
</file>