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0148-C5FC-4C2A-AA52-67BFF461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1979-9557-4DA9-9E86-F3C5E245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13C4-A8B6-4927-8E73-55657D99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6580-C161-4CAB-9E83-5FE16936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A2FF-40C0-4B85-B7E3-90878487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0328-D2C4-4F21-A1C2-968C3338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6AF8-D963-46B8-904C-767FCDEC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4290-BC4D-4B23-84C5-DD093FD8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D57A-C504-430C-9EF0-FA54E8F5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985F-1BC7-4D2B-8AE2-9B66DC6F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C855-1E1E-4DF1-9E01-40A6B3CD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8EB1-14C9-45EF-8A77-8DCA9FB7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b5b1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aa88c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9e9c82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3c0a0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b0ac9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3c0a0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2af93"/>
                </a:gs>
                <a:gs pos="100000">
                  <a:srgbClr val="b0ac9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33c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AFDF-241C-46BA-AB8B-6841B90962FA}" type="slidenum">
              <a:rPr b="0" lang="ru-RU" sz="1000" spc="-1" strike="noStrike">
                <a:solidFill>
                  <a:srgbClr val="ff33cc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47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4800" spc="-1" strike="noStrike" u="sng">
                <a:solidFill>
                  <a:srgbClr val="666699"/>
                </a:solidFill>
                <a:uFillTx/>
                <a:latin typeface="Tahoma"/>
                <a:hlinkClick r:id="rId1" action="ppaction://hlinksldjump"/>
              </a:rPr>
              <a:t>Иван</a:t>
            </a:r>
            <a:r>
              <a:rPr b="0" lang="ru-RU" sz="48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 </a:t>
            </a:r>
            <a:r>
              <a:rPr b="0" lang="ru-RU" sz="4800" spc="-1" strike="noStrike">
                <a:solidFill>
                  <a:srgbClr val="ff33cc"/>
                </a:solidFill>
                <a:latin typeface="Tahoma"/>
              </a:rPr>
              <a:t>Андреевич</a:t>
            </a: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33cc"/>
                </a:solidFill>
                <a:latin typeface="Tahoma"/>
              </a:rPr>
              <a:t>Крылов</a:t>
            </a: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    </a:t>
            </a:r>
            <a:endParaRPr b="0" lang="en-US" sz="48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64" name="Picture 4" descr="Рисунок2"/>
          <p:cNvPicPr/>
          <p:nvPr/>
        </p:nvPicPr>
        <p:blipFill>
          <a:blip r:embed="rId2"/>
          <a:stretch/>
        </p:blipFill>
        <p:spPr>
          <a:xfrm>
            <a:off x="2728800" y="1328760"/>
            <a:ext cx="3687840" cy="4200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458880" y="5589720"/>
            <a:ext cx="217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1789-1844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6" name="AutoShape 6">
            <a:hlinkClick r:id="" action="ppaction://hlinkshowjump?jump=lastslide"/>
          </p:cNvPr>
          <p:cNvSpPr/>
          <p:nvPr/>
        </p:nvSpPr>
        <p:spPr>
          <a:xfrm>
            <a:off x="25092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7" h="21600">
                <a:moveTo>
                  <a:pt x="11323" y="3837"/>
                </a:moveTo>
                <a:lnTo>
                  <a:pt x="13900" y="6448"/>
                </a:lnTo>
                <a:lnTo>
                  <a:pt x="13900" y="4707"/>
                </a:lnTo>
                <a:lnTo>
                  <a:pt x="15675" y="4707"/>
                </a:lnTo>
                <a:lnTo>
                  <a:pt x="15675" y="8224"/>
                </a:lnTo>
                <a:lnTo>
                  <a:pt x="18286" y="10800"/>
                </a:lnTo>
                <a:lnTo>
                  <a:pt x="16633" y="10800"/>
                </a:lnTo>
                <a:lnTo>
                  <a:pt x="16633" y="17989"/>
                </a:lnTo>
                <a:lnTo>
                  <a:pt x="6014" y="17989"/>
                </a:lnTo>
                <a:lnTo>
                  <a:pt x="6014" y="10800"/>
                </a:lnTo>
                <a:lnTo>
                  <a:pt x="4360" y="10800"/>
                </a:lnTo>
                <a:close/>
              </a:path>
              <a:path fill="darkenLess" w="22647" h="21600">
                <a:moveTo>
                  <a:pt x="13900" y="6448"/>
                </a:moveTo>
                <a:lnTo>
                  <a:pt x="13900" y="4707"/>
                </a:lnTo>
                <a:lnTo>
                  <a:pt x="15675" y="4707"/>
                </a:lnTo>
                <a:lnTo>
                  <a:pt x="15675" y="8224"/>
                </a:lnTo>
                <a:close/>
              </a:path>
              <a:path fill="darkenLess" w="22647" h="21600">
                <a:moveTo>
                  <a:pt x="10401" y="14299"/>
                </a:moveTo>
                <a:lnTo>
                  <a:pt x="12246" y="14299"/>
                </a:lnTo>
                <a:lnTo>
                  <a:pt x="12246" y="17989"/>
                </a:lnTo>
                <a:lnTo>
                  <a:pt x="16633" y="17989"/>
                </a:lnTo>
                <a:lnTo>
                  <a:pt x="16633" y="10800"/>
                </a:lnTo>
                <a:lnTo>
                  <a:pt x="6014" y="10800"/>
                </a:lnTo>
                <a:lnTo>
                  <a:pt x="6014" y="17989"/>
                </a:lnTo>
                <a:lnTo>
                  <a:pt x="10401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Чьи это слова?</a:t>
            </a:r>
            <a:br>
              <a:rPr sz="3800"/>
            </a:b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Соседка, перестань срамиться,-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бе ль с Слоном возиться?»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 Соседушка, я сыт по горло».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 Ну что за шейка, что за глазки?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казывать- так право сказки».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 НЕ оставь меня, кум милый!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й ты мне собраться с силой…»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Чтоб музыкантом быть, так надобно уменье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уши ваших понежней.»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Смотри, ты уже хрипишь, а он идет себе вперед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лаю твоего совсем не примечает».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128" name="Picture 4" descr="HWScan00055"/>
          <p:cNvPicPr/>
          <p:nvPr/>
        </p:nvPicPr>
        <p:blipFill>
          <a:blip r:embed="rId1"/>
          <a:stretch/>
        </p:blipFill>
        <p:spPr>
          <a:xfrm>
            <a:off x="4932360" y="1125360"/>
            <a:ext cx="2290680" cy="3024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633080" y="15573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Шав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506720" y="22050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Фо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696080" y="2781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Лисиц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408080" y="350028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трекоз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473240" y="42210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оловей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777440" y="50846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Шав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0179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6" name="AutoShape 13">
            <a:hlinkClick r:id="" action="ppaction://hlinkshowjump?jump=firstslide"/>
          </p:cNvPr>
          <p:cNvSpPr/>
          <p:nvPr/>
        </p:nvSpPr>
        <p:spPr>
          <a:xfrm>
            <a:off x="179280" y="6093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11534" y="3837"/>
                </a:moveTo>
                <a:lnTo>
                  <a:pt x="14111" y="6448"/>
                </a:lnTo>
                <a:lnTo>
                  <a:pt x="14111" y="4707"/>
                </a:lnTo>
                <a:lnTo>
                  <a:pt x="15886" y="4707"/>
                </a:lnTo>
                <a:lnTo>
                  <a:pt x="15886" y="8224"/>
                </a:lnTo>
                <a:lnTo>
                  <a:pt x="18497" y="10800"/>
                </a:lnTo>
                <a:lnTo>
                  <a:pt x="16844" y="10800"/>
                </a:lnTo>
                <a:lnTo>
                  <a:pt x="16844" y="17989"/>
                </a:lnTo>
                <a:lnTo>
                  <a:pt x="6225" y="17989"/>
                </a:lnTo>
                <a:lnTo>
                  <a:pt x="6225" y="10800"/>
                </a:lnTo>
                <a:lnTo>
                  <a:pt x="4571" y="10800"/>
                </a:lnTo>
                <a:close/>
              </a:path>
              <a:path fill="darkenLess" w="23069" h="21600">
                <a:moveTo>
                  <a:pt x="14111" y="6448"/>
                </a:moveTo>
                <a:lnTo>
                  <a:pt x="14111" y="4707"/>
                </a:lnTo>
                <a:lnTo>
                  <a:pt x="15886" y="4707"/>
                </a:lnTo>
                <a:lnTo>
                  <a:pt x="15886" y="8224"/>
                </a:lnTo>
                <a:close/>
              </a:path>
              <a:path fill="darkenLess" w="23069" h="21600">
                <a:moveTo>
                  <a:pt x="10612" y="14299"/>
                </a:moveTo>
                <a:lnTo>
                  <a:pt x="12457" y="14299"/>
                </a:lnTo>
                <a:lnTo>
                  <a:pt x="12457" y="17989"/>
                </a:lnTo>
                <a:lnTo>
                  <a:pt x="16844" y="17989"/>
                </a:lnTo>
                <a:lnTo>
                  <a:pt x="16844" y="10800"/>
                </a:lnTo>
                <a:lnTo>
                  <a:pt x="6225" y="10800"/>
                </a:lnTo>
                <a:lnTo>
                  <a:pt x="6225" y="17989"/>
                </a:lnTo>
                <a:lnTo>
                  <a:pt x="10612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3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3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3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3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3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3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3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3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3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3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3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3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3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3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3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Урок</a:t>
            </a: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лек меня тем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ался интересным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зволновал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тавил задуматься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вел меня на размышления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0" y="6319800"/>
            <a:ext cx="576360" cy="538200"/>
          </a:xfrm>
          <a:custGeom>
            <a:avLst/>
            <a:gdLst>
              <a:gd name="textAreaLeft" fmla="*/ 34560 w 576360"/>
              <a:gd name="textAreaRight" fmla="*/ 541800 w 576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30" h="21600">
                <a:moveTo>
                  <a:pt x="0" y="0"/>
                </a:moveTo>
                <a:lnTo>
                  <a:pt x="23130" y="0"/>
                </a:lnTo>
                <a:lnTo>
                  <a:pt x="23130" y="21600"/>
                </a:lnTo>
                <a:lnTo>
                  <a:pt x="0" y="21600"/>
                </a:lnTo>
                <a:close/>
              </a:path>
              <a:path fill="lightenLess" w="23130" h="21600">
                <a:moveTo>
                  <a:pt x="0" y="0"/>
                </a:moveTo>
                <a:lnTo>
                  <a:pt x="23130" y="0"/>
                </a:lnTo>
                <a:lnTo>
                  <a:pt x="21730" y="1400"/>
                </a:lnTo>
                <a:lnTo>
                  <a:pt x="1400" y="1400"/>
                </a:lnTo>
                <a:close/>
              </a:path>
              <a:path fill="darken" w="23130" h="21600">
                <a:moveTo>
                  <a:pt x="23130" y="0"/>
                </a:moveTo>
                <a:lnTo>
                  <a:pt x="23130" y="21600"/>
                </a:lnTo>
                <a:lnTo>
                  <a:pt x="21730" y="20200"/>
                </a:lnTo>
                <a:lnTo>
                  <a:pt x="21730" y="1400"/>
                </a:lnTo>
                <a:close/>
              </a:path>
              <a:path fill="darkenLess" w="23130" h="21600">
                <a:moveTo>
                  <a:pt x="23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0" y="20200"/>
                </a:lnTo>
                <a:close/>
              </a:path>
              <a:path fill="lighten" w="23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0" h="21600">
                <a:moveTo>
                  <a:pt x="11565" y="3837"/>
                </a:moveTo>
                <a:lnTo>
                  <a:pt x="14142" y="6448"/>
                </a:lnTo>
                <a:lnTo>
                  <a:pt x="14142" y="4707"/>
                </a:lnTo>
                <a:lnTo>
                  <a:pt x="15917" y="4707"/>
                </a:lnTo>
                <a:lnTo>
                  <a:pt x="15917" y="8224"/>
                </a:lnTo>
                <a:lnTo>
                  <a:pt x="18528" y="10800"/>
                </a:lnTo>
                <a:lnTo>
                  <a:pt x="16874" y="10800"/>
                </a:lnTo>
                <a:lnTo>
                  <a:pt x="16874" y="17989"/>
                </a:lnTo>
                <a:lnTo>
                  <a:pt x="6256" y="17989"/>
                </a:lnTo>
                <a:lnTo>
                  <a:pt x="6256" y="10800"/>
                </a:lnTo>
                <a:lnTo>
                  <a:pt x="4602" y="10800"/>
                </a:lnTo>
                <a:close/>
              </a:path>
              <a:path fill="darkenLess" w="23130" h="21600">
                <a:moveTo>
                  <a:pt x="14142" y="6448"/>
                </a:moveTo>
                <a:lnTo>
                  <a:pt x="14142" y="4707"/>
                </a:lnTo>
                <a:lnTo>
                  <a:pt x="15917" y="4707"/>
                </a:lnTo>
                <a:lnTo>
                  <a:pt x="15917" y="8224"/>
                </a:lnTo>
                <a:close/>
              </a:path>
              <a:path fill="darkenLess" w="23130" h="21600">
                <a:moveTo>
                  <a:pt x="10643" y="14299"/>
                </a:moveTo>
                <a:lnTo>
                  <a:pt x="12488" y="14299"/>
                </a:lnTo>
                <a:lnTo>
                  <a:pt x="12488" y="17989"/>
                </a:lnTo>
                <a:lnTo>
                  <a:pt x="16874" y="17989"/>
                </a:lnTo>
                <a:lnTo>
                  <a:pt x="16874" y="10800"/>
                </a:lnTo>
                <a:lnTo>
                  <a:pt x="6256" y="10800"/>
                </a:lnTo>
                <a:lnTo>
                  <a:pt x="6256" y="17989"/>
                </a:lnTo>
                <a:lnTo>
                  <a:pt x="10643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402000" y="5805360"/>
            <a:ext cx="54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Презентацию подготовила Хлыбова Т.И.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МОУ СОШ №21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г. Миасс, Челябинская область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496728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Сложи название</a:t>
            </a:r>
            <a:br>
              <a:rPr sz="3800"/>
            </a:b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31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ртыш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рон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екоз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ж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н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тух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кало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укуш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лк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16000" y="1700280"/>
            <a:ext cx="367164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лубь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чки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сиц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равей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ь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гненок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зьян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тух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мчужное зерно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70" name="Picture 5" descr="HWScan00048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4427640" y="3284640"/>
            <a:ext cx="317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050920" y="2060640"/>
            <a:ext cx="936720" cy="28872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3" name="Line 8"/>
          <p:cNvSpPr/>
          <p:nvPr/>
        </p:nvSpPr>
        <p:spPr>
          <a:xfrm>
            <a:off x="1619280" y="2421000"/>
            <a:ext cx="1440000" cy="43164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763640" y="2852640"/>
            <a:ext cx="1224000" cy="43200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1116000" y="2060280"/>
            <a:ext cx="1800360" cy="11523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1116000" y="3573360"/>
            <a:ext cx="1800360" cy="14292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258920" y="4076640"/>
            <a:ext cx="1728720" cy="12970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1619280" y="4437000"/>
            <a:ext cx="1297080" cy="1443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1619280" y="4941720"/>
            <a:ext cx="1368360" cy="14292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1332000" y="4220640"/>
            <a:ext cx="1584360" cy="107964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1" name="AutoShape 16">
            <a:hlinkClick r:id="" action="ppaction://hlinkshowjump?jump=firstslide"/>
          </p:cNvPr>
          <p:cNvSpPr/>
          <p:nvPr/>
        </p:nvSpPr>
        <p:spPr>
          <a:xfrm>
            <a:off x="0" y="6291360"/>
            <a:ext cx="719280" cy="566640"/>
          </a:xfrm>
          <a:custGeom>
            <a:avLst/>
            <a:gdLst>
              <a:gd name="textAreaLeft" fmla="*/ 36720 w 719280"/>
              <a:gd name="textAreaRight" fmla="*/ 682560 w 71928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7415" h="21600">
                <a:moveTo>
                  <a:pt x="0" y="0"/>
                </a:moveTo>
                <a:lnTo>
                  <a:pt x="27415" y="0"/>
                </a:lnTo>
                <a:lnTo>
                  <a:pt x="27415" y="21600"/>
                </a:lnTo>
                <a:lnTo>
                  <a:pt x="0" y="21600"/>
                </a:lnTo>
                <a:close/>
              </a:path>
              <a:path fill="lightenLess" w="27415" h="21600">
                <a:moveTo>
                  <a:pt x="0" y="0"/>
                </a:moveTo>
                <a:lnTo>
                  <a:pt x="27415" y="0"/>
                </a:lnTo>
                <a:lnTo>
                  <a:pt x="26015" y="1400"/>
                </a:lnTo>
                <a:lnTo>
                  <a:pt x="1400" y="1400"/>
                </a:lnTo>
                <a:close/>
              </a:path>
              <a:path fill="darken" w="27415" h="21600">
                <a:moveTo>
                  <a:pt x="27415" y="0"/>
                </a:moveTo>
                <a:lnTo>
                  <a:pt x="27415" y="21600"/>
                </a:lnTo>
                <a:lnTo>
                  <a:pt x="26015" y="20200"/>
                </a:lnTo>
                <a:lnTo>
                  <a:pt x="26015" y="1400"/>
                </a:lnTo>
                <a:close/>
              </a:path>
              <a:path fill="darkenLess" w="27415" h="21600">
                <a:moveTo>
                  <a:pt x="27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15" y="20200"/>
                </a:lnTo>
                <a:close/>
              </a:path>
              <a:path fill="lighten" w="27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15" h="21600">
                <a:moveTo>
                  <a:pt x="13707" y="3837"/>
                </a:moveTo>
                <a:lnTo>
                  <a:pt x="16284" y="6448"/>
                </a:lnTo>
                <a:lnTo>
                  <a:pt x="16284" y="4707"/>
                </a:lnTo>
                <a:lnTo>
                  <a:pt x="18059" y="4707"/>
                </a:lnTo>
                <a:lnTo>
                  <a:pt x="18059" y="8224"/>
                </a:lnTo>
                <a:lnTo>
                  <a:pt x="20670" y="10800"/>
                </a:lnTo>
                <a:lnTo>
                  <a:pt x="19017" y="10800"/>
                </a:lnTo>
                <a:lnTo>
                  <a:pt x="19017" y="17989"/>
                </a:lnTo>
                <a:lnTo>
                  <a:pt x="8398" y="17989"/>
                </a:lnTo>
                <a:lnTo>
                  <a:pt x="8398" y="10800"/>
                </a:lnTo>
                <a:lnTo>
                  <a:pt x="6744" y="10800"/>
                </a:lnTo>
                <a:close/>
              </a:path>
              <a:path fill="darkenLess" w="27415" h="21600">
                <a:moveTo>
                  <a:pt x="16284" y="6448"/>
                </a:moveTo>
                <a:lnTo>
                  <a:pt x="16284" y="4707"/>
                </a:lnTo>
                <a:lnTo>
                  <a:pt x="18059" y="4707"/>
                </a:lnTo>
                <a:lnTo>
                  <a:pt x="18059" y="8224"/>
                </a:lnTo>
                <a:close/>
              </a:path>
              <a:path fill="darkenLess" w="27415" h="21600">
                <a:moveTo>
                  <a:pt x="12785" y="14299"/>
                </a:moveTo>
                <a:lnTo>
                  <a:pt x="14630" y="14299"/>
                </a:lnTo>
                <a:lnTo>
                  <a:pt x="14630" y="17989"/>
                </a:lnTo>
                <a:lnTo>
                  <a:pt x="19017" y="17989"/>
                </a:lnTo>
                <a:lnTo>
                  <a:pt x="19017" y="10800"/>
                </a:lnTo>
                <a:lnTo>
                  <a:pt x="8398" y="10800"/>
                </a:lnTo>
                <a:lnTo>
                  <a:pt x="8398" y="17989"/>
                </a:lnTo>
                <a:lnTo>
                  <a:pt x="12785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5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3068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это небольшое произведение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написанное стихами или прозой, в которых высмеиваются пороки людей, такие как глупость, лесть, хвастовство и др.</a:t>
            </a:r>
            <a:endParaRPr b="0" lang="en-US" sz="3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8480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Смешат в басне: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ми животные, их действия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ешные случаи, смешная история 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смешка ( сатира)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Похожа на сказку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Задача одна: высмеять плохие черты характера людей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95360" y="4046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Басня</a:t>
            </a:r>
            <a:endParaRPr b="0" lang="en-US" sz="40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5" name="AutoShape 5">
            <a:hlinkClick r:id="" action="ppaction://hlinkshowjump?jump=firstslide"/>
          </p:cNvPr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23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cc"/>
                </a:solidFill>
                <a:latin typeface="Showcard Gothic"/>
              </a:rPr>
              <a:t>«Мораль  сей басни такова…»</a:t>
            </a:r>
            <a:br>
              <a:rPr sz="3400"/>
            </a:br>
            <a:r>
              <a:rPr b="0" lang="ru-RU" sz="3800" spc="-1" strike="noStrike">
                <a:solidFill>
                  <a:srgbClr val="ff0000"/>
                </a:solidFill>
                <a:latin typeface="Showcard Gothic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Showcard Gothic"/>
              </a:rPr>
              <a:t>И.А. КРЫЛОВ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3640" y="2707920"/>
            <a:ext cx="388764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чале - задает оценку заранее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онце- вывод, урок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88" name="Picture 8" descr="HWScan00052"/>
          <p:cNvPicPr/>
          <p:nvPr/>
        </p:nvPicPr>
        <p:blipFill>
          <a:blip r:embed="rId1"/>
          <a:stretch/>
        </p:blipFill>
        <p:spPr>
          <a:xfrm>
            <a:off x="5435640" y="2565360"/>
            <a:ext cx="3168720" cy="4032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313200" y="1773360"/>
            <a:ext cx="80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ораль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равоучение, поучительный вывод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0" name="AutoShape 10">
            <a:hlinkClick r:id="" action="ppaction://hlinkshowjump?jump=firstslide"/>
          </p:cNvPr>
          <p:cNvSpPr/>
          <p:nvPr/>
        </p:nvSpPr>
        <p:spPr>
          <a:xfrm>
            <a:off x="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Мораль сей басни такова.</a:t>
            </a:r>
            <a:br>
              <a:rPr sz="3800"/>
            </a:b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Tahoma"/>
              </a:rPr>
              <a:t>« 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Уж сколько раз твердили миру,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Что лесть гнусна, вредна, но только все не впрок.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И в сердце льстец всегда отыщет уголок.»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« Случается нередко нам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И труд  и мудрость видеть там, 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Где стоит только догадаться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 дело просто взяться.»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« Вперед чужой беде не смейся, Голубок!»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« Когда в товарищах согласья нет,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На лад их дело не пойдет,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И выйдет из него не дело, только мука».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WScan00061"/>
          <p:cNvPicPr/>
          <p:nvPr/>
        </p:nvPicPr>
        <p:blipFill>
          <a:blip r:embed="rId1"/>
          <a:stretch/>
        </p:blipFill>
        <p:spPr>
          <a:xfrm>
            <a:off x="2843280" y="1700280"/>
            <a:ext cx="3100320" cy="31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HWScan00064"/>
          <p:cNvPicPr/>
          <p:nvPr/>
        </p:nvPicPr>
        <p:blipFill>
          <a:blip r:embed="rId2"/>
          <a:stretch/>
        </p:blipFill>
        <p:spPr>
          <a:xfrm>
            <a:off x="0" y="333360"/>
            <a:ext cx="2879640" cy="316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WScan00066"/>
          <p:cNvPicPr/>
          <p:nvPr/>
        </p:nvPicPr>
        <p:blipFill>
          <a:blip r:embed="rId3"/>
          <a:stretch/>
        </p:blipFill>
        <p:spPr>
          <a:xfrm>
            <a:off x="5970600" y="2852640"/>
            <a:ext cx="3173400" cy="3311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Узнай басню</a:t>
            </a: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-94320" y="357336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Ворона и лисиц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739960" y="49417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Лисица и виноград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5949720"/>
            <a:ext cx="8229600" cy="13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53400" y="6237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етух и жемчужное зерно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1" name="AutoShape 16">
            <a:hlinkClick r:id="" action="ppaction://hlinkshowjump?jump=firstslide"/>
          </p:cNvPr>
          <p:cNvSpPr/>
          <p:nvPr/>
        </p:nvSpPr>
        <p:spPr>
          <a:xfrm>
            <a:off x="0" y="6165720"/>
            <a:ext cx="576360" cy="538200"/>
          </a:xfrm>
          <a:custGeom>
            <a:avLst/>
            <a:gdLst>
              <a:gd name="textAreaLeft" fmla="*/ 34560 w 576360"/>
              <a:gd name="textAreaRight" fmla="*/ 541800 w 576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30" h="21600">
                <a:moveTo>
                  <a:pt x="0" y="0"/>
                </a:moveTo>
                <a:lnTo>
                  <a:pt x="23130" y="0"/>
                </a:lnTo>
                <a:lnTo>
                  <a:pt x="23130" y="21600"/>
                </a:lnTo>
                <a:lnTo>
                  <a:pt x="0" y="21600"/>
                </a:lnTo>
                <a:close/>
              </a:path>
              <a:path fill="lightenLess" w="23130" h="21600">
                <a:moveTo>
                  <a:pt x="0" y="0"/>
                </a:moveTo>
                <a:lnTo>
                  <a:pt x="23130" y="0"/>
                </a:lnTo>
                <a:lnTo>
                  <a:pt x="21730" y="1400"/>
                </a:lnTo>
                <a:lnTo>
                  <a:pt x="1400" y="1400"/>
                </a:lnTo>
                <a:close/>
              </a:path>
              <a:path fill="darken" w="23130" h="21600">
                <a:moveTo>
                  <a:pt x="23130" y="0"/>
                </a:moveTo>
                <a:lnTo>
                  <a:pt x="23130" y="21600"/>
                </a:lnTo>
                <a:lnTo>
                  <a:pt x="21730" y="20200"/>
                </a:lnTo>
                <a:lnTo>
                  <a:pt x="21730" y="1400"/>
                </a:lnTo>
                <a:close/>
              </a:path>
              <a:path fill="darkenLess" w="23130" h="21600">
                <a:moveTo>
                  <a:pt x="23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0" y="20200"/>
                </a:lnTo>
                <a:close/>
              </a:path>
              <a:path fill="lighten" w="23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0" h="21600">
                <a:moveTo>
                  <a:pt x="11565" y="3837"/>
                </a:moveTo>
                <a:lnTo>
                  <a:pt x="14142" y="6448"/>
                </a:lnTo>
                <a:lnTo>
                  <a:pt x="14142" y="4707"/>
                </a:lnTo>
                <a:lnTo>
                  <a:pt x="15917" y="4707"/>
                </a:lnTo>
                <a:lnTo>
                  <a:pt x="15917" y="8224"/>
                </a:lnTo>
                <a:lnTo>
                  <a:pt x="18528" y="10800"/>
                </a:lnTo>
                <a:lnTo>
                  <a:pt x="16874" y="10800"/>
                </a:lnTo>
                <a:lnTo>
                  <a:pt x="16874" y="17989"/>
                </a:lnTo>
                <a:lnTo>
                  <a:pt x="6256" y="17989"/>
                </a:lnTo>
                <a:lnTo>
                  <a:pt x="6256" y="10800"/>
                </a:lnTo>
                <a:lnTo>
                  <a:pt x="4602" y="10800"/>
                </a:lnTo>
                <a:close/>
              </a:path>
              <a:path fill="darkenLess" w="23130" h="21600">
                <a:moveTo>
                  <a:pt x="14142" y="6448"/>
                </a:moveTo>
                <a:lnTo>
                  <a:pt x="14142" y="4707"/>
                </a:lnTo>
                <a:lnTo>
                  <a:pt x="15917" y="4707"/>
                </a:lnTo>
                <a:lnTo>
                  <a:pt x="15917" y="8224"/>
                </a:lnTo>
                <a:close/>
              </a:path>
              <a:path fill="darkenLess" w="23130" h="21600">
                <a:moveTo>
                  <a:pt x="10643" y="14299"/>
                </a:moveTo>
                <a:lnTo>
                  <a:pt x="12488" y="14299"/>
                </a:lnTo>
                <a:lnTo>
                  <a:pt x="12488" y="17989"/>
                </a:lnTo>
                <a:lnTo>
                  <a:pt x="16874" y="17989"/>
                </a:lnTo>
                <a:lnTo>
                  <a:pt x="16874" y="10800"/>
                </a:lnTo>
                <a:lnTo>
                  <a:pt x="6256" y="10800"/>
                </a:lnTo>
                <a:lnTo>
                  <a:pt x="6256" y="17989"/>
                </a:lnTo>
                <a:lnTo>
                  <a:pt x="10643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HWScan00073"/>
          <p:cNvPicPr/>
          <p:nvPr/>
        </p:nvPicPr>
        <p:blipFill>
          <a:blip r:embed="rId1"/>
          <a:stretch/>
        </p:blipFill>
        <p:spPr>
          <a:xfrm>
            <a:off x="5983200" y="0"/>
            <a:ext cx="3160800" cy="331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WScan00070"/>
          <p:cNvPicPr/>
          <p:nvPr/>
        </p:nvPicPr>
        <p:blipFill>
          <a:blip r:embed="rId2"/>
          <a:stretch/>
        </p:blipFill>
        <p:spPr>
          <a:xfrm>
            <a:off x="0" y="2852640"/>
            <a:ext cx="2965320" cy="335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WScan00076"/>
          <p:cNvPicPr/>
          <p:nvPr/>
        </p:nvPicPr>
        <p:blipFill>
          <a:blip r:embed="rId3"/>
          <a:stretch/>
        </p:blipFill>
        <p:spPr>
          <a:xfrm>
            <a:off x="2916360" y="1484280"/>
            <a:ext cx="3073320" cy="3313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558936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Узнай басню</a:t>
            </a: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80680" y="60930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Квартет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91120" y="48690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Кукушка и петух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189840" y="34290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артышка и очки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10" name="AutoShape 13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835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Когда так говорят?</a:t>
            </a:r>
            <a:br>
              <a:rPr sz="3800"/>
            </a:b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 только воз и ныне там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кожи лезут вон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оть видит око, да зуб неймет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она-то я и не приметил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ликий человек лишь громок на делах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м кумушек считать трудиться, не лучше  ль на себя, кума, оборотиться?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ларчик просто открывался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вы, друзья, как не садитесь, все в музыканты не годитесь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113" name="Picture 5" descr="HWScan00055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3600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6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15" name="AutoShape 7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«Басня- путаница»</a:t>
            </a: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 кому-то принесли от мастера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арец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делкой, чистотой Ларец в глаза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дался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тысячу ладов тянул, переливался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идевши Слона, ну на него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аться,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лаять, и визжать, и рваться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 это там за рожа?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ие у нее ужимки и прыжки!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 удавилась бы с тоски,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гда бы на нее хоть чуть была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хожа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ртышка тут с досады и печали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 камень так хватила их,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 только брызги засверкали,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щай, хозяйские горшки!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118" name="Picture 5" descr="Рисунок3"/>
          <p:cNvPicPr/>
          <p:nvPr/>
        </p:nvPicPr>
        <p:blipFill>
          <a:blip r:embed="rId1"/>
          <a:stretch/>
        </p:blipFill>
        <p:spPr>
          <a:xfrm>
            <a:off x="3708360" y="2563920"/>
            <a:ext cx="2664000" cy="1662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7463160" y="105264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Ларчик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700600" y="184464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Осёл и соловей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901120" y="270828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Слон и Моська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933080" y="407664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Зеркало и обезьяна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292720" y="4869000"/>
            <a:ext cx="36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Мартышка и очки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7768440" y="5734080"/>
            <a:ext cx="11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Обоз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5" name="AutoShape 19">
            <a:hlinkClick r:id="" action="ppaction://hlinkshowjump?jump=firstslide"/>
          </p:cNvPr>
          <p:cNvSpPr/>
          <p:nvPr/>
        </p:nvSpPr>
        <p:spPr>
          <a:xfrm>
            <a:off x="0" y="602136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11534" y="3837"/>
                </a:moveTo>
                <a:lnTo>
                  <a:pt x="14111" y="6448"/>
                </a:lnTo>
                <a:lnTo>
                  <a:pt x="14111" y="4707"/>
                </a:lnTo>
                <a:lnTo>
                  <a:pt x="15886" y="4707"/>
                </a:lnTo>
                <a:lnTo>
                  <a:pt x="15886" y="8224"/>
                </a:lnTo>
                <a:lnTo>
                  <a:pt x="18497" y="10800"/>
                </a:lnTo>
                <a:lnTo>
                  <a:pt x="16844" y="10800"/>
                </a:lnTo>
                <a:lnTo>
                  <a:pt x="16844" y="17989"/>
                </a:lnTo>
                <a:lnTo>
                  <a:pt x="6225" y="17989"/>
                </a:lnTo>
                <a:lnTo>
                  <a:pt x="6225" y="10800"/>
                </a:lnTo>
                <a:lnTo>
                  <a:pt x="4571" y="10800"/>
                </a:lnTo>
                <a:close/>
              </a:path>
              <a:path fill="darkenLess" w="23069" h="21600">
                <a:moveTo>
                  <a:pt x="14111" y="6448"/>
                </a:moveTo>
                <a:lnTo>
                  <a:pt x="14111" y="4707"/>
                </a:lnTo>
                <a:lnTo>
                  <a:pt x="15886" y="4707"/>
                </a:lnTo>
                <a:lnTo>
                  <a:pt x="15886" y="8224"/>
                </a:lnTo>
                <a:close/>
              </a:path>
              <a:path fill="darkenLess" w="23069" h="21600">
                <a:moveTo>
                  <a:pt x="10612" y="14299"/>
                </a:moveTo>
                <a:lnTo>
                  <a:pt x="12457" y="14299"/>
                </a:lnTo>
                <a:lnTo>
                  <a:pt x="12457" y="17989"/>
                </a:lnTo>
                <a:lnTo>
                  <a:pt x="16844" y="17989"/>
                </a:lnTo>
                <a:lnTo>
                  <a:pt x="16844" y="10800"/>
                </a:lnTo>
                <a:lnTo>
                  <a:pt x="6225" y="10800"/>
                </a:lnTo>
                <a:lnTo>
                  <a:pt x="6225" y="17989"/>
                </a:lnTo>
                <a:lnTo>
                  <a:pt x="10612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3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3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3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3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3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3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3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3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3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3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3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3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3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3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3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3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2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2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2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2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9:02:29Z</dcterms:created>
  <dc:creator>Ученик</dc:creator>
  <dc:description/>
  <dc:language>en-US</dc:language>
  <cp:lastModifiedBy>computer08</cp:lastModifiedBy>
  <dcterms:modified xsi:type="dcterms:W3CDTF">2012-10-10T06:35:09Z</dcterms:modified>
  <cp:revision>30</cp:revision>
  <dc:subject/>
  <dc:title>Уж сколько раз твердили миру…</dc:title>
</cp:coreProperties>
</file>