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A6F-4E74-4D21-B97E-B2EE24BE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CE6-206A-43C8-A24C-44A13E21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698-E43C-46D2-89BA-6696494E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894-13A8-4A42-9F98-4766F608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BD8C-402E-482C-84B9-16728DD7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F7BC-C597-40E0-A31C-591356E8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0097-E9FB-4C8F-8423-A2B0F807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F6E3-F0F2-4931-AD71-7E4CD181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9228-F93B-4836-8A82-B4CEA10A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508C-3EEC-4F98-8C1B-20DF2191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169A-2687-41C4-9A73-20E8A41D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E3B-9067-4109-958F-BB06279C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931D-9AE2-4793-8611-E822D9F0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E475-53FE-4CE9-A43A-84134B8C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6E1D-AF8A-4A46-A3CF-270806A2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7223-3CD3-4E8C-AE9D-EBC8D0A3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6A25-F7C0-4E27-848B-EB9F0184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97D-ABBC-4B3A-8FC9-698DD1CB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D15-2661-4DC2-9C11-080D9468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428-9F03-4ADA-AD40-C5AE9570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D05-187D-4EFF-BC94-8A3F187F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915-BE87-4AC7-B168-454014C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B72-58D1-43DD-9EB2-B378ABD4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27F-4B04-4A48-B6C4-A6575468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F3CE-2F7B-4F54-96B4-C0AC47034B7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E17A-E91B-4A24-892E-2CA7F9B835B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426960"/>
            <a:ext cx="8229600" cy="2011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2565000"/>
            <a:ext cx="81435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10082"/>
                </a:solidFill>
                <a:latin typeface="Times New Roman"/>
              </a:rPr>
              <a:t>Обличение человеческих пороков в баснях И.А.Крылова</a:t>
            </a:r>
            <a:r>
              <a:rPr b="0" lang="ru-RU" sz="4400" spc="-1" strike="noStrike">
                <a:solidFill>
                  <a:srgbClr val="410082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3102120" cy="1371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3079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Случается нередко н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И труд и мудрость видеть та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Где стоит только догад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За дело просто взя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Содержимое 4" descr="list3_b.jpg"/>
          <p:cNvPicPr/>
          <p:nvPr/>
        </p:nvPicPr>
        <p:blipFill>
          <a:blip r:embed="rId2"/>
          <a:stretch/>
        </p:blipFill>
        <p:spPr>
          <a:xfrm>
            <a:off x="3701880" y="500040"/>
            <a:ext cx="51562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пробуйте перечислить, какие пороки человека высмеивает Крылов в басня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 «А Васька слушает …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 «Чтоб музыкантом быть, так надобн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3. «Хоть видит око, да зуб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4. «Ай, Моська, знать, она сильн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5. « Когда в товарищах согласья нет, на лад их дел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395280" y="620640"/>
            <a:ext cx="80391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"Закончи строчку из басни Крылова"</a:t>
            </a:r>
            <a:endParaRPr b="0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410082"/>
                </a:solidFill>
                <a:latin typeface="Times New Roman"/>
              </a:rPr>
              <a:t>«Из каких басен Крылова   взяты эти строчки?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WordArt 14"/>
          <p:cNvGrpSpPr/>
          <p:nvPr/>
        </p:nvGrpSpPr>
        <p:grpSpPr>
          <a:xfrm>
            <a:off x="438120" y="262080"/>
            <a:ext cx="8261280" cy="1170000"/>
            <a:chOff x="438120" y="262080"/>
            <a:chExt cx="8261280" cy="1170000"/>
          </a:xfrm>
        </p:grpSpPr>
        <p:pic>
          <p:nvPicPr>
            <p:cNvPr id="114" name="WordArt 1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38120" y="262080"/>
              <a:ext cx="82612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икторин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-4182840"/>
            <a:ext cx="7128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Уж сколько раз твердили миру, что лесть гнусна, вредна; но только всё не впрок, и в сердце льстец всегда отыщет уго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(«Ворона и         Лисица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9" descr="Рисунок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20" y="836640"/>
            <a:ext cx="471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464400"/>
            <a:ext cx="719280" cy="36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12000" y="620640"/>
            <a:ext cx="2890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Когда в товарищах согласья нет, на лад их дело не пойдёт и выйдет из него не дело, только му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Лебедь, Щука и Ра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1" descr="Рисунок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12880"/>
            <a:ext cx="6084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-3602880"/>
            <a:ext cx="7128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У сильного всегда бессильный винова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Волк и  Ягнёно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Рисунок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-4477320"/>
            <a:ext cx="9216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720" y="1413000"/>
            <a:ext cx="418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Попрыгунья Стрекоза лето красное пропела; оглянуться не успела, как зима катит в гла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Стрекоза и Муравей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Рисунок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49360"/>
            <a:ext cx="47005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-2005200"/>
            <a:ext cx="7164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Невежда так же в ослепленье бранит науки и ученье и все учёные труды, не чувствуя, что он вкушает их пл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Times New Roman"/>
              </a:rPr>
              <a:t>(«Свинья под дубом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9" descr="Фотка 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84280"/>
            <a:ext cx="4707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54960"/>
            <a:ext cx="946080" cy="31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87640" y="1341000"/>
            <a:ext cx="388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Голодная кума Лиса залезла в сад; в нём винограду кисти рдели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(«Лисица и виноград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Рисунок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4716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7640" y="44064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33112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Люблю, где случай есть, пороки пощипа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921e81"/>
                </a:solidFill>
                <a:latin typeface="Times New Roman"/>
              </a:rPr>
              <a:t>И.А.Кры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4" descr="Эггинк ИЕ.jpg"/>
          <p:cNvPicPr/>
          <p:nvPr/>
        </p:nvPicPr>
        <p:blipFill>
          <a:blip r:embed="rId1"/>
          <a:stretch/>
        </p:blipFill>
        <p:spPr>
          <a:xfrm>
            <a:off x="4143240" y="285840"/>
            <a:ext cx="44294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333360"/>
            <a:ext cx="8445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Басня  - это…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краткий стихотворный или прозаический рассказ нравоучительного характера, имеющий иносказательный, аллегорический смыс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Мораль – 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начальные или заключительные строки басни с нравоучительным выв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Аллегория – это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изображение предмета, за которым скрывается другое понятие или другой пред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0" y="92232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«Осёл и Солове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1811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Содержимое 4" descr="list5_b.jpg"/>
          <p:cNvPicPr/>
          <p:nvPr/>
        </p:nvPicPr>
        <p:blipFill>
          <a:blip r:embed="rId1"/>
          <a:stretch/>
        </p:blipFill>
        <p:spPr>
          <a:xfrm>
            <a:off x="4286160" y="714240"/>
            <a:ext cx="421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то было причиной появления басни «Осёл и Соловей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Над чем заставляет читателя смеяться баснописе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ем восхищались современни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Почему особенно важно было показать в басне красоту пения Соловья и восхищение слушател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11040" y="-23760"/>
            <a:ext cx="3432240" cy="1724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300816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…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Избави Бог и нас  от этаких суд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Содержимое 4" descr="krylov16.gif"/>
          <p:cNvPicPr/>
          <p:nvPr/>
        </p:nvPicPr>
        <p:blipFill>
          <a:blip r:embed="rId2"/>
          <a:stretch/>
        </p:blipFill>
        <p:spPr>
          <a:xfrm>
            <a:off x="4000680" y="285840"/>
            <a:ext cx="4643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328680" y="189000"/>
            <a:ext cx="3157560" cy="1457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Как вы объясните иллюстрацию художника К.Трутовского к басне «Листы и Корни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Почему там нет ни листов ни корн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4" descr="Тургенев 008.jpg"/>
          <p:cNvPicPr/>
          <p:nvPr/>
        </p:nvPicPr>
        <p:blipFill>
          <a:blip r:embed="rId2"/>
          <a:stretch/>
        </p:blipFill>
        <p:spPr>
          <a:xfrm>
            <a:off x="3714840" y="357120"/>
            <a:ext cx="5072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Что хотел сказать И.А.Крылов басней «Листы и Корни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В каких словах выражена мораль в этой басн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О каких жизненных ситуациях говорится в этих строк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281160" y="262080"/>
            <a:ext cx="3181320" cy="1481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Над чем смеётся баснописец в басне «Ларчик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Что изменилось бы в басне от перестановки ударения (на слове «просто» или «открывался»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Содержимое 4" descr="Тургенев.jpg"/>
          <p:cNvPicPr/>
          <p:nvPr/>
        </p:nvPicPr>
        <p:blipFill>
          <a:blip r:embed="rId2"/>
          <a:stretch/>
        </p:blipFill>
        <p:spPr>
          <a:xfrm>
            <a:off x="4143240" y="285840"/>
            <a:ext cx="46436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49:10Z</dcterms:created>
  <dc:creator>Kolpbushka333</dc:creator>
  <dc:description/>
  <dc:language>en-US</dc:language>
  <cp:lastModifiedBy>Asus</cp:lastModifiedBy>
  <dcterms:modified xsi:type="dcterms:W3CDTF">2022-02-08T14:40:37Z</dcterms:modified>
  <cp:revision>41</cp:revision>
  <dc:subject/>
  <dc:title>Урок литературы в 6 классе.</dc:title>
</cp:coreProperties>
</file>