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B14-290F-497E-AB79-19455EEF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7AE-E825-46F4-90F4-135FAA57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CE9-A17A-4C2C-A764-D9C5554C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279-7857-4C92-94EF-5749B005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E459-D660-4FBA-8E6D-9F0A130B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CD86-13D7-493F-81B2-451AEED7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5EBC-7030-4A2F-BA51-07B7EEB5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8969-BF60-4A26-98E1-1979EDB2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09EB-7390-4BB5-BC0E-06EB518C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2FC6-0165-4244-BB9C-EEEA537A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DEB5-319D-473F-BD34-AAADEBBF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1E9-1FBE-4C3E-9465-8A8AF616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92BF-36B1-4203-BB1B-A4025655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5E17-6944-49E5-8474-BB39005D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5D1C-2D3B-4448-9A4D-2209D6B2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41A1-DC6A-4841-B080-DEE55E9C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F3DB-0D6A-4E9B-9703-7D518BF9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D1D-ABEF-4244-B3FA-B4FB30CB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563-0543-421E-B54A-6AEB4E48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AE1-C3E8-488B-A9FF-8FF2A2F3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ACD-E5AB-41F3-A951-8EE43C6D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74A-20BF-453A-906F-36F505D9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89E-BAF2-4503-831A-BBEAB8B3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1DE-A0D2-4C88-A0B9-A9BADDED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5D68-6863-42C1-BCF7-07BCF0BC5E7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D645-42B4-41C0-81A2-EDAB301C3E6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426960"/>
            <a:ext cx="8229600" cy="2011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2565000"/>
            <a:ext cx="81435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10082"/>
                </a:solidFill>
                <a:latin typeface="Times New Roman"/>
              </a:rPr>
              <a:t>Обличение человеческих пороков в баснях И.А.Крылова</a:t>
            </a:r>
            <a:r>
              <a:rPr b="0" lang="ru-RU" sz="4400" spc="-1" strike="noStrike">
                <a:solidFill>
                  <a:srgbClr val="410082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360360" y="274680"/>
            <a:ext cx="3102120" cy="13716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3079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Случается нередко н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И труд и мудрость видеть та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Где стоит только догад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За дело просто взя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Содержимое 4" descr="list3_b.jpg"/>
          <p:cNvPicPr/>
          <p:nvPr/>
        </p:nvPicPr>
        <p:blipFill>
          <a:blip r:embed="rId2"/>
          <a:stretch/>
        </p:blipFill>
        <p:spPr>
          <a:xfrm>
            <a:off x="3701880" y="500040"/>
            <a:ext cx="51562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пробуйте перечислить, какие пороки человека высмеивает Крылов в басня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1. «А Васька слушает …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2. «Чтоб музыкантом быть, так надобно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3. «Хоть видит око, да зуб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4. «Ай, Моська, знать, она сильн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5. « Когда в товарищах согласья нет, на лад их дело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395280" y="620640"/>
            <a:ext cx="80391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"Закончи строчку из басни Крылова"</a:t>
            </a:r>
            <a:endParaRPr b="0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4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410082"/>
                </a:solidFill>
                <a:latin typeface="Times New Roman"/>
              </a:rPr>
              <a:t>«Из каких басен Крылова   взяты эти строчки?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WordArt 14"/>
          <p:cNvGrpSpPr/>
          <p:nvPr/>
        </p:nvGrpSpPr>
        <p:grpSpPr>
          <a:xfrm>
            <a:off x="438120" y="262080"/>
            <a:ext cx="8261280" cy="1170000"/>
            <a:chOff x="438120" y="262080"/>
            <a:chExt cx="8261280" cy="1170000"/>
          </a:xfrm>
        </p:grpSpPr>
        <p:pic>
          <p:nvPicPr>
            <p:cNvPr id="114" name="WordArt 14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38120" y="262080"/>
              <a:ext cx="82612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икторин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-4182840"/>
            <a:ext cx="7128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10082"/>
                </a:solidFill>
                <a:latin typeface="Arial"/>
              </a:rPr>
              <a:t>Уж сколько раз твердили миру, что лесть гнусна, вредна; но только всё не впрок, и в сердце льстец всегда отыщет угол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410082"/>
                </a:solidFill>
                <a:latin typeface="Arial"/>
              </a:rPr>
              <a:t>(«Ворона и         Лисица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9" descr="Рисунок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920" y="836640"/>
            <a:ext cx="471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464400"/>
            <a:ext cx="719280" cy="36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12000" y="620640"/>
            <a:ext cx="2890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Когда в товарищах согласья нет, на лад их дело не пойдёт и выйдет из него не дело, только му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Лебедь, Щука и Рак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1" descr="Рисунок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12880"/>
            <a:ext cx="60847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-3602880"/>
            <a:ext cx="71280" cy="91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10082"/>
                </a:solidFill>
                <a:latin typeface="Times New Roman"/>
              </a:rPr>
              <a:t>У сильного всегда бессильный винова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Волк и  Ягнёнок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Рисунок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-4477320"/>
            <a:ext cx="9216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720" y="1413000"/>
            <a:ext cx="418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Попрыгунья Стрекоза лето красное пропела; оглянуться не успела, как зима катит в гла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Стрекоза и Муравей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" descr="Рисунок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49360"/>
            <a:ext cx="47005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-2005200"/>
            <a:ext cx="71640" cy="91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Невежда так же в ослепленье бранит науки и ученье и все учёные труды, не чувствуя, что он вкушает их пл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10082"/>
                </a:solidFill>
                <a:latin typeface="Times New Roman"/>
              </a:rPr>
              <a:t>(«Свинья под дубом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9" descr="Фотка 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84280"/>
            <a:ext cx="4707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54960"/>
            <a:ext cx="946080" cy="31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87640" y="1341000"/>
            <a:ext cx="388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Arial"/>
              </a:rPr>
              <a:t>Голодная кума Лиса залезла в сад; в нём винограду кисти рдели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Arial"/>
              </a:rPr>
              <a:t>(«Лисица и виноград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Рисунок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4716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7640" y="440640"/>
            <a:ext cx="6984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33112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10082"/>
                </a:solidFill>
                <a:latin typeface="Times New Roman"/>
              </a:rPr>
              <a:t>Люблю, где случай есть, пороки пощипа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921e81"/>
                </a:solidFill>
                <a:latin typeface="Times New Roman"/>
              </a:rPr>
              <a:t>И.А.Кры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Содержимое 4" descr="Эггинк ИЕ.jpg"/>
          <p:cNvPicPr/>
          <p:nvPr/>
        </p:nvPicPr>
        <p:blipFill>
          <a:blip r:embed="rId1"/>
          <a:stretch/>
        </p:blipFill>
        <p:spPr>
          <a:xfrm>
            <a:off x="4143240" y="285840"/>
            <a:ext cx="44294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333360"/>
            <a:ext cx="8445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Басня  - это…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краткий стихотворный или прозаический рассказ нравоучительного характера, имеющий иносказательный, аллегорический смыс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Мораль – э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начальные или заключительные строки басни с нравоучительным выв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Аллегория – это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изображение предмета, за которым скрывается другое понятие или другой предм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0" y="922320"/>
            <a:ext cx="6984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«Осёл и Соловей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1811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Содержимое 4" descr="list5_b.jpg"/>
          <p:cNvPicPr/>
          <p:nvPr/>
        </p:nvPicPr>
        <p:blipFill>
          <a:blip r:embed="rId1"/>
          <a:stretch/>
        </p:blipFill>
        <p:spPr>
          <a:xfrm>
            <a:off x="4286160" y="714240"/>
            <a:ext cx="421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Что было причиной появления басни «Осёл и Соловей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Над чем заставляет читателя смеяться баснописе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Чем восхищались современни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Почему особенно важно было показать в басне красоту пения Соловья и восхищение слушател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11040" y="-23760"/>
            <a:ext cx="3432240" cy="1724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300816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…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Избави Бог и нас  от этаких суд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Содержимое 4" descr="krylov16.gif"/>
          <p:cNvPicPr/>
          <p:nvPr/>
        </p:nvPicPr>
        <p:blipFill>
          <a:blip r:embed="rId2"/>
          <a:stretch/>
        </p:blipFill>
        <p:spPr>
          <a:xfrm>
            <a:off x="4000680" y="285840"/>
            <a:ext cx="4643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328680" y="189000"/>
            <a:ext cx="3157560" cy="1457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Как вы объясните иллюстрацию художника К.Трутовского к басне «Листы и Корни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Почему там нет ни листов ни корн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4" descr="Тургенев 008.jpg"/>
          <p:cNvPicPr/>
          <p:nvPr/>
        </p:nvPicPr>
        <p:blipFill>
          <a:blip r:embed="rId2"/>
          <a:stretch/>
        </p:blipFill>
        <p:spPr>
          <a:xfrm>
            <a:off x="3714840" y="357120"/>
            <a:ext cx="5072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Что хотел сказать И.А.Крылов басней «Листы и Корни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В каких словах выражена мораль в этой басн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О каких жизненных ситуациях говорится в этих строк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281160" y="262080"/>
            <a:ext cx="3181320" cy="1481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1.Над чем смеётся баснописец в басне «Ларчик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2.Что изменилось бы в басне от перестановки ударения (на слове «просто» или «открывался»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Содержимое 4" descr="Тургенев.jpg"/>
          <p:cNvPicPr/>
          <p:nvPr/>
        </p:nvPicPr>
        <p:blipFill>
          <a:blip r:embed="rId2"/>
          <a:stretch/>
        </p:blipFill>
        <p:spPr>
          <a:xfrm>
            <a:off x="4143240" y="285840"/>
            <a:ext cx="46436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49:10Z</dcterms:created>
  <dc:creator>Kolpbushka333</dc:creator>
  <dc:description/>
  <dc:language>en-US</dc:language>
  <cp:lastModifiedBy>Asus</cp:lastModifiedBy>
  <dcterms:modified xsi:type="dcterms:W3CDTF">2022-02-08T14:40:37Z</dcterms:modified>
  <cp:revision>41</cp:revision>
  <dc:subject/>
  <dc:title>Урок литературы в 6 классе.</dc:title>
</cp:coreProperties>
</file>