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E41-3B86-443F-8C08-C32BEF64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E76-4999-4023-B0F9-10A6CF92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009-0AE8-4E8F-9B4F-0FE788F2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C9A-8941-43EB-936D-9BFB673E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274-7D13-40AD-AE29-44C3638D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478-4709-44E3-9944-3412AF6F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B09-6645-476C-B982-2765B61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FA0-3357-4C03-B2B3-61446E1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7CE-BB13-423C-9491-E6C40034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098-F302-4130-B77F-137C237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5D0-1597-42CD-AA97-3EC36906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25F-F5F0-4F6A-9549-14DCC10D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2C5B-F2AC-453D-B388-F61CDDC4B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3352680" y="103824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Басни И.А.Кры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lit41-08"/>
          <p:cNvPicPr/>
          <p:nvPr/>
        </p:nvPicPr>
        <p:blipFill>
          <a:blip r:embed="rId2"/>
          <a:stretch/>
        </p:blipFill>
        <p:spPr>
          <a:xfrm>
            <a:off x="304920" y="45720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p0023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анр басни в творчестве И.А.Кры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05120"/>
            <a:ext cx="91440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ую басню написал в 11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ились книги басен огромными по тем временам тиражами, переиздавались каждые 3 – 4 года. В первом сборнике было 20 басен, в последнем – почти 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образие басен Крылова в том, что он не просто обличал человеческие пороки, но именно те, которые есть в русских людях. Его герои – типичные для своего времени (т.е. часто встречающие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басни написаны о каком-то реальном историческом событии, например об Отечественной войне 18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ь языка басен Крылова – использование разговорной лекс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чки разной длины, что помогает передать разговорну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72-10-1"/>
          <p:cNvPicPr/>
          <p:nvPr/>
        </p:nvPicPr>
        <p:blipFill>
          <a:blip r:embed="rId2"/>
          <a:stretch/>
        </p:blipFill>
        <p:spPr>
          <a:xfrm>
            <a:off x="4419720" y="8380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52280" y="2438280"/>
            <a:ext cx="4114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т пуще прежнего пошли у них раз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спо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му и как с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лучилось соловью на шум их прилете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600200" y="152280"/>
            <a:ext cx="64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 каких басен стро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082753"/>
          <p:cNvPicPr/>
          <p:nvPr/>
        </p:nvPicPr>
        <p:blipFill>
          <a:blip r:embed="rId2"/>
          <a:stretch/>
        </p:blipFill>
        <p:spPr>
          <a:xfrm>
            <a:off x="380880" y="609480"/>
            <a:ext cx="4267440" cy="5867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784760" y="1752480"/>
            <a:ext cx="4359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 несчастью, то ж бывает у люд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ни полезна вещь,- цены не зная 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ежда про неё свой толк всё к худу клон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ежели невежда познат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он её ещё и гон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kanevskij007"/>
          <p:cNvPicPr/>
          <p:nvPr/>
        </p:nvPicPr>
        <p:blipFill>
          <a:blip r:embed="rId2"/>
          <a:stretch/>
        </p:blipFill>
        <p:spPr>
          <a:xfrm>
            <a:off x="304920" y="1752480"/>
            <a:ext cx="8458200" cy="4724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93640" y="228600"/>
            <a:ext cx="656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Соседушка, мой св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жалуйста, покушай.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Соседушка, я сыт по горло. – «Нужды н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щё тарелочку; послуша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шица, ей-же-ей, на славу сварен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g291"/>
          <p:cNvPicPr/>
          <p:nvPr/>
        </p:nvPicPr>
        <p:blipFill>
          <a:blip r:embed="rId2"/>
          <a:stretch/>
        </p:blipFill>
        <p:spPr>
          <a:xfrm>
            <a:off x="152280" y="380880"/>
            <a:ext cx="472464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5029200" y="1135080"/>
            <a:ext cx="41148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олубушка, как хорош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 что за шейка, что за глаз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казывать, так, право сказ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пёрушки! какой нос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верно, ангельский быть должен голос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й, светик, не стыдись! Что, ежели, сестр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красоту такой и петь ты мастерица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ь ты б у нас была царь-птиц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6 003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5181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304920" y="228600"/>
            <a:ext cx="8001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Как смеешь ты, наглец, нечистым ры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десь чистое мутить питьё моё с песком и с ил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 дерзость такову я голову с тебя сорву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ox02"/>
          <p:cNvPicPr/>
          <p:nvPr/>
        </p:nvPicPr>
        <p:blipFill>
          <a:blip r:embed="rId2"/>
          <a:stretch/>
        </p:blipFill>
        <p:spPr>
          <a:xfrm>
            <a:off x="228600" y="609480"/>
            <a:ext cx="487692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5334120" y="16765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оть видит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 зуб нейм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krylov04"/>
          <p:cNvPicPr/>
          <p:nvPr/>
        </p:nvPicPr>
        <p:blipFill>
          <a:blip r:embed="rId2"/>
          <a:stretch/>
        </p:blipFill>
        <p:spPr>
          <a:xfrm>
            <a:off x="5105520" y="914400"/>
            <a:ext cx="3809880" cy="5505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0" y="1981080"/>
            <a:ext cx="52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дарная! – промолвил Дуб ей тут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бы вверх могла поднять ты р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бе бы видно б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эти жёлуди на мне расту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krylov05"/>
          <p:cNvPicPr/>
          <p:nvPr/>
        </p:nvPicPr>
        <p:blipFill>
          <a:blip r:embed="rId2"/>
          <a:stretch/>
        </p:blipFill>
        <p:spPr>
          <a:xfrm>
            <a:off x="228600" y="1066680"/>
            <a:ext cx="3809880" cy="5048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267080" y="2209680"/>
            <a:ext cx="504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Смотри-ка, говорит,- кум милый м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 там за ро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ие у неё ужимки и прыж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Я удавилась бы с то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гда бы на неё хоть чуть была похож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Lebi"/>
          <p:cNvPicPr/>
          <p:nvPr/>
        </p:nvPicPr>
        <p:blipFill>
          <a:blip r:embed="rId2"/>
          <a:stretch/>
        </p:blipFill>
        <p:spPr>
          <a:xfrm>
            <a:off x="304920" y="198108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21932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Басни И.А.Кры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mg291"/>
          <p:cNvPicPr/>
          <p:nvPr/>
        </p:nvPicPr>
        <p:blipFill>
          <a:blip r:embed="rId3"/>
          <a:stretch/>
        </p:blipFill>
        <p:spPr>
          <a:xfrm>
            <a:off x="3124080" y="3429000"/>
            <a:ext cx="2895840" cy="318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g024"/>
          <p:cNvPicPr/>
          <p:nvPr/>
        </p:nvPicPr>
        <p:blipFill>
          <a:blip r:embed="rId4"/>
          <a:stretch/>
        </p:blipFill>
        <p:spPr>
          <a:xfrm>
            <a:off x="3276720" y="1371600"/>
            <a:ext cx="2447640" cy="18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mg293"/>
          <p:cNvPicPr/>
          <p:nvPr/>
        </p:nvPicPr>
        <p:blipFill>
          <a:blip r:embed="rId5"/>
          <a:stretch/>
        </p:blipFill>
        <p:spPr>
          <a:xfrm>
            <a:off x="6477120" y="2133720"/>
            <a:ext cx="2438280" cy="28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krylov08"/>
          <p:cNvPicPr/>
          <p:nvPr/>
        </p:nvPicPr>
        <p:blipFill>
          <a:blip r:embed="rId2"/>
          <a:stretch/>
        </p:blipFill>
        <p:spPr>
          <a:xfrm>
            <a:off x="304920" y="53352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784760" y="2057400"/>
            <a:ext cx="435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Не оставь меня, кум  мил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й ты мне собраться с с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до вешних только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корми и обогре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krylov03"/>
          <p:cNvPicPr/>
          <p:nvPr/>
        </p:nvPicPr>
        <p:blipFill>
          <a:blip r:embed="rId2"/>
          <a:stretch/>
        </p:blipFill>
        <p:spPr>
          <a:xfrm>
            <a:off x="457200" y="114300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267080" y="2666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что же, не боясь гр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укушка хвалит петух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то, что хвалит он Куку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какой басни мор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artlib_gallery-81035-s"/>
          <p:cNvPicPr/>
          <p:nvPr/>
        </p:nvPicPr>
        <p:blipFill>
          <a:blip r:embed="rId2"/>
          <a:stretch/>
        </p:blipFill>
        <p:spPr>
          <a:xfrm>
            <a:off x="304920" y="533520"/>
            <a:ext cx="4876560" cy="5790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181480" y="136368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то виноват из них, кто прав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удить не н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 только воз и ныне 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%C8%EB%EB%FE%F1%F2%F0%E0%F6%E8%FF%20%EA%20%E1%E0%F1%ED%E5%20%CA%F0%FB%EB%EE%E2%E0%20%C2%EE%F0%EE%ED%E0%20%E8%20%EB%E8%F1%E8%F6%E0"/>
          <p:cNvPicPr/>
          <p:nvPr/>
        </p:nvPicPr>
        <p:blipFill>
          <a:blip r:embed="rId2"/>
          <a:stretch/>
        </p:blipFill>
        <p:spPr>
          <a:xfrm>
            <a:off x="609480" y="2286000"/>
            <a:ext cx="3429000" cy="427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fox03"/>
          <p:cNvPicPr/>
          <p:nvPr/>
        </p:nvPicPr>
        <p:blipFill>
          <a:blip r:embed="rId3"/>
          <a:stretch/>
        </p:blipFill>
        <p:spPr>
          <a:xfrm>
            <a:off x="5181480" y="22860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838080" y="525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ж сколько раз твердили мир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лесть гнусна, вредна; но только всё не вп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сердце льстец всегда отыщет уго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6 003"/>
          <p:cNvPicPr/>
          <p:nvPr/>
        </p:nvPicPr>
        <p:blipFill>
          <a:blip r:embed="rId2"/>
          <a:stretch/>
        </p:blipFill>
        <p:spPr>
          <a:xfrm>
            <a:off x="762120" y="2449440"/>
            <a:ext cx="7619760" cy="4256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80880" y="37296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 сильного всегда бессильный винов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му в Истории мы тьму примеров слыш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мы Истории не пиш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вот о том как в баснях говор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9"/>
          <p:cNvPicPr/>
          <p:nvPr/>
        </p:nvPicPr>
        <p:blipFill>
          <a:blip r:embed="rId2"/>
          <a:stretch/>
        </p:blipFill>
        <p:spPr>
          <a:xfrm>
            <a:off x="2057400" y="1066680"/>
            <a:ext cx="49528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62120" y="417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збави, бог, и нас от этаких су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limon2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8 001"/>
          <p:cNvPicPr/>
          <p:nvPr/>
        </p:nvPicPr>
        <p:blipFill>
          <a:blip r:embed="rId2"/>
          <a:stretch/>
        </p:blipFill>
        <p:spPr>
          <a:xfrm>
            <a:off x="0" y="609480"/>
            <a:ext cx="44197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4952880" y="2170080"/>
            <a:ext cx="38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ж сколько раз твердили мир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лесть гнусна, вред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только всё не вп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сердце льстец всегда отыщет уго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krylov06"/>
          <p:cNvPicPr/>
          <p:nvPr/>
        </p:nvPicPr>
        <p:blipFill>
          <a:blip r:embed="rId2"/>
          <a:stretch/>
        </p:blipFill>
        <p:spPr>
          <a:xfrm>
            <a:off x="5105520" y="609480"/>
            <a:ext cx="3809880" cy="5867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04920" y="236232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гда в товарищах согласья н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лад их дело не пойд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ыйдет из него не дело, только м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kanevskij004"/>
          <p:cNvPicPr/>
          <p:nvPr/>
        </p:nvPicPr>
        <p:blipFill>
          <a:blip r:embed="rId2"/>
          <a:stretch/>
        </p:blipFill>
        <p:spPr>
          <a:xfrm>
            <a:off x="228600" y="533520"/>
            <a:ext cx="4114800" cy="6019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4419720" y="2438280"/>
            <a:ext cx="441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я бы повару и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лел на стенке заруб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там речей не трат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-пус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де нужно власть употреб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7_sm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4191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762120" y="533520"/>
            <a:ext cx="698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всё пела? Это де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 поди же, попля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0"/>
          <p:cNvPicPr/>
          <p:nvPr/>
        </p:nvPicPr>
        <p:blipFill>
          <a:blip r:embed="rId2"/>
          <a:stretch/>
        </p:blipFill>
        <p:spPr>
          <a:xfrm>
            <a:off x="152280" y="1219320"/>
            <a:ext cx="4038840" cy="518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267080" y="175248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не слыхал его живого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в жизни с ним не встретился сво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ссмертные творения 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 с каждым годом любим всё силь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. Иса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img024"/>
          <p:cNvPicPr/>
          <p:nvPr/>
        </p:nvPicPr>
        <p:blipFill>
          <a:blip r:embed="rId2"/>
          <a:stretch/>
        </p:blipFill>
        <p:spPr>
          <a:xfrm>
            <a:off x="838080" y="2057400"/>
            <a:ext cx="701064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762120" y="152280"/>
            <a:ext cx="7010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ежда так же в ослепл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ранит науки и учен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се учёные труд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чувствуя, что он вкушает их пл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8"/>
          <p:cNvPicPr/>
          <p:nvPr/>
        </p:nvPicPr>
        <p:blipFill>
          <a:blip r:embed="rId2"/>
          <a:stretch/>
        </p:blipFill>
        <p:spPr>
          <a:xfrm>
            <a:off x="228600" y="81000"/>
            <a:ext cx="4886280" cy="6777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5181480" y="1371600"/>
            <a:ext cx="4419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х, эх!- ей Моська отвечает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т то-то мне и духу прида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 я, совсем без дра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гу попасть в большие заби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ускай же говорят соба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Ай, Моська! знать она силь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 лает на слона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7"/>
          <p:cNvPicPr/>
          <p:nvPr/>
        </p:nvPicPr>
        <p:blipFill>
          <a:blip r:embed="rId2"/>
          <a:stretch/>
        </p:blipFill>
        <p:spPr>
          <a:xfrm>
            <a:off x="152280" y="304920"/>
            <a:ext cx="4419720" cy="6324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4572000" y="1752480"/>
            <a:ext cx="482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ушай-ка, сосед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ут ловчий перервал в ответ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 сер, а я, приятель, с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волчью вашу я давно натуру зна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потому обычай 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 волками иначе не делать мир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 снявши шкуру с них долой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тут же выпустил на Волка гончих с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6 004"/>
          <p:cNvPicPr/>
          <p:nvPr/>
        </p:nvPicPr>
        <p:blipFill>
          <a:blip r:embed="rId2"/>
          <a:stretch/>
        </p:blipFill>
        <p:spPr>
          <a:xfrm>
            <a:off x="228600" y="0"/>
            <a:ext cx="5029200" cy="6838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5257800" y="1523880"/>
            <a:ext cx="36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Чтоб музыкантом бы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надобно ум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уши ваших понежней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 отвечает Соловей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вы, друзья, как ни сади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ё в музыканты не годитес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krylov1"/>
          <p:cNvPicPr/>
          <p:nvPr/>
        </p:nvPicPr>
        <p:blipFill>
          <a:blip r:embed="rId2"/>
          <a:stretch/>
        </p:blipFill>
        <p:spPr>
          <a:xfrm>
            <a:off x="152280" y="762120"/>
            <a:ext cx="449604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4800600" y="914400"/>
            <a:ext cx="4343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.А.Крылов возвёл русскую басню в оригинально-классическое достоинство. Невозможно дать большего простодушия рассказу, большей народности языку, большей осязаемости нравоучению. В каждом его стихе виден русский здравый ум. Он похож природою описаний на Лафонтена, но имеет свой особый характер: его каждая басня – сатира, тем сильнейшая, чем она коротка и рассказана с видом простодуш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Бестуж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ая ба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916280"/>
            <a:ext cx="439272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нр басни полюбили русские поэ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е  басни писал ещё в XVII веке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Симеон Полоц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-й половине XVIII века басни писал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. Д. Кантеми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       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. К. Тредиако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жанра басни в России относится к середине XVIII — началу XIX веков и связано с именам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. П. Сумарок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И. И. Хемниц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. Е. Измай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И. И. Дмитри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А"/>
          <p:cNvPicPr/>
          <p:nvPr/>
        </p:nvPicPr>
        <p:blipFill>
          <a:blip r:embed="rId2"/>
          <a:stretch/>
        </p:blipFill>
        <p:spPr>
          <a:xfrm>
            <a:off x="6732720" y="2349360"/>
            <a:ext cx="17524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Тредиаковскмй"/>
          <p:cNvPicPr/>
          <p:nvPr/>
        </p:nvPicPr>
        <p:blipFill>
          <a:blip r:embed="rId3"/>
          <a:stretch/>
        </p:blipFill>
        <p:spPr>
          <a:xfrm>
            <a:off x="4572000" y="1484280"/>
            <a:ext cx="1671480" cy="215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04972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427640" y="364500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ий Кирилл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диако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696000" y="4437000"/>
            <a:ext cx="244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Петрович Сума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Дмитриев"/>
          <p:cNvPicPr/>
          <p:nvPr/>
        </p:nvPicPr>
        <p:blipFill>
          <a:blip r:embed="rId4"/>
          <a:stretch/>
        </p:blipFill>
        <p:spPr>
          <a:xfrm>
            <a:off x="4716360" y="4508640"/>
            <a:ext cx="1554120" cy="2016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2"/>
          <p:cNvSpPr/>
          <p:nvPr/>
        </p:nvSpPr>
        <p:spPr>
          <a:xfrm>
            <a:off x="6372360" y="5877000"/>
            <a:ext cx="1944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 Иванович Дмитри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10_32"/>
          <p:cNvPicPr/>
          <p:nvPr/>
        </p:nvPicPr>
        <p:blipFill>
          <a:blip r:embed="rId2"/>
          <a:stretch/>
        </p:blipFill>
        <p:spPr>
          <a:xfrm>
            <a:off x="228600" y="762120"/>
            <a:ext cx="4343400" cy="5333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572000" y="15228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Андреевич Крылов родился в 1769 году в Москве в семье скромного армейского офицера. Через несколько лет семья переехала в Тверь. После смерти отца в 1778 г Крылову пришлось поступить на службу в магистрат, чтобы поддерживать семью. Служба познакомила его с мрачными нравами провинциального суда, злоупотреблениями и взяточничеством чиновников. В 1783 г семья переезжает в Петербург, где Крылов 4 года прослужил в Казённой палате. В Петербурге он увлёкся театром, стал писать комедии. С 1794 по 1802 год опальный писатель скитался по провинции, был секретарём князя Голицына. В 1804 году вернулся в Москву. В 1806 в журнале «Московский зритель» он помещает несколько басен, которые принесли ему успех. Это определило его дальнейши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55786"/>
          <p:cNvPicPr/>
          <p:nvPr/>
        </p:nvPicPr>
        <p:blipFill>
          <a:blip r:embed="rId2"/>
          <a:stretch/>
        </p:blipFill>
        <p:spPr>
          <a:xfrm>
            <a:off x="228600" y="533520"/>
            <a:ext cx="434340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800600" y="685800"/>
            <a:ext cx="4114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12 году Крылов поступил на службу в Публичную библиотеку, где прослужил библиотекарем более 30 лет. Одновременно со службой он работал над созданием своих басен, через каждые 2-3 года подготавливая новые книги. В 1838 году литературная общественность отметила 50-летие его литературной деятельности. В 1841 году Крылов вышел в отставку и поселился на Васильевском острове. Умер И.А.Крылов в 1844году. «Дедушкой Крыловым» назвал народ  своего баснопис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ник Крыло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24000" y="1447920"/>
            <a:ext cx="48956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анкт-Петербурге, в Летнем саду, стоит памятник великому баснописцу. Крылов изображён сидящим в кресле, . Постамент памятника украшен фигурами героев его басен. До этого ни одному писателю памятников не сооружалось. Средства на него собирал весь народ. Устроили конкурс на лучший проект памятника. В конкурсе победил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ётр Карлович Клод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н работал над памятником вместе с художникам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Карлом Брюлло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лександром Аги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умайте, почему Крылов был удостоен такой че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krilov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518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же такое басн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50920" y="2819520"/>
            <a:ext cx="88930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большой рассказ, часто стихотво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ится на 2 ч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повествование и мораль (нравоучительный вывод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легория (иносказание; изображение предмета, за которым скрывается другой предмет или челов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цетворение (о неодушевленных  предметах  говорится, как об одушевлён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жи (герои) – 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лог (разговор двух или более геро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ор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9520" y="1592280"/>
            <a:ext cx="81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сня 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то краткий стихотворный или прозаический рассказ нравоучительного характера, имеющий иносказательный аллегорический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limon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p00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29T15:20:2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