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570-CFAD-460E-8161-31A6889E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0AD-5FFC-4CE6-9098-DFE6C4C3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372-A182-4BC4-9557-7518B217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549D-58FD-4830-AB04-7E608FC8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361-10E4-4412-984C-64D8AE00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9FC-53E8-411E-AAC1-DC4C42CB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A95-1243-4A06-AE53-D03365DA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D95-630B-487D-83B4-88D2DD8C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CA6-7993-428F-9312-36B5EDF1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790-C611-4DF3-8DCD-74998864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DFE-E74A-4478-8D8A-BD6B8DA9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0B6-2B6F-41D9-9B6A-332BDF54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70A0-2CE7-4B71-A08C-FE365A3D2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3352680" y="1038240"/>
            <a:ext cx="54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Басни И.А.Кры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lit41-08"/>
          <p:cNvPicPr/>
          <p:nvPr/>
        </p:nvPicPr>
        <p:blipFill>
          <a:blip r:embed="rId2"/>
          <a:stretch/>
        </p:blipFill>
        <p:spPr>
          <a:xfrm>
            <a:off x="304920" y="45720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p0023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Жанр басни в творчестве И.А.Кры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1905120"/>
            <a:ext cx="914400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ую басню написал в 11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ились книги басен огромными по тем временам тиражами, переиздавались каждые 3 – 4 года. В первом сборнике было 20 басен, в последнем – почти 2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образие басен Крылова в том, что он не просто обличал человеческие пороки, но именно те, которые есть в русских людях. Его герои – типичные для своего времени (т.е. часто встречающие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басни написаны о каком-то реальном историческом событии, например об Отечественной войне 181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ь языка басен Крылова – использование разговорной лекс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чки разной длины, что помогает передать разговорную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72-10-1"/>
          <p:cNvPicPr/>
          <p:nvPr/>
        </p:nvPicPr>
        <p:blipFill>
          <a:blip r:embed="rId2"/>
          <a:stretch/>
        </p:blipFill>
        <p:spPr>
          <a:xfrm>
            <a:off x="4419720" y="838080"/>
            <a:ext cx="4572000" cy="5791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152280" y="2438280"/>
            <a:ext cx="4114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от пуще прежнего пошли у них разб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спо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ому и как сид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лучилось соловью на шум их прилете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600200" y="152280"/>
            <a:ext cx="642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з каких басен стро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082753"/>
          <p:cNvPicPr/>
          <p:nvPr/>
        </p:nvPicPr>
        <p:blipFill>
          <a:blip r:embed="rId2"/>
          <a:stretch/>
        </p:blipFill>
        <p:spPr>
          <a:xfrm>
            <a:off x="380880" y="609480"/>
            <a:ext cx="4267440" cy="5867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4784760" y="1752480"/>
            <a:ext cx="4359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 несчастью, то ж бывает у люд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ни полезна вещь,- цены не зная 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вежда про неё свой толк всё к худу клон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ежели невежда познат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он её ещё и гон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kanevskij007"/>
          <p:cNvPicPr/>
          <p:nvPr/>
        </p:nvPicPr>
        <p:blipFill>
          <a:blip r:embed="rId2"/>
          <a:stretch/>
        </p:blipFill>
        <p:spPr>
          <a:xfrm>
            <a:off x="304920" y="1752480"/>
            <a:ext cx="8458200" cy="4724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593640" y="228600"/>
            <a:ext cx="6569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«Соседушка, мой св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жалуйста, покушай.»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«Соседушка, я сыт по горло. – «Нужды н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щё тарелочку; послуша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шица, ей-же-ей, на славу сварена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img291"/>
          <p:cNvPicPr/>
          <p:nvPr/>
        </p:nvPicPr>
        <p:blipFill>
          <a:blip r:embed="rId2"/>
          <a:stretch/>
        </p:blipFill>
        <p:spPr>
          <a:xfrm>
            <a:off x="152280" y="380880"/>
            <a:ext cx="4724640" cy="6172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5029200" y="1135080"/>
            <a:ext cx="41148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Голубушка, как хорош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 что за шейка, что за глаз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казывать, так, право сказ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е пёрушки! какой нос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, верно, ангельский быть должен голос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й, светик, не стыдись! Что, ежели, сестр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красоту такой и петь ты мастерица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дь ты б у нас была царь-птиц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6 003"/>
          <p:cNvPicPr/>
          <p:nvPr/>
        </p:nvPicPr>
        <p:blipFill>
          <a:blip r:embed="rId2"/>
          <a:stretch/>
        </p:blipFill>
        <p:spPr>
          <a:xfrm>
            <a:off x="609480" y="1676520"/>
            <a:ext cx="7848720" cy="51814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304920" y="228600"/>
            <a:ext cx="8001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«Как смеешь ты, наглец, нечистым ры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десь чистое мутить питьё моё с песком и с ил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 дерзость такову я голову с тебя сорву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fox02"/>
          <p:cNvPicPr/>
          <p:nvPr/>
        </p:nvPicPr>
        <p:blipFill>
          <a:blip r:embed="rId2"/>
          <a:stretch/>
        </p:blipFill>
        <p:spPr>
          <a:xfrm>
            <a:off x="228600" y="609480"/>
            <a:ext cx="4876920" cy="5715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5334120" y="16765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Хоть видит о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а зуб нейм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krylov04"/>
          <p:cNvPicPr/>
          <p:nvPr/>
        </p:nvPicPr>
        <p:blipFill>
          <a:blip r:embed="rId2"/>
          <a:stretch/>
        </p:blipFill>
        <p:spPr>
          <a:xfrm>
            <a:off x="5105520" y="914400"/>
            <a:ext cx="3809880" cy="5505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0" y="1981080"/>
            <a:ext cx="52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лагодарная! – промолвил Дуб ей тут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гда бы вверх могла поднять ты ры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бе бы видно бы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эти жёлуди на мне растут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krylov05"/>
          <p:cNvPicPr/>
          <p:nvPr/>
        </p:nvPicPr>
        <p:blipFill>
          <a:blip r:embed="rId2"/>
          <a:stretch/>
        </p:blipFill>
        <p:spPr>
          <a:xfrm>
            <a:off x="228600" y="1066680"/>
            <a:ext cx="3809880" cy="5048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267080" y="2209680"/>
            <a:ext cx="504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«Смотри-ка, говорит,- кум милый м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то там за рож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кие у неё ужимки и прыж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Я удавилась бы с тос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огда бы на неё хоть чуть была похожа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Lebi"/>
          <p:cNvPicPr/>
          <p:nvPr/>
        </p:nvPicPr>
        <p:blipFill>
          <a:blip r:embed="rId2"/>
          <a:stretch/>
        </p:blipFill>
        <p:spPr>
          <a:xfrm>
            <a:off x="304920" y="1981080"/>
            <a:ext cx="2514600" cy="2971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121932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Басни И.А.Кры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mg291"/>
          <p:cNvPicPr/>
          <p:nvPr/>
        </p:nvPicPr>
        <p:blipFill>
          <a:blip r:embed="rId3"/>
          <a:stretch/>
        </p:blipFill>
        <p:spPr>
          <a:xfrm>
            <a:off x="3124080" y="3429000"/>
            <a:ext cx="2895840" cy="3189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img024"/>
          <p:cNvPicPr/>
          <p:nvPr/>
        </p:nvPicPr>
        <p:blipFill>
          <a:blip r:embed="rId4"/>
          <a:stretch/>
        </p:blipFill>
        <p:spPr>
          <a:xfrm>
            <a:off x="3276720" y="1371600"/>
            <a:ext cx="2447640" cy="185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img293"/>
          <p:cNvPicPr/>
          <p:nvPr/>
        </p:nvPicPr>
        <p:blipFill>
          <a:blip r:embed="rId5"/>
          <a:stretch/>
        </p:blipFill>
        <p:spPr>
          <a:xfrm>
            <a:off x="6477120" y="2133720"/>
            <a:ext cx="2438280" cy="281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krylov08"/>
          <p:cNvPicPr/>
          <p:nvPr/>
        </p:nvPicPr>
        <p:blipFill>
          <a:blip r:embed="rId2"/>
          <a:stretch/>
        </p:blipFill>
        <p:spPr>
          <a:xfrm>
            <a:off x="304920" y="533520"/>
            <a:ext cx="4343400" cy="5943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4784760" y="2057400"/>
            <a:ext cx="4359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«Не оставь меня, кум  мил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ай ты мне собраться с си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до вешних только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корми и обогрей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krylov03"/>
          <p:cNvPicPr/>
          <p:nvPr/>
        </p:nvPicPr>
        <p:blipFill>
          <a:blip r:embed="rId2"/>
          <a:stretch/>
        </p:blipFill>
        <p:spPr>
          <a:xfrm>
            <a:off x="457200" y="1143000"/>
            <a:ext cx="3809880" cy="5029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4267080" y="26668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 что же, не боясь грех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укушка хвалит петуха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 то, что хвалит он Кукуш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 какой басни мора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artlib_gallery-81035-s"/>
          <p:cNvPicPr/>
          <p:nvPr/>
        </p:nvPicPr>
        <p:blipFill>
          <a:blip r:embed="rId2"/>
          <a:stretch/>
        </p:blipFill>
        <p:spPr>
          <a:xfrm>
            <a:off x="304920" y="533520"/>
            <a:ext cx="4876560" cy="57909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5181480" y="136368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то виноват из них, кто прав,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удить не н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а только воз и ныне 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%C8%EB%EB%FE%F1%F2%F0%E0%F6%E8%FF%20%EA%20%E1%E0%F1%ED%E5%20%CA%F0%FB%EB%EE%E2%E0%20%C2%EE%F0%EE%ED%E0%20%E8%20%EB%E8%F1%E8%F6%E0"/>
          <p:cNvPicPr/>
          <p:nvPr/>
        </p:nvPicPr>
        <p:blipFill>
          <a:blip r:embed="rId2"/>
          <a:stretch/>
        </p:blipFill>
        <p:spPr>
          <a:xfrm>
            <a:off x="609480" y="2286000"/>
            <a:ext cx="3429000" cy="4276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fox03"/>
          <p:cNvPicPr/>
          <p:nvPr/>
        </p:nvPicPr>
        <p:blipFill>
          <a:blip r:embed="rId3"/>
          <a:stretch/>
        </p:blipFill>
        <p:spPr>
          <a:xfrm>
            <a:off x="5181480" y="228600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838080" y="525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ж сколько раз твердили мир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лесть гнусна, вредна; но только всё не впр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сердце льстец всегда отыщет уго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6 003"/>
          <p:cNvPicPr/>
          <p:nvPr/>
        </p:nvPicPr>
        <p:blipFill>
          <a:blip r:embed="rId2"/>
          <a:stretch/>
        </p:blipFill>
        <p:spPr>
          <a:xfrm>
            <a:off x="762120" y="2449440"/>
            <a:ext cx="7619760" cy="42562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80880" y="37296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 сильного всегда бессильный винов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му в Истории мы тьму примеров слыш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о мы Истории не пиш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вот о том как в баснях говор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9"/>
          <p:cNvPicPr/>
          <p:nvPr/>
        </p:nvPicPr>
        <p:blipFill>
          <a:blip r:embed="rId2"/>
          <a:stretch/>
        </p:blipFill>
        <p:spPr>
          <a:xfrm>
            <a:off x="2057400" y="1066680"/>
            <a:ext cx="4952880" cy="5562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62120" y="417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збави, бог, и нас от этаких су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limon25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8 001"/>
          <p:cNvPicPr/>
          <p:nvPr/>
        </p:nvPicPr>
        <p:blipFill>
          <a:blip r:embed="rId2"/>
          <a:stretch/>
        </p:blipFill>
        <p:spPr>
          <a:xfrm>
            <a:off x="0" y="609480"/>
            <a:ext cx="4419720" cy="57913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4952880" y="2170080"/>
            <a:ext cx="3886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ж сколько раз твердили мир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лесть гнусна, вред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о только всё не впр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сердце льстец всегда отыщет уго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krylov06"/>
          <p:cNvPicPr/>
          <p:nvPr/>
        </p:nvPicPr>
        <p:blipFill>
          <a:blip r:embed="rId2"/>
          <a:stretch/>
        </p:blipFill>
        <p:spPr>
          <a:xfrm>
            <a:off x="5105520" y="609480"/>
            <a:ext cx="3809880" cy="5867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04920" y="2362320"/>
            <a:ext cx="472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гда в товарищах согласья н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лад их дело не пойдё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ыйдет из него не дело, только м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kanevskij004"/>
          <p:cNvPicPr/>
          <p:nvPr/>
        </p:nvPicPr>
        <p:blipFill>
          <a:blip r:embed="rId2"/>
          <a:stretch/>
        </p:blipFill>
        <p:spPr>
          <a:xfrm>
            <a:off x="228600" y="533520"/>
            <a:ext cx="4114800" cy="60195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4419720" y="2438280"/>
            <a:ext cx="441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я бы повару и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лел на стенке заруб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б там речей не трат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-пусто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де нужно власть употреб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7_sm"/>
          <p:cNvPicPr/>
          <p:nvPr/>
        </p:nvPicPr>
        <p:blipFill>
          <a:blip r:embed="rId2"/>
          <a:stretch/>
        </p:blipFill>
        <p:spPr>
          <a:xfrm>
            <a:off x="1219320" y="2057400"/>
            <a:ext cx="6553080" cy="41911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762120" y="533520"/>
            <a:ext cx="698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ы всё пела? Это де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к поди же, попляш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10"/>
          <p:cNvPicPr/>
          <p:nvPr/>
        </p:nvPicPr>
        <p:blipFill>
          <a:blip r:embed="rId2"/>
          <a:stretch/>
        </p:blipFill>
        <p:spPr>
          <a:xfrm>
            <a:off x="152280" y="1219320"/>
            <a:ext cx="4038840" cy="5181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4267080" y="1752480"/>
            <a:ext cx="4648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то не слыхал его живого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то в жизни с ним не встретился сво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ссмертные творения Кры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ы с каждым годом любим всё силь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. Иса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img024"/>
          <p:cNvPicPr/>
          <p:nvPr/>
        </p:nvPicPr>
        <p:blipFill>
          <a:blip r:embed="rId2"/>
          <a:stretch/>
        </p:blipFill>
        <p:spPr>
          <a:xfrm>
            <a:off x="838080" y="2057400"/>
            <a:ext cx="7010640" cy="4495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762120" y="152280"/>
            <a:ext cx="7010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вежда так же в ослеплен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ранит науки и учень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се учёные труд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чувствуя, что он вкушает их пл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8"/>
          <p:cNvPicPr/>
          <p:nvPr/>
        </p:nvPicPr>
        <p:blipFill>
          <a:blip r:embed="rId2"/>
          <a:stretch/>
        </p:blipFill>
        <p:spPr>
          <a:xfrm>
            <a:off x="228600" y="81000"/>
            <a:ext cx="4886280" cy="6777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5181480" y="1371600"/>
            <a:ext cx="4419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х, эх!- ей Моська отвечает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от то-то мне и духу придаё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то я, совсем без дра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гу попасть в большие заби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ускай же говорят соба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«Ай, Моська! знать она силь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то лает на слона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7"/>
          <p:cNvPicPr/>
          <p:nvPr/>
        </p:nvPicPr>
        <p:blipFill>
          <a:blip r:embed="rId2"/>
          <a:stretch/>
        </p:blipFill>
        <p:spPr>
          <a:xfrm>
            <a:off x="152280" y="304920"/>
            <a:ext cx="4419720" cy="63244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4572000" y="1752480"/>
            <a:ext cx="482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лушай-ка, сосед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ут ловчий перервал в ответ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ы сер, а я, приятель, се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волчью вашу я давно натуру зна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 потому обычай м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 волками иначе не делать мир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к снявши шкуру с них долой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тут же выпустил на Волка гончих с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6 004"/>
          <p:cNvPicPr/>
          <p:nvPr/>
        </p:nvPicPr>
        <p:blipFill>
          <a:blip r:embed="rId2"/>
          <a:stretch/>
        </p:blipFill>
        <p:spPr>
          <a:xfrm>
            <a:off x="228600" y="0"/>
            <a:ext cx="5029200" cy="6838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5257800" y="1523880"/>
            <a:ext cx="3657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«Чтоб музыкантом бы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надобно умен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уши ваших понежней,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м отвечает Соловей,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вы, друзья, как ни садите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сё в музыканты не годитес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krylov1"/>
          <p:cNvPicPr/>
          <p:nvPr/>
        </p:nvPicPr>
        <p:blipFill>
          <a:blip r:embed="rId2"/>
          <a:stretch/>
        </p:blipFill>
        <p:spPr>
          <a:xfrm>
            <a:off x="152280" y="762120"/>
            <a:ext cx="4496040" cy="5715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4800600" y="914400"/>
            <a:ext cx="4343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.А.Крылов возвёл русскую басню в оригинально-классическое достоинство. Невозможно дать большего простодушия рассказу, большей народности языку, большей осязаемости нравоучению. В каждом его стихе виден русский здравый ум. Он похож природою описаний на Лафонтена, но имеет свой особый характер: его каждая басня – сатира, тем сильнейшая, чем она коротка и рассказана с видом простодуш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Бестуж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ая бас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916280"/>
            <a:ext cx="4392720" cy="46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анр басни полюбили русские поэ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е  басни писал ещё в XVII веке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Симеон Полоц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-й половине XVIII века басни писали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А. Д. Кантеми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         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В. К. Тредиаков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жанра басни в России относится к середине XVIII — началу XIX веков и связано с именами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А. П. Сумарок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И. И. Хемнице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А. Е. Измайл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И. И. Дмитрие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А"/>
          <p:cNvPicPr/>
          <p:nvPr/>
        </p:nvPicPr>
        <p:blipFill>
          <a:blip r:embed="rId2"/>
          <a:stretch/>
        </p:blipFill>
        <p:spPr>
          <a:xfrm>
            <a:off x="6732720" y="2349360"/>
            <a:ext cx="1752480" cy="2019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Тредиаковскмй"/>
          <p:cNvPicPr/>
          <p:nvPr/>
        </p:nvPicPr>
        <p:blipFill>
          <a:blip r:embed="rId3"/>
          <a:stretch/>
        </p:blipFill>
        <p:spPr>
          <a:xfrm>
            <a:off x="4572000" y="1484280"/>
            <a:ext cx="1671480" cy="215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5049720" y="378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4427640" y="364500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силий Кирилл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диаков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696000" y="4437000"/>
            <a:ext cx="2448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Петрович Сумаро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Дмитриев"/>
          <p:cNvPicPr/>
          <p:nvPr/>
        </p:nvPicPr>
        <p:blipFill>
          <a:blip r:embed="rId4"/>
          <a:stretch/>
        </p:blipFill>
        <p:spPr>
          <a:xfrm>
            <a:off x="4716360" y="4508640"/>
            <a:ext cx="1554120" cy="2016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2"/>
          <p:cNvSpPr/>
          <p:nvPr/>
        </p:nvSpPr>
        <p:spPr>
          <a:xfrm>
            <a:off x="6372360" y="5877000"/>
            <a:ext cx="1944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ван Иванович Дмитри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10_32"/>
          <p:cNvPicPr/>
          <p:nvPr/>
        </p:nvPicPr>
        <p:blipFill>
          <a:blip r:embed="rId2"/>
          <a:stretch/>
        </p:blipFill>
        <p:spPr>
          <a:xfrm>
            <a:off x="228600" y="762120"/>
            <a:ext cx="4343400" cy="53337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4572000" y="15228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 Андреевич Крылов родился в 1769 году в Москве в семье скромного армейского офицера. Через несколько лет семья переехала в Тверь. После смерти отца в 1778 г Крылову пришлось поступить на службу в магистрат, чтобы поддерживать семью. Служба познакомила его с мрачными нравами провинциального суда, злоупотреблениями и взяточничеством чиновников. В 1783 г семья переезжает в Петербург, где Крылов 4 года прослужил в Казённой палате. В Петербурге он увлёкся театром, стал писать комедии. С 1794 по 1802 год опальный писатель скитался по провинции, был секретарём князя Голицына. В 1804 году вернулся в Москву. В 1806 в журнале «Московский зритель» он помещает несколько басен, которые принесли ему успех. Это определило его дальнейши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55786"/>
          <p:cNvPicPr/>
          <p:nvPr/>
        </p:nvPicPr>
        <p:blipFill>
          <a:blip r:embed="rId2"/>
          <a:stretch/>
        </p:blipFill>
        <p:spPr>
          <a:xfrm>
            <a:off x="228600" y="533520"/>
            <a:ext cx="434340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800600" y="685800"/>
            <a:ext cx="4114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812 году Крылов поступил на службу в Публичную библиотеку, где прослужил библиотекарем более 30 лет. Одновременно со службой он работал над созданием своих басен, через каждые 2-3 года подготавливая новые книги. В 1838 году литературная общественность отметила 50-летие его литературной деятельности. В 1841 году Крылов вышел в отставку и поселился на Васильевском острове. Умер И.А.Крылов в 1844году. «Дедушкой Крыловым» назвал народ  своего баснопис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амятник Крыло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24000" y="1447920"/>
            <a:ext cx="489564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анкт-Петербурге, в Летнем саду, стоит памятник великому баснописцу. Крылов изображён сидящим в кресле, . Постамент памятника украшен фигурами героев его басен. До этого ни одному писателю памятников не сооружалось. Средства на него собирал весь народ. Устроили конкурс на лучший проект памятника. В конкурсе победил  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Пётр Карлович Клод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н работал над памятником вместе с художниками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Карлом Брюллов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Александром Аги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умайте, почему Крылов был удостоен такой че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krilov"/>
          <p:cNvPicPr/>
          <p:nvPr/>
        </p:nvPicPr>
        <p:blipFill>
          <a:blip r:embed="rId2"/>
          <a:stretch/>
        </p:blipFill>
        <p:spPr>
          <a:xfrm>
            <a:off x="5105520" y="1447920"/>
            <a:ext cx="3809880" cy="5181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же такое басн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50920" y="2819520"/>
            <a:ext cx="889308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большой рассказ, часто стихотво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ится на 2 ча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повествование и мораль (нравоучительный вывод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легория (иносказание; изображение предмета, за которым скрывается другой предмет или челов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ицетворение (о неодушевленных  предметах  говорится, как об одушевлённ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жи (герои) – 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лог (разговор двух или более герое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говорны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79520" y="1592280"/>
            <a:ext cx="813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асня –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то краткий стихотворный или прозаический рассказ нравоучительного характера, имеющий иносказательный аллегорический смы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p002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9-29T15:20:2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