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E543-45FA-4BED-B8DA-3F57688F3C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37F3-3A98-40D9-839B-E045833997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F2D2-6DD2-484C-8BA3-2B1B48F15E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B31-DAA9-46A6-92B9-CBDDC5D4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38E-3F63-4DEB-B93A-55C32A07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429-C1F7-4FEB-A649-E3057C37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651-D2CF-4A4C-9D9E-9049647B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37E3-953A-4BBC-A868-32F6E71C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80D6-559C-4D42-A589-89030A63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6E34-9804-4A33-85AE-A0A75472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ED9F-007B-4E8F-8EA9-C8D19431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028A-FB85-4CB0-9DDE-A516D0E4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45AD-1A50-4942-8E3C-A2CE0D63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997D-4D9D-4081-84F1-817F0F29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F3C-688D-45CE-94D5-00199DDE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D330-7AF4-4E98-B498-ABA69B5F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7784-D8C2-4BA1-9B50-D60D9943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25CD-55C9-473B-A95F-CB8E0F9C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76CF-78F9-4973-9346-2B05F3C3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3B11-9FA8-4DC0-8175-2E40A6B5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888F2-7DF4-45FD-8DBB-45A2CB09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FE33D-0CA7-4ED4-8430-57CDFE00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E464D-A2B3-462A-847A-7305E855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83E41-6D10-44B3-B8B2-5D59AE90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84D00-7186-486E-BC81-B30B63EA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EB2-AE31-494D-8FD0-A164BEDF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C6AA1-421B-4378-B95E-22340077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274C6-8667-4F37-9658-C5B1FCD8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1CA05-D156-40C4-ACE9-5AD1BEAA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63549-BB5B-42AF-8D3D-58803718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CDE42-15E4-45EE-8021-803FE64D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3209-C0AD-44A8-9128-1A85BAE0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61CA0-82D7-4A76-A283-239E7665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67A0E-821A-44D0-BE6D-B1C694BF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1472B-4703-48EF-BDDD-53BC5F0B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63DAC-2689-4581-AEA0-75E4F2BE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AF4-CFC0-4F93-A7F8-78CB79CB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B1226-6512-407E-93DC-F60EDA02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543EF-08FF-4B93-8E9F-05A27675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4CFC8-2353-4B6D-B491-8F8C43EE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1328E-6F03-47C4-81ED-A63ADB30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2CC2A-1487-41C2-9DFE-F53A7628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6E959-4482-4155-B0F5-F4E844B8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D0CDA-1CA0-48B8-9F80-B2BF5DA1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E672E-4A7C-415F-95DE-3530E657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1F7A8-FE3B-4A9E-9DF0-06812A86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8FC-6AC8-4AE8-A6E6-41453363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BCA-54D2-459D-922F-BC46163F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534-7291-47C7-BA17-EBED20F3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CD20-BEA5-499E-816D-B87CC367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730-F2C5-4D6A-953C-7531C430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F1E7-AFB0-4884-ABA2-79922F5B105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65" descr=""/>
          <p:cNvPicPr/>
          <p:nvPr/>
        </p:nvPicPr>
        <p:blipFill>
          <a:blip r:embed="rId4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800320" y="540972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900080" y="5409720"/>
            <a:ext cx="384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914960" y="5409720"/>
            <a:ext cx="579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0A26-AE62-4F86-88C2-CCA2395990B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47"/>
          <p:cNvSpPr/>
          <p:nvPr/>
        </p:nvSpPr>
        <p:spPr>
          <a:xfrm>
            <a:off x="696960" y="71928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48"/>
          <p:cNvSpPr/>
          <p:nvPr/>
        </p:nvSpPr>
        <p:spPr>
          <a:xfrm>
            <a:off x="7816680" y="27655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AD57-9F46-4F39-8BA9-FED4FAA2B0F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137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8B52-BA8A-4003-A0C8-DBB35A73535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7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063800"/>
            <a:ext cx="8686800" cy="36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_AlbionicB&amp;W"/>
              </a:rPr>
              <a:t>ПОДБОР ПРОВЕРОЧНЫХ СЛОВ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_AlbionicB&amp;W"/>
              </a:rPr>
              <a:t>К БЕЗУДАРНЫМ ГЛАСНЫМ В КОРНЕ.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Номер слайда 5"/>
          <p:cNvSpPr/>
          <p:nvPr/>
        </p:nvSpPr>
        <p:spPr>
          <a:xfrm>
            <a:off x="7707240" y="5883120"/>
            <a:ext cx="57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0E57-754C-4105-B991-A14DF663093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9C57-63A2-4551-9825-1644ACD7997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419720" y="44197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3">
            <a:hlinkClick r:id="rId2" action="ppaction://hlinksldjump"/>
          </p:cNvPr>
          <p:cNvSpPr/>
          <p:nvPr/>
        </p:nvSpPr>
        <p:spPr>
          <a:xfrm>
            <a:off x="3048120" y="44197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0" y="2057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П…стух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D6A9-D249-46D8-B108-47478353EB3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3124080" y="4114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3">
            <a:hlinkClick r:id="rId2" action="ppaction://hlinksldjump"/>
          </p:cNvPr>
          <p:cNvSpPr/>
          <p:nvPr/>
        </p:nvSpPr>
        <p:spPr>
          <a:xfrm>
            <a:off x="4495680" y="4114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1752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Нас…рил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3EE6-AD6E-49D0-BF8F-37CC5E4268B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2438280" y="37339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3">
            <a:hlinkClick r:id="rId2" action="ppaction://hlinksldjump"/>
          </p:cNvPr>
          <p:cNvSpPr/>
          <p:nvPr/>
        </p:nvSpPr>
        <p:spPr>
          <a:xfrm>
            <a:off x="5181480" y="37339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5">
            <a:hlinkClick r:id="rId3" action="ppaction://hlinksldjump"/>
          </p:cNvPr>
          <p:cNvSpPr/>
          <p:nvPr/>
        </p:nvSpPr>
        <p:spPr>
          <a:xfrm>
            <a:off x="3809880" y="37339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1676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Т…жёлы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5EEC-1652-4137-A869-F1324FCDE76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495680" y="4114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5">
            <a:hlinkClick r:id="rId2" action="ppaction://hlinksldjump"/>
          </p:cNvPr>
          <p:cNvSpPr/>
          <p:nvPr/>
        </p:nvSpPr>
        <p:spPr>
          <a:xfrm>
            <a:off x="3124080" y="4114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0" y="2133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_AssuanBrk"/>
              </a:rPr>
              <a:t>Г…лодный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BD45-DBE6-4331-AA18-9FCC521069E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4">
            <a:hlinkClick r:id="rId2" action="ppaction://hlinksldjump"/>
          </p:cNvPr>
          <p:cNvSpPr/>
          <p:nvPr/>
        </p:nvSpPr>
        <p:spPr>
          <a:xfrm>
            <a:off x="320040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0" y="19051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В..теро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6133-DA5E-427F-B7BE-C8FF7C7B69C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191120" y="40384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3">
            <a:hlinkClick r:id="rId2" action="ppaction://hlinksldjump"/>
          </p:cNvPr>
          <p:cNvSpPr/>
          <p:nvPr/>
        </p:nvSpPr>
        <p:spPr>
          <a:xfrm>
            <a:off x="2819520" y="40384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0" y="1752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Пол…ват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9106-9D98-4A0B-8983-8A9A6B0A397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>
            <a:hlinkClick r:id="rId1" action="ppaction://hlinksldjump"/>
          </p:cNvPr>
          <p:cNvSpPr/>
          <p:nvPr/>
        </p:nvSpPr>
        <p:spPr>
          <a:xfrm>
            <a:off x="3886200" y="42670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4">
            <a:hlinkClick r:id="rId2" action="ppaction://hlinksldjump"/>
          </p:cNvPr>
          <p:cNvSpPr/>
          <p:nvPr/>
        </p:nvSpPr>
        <p:spPr>
          <a:xfrm>
            <a:off x="5257800" y="42670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5">
            <a:hlinkClick r:id="rId3" action="ppaction://hlinksldjump"/>
          </p:cNvPr>
          <p:cNvSpPr/>
          <p:nvPr/>
        </p:nvSpPr>
        <p:spPr>
          <a:xfrm>
            <a:off x="2514600" y="42670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0" y="2057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Р…бит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1BB1-2268-4A7E-BD9D-0E02597C550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533412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3">
            <a:hlinkClick r:id="rId2" action="ppaction://hlinksldjump"/>
          </p:cNvPr>
          <p:cNvSpPr/>
          <p:nvPr/>
        </p:nvSpPr>
        <p:spPr>
          <a:xfrm>
            <a:off x="259092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4">
            <a:hlinkClick r:id="rId3" action="ppaction://hlinksldjump"/>
          </p:cNvPr>
          <p:cNvSpPr/>
          <p:nvPr/>
        </p:nvSpPr>
        <p:spPr>
          <a:xfrm>
            <a:off x="396252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0" y="18288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В…зани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975C-4562-4EC5-BE8B-FFA36909EF1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267080" y="40384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3">
            <a:hlinkClick r:id="rId2" action="ppaction://hlinksldjump"/>
          </p:cNvPr>
          <p:cNvSpPr/>
          <p:nvPr/>
        </p:nvSpPr>
        <p:spPr>
          <a:xfrm>
            <a:off x="2895480" y="40384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0" y="2133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Б…льшо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8708-DE81-4ACF-AAC3-24A28AA3242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304812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3">
            <a:hlinkClick r:id="rId2" action="ppaction://hlinksldjump"/>
          </p:cNvPr>
          <p:cNvSpPr/>
          <p:nvPr/>
        </p:nvSpPr>
        <p:spPr>
          <a:xfrm>
            <a:off x="441972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0" y="1143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Т…шин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90" name="Содержимое 4" descr="способы проверки.jpg"/>
          <p:cNvPicPr/>
          <p:nvPr/>
        </p:nvPicPr>
        <p:blipFill>
          <a:blip r:embed="rId1"/>
          <a:stretch/>
        </p:blipFill>
        <p:spPr>
          <a:xfrm>
            <a:off x="609480" y="685800"/>
            <a:ext cx="8153640" cy="5440320"/>
          </a:xfrm>
          <a:prstGeom prst="rect">
            <a:avLst/>
          </a:prstGeom>
          <a:ln w="0">
            <a:noFill/>
          </a:ln>
        </p:spPr>
      </p:pic>
      <p:sp>
        <p:nvSpPr>
          <p:cNvPr id="191" name="Номер слайда 3"/>
          <p:cNvSpPr/>
          <p:nvPr/>
        </p:nvSpPr>
        <p:spPr>
          <a:xfrm>
            <a:off x="7707240" y="5883120"/>
            <a:ext cx="57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0F31-72F5-41BE-AF4A-4D9235AA3BC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DF46-9EC6-418A-AA08-C7507FA4697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3">
            <a:hlinkClick r:id="rId1" action="ppaction://hlinksldjump"/>
          </p:cNvPr>
          <p:cNvSpPr/>
          <p:nvPr/>
        </p:nvSpPr>
        <p:spPr>
          <a:xfrm>
            <a:off x="441972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5">
            <a:hlinkClick r:id="rId2" action="ppaction://hlinksldjump"/>
          </p:cNvPr>
          <p:cNvSpPr/>
          <p:nvPr/>
        </p:nvSpPr>
        <p:spPr>
          <a:xfrm>
            <a:off x="304812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0" y="1981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З…лёны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3720-358C-47DE-B657-89C9434ECB7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3">
            <a:hlinkClick r:id="rId1" action="ppaction://hlinksldjump"/>
          </p:cNvPr>
          <p:cNvSpPr/>
          <p:nvPr/>
        </p:nvSpPr>
        <p:spPr>
          <a:xfrm>
            <a:off x="3048120" y="38098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4">
            <a:hlinkClick r:id="rId2" action="ppaction://hlinksldjump"/>
          </p:cNvPr>
          <p:cNvSpPr/>
          <p:nvPr/>
        </p:nvSpPr>
        <p:spPr>
          <a:xfrm>
            <a:off x="4419720" y="38098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0" y="1600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В…дяно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45B4-4E4F-4075-9032-2046C87EC68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495680" y="37339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4">
            <a:hlinkClick r:id="rId2" action="ppaction://hlinksldjump"/>
          </p:cNvPr>
          <p:cNvSpPr/>
          <p:nvPr/>
        </p:nvSpPr>
        <p:spPr>
          <a:xfrm>
            <a:off x="3124080" y="37339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0" y="1600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Б..жат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667F-6391-46B6-9C41-F09D2A95D94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495680" y="35053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>
            <a:hlinkClick r:id="rId2" action="ppaction://hlinksldjump"/>
          </p:cNvPr>
          <p:cNvSpPr/>
          <p:nvPr/>
        </p:nvSpPr>
        <p:spPr>
          <a:xfrm>
            <a:off x="3124080" y="35053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0" y="1295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Сл…зинк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8EC0-81CE-4B45-8F0B-234448738BE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3048120" y="35053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3">
            <a:hlinkClick r:id="rId2" action="ppaction://hlinksldjump"/>
          </p:cNvPr>
          <p:cNvSpPr/>
          <p:nvPr/>
        </p:nvSpPr>
        <p:spPr>
          <a:xfrm>
            <a:off x="4419720" y="35053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0" y="1371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Д...ждливы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C2CC-3FED-4D0F-8E5F-0493F877882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49568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3">
            <a:hlinkClick r:id="rId2" action="ppaction://hlinksldjump"/>
          </p:cNvPr>
          <p:cNvSpPr/>
          <p:nvPr/>
        </p:nvSpPr>
        <p:spPr>
          <a:xfrm>
            <a:off x="3124080" y="34290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0" y="1219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Зв…рины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956C-A9D0-4AC3-8FAE-65DE6CEEFC8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3200400" y="38098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3">
            <a:hlinkClick r:id="rId2"/>
          </p:cNvPr>
          <p:cNvSpPr/>
          <p:nvPr/>
        </p:nvSpPr>
        <p:spPr>
          <a:xfrm>
            <a:off x="4572000" y="38098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0" y="1371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Б…лит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56DA-3E58-435B-85E0-BAEF48E9A66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11480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3">
            <a:hlinkClick r:id="rId2"/>
          </p:cNvPr>
          <p:cNvSpPr/>
          <p:nvPr/>
        </p:nvSpPr>
        <p:spPr>
          <a:xfrm>
            <a:off x="2743200" y="39625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0" y="1676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Л…стопад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ECF1-F91D-40D9-A871-3D7C16BAB8B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3124080" y="33526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3">
            <a:hlinkClick r:id="rId2"/>
          </p:cNvPr>
          <p:cNvSpPr/>
          <p:nvPr/>
        </p:nvSpPr>
        <p:spPr>
          <a:xfrm>
            <a:off x="4495680" y="33526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0" y="1295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З…лото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DCCC-0A67-46B4-9EDA-2852CB84594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35812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3">
            <a:hlinkClick r:id="rId2"/>
          </p:cNvPr>
          <p:cNvSpPr/>
          <p:nvPr/>
        </p:nvSpPr>
        <p:spPr>
          <a:xfrm>
            <a:off x="4267080" y="35812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0" y="1447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Поб…режь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900"/>
                </a:solidFill>
                <a:latin typeface="a_AlbionicB&amp;W"/>
              </a:rPr>
              <a:t>ПРОЧИТАЙТЕ СЛОВО, ПОДБЕРИТЕ ПРОВЕРОЧНОЕ СЛОВО, ВСТАВЬТЕ ГЛАСНУЮ БУКВУ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Номер слайда 5"/>
          <p:cNvSpPr/>
          <p:nvPr/>
        </p:nvSpPr>
        <p:spPr>
          <a:xfrm>
            <a:off x="7707240" y="5883120"/>
            <a:ext cx="57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22EA-6B51-4AE0-8710-9B37F9AF78D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9694-093F-47C1-A8AE-CC7E4BD2676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2819520" y="3657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5">
            <a:hlinkClick r:id="rId2"/>
          </p:cNvPr>
          <p:cNvSpPr/>
          <p:nvPr/>
        </p:nvSpPr>
        <p:spPr>
          <a:xfrm>
            <a:off x="4191120" y="36576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0" y="1752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Ст…клянны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A78F-D369-4E47-8EF9-A0057A36292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3048120" y="33526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5">
            <a:hlinkClick r:id="rId2"/>
          </p:cNvPr>
          <p:cNvSpPr/>
          <p:nvPr/>
        </p:nvSpPr>
        <p:spPr>
          <a:xfrm>
            <a:off x="4419720" y="33526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0" y="1447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К…лоск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9900"/>
                </a:solidFill>
                <a:latin typeface="a_AlbionicB&amp;W"/>
              </a:rPr>
              <a:t>ПОЗДРАВЛЯЮ, </a:t>
            </a:r>
            <a:r>
              <a:rPr b="0" lang="en-US" sz="8000" spc="-1" strike="noStrike">
                <a:solidFill>
                  <a:srgbClr val="ff9900"/>
                </a:solidFill>
                <a:latin typeface="a_AlbionicB&amp;W"/>
              </a:rPr>
              <a:t>          </a:t>
            </a:r>
            <a:r>
              <a:rPr b="0" lang="ru-RU" sz="8000" spc="-1" strike="noStrike">
                <a:solidFill>
                  <a:srgbClr val="ff9900"/>
                </a:solidFill>
                <a:latin typeface="a_AlbionicB&amp;W"/>
              </a:rPr>
              <a:t>ВСЕ ЗАДАНИЯ ВЫПОЛНЕНЫ ВЕРНО!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Номер слайда 5"/>
          <p:cNvSpPr/>
          <p:nvPr/>
        </p:nvSpPr>
        <p:spPr>
          <a:xfrm>
            <a:off x="7707240" y="5883120"/>
            <a:ext cx="57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1908-4D57-473A-9BFE-E31197CD03B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a_AlbionicB&amp;W"/>
              </a:rPr>
              <a:t>ПРИДЁТСЯ НАЧАТЬ ЗАНОВО!</a:t>
            </a:r>
            <a:endParaRPr b="0" lang="en-US" sz="6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7707240" y="5883120"/>
            <a:ext cx="57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921A-8A40-409B-8A96-065FF058808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87FF-1CD5-402E-B1D9-17C9A5FBA40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2438280" y="46483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3">
            <a:hlinkClick r:id="rId2" action="ppaction://hlinksldjump"/>
          </p:cNvPr>
          <p:cNvSpPr/>
          <p:nvPr/>
        </p:nvSpPr>
        <p:spPr>
          <a:xfrm>
            <a:off x="3809880" y="46483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">
            <a:hlinkClick r:id="rId3" action="ppaction://hlinksldjump"/>
          </p:cNvPr>
          <p:cNvSpPr/>
          <p:nvPr/>
        </p:nvSpPr>
        <p:spPr>
          <a:xfrm>
            <a:off x="5181480" y="46483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0" y="1676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Сн … жинк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5B58-139D-463D-8025-BAD7F1199B9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3886200" y="42670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>
            <a:hlinkClick r:id="rId2" action="ppaction://hlinksldjump"/>
          </p:cNvPr>
          <p:cNvSpPr/>
          <p:nvPr/>
        </p:nvSpPr>
        <p:spPr>
          <a:xfrm>
            <a:off x="2514600" y="42670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>
            <a:hlinkClick r:id="rId3" action="ppaction://hlinksldjump"/>
          </p:cNvPr>
          <p:cNvSpPr/>
          <p:nvPr/>
        </p:nvSpPr>
        <p:spPr>
          <a:xfrm>
            <a:off x="5257800" y="42670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1752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Гр …бо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BE8D-3831-4164-B205-B4E81AAF2BE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2743200" y="42670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5">
            <a:hlinkClick r:id="rId2" action="ppaction://hlinksldjump"/>
          </p:cNvPr>
          <p:cNvSpPr/>
          <p:nvPr/>
        </p:nvSpPr>
        <p:spPr>
          <a:xfrm>
            <a:off x="4114800" y="426708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0" y="2057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П…лян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03D8-F3A0-4B69-BFF8-93F2CB58A54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4114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5">
            <a:hlinkClick r:id="rId2" action="ppaction://hlinksldjump"/>
          </p:cNvPr>
          <p:cNvSpPr/>
          <p:nvPr/>
        </p:nvSpPr>
        <p:spPr>
          <a:xfrm>
            <a:off x="3200400" y="411480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0" y="1676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В … сёлый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5"/>
          <p:cNvSpPr/>
          <p:nvPr/>
        </p:nvSpPr>
        <p:spPr>
          <a:xfrm>
            <a:off x="7915320" y="5410080"/>
            <a:ext cx="57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C41E-C17F-4125-88A9-37A1BFF17B8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4191120" y="44197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4">
            <a:hlinkClick r:id="rId2" action="ppaction://hlinksldjump"/>
          </p:cNvPr>
          <p:cNvSpPr/>
          <p:nvPr/>
        </p:nvSpPr>
        <p:spPr>
          <a:xfrm>
            <a:off x="2819520" y="4419720"/>
            <a:ext cx="1371600" cy="137160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-533520" y="1981080"/>
            <a:ext cx="967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_AssuanBrk"/>
              </a:rPr>
              <a:t>Т…мнот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2-02-08T05:38:59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