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4C88-E939-44DA-AE59-3626D3E91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7A5A-2C18-43CD-8739-00088CA816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5994-3DB8-4016-958B-EA5EDABC6B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E16-075F-48EA-A2D0-B986DEEB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E18-EC37-4E41-83F2-1EC891F4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23D-517B-48BD-8C7E-D41548DF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615-374A-4E9B-84C6-32ABFF55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E29C-5DDB-4F6D-AD89-AD60C559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9A7E-7275-4006-A5EC-49977B7D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E428-B844-4083-BEF1-1F39332C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A22D-8C94-4EA4-9E86-413AA965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E813-8461-49D3-85C9-C15B9716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EEF0-0FB9-4B65-BE27-CB7FDEA3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6F3B-6A8F-48C9-8BE0-FFE66762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64A-8033-4252-A001-3D99DD34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ADD2-7C97-4817-80B9-A51AFBA4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C8B3-5108-41AE-89D4-EB0DAA0A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1B18-23AC-4AD1-B1B9-A32F9E19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EB3B-3729-40AC-B310-94196E54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3FD7-B9D5-47B7-B1AF-09715834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2265-DBEA-4D03-8B55-52321962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6F34-EDA0-4925-8DD8-310236C0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6256E-7705-4448-9725-C1A6BC5A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3283-C10A-430C-96D2-CF3049FB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F080-36F8-4A20-A65A-CF4E9286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5AA-EF1E-4110-81E9-4B292CE1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59EC-9945-42FF-AD67-F9ECC8DD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38AA9-A2BC-4D77-87AE-54F4BF7B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AA54-404E-449C-B289-5C4ABBCC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EE7B-1ECB-4766-A1C5-704BC4D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3DB40-8D10-4B50-B626-B5EEE2C5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F86C-A6E7-436B-B6FD-27759D04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B034-6793-4261-98D5-02CC67AA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6FE84-810E-44D3-9469-EDEACDF0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75845-F11B-4322-BA1D-EA7AD432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69425-70AD-4DF1-A3EC-1A17FC72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8C7-FE35-4BC1-AEBC-0C3E1EF6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1CF46-C73B-4E4A-BC41-5C76B4EC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F2356-2059-45D4-8A9E-520159F9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F6C13-DB91-474F-B1DE-D9402397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6B1D-BF03-4956-BDD8-FDE4EAA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9F21-E79E-4A39-9C55-1F92C3D9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2CFE4-4E34-4C70-B12E-5B83E77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4D7D-FBF2-4C85-B0B9-5533F5D4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B4F85-765D-470A-BBBA-F55B9776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F22C-FCF9-4E76-BA9F-03D5941F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A19-B81C-4C42-BEDF-E9617B19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422-6A16-4B18-BCE2-39434BBA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D9C-7BD3-4711-9B59-8AB324BD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AD7-6456-4591-B1EC-870A2F82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AC2-AC74-4EEE-83B1-46A249C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F3D9-B502-4B82-8E0F-E46DE9DC598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65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800320" y="540972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900080" y="5409720"/>
            <a:ext cx="384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14960" y="5409720"/>
            <a:ext cx="579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8AD4-4C2A-4315-AB09-FDD079D0797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696960" y="71928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7816680" y="27655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2879-2F0D-4ADD-AE67-E1F21511808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137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C67A-2529-42CE-A144-F1E9A17D471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7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063800"/>
            <a:ext cx="8686800" cy="36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_AlbionicB&amp;W"/>
              </a:rPr>
              <a:t>ПОДБОР ПРОВЕРОЧНЫХ СЛОВ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_AlbionicB&amp;W"/>
              </a:rPr>
              <a:t>К БЕЗУДАРНЫМ ГЛАСНЫМ В КОРНЕ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7707240" y="5883120"/>
            <a:ext cx="5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B3CB-B814-464F-80A0-B514FE1ED53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71F4-C4F9-498B-8A5B-B11A7D63C97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419720" y="44197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3">
            <a:hlinkClick r:id="rId2" action="ppaction://hlinksldjump"/>
          </p:cNvPr>
          <p:cNvSpPr/>
          <p:nvPr/>
        </p:nvSpPr>
        <p:spPr>
          <a:xfrm>
            <a:off x="3048120" y="44197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0" y="2057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П…стух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1617-E965-4581-9F99-CC3BF569FE0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12408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3">
            <a:hlinkClick r:id="rId2" action="ppaction://hlinksldjump"/>
          </p:cNvPr>
          <p:cNvSpPr/>
          <p:nvPr/>
        </p:nvSpPr>
        <p:spPr>
          <a:xfrm>
            <a:off x="449568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1752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Нас…ри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C003-0AD8-43C6-A906-4EF7A916CE6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2438280" y="37339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3">
            <a:hlinkClick r:id="rId2" action="ppaction://hlinksldjump"/>
          </p:cNvPr>
          <p:cNvSpPr/>
          <p:nvPr/>
        </p:nvSpPr>
        <p:spPr>
          <a:xfrm>
            <a:off x="5181480" y="37339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5">
            <a:hlinkClick r:id="rId3" action="ppaction://hlinksldjump"/>
          </p:cNvPr>
          <p:cNvSpPr/>
          <p:nvPr/>
        </p:nvSpPr>
        <p:spPr>
          <a:xfrm>
            <a:off x="3809880" y="37339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1676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Т…жёл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985B-B2E7-428E-A0F8-1C0AEA30422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49568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5">
            <a:hlinkClick r:id="rId2" action="ppaction://hlinksldjump"/>
          </p:cNvPr>
          <p:cNvSpPr/>
          <p:nvPr/>
        </p:nvSpPr>
        <p:spPr>
          <a:xfrm>
            <a:off x="312408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0" y="2133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_AssuanBrk"/>
              </a:rPr>
              <a:t>Г…лодный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CA51-9D62-4328-AB06-93CF6A8FA7C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">
            <a:hlinkClick r:id="rId2" action="ppaction://hlinksldjump"/>
          </p:cNvPr>
          <p:cNvSpPr/>
          <p:nvPr/>
        </p:nvSpPr>
        <p:spPr>
          <a:xfrm>
            <a:off x="320040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0" y="19051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В..теро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2103-B79B-4068-BA29-BE93B320FF9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191120" y="40384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3">
            <a:hlinkClick r:id="rId2" action="ppaction://hlinksldjump"/>
          </p:cNvPr>
          <p:cNvSpPr/>
          <p:nvPr/>
        </p:nvSpPr>
        <p:spPr>
          <a:xfrm>
            <a:off x="2819520" y="40384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0" y="1752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Пол…ват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57C3-28D6-47D7-826E-9363A324779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>
            <a:hlinkClick r:id="rId1" action="ppaction://hlinksldjump"/>
          </p:cNvPr>
          <p:cNvSpPr/>
          <p:nvPr/>
        </p:nvSpPr>
        <p:spPr>
          <a:xfrm>
            <a:off x="38862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>
            <a:hlinkClick r:id="rId2" action="ppaction://hlinksldjump"/>
          </p:cNvPr>
          <p:cNvSpPr/>
          <p:nvPr/>
        </p:nvSpPr>
        <p:spPr>
          <a:xfrm>
            <a:off x="52578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>
            <a:hlinkClick r:id="rId3" action="ppaction://hlinksldjump"/>
          </p:cNvPr>
          <p:cNvSpPr/>
          <p:nvPr/>
        </p:nvSpPr>
        <p:spPr>
          <a:xfrm>
            <a:off x="25146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0" y="2057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Р…бит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7D6E-B492-40F2-B036-D2AB8D2B356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533412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3">
            <a:hlinkClick r:id="rId2" action="ppaction://hlinksldjump"/>
          </p:cNvPr>
          <p:cNvSpPr/>
          <p:nvPr/>
        </p:nvSpPr>
        <p:spPr>
          <a:xfrm>
            <a:off x="259092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4">
            <a:hlinkClick r:id="rId3" action="ppaction://hlinksldjump"/>
          </p:cNvPr>
          <p:cNvSpPr/>
          <p:nvPr/>
        </p:nvSpPr>
        <p:spPr>
          <a:xfrm>
            <a:off x="396252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0" y="1828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В…зани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DB9B-50A0-49CE-8B03-D3174D51B22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267080" y="40384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3">
            <a:hlinkClick r:id="rId2" action="ppaction://hlinksldjump"/>
          </p:cNvPr>
          <p:cNvSpPr/>
          <p:nvPr/>
        </p:nvSpPr>
        <p:spPr>
          <a:xfrm>
            <a:off x="2895480" y="40384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0" y="213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Б…льшо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E62F-21EF-4C8B-BEA2-E45F6D2C3B4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04812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3">
            <a:hlinkClick r:id="rId2" action="ppaction://hlinksldjump"/>
          </p:cNvPr>
          <p:cNvSpPr/>
          <p:nvPr/>
        </p:nvSpPr>
        <p:spPr>
          <a:xfrm>
            <a:off x="441972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0" y="114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Т…шин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90" name="Содержимое 4" descr="способы проверки.jpg"/>
          <p:cNvPicPr/>
          <p:nvPr/>
        </p:nvPicPr>
        <p:blipFill>
          <a:blip r:embed="rId1"/>
          <a:stretch/>
        </p:blipFill>
        <p:spPr>
          <a:xfrm>
            <a:off x="609480" y="685800"/>
            <a:ext cx="8153640" cy="5440320"/>
          </a:xfrm>
          <a:prstGeom prst="rect">
            <a:avLst/>
          </a:prstGeom>
          <a:ln w="0">
            <a:noFill/>
          </a:ln>
        </p:spPr>
      </p:pic>
      <p:sp>
        <p:nvSpPr>
          <p:cNvPr id="191" name="Номер слайда 3"/>
          <p:cNvSpPr/>
          <p:nvPr/>
        </p:nvSpPr>
        <p:spPr>
          <a:xfrm>
            <a:off x="7707240" y="5883120"/>
            <a:ext cx="5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9C96-C6A8-47CC-97F8-16A2E0A4AA1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3BF1-0B19-46F1-A13C-00DC03C5387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3">
            <a:hlinkClick r:id="rId1" action="ppaction://hlinksldjump"/>
          </p:cNvPr>
          <p:cNvSpPr/>
          <p:nvPr/>
        </p:nvSpPr>
        <p:spPr>
          <a:xfrm>
            <a:off x="441972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5">
            <a:hlinkClick r:id="rId2" action="ppaction://hlinksldjump"/>
          </p:cNvPr>
          <p:cNvSpPr/>
          <p:nvPr/>
        </p:nvSpPr>
        <p:spPr>
          <a:xfrm>
            <a:off x="304812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0" y="1981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З…лён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4591-745B-44DD-8832-6EAC1E32A23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3">
            <a:hlinkClick r:id="rId1" action="ppaction://hlinksldjump"/>
          </p:cNvPr>
          <p:cNvSpPr/>
          <p:nvPr/>
        </p:nvSpPr>
        <p:spPr>
          <a:xfrm>
            <a:off x="3048120" y="38098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4">
            <a:hlinkClick r:id="rId2" action="ppaction://hlinksldjump"/>
          </p:cNvPr>
          <p:cNvSpPr/>
          <p:nvPr/>
        </p:nvSpPr>
        <p:spPr>
          <a:xfrm>
            <a:off x="4419720" y="38098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0" y="1600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В…дяно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CE23-B594-4F47-AFF6-311389C932B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495680" y="37339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4">
            <a:hlinkClick r:id="rId2" action="ppaction://hlinksldjump"/>
          </p:cNvPr>
          <p:cNvSpPr/>
          <p:nvPr/>
        </p:nvSpPr>
        <p:spPr>
          <a:xfrm>
            <a:off x="3124080" y="37339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0" y="1600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Б..жат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8B33-3240-4E64-8A2B-6A399A72D9F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495680" y="3505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>
            <a:hlinkClick r:id="rId2" action="ppaction://hlinksldjump"/>
          </p:cNvPr>
          <p:cNvSpPr/>
          <p:nvPr/>
        </p:nvSpPr>
        <p:spPr>
          <a:xfrm>
            <a:off x="3124080" y="3505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0" y="1295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Сл…зинк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6EDB-CBE0-4D02-BA54-935741D02BB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048120" y="3505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3">
            <a:hlinkClick r:id="rId2" action="ppaction://hlinksldjump"/>
          </p:cNvPr>
          <p:cNvSpPr/>
          <p:nvPr/>
        </p:nvSpPr>
        <p:spPr>
          <a:xfrm>
            <a:off x="4419720" y="3505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0" y="1371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Д...ждлив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6F09-2FDD-41CD-9A03-BB469E948B8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49568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3">
            <a:hlinkClick r:id="rId2" action="ppaction://hlinksldjump"/>
          </p:cNvPr>
          <p:cNvSpPr/>
          <p:nvPr/>
        </p:nvSpPr>
        <p:spPr>
          <a:xfrm>
            <a:off x="312408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0" y="1219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Зв…рин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48A7-DCD7-40C7-8B82-0BC3EF01FDE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200400" y="38098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3">
            <a:hlinkClick r:id="rId2"/>
          </p:cNvPr>
          <p:cNvSpPr/>
          <p:nvPr/>
        </p:nvSpPr>
        <p:spPr>
          <a:xfrm>
            <a:off x="4572000" y="38098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0" y="1371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Б…лит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32F3-1C4E-48B0-9890-B18E364B1FC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11480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3">
            <a:hlinkClick r:id="rId2"/>
          </p:cNvPr>
          <p:cNvSpPr/>
          <p:nvPr/>
        </p:nvSpPr>
        <p:spPr>
          <a:xfrm>
            <a:off x="274320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0" y="1676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Л…стопад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0110-D274-4CC2-8975-C0F5CA8BEA2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124080" y="33526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3">
            <a:hlinkClick r:id="rId2"/>
          </p:cNvPr>
          <p:cNvSpPr/>
          <p:nvPr/>
        </p:nvSpPr>
        <p:spPr>
          <a:xfrm>
            <a:off x="4495680" y="33526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0" y="1295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З…лото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995-7DE1-4DDB-A6D5-46D6FC09A29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35812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3">
            <a:hlinkClick r:id="rId2"/>
          </p:cNvPr>
          <p:cNvSpPr/>
          <p:nvPr/>
        </p:nvSpPr>
        <p:spPr>
          <a:xfrm>
            <a:off x="4267080" y="35812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0" y="1447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Поб…режь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a_AlbionicB&amp;W"/>
              </a:rPr>
              <a:t>ПРОЧИТАЙТЕ СЛОВО, ПОДБЕРИТЕ ПРОВЕРОЧНОЕ СЛОВО, ВСТАВЬТЕ ГЛАСНУЮ БУКВУ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Номер слайда 5"/>
          <p:cNvSpPr/>
          <p:nvPr/>
        </p:nvSpPr>
        <p:spPr>
          <a:xfrm>
            <a:off x="7707240" y="5883120"/>
            <a:ext cx="5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45B8-0F4A-488D-821A-FDF78E48818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A298-78AB-41B4-AE36-A1CB6AACBD6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2819520" y="3657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>
            <a:hlinkClick r:id="rId2"/>
          </p:cNvPr>
          <p:cNvSpPr/>
          <p:nvPr/>
        </p:nvSpPr>
        <p:spPr>
          <a:xfrm>
            <a:off x="4191120" y="3657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0" y="1752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Ст…клянн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1951-80FB-45D1-BBEB-C3B77E0FF4F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048120" y="33526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>
            <a:hlinkClick r:id="rId2"/>
          </p:cNvPr>
          <p:cNvSpPr/>
          <p:nvPr/>
        </p:nvSpPr>
        <p:spPr>
          <a:xfrm>
            <a:off x="4419720" y="33526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0" y="1447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К…лоск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9900"/>
                </a:solidFill>
                <a:latin typeface="a_AlbionicB&amp;W"/>
              </a:rPr>
              <a:t>ПОЗДРАВЛЯЮ, </a:t>
            </a:r>
            <a:r>
              <a:rPr b="0" lang="en-US" sz="8000" spc="-1" strike="noStrike">
                <a:solidFill>
                  <a:srgbClr val="ff9900"/>
                </a:solidFill>
                <a:latin typeface="a_AlbionicB&amp;W"/>
              </a:rPr>
              <a:t>          </a:t>
            </a:r>
            <a:r>
              <a:rPr b="0" lang="ru-RU" sz="8000" spc="-1" strike="noStrike">
                <a:solidFill>
                  <a:srgbClr val="ff9900"/>
                </a:solidFill>
                <a:latin typeface="a_AlbionicB&amp;W"/>
              </a:rPr>
              <a:t>ВСЕ ЗАДАНИЯ ВЫПОЛНЕНЫ ВЕРНО!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Номер слайда 5"/>
          <p:cNvSpPr/>
          <p:nvPr/>
        </p:nvSpPr>
        <p:spPr>
          <a:xfrm>
            <a:off x="7707240" y="5883120"/>
            <a:ext cx="5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3C3A-3539-4E9C-A7C1-B96F097D550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_AlbionicB&amp;W"/>
              </a:rPr>
              <a:t>ПРИДЁТСЯ НАЧАТЬ ЗАНОВО!</a:t>
            </a:r>
            <a:endParaRPr b="0" lang="en-US" sz="6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707240" y="5883120"/>
            <a:ext cx="5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64F0-6A7D-4191-BE7D-E36F63AFDD1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C4FB-4B6D-422E-831C-6FC8049A702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2438280" y="4648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>
            <a:hlinkClick r:id="rId2" action="ppaction://hlinksldjump"/>
          </p:cNvPr>
          <p:cNvSpPr/>
          <p:nvPr/>
        </p:nvSpPr>
        <p:spPr>
          <a:xfrm>
            <a:off x="3809880" y="4648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>
            <a:hlinkClick r:id="rId3" action="ppaction://hlinksldjump"/>
          </p:cNvPr>
          <p:cNvSpPr/>
          <p:nvPr/>
        </p:nvSpPr>
        <p:spPr>
          <a:xfrm>
            <a:off x="5181480" y="4648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0" y="1676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Сн … жинк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04A1-CF73-4F52-900D-BE5DA02ECBA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8862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>
            <a:hlinkClick r:id="rId2" action="ppaction://hlinksldjump"/>
          </p:cNvPr>
          <p:cNvSpPr/>
          <p:nvPr/>
        </p:nvSpPr>
        <p:spPr>
          <a:xfrm>
            <a:off x="25146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>
            <a:hlinkClick r:id="rId3" action="ppaction://hlinksldjump"/>
          </p:cNvPr>
          <p:cNvSpPr/>
          <p:nvPr/>
        </p:nvSpPr>
        <p:spPr>
          <a:xfrm>
            <a:off x="52578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1752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Гр …бо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9446-8212-413C-A2E3-83C0AA95812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27432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5">
            <a:hlinkClick r:id="rId2" action="ppaction://hlinksldjump"/>
          </p:cNvPr>
          <p:cNvSpPr/>
          <p:nvPr/>
        </p:nvSpPr>
        <p:spPr>
          <a:xfrm>
            <a:off x="41148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0" y="2057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П…лян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793F-B23E-4D3F-BD1D-33D52AA3662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5">
            <a:hlinkClick r:id="rId2" action="ppaction://hlinksldjump"/>
          </p:cNvPr>
          <p:cNvSpPr/>
          <p:nvPr/>
        </p:nvSpPr>
        <p:spPr>
          <a:xfrm>
            <a:off x="320040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0" y="1676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В … сёл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97E0-B2D5-4BFB-847D-8243109288E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191120" y="44197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>
            <a:hlinkClick r:id="rId2" action="ppaction://hlinksldjump"/>
          </p:cNvPr>
          <p:cNvSpPr/>
          <p:nvPr/>
        </p:nvSpPr>
        <p:spPr>
          <a:xfrm>
            <a:off x="2819520" y="44197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-533520" y="1981080"/>
            <a:ext cx="967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Т…мнот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2-02-08T05:38:5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