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jpeg" ContentType="image/jpeg"/>
  <Override PartName="/ppt/media/image26.jpeg" ContentType="image/jpeg"/>
  <Override PartName="/ppt/media/image5.jpeg" ContentType="image/jpeg"/>
  <Override PartName="/ppt/media/image32.jpeg" ContentType="image/jpeg"/>
  <Override PartName="/ppt/media/image8.jpeg" ContentType="image/jpeg"/>
  <Override PartName="/ppt/media/image29.jpeg" ContentType="image/jpeg"/>
  <Override PartName="/ppt/media/image3.gif" ContentType="image/gif"/>
  <Override PartName="/ppt/media/image6.png" ContentType="image/png"/>
  <Override PartName="/ppt/media/image28.png" ContentType="image/png"/>
  <Override PartName="/ppt/media/image7.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20.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C4F0-BC1A-4D10-96EA-8574192FF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040C7-F33B-4144-99DE-C00D9B7A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2F95E-760F-4B7C-BB1C-94A4A4E450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C2B14-EFBE-4356-83F3-52F494F23E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2973C-598C-43AE-920D-DA05A6436C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1575B-A0BF-4EB7-AAB8-6B7A0745A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9320D-778B-4532-96D7-E28023FB1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724EB-A954-45F1-80F1-95A36E1F3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24A1DC-2E56-4FD0-BFE8-5BDF4700AA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7134F-2479-4CB1-BC17-16AF0F8C0F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6BF82B-2DC5-46F5-B6A8-7EA214AC3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7DD6D4-62AD-4A96-8704-832679C4D7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B9A82-DD7A-47E1-B48F-30720C3D7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DAB565-4A18-47D9-89B2-ADC1EB3813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1C857B-30F5-481F-98D0-CE1BD85224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9A6E71-F966-4259-840C-63EAF802B4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DA3265-C871-4030-880A-FCB012CB57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4436F1-0561-4580-BF7E-05C7DEC952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028E6C-77C4-4D5E-84BE-E0D007722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408256-6C42-4F4F-81B3-C0C754AD04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AAD9ED-1521-43BB-A3C6-2C99833064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118DA4-55D1-4C2B-BC8E-970EA1A582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18FAA8-882B-4574-B906-D483BAC333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4D53E-837D-4D6D-982A-FB962DD08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B0E179-D724-45DF-8E60-43A5F5C749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EA0B5B-24F3-4DF5-B4FF-E43B05541C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545FD0-C70B-4D1A-881A-EDF55B9F6E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B937C1-C910-4FB0-BD3D-61F3B3ED5B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009C6-BDE3-4219-BB73-0F8B1606E4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1DBBB6-DD96-46BE-87E4-760CC480D9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D29B8F-6324-41B3-AC07-372D2564D7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A11E72-8C30-46AB-9DC2-3E82EC118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05F40-B322-4C31-ABAE-EF88A2D5C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114A81-2205-46CB-ADAE-B06938819C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6B63C-D3DA-47C3-9CA6-24EE9BBAC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628AA4-1D5E-4728-9E5A-4138B78F16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7FF976-3890-46A6-80D9-1A855CDE3E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7CF0E4-2871-4121-B833-C82919869C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CC4B21-CAFD-4DD4-A1C1-D298C00B10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8BB552-6EC3-413E-94AA-262623B571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794C04-070F-48A5-92AA-134F1F0B0F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0F5E71-CF81-43D6-BDD8-5C7A5485A3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E5409A-90AA-4CB5-95A5-482B048E76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7496B5-E052-4EA3-AA2B-EA7509DAC3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24F526-979F-46A3-AB4C-DE202F7913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9CBF9-DC3F-4372-9FC0-11B1E056E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CF7D54-302C-4D34-98AE-4AEB02C6A8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BE055E-A21D-435F-85DB-BA00E95B52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25B0E8-EC28-4753-9093-3B0E7D0E68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AFACB6-F1BF-46FF-8035-B94C6F7A15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A1066E-718D-4168-9738-13734BB970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AEEBE8-69B4-4E9E-B09E-0ED8375001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04784D-55D0-427A-8367-91893A409B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8B6D79-D3E3-4FD6-BBEE-CEFDA64E33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1686FE-123E-483A-8455-4422460EC3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BD0C8F-1011-43D7-8DB8-935B5D125E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4951B-7EA9-4A7F-BBCE-F37893ADE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16EBCC-C495-4E7F-BDE2-FE08982824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B45990-C810-4B44-A4E1-666DE0F755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686FDE-6E6A-44CE-BAAC-AD8CD413B4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A1C015-F29E-4F5A-B817-8D82BB98A2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E5E054-AD86-4CFA-BE2E-CEAAA5EF95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F5BDFD-6027-4BCA-AD2F-8C9997C420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F74886-0AC2-437D-B868-AA7AFDB3EEF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515098-FD21-4017-8D19-5B07DD19A7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BC9825-6313-4EBD-A4AE-28D1417AEF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0C8CBF-6C4F-4557-A1F9-98CE683B41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206F0-1F82-4DD0-82C9-E032316F0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550F1C-21C9-4821-BB6E-B54A3EB573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97A421-A3E8-47D0-9F46-17C85F16D7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814C78-AD07-4DE6-81EE-F9FC54BF36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EE924A-AE50-40A8-90EF-E21758804E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8B67DE-3BC4-491F-A3D2-7FF4D61308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3DF541-3742-4D1C-8790-0931993EA7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0AD66E-3D7A-4FF6-AAD0-D7AFFECE24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C7F5C4-7D82-4CEB-8F41-BEF96F7B90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586AF6-8FE8-4158-BA84-B3E1617D7C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3817FB-9063-4533-9276-7FE4B80DF1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8FE79-E4EE-4A13-A0AB-004D3B6D8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94CAFE-240D-4240-BC92-EB9AB1865F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26B3BA-AECB-488D-94D9-20A14D652B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AF5B42-06CD-438D-9CF1-7267485621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A6E2D0-1997-44BE-AF6E-38A16D7476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6E003D-1BB0-4904-8B58-6C15EA6C5C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679AA5-B7EE-4723-AFCE-4C7F31F0ED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84A40E-B33E-416C-9252-2189C68F57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2172E2-DC45-40D2-BC35-2C86FCA84C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DA0E88-A4DE-42E2-A1C6-C4696871A2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C833420-6666-4C7C-A8BF-764DCF6981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3E4A8-1081-452E-B57E-0E3924A5B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689E32F-4B7A-4F7B-9130-9622F9576F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DB984CB-31B1-407E-BAF2-B833D84F063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37CB50-0B1B-4067-A7DD-A86BB8CCBC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6FAA33-E438-4228-BE81-7E1C954AD9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FDACC6-5B32-4A44-8F71-16BD985E8A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74EE04-5DF6-4D5E-B845-F539DB7AA2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418CD8-FCAD-44E2-B5CE-F1EC57C464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3FADBC-F9CA-4F93-933C-CBF34BDE48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4F8737-84CF-446C-A52A-E01CB6A850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512042-6F5D-4197-A799-041F4EEAF6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BF5A4-EB57-430B-8D32-6447AC5B8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01B639-ECD8-40CB-BCD6-7E5241DD50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1A31AC2-73AB-49D5-9D25-FFAC511F2B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0B304C3-8896-4200-ABC1-3D9A0E8F3BF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978AC46-3DF0-462F-8C3C-0DA7E5917A7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6A695E-5BD5-44F0-80E2-4F9B30C8E5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D63D9A-9EFA-4747-912A-79431EBBFF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6AB118-4487-4F0E-9727-D496795A0C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0AAD6F-D661-44C6-AC12-063593529B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B437A0-30A6-46DD-A7EC-C4DC0B8482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1EE035-2216-44C0-B28C-E9FC3CF6AD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7A10-7403-4584-994B-A1B6AE0E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C307-BD89-4475-A003-A1091E91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E4F372-5025-4FEB-92A6-B364813F14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634265-502A-429E-AA02-9B19D1AA2A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4FE029-611E-4191-9FC5-EEF5C4C28F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80605CA-0684-4455-A12E-D63BE1DE827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841A3A3-986C-4B98-BED5-D2D2533878B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BDA6-B237-40FE-9284-271B7DCE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1AD21-CB79-4DA2-BD53-4B1E9BDD5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6E58C-688C-408F-BFE8-E5764957E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24F77-8112-4A08-95A9-6C8FAC502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87934-7C69-42C8-AA55-D66998182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FDCE8-1A98-4BD0-BFBE-9FDF4F142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A4746-9394-487A-9264-C13B5EE78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67DF6-C9B4-4D25-A680-E6EE08714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E2996-4A6B-4336-8DA4-421B6624A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44192-6028-419D-8490-2CE28D3D0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E22B7-3E2B-4158-B2BE-8657F9AAC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484DC-1456-43ED-8E3A-23999D88D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B7D05-53A9-45C2-AFF7-078F02908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39C2F-75E6-41C6-A107-03B54A274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57EE2-1F81-4B6E-8DBB-514485172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01F49-7C6E-488B-9897-CE1134A41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1B0C7-6159-4FD2-BEE4-B44202AA5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73F0C8-D0DD-46A2-949A-2491239A9A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47D37-2615-49F4-9D23-EB940C49F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CEAE6-D23A-4948-A272-5689813FE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4413-F670-4AF2-A32E-BE8F2B3C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D90A2-604D-4D5D-B1C2-63325C8E5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6F6E4-5620-47FC-B858-4B9BF9FE4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3D2F3-6419-45BD-B3EC-CE2B4610F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55FFC-8544-46E3-95CE-3CDC6B451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E1416-E5C3-46AE-9C23-25D4B6B91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0B5F0-C030-45DD-A419-33D1753D1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37D46-85A0-4352-B06B-E510415C1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960C61-2531-4A2C-8BCC-68E69C788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6C543B-1445-4F36-AEAC-FCEBA7E96F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E684A-4D5E-4E24-A4B1-27F0F2FD34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3D26-FDEF-481F-B98D-EEEA643D8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D005E-A1A6-4EC4-83D7-04E4ECDAC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EB9B4-9678-450C-914C-C80018E83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1CB8A-4EDF-49EC-96FF-3DB5EA36C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AAE56-9B7B-4C05-9B49-61CEA3C6B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6AE66-CD67-49FA-BB2D-D7473E1AD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5940D-7738-419C-8208-CA8215374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4B1CD-AE35-4227-BA10-2BB071659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E909B-A689-4432-825E-B47A16109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8BD13B-7446-4C95-87B0-33060087B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8A2FE5-BE7E-46C7-8E0A-F466519797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B5F5-EB67-4E64-A813-96135263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9906D-CE38-422E-9568-DD64402725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F5B143-89F7-48B8-A6DD-5A3E93EF77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873C9-BE13-4453-BF19-6A57CE0B79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11FE8-BCDB-4D25-B8EB-C5EA9783B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A9B1F-524F-41EA-A306-A2D22DC2F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8C1C4-6687-4077-B1A9-A9A15D31B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25336-4208-4751-85DE-A518BC0FD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75E46-CD04-4B9F-8F57-8B9D13465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952E2-F8F2-4812-BFBB-B40CE9438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68A68-D682-41A3-9469-6CAD86836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B452C-DEBC-46F7-A9EE-06CCC292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FBB16A-B618-413B-A084-5953B665A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D1FA20-E799-44FB-8FCD-A3EB92F91E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3613D6-A6CD-43F1-9A32-7F1FF6CD0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9C2823-A90C-4E36-A6BE-6FE690818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ED7F9-5494-42B2-BD6C-1628B87B8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A29AB-8B4D-46BE-8BD3-82FF9EED8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819DC-1A2F-4F95-9E1E-37CBE9EDEC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BD7E9-7A62-482E-858A-819D31CCF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E4207D-A221-4438-9BB7-F4A7FC502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A863D-8988-4901-9619-6156D8D89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FE57-E841-4D1B-B5C6-F3018A16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5E87F-46D3-4693-A6E9-A7A73308E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C4997-09F9-4F02-85C8-95C5977BB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606F1-24BB-461C-93E2-70D23B83A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DB8B75-A63E-4BEA-867D-0D0B920AE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9D5493-8BC0-47F0-B2A5-4CB5E6C40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B65162-1049-4706-BF3D-3B74A0A2C8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C21A4-5C1F-46B1-8DAA-7783DA01D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65C2B-625A-4116-B597-DA1B8EA3E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C0227-6547-46AF-8049-CE03B08FB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C294D-923A-4904-B086-C5FAAE8D8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65AA-CA39-4648-9AE6-4B405295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5EEEC-37FD-42C9-8AE7-CC6651F0C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D67A3-A927-4439-8580-2AD0652189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70019-F061-4644-ACD3-50F8721A8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F1CFB-DA97-42B6-8E49-9C524334D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46BFDC-1BAA-4390-9E6A-D47800A689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F5AAA5-9EA9-48CF-BA4F-1ECFDAE215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69C1CE-EFE3-4225-A154-1AFAADB2E8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91BFD9-5F88-4F35-8336-5B7C939CC4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551EA8-A186-411E-8F7F-B212333E63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DC7A9-C15F-4319-9370-104F8C95F6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C2F47-7193-4EF2-9744-AD037511622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3EC73-AE0D-4740-9018-270BA18DFCB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FD662-26BA-4264-BC8D-684535D6A7E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215D2-9BD9-41EC-A57A-32BC835DE37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B488E-2E10-45C3-802B-A3A9DDB0338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6F2CB-58BB-4DB4-B504-3DA0D460C58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0BD3E-25D1-4239-962E-3A4B2AB1E63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C2F78-F968-4D5A-9B5B-CD02171E47B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3B018-E394-4B73-A1CE-F213737EA01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02D52-6C7E-4E65-8203-B239948266A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0921B-407C-4003-966B-C8F4B6AD032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11D0A-4040-408D-BC67-4690DBEB933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48EEA-52E3-4238-BC5C-3DA99217126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D35C8-D6F5-4A40-9659-61CB7E79A2D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BC040-55B4-4A75-B7FA-2ED78967387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86F53-A99A-4567-8CA8-8DD04D2552B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D4085-940C-477C-A223-494B0CBBD9E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zele.ru/news.php?id=4781" TargetMode="External"/><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Box 4"/>
          <p:cNvSpPr/>
          <p:nvPr/>
        </p:nvSpPr>
        <p:spPr>
          <a:xfrm>
            <a:off x="3112920" y="1706400"/>
            <a:ext cx="621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0000"/>
                </a:solidFill>
                <a:latin typeface="Times New Roman"/>
                <a:ea typeface="Times New Roman"/>
              </a:rPr>
              <a:t>Бионика –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0000"/>
                </a:solidFill>
                <a:latin typeface="Times New Roman"/>
                <a:ea typeface="Times New Roman"/>
              </a:rPr>
              <a:t>технический взгляд на природу.</a:t>
            </a:r>
            <a:endParaRPr b="0" lang="en-US" sz="2800" spc="-1" strike="noStrike">
              <a:solidFill>
                <a:srgbClr val="000000"/>
              </a:solidFill>
              <a:latin typeface="Century Gothic"/>
            </a:endParaRPr>
          </a:p>
        </p:txBody>
      </p:sp>
      <p:pic>
        <p:nvPicPr>
          <p:cNvPr id="1177" name="Picture 8" descr=""/>
          <p:cNvPicPr/>
          <p:nvPr/>
        </p:nvPicPr>
        <p:blipFill>
          <a:blip r:embed="rId1"/>
          <a:stretch/>
        </p:blipFill>
        <p:spPr>
          <a:xfrm rot="20883600">
            <a:off x="622440" y="3809880"/>
            <a:ext cx="2252520" cy="2544840"/>
          </a:xfrm>
          <a:prstGeom prst="rect">
            <a:avLst/>
          </a:prstGeom>
          <a:ln w="0">
            <a:noFill/>
          </a:ln>
        </p:spPr>
      </p:pic>
      <p:sp>
        <p:nvSpPr>
          <p:cNvPr id="1178" name="TextBox 7"/>
          <p:cNvSpPr/>
          <p:nvPr/>
        </p:nvSpPr>
        <p:spPr>
          <a:xfrm rot="21054600">
            <a:off x="2944800" y="3659040"/>
            <a:ext cx="5299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70c0"/>
                </a:solidFill>
                <a:latin typeface="Times New Roman"/>
                <a:ea typeface="Times New Roman"/>
              </a:rPr>
              <a:t>Птица – действующий по математическому закону инструмент, сделать который в человеческой власти…</a:t>
            </a:r>
            <a:endParaRPr b="0" lang="en-US" sz="24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Леонардо да Винчи</a:t>
            </a:r>
            <a:endParaRPr b="0" lang="en-US" sz="2400" spc="-1" strike="noStrike">
              <a:solidFill>
                <a:srgbClr val="000000"/>
              </a:solidFill>
              <a:latin typeface="Century Gothic"/>
            </a:endParaRPr>
          </a:p>
        </p:txBody>
      </p:sp>
      <p:sp>
        <p:nvSpPr>
          <p:cNvPr id="1179" name="Прямоугольник 1"/>
          <p:cNvSpPr/>
          <p:nvPr/>
        </p:nvSpPr>
        <p:spPr>
          <a:xfrm>
            <a:off x="6727680" y="3605040"/>
            <a:ext cx="4881600" cy="191916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Автор*: Кравченко Никит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чащийся 9 класс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ОУ Ключевской СОШ</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Константиновского район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мурской области.</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Руководитель: Абдулаева Т.И.  - </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учитель биологии</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МОУ Ключевской СОШ </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Константиновского район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мурской области</a:t>
            </a:r>
            <a:endParaRPr b="0" lang="en-US" sz="1200" spc="-1" strike="noStrike">
              <a:solidFill>
                <a:srgbClr val="000000"/>
              </a:solidFill>
              <a:latin typeface="Century Gothic"/>
            </a:endParaRPr>
          </a:p>
        </p:txBody>
      </p:sp>
      <p:sp>
        <p:nvSpPr>
          <p:cNvPr id="1180" name="Прямоугольник 1"/>
          <p:cNvSpPr/>
          <p:nvPr/>
        </p:nvSpPr>
        <p:spPr>
          <a:xfrm>
            <a:off x="519120" y="54000"/>
            <a:ext cx="11204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Муниципальное общеобразовательное учреждение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Ключевская средняя общеобразовательная школа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Константиновского района Амурской области</a:t>
            </a:r>
            <a:endParaRPr b="0" lang="en-US" sz="1800" spc="-1" strike="noStrike">
              <a:solidFill>
                <a:srgbClr val="000000"/>
              </a:solidFill>
              <a:latin typeface="Century Gothic"/>
            </a:endParaRPr>
          </a:p>
        </p:txBody>
      </p:sp>
      <p:sp>
        <p:nvSpPr>
          <p:cNvPr id="1181" name="Прямоугольник 2"/>
          <p:cNvSpPr/>
          <p:nvPr/>
        </p:nvSpPr>
        <p:spPr>
          <a:xfrm>
            <a:off x="2943360" y="99216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Проектная работа</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по биологии</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Picture 2" descr="bionics"/>
          <p:cNvPicPr/>
          <p:nvPr/>
        </p:nvPicPr>
        <p:blipFill>
          <a:blip r:embed="rId1"/>
          <a:stretch/>
        </p:blipFill>
        <p:spPr>
          <a:xfrm>
            <a:off x="7305840" y="2859120"/>
            <a:ext cx="4100400" cy="3325680"/>
          </a:xfrm>
          <a:prstGeom prst="rect">
            <a:avLst/>
          </a:prstGeom>
          <a:ln w="0">
            <a:noFill/>
          </a:ln>
        </p:spPr>
      </p:pic>
      <p:pic>
        <p:nvPicPr>
          <p:cNvPr id="1208" name="TextBox 5" descr=""/>
          <p:cNvPicPr/>
          <p:nvPr/>
        </p:nvPicPr>
        <p:blipFill>
          <a:blip r:embed="rId2"/>
          <a:stretch/>
        </p:blipFill>
        <p:spPr>
          <a:xfrm>
            <a:off x="609480" y="628560"/>
            <a:ext cx="6096240" cy="706680"/>
          </a:xfrm>
          <a:prstGeom prst="rect">
            <a:avLst/>
          </a:prstGeom>
          <a:ln w="0">
            <a:noFill/>
          </a:ln>
        </p:spPr>
      </p:pic>
      <p:sp>
        <p:nvSpPr>
          <p:cNvPr id="1209" name="TextBox 8"/>
          <p:cNvSpPr/>
          <p:nvPr/>
        </p:nvSpPr>
        <p:spPr>
          <a:xfrm>
            <a:off x="1384200" y="1552680"/>
            <a:ext cx="57214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У бионики есть символ: скрещенные скальпель, паяльник и знак интеграла. </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Этот союз биологии, техники и математики позволяет надеяться, что наука бионика проникнет туда, куда не проникал еще никто, и увидит то, чего не видел еще никто.</a:t>
            </a:r>
            <a:br>
              <a:rPr sz="2800"/>
            </a:b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TextBox 2"/>
          <p:cNvSpPr/>
          <p:nvPr/>
        </p:nvSpPr>
        <p:spPr>
          <a:xfrm>
            <a:off x="2050920" y="720720"/>
            <a:ext cx="7840800" cy="74592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Направления в бионике</a:t>
            </a:r>
            <a:endParaRPr b="0" lang="en-US" sz="4000" spc="-1" strike="noStrike">
              <a:solidFill>
                <a:srgbClr val="000000"/>
              </a:solidFill>
              <a:latin typeface="Century Gothic"/>
            </a:endParaRPr>
          </a:p>
        </p:txBody>
      </p:sp>
      <p:sp>
        <p:nvSpPr>
          <p:cNvPr id="1211" name="TextBox 3"/>
          <p:cNvSpPr/>
          <p:nvPr/>
        </p:nvSpPr>
        <p:spPr>
          <a:xfrm>
            <a:off x="1398600" y="1576440"/>
            <a:ext cx="9852120" cy="52603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Различают несколько направлений в бионике:</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биологическую бионику, изучающую процессы, происходящие в биологических системах;</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теоретическую бионику, которая строит математические модели этих процессов;</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техническую бионику, применяющую модели теоретической бионики для решения инженерных задач.</a:t>
            </a:r>
            <a:endParaRPr b="0" lang="en-US" sz="2800" spc="-1" strike="noStrike">
              <a:solidFill>
                <a:srgbClr val="000000"/>
              </a:solidFill>
              <a:latin typeface="Century Gothic"/>
            </a:endParaRPr>
          </a:p>
          <a:p>
            <a:pPr>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Calibri"/>
              </a:rPr>
              <a:t>Бионика тесно связана с биологией, физикой, химией, кибернетикой и инженерными науками: электроникой, навигацией, связью, морским делом и другими.</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Box 1"/>
          <p:cNvSpPr/>
          <p:nvPr/>
        </p:nvSpPr>
        <p:spPr>
          <a:xfrm>
            <a:off x="1251000" y="285840"/>
            <a:ext cx="9255240" cy="1397880"/>
          </a:xfrm>
          <a:prstGeom prst="rect">
            <a:avLst/>
          </a:prstGeom>
          <a:noFill/>
          <a:ln w="0">
            <a:noFill/>
          </a:ln>
        </p:spPr>
        <p:style>
          <a:lnRef idx="0"/>
          <a:fillRef idx="0"/>
          <a:effectRef idx="0"/>
          <a:fontRef idx="minor"/>
        </p:style>
        <p:txBody>
          <a:bodyPr lIns="90000" rIns="90000" tIns="46800" bIns="46800" anchor="t">
            <a:spAutoFit/>
          </a:bodyPr>
          <a:p>
            <a:pPr marL="14400" algn="ctr">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252525"/>
                </a:solidFill>
                <a:latin typeface="Times New Roman"/>
                <a:ea typeface="Times New Roman"/>
              </a:rPr>
              <a:t>Десять самых известных открытий бионики</a:t>
            </a:r>
            <a:endParaRPr b="0" lang="en-US" sz="4000" spc="-1" strike="noStrike">
              <a:solidFill>
                <a:srgbClr val="000000"/>
              </a:solidFill>
              <a:latin typeface="Century Gothic"/>
            </a:endParaRPr>
          </a:p>
        </p:txBody>
      </p:sp>
      <p:sp>
        <p:nvSpPr>
          <p:cNvPr id="1213" name="TextBox 2"/>
          <p:cNvSpPr/>
          <p:nvPr/>
        </p:nvSpPr>
        <p:spPr>
          <a:xfrm>
            <a:off x="415800" y="1609560"/>
            <a:ext cx="9836280" cy="146232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1. </a:t>
            </a:r>
            <a:r>
              <a:rPr b="0" lang="ru-RU" sz="2800" spc="-1" strike="noStrike">
                <a:solidFill>
                  <a:srgbClr val="000000"/>
                </a:solidFill>
                <a:latin typeface="Times New Roman"/>
                <a:ea typeface="Times New Roman"/>
              </a:rPr>
              <a:t>Подводные лодки» в природе известны давно – это обычные рыбы, способные изменять свою плавучесть, впуская газ в плавательный пузырь или выпуская его.</a:t>
            </a:r>
            <a:r>
              <a:rPr b="0" lang="ru-RU" sz="2800" spc="-1" strike="noStrike">
                <a:solidFill>
                  <a:srgbClr val="252525"/>
                </a:solidFill>
                <a:latin typeface="Times New Roman"/>
                <a:ea typeface="Times New Roman"/>
              </a:rPr>
              <a:t>.</a:t>
            </a:r>
            <a:endParaRPr b="0" lang="en-US" sz="2800" spc="-1" strike="noStrike">
              <a:solidFill>
                <a:srgbClr val="000000"/>
              </a:solidFill>
              <a:latin typeface="Century Gothic"/>
            </a:endParaRPr>
          </a:p>
        </p:txBody>
      </p:sp>
      <p:sp>
        <p:nvSpPr>
          <p:cNvPr id="1214" name="TextBox 6"/>
          <p:cNvSpPr/>
          <p:nvPr/>
        </p:nvSpPr>
        <p:spPr>
          <a:xfrm>
            <a:off x="4425840" y="4214880"/>
            <a:ext cx="77583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2. </a:t>
            </a:r>
            <a:r>
              <a:rPr b="0" lang="ru-RU" sz="2800" spc="-1" strike="noStrike">
                <a:solidFill>
                  <a:srgbClr val="000000"/>
                </a:solidFill>
                <a:latin typeface="Times New Roman"/>
                <a:ea typeface="Times New Roman"/>
              </a:rPr>
              <a:t>Застежки «молния» были сделаны на основе строения пера птицы. Бородки</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пера различных порядков, оснащенные крючками, обеспечивают надежное сцепление.</a:t>
            </a:r>
            <a:endParaRPr b="0" lang="en-US" sz="2800" spc="-1" strike="noStrike">
              <a:solidFill>
                <a:srgbClr val="000000"/>
              </a:solidFill>
              <a:latin typeface="Century Gothic"/>
            </a:endParaRPr>
          </a:p>
          <a:p>
            <a:pPr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1215" name="Рисунок 8" descr=""/>
          <p:cNvPicPr/>
          <p:nvPr/>
        </p:nvPicPr>
        <p:blipFill>
          <a:blip r:embed="rId1"/>
          <a:stretch/>
        </p:blipFill>
        <p:spPr>
          <a:xfrm>
            <a:off x="6515280" y="2655720"/>
            <a:ext cx="2320920" cy="1132200"/>
          </a:xfrm>
          <a:prstGeom prst="rect">
            <a:avLst/>
          </a:prstGeom>
          <a:ln w="0">
            <a:noFill/>
          </a:ln>
        </p:spPr>
      </p:pic>
      <p:pic>
        <p:nvPicPr>
          <p:cNvPr id="1216" name="Рисунок 10" descr=""/>
          <p:cNvPicPr/>
          <p:nvPr/>
        </p:nvPicPr>
        <p:blipFill>
          <a:blip r:embed="rId2"/>
          <a:stretch/>
        </p:blipFill>
        <p:spPr>
          <a:xfrm>
            <a:off x="9236160" y="2476440"/>
            <a:ext cx="2319120" cy="1738440"/>
          </a:xfrm>
          <a:prstGeom prst="rect">
            <a:avLst/>
          </a:prstGeom>
          <a:ln w="0">
            <a:noFill/>
          </a:ln>
        </p:spPr>
      </p:pic>
      <p:pic>
        <p:nvPicPr>
          <p:cNvPr id="1217" name="Picture 13" descr="C:\Users\Владимир\Desktop\Первое сентября\картинки\Молния.bmp"/>
          <p:cNvPicPr/>
          <p:nvPr/>
        </p:nvPicPr>
        <p:blipFill>
          <a:blip r:embed="rId3"/>
          <a:stretch/>
        </p:blipFill>
        <p:spPr>
          <a:xfrm>
            <a:off x="2577960" y="4352760"/>
            <a:ext cx="1716120" cy="1656000"/>
          </a:xfrm>
          <a:prstGeom prst="rect">
            <a:avLst/>
          </a:prstGeom>
          <a:ln w="0">
            <a:noFill/>
          </a:ln>
        </p:spPr>
      </p:pic>
      <p:pic>
        <p:nvPicPr>
          <p:cNvPr id="1218" name="Рисунок 12" descr=""/>
          <p:cNvPicPr/>
          <p:nvPr/>
        </p:nvPicPr>
        <p:blipFill>
          <a:blip r:embed="rId4"/>
          <a:stretch/>
        </p:blipFill>
        <p:spPr>
          <a:xfrm>
            <a:off x="601560" y="3429000"/>
            <a:ext cx="1976400" cy="173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17"/>
                                        </p:tgtEl>
                                        <p:attrNameLst>
                                          <p:attrName>style.visibility</p:attrName>
                                        </p:attrNameLst>
                                      </p:cBhvr>
                                      <p:to>
                                        <p:strVal val="visible"/>
                                      </p:to>
                                    </p:set>
                                    <p:animEffect filter="blinds(horizontal)" transition="in">
                                      <p:cBhvr additive="repl">
                                        <p:cTn id="7"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TextBox 1"/>
          <p:cNvSpPr/>
          <p:nvPr/>
        </p:nvSpPr>
        <p:spPr>
          <a:xfrm>
            <a:off x="1662120" y="331920"/>
            <a:ext cx="9337680" cy="237456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3. </a:t>
            </a:r>
            <a:r>
              <a:rPr b="0" lang="ru-RU" sz="2800" spc="-1" strike="noStrike">
                <a:solidFill>
                  <a:srgbClr val="000000"/>
                </a:solidFill>
                <a:latin typeface="Times New Roman"/>
                <a:ea typeface="Times New Roman"/>
              </a:rPr>
              <a:t>Нынешние буровые машины являются увеличенной механической копией дождевых червей. Также как и они, буровые машины "проедают" землю (и выпускают ее через заднюю часть), непрерывно двигаясь вперед, оставляя большой тоннель позади себя.</a:t>
            </a:r>
            <a:endParaRPr b="0" lang="en-US" sz="2800" spc="-1" strike="noStrike">
              <a:solidFill>
                <a:srgbClr val="000000"/>
              </a:solidFill>
              <a:latin typeface="Century Gothic"/>
            </a:endParaRPr>
          </a:p>
        </p:txBody>
      </p:sp>
      <p:pic>
        <p:nvPicPr>
          <p:cNvPr id="1220" name="Рисунок 3" descr=""/>
          <p:cNvPicPr/>
          <p:nvPr/>
        </p:nvPicPr>
        <p:blipFill>
          <a:blip r:embed="rId1"/>
          <a:stretch/>
        </p:blipFill>
        <p:spPr>
          <a:xfrm>
            <a:off x="8396280" y="2376360"/>
            <a:ext cx="3078000" cy="1530360"/>
          </a:xfrm>
          <a:prstGeom prst="rect">
            <a:avLst/>
          </a:prstGeom>
          <a:ln w="0">
            <a:noFill/>
          </a:ln>
        </p:spPr>
      </p:pic>
      <p:sp>
        <p:nvSpPr>
          <p:cNvPr id="1221" name="TextBox 7"/>
          <p:cNvSpPr/>
          <p:nvPr/>
        </p:nvSpPr>
        <p:spPr>
          <a:xfrm>
            <a:off x="3699000" y="4057560"/>
            <a:ext cx="6095880" cy="23745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13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4. Способность слоновьего хобота вытягиваться в любом направлении и хватать все, что захочется, была использована учеными при разработке </a:t>
            </a:r>
            <a:r>
              <a:rPr b="0" lang="ru-RU" sz="2800" spc="-1" strike="noStrike" u="sng">
                <a:solidFill>
                  <a:srgbClr val="fb4a18"/>
                </a:solidFill>
                <a:uFillTx/>
                <a:latin typeface="Times New Roman"/>
                <a:ea typeface="Times New Roman"/>
                <a:hlinkClick r:id="rId2"/>
              </a:rPr>
              <a:t>роботизированной руки</a:t>
            </a:r>
            <a:r>
              <a:rPr b="0" lang="ru-RU" sz="2800" spc="-1" strike="noStrike">
                <a:solidFill>
                  <a:srgbClr val="000000"/>
                </a:solidFill>
                <a:latin typeface="Times New Roman"/>
                <a:ea typeface="Times New Roman"/>
              </a:rPr>
              <a:t>.</a:t>
            </a:r>
            <a:endParaRPr b="0" lang="en-US" sz="2800" spc="-1" strike="noStrike">
              <a:solidFill>
                <a:srgbClr val="000000"/>
              </a:solidFill>
              <a:latin typeface="Century Gothic"/>
            </a:endParaRPr>
          </a:p>
        </p:txBody>
      </p:sp>
      <p:pic>
        <p:nvPicPr>
          <p:cNvPr id="1222" name="Рисунок 8" descr=""/>
          <p:cNvPicPr/>
          <p:nvPr/>
        </p:nvPicPr>
        <p:blipFill>
          <a:blip r:embed="rId3"/>
          <a:stretch/>
        </p:blipFill>
        <p:spPr>
          <a:xfrm>
            <a:off x="717480" y="3060720"/>
            <a:ext cx="2843280" cy="217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TextBox 3"/>
          <p:cNvSpPr/>
          <p:nvPr/>
        </p:nvSpPr>
        <p:spPr>
          <a:xfrm>
            <a:off x="1681200" y="390600"/>
            <a:ext cx="948996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5. </a:t>
            </a:r>
            <a:r>
              <a:rPr b="0" lang="ru-RU" sz="2800" spc="-1" strike="noStrike">
                <a:solidFill>
                  <a:srgbClr val="000000"/>
                </a:solidFill>
                <a:latin typeface="Times New Roman"/>
                <a:ea typeface="Times New Roman"/>
              </a:rPr>
              <a:t>Змеи оснащены </a:t>
            </a:r>
            <a:r>
              <a:rPr b="0" lang="ru-RU" sz="2800" spc="-1" strike="noStrike">
                <a:solidFill>
                  <a:srgbClr val="007aff"/>
                </a:solidFill>
                <a:latin typeface="Times New Roman"/>
                <a:ea typeface="Times New Roman"/>
              </a:rPr>
              <a:t>удивительным органом</a:t>
            </a:r>
            <a:r>
              <a:rPr b="0" lang="ru-RU" sz="2800" spc="-1" strike="noStrike">
                <a:solidFill>
                  <a:srgbClr val="000000"/>
                </a:solidFill>
                <a:latin typeface="Times New Roman"/>
                <a:ea typeface="Times New Roman"/>
              </a:rPr>
              <a:t> , видящим тепловые инфракрасные лучи. Повысив точность "змеиного метода", ученые создали уникальную тепловизорную диагностику и создали приборы ночного видения и медицинские аппараты.</a:t>
            </a:r>
            <a:endParaRPr b="0" lang="en-US" sz="2800" spc="-1" strike="noStrike">
              <a:solidFill>
                <a:srgbClr val="000000"/>
              </a:solidFill>
              <a:latin typeface="Century Gothic"/>
            </a:endParaRPr>
          </a:p>
          <a:p>
            <a:pPr algn="just">
              <a:lnSpc>
                <a:spcPct val="107000"/>
              </a:lnSpc>
              <a:spcAft>
                <a:spcPts val="13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1224" name="Рисунок 5" descr=""/>
          <p:cNvPicPr/>
          <p:nvPr/>
        </p:nvPicPr>
        <p:blipFill>
          <a:blip r:embed="rId1"/>
          <a:stretch/>
        </p:blipFill>
        <p:spPr>
          <a:xfrm>
            <a:off x="9707400" y="1790640"/>
            <a:ext cx="2021040" cy="2747880"/>
          </a:xfrm>
          <a:prstGeom prst="rect">
            <a:avLst/>
          </a:prstGeom>
          <a:ln w="0">
            <a:noFill/>
          </a:ln>
        </p:spPr>
      </p:pic>
      <p:sp>
        <p:nvSpPr>
          <p:cNvPr id="1225" name="TextBox 7"/>
          <p:cNvSpPr/>
          <p:nvPr/>
        </p:nvSpPr>
        <p:spPr>
          <a:xfrm>
            <a:off x="463680" y="2854440"/>
            <a:ext cx="6095880" cy="19184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6. После того как Перси Шо  увидел, как отражаются автомобильные фары в глазах кошки он решил создать первые дорожные отражатели.. </a:t>
            </a:r>
            <a:endParaRPr b="0" lang="en-US" sz="2800" spc="-1" strike="noStrike">
              <a:solidFill>
                <a:srgbClr val="000000"/>
              </a:solidFill>
              <a:latin typeface="Century Gothic"/>
            </a:endParaRPr>
          </a:p>
        </p:txBody>
      </p:sp>
      <p:pic>
        <p:nvPicPr>
          <p:cNvPr id="1226" name="Рисунок 8" descr=""/>
          <p:cNvPicPr/>
          <p:nvPr/>
        </p:nvPicPr>
        <p:blipFill>
          <a:blip r:embed="rId2"/>
          <a:stretch/>
        </p:blipFill>
        <p:spPr>
          <a:xfrm>
            <a:off x="6559560" y="4033800"/>
            <a:ext cx="2021040" cy="268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Box 3"/>
          <p:cNvSpPr/>
          <p:nvPr/>
        </p:nvSpPr>
        <p:spPr>
          <a:xfrm>
            <a:off x="1746360" y="554040"/>
            <a:ext cx="96138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7. После того, как ученые исследовали под микроскопом колючки различных растений, швейцарский инженер Джорж де Местраль (George de Mestral) заметил, что они содержат сотни маленьких крючков, которые расположены так, что волосы или одежда цепляются за них. Он воссоздал эффект крючков, используя двусторонний материал, который мы называем липучкой (или велкро).</a:t>
            </a:r>
            <a:endParaRPr b="0" lang="en-US" sz="2800" spc="-1" strike="noStrike">
              <a:solidFill>
                <a:srgbClr val="000000"/>
              </a:solidFill>
              <a:latin typeface="Century Gothic"/>
            </a:endParaRPr>
          </a:p>
        </p:txBody>
      </p:sp>
      <p:pic>
        <p:nvPicPr>
          <p:cNvPr id="1228" name="Рисунок 5" descr=""/>
          <p:cNvPicPr/>
          <p:nvPr/>
        </p:nvPicPr>
        <p:blipFill>
          <a:blip r:embed="rId1"/>
          <a:stretch/>
        </p:blipFill>
        <p:spPr>
          <a:xfrm>
            <a:off x="3103560" y="3976560"/>
            <a:ext cx="51260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TextBox 3"/>
          <p:cNvSpPr/>
          <p:nvPr/>
        </p:nvSpPr>
        <p:spPr>
          <a:xfrm>
            <a:off x="1584360" y="241200"/>
            <a:ext cx="9023400" cy="37429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8. Основные принципы конструкции, согласно которым была построена знаменитая Эйфелева башня, основаны на работе врача Германа фон Мейера, который изучал структуру бедренной кости. Выяснилось, что кость покрыта сеткой миниатюрных косточек, благодаря которым нагрузка перераспределяется. Позже это знание использовалось Эйфелем для перераспределения нагрузки в башне…</a:t>
            </a:r>
            <a:endParaRPr b="0" lang="en-US" sz="2800" spc="-1" strike="noStrike">
              <a:solidFill>
                <a:srgbClr val="000000"/>
              </a:solidFill>
              <a:latin typeface="Century Gothic"/>
            </a:endParaRPr>
          </a:p>
        </p:txBody>
      </p:sp>
      <p:pic>
        <p:nvPicPr>
          <p:cNvPr id="1230" name="Picture 1" descr="http://bio.fizteh.ru/student/biotech/2003/nano_bionika/p6.jpg"/>
          <p:cNvPicPr/>
          <p:nvPr/>
        </p:nvPicPr>
        <p:blipFill>
          <a:blip r:embed="rId1"/>
          <a:stretch/>
        </p:blipFill>
        <p:spPr>
          <a:xfrm>
            <a:off x="3392640" y="3998880"/>
            <a:ext cx="2381040" cy="2009880"/>
          </a:xfrm>
          <a:prstGeom prst="rect">
            <a:avLst/>
          </a:prstGeom>
          <a:ln w="0">
            <a:noFill/>
          </a:ln>
        </p:spPr>
      </p:pic>
      <p:pic>
        <p:nvPicPr>
          <p:cNvPr id="1231" name="Picture 2" descr="http://bio.fizteh.ru/student/biotech/2003/nano_bionika/p5.jpg"/>
          <p:cNvPicPr/>
          <p:nvPr/>
        </p:nvPicPr>
        <p:blipFill>
          <a:blip r:embed="rId2"/>
          <a:stretch/>
        </p:blipFill>
        <p:spPr>
          <a:xfrm>
            <a:off x="7580160" y="3483000"/>
            <a:ext cx="238140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Box 5"/>
          <p:cNvSpPr/>
          <p:nvPr/>
        </p:nvSpPr>
        <p:spPr>
          <a:xfrm>
            <a:off x="2355840" y="582480"/>
            <a:ext cx="87282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9. Всем известно, что акваланг был изобретен в 1943 году Жаком Кусто. Но на самом деле, он лишь воспользовался наблюдением взятыми из природы. Один из видов водных жуков, во время погружения в воду тянет за собой пузырек воздуха, который выпускает принятый от жука углекислый газ, а из воды набирает кислород.</a:t>
            </a:r>
            <a:endParaRPr b="0" lang="en-US" sz="2800" spc="-1" strike="noStrike">
              <a:solidFill>
                <a:srgbClr val="000000"/>
              </a:solidFill>
              <a:latin typeface="Century Gothic"/>
            </a:endParaRPr>
          </a:p>
        </p:txBody>
      </p:sp>
      <p:pic>
        <p:nvPicPr>
          <p:cNvPr id="1233" name="Picture 11" descr=""/>
          <p:cNvPicPr/>
          <p:nvPr/>
        </p:nvPicPr>
        <p:blipFill>
          <a:blip r:embed="rId1"/>
          <a:stretch/>
        </p:blipFill>
        <p:spPr>
          <a:xfrm>
            <a:off x="758880" y="4032360"/>
            <a:ext cx="2692440" cy="2141280"/>
          </a:xfrm>
          <a:prstGeom prst="rect">
            <a:avLst/>
          </a:prstGeom>
          <a:ln w="0">
            <a:noFill/>
          </a:ln>
        </p:spPr>
      </p:pic>
      <p:pic>
        <p:nvPicPr>
          <p:cNvPr id="1234" name="Picture 12" descr=""/>
          <p:cNvPicPr/>
          <p:nvPr/>
        </p:nvPicPr>
        <p:blipFill>
          <a:blip r:embed="rId2"/>
          <a:stretch/>
        </p:blipFill>
        <p:spPr>
          <a:xfrm>
            <a:off x="4029120" y="3859200"/>
            <a:ext cx="3098880" cy="2214720"/>
          </a:xfrm>
          <a:prstGeom prst="rect">
            <a:avLst/>
          </a:prstGeom>
          <a:ln w="0">
            <a:noFill/>
          </a:ln>
        </p:spPr>
      </p:pic>
      <p:pic>
        <p:nvPicPr>
          <p:cNvPr id="1235" name="Рисунок 9" descr=""/>
          <p:cNvPicPr/>
          <p:nvPr/>
        </p:nvPicPr>
        <p:blipFill>
          <a:blip r:embed="rId3"/>
          <a:stretch/>
        </p:blipFill>
        <p:spPr>
          <a:xfrm>
            <a:off x="7705800" y="3833640"/>
            <a:ext cx="3398760" cy="226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TextBox 3"/>
          <p:cNvSpPr/>
          <p:nvPr/>
        </p:nvSpPr>
        <p:spPr>
          <a:xfrm>
            <a:off x="1730520" y="209520"/>
            <a:ext cx="90882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10.</a:t>
            </a:r>
            <a:r>
              <a:rPr b="0" lang="ru-RU" sz="2800" spc="-1" strike="noStrike">
                <a:solidFill>
                  <a:srgbClr val="373737"/>
                </a:solidFill>
                <a:latin typeface="Times New Roman"/>
                <a:ea typeface="Times New Roman"/>
              </a:rPr>
              <a:t> </a:t>
            </a:r>
            <a:r>
              <a:rPr b="0" lang="ru-RU" sz="2800" spc="-1" strike="noStrike">
                <a:solidFill>
                  <a:srgbClr val="007aff"/>
                </a:solidFill>
                <a:latin typeface="Times New Roman"/>
                <a:ea typeface="Times New Roman"/>
              </a:rPr>
              <a:t>Гидролокаторы</a:t>
            </a:r>
            <a:r>
              <a:rPr b="0" lang="ru-RU" sz="2800" spc="-1" strike="noStrike">
                <a:solidFill>
                  <a:srgbClr val="000000"/>
                </a:solidFill>
                <a:latin typeface="Times New Roman"/>
                <a:ea typeface="Times New Roman"/>
              </a:rPr>
              <a:t> были подарены природой </a:t>
            </a:r>
            <a:r>
              <a:rPr b="0" lang="ru-RU" sz="2800" spc="-1" strike="noStrike">
                <a:solidFill>
                  <a:srgbClr val="007aff"/>
                </a:solidFill>
                <a:latin typeface="Times New Roman"/>
                <a:ea typeface="Times New Roman"/>
              </a:rPr>
              <a:t>китам и дельфинам</a:t>
            </a:r>
            <a:r>
              <a:rPr b="0" lang="ru-RU" sz="2800" spc="-1" strike="noStrike">
                <a:solidFill>
                  <a:srgbClr val="000000"/>
                </a:solidFill>
                <a:latin typeface="Times New Roman"/>
                <a:ea typeface="Times New Roman"/>
              </a:rPr>
              <a:t>, благодаря чему они ориентируются под водой. люди не могли пройти мимо этого "устройства". Подводные лодки, корабли и другие морские суда оснащены такими же гидролокаторами для навигации, отслеживания целей и предотвращения столкновения с препятствиями.</a:t>
            </a:r>
            <a:endParaRPr b="0" lang="en-US" sz="2800" spc="-1" strike="noStrike">
              <a:solidFill>
                <a:srgbClr val="000000"/>
              </a:solidFill>
              <a:latin typeface="Century Gothic"/>
            </a:endParaRPr>
          </a:p>
        </p:txBody>
      </p:sp>
      <p:pic>
        <p:nvPicPr>
          <p:cNvPr id="1237" name="Рисунок 5" descr=""/>
          <p:cNvPicPr/>
          <p:nvPr/>
        </p:nvPicPr>
        <p:blipFill>
          <a:blip r:embed="rId1"/>
          <a:stretch/>
        </p:blipFill>
        <p:spPr>
          <a:xfrm>
            <a:off x="3602160" y="4016520"/>
            <a:ext cx="4987800" cy="263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Box 3"/>
          <p:cNvSpPr/>
          <p:nvPr/>
        </p:nvSpPr>
        <p:spPr>
          <a:xfrm>
            <a:off x="1612800" y="528480"/>
            <a:ext cx="6881760" cy="74592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Анкетирование</a:t>
            </a:r>
            <a:endParaRPr b="0" lang="en-US" sz="4000" spc="-1" strike="noStrike">
              <a:solidFill>
                <a:srgbClr val="000000"/>
              </a:solidFill>
              <a:latin typeface="Century Gothic"/>
            </a:endParaRPr>
          </a:p>
        </p:txBody>
      </p:sp>
      <p:sp>
        <p:nvSpPr>
          <p:cNvPr id="1239" name="TextBox 4"/>
          <p:cNvSpPr/>
          <p:nvPr/>
        </p:nvSpPr>
        <p:spPr>
          <a:xfrm>
            <a:off x="817560" y="1592280"/>
            <a:ext cx="10853640" cy="380628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1</a:t>
            </a:r>
            <a:r>
              <a:rPr b="0" lang="ru-RU" sz="2800" spc="-1" strike="noStrike">
                <a:solidFill>
                  <a:srgbClr val="252525"/>
                </a:solidFill>
                <a:latin typeface="Times New Roman"/>
                <a:ea typeface="Times New Roman"/>
              </a:rPr>
              <a:t> Что такое бионика?</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 2 </a:t>
            </a:r>
            <a:r>
              <a:rPr b="0" lang="ru-RU" sz="2800" spc="-1" strike="noStrike">
                <a:solidFill>
                  <a:srgbClr val="000000"/>
                </a:solidFill>
                <a:latin typeface="Times New Roman"/>
                <a:ea typeface="Times New Roman"/>
              </a:rPr>
              <a:t>Считаете ли вы бионику важной наукой?</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000000"/>
                </a:solidFill>
                <a:latin typeface="Times New Roman"/>
                <a:ea typeface="Times New Roman"/>
              </a:rPr>
              <a:t>Вопрос № 3  </a:t>
            </a:r>
            <a:r>
              <a:rPr b="0" lang="ru-RU" sz="2800" spc="-1" strike="noStrike">
                <a:solidFill>
                  <a:srgbClr val="000000"/>
                </a:solidFill>
                <a:latin typeface="Times New Roman"/>
                <a:ea typeface="Times New Roman"/>
              </a:rPr>
              <a:t>Какие предметы или вещи взятые у природы вы знаете?</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 4 </a:t>
            </a:r>
            <a:r>
              <a:rPr b="0" lang="ru-RU" sz="2800" spc="-1" strike="noStrike">
                <a:solidFill>
                  <a:srgbClr val="000000"/>
                </a:solidFill>
                <a:latin typeface="Times New Roman"/>
                <a:ea typeface="Times New Roman"/>
              </a:rPr>
              <a:t>Наблюдая за животными или растениями, вы когда-нибудь хотели взять что-то у них себе, что-то, что например, облегчило бы вам жизнь? Если да, то что? </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000000"/>
                </a:solidFill>
                <a:latin typeface="Times New Roman"/>
                <a:ea typeface="Times New Roman"/>
              </a:rPr>
              <a:t>Вопрос №5</a:t>
            </a:r>
            <a:r>
              <a:rPr b="0" lang="ru-RU" sz="2800" spc="-1" strike="noStrike">
                <a:solidFill>
                  <a:srgbClr val="000000"/>
                </a:solidFill>
                <a:latin typeface="Times New Roman"/>
                <a:ea typeface="Times New Roman"/>
              </a:rPr>
              <a:t> Какие «продукты» бионики вы используете чаще всего? Что вы бы хотели в них изменить?</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2" name="Picture 5" descr="25747205_1211722968_136(1)"/>
          <p:cNvPicPr/>
          <p:nvPr/>
        </p:nvPicPr>
        <p:blipFill>
          <a:blip r:embed="rId1"/>
          <a:stretch/>
        </p:blipFill>
        <p:spPr>
          <a:xfrm>
            <a:off x="7740720" y="2371680"/>
            <a:ext cx="3794040" cy="3540240"/>
          </a:xfrm>
          <a:prstGeom prst="rect">
            <a:avLst/>
          </a:prstGeom>
          <a:ln w="0">
            <a:noFill/>
          </a:ln>
        </p:spPr>
      </p:pic>
      <p:sp>
        <p:nvSpPr>
          <p:cNvPr id="1183" name="TextBox 4"/>
          <p:cNvSpPr/>
          <p:nvPr/>
        </p:nvSpPr>
        <p:spPr>
          <a:xfrm>
            <a:off x="1579680" y="474840"/>
            <a:ext cx="9032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Актуальность темы:</a:t>
            </a:r>
            <a:r>
              <a:rPr b="1" lang="en-US" sz="4800" spc="-1" strike="noStrike">
                <a:solidFill>
                  <a:srgbClr val="002060"/>
                </a:solidFill>
                <a:latin typeface="Times New Roman"/>
                <a:ea typeface="Times New Roman"/>
              </a:rPr>
              <a:t>  </a:t>
            </a:r>
            <a:endParaRPr b="0" lang="en-US" sz="4800" spc="-1" strike="noStrike">
              <a:solidFill>
                <a:srgbClr val="000000"/>
              </a:solidFill>
              <a:latin typeface="Century Gothic"/>
            </a:endParaRPr>
          </a:p>
        </p:txBody>
      </p:sp>
      <p:sp>
        <p:nvSpPr>
          <p:cNvPr id="1184" name="TextBox 5"/>
          <p:cNvSpPr/>
          <p:nvPr/>
        </p:nvSpPr>
        <p:spPr>
          <a:xfrm>
            <a:off x="1042920" y="1306440"/>
            <a:ext cx="74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В наше время создаётся множество новых технологий, изделий упрощающих жизнь общества. А как рождаются все эти идеи? Откуда берутся  гениальные сооружения и механизмы позволяющие сделать жизнь человека комфортной?  Природа – главный и самый опытный строитель и  большинство идей заимствованы человеком у нее.</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TextBox 3"/>
          <p:cNvSpPr/>
          <p:nvPr/>
        </p:nvSpPr>
        <p:spPr>
          <a:xfrm>
            <a:off x="1563840" y="593640"/>
            <a:ext cx="940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Предметы бионики  в нашем быту. </a:t>
            </a:r>
            <a:endParaRPr b="0" lang="en-US" sz="4000" spc="-1" strike="noStrike">
              <a:solidFill>
                <a:srgbClr val="000000"/>
              </a:solidFill>
              <a:latin typeface="Century Gothic"/>
            </a:endParaRPr>
          </a:p>
        </p:txBody>
      </p:sp>
      <p:sp>
        <p:nvSpPr>
          <p:cNvPr id="1241" name="Рисунок 5"/>
          <p:cNvSpPr/>
          <p:nvPr/>
        </p:nvSpPr>
        <p:spPr>
          <a:xfrm>
            <a:off x="585720" y="1571760"/>
            <a:ext cx="2567160" cy="192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pic>
        <p:nvPicPr>
          <p:cNvPr id="1242" name="Рисунок 9" descr=""/>
          <p:cNvPicPr/>
          <p:nvPr/>
        </p:nvPicPr>
        <p:blipFill>
          <a:blip r:embed="rId1"/>
          <a:stretch/>
        </p:blipFill>
        <p:spPr>
          <a:xfrm>
            <a:off x="939960" y="1515960"/>
            <a:ext cx="3665520" cy="2749680"/>
          </a:xfrm>
          <a:prstGeom prst="rect">
            <a:avLst/>
          </a:prstGeom>
          <a:ln w="0">
            <a:noFill/>
          </a:ln>
        </p:spPr>
      </p:pic>
      <p:pic>
        <p:nvPicPr>
          <p:cNvPr id="1243" name="Рисунок 11" descr=""/>
          <p:cNvPicPr/>
          <p:nvPr/>
        </p:nvPicPr>
        <p:blipFill>
          <a:blip r:embed="rId2"/>
          <a:stretch/>
        </p:blipFill>
        <p:spPr>
          <a:xfrm>
            <a:off x="4803840" y="3429000"/>
            <a:ext cx="3402000" cy="2550960"/>
          </a:xfrm>
          <a:prstGeom prst="rect">
            <a:avLst/>
          </a:prstGeom>
          <a:ln w="0">
            <a:noFill/>
          </a:ln>
        </p:spPr>
      </p:pic>
      <p:pic>
        <p:nvPicPr>
          <p:cNvPr id="1244" name="Рисунок 13" descr=""/>
          <p:cNvPicPr/>
          <p:nvPr/>
        </p:nvPicPr>
        <p:blipFill>
          <a:blip r:embed="rId3"/>
          <a:stretch/>
        </p:blipFill>
        <p:spPr>
          <a:xfrm>
            <a:off x="8205840" y="1515960"/>
            <a:ext cx="3400200" cy="25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Box 1"/>
          <p:cNvSpPr/>
          <p:nvPr/>
        </p:nvSpPr>
        <p:spPr>
          <a:xfrm>
            <a:off x="1300320" y="289080"/>
            <a:ext cx="9070920" cy="440964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Вывод:</a:t>
            </a:r>
            <a:endParaRPr b="0" lang="en-US" sz="4000" spc="-1" strike="noStrike">
              <a:solidFill>
                <a:srgbClr val="000000"/>
              </a:solidFill>
              <a:latin typeface="Century Gothic"/>
            </a:endParaRPr>
          </a:p>
          <a:p>
            <a:pPr marL="228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	</a:t>
            </a:r>
            <a:r>
              <a:rPr b="0" lang="ru-RU" sz="2800" spc="-1" strike="noStrike">
                <a:solidFill>
                  <a:srgbClr val="252525"/>
                </a:solidFill>
                <a:latin typeface="Times New Roman"/>
                <a:ea typeface="Times New Roman"/>
              </a:rPr>
              <a:t> </a:t>
            </a:r>
            <a:r>
              <a:rPr b="0" lang="ru-RU" sz="2800" spc="-1" strike="noStrike">
                <a:solidFill>
                  <a:srgbClr val="000000"/>
                </a:solidFill>
                <a:latin typeface="Times New Roman"/>
                <a:ea typeface="Times New Roman"/>
              </a:rPr>
              <a:t>В результате  проведенных исследований  я установил, что бионика имеет огромное значение в жизни человека. Практически каждый ежедневно встречается с открытиями бионики и эти механизмы значительно облегчают жизнь человека, делают ее удобной и комфортной.  Таким образом я подтверждаю выдвинутую мной гипотезу – у природы можно и нужно брать интересные идеи.</a:t>
            </a:r>
            <a:endParaRPr b="0" lang="en-US" sz="2800" spc="-1" strike="noStrike">
              <a:solidFill>
                <a:srgbClr val="000000"/>
              </a:solidFill>
              <a:latin typeface="Century Gothic"/>
            </a:endParaRPr>
          </a:p>
          <a:p>
            <a:pPr marL="2286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entury Gothic"/>
            </a:endParaRPr>
          </a:p>
        </p:txBody>
      </p:sp>
      <p:sp>
        <p:nvSpPr>
          <p:cNvPr id="1246" name="TextBox 3"/>
          <p:cNvSpPr/>
          <p:nvPr/>
        </p:nvSpPr>
        <p:spPr>
          <a:xfrm>
            <a:off x="3362400" y="4532400"/>
            <a:ext cx="6100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0021"/>
                </a:solidFill>
                <a:latin typeface="Times New Roman"/>
                <a:ea typeface="Times New Roman"/>
              </a:rPr>
              <a:t>Природа открывает перед инженерами и учеными бесконечные возможности по заимствованию технологий и идей!!!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Picture 5" descr="4544035"/>
          <p:cNvPicPr/>
          <p:nvPr/>
        </p:nvPicPr>
        <p:blipFill>
          <a:blip r:embed="rId1"/>
          <a:stretch/>
        </p:blipFill>
        <p:spPr>
          <a:xfrm>
            <a:off x="8724960" y="2397240"/>
            <a:ext cx="2968560" cy="4155840"/>
          </a:xfrm>
          <a:prstGeom prst="rect">
            <a:avLst/>
          </a:prstGeom>
          <a:ln w="0">
            <a:noFill/>
          </a:ln>
        </p:spPr>
      </p:pic>
      <p:sp>
        <p:nvSpPr>
          <p:cNvPr id="1186" name="TextBox 5"/>
          <p:cNvSpPr/>
          <p:nvPr/>
        </p:nvSpPr>
        <p:spPr>
          <a:xfrm>
            <a:off x="1506600" y="471600"/>
            <a:ext cx="6594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Проблема </a:t>
            </a:r>
            <a:endParaRPr b="0" lang="en-US" sz="4800" spc="-1" strike="noStrike">
              <a:solidFill>
                <a:srgbClr val="000000"/>
              </a:solidFill>
              <a:latin typeface="Century Gothic"/>
            </a:endParaRPr>
          </a:p>
        </p:txBody>
      </p:sp>
      <p:sp>
        <p:nvSpPr>
          <p:cNvPr id="1187" name="TextBox 6"/>
          <p:cNvSpPr/>
          <p:nvPr/>
        </p:nvSpPr>
        <p:spPr>
          <a:xfrm>
            <a:off x="1506600" y="1341360"/>
            <a:ext cx="7913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В наше время создаётся множество новых технологий, изделий упрощающих жизнь общества. А как рождаются все эти идеи? Откуда берутся  гениальные сооружения и механизмы позволяющие сделать жизнь человека комфортной?  Природа – главный и самый опытный строитель и  большинство идей заимствованы человеком у нее.</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8" name="Рисунок 4" descr=""/>
          <p:cNvPicPr/>
          <p:nvPr/>
        </p:nvPicPr>
        <p:blipFill>
          <a:blip r:embed="rId1"/>
          <a:stretch/>
        </p:blipFill>
        <p:spPr>
          <a:xfrm>
            <a:off x="6543720" y="2533680"/>
            <a:ext cx="3846600" cy="3267000"/>
          </a:xfrm>
          <a:prstGeom prst="rect">
            <a:avLst/>
          </a:prstGeom>
          <a:ln w="0">
            <a:noFill/>
          </a:ln>
        </p:spPr>
      </p:pic>
      <p:sp>
        <p:nvSpPr>
          <p:cNvPr id="1189" name="TextBox 5"/>
          <p:cNvSpPr/>
          <p:nvPr/>
        </p:nvSpPr>
        <p:spPr>
          <a:xfrm>
            <a:off x="1801800" y="471600"/>
            <a:ext cx="103903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Цель:</a:t>
            </a:r>
            <a:endParaRPr b="0" lang="en-US" sz="4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исследование вопросов, связанных с наукой  бионикой</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Рисунок 4" descr=""/>
          <p:cNvPicPr/>
          <p:nvPr/>
        </p:nvPicPr>
        <p:blipFill>
          <a:blip r:embed="rId1"/>
          <a:stretch/>
        </p:blipFill>
        <p:spPr>
          <a:xfrm>
            <a:off x="9369360" y="2146320"/>
            <a:ext cx="2347920" cy="4043520"/>
          </a:xfrm>
          <a:prstGeom prst="rect">
            <a:avLst/>
          </a:prstGeom>
          <a:ln w="0">
            <a:noFill/>
          </a:ln>
        </p:spPr>
      </p:pic>
      <p:sp>
        <p:nvSpPr>
          <p:cNvPr id="1191" name="TextBox 5"/>
          <p:cNvSpPr/>
          <p:nvPr/>
        </p:nvSpPr>
        <p:spPr>
          <a:xfrm>
            <a:off x="720720" y="1386000"/>
            <a:ext cx="9032760" cy="3933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Изучить, проанализировать литературные источники  и интернет – ресурсы, касающиеся вопросов бионики.</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ru-RU" sz="2800" spc="-1" strike="noStrike">
                <a:solidFill>
                  <a:srgbClr val="000000"/>
                </a:solidFill>
                <a:latin typeface="Times New Roman"/>
                <a:ea typeface="Times New Roman"/>
              </a:rPr>
              <a:t>Выяснить, что изучает наука бионика и каково значение бионики в жизни человека.</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Провести анкетирование среди учащихся и выявить имеют ли они представление о том, что изучает бионика.</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ru-RU" sz="2800" spc="-1" strike="noStrike">
                <a:solidFill>
                  <a:srgbClr val="000000"/>
                </a:solidFill>
                <a:latin typeface="Times New Roman"/>
                <a:ea typeface="Times New Roman"/>
              </a:rPr>
              <a:t>Найти объекты бионики в нашей жизни.</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Подготовить и представить проект.</a:t>
            </a:r>
            <a:endParaRPr b="0" lang="en-US" sz="2800" spc="-1" strike="noStrike">
              <a:solidFill>
                <a:srgbClr val="000000"/>
              </a:solidFill>
              <a:latin typeface="Century Gothic"/>
            </a:endParaRPr>
          </a:p>
        </p:txBody>
      </p:sp>
      <p:sp>
        <p:nvSpPr>
          <p:cNvPr id="1192" name="TextBox 6"/>
          <p:cNvSpPr/>
          <p:nvPr/>
        </p:nvSpPr>
        <p:spPr>
          <a:xfrm>
            <a:off x="1884240" y="385920"/>
            <a:ext cx="598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Задачи:</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3" name="Рисунок 6" descr=""/>
          <p:cNvPicPr/>
          <p:nvPr/>
        </p:nvPicPr>
        <p:blipFill>
          <a:blip r:embed="rId1"/>
          <a:stretch/>
        </p:blipFill>
        <p:spPr>
          <a:xfrm>
            <a:off x="6567480" y="3300480"/>
            <a:ext cx="3184560" cy="2449440"/>
          </a:xfrm>
          <a:prstGeom prst="rect">
            <a:avLst/>
          </a:prstGeom>
          <a:ln w="0">
            <a:noFill/>
          </a:ln>
        </p:spPr>
      </p:pic>
      <p:sp>
        <p:nvSpPr>
          <p:cNvPr id="1194" name="TextBox 7"/>
          <p:cNvSpPr/>
          <p:nvPr/>
        </p:nvSpPr>
        <p:spPr>
          <a:xfrm>
            <a:off x="2216160" y="554040"/>
            <a:ext cx="4351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Гипотеза</a:t>
            </a:r>
            <a:endParaRPr b="0" lang="en-US" sz="4800" spc="-1" strike="noStrike">
              <a:solidFill>
                <a:srgbClr val="000000"/>
              </a:solidFill>
              <a:latin typeface="Century Gothic"/>
            </a:endParaRPr>
          </a:p>
        </p:txBody>
      </p:sp>
      <p:sp>
        <p:nvSpPr>
          <p:cNvPr id="1195" name="TextBox 8"/>
          <p:cNvSpPr/>
          <p:nvPr/>
        </p:nvSpPr>
        <p:spPr>
          <a:xfrm>
            <a:off x="1801800" y="1635120"/>
            <a:ext cx="8151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Предполагаю, что у природы можно подсмотреть многие полезные механизмы и объекты и использовать их в жизни человека.</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TextBox 3"/>
          <p:cNvSpPr/>
          <p:nvPr/>
        </p:nvSpPr>
        <p:spPr>
          <a:xfrm>
            <a:off x="1995480" y="498600"/>
            <a:ext cx="6649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Методы исследования:</a:t>
            </a:r>
            <a:endParaRPr b="0" lang="en-US" sz="4800" spc="-1" strike="noStrike">
              <a:solidFill>
                <a:srgbClr val="000000"/>
              </a:solidFill>
              <a:latin typeface="Century Gothic"/>
            </a:endParaRPr>
          </a:p>
        </p:txBody>
      </p:sp>
      <p:sp>
        <p:nvSpPr>
          <p:cNvPr id="1197" name="TextBox 4"/>
          <p:cNvSpPr/>
          <p:nvPr/>
        </p:nvSpPr>
        <p:spPr>
          <a:xfrm>
            <a:off x="1995480" y="1746360"/>
            <a:ext cx="8783640" cy="375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Сбор информации;</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Анализ источников информации по теме работы;</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Анкетирование;</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Сравнение;</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Поиск.</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TextBox 3"/>
          <p:cNvSpPr/>
          <p:nvPr/>
        </p:nvSpPr>
        <p:spPr>
          <a:xfrm>
            <a:off x="1219320" y="582480"/>
            <a:ext cx="9753480" cy="7459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Предмет исследования</a:t>
            </a:r>
            <a:r>
              <a:rPr b="1"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наука бионика.</a:t>
            </a:r>
            <a:endParaRPr b="0" lang="en-US" sz="4000" spc="-1" strike="noStrike">
              <a:solidFill>
                <a:srgbClr val="000000"/>
              </a:solidFill>
              <a:latin typeface="Century Gothic"/>
            </a:endParaRPr>
          </a:p>
        </p:txBody>
      </p:sp>
      <p:pic>
        <p:nvPicPr>
          <p:cNvPr id="1199" name="Picture 7" descr="slide0004_image004"/>
          <p:cNvPicPr/>
          <p:nvPr/>
        </p:nvPicPr>
        <p:blipFill>
          <a:blip r:embed="rId1"/>
          <a:stretch/>
        </p:blipFill>
        <p:spPr>
          <a:xfrm>
            <a:off x="781200" y="1387440"/>
            <a:ext cx="2598480" cy="2305080"/>
          </a:xfrm>
          <a:prstGeom prst="rect">
            <a:avLst/>
          </a:prstGeom>
          <a:ln w="0">
            <a:noFill/>
          </a:ln>
        </p:spPr>
      </p:pic>
      <p:pic>
        <p:nvPicPr>
          <p:cNvPr id="1200" name="Picture 4" descr="http://www.alligator.spb.ru/stat/img/9.jpg"/>
          <p:cNvPicPr/>
          <p:nvPr/>
        </p:nvPicPr>
        <p:blipFill>
          <a:blip r:embed="rId2"/>
          <a:stretch/>
        </p:blipFill>
        <p:spPr>
          <a:xfrm>
            <a:off x="2160720" y="3468600"/>
            <a:ext cx="4341600" cy="2522520"/>
          </a:xfrm>
          <a:prstGeom prst="rect">
            <a:avLst/>
          </a:prstGeom>
          <a:ln w="0">
            <a:noFill/>
          </a:ln>
        </p:spPr>
      </p:pic>
      <p:pic>
        <p:nvPicPr>
          <p:cNvPr id="1201" name="Picture 2" descr="http://news.students.ru/uploads/posts/1198713130_1.jpg"/>
          <p:cNvPicPr/>
          <p:nvPr/>
        </p:nvPicPr>
        <p:blipFill>
          <a:blip r:embed="rId3"/>
          <a:stretch/>
        </p:blipFill>
        <p:spPr>
          <a:xfrm>
            <a:off x="5886360" y="1438200"/>
            <a:ext cx="2598840" cy="2598840"/>
          </a:xfrm>
          <a:prstGeom prst="rect">
            <a:avLst/>
          </a:prstGeom>
          <a:ln w="0">
            <a:noFill/>
          </a:ln>
        </p:spPr>
      </p:pic>
      <p:pic>
        <p:nvPicPr>
          <p:cNvPr id="1202" name="Picture 8" descr="0_10a71_2bf6426a_XL"/>
          <p:cNvPicPr/>
          <p:nvPr/>
        </p:nvPicPr>
        <p:blipFill>
          <a:blip r:embed="rId4"/>
          <a:stretch/>
        </p:blipFill>
        <p:spPr>
          <a:xfrm>
            <a:off x="8191440" y="3578400"/>
            <a:ext cx="2914560" cy="23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TextBox 3"/>
          <p:cNvSpPr/>
          <p:nvPr/>
        </p:nvSpPr>
        <p:spPr>
          <a:xfrm>
            <a:off x="1670040" y="654120"/>
            <a:ext cx="947736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Бионика</a:t>
            </a:r>
            <a:r>
              <a:rPr b="0" lang="ru-RU" sz="4000" spc="-1" strike="noStrike">
                <a:solidFill>
                  <a:srgbClr val="002060"/>
                </a:solidFill>
                <a:latin typeface="Times New Roman"/>
                <a:ea typeface="Times New Roman"/>
              </a:rPr>
              <a:t> - </a:t>
            </a:r>
            <a:r>
              <a:rPr b="0" lang="ru-RU" sz="2800" spc="-1" strike="noStrike">
                <a:solidFill>
                  <a:srgbClr val="000000"/>
                </a:solidFill>
                <a:latin typeface="Times New Roman"/>
                <a:ea typeface="Times New Roman"/>
              </a:rPr>
              <a:t>наука об использовании в технике знаний о конструкции, принципе и технологическом процессе живого </a:t>
            </a:r>
            <a:r>
              <a:rPr b="0" i="1" lang="ru-RU" sz="2800" spc="-1" strike="noStrike">
                <a:solidFill>
                  <a:srgbClr val="000000"/>
                </a:solidFill>
                <a:latin typeface="Times New Roman"/>
                <a:ea typeface="Times New Roman"/>
              </a:rPr>
              <a:t>организма</a:t>
            </a:r>
            <a:r>
              <a:rPr b="0" lang="ru-RU" sz="2800" spc="-1" strike="noStrike">
                <a:solidFill>
                  <a:srgbClr val="000000"/>
                </a:solidFill>
                <a:latin typeface="Times New Roman"/>
                <a:ea typeface="Times New Roman"/>
              </a:rPr>
              <a:t>.</a:t>
            </a:r>
            <a:endParaRPr b="0" lang="en-US" sz="2800" spc="-1" strike="noStrike">
              <a:solidFill>
                <a:srgbClr val="000000"/>
              </a:solidFill>
              <a:latin typeface="Century Gothic"/>
            </a:endParaRPr>
          </a:p>
        </p:txBody>
      </p:sp>
      <p:sp>
        <p:nvSpPr>
          <p:cNvPr id="1204" name="TextBox 4"/>
          <p:cNvSpPr/>
          <p:nvPr/>
        </p:nvSpPr>
        <p:spPr>
          <a:xfrm>
            <a:off x="703440" y="2735280"/>
            <a:ext cx="65116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800" spc="-1" strike="noStrike">
                <a:solidFill>
                  <a:srgbClr val="c00000"/>
                </a:solidFill>
                <a:latin typeface="Times New Roman"/>
                <a:ea typeface="Times New Roman"/>
              </a:rPr>
              <a:t>Прародителем бионики считается Леонардо да Винчи</a:t>
            </a:r>
            <a:r>
              <a:rPr b="1" lang="ru-RU" sz="2800" spc="-1" strike="noStrike">
                <a:solidFill>
                  <a:srgbClr val="c00000"/>
                </a:solidFill>
                <a:latin typeface="Times New Roman"/>
                <a:ea typeface="Times New Roman"/>
              </a:rPr>
              <a:t>. </a:t>
            </a:r>
            <a:r>
              <a:rPr b="0" lang="ru-RU" sz="2800" spc="-1" strike="noStrike">
                <a:solidFill>
                  <a:srgbClr val="000000"/>
                </a:solidFill>
                <a:latin typeface="Times New Roman"/>
                <a:ea typeface="Times New Roman"/>
              </a:rPr>
              <a:t>Его чертежи и схемы летательных аппаратов были основаны на строении крыла птицы.</a:t>
            </a:r>
            <a:endParaRPr b="0" lang="en-US" sz="2800" spc="-1" strike="noStrike">
              <a:solidFill>
                <a:srgbClr val="000000"/>
              </a:solidFill>
              <a:latin typeface="Century Gothic"/>
            </a:endParaRPr>
          </a:p>
        </p:txBody>
      </p:sp>
      <p:pic>
        <p:nvPicPr>
          <p:cNvPr id="1205" name="Picture 8" descr="Самолёт"/>
          <p:cNvPicPr/>
          <p:nvPr/>
        </p:nvPicPr>
        <p:blipFill>
          <a:blip r:embed="rId1"/>
          <a:stretch/>
        </p:blipFill>
        <p:spPr>
          <a:xfrm>
            <a:off x="7819920" y="2332080"/>
            <a:ext cx="2816280" cy="2111400"/>
          </a:xfrm>
          <a:prstGeom prst="rect">
            <a:avLst/>
          </a:prstGeom>
          <a:ln w="0">
            <a:noFill/>
          </a:ln>
        </p:spPr>
      </p:pic>
      <p:pic>
        <p:nvPicPr>
          <p:cNvPr id="1206" name="Picture 9" descr="1"/>
          <p:cNvPicPr/>
          <p:nvPr/>
        </p:nvPicPr>
        <p:blipFill>
          <a:blip r:embed="rId2"/>
          <a:stretch/>
        </p:blipFill>
        <p:spPr>
          <a:xfrm>
            <a:off x="6110280" y="4551480"/>
            <a:ext cx="281448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4T11:29:06Z</dcterms:created>
  <dc:creator>Abdulaeva-T.I@outlook.com</dc:creator>
  <dc:description/>
  <dc:language>en-US</dc:language>
  <cp:lastModifiedBy>Abdulaeva-T.I@outlook.com</cp:lastModifiedBy>
  <dcterms:modified xsi:type="dcterms:W3CDTF">2021-10-08T12:39:23Z</dcterms:modified>
  <cp:revision>31</cp:revision>
  <dc:subject/>
  <dc:title>Презентация PowerPoint</dc:title>
</cp:coreProperties>
</file>