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EB3-300D-420F-B59C-E61AC14C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126-1B5A-4163-A933-277B2580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223-BFEB-460D-B5C0-25C4B5A9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BFE-64EB-416E-856E-21C8D902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1241-DB89-446B-A255-503AB621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8ADA-577E-4EC6-A430-21EEFFA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60B-8C2A-452C-8CC4-509EEE53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29E1-D691-484C-BA64-70E9907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23D-7672-4DD6-8DBF-588917B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C578-882C-420E-8F0F-559BB6B0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2EBA-818D-4943-9C75-9B1142F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97D-87AC-4B63-BB75-BE6A45DA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0100-D340-43CC-B658-4C59BB3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9830-31FF-4446-B726-4CBDA8D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E35B-DAAC-4C65-B46D-41A89474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D614-BC41-496A-8526-4609EA4D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4B1E-62DA-4E41-B325-5DBF2A14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836F-21C3-471C-A773-11382ED3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3561-B5B7-4B8A-BABF-DF9C792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4CD3-F4D4-4790-AAFE-73B96C19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F0C6-D61B-457D-A080-64B9AC20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F8BD-98C5-4E44-BDD6-30C4D72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937-2EDB-4346-B26E-F6652B4A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6693-C7F6-4F90-86B2-A9C6A5F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C453-50F3-4A2D-89D5-6F956FB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2F47-C534-4013-A66C-3902972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5D38-E384-4A2B-A6B6-74B317E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178C-66C5-4819-9193-7833841B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69E3-7161-4D11-B880-C97AD4E5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D02A-9829-4889-8BC9-225143A8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5636-0993-4B54-849C-401A55A3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9472-14B8-474E-84CC-D102D29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B399-A49C-4107-8646-1F36736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906-525A-413C-B07C-F8D2028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6F2F-C8EA-48BF-B74B-1E68BA7D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ED3D-3AF3-4E05-A11B-9BDCBDC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F793-07CC-4C83-BC9C-931F4407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076F-2CBA-4066-8A95-0410F72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944E-E4EB-4201-8B9F-5A056FC6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CDBB7-6AC3-4679-8858-0B0CF19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3D7A-F696-4DAA-9B4B-4DDBECD2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E1CE-E25E-4609-BC28-F34F1253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D24D-AF72-4BC2-BE03-D395E7E9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B39-95AE-40C3-8194-644A3C30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782-8A24-447B-8658-C7998FC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752-E503-4582-9D67-10A19C83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53D-29FF-4CEF-BEAE-9D64971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3EC-EBAB-45BA-A758-D697C86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4F92-EFBE-41A3-939E-716F6AD3B4A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BD6A-1507-4690-A760-465E4AA2740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F79-184C-4674-9BE9-14E608B87AF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3C41-4BC0-4759-9F30-411106FF1C8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33200" y="1000080"/>
            <a:ext cx="8553600" cy="2359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115640" y="4797000"/>
            <a:ext cx="331164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414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414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юшина В.И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6" name="Picture 2" descr="https://im0-tub-ru.yandex.net/i?id=e5081d49799a61c4c6c874f984ff99bf&amp;n=33&amp;h=215&amp;w=308"/>
          <p:cNvPicPr/>
          <p:nvPr/>
        </p:nvPicPr>
        <p:blipFill>
          <a:blip r:embed="rId2"/>
          <a:stretch/>
        </p:blipFill>
        <p:spPr>
          <a:xfrm>
            <a:off x="4140360" y="2205000"/>
            <a:ext cx="4744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407080" cy="2292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4" name="Picture 6" descr="https://im1-tub-ru.yandex.net/i?id=0316c6982f8dfe6c54d99975d8d374db&amp;n=33&amp;h=215&amp;w=317"/>
          <p:cNvPicPr/>
          <p:nvPr/>
        </p:nvPicPr>
        <p:blipFill>
          <a:blip r:embed="rId2"/>
          <a:stretch/>
        </p:blipFill>
        <p:spPr>
          <a:xfrm>
            <a:off x="2843280" y="1916280"/>
            <a:ext cx="55213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324000" y="122400"/>
            <a:ext cx="8375400" cy="2517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179280" y="765000"/>
            <a:ext cx="8229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https://im0-tub-ru.yandex.net/i?id=38764b2c2d26e8fba5509385493b4c1b&amp;n=33&amp;h=215&amp;w=287"/>
          <p:cNvPicPr/>
          <p:nvPr/>
        </p:nvPicPr>
        <p:blipFill>
          <a:blip r:embed="rId2"/>
          <a:stretch/>
        </p:blipFill>
        <p:spPr>
          <a:xfrm>
            <a:off x="4303800" y="2349360"/>
            <a:ext cx="4709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324000" y="55440"/>
            <a:ext cx="8362800" cy="3303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3" name="Picture 6" descr="https://im0-tub-ru.yandex.net/i?id=05e680641610e2411d2c71e7aa3682ed&amp;n=33&amp;h=215&amp;w=287"/>
          <p:cNvPicPr/>
          <p:nvPr/>
        </p:nvPicPr>
        <p:blipFill>
          <a:blip r:embed="rId2"/>
          <a:stretch/>
        </p:blipFill>
        <p:spPr>
          <a:xfrm>
            <a:off x="3851280" y="2276640"/>
            <a:ext cx="4902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85840" y="109440"/>
            <a:ext cx="4432320" cy="2309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6" name="Picture 6" descr="https://im1-tub-ru.yandex.net/i?id=275837f76114b1c37aec58fb9cc185a5&amp;n=33&amp;h=215&amp;w=249"/>
          <p:cNvPicPr/>
          <p:nvPr/>
        </p:nvPicPr>
        <p:blipFill>
          <a:blip r:embed="rId2"/>
          <a:stretch/>
        </p:blipFill>
        <p:spPr>
          <a:xfrm>
            <a:off x="4572000" y="2349360"/>
            <a:ext cx="38116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8394840" cy="2286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9" name="Picture 6" descr="https://im2-tub-ru.yandex.net/i?id=c9d9b36e8b2b3356a7b2624c2b57422c&amp;n=33&amp;h=215&amp;w=232"/>
          <p:cNvPicPr/>
          <p:nvPr/>
        </p:nvPicPr>
        <p:blipFill>
          <a:blip r:embed="rId2"/>
          <a:stretch/>
        </p:blipFill>
        <p:spPr>
          <a:xfrm>
            <a:off x="3780000" y="2349360"/>
            <a:ext cx="41544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11040" y="133200"/>
            <a:ext cx="8375760" cy="207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2" name="Picture 6" descr="https://im3-tub-ru.yandex.net/i?id=01f6002a13d681f066c7629db3a51f5b&amp;n=33&amp;h=215&amp;w=271"/>
          <p:cNvPicPr/>
          <p:nvPr/>
        </p:nvPicPr>
        <p:blipFill>
          <a:blip r:embed="rId2"/>
          <a:stretch/>
        </p:blipFill>
        <p:spPr>
          <a:xfrm>
            <a:off x="4211640" y="2205000"/>
            <a:ext cx="453852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108320" y="3913200"/>
            <a:ext cx="4565880" cy="268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5" name="Picture 6" descr="https://im0-tub-ru.yandex.net/i?id=a9deacd63ebce5b84851905158218a6e&amp;n=33&amp;h=215&amp;w=378"/>
          <p:cNvPicPr/>
          <p:nvPr/>
        </p:nvPicPr>
        <p:blipFill>
          <a:blip r:embed="rId2"/>
          <a:stretch/>
        </p:blipFill>
        <p:spPr>
          <a:xfrm>
            <a:off x="468360" y="692280"/>
            <a:ext cx="55688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03320" y="407880"/>
            <a:ext cx="8583480" cy="2805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38" name="Picture 6" descr="https://im1-tub-ru.yandex.net/i?id=d05b7990d671c9f205251ef923f41ce6&amp;n=33&amp;h=215&amp;w=200"/>
          <p:cNvPicPr/>
          <p:nvPr/>
        </p:nvPicPr>
        <p:blipFill>
          <a:blip r:embed="rId2"/>
          <a:stretch/>
        </p:blipFill>
        <p:spPr>
          <a:xfrm>
            <a:off x="4356000" y="2133720"/>
            <a:ext cx="3349800" cy="359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07600" cy="404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41" name="Picture 6" descr="https://im3-tub-ru.yandex.net/i?id=8aa0d98ed5875ec2bfbffdff00067e21&amp;n=33&amp;h=180&amp;w=240"/>
          <p:cNvPicPr/>
          <p:nvPr/>
        </p:nvPicPr>
        <p:blipFill>
          <a:blip r:embed="rId2"/>
          <a:stretch/>
        </p:blipFill>
        <p:spPr>
          <a:xfrm>
            <a:off x="4140360" y="2133720"/>
            <a:ext cx="444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0:07:29Z</dcterms:created>
  <dc:creator>user</dc:creator>
  <dc:description/>
  <dc:language>en-US</dc:language>
  <cp:lastModifiedBy>admin</cp:lastModifiedBy>
  <dcterms:modified xsi:type="dcterms:W3CDTF">2022-02-08T06:40:06Z</dcterms:modified>
  <cp:revision>44</cp:revision>
  <dc:subject/>
  <dc:title>Презентация «Домашние животные» составила Руднева Г.И. дет.сад «Лесовичок»</dc:title>
</cp:coreProperties>
</file>