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E7E-3790-4336-B458-E8E10CE7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C67-6C5D-4AA4-8C3E-67DCEECE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5D2-8D65-427E-A038-1FC34BC1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776-BBFD-47FA-9BE9-0D45645B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399D-1DF5-49E9-A371-35BA63B8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B79F-E08F-4123-854A-2B7CDC34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7BDD-8E86-4CB3-BCE7-DDBE44DB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2CFB-F328-4EDE-8D60-42ED0889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F4F3-3201-437E-8153-154EAAF8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7D77-3541-45FF-A26E-24A0ED6C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E21A-8FEA-4824-B45C-0965B70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4F3-695C-48F9-93C7-7E749A64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B016-AE09-4EFA-926B-3D0B745F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98F9-4717-4D1A-99CA-8C5B073D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9AE2-36ED-4473-9B3D-C5E7142A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C494-9573-40FD-A4E6-2593D6E3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3074-A5A6-4F80-A6EC-A9B29838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7428-3F82-4446-99DF-85EC4CFB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D19D-64CD-4FBA-8526-E890BD5C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D432-88B5-4B60-9523-C871DA17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63F63-296C-4491-968B-68418A23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536B-D03E-41B4-B388-6E1243D6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8BF-4B53-47F4-A2B0-E3B40D40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8789-30D1-4DFD-A275-629C785A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C3A7-0884-42B9-8992-7EC33E1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A73E-3D42-40E0-A6ED-CAAD4692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C129-ADBC-497A-81E6-B0224AA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24D2-0545-4F29-8FF3-3E59D21D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9EB6-8673-4216-8F0D-E1647CEF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4AAA-B03C-46AB-919C-337F31EE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9275-E507-497E-AE03-424376DE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7205-2066-47D3-9E0C-CB813B1E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1D37-E1F0-435B-AB63-4DA21A77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C4F-8D7C-4DE1-A092-BF49812C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3507-D33B-44B7-8C42-0EA24B00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A9B86-F36F-4F9A-B234-250FD999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026B8-BBC4-4858-ABF5-8BE816D9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2CB1-A216-45D0-BC6E-E6DC704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1C11A-3BBD-4300-BD08-4379A62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A3C4-A0CF-4482-AAB6-2A6CE56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66EF0-1CF6-4DB7-9115-4CD82F91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50B0-85E0-47BC-8266-68DF7B63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E7461-4EB6-43D7-B85E-0AF41ECF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919-032B-4528-A869-F2FB2A24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008-ED58-411C-B53A-862CF326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8A2-766F-45AD-A3A6-C8CA2D54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F34-EF88-4127-94D8-53BCE31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2B9-EF0B-422A-BB87-8A0C9BB7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2B14-4154-459A-A7D6-83E5166EE4C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54FC-207F-4225-8501-09D4FE08A66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F38E-1555-466E-B1B6-A41474243EC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1FCB-75CA-4514-B6C1-E3F5D6DBCC7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133200" y="1000080"/>
            <a:ext cx="8553600" cy="2359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115640" y="4797000"/>
            <a:ext cx="331164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414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414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юшина В.И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6" name="Picture 2" descr="https://im0-tub-ru.yandex.net/i?id=e5081d49799a61c4c6c874f984ff99bf&amp;n=33&amp;h=215&amp;w=308"/>
          <p:cNvPicPr/>
          <p:nvPr/>
        </p:nvPicPr>
        <p:blipFill>
          <a:blip r:embed="rId2"/>
          <a:stretch/>
        </p:blipFill>
        <p:spPr>
          <a:xfrm>
            <a:off x="4140360" y="2205000"/>
            <a:ext cx="4744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407080" cy="2292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44" name="Picture 6" descr="https://im1-tub-ru.yandex.net/i?id=0316c6982f8dfe6c54d99975d8d374db&amp;n=33&amp;h=215&amp;w=317"/>
          <p:cNvPicPr/>
          <p:nvPr/>
        </p:nvPicPr>
        <p:blipFill>
          <a:blip r:embed="rId2"/>
          <a:stretch/>
        </p:blipFill>
        <p:spPr>
          <a:xfrm>
            <a:off x="2843280" y="1916280"/>
            <a:ext cx="55213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324000" y="122400"/>
            <a:ext cx="8375400" cy="2517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Заголовок 1"/>
          <p:cNvSpPr/>
          <p:nvPr/>
        </p:nvSpPr>
        <p:spPr>
          <a:xfrm>
            <a:off x="179280" y="765000"/>
            <a:ext cx="82296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https://im0-tub-ru.yandex.net/i?id=38764b2c2d26e8fba5509385493b4c1b&amp;n=33&amp;h=215&amp;w=287"/>
          <p:cNvPicPr/>
          <p:nvPr/>
        </p:nvPicPr>
        <p:blipFill>
          <a:blip r:embed="rId2"/>
          <a:stretch/>
        </p:blipFill>
        <p:spPr>
          <a:xfrm>
            <a:off x="4303800" y="2349360"/>
            <a:ext cx="47098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324000" y="55440"/>
            <a:ext cx="8362800" cy="3303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3" name="Picture 6" descr="https://im0-tub-ru.yandex.net/i?id=05e680641610e2411d2c71e7aa3682ed&amp;n=33&amp;h=215&amp;w=287"/>
          <p:cNvPicPr/>
          <p:nvPr/>
        </p:nvPicPr>
        <p:blipFill>
          <a:blip r:embed="rId2"/>
          <a:stretch/>
        </p:blipFill>
        <p:spPr>
          <a:xfrm>
            <a:off x="3851280" y="2276640"/>
            <a:ext cx="49021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85840" y="109440"/>
            <a:ext cx="4432320" cy="2309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6" name="Picture 6" descr="https://im1-tub-ru.yandex.net/i?id=275837f76114b1c37aec58fb9cc185a5&amp;n=33&amp;h=215&amp;w=249"/>
          <p:cNvPicPr/>
          <p:nvPr/>
        </p:nvPicPr>
        <p:blipFill>
          <a:blip r:embed="rId2"/>
          <a:stretch/>
        </p:blipFill>
        <p:spPr>
          <a:xfrm>
            <a:off x="4572000" y="2349360"/>
            <a:ext cx="381168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91960" y="109440"/>
            <a:ext cx="8394840" cy="2286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9" name="Picture 6" descr="https://im2-tub-ru.yandex.net/i?id=c9d9b36e8b2b3356a7b2624c2b57422c&amp;n=33&amp;h=215&amp;w=232"/>
          <p:cNvPicPr/>
          <p:nvPr/>
        </p:nvPicPr>
        <p:blipFill>
          <a:blip r:embed="rId2"/>
          <a:stretch/>
        </p:blipFill>
        <p:spPr>
          <a:xfrm>
            <a:off x="3780000" y="2349360"/>
            <a:ext cx="41544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11040" y="133200"/>
            <a:ext cx="8375760" cy="207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2" name="Picture 6" descr="https://im3-tub-ru.yandex.net/i?id=01f6002a13d681f066c7629db3a51f5b&amp;n=33&amp;h=215&amp;w=271"/>
          <p:cNvPicPr/>
          <p:nvPr/>
        </p:nvPicPr>
        <p:blipFill>
          <a:blip r:embed="rId2"/>
          <a:stretch/>
        </p:blipFill>
        <p:spPr>
          <a:xfrm>
            <a:off x="4211640" y="2205000"/>
            <a:ext cx="453852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108320" y="3913200"/>
            <a:ext cx="4565880" cy="2682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5" name="Picture 6" descr="https://im0-tub-ru.yandex.net/i?id=a9deacd63ebce5b84851905158218a6e&amp;n=33&amp;h=215&amp;w=378"/>
          <p:cNvPicPr/>
          <p:nvPr/>
        </p:nvPicPr>
        <p:blipFill>
          <a:blip r:embed="rId2"/>
          <a:stretch/>
        </p:blipFill>
        <p:spPr>
          <a:xfrm>
            <a:off x="468360" y="692280"/>
            <a:ext cx="55688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03320" y="407880"/>
            <a:ext cx="8583480" cy="2805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8" name="Picture 6" descr="https://im1-tub-ru.yandex.net/i?id=d05b7990d671c9f205251ef923f41ce6&amp;n=33&amp;h=215&amp;w=200"/>
          <p:cNvPicPr/>
          <p:nvPr/>
        </p:nvPicPr>
        <p:blipFill>
          <a:blip r:embed="rId2"/>
          <a:stretch/>
        </p:blipFill>
        <p:spPr>
          <a:xfrm>
            <a:off x="4356000" y="2133720"/>
            <a:ext cx="3349800" cy="359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07600" cy="4041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41" name="Picture 6" descr="https://im3-tub-ru.yandex.net/i?id=8aa0d98ed5875ec2bfbffdff00067e21&amp;n=33&amp;h=180&amp;w=240"/>
          <p:cNvPicPr/>
          <p:nvPr/>
        </p:nvPicPr>
        <p:blipFill>
          <a:blip r:embed="rId2"/>
          <a:stretch/>
        </p:blipFill>
        <p:spPr>
          <a:xfrm>
            <a:off x="4140360" y="2133720"/>
            <a:ext cx="4446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0:07:29Z</dcterms:created>
  <dc:creator>user</dc:creator>
  <dc:description/>
  <dc:language>en-US</dc:language>
  <cp:lastModifiedBy>admin</cp:lastModifiedBy>
  <dcterms:modified xsi:type="dcterms:W3CDTF">2022-02-08T06:40:06Z</dcterms:modified>
  <cp:revision>44</cp:revision>
  <dc:subject/>
  <dc:title>Презентация «Домашние животные» составила Руднева Г.И. дет.сад «Лесовичок»</dc:title>
</cp:coreProperties>
</file>