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272-86F3-4C3B-A570-4F43F17A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C1E-4513-499C-8BCA-E9DDEC97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09B-A7F5-46F0-820A-6197578F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701-E661-40D8-8035-095388CA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4C24-98E0-4C90-A25E-F1855E38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CA87-4148-43FA-A2E6-308FCA83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546C-78EB-4B18-8FCA-997FCA5F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3C49-3582-47A0-817F-A5F53CDB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5205-13BA-461D-B7E0-43EC931A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49E4-7B9F-4B0B-ACB2-2DE91B20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EFF1-3E27-4CF7-9BC3-C7511F61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19A-7E5B-41D0-8C93-8994CE2E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E944-1A69-4749-BC76-F1B86344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5C85-6C43-422D-A021-9CDAEAC8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642C-1745-4DAC-9939-8ACF8AB5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B3D2-AD41-460D-A3B5-3EAFCFE4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90D4-B06E-457A-A238-567280A5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260-8C25-4CE7-8F53-18806359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8D2-2CE4-4C21-9F73-FB81AFC4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552-9F90-4F50-8987-C9FE7F2C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F56-6CC9-4062-AF0F-632781C0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A44-BFE0-4FD0-AB01-1500F8C3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52E-76BB-4F18-85CA-488F5CED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C16-388D-4282-BF3B-B50FFC94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0F40-B54A-4685-9DE0-CDB0FD2775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1E46-5018-4EF2-97F2-936647F501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195640" y="476280"/>
            <a:ext cx="6264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исание  состояния окружающей сре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этюд - сочинение небольшого объёма, наброс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сать этюд по личным впечатлениям о любимом времени года, передав состояние окружающей сре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репродукции картин, мысленно погрузиться в среду, изображённую на них, составить этюд, озаглавить е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ьте себе, что чувствуют птицы и звери в холод, ненастье, жар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видят они  окружающую действительность? Попробуйте написать этюд от лица животного, а мы угадаем авт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36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ОПОРНАЯ ЛЕКС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4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Б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ясное, высокое, мутное, бесконечное, л..зу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чудесная, ясная, безоблачная, ненастная, тосккливая, в..л..колеп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У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холодный, прозрачный, хрустальный, свежий, чистый. ДЕРЕВЬЯ: огромные, могучие, в капельках дожд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  дождливо, тоскливо, свежо, легко, жарко, светло, холодно, трудн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ено, пасмурно, просторно, темно, ненастно, радостно, грустно, уютно, приятно; обилие, сверкание, угасание, царствование, щебетание, безветрие, величие, затишье, приволье и т.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476360"/>
            <a:ext cx="81360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дворе февраль. Предлагаю вам понаблюдать над состоянием природы и напис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ю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ю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очинение небольшого объёма, наброс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«Ах, этот снег, чарующий и хрупкий…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«Веселый феврал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«Ура! Февраль пришёл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Ух! Сугробы в февра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«В феврале мороз трескуч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«Февральское утро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 «Вечер в феврале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евральская лазур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Можете сформулировать тему самостоятель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195640" y="476280"/>
            <a:ext cx="6264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195640" y="476280"/>
            <a:ext cx="6264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547640" y="646200"/>
            <a:ext cx="64803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195640" y="476280"/>
            <a:ext cx="6264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ногозначное слово, сре-да́, существительное, неодушевлённое, женский род, 1-е скло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е- пространство существования, окружающий мир, окру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ногозначное слово, со-сто-я́-ни·е, существительное, неодушевлённое, средний род, 2-е скло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е – положение, в котором кто-нибудь или что-нибудь находи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Понаблюдай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36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есь сад ещё голый, без листьев, умытый весеннею водой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ак хорошо пахнет из сада свежестью, талой землёй и горьковатой ко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ьев. Тихо. Спокойно. Радост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Вдоль стен шкафы с книгами. В центре комнаты большой письменный стол.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ём лампа в зелёном абаж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В комнате тепло и уютно. Ярко горит лампа. Тиш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объединяет 2 и 4 текст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хорош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хнет(личный гл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сада свежестью, талой землёй и горьковатой корой деревьев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хо. Спокойно. Радост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(наречия на –О, -Е со значением состояния)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ш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(сущ., перед.состояние)  Ярко горит лампа.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нате тепло и уют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(наречия на –О,  со значением состоя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195640" y="476280"/>
            <a:ext cx="6264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описании состояния окружающей среды часто говорится о состоянии прир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«Данное» в предложениях этого типа речи чаще всего отсутствует, а если имеется, то называет элементы природы, её части (небо, воздух, солнце, лес и т.д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ружающая человека среда – это не только природа, но и помещение, в котором он находится. Поэтому в типе речи «описание состояния окружающей среды» может говориться и о состоянии среды в помеще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овое» обозначает состояние природы и выражается личными и безличными глаголами (сияет, вечереет); наречиями на –О со значением состояния (холодно, душно и т.д.), именами существительными, передающими состояние (вечер, тишина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природ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а в помещении                                                                              чаще всего «данное» отсутству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голы личные - безлич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ечия на -О, -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- состояния                                                                                             существитель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дающие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195640" y="476280"/>
            <a:ext cx="6264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ОСОБЫ СВЯЗИ ПРЕДЛОЖЕНИЙ В ТЕКС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 предложений «данным» каждого следующего предложения становится «новое» предыдущего предлож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Где-то за горизонтом шл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оза. О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ылала в жаркую летнюю ночь решительные широк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ка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Гр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уже почти обессиленный в пути, оживлялся под сухой крышей и долго бродил по чердаку, от одного угла к другом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во всех предложениях текста повторяется одно и то же данн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исела совсем низко над травой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лучала свет и выбрасывала искры, издавая жужжащий звук. Казалось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думывала, зайти в палатку или не зай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создать этюд (описание состояния окружающей среды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шите, как чувствуете. Передайте настро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стремитесь к излишней красив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забывайте о различных способах выражения Н (наречия на -О, -Е; глаголы личные и безличные; существительные со значением состоян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ите, что сказуемое в таких текстах предшествует подлежащ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Лариса</cp:lastModifiedBy>
  <dcterms:modified xsi:type="dcterms:W3CDTF">2022-02-08T10:54:54Z</dcterms:modified>
  <cp:revision>31</cp:revision>
  <dc:subject/>
  <dc:title>Слайд 1</dc:title>
</cp:coreProperties>
</file>