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DD2-CB94-4537-AD1B-73C66FBE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C2E-18C2-46A6-96ED-A3318FA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BAC-EC99-4886-92CB-DB1BB14E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1C4-BFEA-48CD-9BD3-A1B5E34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E1F-7260-4517-9E46-4B56D0EC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237-36B1-422E-AB3E-7E5FA74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145B-2C0E-4F88-908B-B30A1895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C1B7-2D1B-477D-B8B1-4B29376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067F-DB1F-4CAD-B88D-5DF3F445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150-8A21-4B8C-988C-70A63A4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489F-B1F1-4B6A-A6A5-F74E5CC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8BC-7A04-403B-87D1-95116D9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31F-FEDD-439D-B4C1-9BEC8DEA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EEB-DBFF-4C73-A34A-C032031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644D-F780-492C-BD9E-0294A6F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E14-B3CC-43F0-A334-84F7BC2C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4D2A-779B-4A30-983F-06846BA1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CC7-13F5-4110-B245-67853A4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6A1-716F-40A4-8485-90C4A07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F20-26C0-4540-99C5-9D2E4701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6A9-9ED8-47E4-994D-D1DF078D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F7E-5F6E-49A2-B57D-753AB8E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B7E-2EF1-468B-ABC1-3FC1DB3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BEE-A881-410E-AEA5-E65AD73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179-EF22-4257-96C0-052E7CC775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918-9082-489B-A8AA-799A815226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 состояния окружающей сре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этюд - сочинение небольшого объёма, наброс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этюд по личным впечатлениям о любимом времени года, передав состояние окружающей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репродукции картин, мысленно погрузиться в среду, изображённую на них, составить этюд, озаглавить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ьте себе, что чувствуют птицы и звери в холод, ненастье, жар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видят они  окружающую действительность? Попробуйте написать этюд от лица животного, а мы угадаем ав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ОПОРНАЯ ЛЕКС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ясное, высокое, мутное, бесконечное, л..зу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чудесная, ясная, безоблачная, ненастная, тосккливая, в..л..колеп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холодный, прозрачный, хрустальный, свежий, чистый. ДЕРЕВЬЯ: огромные, могучие, в капельках дожд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дождливо, тоскливо, свежо, легко, жарко, светло, холодно, труд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о, пасмурно, просторно, темно, ненастно, радостно, грустно, уютно, приятно; обилие, сверкание, угасание, царствование, щебетание, безветрие, величие, затишье, приволье и т.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7636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дворе февраль. Предлагаю вам понаблюдать над состоянием природы и напис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ю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ю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очинение небольшого объёма, набр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«Ах, этот снег, чарующий и хрупкий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«Веселый феврал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«Ура! Февраль пришёл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Ух! Сугробы в февра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«В феврале мороз трескуч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«Февральское утр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 «Вечер в феврал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вральская лазур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Можете сформулировать тему самостоятель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47640" y="646200"/>
            <a:ext cx="64803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ногозначное слово, сре-да́, существительное, неодушевлённое, женский род, 1-е скло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- пространство существования, окружающий мир, окру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ногозначное слово, со-сто-я́-ни·е, существительное, неодушевлённое, средний род, 2-е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– положение, в котором кто-нибудь или что-нибудь находи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Понаблюдай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36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есь сад ещё голый, без листьев, умытый весеннею водой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 хорошо пахнет из сада свежестью, талой землёй и горьковатой ко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ьев. Тихо. Спокойно. Радос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Вдоль стен шкафы с книгами. В центре комнаты большой письменный стол.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ём лампа в зелёном абаж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 комнате тепло и уютно. Ярко горит лампа. Тиш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бъединяет 2 и 4 текст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хорош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хнет(личный гл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ада свежестью, талой землёй и горьковатой корой деревьев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хо. Спокойно. Радост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(наречия на –О, -Е со значением состояния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ш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(сущ., перед.состояние)  Ярко горит лампа.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нате тепло и уют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(наречия на –О,  со значением состоя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писании состояния окружающей среды часто говорится о состоянии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Данное» в предложениях этого типа речи чаще всего отсутствует, а если имеется, то называет элементы природы, её части (небо, воздух, солнце, лес и т.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ружающая человека среда – это не только природа, но и помещение, в котором он находится. Поэтому в типе речи «описание состояния окружающей среды» может говориться и о состоянии среды в помещ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овое» обозначает состояние природы и выражается личными и безличными глаголами (сияет, вечереет); наречиями на –О со значением состояния (холодно, душно и т.д.), именами существительными, передающими состояние (вечер, тишин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природ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а в помещении                                                                              чаще всего «данное» отсутств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ы личные - безли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ия на -О, -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- состояния                                                                                             существитель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ающие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ОСОБЫ СВЯЗИ ПРЕДЛОЖЕНИЙ В ТЕКС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предложений «данным» каждого следующего предложения становится «новое» предыдущего предло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Где-то за горизонтом шл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оза. 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ылала в жаркую летнюю ночь решительные широ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к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уже почти обессиленный в пути, оживлялся под сухой крышей и долго бродил по чердаку, от одного угла к друг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во всех предложениях текста повторяется одно и то же дан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исела совсем низко над траво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учала свет и выбрасывала искры, издавая жужжащий звук. Казалось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умывала, зайти в палатку или не зай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создать этюд (описание состояния окружающей среды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шите, как чувствуете. Передайте настро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тремитесь к излишней крас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абывайте о различных способах выражения Н (наречия на -О, -Е; глаголы личные и безличные; существительные со значением состоя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сказуемое в таких текстах предшествует под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Лариса</cp:lastModifiedBy>
  <dcterms:modified xsi:type="dcterms:W3CDTF">2022-02-08T10:54:54Z</dcterms:modified>
  <cp:revision>31</cp:revision>
  <dc:subject/>
  <dc:title>Слайд 1</dc:title>
</cp:coreProperties>
</file>