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C47-6B4D-4546-920D-B2A1BC4C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5FB-CB7D-455B-8367-0D4FBA0A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B11-7830-4BBB-9583-4B5601BF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AED-EA9D-4928-B496-7726EF62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6CBC-DA89-4724-9793-778458E3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1F79-5D39-4597-85AB-4A6A0520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FF9A-E13D-40F4-95D4-63B71954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BE8-BB11-4E0F-BD83-822D858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6A06-329A-4BA7-89B5-91783C0A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8E25-D224-4348-A494-8ACA6BF7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7F28-9E25-4226-8A51-E3C15839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4CE-4D45-4BD7-90C6-8B106AAD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F18-76BE-41BD-AC85-4B0C1CC8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B2A-4448-4ACD-9253-69C18ED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5DCD-F35D-4F07-9332-CAD40AE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0E90-D911-411A-9A5A-E6307C75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CB10-A207-4515-9EC2-E10ED03F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70629-1CE3-4CB1-A041-02D23C88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2CA82-FCA4-45DD-AAB7-9695D70D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12A67-681F-4B19-B4AD-C692C745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AAA42-B702-4BDE-A114-94DBE27F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B670C-9B15-4558-9966-47837E9C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CD8-2FA8-4C97-A7DF-EC21A2C6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D041F-B681-4159-81E9-F18F4AF0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B68E1-3AED-4333-BBD7-32E107D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42CFF-E02A-471A-BE85-C094F98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42822-45EC-4556-A7C7-5B1922A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C01F3-8259-471C-BB33-68EAD072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EA2B4-ED2C-49A2-9F5E-A8E8E8E1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6D7A3-77C3-436A-8FFD-C02B9FCB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8762-FE3F-4941-9327-BA06676B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268B-79A9-483B-BBC4-437550C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66EE7-28A0-475E-90CF-A0643FD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FD9-7D64-49D8-9465-E5B8FFDF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5045-2C10-4E2D-B466-F3036192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1D2D-5029-409D-BDE3-464687AB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39C7-84FE-4F1B-8FDD-334BD6E1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CD21-33C7-47C7-B572-08F39590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674E0-DD8A-4F49-AF1C-B8A7F390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117A-A66F-4340-A302-5F3B4F7D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33D0-A926-46ED-B5B3-6D1FF9E2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825A-BF6A-4A64-AF66-55426900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AF01-C2E4-412F-A944-21F50CBB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2F8-772B-4188-9BB5-2314D80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019-9D0B-4D71-9088-06FD15F3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B34-BC63-428D-BFCB-E234FF2E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AAD-E121-4058-9793-1F0B9D1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15E-C0FB-4154-9604-99E1C87F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854-0473-4B63-90DD-05DA36500C8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53B2-10FA-4FBE-A11B-ED09E9C6BB0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4D40-5115-4800-AECD-022FFE1A3F7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C7C3-7A5A-4DD9-8BC3-65BAF2FCA76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Этюд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Рубиновый глаз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57120" y="178596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розная тишина. Вечереет. Темнеют кусты неодетого леса, будто это сам лес собирает к ночи свои думы. Через тьму кустов глядит солнце рубиновым глазом, через кусты этот красный глаз не больше человеческ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.Пришвин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0" name="Picture 8" descr="Рисунок1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Восстанови текст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ю ранн.., свеж…, тихое утро. Выглядываю в окно и не узнаю леса. Какое великолепие и спокойствие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д глубок…, свеж… снегами, завалившими чащу леса, син…, огромн… и удивительно нежн… небо. Такие яркие, радостные краски бывают у нас только по утрам в январск… морозы. И особенно хороши они сегодня, над свеж… снегом и высок… бор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ю раннее, свежее, тихое утро. Выглядываю в окно и не узнаю леса. Какое великолепие и спокойствие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д глубокими, свежими снегами, завалившими чащу леса, синее, огромное и удивительно нежное небо. Такие яркие, радостные краски бывают у нас только по утрам в январские морозы. И особенно хороши они сегодня, над свежим снегом и высоким бор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Что я вижу? - Какие предметы и цвета преобладают зимой? Что я слышу? - Какие зву"/>
          <p:cNvPicPr/>
          <p:nvPr/>
        </p:nvPicPr>
        <p:blipFill>
          <a:blip r:embed="rId1"/>
          <a:stretch/>
        </p:blipFill>
        <p:spPr>
          <a:xfrm>
            <a:off x="928800" y="1571760"/>
            <a:ext cx="7929360" cy="45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714240" y="285768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_________лесу под ________ ёлками лежит _________ снег. Какая красота! Все деревья оделись в ________ наряд, а кустарники стали ________, как_______. _____ ель накинула поверх _______пальто _______ шаль; берёза надела _______ платье и стоит, словно _______. Все деревья становятся похожи на _______. На ________ поверхности появились ________ уз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592200" y="0"/>
            <a:ext cx="73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omic Sans MS"/>
              </a:rPr>
              <a:t>Тро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omic Sans MS"/>
              </a:rPr>
              <a:t>(слова в переносном значени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2057040" y="1295280"/>
            <a:ext cx="1676520" cy="1219320"/>
          </a:xfrm>
          <a:prstGeom prst="line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6019920" y="1295280"/>
            <a:ext cx="1828800" cy="1371600"/>
          </a:xfrm>
          <a:prstGeom prst="line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>
            <a:off x="4857840" y="1143000"/>
            <a:ext cx="71280" cy="2643120"/>
          </a:xfrm>
          <a:prstGeom prst="line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865800" y="2362320"/>
            <a:ext cx="31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704640" y="2438280"/>
            <a:ext cx="21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674440" y="4038480"/>
            <a:ext cx="47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олице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Рисунок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24480" y="2590920"/>
            <a:ext cx="524160" cy="53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Рисунок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0" y="42670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Рисунок3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80880" y="2514600"/>
            <a:ext cx="524160" cy="53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0" y="9500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Лес стоял сказочный (ЭПИТЕТ). Сосны, ели, замерли, красуясь в новых нарядах. (ОЛИЦЕТВОРЕНИЕ) Они любовались собой (ОЛИЦЕТВОРЕНИЕ) в темном зеркале (МЕТАФОРА) пруда. Было чем любоваться! На ветках мерцали, переливались под ярким солнцем снежные накидки, снежные шали и шапки. Снег, как пух, (СРАВНЕНИЕ) кутал тонкие в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перь им не страшно был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ледя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дыхание (МЕТАФОРА) зимней мете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РАМКИ\00012.pn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10" descr=""/>
          <p:cNvPicPr/>
          <p:nvPr/>
        </p:nvPicPr>
        <p:blipFill>
          <a:blip r:embed="rId2"/>
          <a:stretch/>
        </p:blipFill>
        <p:spPr>
          <a:xfrm>
            <a:off x="512640" y="1000080"/>
            <a:ext cx="7107480" cy="44625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4500720" y="1000080"/>
            <a:ext cx="40003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11"/>
          <p:cNvSpPr/>
          <p:nvPr/>
        </p:nvSpPr>
        <p:spPr>
          <a:xfrm>
            <a:off x="714240" y="2000160"/>
            <a:ext cx="2428920" cy="242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Тип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C:\Documents and Settings\Admin\Рабочий стол\i.jpeg"/>
          <p:cNvPicPr/>
          <p:nvPr/>
        </p:nvPicPr>
        <p:blipFill>
          <a:blip r:embed="rId3"/>
          <a:stretch/>
        </p:blipFill>
        <p:spPr>
          <a:xfrm>
            <a:off x="6643800" y="464328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Documents and Settings\Admin\Рабочий стол\1957539.jpg"/>
          <p:cNvPicPr/>
          <p:nvPr/>
        </p:nvPicPr>
        <p:blipFill>
          <a:blip r:embed="rId4"/>
          <a:stretch/>
        </p:blipFill>
        <p:spPr>
          <a:xfrm>
            <a:off x="6651720" y="-3168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rushkolnik.ru/tw_files2/urls_4/359/d-358351/img4.jpg"/>
          <p:cNvPicPr/>
          <p:nvPr/>
        </p:nvPicPr>
        <p:blipFill>
          <a:blip r:embed="rId1"/>
          <a:stretch/>
        </p:blipFill>
        <p:spPr>
          <a:xfrm>
            <a:off x="857160" y="7858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Горизонтальный свиток 3"/>
          <p:cNvSpPr/>
          <p:nvPr/>
        </p:nvSpPr>
        <p:spPr>
          <a:xfrm>
            <a:off x="642960" y="285840"/>
            <a:ext cx="7929720" cy="6000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18900000"/>
          </a:gra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1579320" y="1285920"/>
            <a:ext cx="21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Georgia"/>
              </a:rPr>
              <a:t>Пейз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2286000" y="2028960"/>
            <a:ext cx="4572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) вид какой-нибудь мес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) рисунок, картина, изображающая природу, а также описание природы в литературном произ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600" spc="-1" strike="noStrike">
                <a:solidFill>
                  <a:srgbClr val="04617b"/>
                </a:solidFill>
                <a:latin typeface="Georgia"/>
              </a:rPr>
              <a:t>( По  «Словарю русского языка» С.И.Ожегова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7286760" cy="5643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ds02.infourok.ru/uploads/ex/0e8c/00020a5b-97c51cce/310/img14.jpg"/>
          <p:cNvPicPr/>
          <p:nvPr/>
        </p:nvPicPr>
        <p:blipFill>
          <a:blip r:embed="rId2"/>
          <a:stretch/>
        </p:blipFill>
        <p:spPr>
          <a:xfrm>
            <a:off x="5929200" y="4500720"/>
            <a:ext cx="2789280" cy="207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http://ppt4web.ru/images/1345/34602/640/img10.jpg"/>
          <p:cNvPicPr/>
          <p:nvPr/>
        </p:nvPicPr>
        <p:blipFill>
          <a:blip r:embed="rId1"/>
          <a:srcRect l="0" t="0" r="762" b="21583"/>
          <a:stretch/>
        </p:blipFill>
        <p:spPr>
          <a:xfrm>
            <a:off x="1143000" y="1214280"/>
            <a:ext cx="7143840" cy="456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У слова </a:t>
            </a: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СНЕГ</a:t>
            </a: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 более 100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эпитетов!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блистающ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искрящийся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переливающийся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ослепительн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сверкающ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серебрист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нарядный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чистый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бездонн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глубок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23920" y="914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лёгк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мохнат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мягк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пушист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пышн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колюч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ноздреват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хрустящ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весел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печальный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и друг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2" descr="C:\Documents and Settings\Admin\Рабочий стол\новогод персон\Новая папка (2)\30.png"/>
          <p:cNvPicPr/>
          <p:nvPr/>
        </p:nvPicPr>
        <p:blipFill>
          <a:blip r:embed="rId22"/>
          <a:stretch/>
        </p:blipFill>
        <p:spPr>
          <a:xfrm>
            <a:off x="6858000" y="3857760"/>
            <a:ext cx="1847880" cy="27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8:17:04Z</dcterms:created>
  <dc:creator>Admin</dc:creator>
  <dc:description/>
  <dc:language>en-US</dc:language>
  <cp:lastModifiedBy>Лариса</cp:lastModifiedBy>
  <dcterms:modified xsi:type="dcterms:W3CDTF">2022-02-08T11:03:32Z</dcterms:modified>
  <cp:revision>82</cp:revision>
  <dc:subject/>
  <dc:title>Описание природы.</dc:title>
</cp:coreProperties>
</file>