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1D4F-B410-4750-AC98-C2651C30D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91AB-EE02-4CA3-A67C-9B3FF5E1E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A855-E7D8-44FF-AB65-93092BB20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41D6-C2F1-45A9-8534-5643D1A2A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5E9C4-9A7C-49E4-B875-32F68C808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179A6-C728-4752-8708-5DB06F306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9C05A-84A5-4BA1-9A1F-E22DF66E1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4DD30-382F-47CB-8275-D3206D6D8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2ED80-68DA-4BB4-8BF0-E903128EE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050CA-E9D5-4663-8C12-0FB764812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C1FAA-DD1A-42AB-9F8D-A01F336B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0171-776A-4704-9933-94BE68DAB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31D4D-6F37-4B58-8969-98B943244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23E39-C274-447A-B8AD-41D97FC7A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E6E52-00DF-4FA4-BF43-C2721BDDC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7E978-C1EE-4A4E-AC0A-4D29B8DEC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1C99F-892E-48BC-83F9-4A79AB2E4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2AFDFC-7F7F-46CA-8BAA-3BA8C9434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8875CE-0755-4F74-AB69-CD31F781A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5852F4-C472-4989-8734-2165AE975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92E945-8F91-4865-AF82-89A269FE6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A2E8D6-9F47-462D-AF09-409DDF760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BAD0-6176-4E11-AFEA-54F022DEF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33DE02-C044-4055-A0F8-E80587318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C5B4AE-2968-4B67-87BE-1DC1573C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C40F04-4265-4483-9FA6-89A920F1C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3BAC3E-162D-4586-9211-F4E258B7C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953B6B-571F-4C17-90C6-96D6E9506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DC0C4B-45A2-4E80-861F-B6829E931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12EF19-9B4F-4BC3-B412-4D8FB067C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4EFEE-644F-42A4-A750-6C9030D89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B5D88-1D5B-4DD9-AF9C-7CC82E53A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EB27C-A00B-49A0-BCE7-BBD5DBCF6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FBFC-C1F4-4D5D-9874-49C375DA9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986E3-53E9-4636-8C19-D299C6735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58CB9-E458-4C1A-9D7D-7C75A9389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DAB7F-D904-49EA-A879-E81CCA819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27E58-12DD-4571-9638-7B73AC57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A6393-C73A-4395-88F4-ABEA777B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3D15B-8321-439C-B128-6F3CE5FE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B8929-E416-44A9-851E-882F91441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04603-EDC4-462C-8EFF-95F0BEC7C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22559-CF15-4E60-B7F6-E3204C4D6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78D4-FD2D-4B91-A329-334651D2A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0F66-1327-44B9-927A-37034081E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21F8-B1A5-47E3-BFA2-377D0D189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AC93-463A-4B87-BAE4-318129A4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F7FC-DF5C-4B24-9D05-87A8E6A8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9dd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9dd9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BEB7F-4272-46D1-A877-40F324DD3C82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009dd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009dd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009dd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9dd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9dd9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4C683-6AF1-4CA0-A8EF-7422484DDC10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9dd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9dd9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811A8-3CB4-4B02-B482-707A24638C15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9dd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9dd9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74316-045C-45B0-AED1-6E0AC48944B6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.png"/><Relationship Id="rId3" Type="http://schemas.openxmlformats.org/officeDocument/2006/relationships/slide" Target="slide6.xml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image" Target="../media/image12.png"/><Relationship Id="rId22" Type="http://schemas.openxmlformats.org/officeDocument/2006/relationships/image" Target="../media/image13.png"/><Relationship Id="rId2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Trebuchet MS"/>
              </a:rPr>
              <a:t>Этюд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57200" y="2249640"/>
            <a:ext cx="8229600" cy="4324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3520" y="642960"/>
            <a:ext cx="81532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entury Gothic"/>
              </a:rPr>
              <a:t>Рубиновый глаз</a:t>
            </a:r>
            <a:endParaRPr b="0" lang="en-US" sz="36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357120" y="1785960"/>
            <a:ext cx="8143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dd9"/>
                </a:solidFill>
                <a:latin typeface="Comic Sans MS"/>
              </a:rPr>
              <a:t>	</a:t>
            </a:r>
            <a:r>
              <a:rPr b="0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орозная тишина. Вечереет. Темнеют кусты неодетого леса, будто это сам лес собирает к ночи свои думы. Через тьму кустов глядит солнце рубиновым глазом, через кусты этот красный глаз не больше человеческог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М.Пришвин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4617b"/>
              </a:solidFill>
              <a:latin typeface="Trebuchet MS"/>
            </a:endParaRPr>
          </a:p>
        </p:txBody>
      </p:sp>
      <p:pic>
        <p:nvPicPr>
          <p:cNvPr id="260" name="Picture 8" descr="Рисунок1_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Trebuchet MS"/>
              </a:rPr>
              <a:t>Восстанови текст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solidFill>
            <a:srgbClr val="009dd9"/>
          </a:solidFill>
          <a:ln w="9360">
            <a:solidFill>
              <a:srgbClr val="0f6fc6"/>
            </a:solidFill>
            <a:miter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мню ранн.., свеж…, тихое утро. Выглядываю в окно и не узнаю леса. Какое великолепие и спокойствие!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ад глубок…, свеж… снегами, завалившими чащу леса, син…, огромн… и удивительно нежн… небо. Такие яркие, радостные краски бывают у нас только по утрам в январск… морозы. И особенно хороши они сегодня, над свеж… снегом и высок… бором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мню раннее, свежее, тихое утро. Выглядываю в окно и не узнаю леса. Какое великолепие и спокойствие!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ад глубокими, свежими снегами, завалившими чащу леса, синее, огромное и удивительно нежное небо. Такие яркие, радостные краски бывают у нас только по утрам в январские морозы. И особенно хороши они сегодня, над свежим снегом и высоким бором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Что я вижу? - Какие предметы и цвета преобладают зимой? Что я слышу? - Какие зву"/>
          <p:cNvPicPr/>
          <p:nvPr/>
        </p:nvPicPr>
        <p:blipFill>
          <a:blip r:embed="rId1"/>
          <a:stretch/>
        </p:blipFill>
        <p:spPr>
          <a:xfrm>
            <a:off x="928800" y="1571760"/>
            <a:ext cx="7929360" cy="4500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Прямоугольник 1"/>
          <p:cNvSpPr/>
          <p:nvPr/>
        </p:nvSpPr>
        <p:spPr>
          <a:xfrm>
            <a:off x="714240" y="2857680"/>
            <a:ext cx="7500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 _________лесу под ________ ёлками лежит _________ снег. Какая красота! Все деревья оделись в ________ наряд, а кустарники стали ________, как_______. _____ ель накинула поверх _______пальто _______ шаль; берёза надела _______ платье и стоит, словно _______. Все деревья становятся похожи на _______. На ________ поверхности появились ________ узо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4"/>
          <p:cNvSpPr/>
          <p:nvPr/>
        </p:nvSpPr>
        <p:spPr>
          <a:xfrm>
            <a:off x="592200" y="0"/>
            <a:ext cx="73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Comic Sans MS"/>
              </a:rPr>
              <a:t>Троп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Comic Sans MS"/>
              </a:rPr>
              <a:t>(слова в переносном значении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5"/>
          <p:cNvSpPr/>
          <p:nvPr/>
        </p:nvSpPr>
        <p:spPr>
          <a:xfrm flipH="1">
            <a:off x="2057040" y="1295280"/>
            <a:ext cx="1676520" cy="1219320"/>
          </a:xfrm>
          <a:prstGeom prst="line">
            <a:avLst/>
          </a:prstGeom>
          <a:ln w="76320">
            <a:solidFill>
              <a:srgbClr val="7030a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6"/>
          <p:cNvSpPr/>
          <p:nvPr/>
        </p:nvSpPr>
        <p:spPr>
          <a:xfrm>
            <a:off x="6019920" y="1295280"/>
            <a:ext cx="1828800" cy="1371600"/>
          </a:xfrm>
          <a:prstGeom prst="line">
            <a:avLst/>
          </a:prstGeom>
          <a:ln w="76320">
            <a:solidFill>
              <a:srgbClr val="7030a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7"/>
          <p:cNvSpPr/>
          <p:nvPr/>
        </p:nvSpPr>
        <p:spPr>
          <a:xfrm flipH="1">
            <a:off x="4857840" y="1143000"/>
            <a:ext cx="71280" cy="2643120"/>
          </a:xfrm>
          <a:prstGeom prst="line">
            <a:avLst/>
          </a:prstGeom>
          <a:ln w="76320">
            <a:solidFill>
              <a:srgbClr val="7030a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865800" y="2362320"/>
            <a:ext cx="312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omic Sans MS"/>
              </a:rPr>
              <a:t>метафо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9"/>
          <p:cNvSpPr/>
          <p:nvPr/>
        </p:nvSpPr>
        <p:spPr>
          <a:xfrm>
            <a:off x="6704640" y="2438280"/>
            <a:ext cx="218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omic Sans MS"/>
              </a:rPr>
              <a:t>эпит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0"/>
          <p:cNvSpPr/>
          <p:nvPr/>
        </p:nvSpPr>
        <p:spPr>
          <a:xfrm>
            <a:off x="2674440" y="4038480"/>
            <a:ext cx="479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omic Sans MS"/>
              </a:rPr>
              <a:t>олицетвор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13" descr="Рисунок3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324480" y="2590920"/>
            <a:ext cx="524160" cy="5331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4" descr="Рисунок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286000" y="4267080"/>
            <a:ext cx="523800" cy="5335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5" descr="Рисунок3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380880" y="2514600"/>
            <a:ext cx="524160" cy="533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1"/>
          <p:cNvSpPr/>
          <p:nvPr/>
        </p:nvSpPr>
        <p:spPr>
          <a:xfrm>
            <a:off x="0" y="950040"/>
            <a:ext cx="9144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Лес стоял сказочный (ЭПИТЕТ). Сосны, ели, замерли, красуясь в новых нарядах. (ОЛИЦЕТВОРЕНИЕ) Они любовались собой (ОЛИЦЕТВОРЕНИЕ) в темном зеркале (МЕТАФОРА) пруда. Было чем любоваться! На ветках мерцали, переливались под ярким солнцем снежные накидки, снежные шали и шапки. Снег, как пух, (СРАВНЕНИЕ) кутал тонкие вет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Теперь им не страшно было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ледяно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дыхание (МЕТАФОРА) зимней метели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D:\РАМКИ\00012.png"/>
          <p:cNvPicPr/>
          <p:nvPr/>
        </p:nvPicPr>
        <p:blipFill>
          <a:blip r:embed="rId1"/>
          <a:stretch/>
        </p:blipFill>
        <p:spPr>
          <a:xfrm>
            <a:off x="0" y="-2142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1" name="Схема 10" descr=""/>
          <p:cNvPicPr/>
          <p:nvPr/>
        </p:nvPicPr>
        <p:blipFill>
          <a:blip r:embed="rId2"/>
          <a:stretch/>
        </p:blipFill>
        <p:spPr>
          <a:xfrm>
            <a:off x="512640" y="1000080"/>
            <a:ext cx="7107480" cy="4462560"/>
          </a:xfrm>
          <a:prstGeom prst="rect">
            <a:avLst/>
          </a:prstGeom>
          <a:ln w="0">
            <a:noFill/>
          </a:ln>
        </p:spPr>
      </p:pic>
      <p:sp>
        <p:nvSpPr>
          <p:cNvPr id="242" name="Прямоугольник 2"/>
          <p:cNvSpPr/>
          <p:nvPr/>
        </p:nvSpPr>
        <p:spPr>
          <a:xfrm>
            <a:off x="4500720" y="1000080"/>
            <a:ext cx="400032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Овал 11"/>
          <p:cNvSpPr/>
          <p:nvPr/>
        </p:nvSpPr>
        <p:spPr>
          <a:xfrm>
            <a:off x="714240" y="2000160"/>
            <a:ext cx="2428920" cy="2428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eorgia"/>
              </a:rPr>
              <a:t>Типы реч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3" descr="C:\Documents and Settings\Admin\Рабочий стол\i.jpeg"/>
          <p:cNvPicPr/>
          <p:nvPr/>
        </p:nvPicPr>
        <p:blipFill>
          <a:blip r:embed="rId3"/>
          <a:stretch/>
        </p:blipFill>
        <p:spPr>
          <a:xfrm>
            <a:off x="6643800" y="4643280"/>
            <a:ext cx="714240" cy="6429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" descr="C:\Documents and Settings\Admin\Рабочий стол\1957539.jpg"/>
          <p:cNvPicPr/>
          <p:nvPr/>
        </p:nvPicPr>
        <p:blipFill>
          <a:blip r:embed="rId4"/>
          <a:stretch/>
        </p:blipFill>
        <p:spPr>
          <a:xfrm>
            <a:off x="6651720" y="-31680"/>
            <a:ext cx="2057400" cy="2743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http://rushkolnik.ru/tw_files2/urls_4/359/d-358351/img4.jpg"/>
          <p:cNvPicPr/>
          <p:nvPr/>
        </p:nvPicPr>
        <p:blipFill>
          <a:blip r:embed="rId1"/>
          <a:stretch/>
        </p:blipFill>
        <p:spPr>
          <a:xfrm>
            <a:off x="857160" y="78588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Горизонтальный свиток 3"/>
          <p:cNvSpPr/>
          <p:nvPr/>
        </p:nvSpPr>
        <p:spPr>
          <a:xfrm>
            <a:off x="642960" y="285840"/>
            <a:ext cx="7929720" cy="60008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8cabee"/>
              </a:gs>
              <a:gs pos="100000">
                <a:srgbClr val="dee5f8"/>
              </a:gs>
            </a:gsLst>
            <a:lin ang="18900000"/>
          </a:gradFill>
          <a:ln w="399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1"/>
          <p:cNvSpPr/>
          <p:nvPr/>
        </p:nvSpPr>
        <p:spPr>
          <a:xfrm>
            <a:off x="1579320" y="1285920"/>
            <a:ext cx="216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0033cc"/>
                </a:solidFill>
                <a:uFillTx/>
                <a:latin typeface="Georgia"/>
              </a:rPr>
              <a:t>Пейза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2"/>
          <p:cNvSpPr/>
          <p:nvPr/>
        </p:nvSpPr>
        <p:spPr>
          <a:xfrm>
            <a:off x="2286000" y="2028960"/>
            <a:ext cx="45720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1) вид какой-нибудь мест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2) рисунок, картина, изображающая природу, а также описание природы в литературном произвед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1600" spc="-1" strike="noStrike">
                <a:solidFill>
                  <a:srgbClr val="04617b"/>
                </a:solidFill>
                <a:latin typeface="Georgia"/>
              </a:rPr>
              <a:t>( По  «Словарю русского языка» С.И.Ожегова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1143000" y="642960"/>
            <a:ext cx="7286760" cy="56437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" descr="http://ds02.infourok.ru/uploads/ex/0e8c/00020a5b-97c51cce/310/img14.jpg"/>
          <p:cNvPicPr/>
          <p:nvPr/>
        </p:nvPicPr>
        <p:blipFill>
          <a:blip r:embed="rId2"/>
          <a:stretch/>
        </p:blipFill>
        <p:spPr>
          <a:xfrm>
            <a:off x="5929200" y="4500720"/>
            <a:ext cx="2789280" cy="2071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Рисунок 1" descr="http://ppt4web.ru/images/1345/34602/640/img10.jpg"/>
          <p:cNvPicPr/>
          <p:nvPr/>
        </p:nvPicPr>
        <p:blipFill>
          <a:blip r:embed="rId1"/>
          <a:srcRect l="0" t="0" r="762" b="21583"/>
          <a:stretch/>
        </p:blipFill>
        <p:spPr>
          <a:xfrm>
            <a:off x="1143000" y="1214280"/>
            <a:ext cx="7143840" cy="4567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99ff"/>
                </a:solidFill>
                <a:latin typeface="Comic Sans MS"/>
              </a:rPr>
              <a:t>У слова </a:t>
            </a:r>
            <a:r>
              <a:rPr b="1" i="1" lang="ru-RU" sz="3600" spc="-1" strike="noStrike">
                <a:solidFill>
                  <a:srgbClr val="ffffff"/>
                </a:solidFill>
                <a:latin typeface="Comic Sans MS"/>
              </a:rPr>
              <a:t>СНЕГ</a:t>
            </a:r>
            <a:r>
              <a:rPr b="1" lang="ru-RU" sz="3600" spc="-1" strike="noStrike">
                <a:solidFill>
                  <a:srgbClr val="3399ff"/>
                </a:solidFill>
                <a:latin typeface="Comic Sans MS"/>
              </a:rPr>
              <a:t> более 100</a:t>
            </a:r>
            <a:r>
              <a:rPr b="1" lang="ru-RU" sz="3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3399ff"/>
                </a:solidFill>
                <a:latin typeface="Comic Sans MS"/>
              </a:rPr>
              <a:t>эпитетов!</a:t>
            </a:r>
            <a:endParaRPr b="0" lang="en-US" sz="36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228600" y="9144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70c0"/>
                </a:solidFill>
                <a:latin typeface="Comic Sans MS"/>
              </a:rPr>
              <a:t>блистающий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70c0"/>
                </a:solidFill>
                <a:latin typeface="Comic Sans MS"/>
              </a:rPr>
              <a:t>искрящийся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70c0"/>
                </a:solidFill>
                <a:latin typeface="Comic Sans MS"/>
              </a:rPr>
              <a:t>переливающийся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70c0"/>
                </a:solidFill>
                <a:latin typeface="Comic Sans MS"/>
              </a:rPr>
              <a:t>ослепительный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70c0"/>
                </a:solidFill>
                <a:latin typeface="Comic Sans MS"/>
              </a:rPr>
              <a:t>сверкающий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SzPct val="1028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70c0"/>
                </a:solidFill>
                <a:latin typeface="Comic Sans MS"/>
              </a:rPr>
              <a:t>серебристый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SzPct val="10289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70c0"/>
                </a:solidFill>
                <a:latin typeface="Comic Sans MS"/>
              </a:rPr>
              <a:t>нарядный 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SzPct val="10289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70c0"/>
                </a:solidFill>
                <a:latin typeface="Comic Sans MS"/>
              </a:rPr>
              <a:t>чистый 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SzPct val="10289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70c0"/>
                </a:solidFill>
                <a:latin typeface="Comic Sans MS"/>
              </a:rPr>
              <a:t>бездонный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SzPct val="10289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70c0"/>
                </a:solidFill>
                <a:latin typeface="Comic Sans MS"/>
              </a:rPr>
              <a:t>глубокий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723920" y="9144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SzPct val="10289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70c0"/>
                </a:solidFill>
                <a:latin typeface="Comic Sans MS"/>
              </a:rPr>
              <a:t>лёгкий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SzPct val="10289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70c0"/>
                </a:solidFill>
                <a:latin typeface="Comic Sans MS"/>
              </a:rPr>
              <a:t>мохнатый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SzPct val="10289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70c0"/>
                </a:solidFill>
                <a:latin typeface="Comic Sans MS"/>
              </a:rPr>
              <a:t>мягкий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SzPct val="10289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70c0"/>
                </a:solidFill>
                <a:latin typeface="Comic Sans MS"/>
              </a:rPr>
              <a:t>пушистый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SzPct val="10289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70c0"/>
                </a:solidFill>
                <a:latin typeface="Comic Sans MS"/>
              </a:rPr>
              <a:t>пышный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SzPct val="102890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70c0"/>
                </a:solidFill>
                <a:latin typeface="Comic Sans MS"/>
              </a:rPr>
              <a:t>колючий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SzPct val="10289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70c0"/>
                </a:solidFill>
                <a:latin typeface="Comic Sans MS"/>
              </a:rPr>
              <a:t>ноздреватый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SzPct val="10289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70c0"/>
                </a:solidFill>
                <a:latin typeface="Comic Sans MS"/>
              </a:rPr>
              <a:t>хрустящий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SzPct val="10289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70c0"/>
                </a:solidFill>
                <a:latin typeface="Comic Sans MS"/>
              </a:rPr>
              <a:t>веселый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SzPct val="102890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70c0"/>
                </a:solidFill>
                <a:latin typeface="Comic Sans MS"/>
              </a:rPr>
              <a:t>печальный 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SzPct val="10289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70c0"/>
                </a:solidFill>
                <a:latin typeface="Comic Sans MS"/>
              </a:rPr>
              <a:t>и другие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6" name="Picture 2" descr="C:\Documents and Settings\Admin\Рабочий стол\новогод персон\Новая папка (2)\30.png"/>
          <p:cNvPicPr/>
          <p:nvPr/>
        </p:nvPicPr>
        <p:blipFill>
          <a:blip r:embed="rId22"/>
          <a:stretch/>
        </p:blipFill>
        <p:spPr>
          <a:xfrm>
            <a:off x="6858000" y="3857760"/>
            <a:ext cx="1847880" cy="2771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1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1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1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1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1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1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1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1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1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1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10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10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10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1000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1000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1000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1000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1000"/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1000"/>
                                        <p:tgtEl>
                                          <p:spTgt spid="2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08:17:04Z</dcterms:created>
  <dc:creator>Admin</dc:creator>
  <dc:description/>
  <dc:language>en-US</dc:language>
  <cp:lastModifiedBy>Лариса</cp:lastModifiedBy>
  <dcterms:modified xsi:type="dcterms:W3CDTF">2022-02-08T11:03:32Z</dcterms:modified>
  <cp:revision>82</cp:revision>
  <dc:subject/>
  <dc:title>Описание природы.</dc:title>
</cp:coreProperties>
</file>