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28C-936A-42EE-B561-01D89218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872-A662-456E-BFA2-FBCEE95A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07416-A5D9-4255-84D2-6640EBF1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DF9D6-406A-48DB-AE1E-51589135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C6F6A-C861-40DA-9049-536A40CC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636A3-8018-4D39-AC8D-4833CD22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D59D5-EFE4-4DFB-B3F2-9EABEAB0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3139F-AF7F-48BE-B5B8-8A6D144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8ED5D-9E81-4D8A-9108-9363FB12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2619D-603B-4304-AA5B-204E691A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06A5B-7EE1-4571-87BF-117D7D68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EEA-2769-40D1-8BE3-4A04F0D6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FE5-1C91-407D-A710-93D9765A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0DA6-FC9E-4C52-9A7D-0EEAFD6F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90EE-4168-4804-B6BF-AF3B5A5B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A476-411D-4BE9-82F4-6927C87B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3BC4-33E7-4B89-9076-E04E6104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6AC4-9139-491A-8F77-7EACFCED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F9FA-1F80-469D-8CD4-B849EFE4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63A5-BDD8-4C2D-A915-D155B9E5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383-3198-4B29-8347-C099BD6A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137F-8919-47EC-8C37-0EA5952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17F8-6D5A-4435-9384-EE051B8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CA79-1007-421E-9FC8-95CAFF77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7F10-8CBC-4662-9815-7E443BD1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C561-BC9B-4793-BA8D-177788D3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0B76-4DD5-4B3D-A195-066558A8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4257-B59C-4151-9F8E-904D574F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0E1B-2C8A-452E-9053-001E700F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8042-A4BC-42B2-860A-1027035B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6779-0D0C-4029-9D47-C54AC4D8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B76-7B70-4C96-946E-CFFB5A49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8884-3B96-48C5-B93C-A343375A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4147-16A2-4B13-B619-E0AADDD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9710-4FCA-436A-BC13-280981F1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4EB0-EF8C-45D6-A799-7BAE188D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1AA8-9C7C-4E43-AB35-152AE107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8C0A-B765-4E96-B0EB-8F25821B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545D-CE92-4F19-B4FB-09002256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9428-EF64-4188-920D-3845F3F5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546E-40B0-49C8-9143-5FA1E353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C517-C011-4E69-BD04-020D0813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0D2-5F23-4E3C-8416-FDC5A16E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57227-416E-42C8-9F98-D5DE14ED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9968E-C654-4301-9123-35CC7E3D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E0B8F-B3C6-4AC0-8EE3-C4FEC979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685F-0FD4-41EE-A509-1CD2A620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3311-2E3F-4716-8F34-341EB15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E0D1-6F17-4482-9231-806EFAF0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46D5-5095-4441-9F7C-4AD205B9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D3A6-EF5B-4354-8378-27751B9B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DB2C-DC04-442B-B3B9-0F7BD96E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1C36-28F0-4312-A41B-6F9DB4C8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CF8-D10E-4755-98F4-9E593579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D9527-A7BC-4542-BE2E-21002B43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50E90-ECFC-4F41-BE6F-1C66408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010FA-8C91-4530-9E66-7B83A60A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818ED-8F91-4396-9751-1A91F883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FAE7-7A38-40F0-99A7-DF20EA3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249EC-613D-428B-8266-89B7948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D9D7-9747-4546-B448-71B9F15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BDFCC-4B7F-4D4B-A1E9-460F518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A135E-FD8D-46AB-A30D-362A42AB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88E3C-1692-49B3-B739-C4C88D95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629-DAA0-47A0-856C-F2ADB92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4893C-55B6-49C8-8AF1-812AF0D4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0EB5-B3A9-4B72-A152-3AAB63EB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4C55E-8AB2-494F-B60A-8D74D340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250BE-678D-4FB0-BA00-637DE4A9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2BF78-9B52-4364-9F41-84C5D337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3DED5-A345-4A11-91E0-23FFB908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A1AF0-EEA0-4931-AC0D-3EE0F39A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07A4-825E-4DC8-A14D-18D1246D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CAA1-667D-4129-88A7-22B9AE91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29240-681E-47F2-87B2-A3C7E4D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127-53F0-46D5-867F-DE3CCFFC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B0C4-9159-4510-A429-D8176508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174D4-7A9C-429B-82CF-8898497F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6D3C0-6119-4329-87D5-47C36440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F2937-80FA-4ED5-94CF-92E380A9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3BEA1-980D-4FB6-814D-3C7AA634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C5281-6B51-43E6-B601-B8105464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A8E8B-76AF-4FC7-81AE-335388CB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96190-773F-4FE2-9690-BA9D9CCC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A9E5B-81B2-43D9-BEDA-EEF3EBC2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EF5E2-0BC7-4792-8487-F20AD06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2C7-45E6-427B-B9C1-D1F73D9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DE78F-4A8A-4F65-9131-3750297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96268-DB96-4071-93BF-0D847E0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28B9-AF76-40AF-B850-1325F78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7754-08F5-4847-9294-ACFC6CA4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A8A49-28C2-4666-A87D-709F4E43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B4F79-9427-4562-B874-4A0E5E23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C51D9-FC8E-41B6-BAFB-C6B3888E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2BA18-79E2-41CD-A327-A022CF6E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6FF53-5F6F-4BEF-92C6-ED8F009A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A143-A8EF-4A36-B87A-3A0052A7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9D9-3EBC-41AC-888A-0ADFB2BC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630B-206C-40A5-BD01-015BA2A1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9EFB6-ABDB-4848-9225-519DD32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01D98-3B0D-42D0-AA29-B3287C14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9A9B5-A7AB-436A-BC3B-A0FA0179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D80D9-D283-4691-8CDC-7AD511CA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8FB54-D371-4391-B36E-AC766FD8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0721-148D-4420-B7F2-3640D4DA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63349-DD8E-42D6-991A-1EDBBAA9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6D474-DFA9-4BC5-AA13-BF842D4E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B2FD1-A75B-428C-95D0-21D584DD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0A01-C883-4A7D-BE75-D380E893490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3470-9D12-47DC-BFEB-A747B24CB868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ABDD-9CCD-47FF-9269-B4169E26DA0A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6066-2558-46C9-B32E-8C630492DC3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BAA0-3709-49E9-885E-C7060971A03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5F3E-90DC-4BFE-8579-D484792FF13F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C1D0-6DDA-4848-A7A8-580E8AF28CEC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105F-4715-489F-8265-D4C6D727BA8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44FC-CEA7-4006-AD1A-4245E97E6858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3" descr=""/>
          <p:cNvPicPr/>
          <p:nvPr/>
        </p:nvPicPr>
        <p:blipFill>
          <a:blip r:embed="rId1"/>
          <a:stretch/>
        </p:blipFill>
        <p:spPr>
          <a:xfrm>
            <a:off x="2097000" y="1401840"/>
            <a:ext cx="5005440" cy="1549440"/>
          </a:xfrm>
          <a:prstGeom prst="rect">
            <a:avLst/>
          </a:prstGeom>
          <a:ln w="0">
            <a:noFill/>
          </a:ln>
        </p:spPr>
      </p:pic>
      <p:pic>
        <p:nvPicPr>
          <p:cNvPr id="400" name="TextBox 4" descr=""/>
          <p:cNvPicPr/>
          <p:nvPr/>
        </p:nvPicPr>
        <p:blipFill>
          <a:blip r:embed="rId2"/>
          <a:stretch/>
        </p:blipFill>
        <p:spPr>
          <a:xfrm>
            <a:off x="2646360" y="3286080"/>
            <a:ext cx="4297320" cy="52380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5"/>
          <p:cNvSpPr/>
          <p:nvPr/>
        </p:nvSpPr>
        <p:spPr>
          <a:xfrm>
            <a:off x="7786800" y="2643120"/>
            <a:ext cx="1071360" cy="1143000"/>
          </a:xfrm>
          <a:prstGeom prst="rect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Равнобедренный треугольник 6"/>
          <p:cNvSpPr/>
          <p:nvPr/>
        </p:nvSpPr>
        <p:spPr>
          <a:xfrm>
            <a:off x="2571840" y="385776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7"/>
          <p:cNvSpPr/>
          <p:nvPr/>
        </p:nvSpPr>
        <p:spPr>
          <a:xfrm>
            <a:off x="785880" y="4643280"/>
            <a:ext cx="107136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8"/>
          <p:cNvSpPr/>
          <p:nvPr/>
        </p:nvSpPr>
        <p:spPr>
          <a:xfrm>
            <a:off x="4500720" y="4929120"/>
            <a:ext cx="1071360" cy="1143000"/>
          </a:xfrm>
          <a:prstGeom prst="ellipse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Умножение 9"/>
          <p:cNvSpPr/>
          <p:nvPr/>
        </p:nvSpPr>
        <p:spPr>
          <a:xfrm>
            <a:off x="6357960" y="4071960"/>
            <a:ext cx="1500120" cy="1500120"/>
          </a:xfrm>
          <a:custGeom>
            <a:avLst/>
            <a:gdLst/>
            <a:ahLst/>
            <a:rect l="l" t="t" r="r" b="b"/>
            <a:pathLst>
              <a:path w="1500187" h="1500187">
                <a:moveTo>
                  <a:pt x="235558" y="485057"/>
                </a:moveTo>
                <a:lnTo>
                  <a:pt x="485057" y="235558"/>
                </a:lnTo>
                <a:lnTo>
                  <a:pt x="750094" y="500595"/>
                </a:lnTo>
                <a:lnTo>
                  <a:pt x="1015130" y="235558"/>
                </a:lnTo>
                <a:lnTo>
                  <a:pt x="1264629" y="485057"/>
                </a:lnTo>
                <a:lnTo>
                  <a:pt x="999592" y="750094"/>
                </a:lnTo>
                <a:lnTo>
                  <a:pt x="1264629" y="1015130"/>
                </a:lnTo>
                <a:lnTo>
                  <a:pt x="1015130" y="1264629"/>
                </a:lnTo>
                <a:lnTo>
                  <a:pt x="750094" y="999592"/>
                </a:lnTo>
                <a:lnTo>
                  <a:pt x="485057" y="1264629"/>
                </a:lnTo>
                <a:lnTo>
                  <a:pt x="235558" y="1015130"/>
                </a:lnTo>
                <a:lnTo>
                  <a:pt x="500595" y="750094"/>
                </a:lnTo>
                <a:lnTo>
                  <a:pt x="235558" y="485057"/>
                </a:lnTo>
                <a:close/>
              </a:path>
            </a:pathLst>
          </a:custGeom>
          <a:solidFill>
            <a:srgbClr val="ffe636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Умножение 10"/>
          <p:cNvSpPr/>
          <p:nvPr/>
        </p:nvSpPr>
        <p:spPr>
          <a:xfrm>
            <a:off x="285840" y="2571840"/>
            <a:ext cx="1428840" cy="1500120"/>
          </a:xfrm>
          <a:custGeom>
            <a:avLst/>
            <a:gdLst/>
            <a:ahLst/>
            <a:rect l="l" t="t" r="r" b="b"/>
            <a:pathLst>
              <a:path w="1428750" h="1500188">
                <a:moveTo>
                  <a:pt x="221480" y="476184"/>
                </a:moveTo>
                <a:lnTo>
                  <a:pt x="464820" y="244431"/>
                </a:lnTo>
                <a:lnTo>
                  <a:pt x="714375" y="506464"/>
                </a:lnTo>
                <a:lnTo>
                  <a:pt x="963930" y="244431"/>
                </a:lnTo>
                <a:lnTo>
                  <a:pt x="1207270" y="476184"/>
                </a:lnTo>
                <a:lnTo>
                  <a:pt x="946404" y="750094"/>
                </a:lnTo>
                <a:lnTo>
                  <a:pt x="1207270" y="1024004"/>
                </a:lnTo>
                <a:lnTo>
                  <a:pt x="963930" y="1255757"/>
                </a:lnTo>
                <a:lnTo>
                  <a:pt x="714375" y="993724"/>
                </a:lnTo>
                <a:lnTo>
                  <a:pt x="464820" y="1255757"/>
                </a:lnTo>
                <a:lnTo>
                  <a:pt x="221480" y="1024004"/>
                </a:lnTo>
                <a:lnTo>
                  <a:pt x="482346" y="750094"/>
                </a:lnTo>
                <a:lnTo>
                  <a:pt x="221480" y="476184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5572080" y="630864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ыполнила: Фрол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2143080" y="1357200"/>
          <a:ext cx="5000760" cy="4500720"/>
        </p:xfrm>
        <a:graphic>
          <a:graphicData uri="http://schemas.openxmlformats.org/drawingml/2006/table">
            <a:tbl>
              <a:tblPr/>
              <a:tblGrid>
                <a:gridCol w="1666800"/>
                <a:gridCol w="1667160"/>
                <a:gridCol w="1666800"/>
              </a:tblGrid>
              <a:tr h="14590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36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94" name="Стрелка вправо 3"/>
          <p:cNvSpPr/>
          <p:nvPr/>
        </p:nvSpPr>
        <p:spPr>
          <a:xfrm>
            <a:off x="2428920" y="178596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Стрелка вверх 4"/>
          <p:cNvSpPr/>
          <p:nvPr/>
        </p:nvSpPr>
        <p:spPr>
          <a:xfrm>
            <a:off x="4500720" y="157176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Стрелка вниз 5"/>
          <p:cNvSpPr/>
          <p:nvPr/>
        </p:nvSpPr>
        <p:spPr>
          <a:xfrm>
            <a:off x="6000840" y="157176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Стрелка вправо 6"/>
          <p:cNvSpPr/>
          <p:nvPr/>
        </p:nvSpPr>
        <p:spPr>
          <a:xfrm>
            <a:off x="5643720" y="3357720"/>
            <a:ext cx="1285560" cy="642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трелка вверх 7"/>
          <p:cNvSpPr/>
          <p:nvPr/>
        </p:nvSpPr>
        <p:spPr>
          <a:xfrm>
            <a:off x="2786040" y="307188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трелка вниз 8"/>
          <p:cNvSpPr/>
          <p:nvPr/>
        </p:nvSpPr>
        <p:spPr>
          <a:xfrm>
            <a:off x="4357800" y="314316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трелка вправо 9"/>
          <p:cNvSpPr/>
          <p:nvPr/>
        </p:nvSpPr>
        <p:spPr>
          <a:xfrm>
            <a:off x="4000680" y="4714920"/>
            <a:ext cx="1285560" cy="6429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низ 10"/>
          <p:cNvSpPr/>
          <p:nvPr/>
        </p:nvSpPr>
        <p:spPr>
          <a:xfrm>
            <a:off x="2714760" y="4643280"/>
            <a:ext cx="714240" cy="10004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трелка вверх 14"/>
          <p:cNvSpPr/>
          <p:nvPr/>
        </p:nvSpPr>
        <p:spPr>
          <a:xfrm>
            <a:off x="6000840" y="457200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j0214098.wav" descr=""/>
          <p:cNvPicPr/>
          <p:nvPr/>
        </p:nvPicPr>
        <p:blipFill>
          <a:blip r:embed="rId1"/>
          <a:stretch/>
        </p:blipFill>
        <p:spPr>
          <a:xfrm>
            <a:off x="5715000" y="714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4" name="TextBox 16"/>
          <p:cNvSpPr/>
          <p:nvPr/>
        </p:nvSpPr>
        <p:spPr>
          <a:xfrm>
            <a:off x="2675880" y="357120"/>
            <a:ext cx="36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Book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745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"/>
          <p:cNvGraphicFramePr/>
          <p:nvPr/>
        </p:nvGraphicFramePr>
        <p:xfrm>
          <a:off x="642960" y="1071720"/>
          <a:ext cx="5000760" cy="4500360"/>
        </p:xfrm>
        <a:graphic>
          <a:graphicData uri="http://schemas.openxmlformats.org/drawingml/2006/table">
            <a:tbl>
              <a:tblPr/>
              <a:tblGrid>
                <a:gridCol w="1666800"/>
                <a:gridCol w="1666800"/>
                <a:gridCol w="1667160"/>
              </a:tblGrid>
              <a:tr h="145872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36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81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6" name="Плюс 2"/>
          <p:cNvSpPr/>
          <p:nvPr/>
        </p:nvSpPr>
        <p:spPr>
          <a:xfrm>
            <a:off x="1071720" y="135720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32567" y="418166"/>
                </a:moveTo>
                <a:lnTo>
                  <a:pt x="382448" y="418166"/>
                </a:lnTo>
                <a:lnTo>
                  <a:pt x="382448" y="142036"/>
                </a:lnTo>
                <a:lnTo>
                  <a:pt x="617677" y="142036"/>
                </a:lnTo>
                <a:lnTo>
                  <a:pt x="617677" y="418166"/>
                </a:lnTo>
                <a:lnTo>
                  <a:pt x="867558" y="418166"/>
                </a:lnTo>
                <a:lnTo>
                  <a:pt x="867558" y="653396"/>
                </a:lnTo>
                <a:lnTo>
                  <a:pt x="617677" y="653396"/>
                </a:lnTo>
                <a:lnTo>
                  <a:pt x="617677" y="929526"/>
                </a:lnTo>
                <a:lnTo>
                  <a:pt x="382448" y="929526"/>
                </a:lnTo>
                <a:lnTo>
                  <a:pt x="382448" y="653396"/>
                </a:lnTo>
                <a:lnTo>
                  <a:pt x="132567" y="653396"/>
                </a:lnTo>
                <a:lnTo>
                  <a:pt x="132567" y="418166"/>
                </a:lnTo>
                <a:close/>
              </a:path>
            </a:pathLst>
          </a:custGeom>
          <a:solidFill>
            <a:srgbClr val="ffe636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инус 3"/>
          <p:cNvSpPr/>
          <p:nvPr/>
        </p:nvSpPr>
        <p:spPr>
          <a:xfrm>
            <a:off x="2571840" y="1500120"/>
            <a:ext cx="1071360" cy="714600"/>
          </a:xfrm>
          <a:custGeom>
            <a:avLst/>
            <a:gdLst/>
            <a:ahLst/>
            <a:rect l="l" t="t" r="r" b="b"/>
            <a:pathLst>
              <a:path w="1071563" h="714375">
                <a:moveTo>
                  <a:pt x="142036" y="273177"/>
                </a:moveTo>
                <a:lnTo>
                  <a:pt x="929527" y="273177"/>
                </a:lnTo>
                <a:lnTo>
                  <a:pt x="929527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Умножение 4"/>
          <p:cNvSpPr/>
          <p:nvPr/>
        </p:nvSpPr>
        <p:spPr>
          <a:xfrm>
            <a:off x="4286160" y="135720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Умножение 5"/>
          <p:cNvSpPr/>
          <p:nvPr/>
        </p:nvSpPr>
        <p:spPr>
          <a:xfrm>
            <a:off x="1071720" y="278604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инус 6"/>
          <p:cNvSpPr/>
          <p:nvPr/>
        </p:nvSpPr>
        <p:spPr>
          <a:xfrm>
            <a:off x="4214880" y="3000240"/>
            <a:ext cx="1071360" cy="714600"/>
          </a:xfrm>
          <a:custGeom>
            <a:avLst/>
            <a:gdLst/>
            <a:ahLst/>
            <a:rect l="l" t="t" r="r" b="b"/>
            <a:pathLst>
              <a:path w="1071562" h="714375">
                <a:moveTo>
                  <a:pt x="142036" y="273177"/>
                </a:moveTo>
                <a:lnTo>
                  <a:pt x="929526" y="273177"/>
                </a:lnTo>
                <a:lnTo>
                  <a:pt x="929526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люс 7"/>
          <p:cNvSpPr/>
          <p:nvPr/>
        </p:nvSpPr>
        <p:spPr>
          <a:xfrm>
            <a:off x="2643120" y="278604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32567" y="418166"/>
                </a:moveTo>
                <a:lnTo>
                  <a:pt x="382448" y="418166"/>
                </a:lnTo>
                <a:lnTo>
                  <a:pt x="382448" y="142036"/>
                </a:lnTo>
                <a:lnTo>
                  <a:pt x="617677" y="142036"/>
                </a:lnTo>
                <a:lnTo>
                  <a:pt x="617677" y="418166"/>
                </a:lnTo>
                <a:lnTo>
                  <a:pt x="867558" y="418166"/>
                </a:lnTo>
                <a:lnTo>
                  <a:pt x="867558" y="653396"/>
                </a:lnTo>
                <a:lnTo>
                  <a:pt x="617677" y="653396"/>
                </a:lnTo>
                <a:lnTo>
                  <a:pt x="617677" y="929526"/>
                </a:lnTo>
                <a:lnTo>
                  <a:pt x="382448" y="929526"/>
                </a:lnTo>
                <a:lnTo>
                  <a:pt x="382448" y="653396"/>
                </a:lnTo>
                <a:lnTo>
                  <a:pt x="132567" y="653396"/>
                </a:lnTo>
                <a:lnTo>
                  <a:pt x="132567" y="4181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Умножение 8"/>
          <p:cNvSpPr/>
          <p:nvPr/>
        </p:nvSpPr>
        <p:spPr>
          <a:xfrm>
            <a:off x="2643120" y="421488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инус 9"/>
          <p:cNvSpPr/>
          <p:nvPr/>
        </p:nvSpPr>
        <p:spPr>
          <a:xfrm>
            <a:off x="1071720" y="4214880"/>
            <a:ext cx="1071360" cy="714240"/>
          </a:xfrm>
          <a:custGeom>
            <a:avLst/>
            <a:gdLst/>
            <a:ahLst/>
            <a:rect l="l" t="t" r="r" b="b"/>
            <a:pathLst>
              <a:path w="1071562" h="714375">
                <a:moveTo>
                  <a:pt x="142036" y="273177"/>
                </a:moveTo>
                <a:lnTo>
                  <a:pt x="929526" y="273177"/>
                </a:lnTo>
                <a:lnTo>
                  <a:pt x="929526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Умножение 10"/>
          <p:cNvSpPr/>
          <p:nvPr/>
        </p:nvSpPr>
        <p:spPr>
          <a:xfrm>
            <a:off x="6357960" y="928800"/>
            <a:ext cx="1500120" cy="1500120"/>
          </a:xfrm>
          <a:custGeom>
            <a:avLst/>
            <a:gdLst/>
            <a:ahLst/>
            <a:rect l="l" t="t" r="r" b="b"/>
            <a:pathLst>
              <a:path w="1500187" h="1500187">
                <a:moveTo>
                  <a:pt x="235558" y="485057"/>
                </a:moveTo>
                <a:lnTo>
                  <a:pt x="485057" y="235558"/>
                </a:lnTo>
                <a:lnTo>
                  <a:pt x="750094" y="500595"/>
                </a:lnTo>
                <a:lnTo>
                  <a:pt x="1015130" y="235558"/>
                </a:lnTo>
                <a:lnTo>
                  <a:pt x="1264629" y="485057"/>
                </a:lnTo>
                <a:lnTo>
                  <a:pt x="999592" y="750094"/>
                </a:lnTo>
                <a:lnTo>
                  <a:pt x="1264629" y="1015130"/>
                </a:lnTo>
                <a:lnTo>
                  <a:pt x="1015130" y="1264629"/>
                </a:lnTo>
                <a:lnTo>
                  <a:pt x="750094" y="999592"/>
                </a:lnTo>
                <a:lnTo>
                  <a:pt x="485057" y="1264629"/>
                </a:lnTo>
                <a:lnTo>
                  <a:pt x="235558" y="1015130"/>
                </a:lnTo>
                <a:lnTo>
                  <a:pt x="500595" y="750094"/>
                </a:lnTo>
                <a:lnTo>
                  <a:pt x="235558" y="485057"/>
                </a:lnTo>
                <a:close/>
              </a:path>
            </a:pathLst>
          </a:custGeom>
          <a:solidFill>
            <a:srgbClr val="ffe636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Минус 11"/>
          <p:cNvSpPr/>
          <p:nvPr/>
        </p:nvSpPr>
        <p:spPr>
          <a:xfrm>
            <a:off x="6429240" y="4357800"/>
            <a:ext cx="1571760" cy="1071360"/>
          </a:xfrm>
          <a:custGeom>
            <a:avLst/>
            <a:gdLst/>
            <a:ahLst/>
            <a:rect l="l" t="t" r="r" b="b"/>
            <a:pathLst>
              <a:path w="1571625" h="1071562">
                <a:moveTo>
                  <a:pt x="208319" y="409765"/>
                </a:moveTo>
                <a:lnTo>
                  <a:pt x="1363306" y="409765"/>
                </a:lnTo>
                <a:lnTo>
                  <a:pt x="1363306" y="661797"/>
                </a:lnTo>
                <a:lnTo>
                  <a:pt x="208319" y="661797"/>
                </a:lnTo>
                <a:lnTo>
                  <a:pt x="208319" y="40976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люс 12"/>
          <p:cNvSpPr/>
          <p:nvPr/>
        </p:nvSpPr>
        <p:spPr>
          <a:xfrm>
            <a:off x="6516720" y="2421000"/>
            <a:ext cx="1428840" cy="1571400"/>
          </a:xfrm>
          <a:custGeom>
            <a:avLst/>
            <a:gdLst/>
            <a:ahLst/>
            <a:rect l="l" t="t" r="r" b="b"/>
            <a:pathLst>
              <a:path w="1428750" h="1571625">
                <a:moveTo>
                  <a:pt x="189381" y="617792"/>
                </a:moveTo>
                <a:lnTo>
                  <a:pt x="546354" y="617792"/>
                </a:lnTo>
                <a:lnTo>
                  <a:pt x="546354" y="208319"/>
                </a:lnTo>
                <a:lnTo>
                  <a:pt x="882396" y="208319"/>
                </a:lnTo>
                <a:lnTo>
                  <a:pt x="882396" y="617792"/>
                </a:lnTo>
                <a:lnTo>
                  <a:pt x="1239369" y="617792"/>
                </a:lnTo>
                <a:lnTo>
                  <a:pt x="1239369" y="953834"/>
                </a:lnTo>
                <a:lnTo>
                  <a:pt x="882396" y="953834"/>
                </a:lnTo>
                <a:lnTo>
                  <a:pt x="882396" y="1363306"/>
                </a:lnTo>
                <a:lnTo>
                  <a:pt x="546354" y="1363306"/>
                </a:lnTo>
                <a:lnTo>
                  <a:pt x="546354" y="953834"/>
                </a:lnTo>
                <a:lnTo>
                  <a:pt x="189381" y="953834"/>
                </a:lnTo>
                <a:lnTo>
                  <a:pt x="189381" y="617792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2143080" y="1214280"/>
          <a:ext cx="5000760" cy="4500720"/>
        </p:xfrm>
        <a:graphic>
          <a:graphicData uri="http://schemas.openxmlformats.org/drawingml/2006/table">
            <a:tbl>
              <a:tblPr/>
              <a:tblGrid>
                <a:gridCol w="1666800"/>
                <a:gridCol w="1667160"/>
                <a:gridCol w="1666800"/>
              </a:tblGrid>
              <a:tr h="14590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36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8" name="Плюс 2"/>
          <p:cNvSpPr/>
          <p:nvPr/>
        </p:nvSpPr>
        <p:spPr>
          <a:xfrm>
            <a:off x="2643120" y="1357200"/>
            <a:ext cx="1000080" cy="1071720"/>
          </a:xfrm>
          <a:custGeom>
            <a:avLst/>
            <a:gdLst/>
            <a:ahLst/>
            <a:rect l="l" t="t" r="r" b="b"/>
            <a:pathLst>
              <a:path w="1000125" h="1071562">
                <a:moveTo>
                  <a:pt x="132567" y="418166"/>
                </a:moveTo>
                <a:lnTo>
                  <a:pt x="382448" y="418166"/>
                </a:lnTo>
                <a:lnTo>
                  <a:pt x="382448" y="142036"/>
                </a:lnTo>
                <a:lnTo>
                  <a:pt x="617677" y="142036"/>
                </a:lnTo>
                <a:lnTo>
                  <a:pt x="617677" y="418166"/>
                </a:lnTo>
                <a:lnTo>
                  <a:pt x="867558" y="418166"/>
                </a:lnTo>
                <a:lnTo>
                  <a:pt x="867558" y="653396"/>
                </a:lnTo>
                <a:lnTo>
                  <a:pt x="617677" y="653396"/>
                </a:lnTo>
                <a:lnTo>
                  <a:pt x="617677" y="929526"/>
                </a:lnTo>
                <a:lnTo>
                  <a:pt x="382448" y="929526"/>
                </a:lnTo>
                <a:lnTo>
                  <a:pt x="382448" y="653396"/>
                </a:lnTo>
                <a:lnTo>
                  <a:pt x="132567" y="653396"/>
                </a:lnTo>
                <a:lnTo>
                  <a:pt x="132567" y="418166"/>
                </a:lnTo>
                <a:close/>
              </a:path>
            </a:pathLst>
          </a:custGeom>
          <a:solidFill>
            <a:srgbClr val="ffe636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инус 3"/>
          <p:cNvSpPr/>
          <p:nvPr/>
        </p:nvSpPr>
        <p:spPr>
          <a:xfrm>
            <a:off x="4143240" y="1571760"/>
            <a:ext cx="1071720" cy="714240"/>
          </a:xfrm>
          <a:custGeom>
            <a:avLst/>
            <a:gdLst/>
            <a:ahLst/>
            <a:rect l="l" t="t" r="r" b="b"/>
            <a:pathLst>
              <a:path w="1071563" h="714375">
                <a:moveTo>
                  <a:pt x="142036" y="273177"/>
                </a:moveTo>
                <a:lnTo>
                  <a:pt x="929527" y="273177"/>
                </a:lnTo>
                <a:lnTo>
                  <a:pt x="929527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Умножение 4"/>
          <p:cNvSpPr/>
          <p:nvPr/>
        </p:nvSpPr>
        <p:spPr>
          <a:xfrm>
            <a:off x="5786280" y="1500120"/>
            <a:ext cx="100044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Умножение 5"/>
          <p:cNvSpPr/>
          <p:nvPr/>
        </p:nvSpPr>
        <p:spPr>
          <a:xfrm>
            <a:off x="2643120" y="2857680"/>
            <a:ext cx="1000080" cy="92844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65890" y="303079"/>
                </a:moveTo>
                <a:lnTo>
                  <a:pt x="314520" y="143017"/>
                </a:lnTo>
                <a:lnTo>
                  <a:pt x="500063" y="315306"/>
                </a:lnTo>
                <a:lnTo>
                  <a:pt x="685605" y="143017"/>
                </a:lnTo>
                <a:lnTo>
                  <a:pt x="834235" y="303079"/>
                </a:lnTo>
                <a:lnTo>
                  <a:pt x="660564" y="464344"/>
                </a:lnTo>
                <a:lnTo>
                  <a:pt x="834235" y="625609"/>
                </a:lnTo>
                <a:lnTo>
                  <a:pt x="685605" y="785671"/>
                </a:lnTo>
                <a:lnTo>
                  <a:pt x="500063" y="613382"/>
                </a:lnTo>
                <a:lnTo>
                  <a:pt x="314520" y="785671"/>
                </a:lnTo>
                <a:lnTo>
                  <a:pt x="165890" y="625609"/>
                </a:lnTo>
                <a:lnTo>
                  <a:pt x="339561" y="464344"/>
                </a:lnTo>
                <a:lnTo>
                  <a:pt x="165890" y="303079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инус 6"/>
          <p:cNvSpPr/>
          <p:nvPr/>
        </p:nvSpPr>
        <p:spPr>
          <a:xfrm>
            <a:off x="5857920" y="3000240"/>
            <a:ext cx="1071360" cy="714600"/>
          </a:xfrm>
          <a:custGeom>
            <a:avLst/>
            <a:gdLst/>
            <a:ahLst/>
            <a:rect l="l" t="t" r="r" b="b"/>
            <a:pathLst>
              <a:path w="1071563" h="714375">
                <a:moveTo>
                  <a:pt x="142036" y="273177"/>
                </a:moveTo>
                <a:lnTo>
                  <a:pt x="929527" y="273177"/>
                </a:lnTo>
                <a:lnTo>
                  <a:pt x="929527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люс 7"/>
          <p:cNvSpPr/>
          <p:nvPr/>
        </p:nvSpPr>
        <p:spPr>
          <a:xfrm>
            <a:off x="4214880" y="2857680"/>
            <a:ext cx="1000080" cy="1071360"/>
          </a:xfrm>
          <a:custGeom>
            <a:avLst/>
            <a:gdLst/>
            <a:ahLst/>
            <a:rect l="l" t="t" r="r" b="b"/>
            <a:pathLst>
              <a:path w="1000125" h="1071563">
                <a:moveTo>
                  <a:pt x="132567" y="418167"/>
                </a:moveTo>
                <a:lnTo>
                  <a:pt x="382448" y="418167"/>
                </a:lnTo>
                <a:lnTo>
                  <a:pt x="382448" y="142036"/>
                </a:lnTo>
                <a:lnTo>
                  <a:pt x="617677" y="142036"/>
                </a:lnTo>
                <a:lnTo>
                  <a:pt x="617677" y="418167"/>
                </a:lnTo>
                <a:lnTo>
                  <a:pt x="867558" y="418167"/>
                </a:lnTo>
                <a:lnTo>
                  <a:pt x="867558" y="653396"/>
                </a:lnTo>
                <a:lnTo>
                  <a:pt x="617677" y="653396"/>
                </a:lnTo>
                <a:lnTo>
                  <a:pt x="617677" y="929527"/>
                </a:lnTo>
                <a:lnTo>
                  <a:pt x="382448" y="929527"/>
                </a:lnTo>
                <a:lnTo>
                  <a:pt x="382448" y="653396"/>
                </a:lnTo>
                <a:lnTo>
                  <a:pt x="132567" y="653396"/>
                </a:lnTo>
                <a:lnTo>
                  <a:pt x="132567" y="41816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Умножение 8"/>
          <p:cNvSpPr/>
          <p:nvPr/>
        </p:nvSpPr>
        <p:spPr>
          <a:xfrm>
            <a:off x="4214880" y="4357800"/>
            <a:ext cx="1000080" cy="92844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65891" y="303078"/>
                </a:moveTo>
                <a:lnTo>
                  <a:pt x="314520" y="143016"/>
                </a:lnTo>
                <a:lnTo>
                  <a:pt x="500063" y="315306"/>
                </a:lnTo>
                <a:lnTo>
                  <a:pt x="685605" y="143016"/>
                </a:lnTo>
                <a:lnTo>
                  <a:pt x="834234" y="303078"/>
                </a:lnTo>
                <a:lnTo>
                  <a:pt x="660564" y="464344"/>
                </a:lnTo>
                <a:lnTo>
                  <a:pt x="834234" y="625609"/>
                </a:lnTo>
                <a:lnTo>
                  <a:pt x="685605" y="785671"/>
                </a:lnTo>
                <a:lnTo>
                  <a:pt x="500063" y="613381"/>
                </a:lnTo>
                <a:lnTo>
                  <a:pt x="314520" y="785671"/>
                </a:lnTo>
                <a:lnTo>
                  <a:pt x="165891" y="625609"/>
                </a:lnTo>
                <a:lnTo>
                  <a:pt x="339561" y="464344"/>
                </a:lnTo>
                <a:lnTo>
                  <a:pt x="165891" y="303078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инус 9"/>
          <p:cNvSpPr/>
          <p:nvPr/>
        </p:nvSpPr>
        <p:spPr>
          <a:xfrm>
            <a:off x="2571840" y="4500720"/>
            <a:ext cx="1071360" cy="714240"/>
          </a:xfrm>
          <a:custGeom>
            <a:avLst/>
            <a:gdLst/>
            <a:ahLst/>
            <a:rect l="l" t="t" r="r" b="b"/>
            <a:pathLst>
              <a:path w="1071563" h="714375">
                <a:moveTo>
                  <a:pt x="142036" y="273177"/>
                </a:moveTo>
                <a:lnTo>
                  <a:pt x="929527" y="273177"/>
                </a:lnTo>
                <a:lnTo>
                  <a:pt x="929527" y="441198"/>
                </a:lnTo>
                <a:lnTo>
                  <a:pt x="142036" y="441198"/>
                </a:lnTo>
                <a:lnTo>
                  <a:pt x="142036" y="27317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люс 13"/>
          <p:cNvSpPr/>
          <p:nvPr/>
        </p:nvSpPr>
        <p:spPr>
          <a:xfrm>
            <a:off x="5786280" y="4357800"/>
            <a:ext cx="1143000" cy="1000080"/>
          </a:xfrm>
          <a:custGeom>
            <a:avLst/>
            <a:gdLst/>
            <a:ahLst/>
            <a:rect l="l" t="t" r="r" b="b"/>
            <a:pathLst>
              <a:path w="1143000" h="1000125">
                <a:moveTo>
                  <a:pt x="151505" y="382448"/>
                </a:moveTo>
                <a:lnTo>
                  <a:pt x="453885" y="382448"/>
                </a:lnTo>
                <a:lnTo>
                  <a:pt x="453885" y="132567"/>
                </a:lnTo>
                <a:lnTo>
                  <a:pt x="689115" y="132567"/>
                </a:lnTo>
                <a:lnTo>
                  <a:pt x="689115" y="382448"/>
                </a:lnTo>
                <a:lnTo>
                  <a:pt x="991495" y="382448"/>
                </a:lnTo>
                <a:lnTo>
                  <a:pt x="991495" y="617677"/>
                </a:lnTo>
                <a:lnTo>
                  <a:pt x="689115" y="617677"/>
                </a:lnTo>
                <a:lnTo>
                  <a:pt x="689115" y="867558"/>
                </a:lnTo>
                <a:lnTo>
                  <a:pt x="453885" y="867558"/>
                </a:lnTo>
                <a:lnTo>
                  <a:pt x="453885" y="617677"/>
                </a:lnTo>
                <a:lnTo>
                  <a:pt x="151505" y="617677"/>
                </a:lnTo>
                <a:lnTo>
                  <a:pt x="151505" y="382448"/>
                </a:lnTo>
                <a:close/>
              </a:path>
            </a:pathLst>
          </a:custGeom>
          <a:solidFill>
            <a:srgbClr val="86211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j0214098.wav" descr=""/>
          <p:cNvPicPr/>
          <p:nvPr/>
        </p:nvPicPr>
        <p:blipFill>
          <a:blip r:embed="rId1"/>
          <a:stretch/>
        </p:blipFill>
        <p:spPr>
          <a:xfrm>
            <a:off x="6072120" y="571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28" name="TextBox 15"/>
          <p:cNvSpPr/>
          <p:nvPr/>
        </p:nvSpPr>
        <p:spPr>
          <a:xfrm>
            <a:off x="2738880" y="214200"/>
            <a:ext cx="358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Book"/>
              </a:rPr>
              <a:t>Умниц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745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1"/>
          <p:cNvSpPr/>
          <p:nvPr/>
        </p:nvSpPr>
        <p:spPr>
          <a:xfrm>
            <a:off x="2777400" y="1857240"/>
            <a:ext cx="40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Конец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3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ой фигуры не хватает вместо знака «вопрос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бери из трех фигур и нажми на нее левой кнопкой мы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42960" y="1143000"/>
          <a:ext cx="5423040" cy="4799160"/>
        </p:xfrm>
        <a:graphic>
          <a:graphicData uri="http://schemas.openxmlformats.org/drawingml/2006/table">
            <a:tbl>
              <a:tblPr/>
              <a:tblGrid>
                <a:gridCol w="1808280"/>
                <a:gridCol w="1806480"/>
                <a:gridCol w="1808280"/>
              </a:tblGrid>
              <a:tr h="15411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08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75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9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9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0" name="Равнобедренный треугольник 2"/>
          <p:cNvSpPr/>
          <p:nvPr/>
        </p:nvSpPr>
        <p:spPr>
          <a:xfrm>
            <a:off x="928800" y="135720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Равнобедренный треугольник 3"/>
          <p:cNvSpPr/>
          <p:nvPr/>
        </p:nvSpPr>
        <p:spPr>
          <a:xfrm>
            <a:off x="2714760" y="292896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Равнобедренный треугольник 4"/>
          <p:cNvSpPr/>
          <p:nvPr/>
        </p:nvSpPr>
        <p:spPr>
          <a:xfrm>
            <a:off x="2786040" y="450072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5"/>
          <p:cNvSpPr/>
          <p:nvPr/>
        </p:nvSpPr>
        <p:spPr>
          <a:xfrm>
            <a:off x="2857680" y="1357200"/>
            <a:ext cx="107136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6"/>
          <p:cNvSpPr/>
          <p:nvPr/>
        </p:nvSpPr>
        <p:spPr>
          <a:xfrm>
            <a:off x="4643280" y="2928960"/>
            <a:ext cx="107172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071720" y="4572000"/>
            <a:ext cx="107136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8"/>
          <p:cNvSpPr/>
          <p:nvPr/>
        </p:nvSpPr>
        <p:spPr>
          <a:xfrm>
            <a:off x="4643280" y="1357200"/>
            <a:ext cx="107172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9"/>
          <p:cNvSpPr/>
          <p:nvPr/>
        </p:nvSpPr>
        <p:spPr>
          <a:xfrm>
            <a:off x="1071720" y="2928960"/>
            <a:ext cx="107136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10"/>
          <p:cNvSpPr/>
          <p:nvPr/>
        </p:nvSpPr>
        <p:spPr>
          <a:xfrm>
            <a:off x="7215120" y="4643280"/>
            <a:ext cx="107172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Равнобедренный треугольник 11"/>
          <p:cNvSpPr/>
          <p:nvPr/>
        </p:nvSpPr>
        <p:spPr>
          <a:xfrm>
            <a:off x="7072200" y="121428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7143840" y="2857680"/>
            <a:ext cx="107136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1785960" y="1143000"/>
          <a:ext cx="5423040" cy="4799160"/>
        </p:xfrm>
        <a:graphic>
          <a:graphicData uri="http://schemas.openxmlformats.org/drawingml/2006/table">
            <a:tbl>
              <a:tblPr/>
              <a:tblGrid>
                <a:gridCol w="1808280"/>
                <a:gridCol w="1806480"/>
                <a:gridCol w="1808280"/>
              </a:tblGrid>
              <a:tr h="15411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08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756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9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2" name="Равнобедренный треугольник 2"/>
          <p:cNvSpPr/>
          <p:nvPr/>
        </p:nvSpPr>
        <p:spPr>
          <a:xfrm>
            <a:off x="2071800" y="135720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Равнобедренный треугольник 3"/>
          <p:cNvSpPr/>
          <p:nvPr/>
        </p:nvSpPr>
        <p:spPr>
          <a:xfrm>
            <a:off x="3857760" y="292896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Равнобедренный треугольник 4"/>
          <p:cNvSpPr/>
          <p:nvPr/>
        </p:nvSpPr>
        <p:spPr>
          <a:xfrm>
            <a:off x="3857760" y="442908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5"/>
          <p:cNvSpPr/>
          <p:nvPr/>
        </p:nvSpPr>
        <p:spPr>
          <a:xfrm>
            <a:off x="4000680" y="1428840"/>
            <a:ext cx="107136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6"/>
          <p:cNvSpPr/>
          <p:nvPr/>
        </p:nvSpPr>
        <p:spPr>
          <a:xfrm>
            <a:off x="5929200" y="3000240"/>
            <a:ext cx="107172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7"/>
          <p:cNvSpPr/>
          <p:nvPr/>
        </p:nvSpPr>
        <p:spPr>
          <a:xfrm>
            <a:off x="2214720" y="4572000"/>
            <a:ext cx="1071360" cy="1143000"/>
          </a:xfrm>
          <a:prstGeom prst="ellipse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8"/>
          <p:cNvSpPr/>
          <p:nvPr/>
        </p:nvSpPr>
        <p:spPr>
          <a:xfrm>
            <a:off x="5786280" y="1357200"/>
            <a:ext cx="107172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9"/>
          <p:cNvSpPr/>
          <p:nvPr/>
        </p:nvSpPr>
        <p:spPr>
          <a:xfrm>
            <a:off x="2214720" y="2928960"/>
            <a:ext cx="107136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2"/>
          <p:cNvSpPr/>
          <p:nvPr/>
        </p:nvSpPr>
        <p:spPr>
          <a:xfrm>
            <a:off x="5857920" y="4572000"/>
            <a:ext cx="1071360" cy="11430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3"/>
          <p:cNvSpPr/>
          <p:nvPr/>
        </p:nvSpPr>
        <p:spPr>
          <a:xfrm>
            <a:off x="2714760" y="14292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j0214098.wav" descr=""/>
          <p:cNvPicPr/>
          <p:nvPr/>
        </p:nvPicPr>
        <p:blipFill>
          <a:blip r:embed="rId1"/>
          <a:stretch/>
        </p:blipFill>
        <p:spPr>
          <a:xfrm>
            <a:off x="585792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1000080" y="1000080"/>
          <a:ext cx="4869000" cy="449280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520"/>
              </a:tblGrid>
              <a:tr h="145584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584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112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81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4" name="Равнобедренный треугольник 2"/>
          <p:cNvSpPr/>
          <p:nvPr/>
        </p:nvSpPr>
        <p:spPr>
          <a:xfrm>
            <a:off x="1214280" y="114300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3"/>
          <p:cNvSpPr/>
          <p:nvPr/>
        </p:nvSpPr>
        <p:spPr>
          <a:xfrm>
            <a:off x="2928960" y="1214280"/>
            <a:ext cx="1071720" cy="1143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4572000" y="1143000"/>
            <a:ext cx="1071720" cy="1143000"/>
          </a:xfrm>
          <a:prstGeom prst="rect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Равнобедренный треугольник 5"/>
          <p:cNvSpPr/>
          <p:nvPr/>
        </p:nvSpPr>
        <p:spPr>
          <a:xfrm>
            <a:off x="4500720" y="2571840"/>
            <a:ext cx="128556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6"/>
          <p:cNvSpPr/>
          <p:nvPr/>
        </p:nvSpPr>
        <p:spPr>
          <a:xfrm>
            <a:off x="2928960" y="2571840"/>
            <a:ext cx="1071720" cy="1143000"/>
          </a:xfrm>
          <a:prstGeom prst="rect">
            <a:avLst/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7"/>
          <p:cNvSpPr/>
          <p:nvPr/>
        </p:nvSpPr>
        <p:spPr>
          <a:xfrm>
            <a:off x="1285920" y="2571840"/>
            <a:ext cx="1071360" cy="1143000"/>
          </a:xfrm>
          <a:prstGeom prst="ellipse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Равнобедренный треугольник 8"/>
          <p:cNvSpPr/>
          <p:nvPr/>
        </p:nvSpPr>
        <p:spPr>
          <a:xfrm>
            <a:off x="2786040" y="414324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9"/>
          <p:cNvSpPr/>
          <p:nvPr/>
        </p:nvSpPr>
        <p:spPr>
          <a:xfrm>
            <a:off x="1285920" y="4214880"/>
            <a:ext cx="107136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Равнобедренный треугольник 10"/>
          <p:cNvSpPr/>
          <p:nvPr/>
        </p:nvSpPr>
        <p:spPr>
          <a:xfrm>
            <a:off x="7072200" y="100008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11"/>
          <p:cNvSpPr/>
          <p:nvPr/>
        </p:nvSpPr>
        <p:spPr>
          <a:xfrm>
            <a:off x="7215120" y="4286160"/>
            <a:ext cx="1071720" cy="1143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12"/>
          <p:cNvSpPr/>
          <p:nvPr/>
        </p:nvSpPr>
        <p:spPr>
          <a:xfrm>
            <a:off x="7215120" y="2643120"/>
            <a:ext cx="107172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1928880" y="1000080"/>
          <a:ext cx="4868640" cy="449280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160"/>
              </a:tblGrid>
              <a:tr h="145584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584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112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6" name="Равнобедренный треугольник 2"/>
          <p:cNvSpPr/>
          <p:nvPr/>
        </p:nvSpPr>
        <p:spPr>
          <a:xfrm>
            <a:off x="2071800" y="114300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3"/>
          <p:cNvSpPr/>
          <p:nvPr/>
        </p:nvSpPr>
        <p:spPr>
          <a:xfrm>
            <a:off x="3786120" y="1214280"/>
            <a:ext cx="1071720" cy="1143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4"/>
          <p:cNvSpPr/>
          <p:nvPr/>
        </p:nvSpPr>
        <p:spPr>
          <a:xfrm>
            <a:off x="5357880" y="1143000"/>
            <a:ext cx="1071360" cy="1143000"/>
          </a:xfrm>
          <a:prstGeom prst="rect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Равнобедренный треугольник 5"/>
          <p:cNvSpPr/>
          <p:nvPr/>
        </p:nvSpPr>
        <p:spPr>
          <a:xfrm>
            <a:off x="5286240" y="257184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6"/>
          <p:cNvSpPr/>
          <p:nvPr/>
        </p:nvSpPr>
        <p:spPr>
          <a:xfrm>
            <a:off x="3786120" y="2571840"/>
            <a:ext cx="1071720" cy="1143000"/>
          </a:xfrm>
          <a:prstGeom prst="rect">
            <a:avLst/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Овал 7"/>
          <p:cNvSpPr/>
          <p:nvPr/>
        </p:nvSpPr>
        <p:spPr>
          <a:xfrm>
            <a:off x="2214720" y="2571840"/>
            <a:ext cx="1071360" cy="1143000"/>
          </a:xfrm>
          <a:prstGeom prst="ellipse">
            <a:avLst/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Равнобедренный треугольник 8"/>
          <p:cNvSpPr/>
          <p:nvPr/>
        </p:nvSpPr>
        <p:spPr>
          <a:xfrm>
            <a:off x="3714840" y="4143240"/>
            <a:ext cx="1285920" cy="1143000"/>
          </a:xfrm>
          <a:prstGeom prst="triangle">
            <a:avLst>
              <a:gd name="adj" fmla="val 50000"/>
            </a:avLst>
          </a:prstGeom>
          <a:solidFill>
            <a:srgbClr val="3668c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9"/>
          <p:cNvSpPr/>
          <p:nvPr/>
        </p:nvSpPr>
        <p:spPr>
          <a:xfrm>
            <a:off x="2214720" y="4214880"/>
            <a:ext cx="1071360" cy="1143000"/>
          </a:xfrm>
          <a:prstGeom prst="rect">
            <a:avLst/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Овал 13"/>
          <p:cNvSpPr/>
          <p:nvPr/>
        </p:nvSpPr>
        <p:spPr>
          <a:xfrm>
            <a:off x="5500800" y="4214880"/>
            <a:ext cx="1071360" cy="1143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4"/>
          <p:cNvSpPr/>
          <p:nvPr/>
        </p:nvSpPr>
        <p:spPr>
          <a:xfrm>
            <a:off x="2756520" y="214200"/>
            <a:ext cx="362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j0214098.wav" descr=""/>
          <p:cNvPicPr/>
          <p:nvPr/>
        </p:nvPicPr>
        <p:blipFill>
          <a:blip r:embed="rId1"/>
          <a:stretch/>
        </p:blipFill>
        <p:spPr>
          <a:xfrm>
            <a:off x="621504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1000" autoRev="1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1000" autoRev="1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714240" y="1143000"/>
          <a:ext cx="4869000" cy="456408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520"/>
              </a:tblGrid>
              <a:tr h="147960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780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66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81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8" name="5-конечная звезда 4"/>
          <p:cNvSpPr/>
          <p:nvPr/>
        </p:nvSpPr>
        <p:spPr>
          <a:xfrm>
            <a:off x="1000080" y="1428840"/>
            <a:ext cx="1000080" cy="92844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6-конечная звезда 5"/>
          <p:cNvSpPr/>
          <p:nvPr/>
        </p:nvSpPr>
        <p:spPr>
          <a:xfrm>
            <a:off x="4357800" y="1428840"/>
            <a:ext cx="85716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7-конечная звезда 6"/>
          <p:cNvSpPr/>
          <p:nvPr/>
        </p:nvSpPr>
        <p:spPr>
          <a:xfrm>
            <a:off x="2643120" y="1357200"/>
            <a:ext cx="1071720" cy="1071720"/>
          </a:xfrm>
          <a:custGeom>
            <a:avLst/>
            <a:gdLst/>
            <a:ahLst/>
            <a:rect l="l" t="t" r="r" b="b"/>
            <a:pathLst>
              <a:path w="1071562" h="1071562">
                <a:moveTo>
                  <a:pt x="-3" y="689129"/>
                </a:moveTo>
                <a:lnTo>
                  <a:pt x="165008" y="476893"/>
                </a:lnTo>
                <a:lnTo>
                  <a:pt x="106117" y="212237"/>
                </a:lnTo>
                <a:lnTo>
                  <a:pt x="370773" y="212237"/>
                </a:lnTo>
                <a:lnTo>
                  <a:pt x="535781" y="0"/>
                </a:lnTo>
                <a:lnTo>
                  <a:pt x="700789" y="212237"/>
                </a:lnTo>
                <a:lnTo>
                  <a:pt x="965445" y="212237"/>
                </a:lnTo>
                <a:lnTo>
                  <a:pt x="906554" y="476893"/>
                </a:lnTo>
                <a:lnTo>
                  <a:pt x="1071565" y="689129"/>
                </a:lnTo>
                <a:lnTo>
                  <a:pt x="833117" y="806911"/>
                </a:lnTo>
                <a:lnTo>
                  <a:pt x="774225" y="1071568"/>
                </a:lnTo>
                <a:lnTo>
                  <a:pt x="535781" y="953784"/>
                </a:lnTo>
                <a:lnTo>
                  <a:pt x="297337" y="1071568"/>
                </a:lnTo>
                <a:lnTo>
                  <a:pt x="238445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6-конечная звезда 7"/>
          <p:cNvSpPr/>
          <p:nvPr/>
        </p:nvSpPr>
        <p:spPr>
          <a:xfrm>
            <a:off x="4286160" y="2928960"/>
            <a:ext cx="85752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5-конечная звезда 8"/>
          <p:cNvSpPr/>
          <p:nvPr/>
        </p:nvSpPr>
        <p:spPr>
          <a:xfrm>
            <a:off x="2714760" y="2857680"/>
            <a:ext cx="1000080" cy="92844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-конечная звезда 9"/>
          <p:cNvSpPr/>
          <p:nvPr/>
        </p:nvSpPr>
        <p:spPr>
          <a:xfrm>
            <a:off x="1071720" y="2786040"/>
            <a:ext cx="1071360" cy="1071720"/>
          </a:xfrm>
          <a:custGeom>
            <a:avLst/>
            <a:gdLst/>
            <a:ahLst/>
            <a:rect l="l" t="t" r="r" b="b"/>
            <a:pathLst>
              <a:path w="1071562" h="1071562">
                <a:moveTo>
                  <a:pt x="-3" y="689129"/>
                </a:moveTo>
                <a:lnTo>
                  <a:pt x="165008" y="476893"/>
                </a:lnTo>
                <a:lnTo>
                  <a:pt x="106117" y="212237"/>
                </a:lnTo>
                <a:lnTo>
                  <a:pt x="370773" y="212237"/>
                </a:lnTo>
                <a:lnTo>
                  <a:pt x="535781" y="0"/>
                </a:lnTo>
                <a:lnTo>
                  <a:pt x="700789" y="212237"/>
                </a:lnTo>
                <a:lnTo>
                  <a:pt x="965445" y="212237"/>
                </a:lnTo>
                <a:lnTo>
                  <a:pt x="906554" y="476893"/>
                </a:lnTo>
                <a:lnTo>
                  <a:pt x="1071565" y="689129"/>
                </a:lnTo>
                <a:lnTo>
                  <a:pt x="833117" y="806911"/>
                </a:lnTo>
                <a:lnTo>
                  <a:pt x="774225" y="1071568"/>
                </a:lnTo>
                <a:lnTo>
                  <a:pt x="535781" y="953784"/>
                </a:lnTo>
                <a:lnTo>
                  <a:pt x="297337" y="1071568"/>
                </a:lnTo>
                <a:lnTo>
                  <a:pt x="238445" y="806911"/>
                </a:lnTo>
                <a:lnTo>
                  <a:pt x="-3" y="689129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6-конечная звезда 10"/>
          <p:cNvSpPr/>
          <p:nvPr/>
        </p:nvSpPr>
        <p:spPr>
          <a:xfrm>
            <a:off x="1071720" y="4357800"/>
            <a:ext cx="85716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5-конечная звезда 11"/>
          <p:cNvSpPr/>
          <p:nvPr/>
        </p:nvSpPr>
        <p:spPr>
          <a:xfrm>
            <a:off x="2714760" y="4357800"/>
            <a:ext cx="1000080" cy="92844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" y="354726"/>
                </a:moveTo>
                <a:lnTo>
                  <a:pt x="382016" y="354728"/>
                </a:lnTo>
                <a:lnTo>
                  <a:pt x="500063" y="0"/>
                </a:lnTo>
                <a:lnTo>
                  <a:pt x="618109" y="354728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5"/>
                </a:lnTo>
                <a:lnTo>
                  <a:pt x="500063" y="709449"/>
                </a:lnTo>
                <a:lnTo>
                  <a:pt x="191008" y="928685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5-конечная звезда 12"/>
          <p:cNvSpPr/>
          <p:nvPr/>
        </p:nvSpPr>
        <p:spPr>
          <a:xfrm>
            <a:off x="6715080" y="4286160"/>
            <a:ext cx="1285920" cy="1357560"/>
          </a:xfrm>
          <a:custGeom>
            <a:avLst/>
            <a:gdLst/>
            <a:ahLst/>
            <a:rect l="l" t="t" r="r" b="b"/>
            <a:pathLst>
              <a:path w="1285875" h="1357313">
                <a:moveTo>
                  <a:pt x="1" y="518446"/>
                </a:moveTo>
                <a:lnTo>
                  <a:pt x="491163" y="518450"/>
                </a:lnTo>
                <a:lnTo>
                  <a:pt x="642938" y="0"/>
                </a:lnTo>
                <a:lnTo>
                  <a:pt x="794712" y="518450"/>
                </a:lnTo>
                <a:lnTo>
                  <a:pt x="1285874" y="518446"/>
                </a:lnTo>
                <a:lnTo>
                  <a:pt x="888513" y="838862"/>
                </a:lnTo>
                <a:lnTo>
                  <a:pt x="1040294" y="1357310"/>
                </a:lnTo>
                <a:lnTo>
                  <a:pt x="642938" y="1036888"/>
                </a:lnTo>
                <a:lnTo>
                  <a:pt x="245581" y="1357310"/>
                </a:lnTo>
                <a:lnTo>
                  <a:pt x="397362" y="838862"/>
                </a:lnTo>
                <a:lnTo>
                  <a:pt x="1" y="51844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7-конечная звезда 13"/>
          <p:cNvSpPr/>
          <p:nvPr/>
        </p:nvSpPr>
        <p:spPr>
          <a:xfrm>
            <a:off x="6715080" y="2714760"/>
            <a:ext cx="1357200" cy="1366560"/>
          </a:xfrm>
          <a:custGeom>
            <a:avLst/>
            <a:gdLst/>
            <a:ahLst/>
            <a:rect l="l" t="t" r="r" b="b"/>
            <a:pathLst>
              <a:path w="1357313" h="1366838">
                <a:moveTo>
                  <a:pt x="-4" y="879023"/>
                </a:moveTo>
                <a:lnTo>
                  <a:pt x="209010" y="608304"/>
                </a:lnTo>
                <a:lnTo>
                  <a:pt x="134416" y="270720"/>
                </a:lnTo>
                <a:lnTo>
                  <a:pt x="469646" y="270721"/>
                </a:lnTo>
                <a:lnTo>
                  <a:pt x="678657" y="0"/>
                </a:lnTo>
                <a:lnTo>
                  <a:pt x="887667" y="270721"/>
                </a:lnTo>
                <a:lnTo>
                  <a:pt x="1222897" y="270720"/>
                </a:lnTo>
                <a:lnTo>
                  <a:pt x="1148303" y="608304"/>
                </a:lnTo>
                <a:lnTo>
                  <a:pt x="1357317" y="879023"/>
                </a:lnTo>
                <a:lnTo>
                  <a:pt x="1055282" y="1029261"/>
                </a:lnTo>
                <a:lnTo>
                  <a:pt x="980685" y="1366845"/>
                </a:lnTo>
                <a:lnTo>
                  <a:pt x="678657" y="1216605"/>
                </a:lnTo>
                <a:lnTo>
                  <a:pt x="376628" y="1366845"/>
                </a:lnTo>
                <a:lnTo>
                  <a:pt x="302031" y="1029261"/>
                </a:lnTo>
                <a:lnTo>
                  <a:pt x="-4" y="87902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6-конечная звезда 14"/>
          <p:cNvSpPr/>
          <p:nvPr/>
        </p:nvSpPr>
        <p:spPr>
          <a:xfrm>
            <a:off x="6572160" y="1000080"/>
            <a:ext cx="1214640" cy="1500120"/>
          </a:xfrm>
          <a:custGeom>
            <a:avLst/>
            <a:gdLst/>
            <a:ahLst/>
            <a:rect l="l" t="t" r="r" b="b"/>
            <a:pathLst>
              <a:path w="1214438" h="1500188">
                <a:moveTo>
                  <a:pt x="0" y="375047"/>
                </a:moveTo>
                <a:lnTo>
                  <a:pt x="404809" y="375041"/>
                </a:lnTo>
                <a:lnTo>
                  <a:pt x="607219" y="0"/>
                </a:lnTo>
                <a:lnTo>
                  <a:pt x="809629" y="375041"/>
                </a:lnTo>
                <a:lnTo>
                  <a:pt x="1214438" y="375047"/>
                </a:lnTo>
                <a:lnTo>
                  <a:pt x="1012038" y="750094"/>
                </a:lnTo>
                <a:lnTo>
                  <a:pt x="1214438" y="1125141"/>
                </a:lnTo>
                <a:lnTo>
                  <a:pt x="809629" y="1125147"/>
                </a:lnTo>
                <a:lnTo>
                  <a:pt x="607219" y="1500188"/>
                </a:lnTo>
                <a:lnTo>
                  <a:pt x="404809" y="1125147"/>
                </a:lnTo>
                <a:lnTo>
                  <a:pt x="0" y="1125141"/>
                </a:lnTo>
                <a:lnTo>
                  <a:pt x="202400" y="750094"/>
                </a:lnTo>
                <a:lnTo>
                  <a:pt x="0" y="37504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785960" y="1285920"/>
          <a:ext cx="4869000" cy="456408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520"/>
              </a:tblGrid>
              <a:tr h="147960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780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66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0" name="5-конечная звезда 4"/>
          <p:cNvSpPr/>
          <p:nvPr/>
        </p:nvSpPr>
        <p:spPr>
          <a:xfrm>
            <a:off x="2214720" y="1428840"/>
            <a:ext cx="1000080" cy="928440"/>
          </a:xfrm>
          <a:custGeom>
            <a:avLst/>
            <a:gdLst/>
            <a:ahLst/>
            <a:rect l="l" t="t" r="r" b="b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6"/>
                </a:lnTo>
                <a:lnTo>
                  <a:pt x="500063" y="709450"/>
                </a:lnTo>
                <a:lnTo>
                  <a:pt x="191008" y="928686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6-конечная звезда 5"/>
          <p:cNvSpPr/>
          <p:nvPr/>
        </p:nvSpPr>
        <p:spPr>
          <a:xfrm>
            <a:off x="5429160" y="1500120"/>
            <a:ext cx="85752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7-конечная звезда 6"/>
          <p:cNvSpPr/>
          <p:nvPr/>
        </p:nvSpPr>
        <p:spPr>
          <a:xfrm>
            <a:off x="3643200" y="1428840"/>
            <a:ext cx="1071720" cy="1071360"/>
          </a:xfrm>
          <a:custGeom>
            <a:avLst/>
            <a:gdLst/>
            <a:ahLst/>
            <a:rect l="l" t="t" r="r" b="b"/>
            <a:pathLst>
              <a:path w="1071562" h="1071563">
                <a:moveTo>
                  <a:pt x="-3" y="689129"/>
                </a:moveTo>
                <a:lnTo>
                  <a:pt x="165008" y="476893"/>
                </a:lnTo>
                <a:lnTo>
                  <a:pt x="106117" y="212237"/>
                </a:lnTo>
                <a:lnTo>
                  <a:pt x="370773" y="212237"/>
                </a:lnTo>
                <a:lnTo>
                  <a:pt x="535781" y="0"/>
                </a:lnTo>
                <a:lnTo>
                  <a:pt x="700789" y="212237"/>
                </a:lnTo>
                <a:lnTo>
                  <a:pt x="965445" y="212237"/>
                </a:lnTo>
                <a:lnTo>
                  <a:pt x="906554" y="476893"/>
                </a:lnTo>
                <a:lnTo>
                  <a:pt x="1071565" y="689129"/>
                </a:lnTo>
                <a:lnTo>
                  <a:pt x="833117" y="806912"/>
                </a:lnTo>
                <a:lnTo>
                  <a:pt x="774225" y="1071569"/>
                </a:lnTo>
                <a:lnTo>
                  <a:pt x="535781" y="953784"/>
                </a:lnTo>
                <a:lnTo>
                  <a:pt x="297337" y="1071569"/>
                </a:lnTo>
                <a:lnTo>
                  <a:pt x="238445" y="806912"/>
                </a:lnTo>
                <a:lnTo>
                  <a:pt x="-3" y="689129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6-конечная звезда 7"/>
          <p:cNvSpPr/>
          <p:nvPr/>
        </p:nvSpPr>
        <p:spPr>
          <a:xfrm>
            <a:off x="5429160" y="2928960"/>
            <a:ext cx="85752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5-конечная звезда 8"/>
          <p:cNvSpPr/>
          <p:nvPr/>
        </p:nvSpPr>
        <p:spPr>
          <a:xfrm>
            <a:off x="3786120" y="292896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" y="354726"/>
                </a:moveTo>
                <a:lnTo>
                  <a:pt x="382016" y="354728"/>
                </a:lnTo>
                <a:lnTo>
                  <a:pt x="500063" y="0"/>
                </a:lnTo>
                <a:lnTo>
                  <a:pt x="618109" y="354728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5"/>
                </a:lnTo>
                <a:lnTo>
                  <a:pt x="500063" y="709449"/>
                </a:lnTo>
                <a:lnTo>
                  <a:pt x="191008" y="928685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7-конечная звезда 9"/>
          <p:cNvSpPr/>
          <p:nvPr/>
        </p:nvSpPr>
        <p:spPr>
          <a:xfrm>
            <a:off x="2214720" y="3000240"/>
            <a:ext cx="1071360" cy="1071720"/>
          </a:xfrm>
          <a:custGeom>
            <a:avLst/>
            <a:gdLst/>
            <a:ahLst/>
            <a:rect l="l" t="t" r="r" b="b"/>
            <a:pathLst>
              <a:path w="1071562" h="1071563">
                <a:moveTo>
                  <a:pt x="-3" y="689129"/>
                </a:moveTo>
                <a:lnTo>
                  <a:pt x="165008" y="476893"/>
                </a:lnTo>
                <a:lnTo>
                  <a:pt x="106117" y="212237"/>
                </a:lnTo>
                <a:lnTo>
                  <a:pt x="370773" y="212237"/>
                </a:lnTo>
                <a:lnTo>
                  <a:pt x="535781" y="0"/>
                </a:lnTo>
                <a:lnTo>
                  <a:pt x="700789" y="212237"/>
                </a:lnTo>
                <a:lnTo>
                  <a:pt x="965445" y="212237"/>
                </a:lnTo>
                <a:lnTo>
                  <a:pt x="906554" y="476893"/>
                </a:lnTo>
                <a:lnTo>
                  <a:pt x="1071565" y="689129"/>
                </a:lnTo>
                <a:lnTo>
                  <a:pt x="833117" y="806912"/>
                </a:lnTo>
                <a:lnTo>
                  <a:pt x="774225" y="1071569"/>
                </a:lnTo>
                <a:lnTo>
                  <a:pt x="535781" y="953784"/>
                </a:lnTo>
                <a:lnTo>
                  <a:pt x="297337" y="1071569"/>
                </a:lnTo>
                <a:lnTo>
                  <a:pt x="238445" y="806912"/>
                </a:lnTo>
                <a:lnTo>
                  <a:pt x="-3" y="689129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6-конечная звезда 10"/>
          <p:cNvSpPr/>
          <p:nvPr/>
        </p:nvSpPr>
        <p:spPr>
          <a:xfrm>
            <a:off x="2286000" y="4572000"/>
            <a:ext cx="857160" cy="1000080"/>
          </a:xfrm>
          <a:custGeom>
            <a:avLst/>
            <a:gdLst/>
            <a:ahLst/>
            <a:rect l="l" t="t" r="r" b="b"/>
            <a:pathLst>
              <a:path w="857250" h="1000125">
                <a:moveTo>
                  <a:pt x="0" y="250031"/>
                </a:moveTo>
                <a:lnTo>
                  <a:pt x="285748" y="250027"/>
                </a:lnTo>
                <a:lnTo>
                  <a:pt x="428625" y="0"/>
                </a:lnTo>
                <a:lnTo>
                  <a:pt x="571502" y="250027"/>
                </a:lnTo>
                <a:lnTo>
                  <a:pt x="857250" y="250031"/>
                </a:lnTo>
                <a:lnTo>
                  <a:pt x="714380" y="500063"/>
                </a:lnTo>
                <a:lnTo>
                  <a:pt x="857250" y="750094"/>
                </a:lnTo>
                <a:lnTo>
                  <a:pt x="571502" y="750098"/>
                </a:lnTo>
                <a:lnTo>
                  <a:pt x="428625" y="1000125"/>
                </a:lnTo>
                <a:lnTo>
                  <a:pt x="285748" y="750098"/>
                </a:lnTo>
                <a:lnTo>
                  <a:pt x="0" y="750094"/>
                </a:lnTo>
                <a:lnTo>
                  <a:pt x="142870" y="500063"/>
                </a:lnTo>
                <a:lnTo>
                  <a:pt x="0" y="250031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5-конечная звезда 11"/>
          <p:cNvSpPr/>
          <p:nvPr/>
        </p:nvSpPr>
        <p:spPr>
          <a:xfrm>
            <a:off x="3714840" y="4643280"/>
            <a:ext cx="1000080" cy="928800"/>
          </a:xfrm>
          <a:custGeom>
            <a:avLst/>
            <a:gdLst/>
            <a:ahLst/>
            <a:rect l="l" t="t" r="r" b="b"/>
            <a:pathLst>
              <a:path w="1000125" h="928687">
                <a:moveTo>
                  <a:pt x="1" y="354726"/>
                </a:moveTo>
                <a:lnTo>
                  <a:pt x="382016" y="354728"/>
                </a:lnTo>
                <a:lnTo>
                  <a:pt x="500063" y="0"/>
                </a:lnTo>
                <a:lnTo>
                  <a:pt x="618109" y="354728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7" y="928685"/>
                </a:lnTo>
                <a:lnTo>
                  <a:pt x="500063" y="709449"/>
                </a:lnTo>
                <a:lnTo>
                  <a:pt x="191008" y="928685"/>
                </a:lnTo>
                <a:lnTo>
                  <a:pt x="309059" y="573958"/>
                </a:lnTo>
                <a:lnTo>
                  <a:pt x="1" y="35472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7-конечная звезда 15"/>
          <p:cNvSpPr/>
          <p:nvPr/>
        </p:nvSpPr>
        <p:spPr>
          <a:xfrm>
            <a:off x="5286240" y="4572000"/>
            <a:ext cx="1000440" cy="1081080"/>
          </a:xfrm>
          <a:custGeom>
            <a:avLst/>
            <a:gdLst/>
            <a:ahLst/>
            <a:rect l="l" t="t" r="r" b="b"/>
            <a:pathLst>
              <a:path w="1000125" h="1081088">
                <a:moveTo>
                  <a:pt x="-3" y="695255"/>
                </a:moveTo>
                <a:lnTo>
                  <a:pt x="154007" y="481132"/>
                </a:lnTo>
                <a:lnTo>
                  <a:pt x="99043" y="214124"/>
                </a:lnTo>
                <a:lnTo>
                  <a:pt x="346055" y="214124"/>
                </a:lnTo>
                <a:lnTo>
                  <a:pt x="500063" y="0"/>
                </a:lnTo>
                <a:lnTo>
                  <a:pt x="654070" y="214124"/>
                </a:lnTo>
                <a:lnTo>
                  <a:pt x="901082" y="214124"/>
                </a:lnTo>
                <a:lnTo>
                  <a:pt x="846118" y="481132"/>
                </a:lnTo>
                <a:lnTo>
                  <a:pt x="1000128" y="695255"/>
                </a:lnTo>
                <a:lnTo>
                  <a:pt x="777576" y="814085"/>
                </a:lnTo>
                <a:lnTo>
                  <a:pt x="722610" y="1081094"/>
                </a:lnTo>
                <a:lnTo>
                  <a:pt x="500063" y="962263"/>
                </a:lnTo>
                <a:lnTo>
                  <a:pt x="277515" y="1081094"/>
                </a:lnTo>
                <a:lnTo>
                  <a:pt x="222549" y="814085"/>
                </a:lnTo>
                <a:lnTo>
                  <a:pt x="-3" y="69525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6"/>
          <p:cNvSpPr/>
          <p:nvPr/>
        </p:nvSpPr>
        <p:spPr>
          <a:xfrm>
            <a:off x="2572560" y="0"/>
            <a:ext cx="354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Book"/>
              </a:rPr>
              <a:t>Хорош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j0214098.wav" descr=""/>
          <p:cNvPicPr/>
          <p:nvPr/>
        </p:nvPicPr>
        <p:blipFill>
          <a:blip r:embed="rId1"/>
          <a:stretch/>
        </p:blipFill>
        <p:spPr>
          <a:xfrm>
            <a:off x="6000840" y="500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928800" y="1357200"/>
          <a:ext cx="5000400" cy="4500720"/>
        </p:xfrm>
        <a:graphic>
          <a:graphicData uri="http://schemas.openxmlformats.org/drawingml/2006/table">
            <a:tbl>
              <a:tblPr/>
              <a:tblGrid>
                <a:gridCol w="1666800"/>
                <a:gridCol w="1666800"/>
                <a:gridCol w="1666800"/>
              </a:tblGrid>
              <a:tr h="14590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24458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4360"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244583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792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81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8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8720">
                      <a:solidFill>
                        <a:srgbClr val="365f91"/>
                      </a:solidFill>
                    </a:lnL>
                    <a:lnR w="18720">
                      <a:solidFill>
                        <a:srgbClr val="365f91"/>
                      </a:solidFill>
                    </a:lnR>
                    <a:lnT w="18720">
                      <a:solidFill>
                        <a:srgbClr val="365f91"/>
                      </a:solidFill>
                    </a:lnT>
                    <a:lnB w="18720">
                      <a:solidFill>
                        <a:srgbClr val="365f9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2" name="Стрелка вправо 3"/>
          <p:cNvSpPr/>
          <p:nvPr/>
        </p:nvSpPr>
        <p:spPr>
          <a:xfrm>
            <a:off x="1143000" y="185724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трелка вверх 4"/>
          <p:cNvSpPr/>
          <p:nvPr/>
        </p:nvSpPr>
        <p:spPr>
          <a:xfrm>
            <a:off x="3143160" y="157176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Стрелка вниз 5"/>
          <p:cNvSpPr/>
          <p:nvPr/>
        </p:nvSpPr>
        <p:spPr>
          <a:xfrm>
            <a:off x="4857840" y="164304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Стрелка вправо 6"/>
          <p:cNvSpPr/>
          <p:nvPr/>
        </p:nvSpPr>
        <p:spPr>
          <a:xfrm>
            <a:off x="4572000" y="335772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верх 7"/>
          <p:cNvSpPr/>
          <p:nvPr/>
        </p:nvSpPr>
        <p:spPr>
          <a:xfrm>
            <a:off x="1357200" y="314316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трелка вниз 8"/>
          <p:cNvSpPr/>
          <p:nvPr/>
        </p:nvSpPr>
        <p:spPr>
          <a:xfrm>
            <a:off x="3286080" y="3071880"/>
            <a:ext cx="714600" cy="100008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трелка вправо 9"/>
          <p:cNvSpPr/>
          <p:nvPr/>
        </p:nvSpPr>
        <p:spPr>
          <a:xfrm>
            <a:off x="2786040" y="471492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Стрелка вниз 10"/>
          <p:cNvSpPr/>
          <p:nvPr/>
        </p:nvSpPr>
        <p:spPr>
          <a:xfrm>
            <a:off x="1428840" y="457200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Стрелка вправо 11"/>
          <p:cNvSpPr/>
          <p:nvPr/>
        </p:nvSpPr>
        <p:spPr>
          <a:xfrm>
            <a:off x="7000920" y="5000760"/>
            <a:ext cx="128592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трелка вверх 12"/>
          <p:cNvSpPr/>
          <p:nvPr/>
        </p:nvSpPr>
        <p:spPr>
          <a:xfrm>
            <a:off x="7215120" y="2928960"/>
            <a:ext cx="642960" cy="1000080"/>
          </a:xfrm>
          <a:prstGeom prst="upArrow">
            <a:avLst>
              <a:gd name="adj1" fmla="val 50000"/>
              <a:gd name="adj2" fmla="val 49997"/>
            </a:avLst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трелка вниз 13"/>
          <p:cNvSpPr/>
          <p:nvPr/>
        </p:nvSpPr>
        <p:spPr>
          <a:xfrm>
            <a:off x="7143840" y="157176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3:28:27Z</dcterms:created>
  <dc:creator>ОЕМ</dc:creator>
  <dc:description/>
  <dc:language>en-US</dc:language>
  <cp:lastModifiedBy>Admin</cp:lastModifiedBy>
  <dcterms:modified xsi:type="dcterms:W3CDTF">2022-02-08T09:11:04Z</dcterms:modified>
  <cp:revision>9</cp:revision>
  <dc:subject/>
  <dc:title>Слайд 1</dc:title>
</cp:coreProperties>
</file>