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E89-E098-45DB-81B1-9E352F2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DED-45BD-4398-A562-635DCA1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DC07D-7060-4FAC-A42C-6D194849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342F1-BE77-4C2A-A37E-FFBB9C2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5A731-D79A-42D8-8BCA-4FDA4A9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19335-54A5-4D7B-BCDF-74212333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51A7B-F999-43AB-ABAB-5035329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9A257-B5EF-4A65-B47A-D7406695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CDE3-64F3-4234-9C48-6BB42407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86B4-6DF0-4CDF-BA00-63EE9868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D8AC0-133A-420F-A75D-1C0B21B3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FC6-14C1-45D6-87EA-A0A7C36E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8A8-823E-487E-93B0-2CAE7C20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494-9F01-4610-B1CA-1E03C1F7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6CBF-EC7D-48C1-8DC6-BF51A68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BA9-3B25-42D8-B5E4-897F14F2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B0DF-CE31-47C6-9083-41868AB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3803-6F08-4E7B-8A16-5FA8422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EB9-93CF-4E09-BEC1-778735A2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7F7-D348-429F-BF75-11931BDD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2B0-CA0F-4B05-A146-91B98BAC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736-E252-4625-9303-1D00DF2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7355-131A-44BF-A60C-03A1AB4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7FC8-792C-4975-AA0A-8562336F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3200-C5F9-4533-9E47-A0237FB5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755F-9E08-4BE9-B7EE-9D8D0B6A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8283-95FB-4325-9A56-A5DCEFA3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A41D-4EE3-45E9-AF8C-94DB9830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9F01-B5F8-4B75-BC87-0EA7A41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6F4B-0563-4F79-9EC6-E4BF87AB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AE84-78AC-4109-AF41-805B5389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46E-5198-43CF-93C0-441C2DA2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3359-2329-4935-8689-D5AB7A54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9481-60FD-48C8-8C1C-6CF2D61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19A6-ED1A-4BBE-ACBA-8A87224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48AE-15BC-4DB7-9A1F-4C3B409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0E9E-640D-4485-A382-0C07912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A391-16F1-4D75-B950-3EB9BCF9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34F9-0DDB-4F99-9467-657CA2B4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D3E5-B312-4693-A055-3A5C9AA5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5FFC-270B-41EB-8D81-9E0CB31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B610-7B32-410B-B666-6F3958F1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DAC-E76E-4242-A371-AE4C25AE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EB03-2E85-46E3-8723-04666147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54A9-4D67-4B90-AC73-F9F5EE7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D0D8-6C20-4DEE-980B-A93BB406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CC43-8C7D-4309-9D92-9C95A6F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8D68-FB86-4C17-8D07-4B79517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0CEB-7BE3-4E45-A349-7B8B30A4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6E34-B9F1-4DA3-83CD-3DF77A5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DF2B4-9B72-463D-B116-2AB041A9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7607-22FE-4D5D-A7BA-D51CB878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76AE-728E-4069-83C9-F665FB1C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B63-BFF9-408A-A598-EE72180C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95BE-3F77-4936-9DD9-61B6DCF8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052A7-3BD6-46D1-87D2-FC5DCFFA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4AEA-1895-4E73-A35E-5C4139E4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0C057-EC67-4B8D-BDF7-93A5C47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EE31-89E0-4381-9FFB-52C1850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6A86-3BBB-436A-9742-ADBA5C9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7FACD-B37E-4C93-8C27-D96D0B2E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3C75-A6B3-418C-8FAD-AB59F68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59E3-47B1-4C8B-A9F4-A4D5F4CD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F1D3-0E28-4544-886C-5E6517D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820-B2A5-4237-B244-8955320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F048-5123-4D74-8F22-8AED0C6E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253D0-0CC3-4DA7-990C-212494A7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5CCD-4A5B-4DE1-A708-728CC182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2C29B-F782-44A9-891E-BB0ED4EF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425C-F5F8-4BA9-8E74-0712962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2C0F-966A-4FDA-B5A0-BB6CD34B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14E3-CA9B-4B59-804C-CD2AF30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2FF9-7D9D-412C-AE12-30D6121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C5B27-A06D-4121-AF79-DA523CB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D8CE-CC57-4A82-BCF4-B849B58D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5ED-8821-41B8-82E0-3EBA495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0815-5FC8-4808-ADA0-33C9809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E334-944E-4219-BC81-4B6D8D9F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3540D-C8B6-4998-AE04-893A265D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57CB2-A09E-47EB-8526-05D1C6A5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57B38-07DA-47EF-91E1-3F057F86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9F86E-8B23-425A-AABF-0371F40C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92F0-61E6-4B73-9AA1-A987620B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B277-78BD-453A-B5F3-32FB884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B685-2EED-4ACE-B829-F28E74A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00F2-A565-4B5C-9F61-FBD2B41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B6B-88B0-47CD-88EF-5110632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FB98-ADE5-43DF-99FC-F6EDA52C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C6AA-4747-4F5A-8E61-AF68A88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BD1C-7849-420C-B894-584981FE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FB252-7D86-4E8B-A01C-C727619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EB223-C42E-4DC0-9721-F2C8912C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BBC46-7BC9-411F-A6BC-E90E4859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68538-5D74-4672-BF7E-37E67467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AE7D2-C2EC-4E9D-9B46-1A10B71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D836B-43D2-4AC1-9A5D-3737241F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366E3-ABBC-4A79-A2F4-B302F71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C2B-4246-4276-9ACB-B979AF2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106D8-ECD4-4C42-BF61-FF25EA02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509D-057A-40B1-9633-538FA86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5F19C-2BB5-41EB-AF13-92DD66D7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D770A-CED1-4297-808F-5F69383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9D74B-731D-4EA7-91BC-B3C2BB7D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E99B3-5883-437C-8B98-34C4BF08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1B48F-FDCE-49FF-8440-903275AD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416A6-5620-422F-99A3-70AB4B71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C3BF0-459F-4BB2-860A-70DB8F3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AA41E-9B73-4186-8220-DC2E5AC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DEB-6F84-4FA1-B8DA-C6EB47D7473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9F0A-B9F4-4488-A97A-D457C5BFDBC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EB6E-A22D-4C24-A11B-DB6CB7705B0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89D-E396-4CA0-B6FB-56E5AC9267F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BAC-0FD0-428B-97C5-476D128322E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7A1-41E6-43D1-916F-77F3AC099B5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7194-8357-4B39-B1AF-18203017C37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3C1-4200-4883-9901-FFB1F9F3285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5E17-DDBA-47C4-940D-4C81BC0408E7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2097000" y="1401840"/>
            <a:ext cx="5005440" cy="154944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646360" y="3286080"/>
            <a:ext cx="4297320" cy="5238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5"/>
          <p:cNvSpPr/>
          <p:nvPr/>
        </p:nvSpPr>
        <p:spPr>
          <a:xfrm>
            <a:off x="7786800" y="2643120"/>
            <a:ext cx="1071360" cy="1143000"/>
          </a:xfrm>
          <a:prstGeom prst="rect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Равнобедренный треугольник 6"/>
          <p:cNvSpPr/>
          <p:nvPr/>
        </p:nvSpPr>
        <p:spPr>
          <a:xfrm>
            <a:off x="2571840" y="385776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7"/>
          <p:cNvSpPr/>
          <p:nvPr/>
        </p:nvSpPr>
        <p:spPr>
          <a:xfrm>
            <a:off x="785880" y="4643280"/>
            <a:ext cx="107136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8"/>
          <p:cNvSpPr/>
          <p:nvPr/>
        </p:nvSpPr>
        <p:spPr>
          <a:xfrm>
            <a:off x="4500720" y="4929120"/>
            <a:ext cx="1071360" cy="1143000"/>
          </a:xfrm>
          <a:prstGeom prst="ellipse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Умножение 9"/>
          <p:cNvSpPr/>
          <p:nvPr/>
        </p:nvSpPr>
        <p:spPr>
          <a:xfrm>
            <a:off x="6357960" y="4071960"/>
            <a:ext cx="1500120" cy="1500120"/>
          </a:xfrm>
          <a:custGeom>
            <a:avLst/>
            <a:gdLst/>
            <a:ahLst/>
            <a:rect l="l" t="t" r="r" b="b"/>
            <a:pathLst>
              <a:path w="1500187" h="1500187">
                <a:moveTo>
                  <a:pt x="235558" y="485057"/>
                </a:moveTo>
                <a:lnTo>
                  <a:pt x="485057" y="235558"/>
                </a:lnTo>
                <a:lnTo>
                  <a:pt x="750094" y="500595"/>
                </a:lnTo>
                <a:lnTo>
                  <a:pt x="1015130" y="235558"/>
                </a:lnTo>
                <a:lnTo>
                  <a:pt x="1264629" y="485057"/>
                </a:lnTo>
                <a:lnTo>
                  <a:pt x="999592" y="750094"/>
                </a:lnTo>
                <a:lnTo>
                  <a:pt x="1264629" y="1015130"/>
                </a:lnTo>
                <a:lnTo>
                  <a:pt x="1015130" y="1264629"/>
                </a:lnTo>
                <a:lnTo>
                  <a:pt x="750094" y="999592"/>
                </a:lnTo>
                <a:lnTo>
                  <a:pt x="485057" y="1264629"/>
                </a:lnTo>
                <a:lnTo>
                  <a:pt x="235558" y="1015130"/>
                </a:lnTo>
                <a:lnTo>
                  <a:pt x="500595" y="750094"/>
                </a:lnTo>
                <a:lnTo>
                  <a:pt x="235558" y="485057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множение 10"/>
          <p:cNvSpPr/>
          <p:nvPr/>
        </p:nvSpPr>
        <p:spPr>
          <a:xfrm>
            <a:off x="285840" y="2571840"/>
            <a:ext cx="1428840" cy="1500120"/>
          </a:xfrm>
          <a:custGeom>
            <a:avLst/>
            <a:gdLst/>
            <a:ahLst/>
            <a:rect l="l" t="t" r="r" b="b"/>
            <a:pathLst>
              <a:path w="1428750" h="1500188">
                <a:moveTo>
                  <a:pt x="221480" y="476184"/>
                </a:moveTo>
                <a:lnTo>
                  <a:pt x="464820" y="244431"/>
                </a:lnTo>
                <a:lnTo>
                  <a:pt x="714375" y="506464"/>
                </a:lnTo>
                <a:lnTo>
                  <a:pt x="963930" y="244431"/>
                </a:lnTo>
                <a:lnTo>
                  <a:pt x="1207270" y="476184"/>
                </a:lnTo>
                <a:lnTo>
                  <a:pt x="946404" y="750094"/>
                </a:lnTo>
                <a:lnTo>
                  <a:pt x="1207270" y="1024004"/>
                </a:lnTo>
                <a:lnTo>
                  <a:pt x="963930" y="1255757"/>
                </a:lnTo>
                <a:lnTo>
                  <a:pt x="714375" y="993724"/>
                </a:lnTo>
                <a:lnTo>
                  <a:pt x="464820" y="1255757"/>
                </a:lnTo>
                <a:lnTo>
                  <a:pt x="221480" y="1024004"/>
                </a:lnTo>
                <a:lnTo>
                  <a:pt x="482346" y="750094"/>
                </a:lnTo>
                <a:lnTo>
                  <a:pt x="221480" y="476184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5572080" y="630864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ыполнила: Фрол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2143080" y="1357200"/>
          <a:ext cx="5000760" cy="4500720"/>
        </p:xfrm>
        <a:graphic>
          <a:graphicData uri="http://schemas.openxmlformats.org/drawingml/2006/table">
            <a:tbl>
              <a:tblPr/>
              <a:tblGrid>
                <a:gridCol w="1666800"/>
                <a:gridCol w="1667160"/>
                <a:gridCol w="1666800"/>
              </a:tblGrid>
              <a:tr h="14590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4" name="Стрелка вправо 3"/>
          <p:cNvSpPr/>
          <p:nvPr/>
        </p:nvSpPr>
        <p:spPr>
          <a:xfrm>
            <a:off x="2428920" y="178596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Стрелка вверх 4"/>
          <p:cNvSpPr/>
          <p:nvPr/>
        </p:nvSpPr>
        <p:spPr>
          <a:xfrm>
            <a:off x="4500720" y="15717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Стрелка вниз 5"/>
          <p:cNvSpPr/>
          <p:nvPr/>
        </p:nvSpPr>
        <p:spPr>
          <a:xfrm>
            <a:off x="600084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трелка вправо 6"/>
          <p:cNvSpPr/>
          <p:nvPr/>
        </p:nvSpPr>
        <p:spPr>
          <a:xfrm>
            <a:off x="5643720" y="3357720"/>
            <a:ext cx="1285560" cy="642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верх 7"/>
          <p:cNvSpPr/>
          <p:nvPr/>
        </p:nvSpPr>
        <p:spPr>
          <a:xfrm>
            <a:off x="2786040" y="307188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трелка вниз 8"/>
          <p:cNvSpPr/>
          <p:nvPr/>
        </p:nvSpPr>
        <p:spPr>
          <a:xfrm>
            <a:off x="4357800" y="31431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трелка вправо 9"/>
          <p:cNvSpPr/>
          <p:nvPr/>
        </p:nvSpPr>
        <p:spPr>
          <a:xfrm>
            <a:off x="4000680" y="4714920"/>
            <a:ext cx="1285560" cy="642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низ 10"/>
          <p:cNvSpPr/>
          <p:nvPr/>
        </p:nvSpPr>
        <p:spPr>
          <a:xfrm>
            <a:off x="2714760" y="4643280"/>
            <a:ext cx="714240" cy="10004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трелка вверх 14"/>
          <p:cNvSpPr/>
          <p:nvPr/>
        </p:nvSpPr>
        <p:spPr>
          <a:xfrm>
            <a:off x="6000840" y="457200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j0214098.wav" descr=""/>
          <p:cNvPicPr/>
          <p:nvPr/>
        </p:nvPicPr>
        <p:blipFill>
          <a:blip r:embed="rId1"/>
          <a:stretch/>
        </p:blipFill>
        <p:spPr>
          <a:xfrm>
            <a:off x="5715000" y="714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4" name="TextBox 16"/>
          <p:cNvSpPr/>
          <p:nvPr/>
        </p:nvSpPr>
        <p:spPr>
          <a:xfrm>
            <a:off x="2675880" y="35712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745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642960" y="1071720"/>
          <a:ext cx="5000760" cy="4500360"/>
        </p:xfrm>
        <a:graphic>
          <a:graphicData uri="http://schemas.openxmlformats.org/drawingml/2006/table">
            <a:tbl>
              <a:tblPr/>
              <a:tblGrid>
                <a:gridCol w="1666800"/>
                <a:gridCol w="1666800"/>
                <a:gridCol w="1667160"/>
              </a:tblGrid>
              <a:tr h="145872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6" name="Плюс 2"/>
          <p:cNvSpPr/>
          <p:nvPr/>
        </p:nvSpPr>
        <p:spPr>
          <a:xfrm>
            <a:off x="1071720" y="1357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32567" y="418166"/>
                </a:moveTo>
                <a:lnTo>
                  <a:pt x="382448" y="418166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6"/>
                </a:lnTo>
                <a:lnTo>
                  <a:pt x="867558" y="418166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6"/>
                </a:lnTo>
                <a:lnTo>
                  <a:pt x="382448" y="929526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6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инус 3"/>
          <p:cNvSpPr/>
          <p:nvPr/>
        </p:nvSpPr>
        <p:spPr>
          <a:xfrm>
            <a:off x="2571840" y="1500120"/>
            <a:ext cx="1071360" cy="71460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Умножение 4"/>
          <p:cNvSpPr/>
          <p:nvPr/>
        </p:nvSpPr>
        <p:spPr>
          <a:xfrm>
            <a:off x="4286160" y="135720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Умножение 5"/>
          <p:cNvSpPr/>
          <p:nvPr/>
        </p:nvSpPr>
        <p:spPr>
          <a:xfrm>
            <a:off x="1071720" y="278604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инус 6"/>
          <p:cNvSpPr/>
          <p:nvPr/>
        </p:nvSpPr>
        <p:spPr>
          <a:xfrm>
            <a:off x="4214880" y="3000240"/>
            <a:ext cx="1071360" cy="714600"/>
          </a:xfrm>
          <a:custGeom>
            <a:avLst/>
            <a:gdLst/>
            <a:ahLst/>
            <a:rect l="l" t="t" r="r" b="b"/>
            <a:pathLst>
              <a:path w="1071562" h="714375">
                <a:moveTo>
                  <a:pt x="142036" y="273177"/>
                </a:moveTo>
                <a:lnTo>
                  <a:pt x="929526" y="273177"/>
                </a:lnTo>
                <a:lnTo>
                  <a:pt x="929526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люс 7"/>
          <p:cNvSpPr/>
          <p:nvPr/>
        </p:nvSpPr>
        <p:spPr>
          <a:xfrm>
            <a:off x="2643120" y="278604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32567" y="418166"/>
                </a:moveTo>
                <a:lnTo>
                  <a:pt x="382448" y="418166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6"/>
                </a:lnTo>
                <a:lnTo>
                  <a:pt x="867558" y="418166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6"/>
                </a:lnTo>
                <a:lnTo>
                  <a:pt x="382448" y="929526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Умножение 8"/>
          <p:cNvSpPr/>
          <p:nvPr/>
        </p:nvSpPr>
        <p:spPr>
          <a:xfrm>
            <a:off x="2643120" y="421488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инус 9"/>
          <p:cNvSpPr/>
          <p:nvPr/>
        </p:nvSpPr>
        <p:spPr>
          <a:xfrm>
            <a:off x="1071720" y="4214880"/>
            <a:ext cx="1071360" cy="714240"/>
          </a:xfrm>
          <a:custGeom>
            <a:avLst/>
            <a:gdLst/>
            <a:ahLst/>
            <a:rect l="l" t="t" r="r" b="b"/>
            <a:pathLst>
              <a:path w="1071562" h="714375">
                <a:moveTo>
                  <a:pt x="142036" y="273177"/>
                </a:moveTo>
                <a:lnTo>
                  <a:pt x="929526" y="273177"/>
                </a:lnTo>
                <a:lnTo>
                  <a:pt x="929526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Умножение 10"/>
          <p:cNvSpPr/>
          <p:nvPr/>
        </p:nvSpPr>
        <p:spPr>
          <a:xfrm>
            <a:off x="6357960" y="928800"/>
            <a:ext cx="1500120" cy="1500120"/>
          </a:xfrm>
          <a:custGeom>
            <a:avLst/>
            <a:gdLst/>
            <a:ahLst/>
            <a:rect l="l" t="t" r="r" b="b"/>
            <a:pathLst>
              <a:path w="1500187" h="1500187">
                <a:moveTo>
                  <a:pt x="235558" y="485057"/>
                </a:moveTo>
                <a:lnTo>
                  <a:pt x="485057" y="235558"/>
                </a:lnTo>
                <a:lnTo>
                  <a:pt x="750094" y="500595"/>
                </a:lnTo>
                <a:lnTo>
                  <a:pt x="1015130" y="235558"/>
                </a:lnTo>
                <a:lnTo>
                  <a:pt x="1264629" y="485057"/>
                </a:lnTo>
                <a:lnTo>
                  <a:pt x="999592" y="750094"/>
                </a:lnTo>
                <a:lnTo>
                  <a:pt x="1264629" y="1015130"/>
                </a:lnTo>
                <a:lnTo>
                  <a:pt x="1015130" y="1264629"/>
                </a:lnTo>
                <a:lnTo>
                  <a:pt x="750094" y="999592"/>
                </a:lnTo>
                <a:lnTo>
                  <a:pt x="485057" y="1264629"/>
                </a:lnTo>
                <a:lnTo>
                  <a:pt x="235558" y="1015130"/>
                </a:lnTo>
                <a:lnTo>
                  <a:pt x="500595" y="750094"/>
                </a:lnTo>
                <a:lnTo>
                  <a:pt x="235558" y="485057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инус 11"/>
          <p:cNvSpPr/>
          <p:nvPr/>
        </p:nvSpPr>
        <p:spPr>
          <a:xfrm>
            <a:off x="6429240" y="4357800"/>
            <a:ext cx="1571760" cy="1071360"/>
          </a:xfrm>
          <a:custGeom>
            <a:avLst/>
            <a:gdLst/>
            <a:ahLst/>
            <a:rect l="l" t="t" r="r" b="b"/>
            <a:pathLst>
              <a:path w="1571625" h="1071562">
                <a:moveTo>
                  <a:pt x="208319" y="409765"/>
                </a:moveTo>
                <a:lnTo>
                  <a:pt x="1363306" y="409765"/>
                </a:lnTo>
                <a:lnTo>
                  <a:pt x="1363306" y="661797"/>
                </a:lnTo>
                <a:lnTo>
                  <a:pt x="208319" y="661797"/>
                </a:lnTo>
                <a:lnTo>
                  <a:pt x="208319" y="40976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люс 12"/>
          <p:cNvSpPr/>
          <p:nvPr/>
        </p:nvSpPr>
        <p:spPr>
          <a:xfrm>
            <a:off x="6516720" y="2421000"/>
            <a:ext cx="1428840" cy="1571400"/>
          </a:xfrm>
          <a:custGeom>
            <a:avLst/>
            <a:gdLst/>
            <a:ahLst/>
            <a:rect l="l" t="t" r="r" b="b"/>
            <a:pathLst>
              <a:path w="1428750" h="1571625">
                <a:moveTo>
                  <a:pt x="189381" y="617792"/>
                </a:moveTo>
                <a:lnTo>
                  <a:pt x="546354" y="617792"/>
                </a:lnTo>
                <a:lnTo>
                  <a:pt x="546354" y="208319"/>
                </a:lnTo>
                <a:lnTo>
                  <a:pt x="882396" y="208319"/>
                </a:lnTo>
                <a:lnTo>
                  <a:pt x="882396" y="617792"/>
                </a:lnTo>
                <a:lnTo>
                  <a:pt x="1239369" y="617792"/>
                </a:lnTo>
                <a:lnTo>
                  <a:pt x="1239369" y="953834"/>
                </a:lnTo>
                <a:lnTo>
                  <a:pt x="882396" y="953834"/>
                </a:lnTo>
                <a:lnTo>
                  <a:pt x="882396" y="1363306"/>
                </a:lnTo>
                <a:lnTo>
                  <a:pt x="546354" y="1363306"/>
                </a:lnTo>
                <a:lnTo>
                  <a:pt x="546354" y="953834"/>
                </a:lnTo>
                <a:lnTo>
                  <a:pt x="189381" y="953834"/>
                </a:lnTo>
                <a:lnTo>
                  <a:pt x="189381" y="617792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2143080" y="1214280"/>
          <a:ext cx="5000760" cy="4500720"/>
        </p:xfrm>
        <a:graphic>
          <a:graphicData uri="http://schemas.openxmlformats.org/drawingml/2006/table">
            <a:tbl>
              <a:tblPr/>
              <a:tblGrid>
                <a:gridCol w="1666800"/>
                <a:gridCol w="1667160"/>
                <a:gridCol w="1666800"/>
              </a:tblGrid>
              <a:tr h="14590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8" name="Плюс 2"/>
          <p:cNvSpPr/>
          <p:nvPr/>
        </p:nvSpPr>
        <p:spPr>
          <a:xfrm>
            <a:off x="2643120" y="1357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32567" y="418166"/>
                </a:moveTo>
                <a:lnTo>
                  <a:pt x="382448" y="418166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6"/>
                </a:lnTo>
                <a:lnTo>
                  <a:pt x="867558" y="418166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6"/>
                </a:lnTo>
                <a:lnTo>
                  <a:pt x="382448" y="929526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6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инус 3"/>
          <p:cNvSpPr/>
          <p:nvPr/>
        </p:nvSpPr>
        <p:spPr>
          <a:xfrm>
            <a:off x="4143240" y="1571760"/>
            <a:ext cx="1071720" cy="71424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Умножение 4"/>
          <p:cNvSpPr/>
          <p:nvPr/>
        </p:nvSpPr>
        <p:spPr>
          <a:xfrm>
            <a:off x="5786280" y="1500120"/>
            <a:ext cx="100044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Умножение 5"/>
          <p:cNvSpPr/>
          <p:nvPr/>
        </p:nvSpPr>
        <p:spPr>
          <a:xfrm>
            <a:off x="2643120" y="285768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65890" y="303079"/>
                </a:moveTo>
                <a:lnTo>
                  <a:pt x="314520" y="143017"/>
                </a:lnTo>
                <a:lnTo>
                  <a:pt x="500063" y="315306"/>
                </a:lnTo>
                <a:lnTo>
                  <a:pt x="685605" y="143017"/>
                </a:lnTo>
                <a:lnTo>
                  <a:pt x="834235" y="303079"/>
                </a:lnTo>
                <a:lnTo>
                  <a:pt x="660564" y="464344"/>
                </a:lnTo>
                <a:lnTo>
                  <a:pt x="834235" y="625609"/>
                </a:lnTo>
                <a:lnTo>
                  <a:pt x="685605" y="785671"/>
                </a:lnTo>
                <a:lnTo>
                  <a:pt x="500063" y="613382"/>
                </a:lnTo>
                <a:lnTo>
                  <a:pt x="314520" y="785671"/>
                </a:lnTo>
                <a:lnTo>
                  <a:pt x="165890" y="625609"/>
                </a:lnTo>
                <a:lnTo>
                  <a:pt x="339561" y="464344"/>
                </a:lnTo>
                <a:lnTo>
                  <a:pt x="165890" y="303079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инус 6"/>
          <p:cNvSpPr/>
          <p:nvPr/>
        </p:nvSpPr>
        <p:spPr>
          <a:xfrm>
            <a:off x="5857920" y="3000240"/>
            <a:ext cx="1071360" cy="71460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люс 7"/>
          <p:cNvSpPr/>
          <p:nvPr/>
        </p:nvSpPr>
        <p:spPr>
          <a:xfrm>
            <a:off x="4214880" y="2857680"/>
            <a:ext cx="1000080" cy="1071360"/>
          </a:xfrm>
          <a:custGeom>
            <a:avLst/>
            <a:gdLst/>
            <a:ahLst/>
            <a:rect l="l" t="t" r="r" b="b"/>
            <a:pathLst>
              <a:path w="1000125" h="1071563">
                <a:moveTo>
                  <a:pt x="132567" y="418167"/>
                </a:moveTo>
                <a:lnTo>
                  <a:pt x="382448" y="418167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7"/>
                </a:lnTo>
                <a:lnTo>
                  <a:pt x="867558" y="418167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7"/>
                </a:lnTo>
                <a:lnTo>
                  <a:pt x="382448" y="929527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Умножение 8"/>
          <p:cNvSpPr/>
          <p:nvPr/>
        </p:nvSpPr>
        <p:spPr>
          <a:xfrm>
            <a:off x="4214880" y="4357800"/>
            <a:ext cx="1000080" cy="92844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инус 9"/>
          <p:cNvSpPr/>
          <p:nvPr/>
        </p:nvSpPr>
        <p:spPr>
          <a:xfrm>
            <a:off x="2571840" y="4500720"/>
            <a:ext cx="1071360" cy="71424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люс 13"/>
          <p:cNvSpPr/>
          <p:nvPr/>
        </p:nvSpPr>
        <p:spPr>
          <a:xfrm>
            <a:off x="5786280" y="4357800"/>
            <a:ext cx="1143000" cy="1000080"/>
          </a:xfrm>
          <a:custGeom>
            <a:avLst/>
            <a:gdLst/>
            <a:ahLst/>
            <a:rect l="l" t="t" r="r" b="b"/>
            <a:pathLst>
              <a:path w="1143000" h="1000125">
                <a:moveTo>
                  <a:pt x="151505" y="382448"/>
                </a:moveTo>
                <a:lnTo>
                  <a:pt x="453885" y="382448"/>
                </a:lnTo>
                <a:lnTo>
                  <a:pt x="453885" y="132567"/>
                </a:lnTo>
                <a:lnTo>
                  <a:pt x="689115" y="132567"/>
                </a:lnTo>
                <a:lnTo>
                  <a:pt x="689115" y="382448"/>
                </a:lnTo>
                <a:lnTo>
                  <a:pt x="991495" y="382448"/>
                </a:lnTo>
                <a:lnTo>
                  <a:pt x="991495" y="617677"/>
                </a:lnTo>
                <a:lnTo>
                  <a:pt x="689115" y="617677"/>
                </a:lnTo>
                <a:lnTo>
                  <a:pt x="689115" y="867558"/>
                </a:lnTo>
                <a:lnTo>
                  <a:pt x="453885" y="867558"/>
                </a:lnTo>
                <a:lnTo>
                  <a:pt x="453885" y="617677"/>
                </a:lnTo>
                <a:lnTo>
                  <a:pt x="151505" y="617677"/>
                </a:lnTo>
                <a:lnTo>
                  <a:pt x="151505" y="382448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j0214098.wav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5"/>
          <p:cNvSpPr/>
          <p:nvPr/>
        </p:nvSpPr>
        <p:spPr>
          <a:xfrm>
            <a:off x="2738880" y="214200"/>
            <a:ext cx="35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Умниц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1"/>
          <p:cNvSpPr/>
          <p:nvPr/>
        </p:nvSpPr>
        <p:spPr>
          <a:xfrm>
            <a:off x="2777400" y="1857240"/>
            <a:ext cx="40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Кон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3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ой фигуры не хватает вместо знака «вопрос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из трех фигур и нажми на нее левой кнопкой мы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42960" y="1143000"/>
          <a:ext cx="5423040" cy="4799160"/>
        </p:xfrm>
        <a:graphic>
          <a:graphicData uri="http://schemas.openxmlformats.org/drawingml/2006/table">
            <a:tbl>
              <a:tblPr/>
              <a:tblGrid>
                <a:gridCol w="1808280"/>
                <a:gridCol w="1806480"/>
                <a:gridCol w="1808280"/>
              </a:tblGrid>
              <a:tr h="15411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08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75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9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0" name="Равнобедренный треугольник 2"/>
          <p:cNvSpPr/>
          <p:nvPr/>
        </p:nvSpPr>
        <p:spPr>
          <a:xfrm>
            <a:off x="928800" y="13572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3"/>
          <p:cNvSpPr/>
          <p:nvPr/>
        </p:nvSpPr>
        <p:spPr>
          <a:xfrm>
            <a:off x="2714760" y="292896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Равнобедренный треугольник 4"/>
          <p:cNvSpPr/>
          <p:nvPr/>
        </p:nvSpPr>
        <p:spPr>
          <a:xfrm>
            <a:off x="2786040" y="450072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5"/>
          <p:cNvSpPr/>
          <p:nvPr/>
        </p:nvSpPr>
        <p:spPr>
          <a:xfrm>
            <a:off x="2857680" y="135720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6"/>
          <p:cNvSpPr/>
          <p:nvPr/>
        </p:nvSpPr>
        <p:spPr>
          <a:xfrm>
            <a:off x="4643280" y="2928960"/>
            <a:ext cx="107172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071720" y="457200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8"/>
          <p:cNvSpPr/>
          <p:nvPr/>
        </p:nvSpPr>
        <p:spPr>
          <a:xfrm>
            <a:off x="4643280" y="1357200"/>
            <a:ext cx="107172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9"/>
          <p:cNvSpPr/>
          <p:nvPr/>
        </p:nvSpPr>
        <p:spPr>
          <a:xfrm>
            <a:off x="1071720" y="292896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10"/>
          <p:cNvSpPr/>
          <p:nvPr/>
        </p:nvSpPr>
        <p:spPr>
          <a:xfrm>
            <a:off x="7215120" y="4643280"/>
            <a:ext cx="107172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Равнобедренный треугольник 11"/>
          <p:cNvSpPr/>
          <p:nvPr/>
        </p:nvSpPr>
        <p:spPr>
          <a:xfrm>
            <a:off x="7072200" y="121428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7143840" y="285768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1785960" y="1143000"/>
          <a:ext cx="5423040" cy="4799160"/>
        </p:xfrm>
        <a:graphic>
          <a:graphicData uri="http://schemas.openxmlformats.org/drawingml/2006/table">
            <a:tbl>
              <a:tblPr/>
              <a:tblGrid>
                <a:gridCol w="1808280"/>
                <a:gridCol w="1806480"/>
                <a:gridCol w="1808280"/>
              </a:tblGrid>
              <a:tr h="15411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08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75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2" name="Равнобедренный треугольник 2"/>
          <p:cNvSpPr/>
          <p:nvPr/>
        </p:nvSpPr>
        <p:spPr>
          <a:xfrm>
            <a:off x="2071800" y="13572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Равнобедренный треугольник 3"/>
          <p:cNvSpPr/>
          <p:nvPr/>
        </p:nvSpPr>
        <p:spPr>
          <a:xfrm>
            <a:off x="3857760" y="292896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Равнобедренный треугольник 4"/>
          <p:cNvSpPr/>
          <p:nvPr/>
        </p:nvSpPr>
        <p:spPr>
          <a:xfrm>
            <a:off x="3857760" y="442908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5"/>
          <p:cNvSpPr/>
          <p:nvPr/>
        </p:nvSpPr>
        <p:spPr>
          <a:xfrm>
            <a:off x="4000680" y="142884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6"/>
          <p:cNvSpPr/>
          <p:nvPr/>
        </p:nvSpPr>
        <p:spPr>
          <a:xfrm>
            <a:off x="5929200" y="3000240"/>
            <a:ext cx="107172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7"/>
          <p:cNvSpPr/>
          <p:nvPr/>
        </p:nvSpPr>
        <p:spPr>
          <a:xfrm>
            <a:off x="2214720" y="457200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8"/>
          <p:cNvSpPr/>
          <p:nvPr/>
        </p:nvSpPr>
        <p:spPr>
          <a:xfrm>
            <a:off x="5786280" y="1357200"/>
            <a:ext cx="107172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9"/>
          <p:cNvSpPr/>
          <p:nvPr/>
        </p:nvSpPr>
        <p:spPr>
          <a:xfrm>
            <a:off x="2214720" y="292896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2"/>
          <p:cNvSpPr/>
          <p:nvPr/>
        </p:nvSpPr>
        <p:spPr>
          <a:xfrm>
            <a:off x="5857920" y="457200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2714760" y="14292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1"/>
          <a:stretch/>
        </p:blipFill>
        <p:spPr>
          <a:xfrm>
            <a:off x="585792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000080" y="1000080"/>
          <a:ext cx="4869000" cy="449280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</a:tblGrid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112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4" name="Равнобедренный треугольник 2"/>
          <p:cNvSpPr/>
          <p:nvPr/>
        </p:nvSpPr>
        <p:spPr>
          <a:xfrm>
            <a:off x="1214280" y="11430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3"/>
          <p:cNvSpPr/>
          <p:nvPr/>
        </p:nvSpPr>
        <p:spPr>
          <a:xfrm>
            <a:off x="2928960" y="1214280"/>
            <a:ext cx="1071720" cy="1143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572000" y="1143000"/>
            <a:ext cx="1071720" cy="1143000"/>
          </a:xfrm>
          <a:prstGeom prst="rect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Равнобедренный треугольник 5"/>
          <p:cNvSpPr/>
          <p:nvPr/>
        </p:nvSpPr>
        <p:spPr>
          <a:xfrm>
            <a:off x="4500720" y="2571840"/>
            <a:ext cx="128556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2928960" y="2571840"/>
            <a:ext cx="1071720" cy="1143000"/>
          </a:xfrm>
          <a:prstGeom prst="rect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7"/>
          <p:cNvSpPr/>
          <p:nvPr/>
        </p:nvSpPr>
        <p:spPr>
          <a:xfrm>
            <a:off x="1285920" y="2571840"/>
            <a:ext cx="1071360" cy="1143000"/>
          </a:xfrm>
          <a:prstGeom prst="ellipse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Равнобедренный треугольник 8"/>
          <p:cNvSpPr/>
          <p:nvPr/>
        </p:nvSpPr>
        <p:spPr>
          <a:xfrm>
            <a:off x="2786040" y="414324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9"/>
          <p:cNvSpPr/>
          <p:nvPr/>
        </p:nvSpPr>
        <p:spPr>
          <a:xfrm>
            <a:off x="1285920" y="4214880"/>
            <a:ext cx="107136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10"/>
          <p:cNvSpPr/>
          <p:nvPr/>
        </p:nvSpPr>
        <p:spPr>
          <a:xfrm>
            <a:off x="7072200" y="100008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11"/>
          <p:cNvSpPr/>
          <p:nvPr/>
        </p:nvSpPr>
        <p:spPr>
          <a:xfrm>
            <a:off x="7215120" y="4286160"/>
            <a:ext cx="1071720" cy="1143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12"/>
          <p:cNvSpPr/>
          <p:nvPr/>
        </p:nvSpPr>
        <p:spPr>
          <a:xfrm>
            <a:off x="7215120" y="2643120"/>
            <a:ext cx="107172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1928880" y="1000080"/>
          <a:ext cx="4868640" cy="449280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160"/>
              </a:tblGrid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112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6" name="Равнобедренный треугольник 2"/>
          <p:cNvSpPr/>
          <p:nvPr/>
        </p:nvSpPr>
        <p:spPr>
          <a:xfrm>
            <a:off x="2071800" y="11430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3"/>
          <p:cNvSpPr/>
          <p:nvPr/>
        </p:nvSpPr>
        <p:spPr>
          <a:xfrm>
            <a:off x="3786120" y="1214280"/>
            <a:ext cx="1071720" cy="1143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4"/>
          <p:cNvSpPr/>
          <p:nvPr/>
        </p:nvSpPr>
        <p:spPr>
          <a:xfrm>
            <a:off x="5357880" y="1143000"/>
            <a:ext cx="1071360" cy="1143000"/>
          </a:xfrm>
          <a:prstGeom prst="rect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Равнобедренный треугольник 5"/>
          <p:cNvSpPr/>
          <p:nvPr/>
        </p:nvSpPr>
        <p:spPr>
          <a:xfrm>
            <a:off x="5286240" y="257184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6"/>
          <p:cNvSpPr/>
          <p:nvPr/>
        </p:nvSpPr>
        <p:spPr>
          <a:xfrm>
            <a:off x="3786120" y="2571840"/>
            <a:ext cx="1071720" cy="1143000"/>
          </a:xfrm>
          <a:prstGeom prst="rect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Овал 7"/>
          <p:cNvSpPr/>
          <p:nvPr/>
        </p:nvSpPr>
        <p:spPr>
          <a:xfrm>
            <a:off x="2214720" y="2571840"/>
            <a:ext cx="1071360" cy="1143000"/>
          </a:xfrm>
          <a:prstGeom prst="ellipse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8"/>
          <p:cNvSpPr/>
          <p:nvPr/>
        </p:nvSpPr>
        <p:spPr>
          <a:xfrm>
            <a:off x="3714840" y="414324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9"/>
          <p:cNvSpPr/>
          <p:nvPr/>
        </p:nvSpPr>
        <p:spPr>
          <a:xfrm>
            <a:off x="2214720" y="4214880"/>
            <a:ext cx="107136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Овал 13"/>
          <p:cNvSpPr/>
          <p:nvPr/>
        </p:nvSpPr>
        <p:spPr>
          <a:xfrm>
            <a:off x="5500800" y="4214880"/>
            <a:ext cx="1071360" cy="1143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4"/>
          <p:cNvSpPr/>
          <p:nvPr/>
        </p:nvSpPr>
        <p:spPr>
          <a:xfrm>
            <a:off x="2756520" y="214200"/>
            <a:ext cx="362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j0214098.wav" descr=""/>
          <p:cNvPicPr/>
          <p:nvPr/>
        </p:nvPicPr>
        <p:blipFill>
          <a:blip r:embed="rId1"/>
          <a:stretch/>
        </p:blipFill>
        <p:spPr>
          <a:xfrm>
            <a:off x="621504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1000" autoRev="1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1000" autoRev="1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714240" y="1143000"/>
          <a:ext cx="4869000" cy="456408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</a:tblGrid>
              <a:tr h="14796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78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66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8" name="5-конечная звезда 4"/>
          <p:cNvSpPr/>
          <p:nvPr/>
        </p:nvSpPr>
        <p:spPr>
          <a:xfrm>
            <a:off x="1000080" y="142884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6-конечная звезда 5"/>
          <p:cNvSpPr/>
          <p:nvPr/>
        </p:nvSpPr>
        <p:spPr>
          <a:xfrm>
            <a:off x="4357800" y="1428840"/>
            <a:ext cx="85716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7-конечная звезда 6"/>
          <p:cNvSpPr/>
          <p:nvPr/>
        </p:nvSpPr>
        <p:spPr>
          <a:xfrm>
            <a:off x="2643120" y="1357200"/>
            <a:ext cx="1071720" cy="1071720"/>
          </a:xfrm>
          <a:custGeom>
            <a:avLst/>
            <a:gdLst/>
            <a:ahLst/>
            <a:rect l="l" t="t" r="r" b="b"/>
            <a:pathLst>
              <a:path w="1071562" h="1071562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1"/>
                </a:lnTo>
                <a:lnTo>
                  <a:pt x="774225" y="1071568"/>
                </a:lnTo>
                <a:lnTo>
                  <a:pt x="535781" y="953784"/>
                </a:lnTo>
                <a:lnTo>
                  <a:pt x="297337" y="1071568"/>
                </a:lnTo>
                <a:lnTo>
                  <a:pt x="238445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6-конечная звезда 7"/>
          <p:cNvSpPr/>
          <p:nvPr/>
        </p:nvSpPr>
        <p:spPr>
          <a:xfrm>
            <a:off x="4286160" y="2928960"/>
            <a:ext cx="85752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5-конечная звезда 8"/>
          <p:cNvSpPr/>
          <p:nvPr/>
        </p:nvSpPr>
        <p:spPr>
          <a:xfrm>
            <a:off x="2714760" y="285768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-конечная звезда 9"/>
          <p:cNvSpPr/>
          <p:nvPr/>
        </p:nvSpPr>
        <p:spPr>
          <a:xfrm>
            <a:off x="1071720" y="2786040"/>
            <a:ext cx="1071360" cy="1071720"/>
          </a:xfrm>
          <a:custGeom>
            <a:avLst/>
            <a:gdLst/>
            <a:ahLst/>
            <a:rect l="l" t="t" r="r" b="b"/>
            <a:pathLst>
              <a:path w="1071562" h="1071562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1"/>
                </a:lnTo>
                <a:lnTo>
                  <a:pt x="774225" y="1071568"/>
                </a:lnTo>
                <a:lnTo>
                  <a:pt x="535781" y="953784"/>
                </a:lnTo>
                <a:lnTo>
                  <a:pt x="297337" y="1071568"/>
                </a:lnTo>
                <a:lnTo>
                  <a:pt x="238445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6-конечная звезда 10"/>
          <p:cNvSpPr/>
          <p:nvPr/>
        </p:nvSpPr>
        <p:spPr>
          <a:xfrm>
            <a:off x="1071720" y="4357800"/>
            <a:ext cx="85716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5-конечная звезда 11"/>
          <p:cNvSpPr/>
          <p:nvPr/>
        </p:nvSpPr>
        <p:spPr>
          <a:xfrm>
            <a:off x="2714760" y="4357800"/>
            <a:ext cx="1000080" cy="92844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" y="354726"/>
                </a:moveTo>
                <a:lnTo>
                  <a:pt x="382016" y="354728"/>
                </a:lnTo>
                <a:lnTo>
                  <a:pt x="500063" y="0"/>
                </a:lnTo>
                <a:lnTo>
                  <a:pt x="618109" y="354728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5"/>
                </a:lnTo>
                <a:lnTo>
                  <a:pt x="500063" y="709449"/>
                </a:lnTo>
                <a:lnTo>
                  <a:pt x="191008" y="928685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5-конечная звезда 12"/>
          <p:cNvSpPr/>
          <p:nvPr/>
        </p:nvSpPr>
        <p:spPr>
          <a:xfrm>
            <a:off x="6715080" y="4286160"/>
            <a:ext cx="1285920" cy="1357560"/>
          </a:xfrm>
          <a:custGeom>
            <a:avLst/>
            <a:gdLst/>
            <a:ahLst/>
            <a:rect l="l" t="t" r="r" b="b"/>
            <a:pathLst>
              <a:path w="1285875" h="1357313">
                <a:moveTo>
                  <a:pt x="1" y="518446"/>
                </a:moveTo>
                <a:lnTo>
                  <a:pt x="491163" y="518450"/>
                </a:lnTo>
                <a:lnTo>
                  <a:pt x="642938" y="0"/>
                </a:lnTo>
                <a:lnTo>
                  <a:pt x="794712" y="518450"/>
                </a:lnTo>
                <a:lnTo>
                  <a:pt x="1285874" y="518446"/>
                </a:lnTo>
                <a:lnTo>
                  <a:pt x="888513" y="838862"/>
                </a:lnTo>
                <a:lnTo>
                  <a:pt x="1040294" y="1357310"/>
                </a:lnTo>
                <a:lnTo>
                  <a:pt x="642938" y="1036888"/>
                </a:lnTo>
                <a:lnTo>
                  <a:pt x="245581" y="1357310"/>
                </a:lnTo>
                <a:lnTo>
                  <a:pt x="397362" y="838862"/>
                </a:lnTo>
                <a:lnTo>
                  <a:pt x="1" y="51844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7-конечная звезда 13"/>
          <p:cNvSpPr/>
          <p:nvPr/>
        </p:nvSpPr>
        <p:spPr>
          <a:xfrm>
            <a:off x="6715080" y="2714760"/>
            <a:ext cx="1357200" cy="1366560"/>
          </a:xfrm>
          <a:custGeom>
            <a:avLst/>
            <a:gdLst/>
            <a:ahLst/>
            <a:rect l="l" t="t" r="r" b="b"/>
            <a:pathLst>
              <a:path w="1357313" h="1366838">
                <a:moveTo>
                  <a:pt x="-4" y="879023"/>
                </a:moveTo>
                <a:lnTo>
                  <a:pt x="209010" y="608304"/>
                </a:lnTo>
                <a:lnTo>
                  <a:pt x="134416" y="270720"/>
                </a:lnTo>
                <a:lnTo>
                  <a:pt x="469646" y="270721"/>
                </a:lnTo>
                <a:lnTo>
                  <a:pt x="678657" y="0"/>
                </a:lnTo>
                <a:lnTo>
                  <a:pt x="887667" y="270721"/>
                </a:lnTo>
                <a:lnTo>
                  <a:pt x="1222897" y="270720"/>
                </a:lnTo>
                <a:lnTo>
                  <a:pt x="1148303" y="608304"/>
                </a:lnTo>
                <a:lnTo>
                  <a:pt x="1357317" y="879023"/>
                </a:lnTo>
                <a:lnTo>
                  <a:pt x="1055282" y="1029261"/>
                </a:lnTo>
                <a:lnTo>
                  <a:pt x="980685" y="1366845"/>
                </a:lnTo>
                <a:lnTo>
                  <a:pt x="678657" y="1216605"/>
                </a:lnTo>
                <a:lnTo>
                  <a:pt x="376628" y="1366845"/>
                </a:lnTo>
                <a:lnTo>
                  <a:pt x="302031" y="1029261"/>
                </a:lnTo>
                <a:lnTo>
                  <a:pt x="-4" y="87902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6-конечная звезда 14"/>
          <p:cNvSpPr/>
          <p:nvPr/>
        </p:nvSpPr>
        <p:spPr>
          <a:xfrm>
            <a:off x="6572160" y="1000080"/>
            <a:ext cx="1214640" cy="1500120"/>
          </a:xfrm>
          <a:custGeom>
            <a:avLst/>
            <a:gdLst/>
            <a:ahLst/>
            <a:rect l="l" t="t" r="r" b="b"/>
            <a:pathLst>
              <a:path w="1214438" h="1500188">
                <a:moveTo>
                  <a:pt x="0" y="375047"/>
                </a:moveTo>
                <a:lnTo>
                  <a:pt x="404809" y="375041"/>
                </a:lnTo>
                <a:lnTo>
                  <a:pt x="607219" y="0"/>
                </a:lnTo>
                <a:lnTo>
                  <a:pt x="809629" y="375041"/>
                </a:lnTo>
                <a:lnTo>
                  <a:pt x="1214438" y="375047"/>
                </a:lnTo>
                <a:lnTo>
                  <a:pt x="1012038" y="750094"/>
                </a:lnTo>
                <a:lnTo>
                  <a:pt x="1214438" y="1125141"/>
                </a:lnTo>
                <a:lnTo>
                  <a:pt x="809629" y="1125147"/>
                </a:lnTo>
                <a:lnTo>
                  <a:pt x="607219" y="1500188"/>
                </a:lnTo>
                <a:lnTo>
                  <a:pt x="404809" y="1125147"/>
                </a:lnTo>
                <a:lnTo>
                  <a:pt x="0" y="1125141"/>
                </a:lnTo>
                <a:lnTo>
                  <a:pt x="202400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785960" y="1285920"/>
          <a:ext cx="4869000" cy="456408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</a:tblGrid>
              <a:tr h="14796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78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66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0" name="5-конечная звезда 4"/>
          <p:cNvSpPr/>
          <p:nvPr/>
        </p:nvSpPr>
        <p:spPr>
          <a:xfrm>
            <a:off x="2214720" y="142884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6-конечная звезда 5"/>
          <p:cNvSpPr/>
          <p:nvPr/>
        </p:nvSpPr>
        <p:spPr>
          <a:xfrm>
            <a:off x="5429160" y="1500120"/>
            <a:ext cx="85752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7-конечная звезда 6"/>
          <p:cNvSpPr/>
          <p:nvPr/>
        </p:nvSpPr>
        <p:spPr>
          <a:xfrm>
            <a:off x="3643200" y="1428840"/>
            <a:ext cx="1071720" cy="1071360"/>
          </a:xfrm>
          <a:custGeom>
            <a:avLst/>
            <a:gdLst/>
            <a:ahLst/>
            <a:rect l="l" t="t" r="r" b="b"/>
            <a:pathLst>
              <a:path w="1071562" h="1071563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2"/>
                </a:lnTo>
                <a:lnTo>
                  <a:pt x="774225" y="1071569"/>
                </a:lnTo>
                <a:lnTo>
                  <a:pt x="535781" y="953784"/>
                </a:lnTo>
                <a:lnTo>
                  <a:pt x="297337" y="1071569"/>
                </a:lnTo>
                <a:lnTo>
                  <a:pt x="238445" y="806912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6-конечная звезда 7"/>
          <p:cNvSpPr/>
          <p:nvPr/>
        </p:nvSpPr>
        <p:spPr>
          <a:xfrm>
            <a:off x="5429160" y="2928960"/>
            <a:ext cx="85752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5-конечная звезда 8"/>
          <p:cNvSpPr/>
          <p:nvPr/>
        </p:nvSpPr>
        <p:spPr>
          <a:xfrm>
            <a:off x="3786120" y="292896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" y="354726"/>
                </a:moveTo>
                <a:lnTo>
                  <a:pt x="382016" y="354728"/>
                </a:lnTo>
                <a:lnTo>
                  <a:pt x="500063" y="0"/>
                </a:lnTo>
                <a:lnTo>
                  <a:pt x="618109" y="354728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5"/>
                </a:lnTo>
                <a:lnTo>
                  <a:pt x="500063" y="709449"/>
                </a:lnTo>
                <a:lnTo>
                  <a:pt x="191008" y="928685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7-конечная звезда 9"/>
          <p:cNvSpPr/>
          <p:nvPr/>
        </p:nvSpPr>
        <p:spPr>
          <a:xfrm>
            <a:off x="2214720" y="3000240"/>
            <a:ext cx="1071360" cy="1071720"/>
          </a:xfrm>
          <a:custGeom>
            <a:avLst/>
            <a:gdLst/>
            <a:ahLst/>
            <a:rect l="l" t="t" r="r" b="b"/>
            <a:pathLst>
              <a:path w="1071562" h="1071563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2"/>
                </a:lnTo>
                <a:lnTo>
                  <a:pt x="774225" y="1071569"/>
                </a:lnTo>
                <a:lnTo>
                  <a:pt x="535781" y="953784"/>
                </a:lnTo>
                <a:lnTo>
                  <a:pt x="297337" y="1071569"/>
                </a:lnTo>
                <a:lnTo>
                  <a:pt x="238445" y="806912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6-конечная звезда 10"/>
          <p:cNvSpPr/>
          <p:nvPr/>
        </p:nvSpPr>
        <p:spPr>
          <a:xfrm>
            <a:off x="2286000" y="4572000"/>
            <a:ext cx="85716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5-конечная звезда 11"/>
          <p:cNvSpPr/>
          <p:nvPr/>
        </p:nvSpPr>
        <p:spPr>
          <a:xfrm>
            <a:off x="3714840" y="464328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" y="354726"/>
                </a:moveTo>
                <a:lnTo>
                  <a:pt x="382016" y="354728"/>
                </a:lnTo>
                <a:lnTo>
                  <a:pt x="500063" y="0"/>
                </a:lnTo>
                <a:lnTo>
                  <a:pt x="618109" y="354728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5"/>
                </a:lnTo>
                <a:lnTo>
                  <a:pt x="500063" y="709449"/>
                </a:lnTo>
                <a:lnTo>
                  <a:pt x="191008" y="928685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7-конечная звезда 15"/>
          <p:cNvSpPr/>
          <p:nvPr/>
        </p:nvSpPr>
        <p:spPr>
          <a:xfrm>
            <a:off x="5286240" y="4572000"/>
            <a:ext cx="1000440" cy="1081080"/>
          </a:xfrm>
          <a:custGeom>
            <a:avLst/>
            <a:gdLst/>
            <a:ahLst/>
            <a:rect l="l" t="t" r="r" b="b"/>
            <a:pathLst>
              <a:path w="1000125" h="1081088">
                <a:moveTo>
                  <a:pt x="-3" y="695255"/>
                </a:moveTo>
                <a:lnTo>
                  <a:pt x="154007" y="481132"/>
                </a:lnTo>
                <a:lnTo>
                  <a:pt x="99043" y="214124"/>
                </a:lnTo>
                <a:lnTo>
                  <a:pt x="346055" y="214124"/>
                </a:lnTo>
                <a:lnTo>
                  <a:pt x="500063" y="0"/>
                </a:lnTo>
                <a:lnTo>
                  <a:pt x="654070" y="214124"/>
                </a:lnTo>
                <a:lnTo>
                  <a:pt x="901082" y="214124"/>
                </a:lnTo>
                <a:lnTo>
                  <a:pt x="846118" y="481132"/>
                </a:lnTo>
                <a:lnTo>
                  <a:pt x="1000128" y="695255"/>
                </a:lnTo>
                <a:lnTo>
                  <a:pt x="777576" y="814085"/>
                </a:lnTo>
                <a:lnTo>
                  <a:pt x="722610" y="1081094"/>
                </a:lnTo>
                <a:lnTo>
                  <a:pt x="500063" y="962263"/>
                </a:lnTo>
                <a:lnTo>
                  <a:pt x="277515" y="1081094"/>
                </a:lnTo>
                <a:lnTo>
                  <a:pt x="222549" y="814085"/>
                </a:lnTo>
                <a:lnTo>
                  <a:pt x="-3" y="69525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6"/>
          <p:cNvSpPr/>
          <p:nvPr/>
        </p:nvSpPr>
        <p:spPr>
          <a:xfrm>
            <a:off x="2572560" y="0"/>
            <a:ext cx="354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j0214098.wav" descr=""/>
          <p:cNvPicPr/>
          <p:nvPr/>
        </p:nvPicPr>
        <p:blipFill>
          <a:blip r:embed="rId1"/>
          <a:stretch/>
        </p:blipFill>
        <p:spPr>
          <a:xfrm>
            <a:off x="600084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928800" y="1357200"/>
          <a:ext cx="5000400" cy="4500720"/>
        </p:xfrm>
        <a:graphic>
          <a:graphicData uri="http://schemas.openxmlformats.org/drawingml/2006/table">
            <a:tbl>
              <a:tblPr/>
              <a:tblGrid>
                <a:gridCol w="1666800"/>
                <a:gridCol w="1666800"/>
                <a:gridCol w="1666800"/>
              </a:tblGrid>
              <a:tr h="14590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Стрелка вправо 3"/>
          <p:cNvSpPr/>
          <p:nvPr/>
        </p:nvSpPr>
        <p:spPr>
          <a:xfrm>
            <a:off x="1143000" y="185724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верх 4"/>
          <p:cNvSpPr/>
          <p:nvPr/>
        </p:nvSpPr>
        <p:spPr>
          <a:xfrm>
            <a:off x="3143160" y="15717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Стрелка вниз 5"/>
          <p:cNvSpPr/>
          <p:nvPr/>
        </p:nvSpPr>
        <p:spPr>
          <a:xfrm>
            <a:off x="4857840" y="164304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право 6"/>
          <p:cNvSpPr/>
          <p:nvPr/>
        </p:nvSpPr>
        <p:spPr>
          <a:xfrm>
            <a:off x="4572000" y="335772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верх 7"/>
          <p:cNvSpPr/>
          <p:nvPr/>
        </p:nvSpPr>
        <p:spPr>
          <a:xfrm>
            <a:off x="1357200" y="31431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трелка вниз 8"/>
          <p:cNvSpPr/>
          <p:nvPr/>
        </p:nvSpPr>
        <p:spPr>
          <a:xfrm>
            <a:off x="3286080" y="3071880"/>
            <a:ext cx="714600" cy="10000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трелка вправо 9"/>
          <p:cNvSpPr/>
          <p:nvPr/>
        </p:nvSpPr>
        <p:spPr>
          <a:xfrm>
            <a:off x="2786040" y="471492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трелка вниз 10"/>
          <p:cNvSpPr/>
          <p:nvPr/>
        </p:nvSpPr>
        <p:spPr>
          <a:xfrm>
            <a:off x="1428840" y="457200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трелка вправо 11"/>
          <p:cNvSpPr/>
          <p:nvPr/>
        </p:nvSpPr>
        <p:spPr>
          <a:xfrm>
            <a:off x="7000920" y="500076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трелка вверх 12"/>
          <p:cNvSpPr/>
          <p:nvPr/>
        </p:nvSpPr>
        <p:spPr>
          <a:xfrm>
            <a:off x="7215120" y="29289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трелка вниз 13"/>
          <p:cNvSpPr/>
          <p:nvPr/>
        </p:nvSpPr>
        <p:spPr>
          <a:xfrm>
            <a:off x="714384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8:27Z</dcterms:created>
  <dc:creator>ОЕМ</dc:creator>
  <dc:description/>
  <dc:language>en-US</dc:language>
  <cp:lastModifiedBy>Admin</cp:lastModifiedBy>
  <dcterms:modified xsi:type="dcterms:W3CDTF">2022-02-08T09:11:04Z</dcterms:modified>
  <cp:revision>9</cp:revision>
  <dc:subject/>
  <dc:title>Слайд 1</dc:title>
</cp:coreProperties>
</file>