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D80B-4E3A-4F47-BAF0-62205455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EFBE-6A2D-48D0-BB67-7AAD9AAE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1E89-BCDB-45DD-873E-A916E397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09D-866F-4559-B298-818302DC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5B4C-92AB-4562-8A01-32CF7731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7739-CAB5-4F1D-856A-2C89493F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22B2-71DF-42F8-BCDC-3AB28A01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1090-9DFB-4242-BEE5-51CAD91B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A575-2642-4C58-B69F-FDA1E35B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94F3-F266-4AB5-A12C-B694D232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75A6-3D94-4299-B13A-3BB6DEEA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2B5-37DB-44EC-97BB-39004038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C22B-48CA-4B3A-A4C9-186C464D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90E8-7B0D-49EA-B45E-FFD7C50B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ABF1-D62D-4A1A-BDA3-FFCC0F34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C47D-01DC-46CD-9745-0BE758F6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8AF7-3AB9-45CE-8A15-3E607988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7EA-83B9-48E1-BCF8-2A3F6E00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D7C-D528-4271-8A1D-78B3CC45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4C7-611D-449F-96C0-93D7F166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AE0-78AE-4651-ADEE-AE6EB5A6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972-5422-4834-A9D8-875EB623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160-5A8E-4BD3-874F-CAD35F8B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F7C3-135C-45E4-BC30-B915E9A2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B569-4462-4DFC-919B-9E58AA336F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6090-99CC-4B57-B021-A4D1E93A8A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Tahoma"/>
              </a:rPr>
              <a:t>«ИУДА ИСКАРИОТ»</a:t>
            </a:r>
            <a:r>
              <a:rPr b="0" lang="en-US" sz="54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4d4d4d"/>
                </a:solidFill>
                <a:latin typeface="Tahoma"/>
              </a:rPr>
              <a:t>Л.АНДРЕЕВ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3357360"/>
            <a:ext cx="89647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Tahoma"/>
              </a:rPr>
              <a:t>                      </a:t>
            </a:r>
            <a:r>
              <a:rPr b="0" lang="en-US" sz="4800" spc="-1" strike="noStrike">
                <a:solidFill>
                  <a:srgbClr val="333333"/>
                </a:solidFill>
                <a:latin typeface="Tahoma"/>
              </a:rPr>
              <a:t>И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4800" spc="-1" strike="noStrike">
                <a:solidFill>
                  <a:srgbClr val="003300"/>
                </a:solidFill>
                <a:latin typeface="Tahoma"/>
              </a:rPr>
              <a:t>ЕВАНГЕЛЬСКИЙ СЮЖЕТ .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42920" y="0"/>
            <a:ext cx="7129440" cy="112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Почему Иуда предал Хрис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( по Л.Андрееву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2276640"/>
            <a:ext cx="3529080" cy="180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корыстолюб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« - А сколько ты хочеш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за своего Иисус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- А сколько вы дадите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4941720"/>
            <a:ext cx="3527280" cy="172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ревность</a:t>
            </a: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«Почему он не любит мен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Почему он любит тех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4941720"/>
            <a:ext cx="3529080" cy="172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провок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«Они догадались? О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поняли, что это сам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лучший человек?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Сейчас они поймут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2276640"/>
            <a:ext cx="3529080" cy="180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любов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« Искал я тебя всю мо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жизн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искал и нашел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8000" y="1125360"/>
            <a:ext cx="1368720" cy="11527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6360" y="1125360"/>
            <a:ext cx="1152360" cy="107964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419280" y="1125360"/>
            <a:ext cx="1152360" cy="38149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1125360"/>
            <a:ext cx="792000" cy="38163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255888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Почему Иуда предал Хрис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                </a:t>
            </a: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Ваша версия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4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«Я хочу писать об Иуде…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 у меня есть СВОЯ идея…»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                      Л.Андрее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713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В чём особенность лица Иуд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Как это было связано с характером, поведением Иуд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Какое это имеет значение для понимания смысла произведен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5137200" cy="564336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826920" y="58053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ahoma"/>
              </a:rPr>
              <a:t>«Тайная вечеря». Икона </a:t>
            </a:r>
            <a:r>
              <a:rPr b="0" lang="en-US" sz="3600" spc="-1" strike="noStrike">
                <a:solidFill>
                  <a:srgbClr val="333333"/>
                </a:solidFill>
                <a:latin typeface="Tahoma"/>
              </a:rPr>
              <a:t>XVI </a:t>
            </a:r>
            <a:r>
              <a:rPr b="0" lang="ru-RU" sz="3600" spc="-1" strike="noStrike">
                <a:solidFill>
                  <a:srgbClr val="333333"/>
                </a:solidFill>
                <a:latin typeface="Tahoma"/>
              </a:rPr>
              <a:t>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753080" cy="316872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5148360" y="692280"/>
            <a:ext cx="39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ahoma"/>
              </a:rPr>
              <a:t>Россели. «Тайная вечеря». Х</a:t>
            </a: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VI </a:t>
            </a:r>
            <a:r>
              <a:rPr b="0" lang="ru-RU" sz="2400" spc="-1" strike="noStrike">
                <a:solidFill>
                  <a:srgbClr val="333333"/>
                </a:solidFill>
                <a:latin typeface="Tahoma"/>
              </a:rPr>
              <a:t>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4701960" cy="334476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9280" y="400536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ahoma"/>
              </a:rPr>
              <a:t>Симон Ушаков.«Тайная вечеря». Икона </a:t>
            </a: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XVII </a:t>
            </a:r>
            <a:r>
              <a:rPr b="0" lang="ru-RU" sz="2400" spc="-1" strike="noStrike">
                <a:solidFill>
                  <a:srgbClr val="333333"/>
                </a:solidFill>
                <a:latin typeface="Tahoma"/>
              </a:rPr>
              <a:t>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Евангелие от Матфе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…  </a:t>
            </a: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Двенадцати  же Апостолов имена суть сии: первый Симон, называемый Петром, и Андрей, брат его, Иаков Зеведеев и Иоанн, брат его, Филипп и Варфоломей, Фома и Матфей мытарь, Иаков Алфеев и Левей, прозванный Фаддеем, Симон Кананит и Иуда Искариот, который и предал Его. (гл.1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      … </a:t>
            </a: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Один из двенадцати, называемый Иуда Искариот, пошёл к первосвященникам и сказал: что вы дадите мне, и я предам Его? Они предложили ему тридцать сребреников; и с того времени он искал удобного случая предать Его. ( гл.26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      … </a:t>
            </a: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Когда же настал вечер, Он возлёг с двенадцатью учениками; и когда они ели, сказал: истинно говорю вам, что один из вас предаст Меня. Они весьма опечалились и начали говорить Ему, каждый из них : не я ли, Господи? Он же сказал в ответ: опустивший со Мною руку в блюдо, этот предаст меня;… При сем и Иуда, предающий Его, сказал: не я ли, Равви? Иисус говорит ему: ты сказал. (гл.26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      …</a:t>
            </a: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говорит им Иисус: …встаньте, пойдем: вот, приблизился предающий меня. И когда ещё говорил он, вот, Иуда, один из двенадцати, пришёл, и с ним множество народа с мечами и кольями… Предающий же Его дал им знак, сказав: Кого я поцелую, Тот и есть, возьмите Его. И, тотчас подойдя к Иисусу, сказал: радуйся, Равви! И поцеловал Его. (гл.26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      … </a:t>
            </a: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Когда же настало утро, все первосвященники и старейшины народа имели совещание об Иисусе, чтобы предать Его смерти; … Тогда Иуда, предавший Его, увидев, что Он осужден, и раскаявшись, возвратил тридцать сребреников первосвященникам и старейшинам, говоря: согрешил я, предав Кровь невинную. Они же сказали ему: что нам до того? Смотри са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И бросив сребреники в храме, он вышел, пошел и удавился. (гл.2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                                                        </a:t>
            </a: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Евангелие от Иоан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       …</a:t>
            </a: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Иисус отвечал: тот, кому Я, обмакнув кусок хлеба, подам. И обмакнув кусок, подал Иуде Симонову Искариоту. И после сего куска вошел в него сатана (гл.13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333360"/>
          <a:ext cx="8229600" cy="6180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Событ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Евангелие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«Иуда Искариот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Л.Андрее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Появление Иу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Измена Иу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Указание на предате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Предательство Иу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Самоубийство Иу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35280" y="189000"/>
            <a:ext cx="5494320" cy="576108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476360" y="6093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333333"/>
                </a:solidFill>
                <a:latin typeface="Tahoma"/>
              </a:rPr>
              <a:t>Джотто. «Поцелуй Иуд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ahoma"/>
              </a:rPr>
              <a:t>Почему Иуда предал Христа?</a:t>
            </a:r>
            <a:br>
              <a:rPr sz="4000"/>
            </a:br>
            <a:r>
              <a:rPr b="1" lang="en-US" sz="4000" spc="-1" strike="noStrike">
                <a:solidFill>
                  <a:srgbClr val="333333"/>
                </a:solidFill>
                <a:latin typeface="Tahoma"/>
              </a:rPr>
              <a:t>(по Евангелию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корыстолюб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искушение дьяво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                          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изме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«Тайная вечеря»(«и вошёл в него сатана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предатель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                        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раская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самоубий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1844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84720" y="2492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4720" y="3068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21:08:51Z</dcterms:created>
  <dc:creator>Customer</dc:creator>
  <dc:description/>
  <dc:language>en-US</dc:language>
  <cp:lastModifiedBy>Customer</cp:lastModifiedBy>
  <dcterms:modified xsi:type="dcterms:W3CDTF">2000-12-31T21:26:27Z</dcterms:modified>
  <cp:revision>12</cp:revision>
  <dc:subject/>
  <dc:title>«ИУДА ИСКАРИОТ» Л.АНДРЕЕВА</dc:title>
</cp:coreProperties>
</file>