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91B-9795-4D6A-8FC0-DA22B7AC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9DA-89DA-4C3C-BC33-1FF7A3F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4E-E0D9-4269-8CAA-9CF94B64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7DA-39D3-442B-A9D4-63C1646D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E5F-1DE3-4280-8281-C2B1DB7B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DD3A-5B08-49B9-9C88-4C04529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F87-FA35-4221-8D86-39BDDE0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A5B-41BB-4B24-A5A6-641AA9E7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5299-1CE6-4FEE-9FF5-08EEEF4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9F08-BD05-46F0-A2E0-317E0E7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403A-BD60-4FCF-9244-924548B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0C7-C288-4D9E-B171-A40215E5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291E-F89C-495A-A5B0-A710482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2DE-9CA8-49A0-B53B-E93D36B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D0E6-759D-4602-8A26-15D450DB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41D-CF90-4E12-A6B4-A1CF7BF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232B-F8C4-41FC-903D-C23D153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D35-5E18-4328-9820-1E695965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709-AFB7-4D84-942B-A4791D0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F25-A36B-4412-B5E5-3436D334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598-E45D-4326-BD2A-862EDA29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D1C-0510-4A6E-B64F-4794876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08B-A198-4A81-BBA6-1D5AC22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96F-4FBC-43D9-AE93-4F7CDCC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7B18-0E62-472F-8377-336D4AFEA2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829E-FBD1-48DF-B461-8DC8E6409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4d4d"/>
                </a:solidFill>
                <a:latin typeface="Tahoma"/>
              </a:rPr>
              <a:t>«ИУДА ИСКАРИОТ»</a:t>
            </a:r>
            <a:r>
              <a:rPr b="0" lang="en-US" sz="5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4d4d4d"/>
                </a:solidFill>
                <a:latin typeface="Tahoma"/>
              </a:rPr>
              <a:t>Л.АНДРЕЕ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335736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en-US" sz="4800" spc="-1" strike="noStrike">
                <a:solidFill>
                  <a:srgbClr val="333333"/>
                </a:solidFill>
                <a:latin typeface="Tahoma"/>
              </a:rPr>
              <a:t>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ЕВАНГЕЛЬСКИЙ СЮЖЕТ .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0"/>
            <a:ext cx="7129440" cy="112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( по Л.Андреев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276640"/>
            <a:ext cx="352908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корыстолюб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 - А сколько ты хочеш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за своего Иису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- А сколько вы дадите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941720"/>
            <a:ext cx="35272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ревность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Почему он не любит мен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Почему он любит тех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4941720"/>
            <a:ext cx="352908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провок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Они догадались? О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поняли, что это сам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лучший человек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Сейчас они поймут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2276640"/>
            <a:ext cx="352908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любов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« Искал я тебя всю м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жизн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ahoma"/>
              </a:rPr>
              <a:t>искал и нашел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8000" y="1125360"/>
            <a:ext cx="1368720" cy="1152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125360"/>
            <a:ext cx="1152360" cy="10796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19280" y="1125360"/>
            <a:ext cx="1152360" cy="381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125360"/>
            <a:ext cx="792000" cy="3816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255888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                </a:t>
            </a:r>
            <a:r>
              <a:rPr b="1" lang="en-US" sz="3600" spc="-1" strike="noStrike">
                <a:solidFill>
                  <a:srgbClr val="333333"/>
                </a:solidFill>
                <a:latin typeface="Tahoma"/>
              </a:rPr>
              <a:t>Ваша верс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«Я хочу писать об Иуде…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у меня есть СВОЯ идея…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                     Л.Андре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В чём особенность лица Иу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Как это было связано с характером, поведением Иуд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Какое это имеет значение для понимания смысла произведен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137200" cy="564336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826920" y="5805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ahoma"/>
              </a:rPr>
              <a:t>«Тайная вечеря». Икона </a:t>
            </a: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XVI </a:t>
            </a:r>
            <a:r>
              <a:rPr b="0" lang="ru-RU" sz="3600" spc="-1" strike="noStrike">
                <a:solidFill>
                  <a:srgbClr val="333333"/>
                </a:solidFill>
                <a:latin typeface="Tahoma"/>
              </a:rPr>
              <a:t>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53080" cy="316872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148360" y="69228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Россели. «Тайная вечеря». Х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VI </a:t>
            </a: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701960" cy="334476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4005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Симон Ушаков.«Тайная вечеря». Икона </a:t>
            </a: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XVII </a:t>
            </a:r>
            <a:r>
              <a:rPr b="0" lang="ru-RU" sz="2400" spc="-1" strike="noStrike">
                <a:solidFill>
                  <a:srgbClr val="333333"/>
                </a:solidFill>
                <a:latin typeface="Tahoma"/>
              </a:rPr>
              <a:t>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Евангелие от Матфе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…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Двенадцати  же Апостолов имена суть сии: первый Симон, называемый Петром, и Андрей, брат его, Иаков Зеведеев и Иоанн, брат его, Филипп и Варфоломей, Фома и Матфей мытарь, Иаков Алфеев и Левей, прозванный Фаддеем, Симон Кананит и Иуда Искариот, который и предал Его. (гл.1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Один из двенадцати, называемый Иуда Искариот, пошёл к первосвященникам и сказал: что вы дадите мне, и я предам Его? Они предложили ему тридцать сребреников; и с того времени он искал удобного случая предать Его. ( 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Когда же настал вечер, Он возлёг с двенадцатью учениками; и когда они ели, сказал: истинно говорю вам, что один из вас предаст Меня. Они весьма опечалились и начали говорить Ему, каждый из них : не я ли, Господи? Он же сказал в ответ: опустивший со Мною руку в блюдо, этот предаст меня;… При сем и Иуда, предающий Его, сказал: не я ли, Равви? Иисус говорит ему: ты сказал. (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говорит им Иисус: …встаньте, пойдем: вот, приблизился предающий меня. И когда ещё говорил он, вот, Иуда, один из двенадцати, пришёл, и с ним множество народа с мечами и кольями… Предающий же Его дал им знак, сказав: Кого я поцелую, Тот и есть, возьмите Его. И, тотчас подойдя к Иисусу, сказал: радуйся, Равви! И поцеловал Его. (гл.2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…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Когда же настало утро, все первосвященники и старейшины народа имели совещание об Иисусе, чтобы предать Его смерти; … Тогда Иуда, предавший Его, увидев, что Он осужден, и раскаявшись, возвратил тридцать сребреников первосвященникам и старейшинам, говоря: согрешил я, предав Кровь невинную. Они же сказали ему: что нам до того? Смотри с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И бросив сребреники в храме, он вышел, пошел и удавился. (гл.2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Евангелие от Иоан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       …</a:t>
            </a:r>
            <a:r>
              <a:rPr b="0" lang="ru-RU" sz="1600" spc="-1" strike="noStrike">
                <a:solidFill>
                  <a:srgbClr val="333333"/>
                </a:solidFill>
                <a:latin typeface="Tahoma"/>
              </a:rPr>
              <a:t>Иисус отвечал: тот, кому Я, обмакнув кусок хлеба, подам. И обмакнув кусок, подал Иуде Симонову Искариоту. И после сего куска вошел в него сатана (гл.13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33360"/>
          <a:ext cx="8229600" cy="618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Евангели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«Иуда Искарио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Л.Андрее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оявление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Измена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Указание на преда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Предательство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Самоубийство Иу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494320" cy="57610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476360" y="6093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</a:rPr>
              <a:t>Джотто. «Поцелуй Иу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ahoma"/>
              </a:rPr>
              <a:t>Почему Иуда предал Христа?</a:t>
            </a:r>
            <a:br>
              <a:rPr sz="4000"/>
            </a:br>
            <a:r>
              <a:rPr b="1" lang="en-US" sz="4000" spc="-1" strike="noStrike">
                <a:solidFill>
                  <a:srgbClr val="333333"/>
                </a:solidFill>
                <a:latin typeface="Tahoma"/>
              </a:rPr>
              <a:t>(по Евангелию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корыстолюб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искушение дьяв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изм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«Тайная вечеря»(«и вошёл в него сатана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преда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раска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самоуби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2492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306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1:08:51Z</dcterms:created>
  <dc:creator>Customer</dc:creator>
  <dc:description/>
  <dc:language>en-US</dc:language>
  <cp:lastModifiedBy>Customer</cp:lastModifiedBy>
  <dcterms:modified xsi:type="dcterms:W3CDTF">2000-12-31T21:26:27Z</dcterms:modified>
  <cp:revision>12</cp:revision>
  <dc:subject/>
  <dc:title>«ИУДА ИСКАРИОТ» Л.АНДРЕЕВА</dc:title>
</cp:coreProperties>
</file>