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853-A6FF-44F1-B606-D207010B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97F-5BAE-4D7F-B5EA-379B1CB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E1E-0992-4FF4-8BE6-F38D12A7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6C4-4459-413F-86BE-945F7437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1AD-E493-44F9-BDCD-9F5F7C39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875-4B3D-47CB-896C-4D548252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468-6A72-43FC-B753-5E35E17B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6DB-5084-456F-A273-2452BA82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C80-1241-4F29-AC13-72E4EC0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0EC-5059-4350-A02A-590089E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001-4F66-4E7B-8792-C305905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CB0-8BB8-4C5A-AC12-CB3F34E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F9C3-918D-4A06-A499-4B6868410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л Маркс и Фридрих Энгельс о путях преобразования общества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узакова Мария 8 А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МАОУ СШ №1 г. Михайл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1785960" y="357120"/>
            <a:ext cx="51433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арксизм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учение об устройстве и о развитии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овом обществе человек получит возможности для всестороннего, гармоничного развития, указывал Марк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е принципы нового общества: установление политических свобод, равенство в правах, участие работников в управлении предприятиями, на которых они работают, обязанность государства регулировать экономику с целью обеспечения социальных прав всех гражда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нифест Коммунистической парт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е о классовой борьбе, коммунистической революции, об исторической миссии рабочего класса как «могильщика буржуазии» составляет остову маркс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ные открыто заявляют, что капитализм погибнет от рук пролетариата, который восстанет против несправедливости, чтобы создать общество вне классов и де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ой раздел в книге посвящён критике противоположных и околонаучных теорий, которые не имеют под собой реального обоснования. Также авторы осуждают «грубых» коммунистов, которые, не вникая в суть идеи, просто распространяют идеи о частной собственности. Кроме того, Маркс и Энгельс акцентируют внимание на том, что коммунистическая партия не ставит себя выше других, но поддерживает любое движение, направленное против существующего общественного и политического стро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ид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идрих Энгельс, труды которого повлияли на мировоззрение Маркса, создал совместно с последним общую теорию, согласно которой общество должно развиваться по определённым законам. В этой мировой идее нет места капитализму. Основные идеи всех философских трудов можно сформулировать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ея о том, что о мире нужно не размышлять, как это делает философия, а менять 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кцентирование внимания на практической деятельности людей как на движущей си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ея о том, что бытие определяет созн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зможность соединения пролетариата и философов как взаимодополняющи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ея экономического отчуждения челове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дея революционного свержения капиталистического поряд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нифесте, вместе с тем, подчеркивалось, что кооперация сама по себе в условиях капиталистической системы не может принести трудящимся социального освобождения.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этому на повестку дня был поставлен вопрос о завоевании власти рабочим клас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 Интернационал или Международное товарищество рабочих (1864-187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143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задача которого заключалас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плочении сил международного пролетариа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им органом Международного товарищества рабочих стал созываемый ежегодно конгресс, избиравший из своего состава сроком на один год Генеральный совет – верховный орган Интернационала в промежутках между конгрес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ационал был призван объединить рабочее движение разных стра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852560"/>
            <a:ext cx="72151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л Маркс (1818— 188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1643040" y="571680"/>
            <a:ext cx="6215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рл Маркс - философ, социолог, экономист, политический журналист и активный общественный деятел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рл Маркс считал, что самым весомым его вкладом в сокровищницу мировой науки станут исследования о двойственном характере труда и анализ разновидностей добавленной стоимости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42880" y="0"/>
            <a:ext cx="471492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ри́дрих Э́нгельс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820-1895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немецкий политический деятель, философ, историк и предприниматель. Один из основоположников марксизма. Друг и единомышленник Карла Маркса и соавтор его труд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671040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0" y="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вые совместные рабо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жба и сотрудничество Маркса и Энгельса начинались постепенно, но продлились всю жизнь. Они успели создать множество качественных трудов, которые и по сей день не теряют своей актуальности. Более того, идеи учёных активно применяются во многих сферах жизни обще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вятое семейство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ём два друга символично порвали связь со своими вчерашними единомышленниками– младогегельянц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емецкая идеология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й учёные рассматривали историю Германии с материалистической точки зрения. Именно в ходе написания этих и других работ учёные пришли к тому, что готовы создать новое философское учение – маркс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е Маркса и Энгельса зарождается в первой половине 30-40-е годов XIX века. Причин развития таких идей было несколько: это и разворачивание рабочего движения, и критика философии Гегеля, которая казалась слишком идеальной, и новые научные открытия в разных сферах знания. Маркс и Энгельс черпали свои доводы и мысли из английской политэкономии и немецкой классической философ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8T09:18:59Z</dcterms:created>
  <dc:creator>Татьяна</dc:creator>
  <dc:description/>
  <dc:language>en-US</dc:language>
  <cp:lastModifiedBy>Татьяна</cp:lastModifiedBy>
  <dcterms:modified xsi:type="dcterms:W3CDTF">2022-02-08T10:27:10Z</dcterms:modified>
  <cp:revision>11</cp:revision>
  <dc:subject/>
  <dc:title>Карл Маркс и Фридрих Энгельс о путях преобразования общества.</dc:title>
</cp:coreProperties>
</file>