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EA2-17E2-4C57-92FD-24BBAD3B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7EF-B089-48D1-92F5-6EC569B8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213-48D9-4B41-B3D4-B9A598BD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E7C-45ED-4014-AB6B-7EA87E77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D74-C02F-4465-B9B6-623DAF2A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306-3EA2-454B-9355-3315A416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0F1-C425-4FAF-900F-062DCBD8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EB8-A3F7-4CF0-92C3-ABD2CC77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DAA-2B67-4CAA-B83D-7633B2A9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ED6-ACD1-423E-B44E-4B075979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102-5AE5-4B6E-A41F-E4FECD2A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490-E670-4567-8507-C721C11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D690-073C-4408-8D1E-0C046A612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л Маркс и Фридрих Энгельс о путях преобразования общества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Работу выполн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Пузакова Мария 8 А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МАОУ СШ №1 г. Михайлов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1785960" y="357120"/>
            <a:ext cx="51433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арксизм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учение об устройстве и о развитии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новом обществе человек получит возможности для всестороннего, гармоничного развития, указывал Марк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ые принципы нового общества: установление политических свобод, равенство в правах, участие работников в управлении предприятиями, на которых они работают, обязанность государства регулировать экономику с целью обеспечения социальных прав всех гражда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нифест Коммунистической парт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е о классовой борьбе, коммунистической революции, об исторической миссии рабочего класса как «могильщика буржуазии» составляет остову маркс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ёные открыто заявляют, что капитализм погибнет от рук пролетариата, который восстанет против несправедливости, чтобы создать общество вне классов и де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ой раздел в книге посвящён критике противоположных и околонаучных теорий, которые не имеют под собой реального обоснования. Также авторы осуждают «грубых» коммунистов, которые, не вникая в суть идеи, просто распространяют идеи о частной собственности. Кроме того, Маркс и Энгельс акцентируют внимание на том, что коммунистическая партия не ставит себя выше других, но поддерживает любое движение, направленное против существующего общественного и политического стро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иде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идрих Энгельс, труды которого повлияли на мировоззрение Маркса, создал совместно с последним общую теорию, согласно которой общество должно развиваться по определённым законам. В этой мировой идее нет места капитализму. Основные идеи всех философских трудов можно сформулировать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ея о том, что о мире нужно не размышлять, как это делает философия, а менять е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кцентирование внимания на практической деятельности людей как на движущей си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ея о том, что бытие определяет созн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зможность соединения пролетариата и философов как взаимодополняющих элем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ея экономического отчуждения челове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дея революционного свержения капиталистического поряд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нифесте, вместе с тем, подчеркивалось, что кооперация сама по себе в условиях капиталистической системы не может принести трудящимся социального освобождения.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этому на повестку дня был поставлен вопрос о завоевании власти рабочим клас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 Интернационал или Международное товарищество рабочих (1864-187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143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ая задача которого заключалас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плочении сил международного пролетариа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шим органом Международного товарищества рабочих стал созываемый ежегодно конгресс, избиравший из своего состава сроком на один год Генеральный совет – верховный орган Интернационала в промежутках между конгресс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ационал был призван объединить рабочее движение разных стра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852560"/>
            <a:ext cx="72151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л Маркс (1818— 1883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1643040" y="571680"/>
            <a:ext cx="6215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рл Маркс - философ, социолог, экономист, политический журналист и активный общественный деятел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рл Маркс считал, что самым весомым его вкладом в сокровищницу мировой науки станут исследования о двойственном характере труда и анализ разновидностей добавленной стоимости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42880" y="0"/>
            <a:ext cx="471492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ри́дрих Э́нгельс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820-1895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— немецкий политический деятель, философ, историк и предприниматель. Один из основоположников марксизма. Друг и единомышленник Карла Маркса и соавтор его труд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671040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0" y="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вые совместные рабо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жба и сотрудничество Маркса и Энгельса начинались постепенно, но продлились всю жизнь. Они успели создать множество качественных трудов, которые и по сей день не теряют своей актуальности. Более того, идеи учёных активно применяются во многих сферах жизни обще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вятое семейство»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ём два друга символично порвали связь со своими вчерашними единомышленниками– младогегельянц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емецкая идеология»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й учёные рассматривали историю Германии с материалистической точки зрения. Именно в ходе написания этих и других работ учёные пришли к тому, что готовы создать новое философское учение – маркс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ие Маркса и Энгельса зарождается в первой половине 30-40-е годов XIX века. Причин развития таких идей было несколько: это и разворачивание рабочего движения, и критика философии Гегеля, которая казалась слишком идеальной, и новые научные открытия в разных сферах знания. Маркс и Энгельс черпали свои доводы и мысли из английской политэкономии и немецкой классической философ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8T09:18:59Z</dcterms:created>
  <dc:creator>Татьяна</dc:creator>
  <dc:description/>
  <dc:language>en-US</dc:language>
  <cp:lastModifiedBy>Татьяна</cp:lastModifiedBy>
  <dcterms:modified xsi:type="dcterms:W3CDTF">2022-02-08T10:27:10Z</dcterms:modified>
  <cp:revision>11</cp:revision>
  <dc:subject/>
  <dc:title>Карл Маркс и Фридрих Энгельс о путях преобразования общества.</dc:title>
</cp:coreProperties>
</file>